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6.png" ContentType="image/png"/>
  <Override PartName="/ppt/media/image7.jpeg" ContentType="image/jpe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D2FA-5EBA-4B7E-84C6-D1D721DA5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FEC4-E39A-4392-AB72-D4612535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651A-78CB-47DE-92E9-9E1BE24B5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600D-F1C0-4C2E-9A63-13A51EA13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6CC69-EE61-47B5-97FF-4122ADCF7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1CF37-9103-4FA8-A92B-C368CBBD9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E91CD-5992-43BD-80F8-6C8A1CC87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52007-01EA-489B-91F8-B3C8DA021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A50DC-B268-4DB6-9207-A9F0C16C6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44FC9-BECD-42C0-8F72-3D9E07E19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388F2-B7BD-4606-B6ED-03F24429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F701-17BE-41C0-B761-CCA58BA04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787E0-2F1C-4E5C-BAAF-A587300A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887C4-E2AB-4092-A895-45654A44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CA15B-A4B2-4384-9335-40EEAAFB2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16BBB-FD7E-46D0-BB6B-4B8F094B2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D2F1F-44E9-461C-A39F-7E53CD2BF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56D71-08DB-4B6E-9F4E-615F233B7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91905-D7D4-4ACA-9E55-B678B3918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E183A-0BCC-4DD4-A220-D5F7A5A8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35016-9F4D-43F9-A9C9-CD72BF76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8A06C-E77A-48DE-B5DE-1EF32CC6E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578F-6512-405C-B498-BBA6606CE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142F6-E0D3-4489-927F-3B0186D01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BE386-D5AC-472B-89D7-740397B5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67874-7511-4922-B753-DEEBAD36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407DD-9986-4CA6-8126-7C6B58F4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E9F3B-F97F-4DE0-AA5A-9EE2ADE07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02C5A-3759-478E-83EA-0822EB001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BD722-D22F-428C-98A3-90FD05C14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17EDA-B2BF-45C9-8DBB-891E14E91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BA480-B5AA-449F-86DD-13B0163B4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FCF50-446B-4C6E-BA32-A6043B7B1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63EA-921F-4BAF-97E1-58B3B0B8D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5477F-D1C1-4E06-AB92-D45E1628A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F92EC-8869-44B0-94A3-6BFA25893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A93D3-3329-4840-A93B-B667AB758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BA632-E609-4200-8CE7-F763FE76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958E3-F95A-46A8-B66D-F9F791B8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61A6C-99CF-4137-8D92-9D192C43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7C4A5-F49B-453E-9D91-643DB8478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702E9-5779-4277-B94D-0D3C3E30E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5826F-433C-4B31-8061-C74C4B334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EF09-652D-4EA1-AF05-D77713E02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DBFB-9D84-49D5-A256-82C50BF4A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030D-775F-4FFF-B812-15F4CDCD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2F31-5AA0-4B97-AE08-38310DED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082A-A6EB-40C3-8D7B-9666AFBB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2845c">
                  <a:alpha val="45098"/>
                </a:srgbClr>
              </a:gs>
              <a:gs pos="100000">
                <a:srgbClr val="49accd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42869e">
                  <a:alpha val="45098"/>
                </a:srgbClr>
              </a:gs>
              <a:gs pos="100000">
                <a:srgbClr val="8aa26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9676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ceb9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cb084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6bb1c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585c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4626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4626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4626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240D6-084E-48AA-BC90-5249B92316FE}" type="slidenum">
              <a:rPr b="0" lang="en-US" sz="1200" spc="-1" strike="noStrike">
                <a:solidFill>
                  <a:srgbClr val="64626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2845c">
                  <a:alpha val="45098"/>
                </a:srgbClr>
              </a:gs>
              <a:gs pos="100000">
                <a:srgbClr val="49accd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42869e">
                  <a:alpha val="45098"/>
                </a:srgbClr>
              </a:gs>
              <a:gs pos="100000">
                <a:srgbClr val="8aa26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9c2d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ceb9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cb084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6bb1c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585c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0b9c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b9c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0b9c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6E6C6-9C2D-423B-B373-58B2F26F572E}" type="slidenum">
              <a:rPr b="0" lang="en-US" sz="1200" spc="-1" strike="noStrike">
                <a:solidFill>
                  <a:srgbClr val="c0b9c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2845c">
                  <a:alpha val="45098"/>
                </a:srgbClr>
              </a:gs>
              <a:gs pos="100000">
                <a:srgbClr val="49accd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42869e">
                  <a:alpha val="45098"/>
                </a:srgbClr>
              </a:gs>
              <a:gs pos="100000">
                <a:srgbClr val="8aa26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9c2d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ceb9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cb084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6bb1c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585c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0b9c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b9c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0b9c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E7C02-3C99-4925-ACD9-0D6ABCA99BCE}" type="slidenum">
              <a:rPr b="0" lang="en-US" sz="1200" spc="-1" strike="noStrike">
                <a:solidFill>
                  <a:srgbClr val="c0b9c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72845c">
                  <a:alpha val="45098"/>
                </a:srgbClr>
              </a:gs>
              <a:gs pos="100000">
                <a:srgbClr val="49accd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42869e">
                  <a:alpha val="45098"/>
                </a:srgbClr>
              </a:gs>
              <a:gs pos="100000">
                <a:srgbClr val="8aa26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9676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ceb9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cb084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6bb1c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585c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4626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4626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4626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FA135-C798-4661-9363-50C6CEBB238F}" type="slidenum">
              <a:rPr b="0" lang="en-US" sz="1200" spc="-1" strike="noStrike">
                <a:solidFill>
                  <a:srgbClr val="64626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2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езентацию выполнил: ученик 7-а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ласс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Фоминых Никит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Рисунок 3" descr="bure03.jpg"/>
          <p:cNvPicPr/>
          <p:nvPr/>
        </p:nvPicPr>
        <p:blipFill>
          <a:blip r:embed="rId3"/>
          <a:stretch/>
        </p:blipFill>
        <p:spPr>
          <a:xfrm>
            <a:off x="428760" y="214200"/>
            <a:ext cx="4168800" cy="2786040"/>
          </a:xfrm>
          <a:prstGeom prst="rect">
            <a:avLst/>
          </a:prstGeom>
          <a:ln w="0">
            <a:noFill/>
          </a:ln>
        </p:spPr>
      </p:pic>
      <p:pic>
        <p:nvPicPr>
          <p:cNvPr id="198" name="Рисунок 4" descr="43628793_1241899992_hockeyrussia.jpg"/>
          <p:cNvPicPr/>
          <p:nvPr/>
        </p:nvPicPr>
        <p:blipFill>
          <a:blip r:embed="rId4"/>
          <a:stretch/>
        </p:blipFill>
        <p:spPr>
          <a:xfrm>
            <a:off x="1500120" y="3786120"/>
            <a:ext cx="3929040" cy="264816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5" descr="pic-icehockey_28original-ty.jpg"/>
          <p:cNvPicPr/>
          <p:nvPr/>
        </p:nvPicPr>
        <p:blipFill>
          <a:blip r:embed="rId5"/>
          <a:stretch/>
        </p:blipFill>
        <p:spPr>
          <a:xfrm>
            <a:off x="7000920" y="4286160"/>
            <a:ext cx="1620720" cy="16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Box 3"/>
          <p:cNvSpPr/>
          <p:nvPr/>
        </p:nvSpPr>
        <p:spPr>
          <a:xfrm>
            <a:off x="571680" y="642960"/>
            <a:ext cx="8072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Хоккей - вид спорта, в котором две команды стараются поразить твёрдым, круглым мячом или шайбой цель — ворота противника, используя клюшки. В каждой команде есть один вратарь, который защищает ворота своей команд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Рисунок 4" descr="ab166ee0-8113-4ad5-befe-cfa94d4dabd1.jpg"/>
          <p:cNvPicPr/>
          <p:nvPr/>
        </p:nvPicPr>
        <p:blipFill>
          <a:blip r:embed="rId2"/>
          <a:stretch/>
        </p:blipFill>
        <p:spPr>
          <a:xfrm>
            <a:off x="1357200" y="2571840"/>
            <a:ext cx="614376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2"/>
          <a:stretch/>
        </p:blipFill>
        <p:spPr>
          <a:xfrm>
            <a:off x="1170000" y="-219240"/>
            <a:ext cx="8255160" cy="14320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Box 3"/>
          <p:cNvSpPr/>
          <p:nvPr/>
        </p:nvSpPr>
        <p:spPr>
          <a:xfrm>
            <a:off x="428760" y="1500120"/>
            <a:ext cx="82864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baseline="30000">
                <a:solidFill>
                  <a:srgbClr val="000000"/>
                </a:solidFill>
                <a:latin typeface="Constantia"/>
              </a:rPr>
              <a:t>Где и когда родился хоккей ? Точного ответа на этот вопрос нет и уже, наверное, не будет. Имеются сведения, что игры, напоминающие хоккей, существовали ещё с древнейших времён. Принято считать, что они зародились еще в Персии, где когда-то появилось поло. У древних греков также была игра, напоминающая хоккей, которая даже была включена в программу Олимпийских игр. Называлась она «фрейнинда» В Афинах, на барельефах знаменитой стены Фемистокла, которой более 2400 лет изображены молодые люди, которые играют в то, что очень напоминает современный хоккей на траве.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Рисунок 4" descr="Hockey.jpg"/>
          <p:cNvPicPr/>
          <p:nvPr/>
        </p:nvPicPr>
        <p:blipFill>
          <a:blip r:embed="rId3"/>
          <a:stretch/>
        </p:blipFill>
        <p:spPr>
          <a:xfrm>
            <a:off x="4500720" y="3786120"/>
            <a:ext cx="3714480" cy="278604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5" descr="400px-Hockey.svg.png"/>
          <p:cNvPicPr/>
          <p:nvPr/>
        </p:nvPicPr>
        <p:blipFill>
          <a:blip r:embed="rId4"/>
          <a:stretch/>
        </p:blipFill>
        <p:spPr>
          <a:xfrm>
            <a:off x="1357200" y="4286160"/>
            <a:ext cx="190512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Заголовок 1" descr=""/>
          <p:cNvPicPr/>
          <p:nvPr/>
        </p:nvPicPr>
        <p:blipFill>
          <a:blip r:embed="rId2"/>
          <a:stretch/>
        </p:blipFill>
        <p:spPr>
          <a:xfrm>
            <a:off x="2809800" y="-506520"/>
            <a:ext cx="8255160" cy="143352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TextBox 4"/>
          <p:cNvSpPr/>
          <p:nvPr/>
        </p:nvSpPr>
        <p:spPr>
          <a:xfrm>
            <a:off x="500040" y="1143000"/>
            <a:ext cx="82868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Хоккей с шайбой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— играется на льду с маленьким резиновым диском, называемым шайбой. Самый популярный из всех видов хокке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Инлайн-хоккей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— аналог хоккея с шайбой, играемый на роликовых коньках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Хоккей на траве 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— играется на травяном (или другом подходящем) покрытии маленьким, твёрдым мячо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Индорхоккей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— аналог хоккея на траве, играемый на площадке для гандбол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Хоккей с мячом (Русский хоккей) — играется на льду с маленьким, твёрдым мячо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Флорбол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— хоккей в зале, играемый пластмассовыми клюшками и полым пластмассовым мячо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Заголовок 1" descr=""/>
          <p:cNvPicPr/>
          <p:nvPr/>
        </p:nvPicPr>
        <p:blipFill>
          <a:blip r:embed="rId2"/>
          <a:stretch/>
        </p:blipFill>
        <p:spPr>
          <a:xfrm>
            <a:off x="1170000" y="-433440"/>
            <a:ext cx="8255160" cy="143352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428760" y="1214280"/>
            <a:ext cx="842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Удивительно, но женский хоккей зародился практически одновременно с мужским. Первый матч женских команд состоялся, конечно же, в Канаде, по разным данным, то ли в 1889, то ли в 1892 году. В любом случае, это почти за 20 лет до основания НХЛ.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Рисунок 4" descr="12599127431001556915zhenkhokkey.jpg"/>
          <p:cNvPicPr/>
          <p:nvPr/>
        </p:nvPicPr>
        <p:blipFill>
          <a:blip r:embed="rId3"/>
          <a:stretch/>
        </p:blipFill>
        <p:spPr>
          <a:xfrm>
            <a:off x="2357280" y="314316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0280" y="1316160"/>
            <a:ext cx="777240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7693d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5" name="TextBox 3"/>
          <p:cNvSpPr/>
          <p:nvPr/>
        </p:nvSpPr>
        <p:spPr>
          <a:xfrm>
            <a:off x="428760" y="428760"/>
            <a:ext cx="835812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Восемь лет спустя прошёл первый чемпионат мира по хоккею среди женщин. В финале встретились две североамериканские сборные, а победу одержали, конечно же, представительницы Канады. В 1992-м МОК принял решение о включении этого вида спорта в программу зимних Олимпийских игр, начиная с Олимпиады-98 в Японии. Так что 1992 год стал переломным в истории женского хоккея с шайбой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Да, хоккей — настоящая мужская игра, и мужской хоккей всегда был, есть и будет мощнее, зрелищнее и интереснее. И то, что женщины тоже хотят им заниматься, лишь подтверждает уникальность этой игры. Ну, согласитесь, здорово же, что современный хоккей развивается, движется вперёд, наращивает свою популярность и притягивает новых поклонников!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Заголовок 1" descr=""/>
          <p:cNvPicPr/>
          <p:nvPr/>
        </p:nvPicPr>
        <p:blipFill>
          <a:blip r:embed="rId2"/>
          <a:stretch/>
        </p:blipFill>
        <p:spPr>
          <a:xfrm>
            <a:off x="2951280" y="1639800"/>
            <a:ext cx="8253360" cy="14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4T14:25:47Z</dcterms:created>
  <dc:creator>Илья</dc:creator>
  <dc:description/>
  <dc:language>en-US</dc:language>
  <cp:lastModifiedBy>XP</cp:lastModifiedBy>
  <dcterms:modified xsi:type="dcterms:W3CDTF">2011-10-09T05:43:45Z</dcterms:modified>
  <cp:revision>6</cp:revision>
  <dc:subject/>
  <dc:title>ХОККЕЙ</dc:title>
</cp:coreProperties>
</file>