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032-5FC3-4594-A7B5-6391BC4B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DD5-EAC4-4ECC-9BB2-1754376D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8366-7E59-4465-A408-A0A4EAA3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616-8677-4327-AE32-58CA4D5B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911E-6D1A-4AC0-B827-C30682E8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4C88-722E-4DF8-B41E-EF4D0949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4DB7-8935-4D77-A5AD-2AE9EFAE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6CB1-BBC4-4AE6-8E64-B953931F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CAEB-78CC-4309-B8B0-1ADEC9D0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D4A8-6D33-4766-B931-0EB2E437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BF38-B001-441B-A61B-5D89F75E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4EB-1C39-4725-BACF-D782A02D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BC85-6B3F-4B2B-B5D6-C85A81E5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9BBC-5EBA-4352-8CD1-EA04565A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2F88-FBA8-4B82-893C-7BE7504C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54EC-FFCE-4D0F-AEBD-7DEBA82C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5BEF-A2FB-4554-BBC2-548D887C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AD203-8C7D-4B96-97C9-EE7877A0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ACED7-8670-4CF5-8A20-46CC160F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73CDE-BF04-45DE-BFAA-D62EDFAC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74D8F-5D6A-4413-90F0-8CEA431D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2CBF-A320-4BA8-BB6F-E74FA8B9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35C-00D4-4605-A19C-BD1787D2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82415-4236-4892-AA5A-9197E88F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2470-73EB-4A70-9782-3390CA9C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22174-4177-4EF0-A072-0FC8F2F3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7231F-4691-4585-A4A6-0D8612AC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C3F79-8896-4C8E-9A6D-68B95A1D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6EE8D-BD8B-476E-B9E8-52E421A2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7CE3-C79C-4805-876D-1CB178F3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56525-72B0-4CFB-B821-668EA566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4F477-FA5F-4809-AA28-A5FDD2CC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336BE-7D67-480F-8474-5CE04DAB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D68-4408-4F73-A688-3EF62D88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8F220-A296-4051-9629-93B36995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939FC-CE53-4577-AA8A-1A4D1091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B1E7A-8B56-44FF-9766-55ACA01D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11BF9-37B9-40B0-8B56-52755FA1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E3E6D-D2CC-4ED1-86D7-29412042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0C941-1ECF-4894-B1AE-AE0937B6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7F3C2-68EB-43F2-8F4D-C8BE8489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E02AA-80B8-4274-996C-F49E902F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D55B2-204F-4347-8150-628EED08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5D7-FC3E-470F-B7B9-DB9B58C9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EAE-D8A4-44CE-84F6-AEE9F3FD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521-4C55-4878-BF99-3ACEB9E8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DCD-F4FB-4899-A4B8-A78EDA3E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179-6F83-4B25-9589-21181EC5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482A-77B3-4052-81D3-BE66A03F65E2}" type="slidenum"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c2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D338-3CB5-43F6-9A93-D8667301D286}" type="slidenum"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c2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9F23-71C1-40A0-AE8F-A4A20EAD890E}" type="slidenum"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3AD1-51E1-471D-9665-5CB93CF74382}" type="slidenum"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езентацию выполнил: ученик 7-а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Фоминых Ники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3" descr="bure03.jpg"/>
          <p:cNvPicPr/>
          <p:nvPr/>
        </p:nvPicPr>
        <p:blipFill>
          <a:blip r:embed="rId3"/>
          <a:stretch/>
        </p:blipFill>
        <p:spPr>
          <a:xfrm>
            <a:off x="428760" y="214200"/>
            <a:ext cx="4168800" cy="27860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4" descr="43628793_1241899992_hockeyrussia.jpg"/>
          <p:cNvPicPr/>
          <p:nvPr/>
        </p:nvPicPr>
        <p:blipFill>
          <a:blip r:embed="rId4"/>
          <a:stretch/>
        </p:blipFill>
        <p:spPr>
          <a:xfrm>
            <a:off x="1500120" y="3786120"/>
            <a:ext cx="3929040" cy="264816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5" descr="pic-icehockey_28original-ty.jpg"/>
          <p:cNvPicPr/>
          <p:nvPr/>
        </p:nvPicPr>
        <p:blipFill>
          <a:blip r:embed="rId5"/>
          <a:stretch/>
        </p:blipFill>
        <p:spPr>
          <a:xfrm>
            <a:off x="7000920" y="4286160"/>
            <a:ext cx="16207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571680" y="642960"/>
            <a:ext cx="80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Хоккей - вид спорта, в котором две команды стараются поразить твёрдым, круглым мячом или шайбой цель — ворота противника, используя клюшки. В каждой команде есть один вратарь, который защищает ворота своей коман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4" descr="ab166ee0-8113-4ad5-befe-cfa94d4dabd1.jpg"/>
          <p:cNvPicPr/>
          <p:nvPr/>
        </p:nvPicPr>
        <p:blipFill>
          <a:blip r:embed="rId2"/>
          <a:stretch/>
        </p:blipFill>
        <p:spPr>
          <a:xfrm>
            <a:off x="1357200" y="2571840"/>
            <a:ext cx="61437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1170000" y="-219240"/>
            <a:ext cx="8255160" cy="1432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428760" y="150012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onstantia"/>
              </a:rPr>
              <a:t>Где и когда родился хоккей ? Точного ответа на этот вопрос нет и уже, наверное, не будет. Имеются сведения, что игры, напоминающие хоккей, существовали ещё с древнейших времён. Принято считать, что они зародились еще в Персии, где когда-то появилось поло. У древних греков также была игра, напоминающая хоккей, которая даже была включена в программу Олимпийских игр. Называлась она «фрейнинда» В Афинах, на барельефах знаменитой стены Фемистокла, которой более 2400 лет изображены молодые люди, которые играют в то, что очень напоминает современный хоккей на траве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4" descr="Hockey.jpg"/>
          <p:cNvPicPr/>
          <p:nvPr/>
        </p:nvPicPr>
        <p:blipFill>
          <a:blip r:embed="rId3"/>
          <a:stretch/>
        </p:blipFill>
        <p:spPr>
          <a:xfrm>
            <a:off x="4500720" y="378612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400px-Hockey.svg.png"/>
          <p:cNvPicPr/>
          <p:nvPr/>
        </p:nvPicPr>
        <p:blipFill>
          <a:blip r:embed="rId4"/>
          <a:stretch/>
        </p:blipFill>
        <p:spPr>
          <a:xfrm>
            <a:off x="1357200" y="4286160"/>
            <a:ext cx="190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2"/>
          <a:stretch/>
        </p:blipFill>
        <p:spPr>
          <a:xfrm>
            <a:off x="2809800" y="-50652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500040" y="114300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оккей с шайб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играется на льду с маленьким резиновым диском, называемым шайбой. Самый популярный из всех видов хокке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лайн-хокк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аналог хоккея с шайбой, играемый на роликовых коньк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оккей на траве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 играется на травяном (или другом подходящем) покрытии маленьким, твёрд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дорхокк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аналог хоккея на траве, играемый на площадке для гандбол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оккей с мячом (Русский хоккей) — играется на льду с маленьким, твёрд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лорбол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хоккей в зале, играемый пластмассовыми клюшками и полым пластмассов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2"/>
          <a:stretch/>
        </p:blipFill>
        <p:spPr>
          <a:xfrm>
            <a:off x="1170000" y="-43344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428760" y="1214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Удивительно, но женский хоккей зародился практически одновременно с мужским. Первый матч женских команд состоялся, конечно же, в Канаде, по разным данным, то ли в 1889, то ли в 1892 году. В любом случае, это почти за 20 лет до основания НХЛ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4" descr="12599127431001556915zhenkhokkey.jpg"/>
          <p:cNvPicPr/>
          <p:nvPr/>
        </p:nvPicPr>
        <p:blipFill>
          <a:blip r:embed="rId3"/>
          <a:stretch/>
        </p:blipFill>
        <p:spPr>
          <a:xfrm>
            <a:off x="2357280" y="31431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7693d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428760" y="428760"/>
            <a:ext cx="83581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осемь лет спустя прошёл первый чемпионат мира по хоккею среди женщин. В финале встретились две североамериканские сборные, а победу одержали, конечно же, представительницы Канады. В 1992-м МОК принял решение о включении этого вида спорта в программу зимних Олимпийских игр, начиная с Олимпиады-98 в Японии. Так что 1992 год стал переломным в истории женского хоккея с шайбо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Да, хоккей — настоящая мужская игра, и мужской хоккей всегда был, есть и будет мощнее, зрелищнее и интереснее. И то, что женщины тоже хотят им заниматься, лишь подтверждает уникальность этой игры. Ну, согласитесь, здорово же, что современный хоккей развивается, движется вперёд, наращивает свою популярность и притягивает новых поклонников!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2951280" y="1639800"/>
            <a:ext cx="825336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4:25:47Z</dcterms:created>
  <dc:creator>Илья</dc:creator>
  <dc:description/>
  <dc:language>en-US</dc:language>
  <cp:lastModifiedBy>XP</cp:lastModifiedBy>
  <dcterms:modified xsi:type="dcterms:W3CDTF">2011-10-09T05:43:45Z</dcterms:modified>
  <cp:revision>6</cp:revision>
  <dc:subject/>
  <dc:title>ХОККЕЙ</dc:title>
</cp:coreProperties>
</file>