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6AF-DDD7-409D-8507-EA1297FB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35E-709B-48D4-9BEE-CDFDC576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D92-1AD6-4F7B-A877-DF33AED6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0A9-163A-4709-ABE5-3437D271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F57C-8C42-4A7C-9AF7-829A8472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8864-874B-4603-84C0-2FFF6FEE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FD0F-3E3D-4340-B6DD-261EFAAC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F73-F22D-4ED2-81FE-8E596E2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0B42-0AE9-4708-8A24-9B0367CA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EF63-0D4B-4FA6-B4FA-9692574D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E7B4-58E9-4E72-8D9E-D2EC9007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6C2-3DF4-47BF-8244-CE3F1ADB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63F5-2448-4266-99DD-3C9DF38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3C9-0339-41FA-80C6-00D33ABD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BDD-BABD-434F-87BB-F800C109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BAA5-AF2F-4735-9E72-81972ABF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2FD-F86A-4948-8620-E8E81B2D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DDA2-0E15-4A8E-BBAA-1CB9A72C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DECE-9F76-4B7F-A2CE-907E4206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B1FE-8B18-422C-98A4-052C1E7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8100-68A1-47A4-BFF1-B5B8FCA8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2F55-4078-4BC0-8765-C87AB7DA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4A1-3472-458C-9239-40D825A0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D8CC-33E4-4377-8E1D-EF1A48B5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AB69-4331-4711-A109-0969A06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0BE6-58C3-4AC5-82C7-6A5A3C1F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4D3D-A657-4F3A-9576-AB0A1995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CEDA-A6D8-4417-99D2-BF01FD1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6C18-C646-41A4-A446-BB01E413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A88A-5F61-4C69-B82B-34C764E8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E24F-8062-499C-BC4B-B402C678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3BCA-7F3A-411F-863F-5670E2C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4BA8-9967-4F84-992F-8B626B4A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86F-EF98-498D-A186-49299BD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3C41-8C2E-42FA-ABE8-FA198FD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244B-691A-4398-ABAE-4B8CE498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34F9-C641-458E-A8B3-5454052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C5D7-9839-4257-86B2-D52A5CC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739E-6CF1-4C01-89CF-D13D1F5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3356-C5B4-4E5A-AE5D-71FFEC6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EA3C-1813-43CB-BF27-D4402CA5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CA495-0367-4A03-B705-B0CDA704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3F0C1-90DA-42D6-A8A3-03BCB905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508-2B6D-4CDF-B575-323A797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0A9-9D4C-4227-9CA7-F3C7ADF2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CBB-8C90-4350-951B-891CC097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6C9-D90A-4326-80FC-01832CF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D65-8CD4-4505-8787-3778671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C9A-553B-4B62-BA69-65131DF72B68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807-6DA2-4C66-90BC-E84FE4D55EA0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BCF-F82E-4983-9248-D67DDE78C273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A0AD-6594-4C59-8AE8-7A34F8F85919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зентацию выполнил: ученик 7-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миных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bure03.jpg"/>
          <p:cNvPicPr/>
          <p:nvPr/>
        </p:nvPicPr>
        <p:blipFill>
          <a:blip r:embed="rId3"/>
          <a:stretch/>
        </p:blipFill>
        <p:spPr>
          <a:xfrm>
            <a:off x="428760" y="214200"/>
            <a:ext cx="416880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43628793_1241899992_hockeyrussia.jpg"/>
          <p:cNvPicPr/>
          <p:nvPr/>
        </p:nvPicPr>
        <p:blipFill>
          <a:blip r:embed="rId4"/>
          <a:stretch/>
        </p:blipFill>
        <p:spPr>
          <a:xfrm>
            <a:off x="1500120" y="3786120"/>
            <a:ext cx="3929040" cy="2648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pic-icehockey_28original-ty.jpg"/>
          <p:cNvPicPr/>
          <p:nvPr/>
        </p:nvPicPr>
        <p:blipFill>
          <a:blip r:embed="rId5"/>
          <a:stretch/>
        </p:blipFill>
        <p:spPr>
          <a:xfrm>
            <a:off x="7000920" y="428616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571680" y="64296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Хоккей - вид спорта, в котором две команды стараются поразить твёрдым, круглым мячом или шайбой цель — ворота противника, используя клюшки. В каждой команде есть один вратарь, который защищает ворота своей коман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ab166ee0-8113-4ad5-befe-cfa94d4dabd1.jpg"/>
          <p:cNvPicPr/>
          <p:nvPr/>
        </p:nvPicPr>
        <p:blipFill>
          <a:blip r:embed="rId2"/>
          <a:stretch/>
        </p:blipFill>
        <p:spPr>
          <a:xfrm>
            <a:off x="1357200" y="2571840"/>
            <a:ext cx="6143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1170000" y="-219240"/>
            <a:ext cx="8255160" cy="1432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428760" y="15001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onstantia"/>
              </a:rPr>
              <a:t>Где и когда родился хоккей ? Точного ответа на этот вопрос нет и уже, наверное, не будет. Имеются сведения, что игры, напоминающие хоккей, существовали ещё с древнейших времён. Принято считать, что они зародились еще в Персии, где когда-то появилось поло. У древних греков также была игра, напоминающая хоккей, которая даже была включена в программу Олимпийских игр. Называлась она «фрейнинда» В Афинах, на барельефах знаменитой стены Фемистокла, которой более 2400 лет изображены молодые люди, которые играют в то, что очень напоминает современный хоккей на трав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ockey.jpg"/>
          <p:cNvPicPr/>
          <p:nvPr/>
        </p:nvPicPr>
        <p:blipFill>
          <a:blip r:embed="rId3"/>
          <a:stretch/>
        </p:blipFill>
        <p:spPr>
          <a:xfrm>
            <a:off x="450072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400px-Hockey.svg.png"/>
          <p:cNvPicPr/>
          <p:nvPr/>
        </p:nvPicPr>
        <p:blipFill>
          <a:blip r:embed="rId4"/>
          <a:stretch/>
        </p:blipFill>
        <p:spPr>
          <a:xfrm>
            <a:off x="1357200" y="4286160"/>
            <a:ext cx="190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2809800" y="-50652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00040" y="11430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с шайб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играется на льду с маленьким резиновым диском, называемым шайбой. Самый популярный из всех видов хокк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лайн-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с шайбой, играемый на роликовых конь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на траве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играется на травяном (или другом подходящем) покрытии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ор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на траве, играемый на площадке для гандбо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ккей с мячом (Русский хоккей) — играется на льду с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орбо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хоккей в зале, играемый пластмассовыми клюшками и полым пластмассов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170000" y="-4334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42876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дивительно, но женский хоккей зародился практически одновременно с мужским. Первый матч женских команд состоялся, конечно же, в Канаде, по разным данным, то ли в 1889, то ли в 1892 году. В любом случае, это почти за 20 лет до основания НХЛ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12599127431001556915zhenkhokkey.jpg"/>
          <p:cNvPicPr/>
          <p:nvPr/>
        </p:nvPicPr>
        <p:blipFill>
          <a:blip r:embed="rId3"/>
          <a:stretch/>
        </p:blipFill>
        <p:spPr>
          <a:xfrm>
            <a:off x="23572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7693d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28760" y="428760"/>
            <a:ext cx="8358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осемь лет спустя прошёл первый чемпионат мира по хоккею среди женщин. В финале встретились две североамериканские сборные, а победу одержали, конечно же, представительницы Канады. В 1992-м МОК принял решение о включении этого вида спорта в программу зимних Олимпийских игр, начиная с Олимпиады-98 в Японии. Так что 1992 год стал переломным в истории женского хоккея с шай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, хоккей — настоящая мужская игра, и мужской хоккей всегда был, есть и будет мощнее, зрелищнее и интереснее. И то, что женщины тоже хотят им заниматься, лишь подтверждает уникальность этой игры. Ну, согласитесь, здорово же, что современный хоккей развивается, движется вперёд, наращивает свою популярность и притягивает новых поклонников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951280" y="1639800"/>
            <a:ext cx="82533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25:47Z</dcterms:created>
  <dc:creator>Илья</dc:creator>
  <dc:description/>
  <dc:language>en-US</dc:language>
  <cp:lastModifiedBy>XP</cp:lastModifiedBy>
  <dcterms:modified xsi:type="dcterms:W3CDTF">2011-10-09T05:43:45Z</dcterms:modified>
  <cp:revision>6</cp:revision>
  <dc:subject/>
  <dc:title>ХОККЕЙ</dc:title>
</cp:coreProperties>
</file>