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1.jpeg" ContentType="image/jpeg"/>
  <Override PartName="/ppt/media/image13.png" ContentType="image/png"/>
  <Override PartName="/ppt/media/image5.wmf" ContentType="image/x-wmf"/>
  <Override PartName="/ppt/media/image6.png" ContentType="image/png"/>
  <Override PartName="/ppt/media/image7.gif" ContentType="image/gif"/>
  <Override PartName="/ppt/media/image8.gif" ContentType="image/gi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3A0-36F6-413E-87C3-0CC9AB4D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DDF-9784-401A-A684-CF95D723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64B-A57E-4550-8B54-FCFF7E10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EAB-E56F-44F2-A135-12711139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4E9-2F01-42FE-8B5C-FC912AC4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BDA-850E-4099-A609-AEFF3207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C76-D34C-4C3B-9EE8-FEE1393E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944-3F60-4F17-ADE6-6A24A680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FC1-7D06-4C45-8BD0-069CA478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311-0721-4CC3-BB02-6C3D5E34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2B1-CC3D-4EF0-8FF4-B6A5D7AC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898-4E17-41F3-BBA0-9B92145B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1556-6915-428F-952A-5BC74545D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303,23,&#1057;&#1083;&#1072;&#1081;&#1076; 23" TargetMode="External"/><Relationship Id="rId3" Type="http://schemas.openxmlformats.org/officeDocument/2006/relationships/hyperlink" Target="299,24,&#1057;&#1083;&#1072;&#1081;&#1076; 24" TargetMode="External"/><Relationship Id="rId4" Type="http://schemas.openxmlformats.org/officeDocument/2006/relationships/hyperlink" Target="302,25,&#1057;&#1083;&#1072;&#1081;&#1076; 25" TargetMode="External"/><Relationship Id="rId5" Type="http://schemas.openxmlformats.org/officeDocument/2006/relationships/hyperlink" Target="300,26,&#1057;&#1083;&#1072;&#1081;&#1076; 26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riveart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52520" y="935640"/>
            <a:ext cx="822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чител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егодня рада ви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роке Вас, друз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Учащиес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мы тоже очень 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ы впрочем, как все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Вмест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Когда очень грустно иль радостно 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мую песню спою я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танет душа сразу ч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рее, счастливее вс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Школьный корабль-.mp3" descr=""/>
          <p:cNvPicPr/>
          <p:nvPr/>
        </p:nvPicPr>
        <p:blipFill>
          <a:blip r:embed="rId2"/>
          <a:stretch/>
        </p:blipFill>
        <p:spPr>
          <a:xfrm>
            <a:off x="250920" y="5850000"/>
            <a:ext cx="133164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9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68000" y="2852640"/>
            <a:ext cx="820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 этом произведении такое чувство, словно человек то совершенно подавлен безграничной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печалью,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то пытается вырваться из оков безжалостной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печали.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Вот он устремил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 свету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, вот почти достиг его, кажется, даж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лыбну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7"/>
          <p:cNvSpPr txBox="1"/>
          <p:nvPr/>
        </p:nvSpPr>
        <p:spPr>
          <a:xfrm>
            <a:off x="1332000" y="0"/>
            <a:ext cx="7272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2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О чём хотел рассказать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композитор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8"/>
          <p:cNvSpPr txBox="1"/>
          <p:nvPr/>
        </p:nvSpPr>
        <p:spPr>
          <a:xfrm>
            <a:off x="1476360" y="189000"/>
            <a:ext cx="727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3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Название произведени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250920" y="2565360"/>
            <a:ext cx="8569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"Г  р  у  с  т  н  ы  й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             </a:t>
            </a: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в а л ь с"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324000" y="2421000"/>
          <a:ext cx="8569080" cy="4248000"/>
        </p:xfrm>
        <a:graphic>
          <a:graphicData uri="http://schemas.openxmlformats.org/drawingml/2006/table">
            <a:tbl>
              <a:tblPr/>
              <a:tblGrid>
                <a:gridCol w="4070160"/>
                <a:gridCol w="4498920"/>
              </a:tblGrid>
              <a:tr h="42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Меня любовь преобрази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Я стал задумчив и уны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Я ночи бледные светил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Я сумрак ночи полюби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Когда весёлая зар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Горит за дальнею горо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 пар густеет над водо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 смолкла вечера певиц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По скату сонных бере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Брожу, тоскуя и мечта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 жду, когда между кус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Мелькнёт условленный покр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ли тропинка потай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Зашепчет шорохом шаг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Гори, прелестное светил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Помедли, мрак, на лоне в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Она придёт, мой ангел милы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Любовь моя, – она   придёт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5"/>
          <p:cNvSpPr/>
          <p:nvPr/>
        </p:nvSpPr>
        <p:spPr>
          <a:xfrm>
            <a:off x="1403280" y="12682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«Э л е г и 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. М. Язы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2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37"/>
          <p:cNvSpPr txBox="1"/>
          <p:nvPr/>
        </p:nvSpPr>
        <p:spPr>
          <a:xfrm>
            <a:off x="212400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4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 в поэзии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Рыбаки на берегу моря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9"/>
          <p:cNvSpPr txBox="1"/>
          <p:nvPr/>
        </p:nvSpPr>
        <p:spPr>
          <a:xfrm>
            <a:off x="5796000" y="4797360"/>
            <a:ext cx="302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Рыба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берег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я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йвазовск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5651640" y="1916280"/>
            <a:ext cx="316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крывает 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___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 в у ч а н и я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 у з ы к и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5940360" y="2637000"/>
            <a:ext cx="22669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а р а к т е р</a:t>
            </a:r>
            <a:endParaRPr b="1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13" descr="j0299125"/>
          <p:cNvPicPr/>
          <p:nvPr/>
        </p:nvPicPr>
        <p:blipFill>
          <a:blip r:embed="rId3"/>
          <a:stretch/>
        </p:blipFill>
        <p:spPr>
          <a:xfrm>
            <a:off x="8043840" y="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4"/>
          <p:cNvSpPr txBox="1"/>
          <p:nvPr/>
        </p:nvSpPr>
        <p:spPr>
          <a:xfrm>
            <a:off x="1476360" y="189000"/>
            <a:ext cx="568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5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 в живописи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5-39-1l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7"/>
          <p:cNvSpPr txBox="1"/>
          <p:nvPr/>
        </p:nvSpPr>
        <p:spPr>
          <a:xfrm>
            <a:off x="4500720" y="4941720"/>
            <a:ext cx="439236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а севере диком..."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 И. Шишкин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8"/>
          <p:cNvSpPr txBox="1"/>
          <p:nvPr/>
        </p:nvSpPr>
        <p:spPr>
          <a:xfrm>
            <a:off x="4356000" y="404640"/>
            <a:ext cx="424836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 а с к р ы в а е т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д и н о к у ю   и   в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 о ж е   в р е м я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 е ч т а т е л ь н у ю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  ч е л о в е к а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9" name="Picture 11" descr="j0299125"/>
          <p:cNvPicPr/>
          <p:nvPr/>
        </p:nvPicPr>
        <p:blipFill>
          <a:blip r:embed="rId3"/>
          <a:stretch/>
        </p:blipFill>
        <p:spPr>
          <a:xfrm>
            <a:off x="8043840" y="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2"/>
          <p:cNvSpPr txBox="1"/>
          <p:nvPr/>
        </p:nvSpPr>
        <p:spPr>
          <a:xfrm>
            <a:off x="4643280" y="3716280"/>
            <a:ext cx="13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prstDash val="sysDot"/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Д У Ш У</a:t>
            </a:r>
            <a:endParaRPr b="1" i="1" lang="en-US" sz="1800" spc="1" strike="noStrike">
              <a:ln w="9360">
                <a:solidFill>
                  <a:srgbClr val="ff00ff"/>
                </a:solidFill>
                <a:prstDash val="sysDot"/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79280" y="549000"/>
            <a:ext cx="4392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вере диком стоит один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голой вершине со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емлет, качаясь, и снегом пушист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та, как ризой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нится ей всё, что в пустыне далё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крае, где солнца вос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 грустна на утёсе горю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ая пальма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. 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15-39-1l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Ян Сибелиус.wmv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Ян Сибелиус.wmv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2"/>
          <p:cNvSpPr txBox="1"/>
          <p:nvPr/>
        </p:nvSpPr>
        <p:spPr>
          <a:xfrm>
            <a:off x="1547640" y="0"/>
            <a:ext cx="554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rnd" w="648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mbria"/>
              </a:rPr>
              <a:t>С л у ш а н ь е  м у з ы к и</a:t>
            </a:r>
            <a:endParaRPr b="0" i="1" lang="en-US" sz="1800" spc="1" strike="noStrike">
              <a:ln cap="rnd" w="648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3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8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 этом произведении очень силь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грус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оэтому раскр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00"/>
                </a:solidFill>
                <a:latin typeface="Comic Sans MS"/>
              </a:rPr>
              <a:t>ОБРАЗ  ГРУ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1908000" y="189000"/>
            <a:ext cx="590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6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ый образ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53" name="WordArt 9"/>
          <p:cNvSpPr txBox="1"/>
          <p:nvPr/>
        </p:nvSpPr>
        <p:spPr>
          <a:xfrm>
            <a:off x="1908000" y="189000"/>
            <a:ext cx="590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6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ый образ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39280" y="2133720"/>
            <a:ext cx="79930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ритерии оцени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ьтура общ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активности ваших партне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ивности работы вашей микро груп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6"/>
          <p:cNvSpPr txBox="1"/>
          <p:nvPr/>
        </p:nvSpPr>
        <p:spPr>
          <a:xfrm>
            <a:off x="1979640" y="33336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САМООЦЕНКА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883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7412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197412"/>
                </a:solidFill>
                <a:latin typeface="Arial"/>
              </a:rPr>
              <a:t>Слова и музыка О. Митя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484280"/>
          <a:ext cx="8424720" cy="5602320"/>
        </p:xfrm>
        <a:graphic>
          <a:graphicData uri="http://schemas.openxmlformats.org/drawingml/2006/table">
            <a:tbl>
              <a:tblPr/>
              <a:tblGrid>
                <a:gridCol w="3744720"/>
                <a:gridCol w="4680000"/>
              </a:tblGrid>
              <a:tr h="562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1 куп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иб гитары жёл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обнимаешь неж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на осколком э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нзит тугую вы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нётся купол неб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и звёздно-сне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здорово, что все мы зде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собра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куп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отблеск от зак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тёр меж сосен пляш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что грустишь, бродяг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ну-ка улыбн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то-то очень близк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бе тихонько скаже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 здорово, что все мы зде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собрались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куп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всё же с болью в горл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тех сегодня вспомни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ьи имена, как раны, на сердце запек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чтами их и песням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каждый вдох наполни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здорово, что все мы зде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собра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WordArt 43"/>
          <p:cNvSpPr txBox="1"/>
          <p:nvPr/>
        </p:nvSpPr>
        <p:spPr>
          <a:xfrm>
            <a:off x="1979640" y="18900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"К а к   з д о р о в о"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pic>
        <p:nvPicPr>
          <p:cNvPr id="161" name="Как здорово.mp3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250920" y="0"/>
            <a:ext cx="871380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1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"Музыкальны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образ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Picture 8" descr="Звоночек"/>
          <p:cNvPicPr/>
          <p:nvPr/>
        </p:nvPicPr>
        <p:blipFill>
          <a:blip r:embed="rId2"/>
          <a:stretch/>
        </p:blipFill>
        <p:spPr>
          <a:xfrm rot="3159000">
            <a:off x="5796360" y="4075920"/>
            <a:ext cx="302436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78920" y="1700280"/>
            <a:ext cx="89298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Итак, с музыкой какого композитора мы познаком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Как называется произведение Я. Сибелиу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Какой образ раскрыл композитор в своём произвед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С какими произведениями искусства созвучен «Грустный вальс» Я. Сибелиу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1979640" y="18900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И т о г    у р о к а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39280" y="227664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Выучить </a:t>
            </a:r>
            <a:r>
              <a:rPr b="0" lang="ru-RU" sz="3600" spc="-1" strike="noStrike" u="sng">
                <a:solidFill>
                  <a:srgbClr val="3333cc"/>
                </a:solidFill>
                <a:uFillTx/>
                <a:latin typeface="Arial"/>
              </a:rPr>
              <a:t>стихотворение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созвучное музыкальной мысли компози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отобразить музыкальную мыс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Я. Сибелиуса в </a:t>
            </a:r>
            <a:r>
              <a:rPr b="0" lang="ru-RU" sz="3600" spc="-1" strike="noStrike" u="sng">
                <a:solidFill>
                  <a:srgbClr val="3333cc"/>
                </a:solidFill>
                <a:uFillTx/>
                <a:latin typeface="Arial"/>
              </a:rPr>
              <a:t>рисунке.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1187280" y="189000"/>
            <a:ext cx="669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Д о м а ш н е е   з а д а н и е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77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9" dur="77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1" dur="77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77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8" dur="77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2" dur="77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684360" y="620640"/>
            <a:ext cx="7561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С п а с и б о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з а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у р о 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pic>
        <p:nvPicPr>
          <p:cNvPr id="170" name="Picture 6" descr="Аплодисменты"/>
          <p:cNvPicPr/>
          <p:nvPr/>
        </p:nvPicPr>
        <p:blipFill>
          <a:blip r:embed="rId2"/>
          <a:stretch/>
        </p:blipFill>
        <p:spPr>
          <a:xfrm>
            <a:off x="2268360" y="4581360"/>
            <a:ext cx="324036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68360" y="260280"/>
            <a:ext cx="4176720" cy="30686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>
            <a:off x="-1549440" y="3068640"/>
            <a:ext cx="10152000" cy="32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 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и б е л и у 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8280360" y="6426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4"/>
          <p:cNvSpPr txBox="1"/>
          <p:nvPr/>
        </p:nvSpPr>
        <p:spPr>
          <a:xfrm>
            <a:off x="611280" y="-531720"/>
            <a:ext cx="799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Название произведени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0" y="2060640"/>
            <a:ext cx="8569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"Г  р  у  с  т  н  ы  й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             </a:t>
            </a: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в а л ь с"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10800"/>
                </a:moveTo>
                <a:lnTo>
                  <a:pt x="22665" y="3794"/>
                </a:lnTo>
                <a:lnTo>
                  <a:pt x="2266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00"/>
                </a:solidFill>
                <a:latin typeface="Comic Sans MS"/>
              </a:rPr>
              <a:t>ОБРАЗ  ГРУСТ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5"/>
          <p:cNvSpPr txBox="1"/>
          <p:nvPr/>
        </p:nvSpPr>
        <p:spPr>
          <a:xfrm>
            <a:off x="1547640" y="-387360"/>
            <a:ext cx="590400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 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ый образ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8101080" y="6210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76" h="21600">
                <a:moveTo>
                  <a:pt x="10382" y="10800"/>
                </a:moveTo>
                <a:lnTo>
                  <a:pt x="24394" y="3794"/>
                </a:lnTo>
                <a:lnTo>
                  <a:pt x="243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Рыбаки на берегу мор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WordArt 4"/>
          <p:cNvSpPr txBox="1"/>
          <p:nvPr/>
        </p:nvSpPr>
        <p:spPr>
          <a:xfrm>
            <a:off x="5796000" y="260280"/>
            <a:ext cx="302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Рыба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берег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я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йвазовск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8244000" y="6281640"/>
            <a:ext cx="900000" cy="576360"/>
          </a:xfrm>
          <a:custGeom>
            <a:avLst/>
            <a:gdLst>
              <a:gd name="textAreaLeft" fmla="*/ 37080 w 900000"/>
              <a:gd name="textAreaRight" fmla="*/ 862920 w 900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3721" h="21600">
                <a:moveTo>
                  <a:pt x="0" y="0"/>
                </a:moveTo>
                <a:lnTo>
                  <a:pt x="33721" y="0"/>
                </a:lnTo>
                <a:lnTo>
                  <a:pt x="33721" y="21600"/>
                </a:lnTo>
                <a:lnTo>
                  <a:pt x="0" y="21600"/>
                </a:lnTo>
                <a:close/>
              </a:path>
              <a:path fill="lightenLess" w="33721" h="21600">
                <a:moveTo>
                  <a:pt x="0" y="0"/>
                </a:moveTo>
                <a:lnTo>
                  <a:pt x="33721" y="0"/>
                </a:lnTo>
                <a:lnTo>
                  <a:pt x="32321" y="1400"/>
                </a:lnTo>
                <a:lnTo>
                  <a:pt x="1400" y="1400"/>
                </a:lnTo>
                <a:close/>
              </a:path>
              <a:path fill="darken" w="33721" h="21600">
                <a:moveTo>
                  <a:pt x="33721" y="0"/>
                </a:moveTo>
                <a:lnTo>
                  <a:pt x="33721" y="21600"/>
                </a:lnTo>
                <a:lnTo>
                  <a:pt x="32321" y="20200"/>
                </a:lnTo>
                <a:lnTo>
                  <a:pt x="32321" y="1400"/>
                </a:lnTo>
                <a:close/>
              </a:path>
              <a:path fill="darkenLess" w="33721" h="21600">
                <a:moveTo>
                  <a:pt x="33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21" y="20200"/>
                </a:lnTo>
                <a:close/>
              </a:path>
              <a:path fill="lighten" w="33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21" h="21600">
                <a:moveTo>
                  <a:pt x="9854" y="3794"/>
                </a:moveTo>
                <a:lnTo>
                  <a:pt x="23867" y="10800"/>
                </a:lnTo>
                <a:lnTo>
                  <a:pt x="985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15-39-1l"/>
          <p:cNvPicPr/>
          <p:nvPr/>
        </p:nvPicPr>
        <p:blipFill>
          <a:blip r:embed="rId2"/>
          <a:stretch/>
        </p:blipFill>
        <p:spPr>
          <a:xfrm>
            <a:off x="1619280" y="0"/>
            <a:ext cx="5472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4"/>
          <p:cNvSpPr txBox="1"/>
          <p:nvPr/>
        </p:nvSpPr>
        <p:spPr>
          <a:xfrm>
            <a:off x="5292720" y="260280"/>
            <a:ext cx="38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а севере диком..."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 И. Шишкин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1138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17200">
            <a:off x="-612720" y="259920"/>
            <a:ext cx="921708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"Музыка не может мысли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но она мо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воплощать мыс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Р. Вагн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0" y="260280"/>
          <a:ext cx="5486400" cy="6251760"/>
        </p:xfrm>
        <a:graphic>
          <a:graphicData uri="http://schemas.openxmlformats.org/drawingml/2006/table">
            <a:tbl>
              <a:tblPr/>
              <a:tblGrid>
                <a:gridCol w="341640"/>
                <a:gridCol w="218880"/>
                <a:gridCol w="181800"/>
                <a:gridCol w="181800"/>
                <a:gridCol w="182160"/>
                <a:gridCol w="218880"/>
                <a:gridCol w="246600"/>
                <a:gridCol w="303840"/>
                <a:gridCol w="379440"/>
                <a:gridCol w="294120"/>
                <a:gridCol w="419040"/>
                <a:gridCol w="368280"/>
                <a:gridCol w="381240"/>
                <a:gridCol w="373320"/>
                <a:gridCol w="357120"/>
                <a:gridCol w="395640"/>
                <a:gridCol w="286200"/>
                <a:gridCol w="356400"/>
              </a:tblGrid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1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1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696"/>
          <p:cNvSpPr/>
          <p:nvPr/>
        </p:nvSpPr>
        <p:spPr>
          <a:xfrm>
            <a:off x="5364000" y="335880"/>
            <a:ext cx="378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оплощение тех или иных творческих замыслов, то или иное жизненное 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сновоположник польской муз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изведение звучащее 60 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дин из любимых жанров  Шоп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мя польского компози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ой образ раскрыт в вальсе «Минутка» Шоп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ой образ раскрыт в вальсе №47 Шоп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узыкальное вступление к крупному музыкальному произве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есня главного героя в оп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лавная песня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32"/>
          <p:cNvSpPr txBox="1"/>
          <p:nvPr/>
        </p:nvSpPr>
        <p:spPr>
          <a:xfrm>
            <a:off x="2195640" y="2781360"/>
            <a:ext cx="180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Б Р А З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WordArt 733"/>
          <p:cNvSpPr txBox="1"/>
          <p:nvPr/>
        </p:nvSpPr>
        <p:spPr>
          <a:xfrm>
            <a:off x="468360" y="1773360"/>
            <a:ext cx="3527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РИЧЕСКИЙ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734"/>
          <p:cNvSpPr txBox="1"/>
          <p:nvPr/>
        </p:nvSpPr>
        <p:spPr>
          <a:xfrm>
            <a:off x="1835280" y="2276640"/>
            <a:ext cx="28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 Р И Д Е Р И К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736"/>
          <p:cNvSpPr txBox="1"/>
          <p:nvPr/>
        </p:nvSpPr>
        <p:spPr>
          <a:xfrm>
            <a:off x="1763640" y="1341360"/>
            <a:ext cx="259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 И Н У Т К А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WordArt 737"/>
          <p:cNvSpPr txBox="1"/>
          <p:nvPr/>
        </p:nvSpPr>
        <p:spPr>
          <a:xfrm>
            <a:off x="1476360" y="836640"/>
            <a:ext cx="1368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Р И Я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738"/>
          <p:cNvSpPr txBox="1"/>
          <p:nvPr/>
        </p:nvSpPr>
        <p:spPr>
          <a:xfrm>
            <a:off x="1476360" y="3213000"/>
            <a:ext cx="1727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 О П Е Н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740"/>
          <p:cNvSpPr txBox="1"/>
          <p:nvPr/>
        </p:nvSpPr>
        <p:spPr>
          <a:xfrm>
            <a:off x="1835280" y="371628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А Л Ь С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743"/>
          <p:cNvSpPr txBox="1"/>
          <p:nvPr/>
        </p:nvSpPr>
        <p:spPr>
          <a:xfrm>
            <a:off x="2268360" y="4221000"/>
            <a:ext cx="13669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 И М Н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745"/>
          <p:cNvSpPr txBox="1"/>
          <p:nvPr/>
        </p:nvSpPr>
        <p:spPr>
          <a:xfrm>
            <a:off x="2627280" y="4653000"/>
            <a:ext cx="2808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В Е Р Т Ю Р А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WordArt 747"/>
          <p:cNvSpPr txBox="1"/>
          <p:nvPr/>
        </p:nvSpPr>
        <p:spPr>
          <a:xfrm>
            <a:off x="1258920" y="5157720"/>
            <a:ext cx="2665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З О Р С Т В О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611280" y="2276640"/>
            <a:ext cx="8064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3240">
                  <a:solidFill>
                    <a:srgbClr val="ff99cc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"Музыкальный образ в музыке</a:t>
            </a:r>
            <a:endParaRPr b="1" i="1" lang="en-US" sz="1800" spc="1" strike="noStrike">
              <a:ln cap="rnd" w="3240">
                <a:solidFill>
                  <a:srgbClr val="ff99cc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3240">
                  <a:solidFill>
                    <a:srgbClr val="ff99cc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Я н а   С и б е л и у с а"</a:t>
            </a:r>
            <a:endParaRPr b="1" i="1" lang="en-US" sz="1800" spc="1" strike="noStrike">
              <a:ln cap="rnd" w="3240">
                <a:solidFill>
                  <a:srgbClr val="ff99cc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1835280" y="189000"/>
            <a:ext cx="532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Тема урок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93236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н Сибелиу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65 – 1957 г.г.)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инск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зитор, педагог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1891 года преподавал в Хельсинской консерватории.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сновоположни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ской национальной музыкальной школы. В своём творчестве Я. Сибелиус широко использовал финское и карельское народное творчеств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4176720" cy="3240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68360" y="4797360"/>
            <a:ext cx="8207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Им созданы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7 симфоний, 4 легенды – одна из самых известных «Финляндия». Его сочинения принесли ему мировую извес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" name="Diagram 23"/>
          <p:cNvGrpSpPr/>
          <p:nvPr/>
        </p:nvGrpSpPr>
        <p:grpSpPr>
          <a:xfrm>
            <a:off x="324000" y="0"/>
            <a:ext cx="8596080" cy="6858000"/>
            <a:chOff x="324000" y="0"/>
            <a:chExt cx="8596080" cy="685800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2554920" y="2492280"/>
              <a:ext cx="1439640" cy="6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29"/>
            <p:cNvSpPr/>
            <p:nvPr/>
          </p:nvSpPr>
          <p:spPr>
            <a:xfrm>
              <a:off x="324000" y="765000"/>
              <a:ext cx="2463480" cy="24145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0"/>
            <p:cNvSpPr/>
            <p:nvPr/>
          </p:nvSpPr>
          <p:spPr>
            <a:xfrm flipH="1">
              <a:off x="3058920" y="3573720"/>
              <a:ext cx="986760" cy="79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684000" y="3715920"/>
              <a:ext cx="2476080" cy="23382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2"/>
            <p:cNvSpPr/>
            <p:nvPr/>
          </p:nvSpPr>
          <p:spPr>
            <a:xfrm>
              <a:off x="4716360" y="4005720"/>
              <a:ext cx="720" cy="88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3"/>
            <p:cNvSpPr/>
            <p:nvPr/>
          </p:nvSpPr>
          <p:spPr>
            <a:xfrm>
              <a:off x="3419640" y="4754160"/>
              <a:ext cx="2457360" cy="2103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4"/>
            <p:cNvSpPr/>
            <p:nvPr/>
          </p:nvSpPr>
          <p:spPr>
            <a:xfrm>
              <a:off x="5579640" y="3860280"/>
              <a:ext cx="803160" cy="43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5"/>
            <p:cNvSpPr/>
            <p:nvPr/>
          </p:nvSpPr>
          <p:spPr>
            <a:xfrm>
              <a:off x="6156360" y="3789360"/>
              <a:ext cx="2476080" cy="2336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6"/>
            <p:cNvSpPr/>
            <p:nvPr/>
          </p:nvSpPr>
          <p:spPr>
            <a:xfrm flipV="1">
              <a:off x="5508720" y="2636640"/>
              <a:ext cx="107964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7"/>
            <p:cNvSpPr/>
            <p:nvPr/>
          </p:nvSpPr>
          <p:spPr>
            <a:xfrm>
              <a:off x="6444000" y="908280"/>
              <a:ext cx="2476080" cy="23889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8"/>
            <p:cNvSpPr/>
            <p:nvPr/>
          </p:nvSpPr>
          <p:spPr>
            <a:xfrm flipV="1">
              <a:off x="4716360" y="1341000"/>
              <a:ext cx="1440" cy="115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9"/>
            <p:cNvSpPr/>
            <p:nvPr/>
          </p:nvSpPr>
          <p:spPr>
            <a:xfrm>
              <a:off x="2916360" y="0"/>
              <a:ext cx="3600000" cy="21337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0"/>
            <p:cNvSpPr/>
            <p:nvPr/>
          </p:nvSpPr>
          <p:spPr>
            <a:xfrm>
              <a:off x="3202920" y="2275920"/>
              <a:ext cx="3024360" cy="2305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7"/>
            <p:cNvSpPr/>
            <p:nvPr/>
          </p:nvSpPr>
          <p:spPr>
            <a:xfrm>
              <a:off x="6444000" y="90828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6600"/>
                </a:gs>
              </a:gsLst>
              <a:lin ang="13500000"/>
            </a:gra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8"/>
            <p:cNvSpPr/>
            <p:nvPr/>
          </p:nvSpPr>
          <p:spPr>
            <a:xfrm>
              <a:off x="6156360" y="371592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ccff"/>
                </a:gs>
              </a:gsLst>
              <a:lin ang="13500000"/>
            </a:gra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9"/>
            <p:cNvSpPr/>
            <p:nvPr/>
          </p:nvSpPr>
          <p:spPr>
            <a:xfrm>
              <a:off x="684000" y="3644640"/>
              <a:ext cx="2463480" cy="2414880"/>
            </a:xfrm>
            <a:prstGeom prst="ellipse">
              <a:avLst/>
            </a:prstGeom>
            <a:gradFill rotWithShape="0">
              <a:gsLst>
                <a:gs pos="0">
                  <a:srgbClr val="af67ff"/>
                </a:gs>
                <a:gs pos="100000">
                  <a:srgbClr val="00cc00"/>
                </a:gs>
              </a:gsLst>
              <a:lin ang="13500000"/>
            </a:gra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0"/>
            <p:cNvSpPr/>
            <p:nvPr/>
          </p:nvSpPr>
          <p:spPr>
            <a:xfrm>
              <a:off x="2916360" y="0"/>
              <a:ext cx="3600000" cy="21337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cc33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3202920" y="4724280"/>
              <a:ext cx="2881080" cy="213372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0000"/>
                </a:gs>
              </a:gsLst>
              <a:lin ang="135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324000" y="76500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9966ff"/>
                </a:gs>
              </a:gsLst>
              <a:lin ang="13500000"/>
            </a:gra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202920" y="2275920"/>
              <a:ext cx="3024360" cy="230580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ffff00"/>
                </a:gs>
              </a:gsLst>
              <a:lin ang="13500000"/>
            </a:gra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WordArt 39"/>
          <p:cNvSpPr txBox="1"/>
          <p:nvPr/>
        </p:nvSpPr>
        <p:spPr>
          <a:xfrm>
            <a:off x="3635280" y="3284640"/>
            <a:ext cx="216072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Основоположники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н а ц и о н а л ь н о й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м  у  з  ы  к  и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41"/>
          <p:cNvSpPr txBox="1"/>
          <p:nvPr/>
        </p:nvSpPr>
        <p:spPr>
          <a:xfrm>
            <a:off x="755640" y="1197000"/>
            <a:ext cx="164628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РУС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4" name="WordArt 49"/>
          <p:cNvSpPr txBox="1"/>
          <p:nvPr/>
        </p:nvSpPr>
        <p:spPr>
          <a:xfrm>
            <a:off x="6732720" y="1413000"/>
            <a:ext cx="172692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ПОЛЬ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1042920" y="4005360"/>
            <a:ext cx="172872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ВЕНГЕР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6443640" y="4149720"/>
            <a:ext cx="187164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НОРВЕЖ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3564000" y="5157720"/>
            <a:ext cx="223200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Arial"/>
              </a:rPr>
              <a:t>АВСТРИЙ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3276720" y="1125360"/>
            <a:ext cx="280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ИНСК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755640" y="1628640"/>
            <a:ext cx="172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.И.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Глинка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" name="WordArt 55"/>
          <p:cNvSpPr txBox="1"/>
          <p:nvPr/>
        </p:nvSpPr>
        <p:spPr>
          <a:xfrm>
            <a:off x="971640" y="4869000"/>
            <a:ext cx="201600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Ф. Лист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WordArt 56"/>
          <p:cNvSpPr txBox="1"/>
          <p:nvPr/>
        </p:nvSpPr>
        <p:spPr>
          <a:xfrm>
            <a:off x="6659640" y="2205000"/>
            <a:ext cx="194472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Ф. Шопен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57"/>
          <p:cNvSpPr txBox="1"/>
          <p:nvPr/>
        </p:nvSpPr>
        <p:spPr>
          <a:xfrm>
            <a:off x="6443640" y="5084640"/>
            <a:ext cx="194472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Э. Григ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WordArt 58"/>
          <p:cNvSpPr txBox="1"/>
          <p:nvPr/>
        </p:nvSpPr>
        <p:spPr>
          <a:xfrm>
            <a:off x="3780000" y="5373720"/>
            <a:ext cx="187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.А.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оцарт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4" name="WordArt 59"/>
          <p:cNvSpPr txBox="1"/>
          <p:nvPr/>
        </p:nvSpPr>
        <p:spPr>
          <a:xfrm>
            <a:off x="3203640" y="404640"/>
            <a:ext cx="290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Ян Сибелиус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>
            <a:off x="324000" y="189000"/>
            <a:ext cx="856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rnd" w="648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mbria"/>
              </a:rPr>
              <a:t>С л у ш а н ь е  м у з ы к и</a:t>
            </a:r>
            <a:endParaRPr b="0" i="1" lang="en-US" sz="1800" spc="1" strike="noStrike">
              <a:ln cap="rnd" w="648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09" name="Picture 7" descr="Дирижёр"/>
          <p:cNvPicPr/>
          <p:nvPr/>
        </p:nvPicPr>
        <p:blipFill>
          <a:blip r:embed="rId2"/>
          <a:stretch/>
        </p:blipFill>
        <p:spPr>
          <a:xfrm>
            <a:off x="179280" y="5300640"/>
            <a:ext cx="1042920" cy="1341360"/>
          </a:xfrm>
          <a:prstGeom prst="rect">
            <a:avLst/>
          </a:prstGeom>
          <a:ln w="0">
            <a:noFill/>
          </a:ln>
        </p:spPr>
      </p:pic>
      <p:pic>
        <p:nvPicPr>
          <p:cNvPr id="110" name="Сибелиус. Грустный вальс.(10 мин).mp3" descr=""/>
          <p:cNvPicPr/>
          <p:nvPr/>
        </p:nvPicPr>
        <p:blipFill>
          <a:blip r:embed="rId3"/>
          <a:stretch/>
        </p:blipFill>
        <p:spPr>
          <a:xfrm>
            <a:off x="1258920" y="5877000"/>
            <a:ext cx="100944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948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78920" y="2774880"/>
            <a:ext cx="87138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зыка по характер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ечальная, лирическ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задушевная, мелодич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динокая, грустная, задумчив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мечтательная, танцевальная (валь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Ноты"/>
          <p:cNvPicPr/>
          <p:nvPr/>
        </p:nvPicPr>
        <p:blipFill>
          <a:blip r:embed="rId2"/>
          <a:stretch/>
        </p:blipFill>
        <p:spPr>
          <a:xfrm>
            <a:off x="0" y="-171360"/>
            <a:ext cx="3059280" cy="23032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2700360" y="189000"/>
            <a:ext cx="5759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1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а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характеристик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6:10:09Z</dcterms:created>
  <dc:creator>Юлькина</dc:creator>
  <dc:description/>
  <dc:language>en-US</dc:language>
  <cp:lastModifiedBy>Коля</cp:lastModifiedBy>
  <dcterms:modified xsi:type="dcterms:W3CDTF">2013-03-20T19:24:14Z</dcterms:modified>
  <cp:revision>27</cp:revision>
  <dc:subject/>
  <dc:title>Слайд 1</dc:title>
</cp:coreProperties>
</file>