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9C1-14A7-4C32-AB7B-C82CC19F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91D-3C77-494C-8DEE-8ACCDB0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69A-49D7-4F3A-A7D3-D7E0EB08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DF7-3152-4625-B274-550835C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10C6-931A-4D5F-8355-6A5D43B8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EAA-2C9A-4F8C-90E5-6F94ECD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E41-8D38-4C89-ACF6-1734D28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C38-4BB7-4816-8D32-5D41291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D97-7734-486F-BD46-797EA54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289-BA59-4F74-8D98-A5240A0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A5B-3A61-4B36-870A-F3082E13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003-4B0C-4042-AB1B-AE68C25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0827-AF85-40C1-88A2-3530CF71B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03,23,&#1057;&#1083;&#1072;&#1081;&#1076; 23" TargetMode="External"/><Relationship Id="rId3" Type="http://schemas.openxmlformats.org/officeDocument/2006/relationships/hyperlink" Target="299,24,&#1057;&#1083;&#1072;&#1081;&#1076; 24" TargetMode="External"/><Relationship Id="rId4" Type="http://schemas.openxmlformats.org/officeDocument/2006/relationships/hyperlink" Target="302,25,&#1057;&#1083;&#1072;&#1081;&#1076; 25" TargetMode="External"/><Relationship Id="rId5" Type="http://schemas.openxmlformats.org/officeDocument/2006/relationships/hyperlink" Target="300,26,&#1057;&#1083;&#1072;&#1081;&#1076; 26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riveart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2520" y="935640"/>
            <a:ext cx="822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чит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егодня рада 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Вас,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Учащиес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мы тоже очень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ы впрочем, как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мест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Когда очень грустно иль радостно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мую песню спою я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танет душа сразу ч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ее, счастливее вс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Школьный корабль-.mp3" descr=""/>
          <p:cNvPicPr/>
          <p:nvPr/>
        </p:nvPicPr>
        <p:blipFill>
          <a:blip r:embed="rId2"/>
          <a:stretch/>
        </p:blipFill>
        <p:spPr>
          <a:xfrm>
            <a:off x="250920" y="5850000"/>
            <a:ext cx="13316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9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8000" y="285264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этом произведении такое чувство, словно человек то совершенно подавлен безгранич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ью,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то пытается вырваться из оков безжалост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и.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Вот он устрем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свету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, вот почти достиг его, кажется, даж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лыб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1332000" y="0"/>
            <a:ext cx="7272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2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О чём хотел рассказать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композитор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1476360" y="189000"/>
            <a:ext cx="727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3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250920" y="2565360"/>
            <a:ext cx="8569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24000" y="2421000"/>
          <a:ext cx="8569080" cy="4248000"/>
        </p:xfrm>
        <a:graphic>
          <a:graphicData uri="http://schemas.openxmlformats.org/drawingml/2006/table">
            <a:tbl>
              <a:tblPr/>
              <a:tblGrid>
                <a:gridCol w="4070160"/>
                <a:gridCol w="449892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ня любовь преобрази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тал задумчив и уны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ночи бледные светил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умрак ночи полюби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Когда весёлая зар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т за дальнею гор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пар густеет над вод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смолкла вечера певиц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 скату сонных бере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Брожу, тоскуя и мечт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жду, когда между ку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лькнёт условленный покр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ли тропинка потай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Зашепчет шорохом шаг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, прелестное светил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медли, мрак, на лоне в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Она придёт, мой ангел милы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Любовь моя, – она   придё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5"/>
          <p:cNvSpPr/>
          <p:nvPr/>
        </p:nvSpPr>
        <p:spPr>
          <a:xfrm>
            <a:off x="1403280" y="1268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«Э л е г и 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. М. Яз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2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7"/>
          <p:cNvSpPr txBox="1"/>
          <p:nvPr/>
        </p:nvSpPr>
        <p:spPr>
          <a:xfrm>
            <a:off x="212400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4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поэзи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5796000" y="479736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5651640" y="1916280"/>
            <a:ext cx="316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крывает 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в у ч а н и я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у з ы к и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5940360" y="2637000"/>
            <a:ext cx="22669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а р а к т е р</a:t>
            </a:r>
            <a:endParaRPr b="1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13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4"/>
          <p:cNvSpPr txBox="1"/>
          <p:nvPr/>
        </p:nvSpPr>
        <p:spPr>
          <a:xfrm>
            <a:off x="1476360" y="18900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5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живопис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5-39-1l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7"/>
          <p:cNvSpPr txBox="1"/>
          <p:nvPr/>
        </p:nvSpPr>
        <p:spPr>
          <a:xfrm>
            <a:off x="4500720" y="4941720"/>
            <a:ext cx="43923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4356000" y="404640"/>
            <a:ext cx="424836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 а с к р ы в а е т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 и н о к у ю   и   в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о ж е   в р е м я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е ч т а т е л ь н у ю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  ч е л о в е к а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Picture 11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2"/>
          <p:cNvSpPr txBox="1"/>
          <p:nvPr/>
        </p:nvSpPr>
        <p:spPr>
          <a:xfrm>
            <a:off x="4643280" y="3716280"/>
            <a:ext cx="13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prstDash val="sysDot"/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У Ш У</a:t>
            </a:r>
            <a:endParaRPr b="1" i="1" lang="en-US" sz="1800" spc="1" strike="noStrike">
              <a:ln w="9360">
                <a:solidFill>
                  <a:srgbClr val="ff00ff"/>
                </a:solidFill>
                <a:prstDash val="sysDot"/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439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диком стоит один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олой вершине 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емлет, качаясь, и снегом пушист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та, как ризой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нится ей всё, что в пустыне далё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 грустна на утёсе горю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ая пальма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. 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15-39-1l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Ян Сибелиус.wmv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Ян Сибелиус.wmv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2"/>
          <p:cNvSpPr txBox="1"/>
          <p:nvPr/>
        </p:nvSpPr>
        <p:spPr>
          <a:xfrm>
            <a:off x="1547640" y="0"/>
            <a:ext cx="554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 этом произведении очень силь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ру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оэтому рас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280" y="2133720"/>
            <a:ext cx="79930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итерии оцени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общ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активности ваших партне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ивности работы вашей микро груп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197964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САМООЦЕНК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883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7412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197412"/>
                </a:solidFill>
                <a:latin typeface="Arial"/>
              </a:rPr>
              <a:t>Слова и музыка О. Митя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484280"/>
          <a:ext cx="8424720" cy="5602320"/>
        </p:xfrm>
        <a:graphic>
          <a:graphicData uri="http://schemas.openxmlformats.org/drawingml/2006/table">
            <a:tbl>
              <a:tblPr/>
              <a:tblGrid>
                <a:gridCol w="3744720"/>
                <a:gridCol w="4680000"/>
              </a:tblGrid>
              <a:tr h="562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1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иб гитары 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обнимаешь неж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на осколком э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нзит тугую вы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нётся купол неб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и звёздно-сне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отблеск от зак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ёр меж сосен пляш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что грустишь, бродяг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у-ка улыбн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то-то очень близк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бе тихонько скаж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ё же с болью в горл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тех сегодня вспом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ьи имена, как раны, на сердце запек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ми их и песн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аждый вдох напол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WordArt 43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"К а к   з д о р о в о"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161" name="Как здорово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50920" y="0"/>
            <a:ext cx="871380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1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"Музыкаль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браз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8" descr="Звоночек"/>
          <p:cNvPicPr/>
          <p:nvPr/>
        </p:nvPicPr>
        <p:blipFill>
          <a:blip r:embed="rId2"/>
          <a:stretch/>
        </p:blipFill>
        <p:spPr>
          <a:xfrm rot="3159000">
            <a:off x="5796360" y="4075920"/>
            <a:ext cx="30243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8920" y="1700280"/>
            <a:ext cx="8929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Итак, с музыкой какого композитора м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Как называется произведение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Какой образ раскрыл композитор в своём произвед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С какими произведениями искусства созвучен «Грустный вальс»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И т о г    у р о к 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39280" y="227664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Выучить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стихотворение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созвучное музыкальной мысли композ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отобразить музыкальную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Я. Сибелиуса в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рисунке.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1187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о м а ш н е е   з а д а н и е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77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77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684360" y="620640"/>
            <a:ext cx="756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С п а с и б 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з а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у р о 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70" name="Picture 6" descr="Аплодисменты"/>
          <p:cNvPicPr/>
          <p:nvPr/>
        </p:nvPicPr>
        <p:blipFill>
          <a:blip r:embed="rId2"/>
          <a:stretch/>
        </p:blipFill>
        <p:spPr>
          <a:xfrm>
            <a:off x="2268360" y="4581360"/>
            <a:ext cx="324036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-1549440" y="3068640"/>
            <a:ext cx="1015200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 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и б е л и у 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611280" y="-531720"/>
            <a:ext cx="799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0" y="2060640"/>
            <a:ext cx="8569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1547640" y="-387360"/>
            <a:ext cx="59040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8101080" y="6210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10800"/>
                </a:moveTo>
                <a:lnTo>
                  <a:pt x="24394" y="3794"/>
                </a:lnTo>
                <a:lnTo>
                  <a:pt x="243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5796000" y="26028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8244000" y="6281640"/>
            <a:ext cx="900000" cy="576360"/>
          </a:xfrm>
          <a:custGeom>
            <a:avLst/>
            <a:gdLst>
              <a:gd name="textAreaLeft" fmla="*/ 37080 w 900000"/>
              <a:gd name="textAreaRight" fmla="*/ 862920 w 90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721" h="21600">
                <a:moveTo>
                  <a:pt x="0" y="0"/>
                </a:moveTo>
                <a:lnTo>
                  <a:pt x="33721" y="0"/>
                </a:lnTo>
                <a:lnTo>
                  <a:pt x="33721" y="21600"/>
                </a:lnTo>
                <a:lnTo>
                  <a:pt x="0" y="21600"/>
                </a:lnTo>
                <a:close/>
              </a:path>
              <a:path fill="lightenLess" w="33721" h="21600">
                <a:moveTo>
                  <a:pt x="0" y="0"/>
                </a:moveTo>
                <a:lnTo>
                  <a:pt x="33721" y="0"/>
                </a:lnTo>
                <a:lnTo>
                  <a:pt x="32321" y="1400"/>
                </a:lnTo>
                <a:lnTo>
                  <a:pt x="1400" y="1400"/>
                </a:lnTo>
                <a:close/>
              </a:path>
              <a:path fill="darken" w="33721" h="21600">
                <a:moveTo>
                  <a:pt x="33721" y="0"/>
                </a:moveTo>
                <a:lnTo>
                  <a:pt x="33721" y="21600"/>
                </a:lnTo>
                <a:lnTo>
                  <a:pt x="32321" y="20200"/>
                </a:lnTo>
                <a:lnTo>
                  <a:pt x="32321" y="1400"/>
                </a:lnTo>
                <a:close/>
              </a:path>
              <a:path fill="darkenLess" w="33721" h="21600">
                <a:moveTo>
                  <a:pt x="33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21" y="20200"/>
                </a:lnTo>
                <a:close/>
              </a:path>
              <a:path fill="lighten" w="33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21" h="21600">
                <a:moveTo>
                  <a:pt x="9854" y="3794"/>
                </a:moveTo>
                <a:lnTo>
                  <a:pt x="23867" y="10800"/>
                </a:lnTo>
                <a:lnTo>
                  <a:pt x="985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15-39-1l"/>
          <p:cNvPicPr/>
          <p:nvPr/>
        </p:nvPicPr>
        <p:blipFill>
          <a:blip r:embed="rId2"/>
          <a:stretch/>
        </p:blipFill>
        <p:spPr>
          <a:xfrm>
            <a:off x="161928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5292720" y="260280"/>
            <a:ext cx="38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17200">
            <a:off x="-612720" y="259920"/>
            <a:ext cx="9217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"Музыка не может мысл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но она мо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воплощать мыс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Р. Ваг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0" y="260280"/>
          <a:ext cx="5486400" cy="6251760"/>
        </p:xfrm>
        <a:graphic>
          <a:graphicData uri="http://schemas.openxmlformats.org/drawingml/2006/table">
            <a:tbl>
              <a:tblPr/>
              <a:tblGrid>
                <a:gridCol w="341640"/>
                <a:gridCol w="218880"/>
                <a:gridCol w="181800"/>
                <a:gridCol w="181800"/>
                <a:gridCol w="182160"/>
                <a:gridCol w="218880"/>
                <a:gridCol w="246600"/>
                <a:gridCol w="303840"/>
                <a:gridCol w="379440"/>
                <a:gridCol w="294120"/>
                <a:gridCol w="419040"/>
                <a:gridCol w="368280"/>
                <a:gridCol w="381240"/>
                <a:gridCol w="373320"/>
                <a:gridCol w="357120"/>
                <a:gridCol w="395640"/>
                <a:gridCol w="286200"/>
                <a:gridCol w="356400"/>
              </a:tblGrid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696"/>
          <p:cNvSpPr/>
          <p:nvPr/>
        </p:nvSpPr>
        <p:spPr>
          <a:xfrm>
            <a:off x="5364000" y="33588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оплощение тех или иных творческих замыслов, то или иное жизненное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оположник польской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изведение звучащее 60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дин из любимых жанров  Шоп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мя польского компози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«Минутка»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№47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узыкальное вступление к крупному музыкальному произве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сня главного героя в оп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лавная песня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32"/>
          <p:cNvSpPr txBox="1"/>
          <p:nvPr/>
        </p:nvSpPr>
        <p:spPr>
          <a:xfrm>
            <a:off x="2195640" y="2781360"/>
            <a:ext cx="180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Б Р А З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733"/>
          <p:cNvSpPr txBox="1"/>
          <p:nvPr/>
        </p:nvSpPr>
        <p:spPr>
          <a:xfrm>
            <a:off x="468360" y="1773360"/>
            <a:ext cx="3527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РИЧЕСКИЙ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734"/>
          <p:cNvSpPr txBox="1"/>
          <p:nvPr/>
        </p:nvSpPr>
        <p:spPr>
          <a:xfrm>
            <a:off x="1835280" y="2276640"/>
            <a:ext cx="28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 Р И Д Е Р И К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736"/>
          <p:cNvSpPr txBox="1"/>
          <p:nvPr/>
        </p:nvSpPr>
        <p:spPr>
          <a:xfrm>
            <a:off x="1763640" y="1341360"/>
            <a:ext cx="25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И Н У Т К А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737"/>
          <p:cNvSpPr txBox="1"/>
          <p:nvPr/>
        </p:nvSpPr>
        <p:spPr>
          <a:xfrm>
            <a:off x="1476360" y="836640"/>
            <a:ext cx="136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Р И Я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738"/>
          <p:cNvSpPr txBox="1"/>
          <p:nvPr/>
        </p:nvSpPr>
        <p:spPr>
          <a:xfrm>
            <a:off x="1476360" y="3213000"/>
            <a:ext cx="172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 О П Е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740"/>
          <p:cNvSpPr txBox="1"/>
          <p:nvPr/>
        </p:nvSpPr>
        <p:spPr>
          <a:xfrm>
            <a:off x="1835280" y="37162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А Л Ь С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743"/>
          <p:cNvSpPr txBox="1"/>
          <p:nvPr/>
        </p:nvSpPr>
        <p:spPr>
          <a:xfrm>
            <a:off x="2268360" y="4221000"/>
            <a:ext cx="13669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 И М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745"/>
          <p:cNvSpPr txBox="1"/>
          <p:nvPr/>
        </p:nvSpPr>
        <p:spPr>
          <a:xfrm>
            <a:off x="2627280" y="4653000"/>
            <a:ext cx="280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В Е Р Т Ю Р 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747"/>
          <p:cNvSpPr txBox="1"/>
          <p:nvPr/>
        </p:nvSpPr>
        <p:spPr>
          <a:xfrm>
            <a:off x="1258920" y="515772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З О Р С Т В О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611280" y="2276640"/>
            <a:ext cx="80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"Музыкальный образ в музыке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Я н а   С и б е л и у с а"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1835280" y="18900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Тема уро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93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н Сибелиу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65 – 1957 г.г.)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нск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тор, педаго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891 года преподавал в Хельсинской консерватории.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сновополож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ской национальной музыкальной школы. В своём творчестве Я. Сибелиус широко использовал финское и карельское народное творчеств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68360" y="4797360"/>
            <a:ext cx="8207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м создан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симфоний, 4 легенды – одна из самых известных «Финляндия». Его сочинения принесли ему мировую изв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Diagram 23"/>
          <p:cNvGrpSpPr/>
          <p:nvPr/>
        </p:nvGrpSpPr>
        <p:grpSpPr>
          <a:xfrm>
            <a:off x="324000" y="0"/>
            <a:ext cx="8596080" cy="6858000"/>
            <a:chOff x="324000" y="0"/>
            <a:chExt cx="8596080" cy="685800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2554920" y="2492280"/>
              <a:ext cx="143964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3058920" y="3573720"/>
              <a:ext cx="986760" cy="79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684000" y="3715920"/>
              <a:ext cx="2476080" cy="2338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4716360" y="4005720"/>
              <a:ext cx="720" cy="88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3419640" y="4754160"/>
              <a:ext cx="2457360" cy="21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5579640" y="3860280"/>
              <a:ext cx="80316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6156360" y="3789360"/>
              <a:ext cx="2476080" cy="2336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 flipV="1">
              <a:off x="5508720" y="2636640"/>
              <a:ext cx="10796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44000" y="908280"/>
              <a:ext cx="2476080" cy="2388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4716360" y="1341000"/>
              <a:ext cx="1440" cy="11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6444000" y="90828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6156360" y="371592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ccff"/>
                </a:gs>
              </a:gsLst>
              <a:lin ang="13500000"/>
            </a:gra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684000" y="3644640"/>
              <a:ext cx="2463480" cy="2414880"/>
            </a:xfrm>
            <a:prstGeom prst="ellips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00cc00"/>
                </a:gs>
              </a:gsLst>
              <a:lin ang="13500000"/>
            </a:gra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3202920" y="4724280"/>
              <a:ext cx="2881080" cy="213372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9966ff"/>
                </a:gs>
              </a:gsLst>
              <a:lin ang="13500000"/>
            </a:gra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00"/>
                </a:gs>
              </a:gsLst>
              <a:lin ang="13500000"/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39"/>
          <p:cNvSpPr txBox="1"/>
          <p:nvPr/>
        </p:nvSpPr>
        <p:spPr>
          <a:xfrm>
            <a:off x="3635280" y="3284640"/>
            <a:ext cx="216072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Основоположник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н а ц и о н а л ь н о й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м  у  з  ы  к  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1"/>
          <p:cNvSpPr txBox="1"/>
          <p:nvPr/>
        </p:nvSpPr>
        <p:spPr>
          <a:xfrm>
            <a:off x="755640" y="1197000"/>
            <a:ext cx="16462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РУС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6732720" y="1413000"/>
            <a:ext cx="1726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ПОЛЬ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1042920" y="4005360"/>
            <a:ext cx="1728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ВЕНГЕР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6443640" y="4149720"/>
            <a:ext cx="18716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НОРВЕЖ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564000" y="5157720"/>
            <a:ext cx="2232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АВСТРИЙ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3276720" y="1125360"/>
            <a:ext cx="28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НСК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755640" y="162864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.И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Глинка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971640" y="4869000"/>
            <a:ext cx="20160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Лис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6659640" y="2205000"/>
            <a:ext cx="1944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Шопен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443640" y="5084640"/>
            <a:ext cx="194472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. Григ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3780000" y="537372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.А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03640" y="404640"/>
            <a:ext cx="290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Ян Сибелиус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324000" y="18900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09" name="Picture 7" descr="Дирижёр"/>
          <p:cNvPicPr/>
          <p:nvPr/>
        </p:nvPicPr>
        <p:blipFill>
          <a:blip r:embed="rId2"/>
          <a:stretch/>
        </p:blipFill>
        <p:spPr>
          <a:xfrm>
            <a:off x="179280" y="5300640"/>
            <a:ext cx="104292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Сибелиус. Грустный вальс.(10 мин).mp3" descr=""/>
          <p:cNvPicPr/>
          <p:nvPr/>
        </p:nvPicPr>
        <p:blipFill>
          <a:blip r:embed="rId3"/>
          <a:stretch/>
        </p:blipFill>
        <p:spPr>
          <a:xfrm>
            <a:off x="1258920" y="5877000"/>
            <a:ext cx="10094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948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8920" y="2774880"/>
            <a:ext cx="8713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 по характер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ечальная, лирическ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адушевная, мелодич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динокая, грустная, задумчив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ечтательная, танцевальная (валь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Ноты"/>
          <p:cNvPicPr/>
          <p:nvPr/>
        </p:nvPicPr>
        <p:blipFill>
          <a:blip r:embed="rId2"/>
          <a:stretch/>
        </p:blipFill>
        <p:spPr>
          <a:xfrm>
            <a:off x="0" y="-171360"/>
            <a:ext cx="3059280" cy="23032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2700360" y="189000"/>
            <a:ext cx="575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1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а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характеристи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6:10:09Z</dcterms:created>
  <dc:creator>Юлькина</dc:creator>
  <dc:description/>
  <dc:language>en-US</dc:language>
  <cp:lastModifiedBy>Коля</cp:lastModifiedBy>
  <dcterms:modified xsi:type="dcterms:W3CDTF">2013-03-20T19:24:14Z</dcterms:modified>
  <cp:revision>27</cp:revision>
  <dc:subject/>
  <dc:title>Слайд 1</dc:title>
</cp:coreProperties>
</file>