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17.jpeg" ContentType="image/jpeg"/>
  <Override PartName="/ppt/media/image12.gif" ContentType="image/gif"/>
  <Override PartName="/ppt/media/image3.png" ContentType="image/png"/>
  <Override PartName="/ppt/media/image51.jpeg" ContentType="image/jpeg"/>
  <Override PartName="/ppt/media/image11.jpeg" ContentType="image/jpeg"/>
  <Override PartName="/ppt/media/image28.jpeg" ContentType="image/jpeg"/>
  <Override PartName="/ppt/media/image1.gif" ContentType="image/gif"/>
  <Override PartName="/ppt/media/image7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14.jpeg" ContentType="image/jpeg"/>
  <Override PartName="/ppt/media/image41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20.jpeg" ContentType="image/jpeg"/>
  <Override PartName="/ppt/media/image64.jpeg" ContentType="image/jpeg"/>
  <Override PartName="/ppt/media/image36.gif" ContentType="image/gif"/>
  <Override PartName="/ppt/media/image61.wmf" ContentType="image/x-wmf"/>
  <Override PartName="/ppt/media/image27.jpeg" ContentType="image/jpeg"/>
  <Override PartName="/ppt/media/image10.jpeg" ContentType="image/jpeg"/>
  <Override PartName="/ppt/media/image39.jpeg" ContentType="image/jpeg"/>
  <Override PartName="/ppt/media/image2.gif" ContentType="image/gif"/>
  <Override PartName="/ppt/media/image40.gif" ContentType="image/gif"/>
  <Override PartName="/ppt/media/image55.jpeg" ContentType="image/jpeg"/>
  <Override PartName="/ppt/media/image13.jpeg" ContentType="image/jpeg"/>
  <Override PartName="/ppt/media/image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gif" ContentType="image/gif"/>
  <Override PartName="/ppt/media/image49.jpeg" ContentType="image/jpeg"/>
  <Override PartName="/ppt/media/image56.jpeg" ContentType="image/jpeg"/>
  <Override PartName="/ppt/media/image50.gif" ContentType="image/gif"/>
  <Override PartName="/ppt/media/image57.jpeg" ContentType="image/jpeg"/>
  <Override PartName="/ppt/media/image60.gif" ContentType="image/gif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77C-50B0-425B-87D9-E385B5A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A0F-ED73-40F8-88A3-8A7A61A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1F8-60FE-473F-9F8F-84968CB0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EEB-F7FC-4913-952C-CF52182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3D57-9F5B-4644-80E7-FEB5DB9A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425-AB09-40EF-B43E-117F33E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14C5-53D9-4B6B-A500-E15D18F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4284-28E6-402B-BBA7-7423BAAD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ECF4-78A0-40C2-9F0E-3720FFB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0896-4FE5-43DC-A824-DCB3924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16B-0E35-47ED-9349-0DE6360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D73-EA59-4E12-91D1-2E822ABF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F94A-6B5C-49C2-AC93-D19E769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31F4-4E51-40E7-B412-A9D95E4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440E-AC93-419E-8496-FA699E5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08C4-7BA4-4F1B-9CA9-FB04B930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FD4E-0DF0-48D9-AD08-D0C3D67C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117-81D9-4A75-B5B2-98C9DB3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76F-0DEA-4712-AAE2-2D8C922A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83C-B165-4AE7-87E6-D9A7970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580-0B61-4035-A57E-E2D4B20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750-13FD-4FF5-97B1-ED3283A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74D-7668-424C-9977-7A03F65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3F6-52F1-4EF6-AFBB-F0BFE15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0530-44D3-4948-9004-25CFE591F44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310-674F-47BD-94D0-C50CFF6625A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1.jpeg"/><Relationship Id="rId5" Type="http://schemas.openxmlformats.org/officeDocument/2006/relationships/image" Target="../media/image64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Тема проекта:</a:t>
            </a:r>
            <a:br>
              <a:rPr sz="43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Учимся по сказке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вторы исследования: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ети разновозрастной группы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ДОУ № 222 ОАО РЖД г.Иркутск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62864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«Лис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Кто живет в лесу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9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381400" cy="1724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943360" cy="235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11640" y="1628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628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Заяц»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80000" y="4149720"/>
            <a:ext cx="1617480" cy="1508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952720" cy="272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2736720" cy="208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300720" y="549360"/>
            <a:ext cx="2627280" cy="2346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671560" cy="2814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660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8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имой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олк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бразуют стаи – так легче охотит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Шерсть спасает Волка от холода, у него отличные нюх и зрение. Они питаются живой пище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логове у Волчицы появляется потомство. Звери кормят малышей, учат их охотиться, спасаться от враг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854360" cy="2706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24000" y="436572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сень наступил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вери ждут зи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олку, братцу сером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кучно одно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прятался куда-т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есь лесной народ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ья же это хата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Кто же в ней живет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96000" y="3284640"/>
            <a:ext cx="3149640" cy="338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934400" y="0"/>
            <a:ext cx="1209600" cy="1628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27640" y="3284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рый Волк бежит по лес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А за ним бежит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нялись у них трубою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ва пушистые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2852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то Зимой холодн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одит злой, голодны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Волк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результате проведенного исследования мы выяснили, что животное живущее в лесу – дикое, у него 4 ноги, тело покрыто шерстью, есть пасть, своих детенышей вскармливает молок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5736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так же смогли разработа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немотаблиц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 диких живот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15200" cy="431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403280" y="18900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читав сказку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«Лиса и Заяц»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мы нарисовали ее главных геро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138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735720" cy="5297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725640" cy="526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слушав сказку, мы решили проверить: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равда ли ледяная избушка Лисы растаяла от теплого солнышка, а Заячья нет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ернувшись с прогулки, мы занесли снег с улицы в группу и через некоторое время заметили, что снег тает, превращаясь в воду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Это произошло так же, как и прошлой весной, с нашим снежным городком, когда весеннее солнце припекло и температура на улице стала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люсовой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из под снега побежали ручьи – это таял снег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от и домик Лисы не смог устоять под лучами весеннего солнышк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35400" cy="2166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3112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пришли к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вод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зимой в лесу холодно, падает снег – ледяная избушка не тает. Пришла весна, ярко засветило солнце, стало тепло, снег и растаял, поэтому Лиса осталась без дом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дерево не боится ни сильного мороза, ни яркого солнца, поэтому избушка Зайца не растая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18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1485720" cy="13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17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289160" cy="13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533760" y="2514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4200" y="2514600"/>
            <a:ext cx="1859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1503360" cy="123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1422360" cy="11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127944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9308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5003640" y="5445000"/>
            <a:ext cx="1198800" cy="11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 flipH="1">
            <a:off x="2410920" y="3357720"/>
            <a:ext cx="100836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57720"/>
            <a:ext cx="100800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58920" y="5084640"/>
            <a:ext cx="10094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63640" y="5013360"/>
            <a:ext cx="10098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27280" y="5084640"/>
            <a:ext cx="9367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5013360"/>
            <a:ext cx="719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989000"/>
            <a:ext cx="1511280" cy="1368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4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ывод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очитав сказку «Лиса и Заяц» и обсудив поведение каждого героя и их сказочные образы мы выяснили, что старшие – сильные должны заботиться о младших: помогать, защищать, доставлять радость, опекать, т.к. младшие нуждаются в заботе и внимании старш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о не смотря на это смелым, решительным и честным может быть любой: как большой, так и маленьк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ждый может испугаться или растеряться в той или иной ситуации, а может и наоборот показать себя смелым и отважны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076640"/>
            <a:ext cx="55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м быть – совсем не просто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е зависит доброта от роста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Только надо, надо добрым быть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в беде друг друга не забыть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351144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Хорошо когда много друзей. Друзья всегда приходят на помощь. Много друзей только у хорошего героя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Герой не тот, кто велик и силен, а тот, кто смел и готов защищать обижен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Быть другом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значит творить добро, давайте возьмемся за руки, чтобы не пропасть по одиночк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12589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1871640" cy="1355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592720" cy="207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716360" y="371628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77080" y="3716280"/>
            <a:ext cx="20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рудолюб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380360" y="4869000"/>
            <a:ext cx="9795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6012000" y="4869000"/>
            <a:ext cx="108108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716360" y="4869000"/>
            <a:ext cx="95112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395280" y="3789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л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32000" y="371628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8000" y="4941720"/>
            <a:ext cx="7923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058920" y="2637000"/>
            <a:ext cx="1081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63700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971640" y="3500280"/>
            <a:ext cx="792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68360" y="3716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429000"/>
            <a:ext cx="648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4653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48360" y="3500280"/>
            <a:ext cx="57600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93080" y="3429000"/>
            <a:ext cx="863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219280" y="4581360"/>
            <a:ext cx="576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508640"/>
            <a:ext cx="86508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6000"/>
                            </p:stCondLst>
                            <p:childTnLst>
                              <p:par>
                                <p:cTn id="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Лесные жители верят только дела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лохие дела – значит,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ра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Хорошие дела –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ру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й никогда не обидит слабого, беззащитного. Добрый не будет грубить другим.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пешите делать добро! Не откладывайте его на потом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олотое правило: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«Не делай другому того, чего ты не хочешь, чтобы сделали тебе.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24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9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ссмотрев картинки к сказкам, мы заметили, что чаще всего на них нарисованы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лк, Медведь, Лиса и Заяц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251080" cy="2847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270648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2455920" cy="2733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805360"/>
            <a:ext cx="9144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решили узнать, почему именно этим зверям русский народ посвятил столько сказо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83400" y="2781360"/>
            <a:ext cx="2460600" cy="29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Во все времена люди ценили диких животных, ведь недаром народ наделил каждого зверя своим качеством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451240" cy="252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86720" y="4359240"/>
            <a:ext cx="2357280" cy="2498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32000" y="623736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Медведь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443700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са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516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трусл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зл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4373640"/>
            <a:ext cx="2592360" cy="248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148360" y="1484280"/>
            <a:ext cx="24271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203560" cy="2519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2171520" cy="263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564000" y="765000"/>
            <a:ext cx="2120760" cy="331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588000" y="476280"/>
            <a:ext cx="22766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вспомнили о том, чем питаются медведи: ягодами, медом, травами – этого зимой нет. Медведи роют берлоги и спят там до самой вес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4724280"/>
            <a:ext cx="2556000" cy="1970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141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к зиме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берлог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рою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Буду спать я в ней зимою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имой люблю поспат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апу вкусную соса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5300640"/>
            <a:ext cx="5148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 Сережа придумал почему медведя назвали МЕДВЕДЕМ: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росто он очень любит мед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1325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702480" y="2565360"/>
            <a:ext cx="2441520" cy="2556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292720" y="1197000"/>
            <a:ext cx="30243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ду, бреду по ельничк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кому валежничк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а медом лазал в улей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 трудился, так устал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люки-пчелы искусал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, и уши, и глаз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е найду себе покоя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 огнем вот так и жже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2379600" cy="17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80000" y="609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ё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ед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519200" cy="187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04000" y="3860640"/>
            <a:ext cx="198612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863800" cy="371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417760" cy="251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659640" y="260280"/>
            <a:ext cx="2316240" cy="309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24000" y="3933720"/>
            <a:ext cx="208584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411280" y="1773360"/>
            <a:ext cx="230508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идит под кустом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Машет хвосто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бедный зайчиш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Глядит из ку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 зайчика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ого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901880" cy="2292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580000" y="2060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лесам, по куста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одит рыжая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щет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норк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где-нибуд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риютиться и усну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5013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ая плутовка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ыжая головк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вост пушистый – красот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зовут ее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Лис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4292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Мы определили, что самая обаятельная и привлекательная – это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Лиса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 Кого хочешь обманет, вокруг пальца обведет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1735200" cy="11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3645000"/>
            <a:ext cx="2772000" cy="205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ывая все это – ей и отчество дали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атрикеевн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156360" y="692280"/>
            <a:ext cx="2779560" cy="2292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389320" cy="2779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79280" y="4284720"/>
            <a:ext cx="3313080" cy="2349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940360" y="4105440"/>
            <a:ext cx="2987640" cy="2531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2584440" cy="3560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95640" y="4508640"/>
            <a:ext cx="1479600" cy="14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836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4581360"/>
            <a:ext cx="36003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то это за зверь лесно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стал как столбик под сосно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 стоит среди трав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ши больше голов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1944720" cy="1682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 время прогулки хотели увиде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йц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в лесу, да Зайцы днем не бегают, они бояться, что их Лиса или Волк увидят. Заберутся под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устик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и спят с закрытыми глазам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27664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Зайцы зимой поедают ветки, кору кустарников и деревьев. Иногда Зайцы посещают сады  и огороды, где лакомятся капустными кочерыжками и корой плодовых деревье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645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бежал к вам из лесо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ящему снежочку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чень я боюсь Лисички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ой рыженькой сестричк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2827440" cy="1963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34136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еще, спасаясь от врагов, Заяц любит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тлят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запутывать следы), и возвращаться на прежнее место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12:27Z</dcterms:created>
  <dc:creator>Елена</dc:creator>
  <dc:description/>
  <dc:language>en-US</dc:language>
  <cp:lastModifiedBy>306</cp:lastModifiedBy>
  <dcterms:modified xsi:type="dcterms:W3CDTF">2006-06-23T10:18:17Z</dcterms:modified>
  <cp:revision>147</cp:revision>
  <dc:subject/>
  <dc:title>Тема проекта: «Учимся по сказке»</dc:title>
</cp:coreProperties>
</file>