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17.jpeg" ContentType="image/jpeg"/>
  <Override PartName="/ppt/media/image12.gif" ContentType="image/gif"/>
  <Override PartName="/ppt/media/image3.png" ContentType="image/png"/>
  <Override PartName="/ppt/media/image51.jpeg" ContentType="image/jpeg"/>
  <Override PartName="/ppt/media/image11.jpeg" ContentType="image/jpeg"/>
  <Override PartName="/ppt/media/image28.jpeg" ContentType="image/jpeg"/>
  <Override PartName="/ppt/media/image1.gif" ContentType="image/gif"/>
  <Override PartName="/ppt/media/image7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14.jpeg" ContentType="image/jpeg"/>
  <Override PartName="/ppt/media/image41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20.jpeg" ContentType="image/jpeg"/>
  <Override PartName="/ppt/media/image64.jpeg" ContentType="image/jpeg"/>
  <Override PartName="/ppt/media/image36.gif" ContentType="image/gif"/>
  <Override PartName="/ppt/media/image61.wmf" ContentType="image/x-wmf"/>
  <Override PartName="/ppt/media/image27.jpeg" ContentType="image/jpeg"/>
  <Override PartName="/ppt/media/image10.jpeg" ContentType="image/jpeg"/>
  <Override PartName="/ppt/media/image39.jpeg" ContentType="image/jpeg"/>
  <Override PartName="/ppt/media/image2.gif" ContentType="image/gif"/>
  <Override PartName="/ppt/media/image40.gif" ContentType="image/gif"/>
  <Override PartName="/ppt/media/image55.jpeg" ContentType="image/jpeg"/>
  <Override PartName="/ppt/media/image13.jpeg" ContentType="image/jpeg"/>
  <Override PartName="/ppt/media/image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38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gif" ContentType="image/gif"/>
  <Override PartName="/ppt/media/image49.jpeg" ContentType="image/jpeg"/>
  <Override PartName="/ppt/media/image56.jpeg" ContentType="image/jpeg"/>
  <Override PartName="/ppt/media/image50.gif" ContentType="image/gif"/>
  <Override PartName="/ppt/media/image57.jpeg" ContentType="image/jpeg"/>
  <Override PartName="/ppt/media/image60.gif" ContentType="image/gif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C25-B604-4D8B-AC04-97B79144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866-4394-4702-9B57-570C060D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8C7-C563-42BE-9CA3-1276EF8A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063-CD8E-48EF-B25B-C923CC2F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4DAD-E32F-4838-BD14-8CCB4542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540-A626-4133-904D-A12ACFFF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F3B2-0B2A-4AC7-9ACC-8C243F61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6F24-11CA-4D1B-A15B-F691FA2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D81-0593-44C4-81A8-2CD25D94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D043-BC94-4D4F-A4E8-DB17A71B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5C0-4EB8-4724-8794-D5AE450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1EB-E415-43F8-A61E-4574CE95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56F-1F99-4D57-8591-CD07813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1512-D42C-49B8-B9D0-340F293D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DE9C-829E-4DAD-B406-3232F56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0D11-AF26-4831-B603-7AE93674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E310-51E8-4F66-B427-51EA8268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206-451D-4B98-BA3C-F37B47FF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E94-0376-4630-ABE7-356CE23A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2D1-29C4-41E8-8B68-5CF5ADD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C00-7558-4907-9298-CC769A0E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EA4-30EE-478B-9590-9A5C2794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106-E508-4121-9392-21E7730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C54-9100-4B3A-87F1-A11DAA3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76D0-48A6-4B64-BC64-DE506A09DE9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58E-DD3B-4404-853A-6EECCED4CFD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1.jpeg"/><Relationship Id="rId5" Type="http://schemas.openxmlformats.org/officeDocument/2006/relationships/image" Target="../media/image64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Тема проекта:</a:t>
            </a:r>
            <a:br>
              <a:rPr sz="4300"/>
            </a:b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«Учимся по сказке»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вторы исследования: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дети разновозрастной группы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ДОУ № 222 ОАО РЖД г.Иркутск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62864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«Лис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Кто живет в лесу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292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381400" cy="1724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943360" cy="235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11640" y="1628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628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Заяц»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80000" y="4149720"/>
            <a:ext cx="1617480" cy="1508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940360" y="3860640"/>
            <a:ext cx="2952720" cy="27212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50920" y="620640"/>
            <a:ext cx="2736720" cy="2087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300720" y="549360"/>
            <a:ext cx="2627280" cy="2346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2671560" cy="2814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3276720" y="189000"/>
            <a:ext cx="26604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812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имой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олки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образуют стаи – так легче охотит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Шерсть спасает Волка от холода, у него отличные нюх и зрение. Они питаются живой пище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логове у Волчицы появляется потомство. Звери кормят малышей, учат их охотиться, спасаться от враг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854360" cy="2706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124000" y="436572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сень наступил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вери ждут зи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олку, братцу сером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кучно одном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прятался куда-т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есь лесной народ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Чья же это хата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Кто же в ней живет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96000" y="3284640"/>
            <a:ext cx="3149640" cy="3384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934400" y="0"/>
            <a:ext cx="1209600" cy="1628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27640" y="328464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ерый Волк бежит по лес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А за ним бежит Лис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нялись у них трубою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ва пушистые хво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2852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Кто Зимой холодн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Ходит злой, голодный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Волк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 результате проведенного исследования мы выяснили, что животное живущее в лесу – дикое, у него 4 ноги, тело покрыто шерстью, есть пасть, своих детенышей вскармливает молок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5736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так же смогли разработать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мнемотаблиц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о диких животны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15200" cy="431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403280" y="18900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очитав сказку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«Лиса и Заяц»,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мы нарисовали ее главных геро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1138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735720" cy="5297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3725640" cy="526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слушав сказку, мы решили проверить: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правда ли ледяная избушка Лисы растаяла от теплого солнышка, а Заячья нет?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47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ернувшись с прогулки, мы занесли снег с улицы в группу и через некоторое время заметили, что снег тает, превращаясь в воду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Это произошло так же, как и прошлой весной, с нашим снежным городком, когда весеннее солнце припекло и температура на улице стала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люсовой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из под снега побежали ручьи – это таял снег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от и домик Лисы не смог устоять под лучами весеннего солнышк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35400" cy="2166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31128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пришли к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ыводу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: зимой в лесу холодно, падает снег – ледяная избушка не тает. Пришла весна, ярко засветило солнце, стало тепло, снег и растаял, поэтому Лиса осталась без дом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А дерево не боится ни сильного мороза, ни яркого солнца, поэтому избушка Зайца не растая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18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1485720" cy="13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17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289160" cy="13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533760" y="25146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24200" y="2514600"/>
            <a:ext cx="1859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1503360" cy="123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1422360" cy="11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5516640"/>
            <a:ext cx="127944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093080" y="5516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5003640" y="5445000"/>
            <a:ext cx="1198800" cy="119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"/>
          <p:cNvSpPr/>
          <p:nvPr/>
        </p:nvSpPr>
        <p:spPr>
          <a:xfrm flipH="1">
            <a:off x="2410920" y="3357720"/>
            <a:ext cx="100836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3357720"/>
            <a:ext cx="100800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258920" y="5084640"/>
            <a:ext cx="100944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63640" y="5013360"/>
            <a:ext cx="10098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27280" y="5084640"/>
            <a:ext cx="9367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5013360"/>
            <a:ext cx="719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1989000"/>
            <a:ext cx="1511280" cy="1368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4" nodeType="after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4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Вывод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очитав сказку «Лиса и Заяц» и обсудив поведение каждого героя и их сказочные образы мы выяснили, что старшие – сильные должны заботиться о младших: помогать, защищать, доставлять радость, опекать, т.к. младшие нуждаются в заботе и внимании старш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Но не смотря на это смелым, решительным и честным может быть любой: как большой, так и маленьк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Каждый может испугаться или растеряться в той или иной ситуации, а может и наоборот показать себя смелым и отважны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4076640"/>
            <a:ext cx="55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брым быть – совсем не просто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е зависит доброта от роста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Только надо, надо добрым быть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в беде друг друга не забыть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351144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Хорошо когда много друзей. Друзья всегда приходят на помощь. Много друзей только у хорошего героя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Герой не тот, кто велик и силен, а тот, кто смел и готов защищать обиженны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Быть другом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– значит творить добро, давайте возьмемся за руки, чтобы не пропасть по одиночк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851280" y="1341360"/>
            <a:ext cx="125892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1871640" cy="1355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592720" cy="2071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716360" y="3716280"/>
            <a:ext cx="11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обр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2100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з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77080" y="3716280"/>
            <a:ext cx="205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рудолюбив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7380360" y="4869000"/>
            <a:ext cx="9795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6012000" y="4869000"/>
            <a:ext cx="1081080" cy="10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716360" y="4869000"/>
            <a:ext cx="95112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5" name=""/>
          <p:cNvSpPr/>
          <p:nvPr/>
        </p:nvSpPr>
        <p:spPr>
          <a:xfrm>
            <a:off x="395280" y="378936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л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32000" y="371628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Хитр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3640" y="4221000"/>
            <a:ext cx="1081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з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8000" y="4941720"/>
            <a:ext cx="7923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058920" y="2637000"/>
            <a:ext cx="1081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9280" y="263700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971640" y="3500280"/>
            <a:ext cx="792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68360" y="371628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3429000"/>
            <a:ext cx="6480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4653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148360" y="3500280"/>
            <a:ext cx="57600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93080" y="3429000"/>
            <a:ext cx="863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219280" y="4581360"/>
            <a:ext cx="576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4508640"/>
            <a:ext cx="86508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364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40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46000"/>
                            </p:stCondLst>
                            <p:childTnLst>
                              <p:par>
                                <p:cTn id="7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Лесные жители верят только дела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лохие дела – значит,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раг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Хорошие дела –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руг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обрый никогда не обидит слабого, беззащитного. Добрый не будет грубить другим.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пешите делать добро! Не откладывайте его на потом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Золотое правило: 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«Не делай другому того, чего ты не хочешь, чтобы сделали тебе.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24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8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9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ссмотрев картинки к сказкам, мы заметили, что чаще всего на них нарисованы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лк, Медведь, Лиса и Заяц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251080" cy="2847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270648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2455920" cy="2733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5805360"/>
            <a:ext cx="9144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 решили узнать, почему именно этим зверям русский народ посвятил столько сказо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83400" y="2781360"/>
            <a:ext cx="2460600" cy="29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Во все времена люди ценили диких животных, ведь недаром народ наделил каждого зверя своим качеством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451240" cy="2521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786720" y="4359240"/>
            <a:ext cx="2357280" cy="2498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132000" y="623736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Медведь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добр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443700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са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хитр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516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Заяц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трусливы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Волк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– злой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4373640"/>
            <a:ext cx="2592360" cy="248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148360" y="1484280"/>
            <a:ext cx="24271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963800" cy="25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203560" cy="2519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516720" y="4005360"/>
            <a:ext cx="2171520" cy="2636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564000" y="765000"/>
            <a:ext cx="2120760" cy="331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588000" y="476280"/>
            <a:ext cx="227664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вспомнили о том, чем питаются медведи: ягодами, медом, травами – этого зимой нет. Медведи роют берлоги и спят там до самой весн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4724280"/>
            <a:ext cx="2556000" cy="1970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141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к зиме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берлогу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рою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Буду спать я в ней зимою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зимой люблю поспать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апу вкусную соса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5300640"/>
            <a:ext cx="51483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 Сережа придумал почему медведя назвали МЕДВЕДЕМ: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Просто он очень любит мед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1325520" cy="1871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702480" y="2565360"/>
            <a:ext cx="2441520" cy="2556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292720" y="1197000"/>
            <a:ext cx="30243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ду, бреду по ельничку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хрусткому валежничк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за медом лазал в улей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Так трудился, так устал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Злюки-пчелы искусал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ос, и уши, и глаз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е найду себе покоя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ос огнем вот так и жжет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2637000"/>
            <a:ext cx="2379600" cy="17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80000" y="6093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Мё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ед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519200" cy="187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04000" y="3860640"/>
            <a:ext cx="1986120" cy="2781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863800" cy="3713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417760" cy="251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659640" y="260280"/>
            <a:ext cx="2316240" cy="309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24000" y="3933720"/>
            <a:ext cx="208584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411280" y="1773360"/>
            <a:ext cx="230508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исичка-сестри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идит под кустом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Лисичка-сестри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Машет хвосто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А бедный зайчиш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Глядит из ку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 зайчика не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Такого хвос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901880" cy="2292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580000" y="20606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лесам, по кустам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одит рыжая Лис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щет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норку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где-нибудь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риютиться и усну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501336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итрая плутовка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ыжая головка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вост пушистый – красота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А зовут ее…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Лиса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429264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Мы определили, что самая обаятельная и привлекательная – это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Лиса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 Кого хочешь обманет, вокруг пальца обведет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492360" y="5300640"/>
            <a:ext cx="1735200" cy="115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867280" y="3645000"/>
            <a:ext cx="2772000" cy="205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читывая все это – ей и отчество дали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атрикеевн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156360" y="692280"/>
            <a:ext cx="2779560" cy="2292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389320" cy="2779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79280" y="4284720"/>
            <a:ext cx="3313080" cy="2349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5940360" y="4105440"/>
            <a:ext cx="2987640" cy="2531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276720" y="260280"/>
            <a:ext cx="2584440" cy="3560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995640" y="4508640"/>
            <a:ext cx="1479600" cy="147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836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4581360"/>
            <a:ext cx="36003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Что это за зверь лесной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Встал как столбик под сосно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И стоит среди трав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Уши больше голов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Заяц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5013360"/>
            <a:ext cx="1944720" cy="1682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о время прогулки хотели увидеть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йц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в лесу, да Зайцы днем не бегают, они бояться, что их Лиса или Волк увидят. Заберутся под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кустик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и спят с закрытыми глазам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27664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Зайцы зимой поедают ветки, кору кустарников и деревьев. Иногда Зайцы посещают сады  и огороды, где лакомятся капустными кочерыжками и корой плодовых деревье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3645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Я бежал к вам из лесочк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 хрустящему снежочку!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чень я боюсь Лисички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Хитрой рыженькой сестричк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1395360" cy="160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2827440" cy="1963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34136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 еще, спасаясь от врагов, Заяц любит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тлят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запутывать следы), и возвращаться на прежнее место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6764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3794"/>
                </a:moveTo>
                <a:lnTo>
                  <a:pt x="20074" y="10800"/>
                </a:lnTo>
                <a:lnTo>
                  <a:pt x="6061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9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12:27Z</dcterms:created>
  <dc:creator>Елена</dc:creator>
  <dc:description/>
  <dc:language>en-US</dc:language>
  <cp:lastModifiedBy>306</cp:lastModifiedBy>
  <dcterms:modified xsi:type="dcterms:W3CDTF">2006-06-23T10:18:17Z</dcterms:modified>
  <cp:revision>147</cp:revision>
  <dc:subject/>
  <dc:title>Тема проекта: «Учимся по сказке»</dc:title>
</cp:coreProperties>
</file>