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17.jpeg" ContentType="image/jpeg"/>
  <Override PartName="/ppt/media/image12.gif" ContentType="image/gif"/>
  <Override PartName="/ppt/media/image3.png" ContentType="image/png"/>
  <Override PartName="/ppt/media/image51.jpeg" ContentType="image/jpeg"/>
  <Override PartName="/ppt/media/image11.jpeg" ContentType="image/jpeg"/>
  <Override PartName="/ppt/media/image28.jpeg" ContentType="image/jpeg"/>
  <Override PartName="/ppt/media/image1.gif" ContentType="image/gif"/>
  <Override PartName="/ppt/media/image7.jpeg" ContentType="image/jpeg"/>
  <Override PartName="/ppt/media/image16.jpeg" ContentType="image/jpeg"/>
  <Override PartName="/ppt/media/image4.jpeg" ContentType="image/jpeg"/>
  <Override PartName="/ppt/media/image25.jpeg" ContentType="image/jpeg"/>
  <Override PartName="/ppt/media/image22.gif" ContentType="image/gif"/>
  <Override PartName="/ppt/media/image18.jpeg" ContentType="image/jpeg"/>
  <Override PartName="/ppt/media/image65.jpeg" ContentType="image/jpeg"/>
  <Override PartName="/ppt/media/image8.jpeg" ContentType="image/jpeg"/>
  <Override PartName="/ppt/media/image21.jpeg" ContentType="image/jpeg"/>
  <Override PartName="/ppt/media/image14.jpeg" ContentType="image/jpeg"/>
  <Override PartName="/ppt/media/image41.jpeg" ContentType="image/jpeg"/>
  <Override PartName="/ppt/media/image19.gif" ContentType="image/gif"/>
  <Override PartName="/ppt/media/image29.gif" ContentType="image/gif"/>
  <Override PartName="/ppt/media/image15.jpeg" ContentType="image/jpeg"/>
  <Override PartName="/ppt/media/image20.jpeg" ContentType="image/jpeg"/>
  <Override PartName="/ppt/media/image64.jpeg" ContentType="image/jpeg"/>
  <Override PartName="/ppt/media/image36.gif" ContentType="image/gif"/>
  <Override PartName="/ppt/media/image61.wmf" ContentType="image/x-wmf"/>
  <Override PartName="/ppt/media/image27.jpeg" ContentType="image/jpeg"/>
  <Override PartName="/ppt/media/image10.jpeg" ContentType="image/jpeg"/>
  <Override PartName="/ppt/media/image39.jpeg" ContentType="image/jpeg"/>
  <Override PartName="/ppt/media/image2.gif" ContentType="image/gif"/>
  <Override PartName="/ppt/media/image40.gif" ContentType="image/gif"/>
  <Override PartName="/ppt/media/image55.jpeg" ContentType="image/jpeg"/>
  <Override PartName="/ppt/media/image13.jpeg" ContentType="image/jpeg"/>
  <Override PartName="/ppt/media/image9.jpeg" ContentType="image/jpeg"/>
  <Override PartName="/ppt/media/image2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7.jpeg" ContentType="image/jpeg"/>
  <Override PartName="/ppt/media/image38.gif" ContentType="image/gif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gif" ContentType="image/gif"/>
  <Override PartName="/ppt/media/image49.jpeg" ContentType="image/jpeg"/>
  <Override PartName="/ppt/media/image56.jpeg" ContentType="image/jpeg"/>
  <Override PartName="/ppt/media/image50.gif" ContentType="image/gif"/>
  <Override PartName="/ppt/media/image57.jpeg" ContentType="image/jpeg"/>
  <Override PartName="/ppt/media/image60.gif" ContentType="image/gif"/>
  <Override PartName="/ppt/media/image5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39D2-DCB6-44D9-98FD-B0DDF28E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FD1-393D-4BDA-B1FE-7DA42AB9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12A5-D52A-47AF-96D3-4C9E201C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B6A-433D-4F2B-90B6-911BAF33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51BF-2159-4049-8874-77F300B3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4A0C-19F9-418C-B1E9-4B0283B9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F546-84E8-47F9-8A51-479BB48F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24B8-27D0-4D6E-B80D-E3BA2C81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A3FC-A22E-4EFF-B66B-01C28BA0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0927-5FD6-4493-B3CE-D8E342DA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32D2-C652-4908-B656-9A9688AC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08D-A6B2-4DAD-B9DD-BDCE942E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C19C-F4DF-49C8-A5B0-57643D8A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95EA-6203-4613-B4BC-329A2901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D9F7-C270-45D3-B066-6AD31275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A62E-D840-4536-B943-EEE6D966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9C60-A9AC-4068-9256-5EFD6C08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5E52-8A96-4F6B-A79D-76245C1C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4290-04C1-4B4D-BCDD-20AA87CA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320D-E246-4994-A07C-2AFEA06A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C20B-8B9C-44B1-9779-96603106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F013-CC43-41F7-A072-0C66996E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F5F-E384-425A-A1EB-50B08CF8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CA9B-BD8A-4A04-A921-9F0C9D4F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5EA3-7FCC-4674-B5CC-608BFAB66827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54F2-0C8B-4F6D-95B2-4302211414E6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gif"/><Relationship Id="rId7" Type="http://schemas.openxmlformats.org/officeDocument/2006/relationships/image" Target="../media/image60.gif"/><Relationship Id="rId8" Type="http://schemas.openxmlformats.org/officeDocument/2006/relationships/image" Target="../media/image61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11.jpeg"/><Relationship Id="rId5" Type="http://schemas.openxmlformats.org/officeDocument/2006/relationships/image" Target="../media/image64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Тема проекта:</a:t>
            </a:r>
            <a:br>
              <a:rPr sz="4300"/>
            </a:b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«Учимся по сказке»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10920" y="5013360"/>
            <a:ext cx="79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вторы исследования: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дети разновозрастной группы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НДОУ № 222 ОАО РЖД г.Иркутска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1628640"/>
            <a:ext cx="18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«Лиса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3933720"/>
            <a:ext cx="55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Кто живет в лесу?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11640" y="292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2381400" cy="1724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2943360" cy="2352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211640" y="162864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162864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Заяц»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780000" y="4149720"/>
            <a:ext cx="1617480" cy="15080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940360" y="3860640"/>
            <a:ext cx="2952720" cy="27212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250920" y="620640"/>
            <a:ext cx="2736720" cy="2087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6300720" y="549360"/>
            <a:ext cx="2627280" cy="2346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324000" y="3860640"/>
            <a:ext cx="2671560" cy="2814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3276720" y="189000"/>
            <a:ext cx="266040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9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7812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Зимой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Волки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образуют стаи – так легче охотитьс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Шерсть спасает Волка от холода, у него отличные нюх и зрение. Они питаются живой пищей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 логове у Волчицы появляется потомство. Звери кормят малышей, учат их охотиться, спасаться от враг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1854360" cy="27068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124000" y="4365720"/>
            <a:ext cx="26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Осень наступила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Звери ждут зиму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Волку, братцу серому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Скучно одному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Спрятался куда-то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Весь лесной народ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Чья же это хата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Кто же в ней живет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796000" y="3284640"/>
            <a:ext cx="3149640" cy="3384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7934400" y="0"/>
            <a:ext cx="1209600" cy="16286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427640" y="328464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ерый Волк бежит по лесу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А за ним бежит Лис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днялись у них трубою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ва пушистые хвост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285264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то Зимой холодно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Ходит злой, голодный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(Волк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956720" y="6381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56764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20074" y="10800"/>
                </a:lnTo>
                <a:lnTo>
                  <a:pt x="6061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0"/>
                            </p:stCondLst>
                            <p:childTnLst>
                              <p:par>
                                <p:cTn id="4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7000"/>
                            </p:stCondLst>
                            <p:childTnLst>
                              <p:par>
                                <p:cTn id="4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90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 результате проведенного исследования мы выяснили, что животное живущее в лесу – дикое, у него 4 ноги, тело покрыто шерстью, есть пасть, своих детенышей вскармливает молоко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55736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 так же смогли разработать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мнемотаблицу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о диких животных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4615200" cy="431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403280" y="189000"/>
            <a:ext cx="7740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рочитав сказку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«Лиса и Заяц»,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мы нарисовали ее главных герое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11383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735720" cy="52977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3725640" cy="526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9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ослушав сказку, мы решили проверить: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правда ли ледяная избушка Лисы растаяла от теплого солнышка, а Заячья нет?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4797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Вернувшись с прогулки, мы занесли снег с улицы в группу и через некоторое время заметили, что снег тает, превращаясь в воду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Это произошло так же, как и прошлой весной, с нашим снежным городком, когда весеннее солнце припекло и температура на улице стала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плюсовой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из под снега побежали ручьи – это таял снег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Вот и домик Лисы не смог устоять под лучами весеннего солнышка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335400" cy="21668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31128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0"/>
                            </p:stCondLst>
                            <p:childTnLst>
                              <p:par>
                                <p:cTn id="5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ы пришли к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выводу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: зимой в лесу холодно, падает снег – ледяная избушка не тает. Пришла весна, ярко засветило солнце, стало тепло, снег и растаял, поэтому Лиса осталась без дом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4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 дерево не боится ни сильного мороза, ни яркого солнца, поэтому избушка Зайца не растаял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2" name="18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1485720" cy="13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3" name="17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1289160" cy="13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4" name=""/>
          <p:cNvSpPr/>
          <p:nvPr/>
        </p:nvSpPr>
        <p:spPr>
          <a:xfrm>
            <a:off x="3533760" y="25146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24200" y="2514600"/>
            <a:ext cx="1859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71640" y="21337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692360" y="3860640"/>
            <a:ext cx="1503360" cy="123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5940360" y="3860640"/>
            <a:ext cx="1422360" cy="115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611280" y="5516640"/>
            <a:ext cx="1279440" cy="109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7093080" y="551664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916360" y="551664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5003640" y="5445000"/>
            <a:ext cx="1198800" cy="119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3" name=""/>
          <p:cNvSpPr/>
          <p:nvPr/>
        </p:nvSpPr>
        <p:spPr>
          <a:xfrm flipH="1">
            <a:off x="2410920" y="3357720"/>
            <a:ext cx="1008360" cy="50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51640" y="3357720"/>
            <a:ext cx="1008000" cy="50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258920" y="5084640"/>
            <a:ext cx="100944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63640" y="5013360"/>
            <a:ext cx="100980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27280" y="5084640"/>
            <a:ext cx="93672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48360" y="5013360"/>
            <a:ext cx="719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00360" y="1989000"/>
            <a:ext cx="1511280" cy="1368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1000"/>
                            </p:stCondLst>
                            <p:childTnLst>
                              <p:par>
                                <p:cTn id="604" nodeType="afterEffect" fill="hold" presetClass="entr" presetID="9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7" dur="1" fill="hold">
                                    <p:stCondLst>
                                      <p:cond evt="end">
                                        <p:tn val="604"/>
                                      </p:cond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Вывод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Прочитав сказку «Лиса и Заяц» и обсудив поведение каждого героя и их сказочные образы мы выяснили, что старшие – сильные должны заботиться о младших: помогать, защищать, доставлять радость, опекать, т.к. младшие нуждаются в заботе и внимании старших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Но не смотря на это смелым, решительным и честным может быть любой: как большой, так и маленький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Каждый может испугаться или растеряться в той или иной ситуации, а может и наоборот показать себя смелым и отважным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3564000" y="4076640"/>
            <a:ext cx="55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Добрым быть – совсем не просто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Не зависит доброта от роста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Только надо, надо добрым быть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 в беде друг друга не забыть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3511440" cy="29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2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0"/>
                            </p:stCondLst>
                            <p:childTnLst>
                              <p:par>
                                <p:cTn id="6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6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7000"/>
                            </p:stCondLst>
                            <p:childTnLst>
                              <p:par>
                                <p:cTn id="6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0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900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Хорошо когда много друзей. Друзья всегда приходят на помощь. Много друзей только у хорошего героя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Герой не тот, кто велик и силен, а тот, кто смел и готов защищать обиженных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Быть другом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– значит творить добро, давайте возьмемся за руки, чтобы не пропасть по одиночке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851280" y="1341360"/>
            <a:ext cx="125892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476360" y="2349360"/>
            <a:ext cx="1871640" cy="13557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2592720" cy="2071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716360" y="3716280"/>
            <a:ext cx="11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обры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422100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рузь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77080" y="3716280"/>
            <a:ext cx="205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Трудолюбивы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7380360" y="4869000"/>
            <a:ext cx="97956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6012000" y="4869000"/>
            <a:ext cx="1081080" cy="101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>
            <a:off x="4716360" y="4869000"/>
            <a:ext cx="95112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5" name=""/>
          <p:cNvSpPr/>
          <p:nvPr/>
        </p:nvSpPr>
        <p:spPr>
          <a:xfrm>
            <a:off x="395280" y="378936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ла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32000" y="371628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Хитра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63640" y="422100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рузь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08000" y="4941720"/>
            <a:ext cx="79236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3058920" y="2637000"/>
            <a:ext cx="10810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59280" y="2637000"/>
            <a:ext cx="576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971640" y="3500280"/>
            <a:ext cx="79200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68360" y="371628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32000" y="3429000"/>
            <a:ext cx="64800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46530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148360" y="3500280"/>
            <a:ext cx="57600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093080" y="3429000"/>
            <a:ext cx="8636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3716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219280" y="4581360"/>
            <a:ext cx="57636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20000" y="4508640"/>
            <a:ext cx="86508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43640" y="4581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6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60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300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3000"/>
                            </p:stCondLst>
                            <p:childTnLst>
                              <p:par>
                                <p:cTn id="70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8000"/>
                            </p:stCondLst>
                            <p:childTnLst>
                              <p:par>
                                <p:cTn id="7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10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3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3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400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3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7000"/>
                            </p:stCondLst>
                            <p:childTnLst>
                              <p:par>
                                <p:cTn id="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00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430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6000"/>
                            </p:stCondLst>
                            <p:childTnLst>
                              <p:par>
                                <p:cTn id="7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Лесные жители верят только делам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Плохие дела – значит,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враг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Хорошие дела –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друг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4365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Добрый никогда не обидит слабого, беззащитного. Добрый не будет грубить другим.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пешите делать добро! Не откладывайте его на потом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Золотое правило: 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«Не делай другому того, чего ты не хочешь, чтобы сделали тебе.»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69246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0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8" dur="2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000"/>
                            </p:stCondLst>
                            <p:childTnLst>
                              <p:par>
                                <p:cTn id="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9000"/>
                            </p:stCondLst>
                            <p:childTnLst>
                              <p:par>
                                <p:cTn id="7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ассмотрев картинки к сказкам, мы заметили, что чаще всего на них нарисованы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олк, Медведь, Лиса и Заяц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2251080" cy="2847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2706480" cy="2781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268360" y="3141720"/>
            <a:ext cx="2455920" cy="2733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5805360"/>
            <a:ext cx="9144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И решили узнать, почему именно этим зверям русский народ посвятил столько сказок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683400" y="2781360"/>
            <a:ext cx="2460600" cy="299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Во все времена люди ценили диких животных, ведь недаром народ наделил каждого зверя своим качеством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2451240" cy="2521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786720" y="4359240"/>
            <a:ext cx="2357280" cy="2498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132000" y="6237360"/>
            <a:ext cx="280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Verdana"/>
                <a:hlinkClick r:id="rId3" action="ppaction://hlinksldjump"/>
              </a:rPr>
              <a:t>Медведь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– добры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4437000"/>
            <a:ext cx="216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Verdana"/>
                <a:hlinkClick r:id="rId4" action="ppaction://hlinksldjump"/>
              </a:rPr>
              <a:t>Лиса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– хитра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55166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Заяц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– трусливы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08360" y="494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Волк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– зло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0" y="4373640"/>
            <a:ext cx="2592360" cy="2484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148360" y="1484280"/>
            <a:ext cx="2427120" cy="24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851280" y="4724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963800" cy="259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95280" y="4005360"/>
            <a:ext cx="2203560" cy="25192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6516720" y="4005360"/>
            <a:ext cx="2171520" cy="2636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3564000" y="765000"/>
            <a:ext cx="2120760" cy="3311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6588000" y="476280"/>
            <a:ext cx="227664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ы вспомнили о том, чем питаются медведи: ягодами, медом, травами – этого зимой нет. Медведи роют берлоги и спят там до самой весн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58920" y="4724280"/>
            <a:ext cx="2556000" cy="1970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79280" y="141300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Я к зиме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берлогу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рою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Буду спать я в ней зимою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Я зимой люблю поспать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Лапу вкусную сосать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95640" y="5300640"/>
            <a:ext cx="514836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А Сережа придумал почему медведя назвали МЕДВЕДЕМ: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Просто он очень любит мед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708360" y="1413000"/>
            <a:ext cx="1325520" cy="1871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702480" y="2565360"/>
            <a:ext cx="2441520" cy="2556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292720" y="1197000"/>
            <a:ext cx="3024360" cy="26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Иду, бреду по ельничку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По хрусткому валежничку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Я за медом лазал в улей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Так трудился, так устал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Злюки-пчелы искусал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ос, и уши, и глаз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е найду себе покоя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ос огнем вот так и жжет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250920" y="2637000"/>
            <a:ext cx="2379600" cy="1704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580000" y="609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Мёд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59640" y="6093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вед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956720" y="6381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6764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20074" y="10800"/>
                </a:lnTo>
                <a:lnTo>
                  <a:pt x="6061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924360" y="4508640"/>
            <a:ext cx="1519200" cy="1873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804000" y="3860640"/>
            <a:ext cx="1986120" cy="2781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203640" y="260280"/>
            <a:ext cx="2863800" cy="3713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179280" y="333360"/>
            <a:ext cx="2417760" cy="2519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6659640" y="260280"/>
            <a:ext cx="2316240" cy="3095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324000" y="3933720"/>
            <a:ext cx="2085840" cy="27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9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411280" y="1773360"/>
            <a:ext cx="2305080" cy="26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Лисичка-сестричк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Сидит под кустом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Лисичка-сестричк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Машет хвостом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А бедный зайчишк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Глядит из куст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У зайчика не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Такого хвост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1901880" cy="2292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580000" y="206064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По лесам, по кустам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Ходит рыжая Лис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Ищет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норку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где-нибудь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Приютиться и уснуть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5013360"/>
            <a:ext cx="30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Хитрая плутовка,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Рыжая головка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Хвост пушистый – красота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А зовут ее…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(Лиса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4292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Мы определили, что самая обаятельная и привлекательная – это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Лиса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 Кого хочешь обманет, вокруг пальца обведет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492360" y="5300640"/>
            <a:ext cx="1735200" cy="1157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867280" y="3645000"/>
            <a:ext cx="2772000" cy="2058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119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Учитывая все это – ей и отчество дали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Патрикеевна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56764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20074" y="10800"/>
                </a:lnTo>
                <a:lnTo>
                  <a:pt x="6061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56720" y="6381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156360" y="692280"/>
            <a:ext cx="2779560" cy="2292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2389320" cy="2779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79280" y="4284720"/>
            <a:ext cx="3313080" cy="2349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5940360" y="4105440"/>
            <a:ext cx="2987640" cy="25318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3276720" y="260280"/>
            <a:ext cx="2584440" cy="3560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3995640" y="4508640"/>
            <a:ext cx="1479600" cy="147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9280" y="83664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92720" y="4581360"/>
            <a:ext cx="360036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Что это за зверь лесной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Встал как столбик под сосной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И стоит среди травы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Уши больше головы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(Заяц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55640" y="5013360"/>
            <a:ext cx="1944720" cy="1682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о время прогулки хотели увидеть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Зайца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в лесу, да Зайцы днем не бегают, они бояться, что их Лиса или Волк увидят. Заберутся под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кустик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и спят с закрытыми глазами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2276640"/>
            <a:ext cx="57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Зайцы зимой поедают ветки, кору кустарников и деревьев. Иногда Зайцы посещают сады  и огороды, где лакомятся капустными кочерыжками и корой плодовых деревьев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364500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Я бежал к вам из лесочк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По хрустящему снежочку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Очень я боюсь Лисички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Хитрой рыженькой сестричк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635280" y="4005360"/>
            <a:ext cx="1395360" cy="1603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940360" y="2492280"/>
            <a:ext cx="2827440" cy="1963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1341360"/>
            <a:ext cx="91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 еще, спасаясь от врагов, Заяц любит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етлять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(запутывать следы), и возвращаться на прежнее место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56764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20074" y="10800"/>
                </a:lnTo>
                <a:lnTo>
                  <a:pt x="6061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956720" y="6381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0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900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1:12:27Z</dcterms:created>
  <dc:creator>Елена</dc:creator>
  <dc:description/>
  <dc:language>en-US</dc:language>
  <cp:lastModifiedBy>306</cp:lastModifiedBy>
  <dcterms:modified xsi:type="dcterms:W3CDTF">2006-06-23T10:18:17Z</dcterms:modified>
  <cp:revision>147</cp:revision>
  <dc:subject/>
  <dc:title>Тема проекта: «Учимся по сказке»</dc:title>
</cp:coreProperties>
</file>