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51894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BFF-3357-4635-BCB9-7C13B23A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96D-0FFD-47A4-BA0C-4B9866F8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E609-ED3D-4DCA-A748-E49002CF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258F-F656-48C1-8ECE-F88C4F57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E807-EA79-4039-B64A-63F28477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51894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BFF1-6B3F-4F9E-A11F-FEB33DC8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ED67-34F7-40D0-83C7-3CC0439F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F55-B34B-4D8B-9A24-28A43DDF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BE02-3006-437D-883C-91757485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9256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F73-E3F4-4541-B40A-A02055A1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62BF-6B2D-425D-AB78-BA106112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9256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279-A01F-4C1D-9EC4-1EAAC999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51894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9256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9256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K:\ProPowerPoint\Шаблоны\В работе\Компьютер\KompSlid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Box 6"/>
          <p:cNvSpPr/>
          <p:nvPr/>
        </p:nvSpPr>
        <p:spPr>
          <a:xfrm>
            <a:off x="-18720" y="6622920"/>
            <a:ext cx="1229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3cddd"/>
                </a:solidFill>
                <a:latin typeface="Calibri"/>
              </a:rPr>
              <a:t>ProPowerPoint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K:\ProPowerPoint\Шаблоны\В работе\Компьютер\KompSlid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-18720" y="6622920"/>
            <a:ext cx="1229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3cddd"/>
                </a:solidFill>
                <a:latin typeface="Calibri"/>
              </a:rPr>
              <a:t>ProPowerPoint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K:\ProPowerPoint\Шаблоны\В работе\Компьютер\Komp.jpg"/>
          <p:cNvPicPr/>
          <p:nvPr/>
        </p:nvPicPr>
        <p:blipFill>
          <a:blip r:embed="rId3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K:\ProPowerPoint\Шаблоны\В работе\Компьютер\KompSlid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-18720" y="6622920"/>
            <a:ext cx="1229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3cddd"/>
                </a:solidFill>
                <a:latin typeface="Calibri"/>
              </a:rPr>
              <a:t>ProPowerPoint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3385-C830-4C74-A8F4-324839A66EA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ped-kopilka.ru/roditeljam/chem-opasen-internet-i-kompyuternye-igry.html" TargetMode="External"/><Relationship Id="rId2" Type="http://schemas.openxmlformats.org/officeDocument/2006/relationships/hyperlink" Target="http://ped-kopilka.ru/roditeljam/chem-opasen-internet-i-kompyuternye-igry.html" TargetMode="External"/><Relationship Id="rId3" Type="http://schemas.openxmlformats.org/officeDocument/2006/relationships/hyperlink" Target="http://ped-kopilka.ru/roditeljam/chem-opasen-internet-i-kompyuternye-igry.html" TargetMode="External"/><Relationship Id="rId4" Type="http://schemas.openxmlformats.org/officeDocument/2006/relationships/hyperlink" Target="http://ped-kopilka.ru/roditeljam/chem-opasen-internet-i-kompyuternye-igry.html" TargetMode="External"/><Relationship Id="rId5" Type="http://schemas.openxmlformats.org/officeDocument/2006/relationships/hyperlink" Target="http://ped-kopilka.ru/roditeljam/chem-opasen-internet-i-kompyuternye-igry.html" TargetMode="External"/><Relationship Id="rId6" Type="http://schemas.openxmlformats.org/officeDocument/2006/relationships/hyperlink" Target="http://ped-kopilka.ru/roditeljam/chem-opasen-internet-i-kompyuternye-igry.html" TargetMode="External"/><Relationship Id="rId7" Type="http://schemas.openxmlformats.org/officeDocument/2006/relationships/hyperlink" Target="http://ped-kopilka.ru/roditeljam/chem-opasen-internet-i-kompyuternye-igry.html" TargetMode="External"/><Relationship Id="rId8" Type="http://schemas.openxmlformats.org/officeDocument/2006/relationships/hyperlink" Target="http://ped-kopilka.ru/roditeljam/chem-opasen-internet-i-kompyuternye-igry.html" TargetMode="External"/><Relationship Id="rId9" Type="http://schemas.openxmlformats.org/officeDocument/2006/relationships/hyperlink" Target="http://ped-kopilka.ru/roditeljam/chem-opasen-internet-i-kompyuternye-igry.html" TargetMode="External"/><Relationship Id="rId10" Type="http://schemas.openxmlformats.org/officeDocument/2006/relationships/hyperlink" Target="http://ped-kopilka.ru/roditeljam/chem-opasen-internet-i-kompyuternye-igry.html" TargetMode="External"/><Relationship Id="rId11" Type="http://schemas.openxmlformats.org/officeDocument/2006/relationships/hyperlink" Target="http://ped-kopilka.ru/roditeljam/chem-opasen-internet-i-kompyuternye-igry.html" TargetMode="External"/><Relationship Id="rId12" Type="http://schemas.openxmlformats.org/officeDocument/2006/relationships/hyperlink" Target="http://ped-kopilka.ru/roditeljam/chem-opasen-internet-i-kompyuternye-igry.html" TargetMode="External"/><Relationship Id="rId13" Type="http://schemas.openxmlformats.org/officeDocument/2006/relationships/hyperlink" Target="http://ped-kopilka.ru/roditeljam/chem-opasen-internet-i-kompyuternye-igry.html" TargetMode="External"/><Relationship Id="rId14" Type="http://schemas.openxmlformats.org/officeDocument/2006/relationships/hyperlink" Target="http://ped-kopilka.ru/roditeljam/chem-opasen-internet-i-kompyuternye-igry.html" TargetMode="External"/><Relationship Id="rId15" Type="http://schemas.openxmlformats.org/officeDocument/2006/relationships/hyperlink" Target="http://ped-kopilka.ru/roditeljam/chem-opasen-internet-i-kompyuternye-igry.html" TargetMode="External"/><Relationship Id="rId16" Type="http://schemas.openxmlformats.org/officeDocument/2006/relationships/hyperlink" Target="http://ped-kopilka.ru/roditeljam/chem-opasen-internet-i-kompyuternye-igry.html" TargetMode="External"/><Relationship Id="rId17" Type="http://schemas.openxmlformats.org/officeDocument/2006/relationships/hyperlink" Target="http://ped-kopilka.ru/roditeljam/chem-opasen-internet-i-kompyuternye-igry.html" TargetMode="External"/><Relationship Id="rId18" Type="http://schemas.openxmlformats.org/officeDocument/2006/relationships/hyperlink" Target="http://ped-kopilka.ru/roditeljam/chem-opasen-internet-i-kompyuternye-igry.html" TargetMode="External"/><Relationship Id="rId19" Type="http://schemas.openxmlformats.org/officeDocument/2006/relationships/hyperlink" Target="http://ped-kopilka.ru/roditeljam/chem-opasen-internet-i-kompyuternye-igry.html" TargetMode="External"/><Relationship Id="rId20" Type="http://schemas.openxmlformats.org/officeDocument/2006/relationships/hyperlink" Target="http://ped-kopilka.ru/roditeljam/chem-opasen-internet-i-kompyuternye-igry.html" TargetMode="External"/><Relationship Id="rId21" Type="http://schemas.openxmlformats.org/officeDocument/2006/relationships/hyperlink" Target="http://ped-kopilka.ru/roditeljam/chem-opasen-internet-i-kompyuternye-igry.html" TargetMode="External"/><Relationship Id="rId22" Type="http://schemas.openxmlformats.org/officeDocument/2006/relationships/hyperlink" Target="http://ped-kopilka.ru/roditeljam/chem-opasen-internet-i-kompyuternye-igry.html" TargetMode="External"/><Relationship Id="rId23" Type="http://schemas.openxmlformats.org/officeDocument/2006/relationships/hyperlink" Target="http://ped-kopilka.ru/roditeljam/chem-opasen-internet-i-kompyuternye-igry.html" TargetMode="External"/><Relationship Id="rId24" Type="http://schemas.openxmlformats.org/officeDocument/2006/relationships/hyperlink" Target="http://art.ioso.ru/wiki/index.php" TargetMode="External"/><Relationship Id="rId25" Type="http://schemas.openxmlformats.org/officeDocument/2006/relationships/hyperlink" Target="http://art.ioso.ru/wiki/index.php" TargetMode="External"/><Relationship Id="rId26" Type="http://schemas.openxmlformats.org/officeDocument/2006/relationships/hyperlink" Target="http://profi-rus.by.ru/pravoslavie/text/vred-comp.html" TargetMode="External"/><Relationship Id="rId27" Type="http://schemas.openxmlformats.org/officeDocument/2006/relationships/hyperlink" Target="http://supermams.ru/bezopasnyj-internet-dlya-detej.htm" TargetMode="External"/><Relationship Id="rId28" Type="http://schemas.openxmlformats.org/officeDocument/2006/relationships/hyperlink" Target="http://www.elsmog.ru/index.php/vliaynieemi/pcemi.html" TargetMode="External"/><Relationship Id="rId29" Type="http://schemas.openxmlformats.org/officeDocument/2006/relationships/hyperlink" Target="http://www.elsmog.ru/index.php/vliaynieemi/pcemi.html" TargetMode="External"/><Relationship Id="rId3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propowerpoint.ru/kompyuter-shablon-dlya-prezentacij/" TargetMode="External"/><Relationship Id="rId2" Type="http://schemas.openxmlformats.org/officeDocument/2006/relationships/hyperlink" Target="http://propowerpoint.ru/kompyuter-shablon-dlya-prezentacij/" TargetMode="External"/><Relationship Id="rId3" Type="http://schemas.openxmlformats.org/officeDocument/2006/relationships/hyperlink" Target="http://www.gluxix.net/deafnews/smi-about-deaf/2795-2011-01-17-18-00-31" TargetMode="External"/><Relationship Id="rId4" Type="http://schemas.openxmlformats.org/officeDocument/2006/relationships/hyperlink" Target="http://old.inforotor.ru/id/companies/orfograficheskogoobschestva" TargetMode="External"/><Relationship Id="rId5" Type="http://schemas.openxmlformats.org/officeDocument/2006/relationships/hyperlink" Target="http://old.inforotor.ru/id/companies/orfograficheskogoobschestva" TargetMode="External"/><Relationship Id="rId6" Type="http://schemas.openxmlformats.org/officeDocument/2006/relationships/hyperlink" Target="http://w-paradise.ru/?category=11&amp;tag=15" TargetMode="External"/><Relationship Id="rId7" Type="http://schemas.openxmlformats.org/officeDocument/2006/relationships/hyperlink" Target="http://w-paradise.ru/?category=11&amp;tag=15" TargetMode="External"/><Relationship Id="rId8" Type="http://schemas.openxmlformats.org/officeDocument/2006/relationships/hyperlink" Target="http://styleandroid.ru/novosti/176-igry-dlya-android-blago-ili-skrytaya-ugroza.html" TargetMode="External"/><Relationship Id="rId9" Type="http://schemas.openxmlformats.org/officeDocument/2006/relationships/hyperlink" Target="http://nnm.ru/blogs/2007/11/page306/" TargetMode="External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vif-club.ru/news/9201-op-raskritikovala-zakon-o-zaschite-detey.html" TargetMode="External"/><Relationship Id="rId2" Type="http://schemas.openxmlformats.org/officeDocument/2006/relationships/hyperlink" Target="http://obozrevatel.com/?tape=culture" TargetMode="External"/><Relationship Id="rId3" Type="http://schemas.openxmlformats.org/officeDocument/2006/relationships/hyperlink" Target="http://obozrevatel.com/?tape=culture" TargetMode="External"/><Relationship Id="rId4" Type="http://schemas.openxmlformats.org/officeDocument/2006/relationships/hyperlink" Target="http://obozrevatel.com/?tape=culture" TargetMode="External"/><Relationship Id="rId5" Type="http://schemas.openxmlformats.org/officeDocument/2006/relationships/hyperlink" Target="http://www.1.yahooeu.ru/www/www/tags/%CA%EE%EC%EF%FC%FE%F2%E5%F0/" TargetMode="External"/><Relationship Id="rId6" Type="http://schemas.openxmlformats.org/officeDocument/2006/relationships/hyperlink" Target="http://ogli.org/2013/03/26/est-na-moey-pamyati-odin-postydnye-dlya-menya-rasskaz-kogda-ya-ukral-dengi-u-roditeley-i-potratil-ih-na-polnuyu-erundu-i-stydno-vrode-kak-i-vrode-kak-poshli-na-voploschenie-moey-pust-malenkoy-no-vse.html" TargetMode="External"/><Relationship Id="rId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fictionbook.ru/author/kim_doldjin/psihologiya_podrostkovogo_i_yunosheskogo_vozrasta/read_online.html?page=3" TargetMode="External"/><Relationship Id="rId2" Type="http://schemas.openxmlformats.org/officeDocument/2006/relationships/hyperlink" Target="http://fictionbook.ru/author/kim_doldjin/psihologiya_podrostkovogo_i_yunosheskogo_vozrasta/read_online.html?page=3" TargetMode="External"/><Relationship Id="rId3" Type="http://schemas.openxmlformats.org/officeDocument/2006/relationships/hyperlink" Target="http://hrtur.ru/article/ispolzuem-socialnye-seti-dlya-poiska-horoshih-sotrudnikov" TargetMode="External"/><Relationship Id="rId4" Type="http://schemas.openxmlformats.org/officeDocument/2006/relationships/hyperlink" Target="http://markhovhann.do.am/news/internet/1-0-9" TargetMode="External"/><Relationship Id="rId5" Type="http://schemas.openxmlformats.org/officeDocument/2006/relationships/hyperlink" Target="http://tairid.ucoz.ru/news/internet_marketing_i_seo_teorija_i_praktika/2013-03-13-19" TargetMode="External"/><Relationship Id="rId6" Type="http://schemas.openxmlformats.org/officeDocument/2006/relationships/hyperlink" Target="http://olhardigital.uol.com.br/negocios/digital_news/noticias/para-pesquisadores,-realidade-em-que-vivemos-pode-ser-simulacao" TargetMode="External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spin.pp.ua/kompyuternaya-prezentatsiya.html" TargetMode="External"/><Relationship Id="rId2" Type="http://schemas.openxmlformats.org/officeDocument/2006/relationships/hyperlink" Target="http://samsonov.name/news/tag/internet/page/2" TargetMode="External"/><Relationship Id="rId3" Type="http://schemas.openxmlformats.org/officeDocument/2006/relationships/hyperlink" Target="http://kino.tr200.biz/?id=169155" TargetMode="External"/><Relationship Id="rId4" Type="http://schemas.openxmlformats.org/officeDocument/2006/relationships/hyperlink" Target="http://astersoft.net/articles/page411/" TargetMode="External"/><Relationship Id="rId5" Type="http://schemas.openxmlformats.org/officeDocument/2006/relationships/hyperlink" Target="http://rsnovosti.ucoz.net/news/bezopasnost_detej_v_seti_internet/2012-09-30-29" TargetMode="External"/><Relationship Id="rId6" Type="http://schemas.openxmlformats.org/officeDocument/2006/relationships/hyperlink" Target="http://rdn-team.com/tags/%D1%E0%F8%E0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newsby.biz/by/2009/02/06/text4778.htm" TargetMode="External"/><Relationship Id="rId2" Type="http://schemas.openxmlformats.org/officeDocument/2006/relationships/hyperlink" Target="http://www.sovrabstvo.ru/vid_rabstva/tehnologicheskoe.html" TargetMode="External"/><Relationship Id="rId3" Type="http://schemas.openxmlformats.org/officeDocument/2006/relationships/hyperlink" Target="http://www.sovrabstvo.ru/vid_rabstva/tehnologicheskoe.html" TargetMode="External"/><Relationship Id="rId4" Type="http://schemas.openxmlformats.org/officeDocument/2006/relationships/hyperlink" Target="http://otvetovka.ru/igru/" TargetMode="External"/><Relationship Id="rId5" Type="http://schemas.openxmlformats.org/officeDocument/2006/relationships/hyperlink" Target="http://otvetovka.ru/igru/" TargetMode="External"/><Relationship Id="rId6" Type="http://schemas.openxmlformats.org/officeDocument/2006/relationships/hyperlink" Target="http://otvetovka.ru/igru/" TargetMode="External"/><Relationship Id="rId7" Type="http://schemas.openxmlformats.org/officeDocument/2006/relationships/hyperlink" Target="http://styleandroid.ru/novosti/176-igry-dlya-android-blago-ili-skrytaya-ugroza.html" TargetMode="External"/><Relationship Id="rId8" Type="http://schemas.openxmlformats.org/officeDocument/2006/relationships/hyperlink" Target="http://sweet211.ru/more/329172/" TargetMode="External"/><Relationship Id="rId9" Type="http://schemas.openxmlformats.org/officeDocument/2006/relationships/hyperlink" Target="http://sweet211.ru/more/329172/" TargetMode="External"/><Relationship Id="rId10" Type="http://schemas.openxmlformats.org/officeDocument/2006/relationships/hyperlink" Target="http://sweet211.ru/more/329172/" TargetMode="External"/><Relationship Id="rId11" Type="http://schemas.openxmlformats.org/officeDocument/2006/relationships/hyperlink" Target="http://sweet211.ru/more/329172/" TargetMode="External"/><Relationship Id="rId12" Type="http://schemas.openxmlformats.org/officeDocument/2006/relationships/hyperlink" Target="http://winstation.ucoz.ru/photo/1-0-2-3" TargetMode="External"/><Relationship Id="rId13" Type="http://schemas.openxmlformats.org/officeDocument/2006/relationships/hyperlink" Target="http://info.sibnet.ru/?text=&amp;order=msg&amp;p=45" TargetMode="External"/><Relationship Id="rId14" Type="http://schemas.openxmlformats.org/officeDocument/2006/relationships/hyperlink" Target="http://info.sibnet.ru/?text=&amp;order=msg&amp;p=45" TargetMode="External"/><Relationship Id="rId15" Type="http://schemas.openxmlformats.org/officeDocument/2006/relationships/hyperlink" Target="http://info.sibnet.ru/?text=&amp;order=msg&amp;p=45" TargetMode="External"/><Relationship Id="rId16" Type="http://schemas.openxmlformats.org/officeDocument/2006/relationships/hyperlink" Target="http://info.sibnet.ru/?text=&amp;order=msg&amp;p=45" TargetMode="External"/><Relationship Id="rId17" Type="http://schemas.openxmlformats.org/officeDocument/2006/relationships/hyperlink" Target="http://info.sibnet.ru/?text=&amp;order=msg&amp;p=45" TargetMode="External"/><Relationship Id="rId1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vashaibolit.ru/7484-patologicheskoe-vliyanie-kompyutera-na-organizm-cheloveka.html" TargetMode="External"/><Relationship Id="rId2" Type="http://schemas.openxmlformats.org/officeDocument/2006/relationships/hyperlink" Target="http://wrist.3dn.ru/news/dvizhenie_ehto_zdorove/2013-03-19-34" TargetMode="External"/><Relationship Id="rId3" Type="http://schemas.openxmlformats.org/officeDocument/2006/relationships/hyperlink" Target="http://pda.amic.ru/114802/&amp;dd=20&amp;mm=11&amp;yy=2009" TargetMode="External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2600" y="928800"/>
            <a:ext cx="342900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Осторожно: компьютер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14200" y="4928760"/>
            <a:ext cx="6143760" cy="17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втор презента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ьвова Татьяна Васильевн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итель МБОУ «СОШ №24» г. Брат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642960" y="2714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642960" y="271476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ассный час по формированию медиа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15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нтернет-зависимост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85520" y="19285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висимость от Интернета приводит к развитию неврозов, психозов и даже шизофр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Рисунок 4" descr="http://yunus.hacettepe.edu.tr/~b0122383/bm.jpg"/>
          <p:cNvPicPr/>
          <p:nvPr/>
        </p:nvPicPr>
        <p:blipFill>
          <a:blip r:embed="rId1"/>
          <a:stretch/>
        </p:blipFill>
        <p:spPr>
          <a:xfrm>
            <a:off x="2857680" y="2928960"/>
            <a:ext cx="328608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85520" y="1213920"/>
            <a:ext cx="790092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 привлекает подростков  социальными сетями. В Интернете легко и просто завести новые контакты или  прервать их, если что-либо вышло не так, как хотелось б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3" descr="http://thelib.ru/books/00/15/22/00152252/i_004.jpg"/>
          <p:cNvPicPr/>
          <p:nvPr/>
        </p:nvPicPr>
        <p:blipFill>
          <a:blip r:embed="rId1"/>
          <a:stretch/>
        </p:blipFill>
        <p:spPr>
          <a:xfrm>
            <a:off x="1714680" y="3000240"/>
            <a:ext cx="5500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42560" y="1785960"/>
            <a:ext cx="507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 этом не нужно беспокоиться о том, какое впечатление вы производите на другого человека. В Интернете можно представить себя таким, каким хочется, и не нужно стараться измениться внешне или чему-либо научиться. У подростка возникает иллюзия жизни, наполненной эмоциями, и при этом не возникает каких-либо сложностей. Все это очень обманчив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3" descr="http://cs10110.userapi.com/u150770857/-14/x_8fedb960.jpg"/>
          <p:cNvPicPr/>
          <p:nvPr/>
        </p:nvPicPr>
        <p:blipFill>
          <a:blip r:embed="rId1"/>
          <a:stretch/>
        </p:blipFill>
        <p:spPr>
          <a:xfrm>
            <a:off x="5214960" y="2071800"/>
            <a:ext cx="371160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4200" y="1785600"/>
            <a:ext cx="38577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н тратит время на пустое общение, и в реальной жизни у него может не быть друзей. За этим развлечением может скрываться одиночество, страх перед реальным общением, неуверенность в себе как в лич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Рисунок 3" descr="http://www.primmarketing.ru/img/news/2010/08/04/socmir/pic640.jpg"/>
          <p:cNvPicPr/>
          <p:nvPr/>
        </p:nvPicPr>
        <p:blipFill>
          <a:blip r:embed="rId1"/>
          <a:stretch/>
        </p:blipFill>
        <p:spPr>
          <a:xfrm>
            <a:off x="4429080" y="1785960"/>
            <a:ext cx="43578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57120" y="1643040"/>
            <a:ext cx="83296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 подростка создается иллюзия общения, в то время как он становится все более одиноким и отвыкает общаться с живыми людь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Рисунок 3" descr="http://img11.nnm.ru/3/b/4/9/8/958a19816cb463a8749ab4ce5fa.jpg"/>
          <p:cNvPicPr/>
          <p:nvPr/>
        </p:nvPicPr>
        <p:blipFill>
          <a:blip r:embed="rId1"/>
          <a:stretch/>
        </p:blipFill>
        <p:spPr>
          <a:xfrm>
            <a:off x="2357280" y="3071880"/>
            <a:ext cx="4510080" cy="32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асность Интернет-общения заключается также в том, что возможно придумать себе любой образ. В процессе переписки можно представить себя кем угодно, даже киногероем, известной личность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Рисунок 3" descr="http://img1.olhardigital.uol.com.br/uploads/acervo_imagens/2012/10/20121016133455.jpg"/>
          <p:cNvPicPr/>
          <p:nvPr/>
        </p:nvPicPr>
        <p:blipFill>
          <a:blip r:embed="rId1"/>
          <a:stretch/>
        </p:blipFill>
        <p:spPr>
          <a:xfrm>
            <a:off x="1525680" y="3214800"/>
            <a:ext cx="5865840" cy="32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14200" y="1500120"/>
            <a:ext cx="84441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ак думают многие подростки и ошибочно тратят жизнь на Интернет, подвергают себя риску потерять собственное 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 тому же стремление выдавать себя за другого человека часто приводит к психическим расстройств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3" descr="http://cs9554.vkontakte.ru/u46806398/l_a4740d64.png"/>
          <p:cNvPicPr/>
          <p:nvPr/>
        </p:nvPicPr>
        <p:blipFill>
          <a:blip r:embed="rId1"/>
          <a:stretch/>
        </p:blipFill>
        <p:spPr>
          <a:xfrm>
            <a:off x="1928880" y="3071880"/>
            <a:ext cx="49291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99680" y="1785600"/>
            <a:ext cx="818676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ка вы просиживаете часами в Интернете, ваши сверстники успевают что-то сделать, развиваются как личности, становятся более успешными в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Рисунок 4" descr="http://samsonov.name/news/files/2012/04/image_551971136694660903984877588346691899.jpg"/>
          <p:cNvPicPr/>
          <p:nvPr/>
        </p:nvPicPr>
        <p:blipFill>
          <a:blip r:embed="rId1"/>
          <a:stretch/>
        </p:blipFill>
        <p:spPr>
          <a:xfrm>
            <a:off x="2286000" y="3214800"/>
            <a:ext cx="418608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928520"/>
            <a:ext cx="4286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 содержит массу спама и глупостей.  Некоторые сообщества способствует разжиганию межнациональных конфликтов, подстрекают к курению, алкоголю и употреблению наркотиков, антисоциальному поведению, суици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http://www.ferra.ru/images/351/351277.png"/>
          <p:cNvPicPr/>
          <p:nvPr/>
        </p:nvPicPr>
        <p:blipFill>
          <a:blip r:embed="rId1"/>
          <a:stretch/>
        </p:blipFill>
        <p:spPr>
          <a:xfrm>
            <a:off x="4786200" y="2214720"/>
            <a:ext cx="40640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циаль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356840"/>
            <a:ext cx="50007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 всегда  знаешь, какой реальный человек  сейчас пишет вам письмо  , кто общается сейчас вами в чате. Это может быть преступник. А ведь подобный «хищник» имеет доступ к информации о вас, он получает ее из анкет, которые вы заполнили. Он может осторожно выпытать какие-то детали в беседе с вами, может назначить встречу, завоевав доверие разговорам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Рисунок 5" descr="http://www.fermer1.ru/sites/default/files/imagecache/500x500/wysiwyg_imageupload/2444/komp1.jpg"/>
          <p:cNvPicPr/>
          <p:nvPr/>
        </p:nvPicPr>
        <p:blipFill>
          <a:blip r:embed="rId1"/>
          <a:stretch/>
        </p:blipFill>
        <p:spPr>
          <a:xfrm>
            <a:off x="5000760" y="2000160"/>
            <a:ext cx="380988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71360" y="2214720"/>
            <a:ext cx="76914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: формирование медиакультур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накомить с  правилами  безопасного и ответственного поведения в информационной среде, способах защиты в сети Интернет,  вредными последствиями компьютерных игр, дать представление об Интернет-зависимости, киберзависим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Содержимое 3" descr="http://www.nakaba.ru/forum/download/file.php?id=43152&amp;sid=3ab2c879b591f60059142b1ece995b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Рисунок 3" descr="http://www.dv-reclama.ru/upload/iblock/290/Liga_bezopasnogo_interneta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85480" y="1928520"/>
            <a:ext cx="3857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улярные видеоигры категории Е, рекомендованные для детей старше шести лет, воспитываю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лонность к насилию и жестокости. Там нужно бить, стрелять и убивать, и за это полагается вознагражд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Рисунок 3" descr="http://images1.wikia.nocookie.net/__cb20090608152353/halofanon/images/thumb/d/dd/800px-SPARTAN-II_Super_Soldiers.jpg/600px-800px-SPARTAN-II_Super_Soldiers.jpg"/>
          <p:cNvPicPr/>
          <p:nvPr/>
        </p:nvPicPr>
        <p:blipFill>
          <a:blip r:embed="rId1"/>
          <a:stretch/>
        </p:blipFill>
        <p:spPr>
          <a:xfrm>
            <a:off x="4572000" y="1928880"/>
            <a:ext cx="392904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99680" y="1483920"/>
            <a:ext cx="818676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играх типа «action» на насилие уходит 91 процент времени, причем в 27 процентах игр насилие приводит к смерти. Несмотря на то что  убийство и самоубийство не настоящие - в сознании игроманов реальная жизнь смешивается с виртуаль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Рисунок 4" descr="http://www.sovrabstvo.ru/images/fon2/tehnologia/computer_game4.jpg"/>
          <p:cNvPicPr/>
          <p:nvPr/>
        </p:nvPicPr>
        <p:blipFill>
          <a:blip r:embed="rId1"/>
          <a:stretch/>
        </p:blipFill>
        <p:spPr>
          <a:xfrm>
            <a:off x="2428920" y="3571920"/>
            <a:ext cx="4143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2000160"/>
            <a:ext cx="4000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мериканская ассоциация психологов    APA заключила, что "игровое" насилие провоцирует "агрессивные мысли, агрессивное поведение и гневные чувства среди молодежи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Рисунок 3" descr="http://otvetovka.ru/uploads/posts/2012-03/3428.jpg"/>
          <p:cNvPicPr/>
          <p:nvPr/>
        </p:nvPicPr>
        <p:blipFill>
          <a:blip r:embed="rId1"/>
          <a:stretch/>
        </p:blipFill>
        <p:spPr>
          <a:xfrm>
            <a:off x="4714920" y="1785960"/>
            <a:ext cx="4143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99680" y="2285640"/>
            <a:ext cx="8115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"Показывая насильственные действия без последствий, игры учат молодежь тому, что насилие является эффективным средством разрешения конфликтов", — заявила психолог APA Элизабет Карлл. По ее словам, "наигравшись" в насилие, подростки могут захотеть продолжить эксперименты с агрессией в реальной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14200" y="1714320"/>
            <a:ext cx="48578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параллельно с прививкой жестокости у компьютерного поколения происходит падение умственных способностей. Ученые университета Тохоку в Японии обнаружили, что компьютерные игры стимулируют лишь те участки головного мозга, которые отвечают за зрение и движение, но не способствуют развитию других важных его участ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Рисунок 4" descr="http://styleandroid.ru/uploads/posts/2012-10/1351181576_polza-i-vred-kompyuternyh-igr_7.jpg"/>
          <p:cNvPicPr/>
          <p:nvPr/>
        </p:nvPicPr>
        <p:blipFill>
          <a:blip r:embed="rId1"/>
          <a:stretch/>
        </p:blipFill>
        <p:spPr>
          <a:xfrm>
            <a:off x="5143680" y="2071800"/>
            <a:ext cx="36543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642680"/>
            <a:ext cx="45435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гры останавливают развитие лобных долей мозга, которые отвечают за поведение человека, тренировку памяти, эмоции и обуч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з-за плохой развитости лобных долей мозга примитивный человек был агрессивным и злобным, неспособным жить в коллекти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http://teadus.err.ee/webimage8thumbshow?image_id=5305"/>
          <p:cNvPicPr/>
          <p:nvPr/>
        </p:nvPicPr>
        <p:blipFill>
          <a:blip r:embed="rId1"/>
          <a:stretch/>
        </p:blipFill>
        <p:spPr>
          <a:xfrm>
            <a:off x="5357880" y="2214720"/>
            <a:ext cx="314316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 вот, компьютерные игры ведут к деградации именно лобных долей. А те дети, которые занимаются старой доброй арифметикой и решают традиционные математические задачи, лобные доли развива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Рисунок 3" descr="Игры для Android - благо или скрытая угроза?"/>
          <p:cNvPicPr/>
          <p:nvPr/>
        </p:nvPicPr>
        <p:blipFill>
          <a:blip r:embed="rId1"/>
          <a:stretch/>
        </p:blipFill>
        <p:spPr>
          <a:xfrm>
            <a:off x="2286000" y="3929040"/>
            <a:ext cx="47149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71400"/>
            <a:ext cx="568656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олее того, когда игрок переживает за компьютерного героя, как за себя, в крови выделяется адреналин, активизируя участки мозга, отвечающие за удовольствия. Адреналин разрушается при движении, но так как игрок сидит без движения ,то адреналин застаивается и разрушает нервную систему. В результате этого развивается неврастения и происходят необратимые процессы в работе головного моз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3" descr="http://img241.imageshack.us/img241/5791/6897736842mh.jpg"/>
          <p:cNvPicPr/>
          <p:nvPr/>
        </p:nvPicPr>
        <p:blipFill>
          <a:blip r:embed="rId1"/>
          <a:stretch/>
        </p:blipFill>
        <p:spPr>
          <a:xfrm>
            <a:off x="6143760" y="1714680"/>
            <a:ext cx="264312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нтерне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ти 1,8 млрд. людей в мире подключены к Сети. Ежегодно растет число пользователей, среди которых все больше детей и подрост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4" descr="http://static.zebra.lt/files/200907/M3qFRvfK.jpg"/>
          <p:cNvPicPr/>
          <p:nvPr/>
        </p:nvPicPr>
        <p:blipFill>
          <a:blip r:embed="rId1"/>
          <a:stretch/>
        </p:blipFill>
        <p:spPr>
          <a:xfrm>
            <a:off x="1643040" y="2786040"/>
            <a:ext cx="594036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Иг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56760" y="5571720"/>
            <a:ext cx="76438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ймеры и игроманы - это гении и таланты пустоты и никчемности, это - несчастные и больные лю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5" descr="http://s5.gb-pics.com/userpics/cdf0ae61d5.gif"/>
          <p:cNvPicPr/>
          <p:nvPr/>
        </p:nvPicPr>
        <p:blipFill>
          <a:blip r:embed="rId1"/>
          <a:stretch/>
        </p:blipFill>
        <p:spPr>
          <a:xfrm>
            <a:off x="1785960" y="1500120"/>
            <a:ext cx="5524560" cy="3714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211" name="Прямоугольник 4"/>
          <p:cNvSpPr/>
          <p:nvPr/>
        </p:nvSpPr>
        <p:spPr>
          <a:xfrm>
            <a:off x="1785960" y="5072040"/>
            <a:ext cx="557208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доровь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28760" y="1857240"/>
            <a:ext cx="45720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ебенок, углубившись в виртуальное общение, игры, перестает гулять на улице, встречаться с друзьями и мало двигается, как следствие, наступают проблемы со зрением, пищеварением, опорно-двигательным аппаратом, появляется повышенная утомляемость и головокру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Рисунок 3" descr="http://alimero.ru/uploads/images/00/59/48/2012/10/22/f0fd95.jpg"/>
          <p:cNvPicPr/>
          <p:nvPr/>
        </p:nvPicPr>
        <p:blipFill>
          <a:blip r:embed="rId1"/>
          <a:stretch/>
        </p:blipFill>
        <p:spPr>
          <a:xfrm>
            <a:off x="5072040" y="2214720"/>
            <a:ext cx="392904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71360" y="1484280"/>
            <a:ext cx="761508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Рисунок 3" descr="http://www.pvz.by/wp-content/uploads/2011/10/hypodynamicsdiseas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Здоровь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13840" y="1714320"/>
            <a:ext cx="40006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мпьютер имеет сразу два источника электромагнитного излучения (монитор и системный блок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льзователь ПК лишен возможности работать на безопасном расстоян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Рисунок 3" descr="http://davam.az/uploads/posts/2011-12/1323760414_matrix-filmi-_reng.jpg"/>
          <p:cNvPicPr/>
          <p:nvPr/>
        </p:nvPicPr>
        <p:blipFill>
          <a:blip r:embed="rId1"/>
          <a:stretch/>
        </p:blipFill>
        <p:spPr>
          <a:xfrm>
            <a:off x="4286160" y="2214720"/>
            <a:ext cx="4429080" cy="34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Здоровь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13880" y="1785960"/>
            <a:ext cx="7572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магнитное излучение наибольшее влияние оказывает на иммунную, нервную, эндокринную и половую систему. Иммунная система уменьшает выброс в кровь специальных ферментов, выполняющих защитную функцию, происходит ослабление системы клеточного иммунитета. Эндокринная система начинает выбрасывать в кровь большее количество адреналина, как следствие, возрастает нагрузка на сердечно-сосудистую систему организма. Происходит сгущение крови, в результате чего клетки недополучают кислоро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Здоровь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99680" y="1484280"/>
            <a:ext cx="8186760" cy="25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результате продолжительной работы за компьютером в течение нескольких дней человек чувствует себя уставшим, становится крайне раздражительным, часто отвечает на вопросы однозначными ответами, ему хочется прилечь. Такое явление в современном обществе получило название «синдром хронической усталости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http://apachan.net/images/201207/24/yqurmx0981rw.jpg"/>
          <p:cNvPicPr/>
          <p:nvPr/>
        </p:nvPicPr>
        <p:blipFill>
          <a:blip r:embed="rId1"/>
          <a:stretch/>
        </p:blipFill>
        <p:spPr>
          <a:xfrm>
            <a:off x="2500200" y="3929040"/>
            <a:ext cx="4357800" cy="27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Речь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1642680"/>
            <a:ext cx="3900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щение в Интернете среди подростков происходит на особом языке. Взрослым он даже не всегда понятен. При общении с помощью сокращенных и извращенных слов, смайликов, словарный запас и речевые способности подростка оскудеваю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Рисунок 3" descr="http://900igr.net/datai/informatika/JAzyk-SMS/0003-002-Short-Message-Service.jpg"/>
          <p:cNvPicPr/>
          <p:nvPr/>
        </p:nvPicPr>
        <p:blipFill>
          <a:blip r:embed="rId1"/>
          <a:stretch/>
        </p:blipFill>
        <p:spPr>
          <a:xfrm>
            <a:off x="4429080" y="1857240"/>
            <a:ext cx="40006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Реч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357800" y="1356840"/>
            <a:ext cx="45720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компании любителей Интернета он выглядит своим и может общаться на этом сленге, но теряет свою грамотность, способность ясно выражать мысли и чувства. Длительное общение только в Интернете приводит к тому, что способность поддерживать разговор с живым человеком значительно снижается, даже утрачив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Рисунок 3" descr="http://www.dagpravda.ru/images/materials/full_sleng.jpg"/>
          <p:cNvPicPr/>
          <p:nvPr/>
        </p:nvPicPr>
        <p:blipFill>
          <a:blip r:embed="rId1"/>
          <a:stretch/>
        </p:blipFill>
        <p:spPr>
          <a:xfrm>
            <a:off x="214200" y="1571760"/>
            <a:ext cx="41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Учеб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2560" y="1856880"/>
            <a:ext cx="4786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тернет полон всевозможных докладов и рефератов, которые становятся доступными для школьников после процедуры скачивания, занимающей не более пяти минут. Подростки распечатывают нужный реферат и сдают его учителю, даже не удосужившись его прочитать, естественно, так никакие знания получены не будут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Рисунок 3" descr="http://school.xvatit.com/images/f/f1/1107692.jpg"/>
          <p:cNvPicPr/>
          <p:nvPr/>
        </p:nvPicPr>
        <p:blipFill>
          <a:blip r:embed="rId1"/>
          <a:stretch/>
        </p:blipFill>
        <p:spPr>
          <a:xfrm>
            <a:off x="5000760" y="2000160"/>
            <a:ext cx="3616200" cy="36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Учеб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1785960"/>
            <a:ext cx="49719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ме того, помимо рефератов, в Интернете легко можно найти «решебники» по любым предметам, точно совпадающие с заданиями и задачами стандартных учебников школьной программы. Ребенок, привыкший регулярно списывать, самостоятельно перестает учить, а значит, усваивать материал и развива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Рисунок 4" descr="http://www.junior.ru/1b/images/referaty.jpg"/>
          <p:cNvPicPr/>
          <p:nvPr/>
        </p:nvPicPr>
        <p:blipFill>
          <a:blip r:embed="rId1"/>
          <a:stretch/>
        </p:blipFill>
        <p:spPr>
          <a:xfrm>
            <a:off x="5643720" y="1785960"/>
            <a:ext cx="32749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нтерне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 недавнего времени Интернет ассоциировался с источником, где дети могли почерпнуть огромное количество полезной информации. Известно, что компьютер —  средство более быстрой и удобной передачи информации, он позволяет охватить нам более широкий круг люд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3" descr="http://nk.org.ua/images/x_07c9c36a13816169.jpg"/>
          <p:cNvPicPr/>
          <p:nvPr/>
        </p:nvPicPr>
        <p:blipFill>
          <a:blip r:embed="rId1"/>
          <a:stretch/>
        </p:blipFill>
        <p:spPr>
          <a:xfrm>
            <a:off x="2428920" y="3714840"/>
            <a:ext cx="464328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Рекомендац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642680"/>
            <a:ext cx="51436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ановить на компьютере программы фильтрации, которые блокируют доступ к нежелательным сайтам, имеющим негативную информацию для детского воспри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телям пользоваться журналом просмотренных веб-страниц, который поможет контролировать ваши «путешествия»  в Интерне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5" descr="http://images.mazika2day.com/images/42558634308562163672.jpg"/>
          <p:cNvPicPr/>
          <p:nvPr/>
        </p:nvPicPr>
        <p:blipFill>
          <a:blip r:embed="rId1"/>
          <a:stretch/>
        </p:blipFill>
        <p:spPr>
          <a:xfrm>
            <a:off x="5214960" y="2214720"/>
            <a:ext cx="3673440" cy="30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Рекомендац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600" y="1714320"/>
            <a:ext cx="7715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ьзоваться поисковыми программами, чтобы находить нужную информа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ьно оценивать полезность сай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ьзоваться паролем и ником для общения в социальных сет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вать минимальную информацию о себе при регистрации на сайт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ходить» от общения с чрезмерно назойливыми виртуальными «приятелям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бегать «бесплатных» акций, лотерей и розыгрыш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Рекомендац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85840" y="1643040"/>
            <a:ext cx="4286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ереключить своё внимание на другое занятие: неплохо увлечься спортом, найти себе какое-нибудь подвижное хобб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юбители компьютерных игр должны помнить, что перед сном эти развлечения вообще должны быть исключены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6" descr="http://s017.radikal.ru/i405/1207/50/cff37e2be277.jpg"/>
          <p:cNvPicPr/>
          <p:nvPr/>
        </p:nvPicPr>
        <p:blipFill>
          <a:blip r:embed="rId1"/>
          <a:stretch/>
        </p:blipFill>
        <p:spPr>
          <a:xfrm>
            <a:off x="4714920" y="1428840"/>
            <a:ext cx="4000320" cy="43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Рекомендац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680" y="1643040"/>
            <a:ext cx="7858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дростку, так же, как и взрослому человеку, на компьютерные игры можно тратить не более 1—2 часов в сутки. За это время можно и поиграть, и получить полезную информацию, и остаться живым человеком в реальном ми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Рисунок 3" descr="http://kovalevajulia.ucoz.ru/sl16.gif"/>
          <p:cNvPicPr/>
          <p:nvPr/>
        </p:nvPicPr>
        <p:blipFill>
          <a:blip r:embed="rId1"/>
          <a:stretch/>
        </p:blipFill>
        <p:spPr>
          <a:xfrm>
            <a:off x="2428920" y="3857760"/>
            <a:ext cx="3786120" cy="25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213920" y="2571480"/>
            <a:ext cx="700092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2060"/>
                </a:solidFill>
                <a:latin typeface="Calibri"/>
              </a:rPr>
              <a:t>Спасибо за внимание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42920" y="1499760"/>
            <a:ext cx="85010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 «Опасен ли Интернет? Опасны ли компьютерные игры?»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ed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-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kopilka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roditeljam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chem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-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opasen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-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internet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-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i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-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kompyuternye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-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igry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 «Чем опасен Интернет для ребёнка»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art.ioso.ru/wiki/index.ph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 «О вреде компьютерных игр»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http://profi-rus.by.ru/pravoslavie/text/vred-comp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 «Безопасный Интернет для детей»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http://supermams.ru/bezopasnyj-internet-dlya-detej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 «Влияние компьютера на организм»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9"/>
              </a:rPr>
              <a:t>www.elsmog.ru/index.php/vliaynieemi/pcemi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аблон для презентации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ropowerpoint.ru/kompyuter-shablon-dlya-prezentacij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):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old.inforotor.ru/id/companies/orfograficheskogoobsche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4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-paradise.ru/?category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=11&amp;tag=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5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styleandroid.ru/novosti/176-igry-dlya-android-blago-ili-skrytaya-ugroz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6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nnm.ru/blogs/2007/11/page306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7)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vif-club.ru/news/9201-op-raskritikovala-zakon-o-zaschite-detey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8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obozrevatel.com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/?tape=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9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1.yahooeu.ru/www/www/tags/%CA%EE%EC%EF%FC%FE%F2%E5%F0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0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ogli.org/2013/03/26/est-na-moey-pamyati-odin-postydnye-dlya-menya-rasskaz-kogda-ya-ukral-dengi-u-roditeley-i-potratil-ih-na-polnuyu-erundu-i-stydno-vrode-kak-i-vrode-kak-poshli-na-voploschenie-moey-pust-malenkoy-no-vse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42560" y="128592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1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fictionbook.ru/author/kim_doldjin/psihologiya_podrostkovogo_i_yunosheskogo_vozrasta/read_online.html?page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=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2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hrtur.ru/article/ispolzuem-socialnye-seti-dlya-poiska-horoshih-sotrudnik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3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markhovhann.do.am/news/internet/1-0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4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tairid.ucoz.ru/news/internet_marketing_i_seo_teorija_i_praktika/2013-03-13-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5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olhardigital.uol.com.br/negocios/digital_news/noticias/para-pesquisadores,-realidade-em-que-vivemos-pode-ser-simulaca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42920" y="1484280"/>
            <a:ext cx="85010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 16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pin.pp.ua/kompyuternaya-prezentatsiy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7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amsonov.name/news/tag/internet/page/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8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kino.tr200.biz/?id=1691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19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astersoft.net/articles/page411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0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rsnovosti.ucoz.net/news/bezopasnost_detej_v_seti_internet/2012-09-30-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1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rdn-team.com/tags/%D1%E0%F8%E0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нтерне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еперь все эти плюсы стали минусами. Как показали исследования, дети очень мало времени проводят в Интернете, учась чему-нибудь. В основном компьютер необходим для игр, Интернет — для скачивания музыки и программ (преимущественно тех же игр), а также для интерактивного общ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3" descr="http://concreteplayground.com.au/_snacks/wp-content/uploads/2013/04/digitaladdict.jpg"/>
          <p:cNvPicPr/>
          <p:nvPr/>
        </p:nvPicPr>
        <p:blipFill>
          <a:blip r:embed="rId1"/>
          <a:stretch/>
        </p:blipFill>
        <p:spPr>
          <a:xfrm>
            <a:off x="2500200" y="3786120"/>
            <a:ext cx="42973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2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wsby.biz/by/2009/02/06/text4778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3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sovrabstvo.ru/vid_rabstva/tehnologicheskoe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4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otvetovka.ru/igru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6, 28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styleandroid.ru/novosti/176-igry-dlya-android-blago-ili-skrytaya-ugroz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7):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://sweet211.ru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more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329172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29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instation.ucoz.ru/photo/1-0-2-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0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info.sibnet.ru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?text=&amp;order=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msg&amp;p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=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1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vashaibolit.ru/7484-patologicheskoe-vliyanie-kompyutera-na-organizm-chelovek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2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rist.3dn.ru/news/dvizhenie_ehto_zdorove/2013-03-19-3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 33)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da.amic.ru/114802/&amp;dd=20&amp;mm=11&amp;yy=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5)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apachan.net/2207212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6)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bluesystem.ru/news/?tag=%F1%EB%E5%ED%E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7)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fashion2012.ru/modnyiy-sleng-slov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9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8)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joshkar-ola.fis.ru/Obuchenie?good_id=10021379-otchet-po-praktike-dnevnik-prakti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39)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orgtech.ru/?do=referat-na-temu-skacha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40)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jam-warez.ru/soft/212919-tuneup-utilities-120210024-portable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42)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vitosp1.ucoz.ru/photo/sport/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(слайд  43)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accidentalcollin.blogspot.com/2012/12/blog-post_822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357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Опасности Интернет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483920"/>
            <a:ext cx="41148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ее того, Интернет таит в себе много опасносте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законный контент: «взрослая» реклама табака, алкоголя, секса, азартные игры, порнограф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атные сервисы и услуги, которые оплачиваются отдельн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зывы к асоциальному поведению, насилию и жесток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3" descr="http://cs9788.vkontakte.ru/u64644379/101792905/x_6d537665.jpg"/>
          <p:cNvPicPr/>
          <p:nvPr/>
        </p:nvPicPr>
        <p:blipFill>
          <a:blip r:embed="rId1"/>
          <a:stretch/>
        </p:blipFill>
        <p:spPr>
          <a:xfrm>
            <a:off x="4857840" y="1714680"/>
            <a:ext cx="357192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00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Опасности Интернет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2560" y="1571400"/>
            <a:ext cx="450036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паганда сексуальной эксплуатации и суицидального повед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щение на форумах и чатах с мошенниками, аферистами и преступниками под личиной доброжелат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нуждение предоставления личной информации ребенка или его семьи, которая может быть использована в преступных цел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тернет-зависим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3" descr="http://www.sostav.ru/articles/rus/2012/26.12/news/images/ch.jpg"/>
          <p:cNvPicPr/>
          <p:nvPr/>
        </p:nvPicPr>
        <p:blipFill>
          <a:blip r:embed="rId1"/>
          <a:stretch/>
        </p:blipFill>
        <p:spPr>
          <a:xfrm>
            <a:off x="4857840" y="1785960"/>
            <a:ext cx="401148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нтернет-зависимост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14200" y="1546200"/>
            <a:ext cx="850104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к стало известно не так давно, зависимость может быть не только наркотической или алкогольной, но и компьютер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щение в социальных сетях заменяют ребенку общение с родителями и сверстниками, подвижные игры и физические занят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4" descr="http://www.manosveikata.lt/resources/_catalog/1-kid-ipad.jpg"/>
          <p:cNvPicPr/>
          <p:nvPr/>
        </p:nvPicPr>
        <p:blipFill>
          <a:blip r:embed="rId1"/>
          <a:stretch/>
        </p:blipFill>
        <p:spPr>
          <a:xfrm>
            <a:off x="2786040" y="3786120"/>
            <a:ext cx="363708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00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Интернет-зависимост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7120" y="1483920"/>
            <a:ext cx="832968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ети теряют коммуникационные навыки и перестают испытывать потребность в нормальном общ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 компьютерной зависимости человек погружается в виртуальную реальность и только изредка возвращается в реальную жиз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3" descr="http://yahooeu.ru/uploads/posts/2011-12/1323526078_33227821_inhabitcgs.jpg"/>
          <p:cNvPicPr/>
          <p:nvPr/>
        </p:nvPicPr>
        <p:blipFill>
          <a:blip r:embed="rId1"/>
          <a:stretch/>
        </p:blipFill>
        <p:spPr>
          <a:xfrm>
            <a:off x="1714680" y="3643200"/>
            <a:ext cx="5143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8-24T12:56:22Z</dcterms:modified>
  <cp:revision>66</cp:revision>
  <dc:subject/>
  <dc:title>Слайд 1</dc:title>
</cp:coreProperties>
</file>