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F25-8C3A-4709-98DE-ED6E3568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F4F-56DE-41BC-88F0-1F99E2AF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46A-5F57-4C65-A3AF-6773696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BC2-58EC-4103-A5F5-9CC8FB81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46B-8969-4F24-B3C8-E3805F2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30F-C701-4964-836A-32BA353C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034-0265-4A25-AC15-3AA41BA1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32E-30B1-4B95-B21A-B20C020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26C-B16C-49D2-AD4A-794F022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CC1-3816-466E-8266-72E400B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634-F9DB-4942-8440-A6664869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755-ED00-452D-834B-F820D74C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K:\ProPowerPoint\Шаблоны\В работе\Компьютер\Komp.jpg"/>
          <p:cNvPicPr/>
          <p:nvPr/>
        </p:nvPicPr>
        <p:blipFill>
          <a:blip r:embed="rId3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D93C-37DB-4DA9-A5A1-DA0C26B5389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ped-kopilka.ru/roditeljam/chem-opasen-internet-i-kompyuternye-igry.html" TargetMode="External"/><Relationship Id="rId2" Type="http://schemas.openxmlformats.org/officeDocument/2006/relationships/hyperlink" Target="http://ped-kopilka.ru/roditeljam/chem-opasen-internet-i-kompyuternye-igry.html" TargetMode="External"/><Relationship Id="rId3" Type="http://schemas.openxmlformats.org/officeDocument/2006/relationships/hyperlink" Target="http://ped-kopilka.ru/roditeljam/chem-opasen-internet-i-kompyuternye-igry.html" TargetMode="External"/><Relationship Id="rId4" Type="http://schemas.openxmlformats.org/officeDocument/2006/relationships/hyperlink" Target="http://ped-kopilka.ru/roditeljam/chem-opasen-internet-i-kompyuternye-igry.html" TargetMode="External"/><Relationship Id="rId5" Type="http://schemas.openxmlformats.org/officeDocument/2006/relationships/hyperlink" Target="http://ped-kopilka.ru/roditeljam/chem-opasen-internet-i-kompyuternye-igry.html" TargetMode="External"/><Relationship Id="rId6" Type="http://schemas.openxmlformats.org/officeDocument/2006/relationships/hyperlink" Target="http://ped-kopilka.ru/roditeljam/chem-opasen-internet-i-kompyuternye-igry.html" TargetMode="External"/><Relationship Id="rId7" Type="http://schemas.openxmlformats.org/officeDocument/2006/relationships/hyperlink" Target="http://ped-kopilka.ru/roditeljam/chem-opasen-internet-i-kompyuternye-igry.html" TargetMode="External"/><Relationship Id="rId8" Type="http://schemas.openxmlformats.org/officeDocument/2006/relationships/hyperlink" Target="http://ped-kopilka.ru/roditeljam/chem-opasen-internet-i-kompyuternye-igry.html" TargetMode="External"/><Relationship Id="rId9" Type="http://schemas.openxmlformats.org/officeDocument/2006/relationships/hyperlink" Target="http://ped-kopilka.ru/roditeljam/chem-opasen-internet-i-kompyuternye-igry.html" TargetMode="External"/><Relationship Id="rId10" Type="http://schemas.openxmlformats.org/officeDocument/2006/relationships/hyperlink" Target="http://ped-kopilka.ru/roditeljam/chem-opasen-internet-i-kompyuternye-igry.html" TargetMode="External"/><Relationship Id="rId11" Type="http://schemas.openxmlformats.org/officeDocument/2006/relationships/hyperlink" Target="http://ped-kopilka.ru/roditeljam/chem-opasen-internet-i-kompyuternye-igry.html" TargetMode="External"/><Relationship Id="rId12" Type="http://schemas.openxmlformats.org/officeDocument/2006/relationships/hyperlink" Target="http://ped-kopilka.ru/roditeljam/chem-opasen-internet-i-kompyuternye-igry.html" TargetMode="External"/><Relationship Id="rId13" Type="http://schemas.openxmlformats.org/officeDocument/2006/relationships/hyperlink" Target="http://ped-kopilka.ru/roditeljam/chem-opasen-internet-i-kompyuternye-igry.html" TargetMode="External"/><Relationship Id="rId14" Type="http://schemas.openxmlformats.org/officeDocument/2006/relationships/hyperlink" Target="http://ped-kopilka.ru/roditeljam/chem-opasen-internet-i-kompyuternye-igry.html" TargetMode="External"/><Relationship Id="rId15" Type="http://schemas.openxmlformats.org/officeDocument/2006/relationships/hyperlink" Target="http://ped-kopilka.ru/roditeljam/chem-opasen-internet-i-kompyuternye-igry.html" TargetMode="External"/><Relationship Id="rId16" Type="http://schemas.openxmlformats.org/officeDocument/2006/relationships/hyperlink" Target="http://ped-kopilka.ru/roditeljam/chem-opasen-internet-i-kompyuternye-igry.html" TargetMode="External"/><Relationship Id="rId17" Type="http://schemas.openxmlformats.org/officeDocument/2006/relationships/hyperlink" Target="http://ped-kopilka.ru/roditeljam/chem-opasen-internet-i-kompyuternye-igry.html" TargetMode="External"/><Relationship Id="rId18" Type="http://schemas.openxmlformats.org/officeDocument/2006/relationships/hyperlink" Target="http://ped-kopilka.ru/roditeljam/chem-opasen-internet-i-kompyuternye-igry.html" TargetMode="External"/><Relationship Id="rId19" Type="http://schemas.openxmlformats.org/officeDocument/2006/relationships/hyperlink" Target="http://ped-kopilka.ru/roditeljam/chem-opasen-internet-i-kompyuternye-igry.html" TargetMode="External"/><Relationship Id="rId20" Type="http://schemas.openxmlformats.org/officeDocument/2006/relationships/hyperlink" Target="http://ped-kopilka.ru/roditeljam/chem-opasen-internet-i-kompyuternye-igry.html" TargetMode="External"/><Relationship Id="rId21" Type="http://schemas.openxmlformats.org/officeDocument/2006/relationships/hyperlink" Target="http://ped-kopilka.ru/roditeljam/chem-opasen-internet-i-kompyuternye-igry.html" TargetMode="External"/><Relationship Id="rId22" Type="http://schemas.openxmlformats.org/officeDocument/2006/relationships/hyperlink" Target="http://ped-kopilka.ru/roditeljam/chem-opasen-internet-i-kompyuternye-igry.html" TargetMode="External"/><Relationship Id="rId23" Type="http://schemas.openxmlformats.org/officeDocument/2006/relationships/hyperlink" Target="http://ped-kopilka.ru/roditeljam/chem-opasen-internet-i-kompyuternye-igry.html" TargetMode="External"/><Relationship Id="rId24" Type="http://schemas.openxmlformats.org/officeDocument/2006/relationships/hyperlink" Target="http://art.ioso.ru/wiki/index.php" TargetMode="External"/><Relationship Id="rId25" Type="http://schemas.openxmlformats.org/officeDocument/2006/relationships/hyperlink" Target="http://art.ioso.ru/wiki/index.php" TargetMode="External"/><Relationship Id="rId26" Type="http://schemas.openxmlformats.org/officeDocument/2006/relationships/hyperlink" Target="http://profi-rus.by.ru/pravoslavie/text/vred-comp.html" TargetMode="External"/><Relationship Id="rId27" Type="http://schemas.openxmlformats.org/officeDocument/2006/relationships/hyperlink" Target="http://supermams.ru/bezopasnyj-internet-dlya-detej.htm" TargetMode="External"/><Relationship Id="rId28" Type="http://schemas.openxmlformats.org/officeDocument/2006/relationships/hyperlink" Target="http://www.elsmog.ru/index.php/vliaynieemi/pcemi.html" TargetMode="External"/><Relationship Id="rId29" Type="http://schemas.openxmlformats.org/officeDocument/2006/relationships/hyperlink" Target="http://www.elsmog.ru/index.php/vliaynieemi/pcemi.html" TargetMode="External"/><Relationship Id="rId3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propowerpoint.ru/kompyuter-shablon-dlya-prezentacij/" TargetMode="External"/><Relationship Id="rId2" Type="http://schemas.openxmlformats.org/officeDocument/2006/relationships/hyperlink" Target="http://propowerpoint.ru/kompyuter-shablon-dlya-prezentacij/" TargetMode="External"/><Relationship Id="rId3" Type="http://schemas.openxmlformats.org/officeDocument/2006/relationships/hyperlink" Target="http://www.gluxix.net/deafnews/smi-about-deaf/2795-2011-01-17-18-00-31" TargetMode="External"/><Relationship Id="rId4" Type="http://schemas.openxmlformats.org/officeDocument/2006/relationships/hyperlink" Target="http://old.inforotor.ru/id/companies/orfograficheskogoobschestva" TargetMode="External"/><Relationship Id="rId5" Type="http://schemas.openxmlformats.org/officeDocument/2006/relationships/hyperlink" Target="http://old.inforotor.ru/id/companies/orfograficheskogoobschestva" TargetMode="External"/><Relationship Id="rId6" Type="http://schemas.openxmlformats.org/officeDocument/2006/relationships/hyperlink" Target="http://w-paradise.ru/?category=11&amp;tag=15" TargetMode="External"/><Relationship Id="rId7" Type="http://schemas.openxmlformats.org/officeDocument/2006/relationships/hyperlink" Target="http://w-paradise.ru/?category=11&amp;tag=15" TargetMode="External"/><Relationship Id="rId8" Type="http://schemas.openxmlformats.org/officeDocument/2006/relationships/hyperlink" Target="http://styleandroid.ru/novosti/176-igry-dlya-android-blago-ili-skrytaya-ugroza.html" TargetMode="External"/><Relationship Id="rId9" Type="http://schemas.openxmlformats.org/officeDocument/2006/relationships/hyperlink" Target="http://nnm.ru/blogs/2007/11/page306/" TargetMode="External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vif-club.ru/news/9201-op-raskritikovala-zakon-o-zaschite-detey.html" TargetMode="External"/><Relationship Id="rId2" Type="http://schemas.openxmlformats.org/officeDocument/2006/relationships/hyperlink" Target="http://obozrevatel.com/?tape=culture" TargetMode="External"/><Relationship Id="rId3" Type="http://schemas.openxmlformats.org/officeDocument/2006/relationships/hyperlink" Target="http://obozrevatel.com/?tape=culture" TargetMode="External"/><Relationship Id="rId4" Type="http://schemas.openxmlformats.org/officeDocument/2006/relationships/hyperlink" Target="http://obozrevatel.com/?tape=culture" TargetMode="External"/><Relationship Id="rId5" Type="http://schemas.openxmlformats.org/officeDocument/2006/relationships/hyperlink" Target="http://www.1.yahooeu.ru/www/www/tags/%CA%EE%EC%EF%FC%FE%F2%E5%F0/" TargetMode="External"/><Relationship Id="rId6" Type="http://schemas.openxmlformats.org/officeDocument/2006/relationships/hyperlink" Target="http://ogli.org/2013/03/26/est-na-moey-pamyati-odin-postydnye-dlya-menya-rasskaz-kogda-ya-ukral-dengi-u-roditeley-i-potratil-ih-na-polnuyu-erundu-i-stydno-vrode-kak-i-vrode-kak-poshli-na-voploschenie-moey-pust-malenkoy-no-vse.html" TargetMode="External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fictionbook.ru/author/kim_doldjin/psihologiya_podrostkovogo_i_yunosheskogo_vozrasta/read_online.html?page=3" TargetMode="External"/><Relationship Id="rId2" Type="http://schemas.openxmlformats.org/officeDocument/2006/relationships/hyperlink" Target="http://fictionbook.ru/author/kim_doldjin/psihologiya_podrostkovogo_i_yunosheskogo_vozrasta/read_online.html?page=3" TargetMode="External"/><Relationship Id="rId3" Type="http://schemas.openxmlformats.org/officeDocument/2006/relationships/hyperlink" Target="http://hrtur.ru/article/ispolzuem-socialnye-seti-dlya-poiska-horoshih-sotrudnikov" TargetMode="External"/><Relationship Id="rId4" Type="http://schemas.openxmlformats.org/officeDocument/2006/relationships/hyperlink" Target="http://markhovhann.do.am/news/internet/1-0-9" TargetMode="External"/><Relationship Id="rId5" Type="http://schemas.openxmlformats.org/officeDocument/2006/relationships/hyperlink" Target="http://tairid.ucoz.ru/news/internet_marketing_i_seo_teorija_i_praktika/2013-03-13-19" TargetMode="External"/><Relationship Id="rId6" Type="http://schemas.openxmlformats.org/officeDocument/2006/relationships/hyperlink" Target="http://olhardigital.uol.com.br/negocios/digital_news/noticias/para-pesquisadores,-realidade-em-que-vivemos-pode-ser-simulacao" TargetMode="External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pin.pp.ua/kompyuternaya-prezentatsiya.html" TargetMode="External"/><Relationship Id="rId2" Type="http://schemas.openxmlformats.org/officeDocument/2006/relationships/hyperlink" Target="http://samsonov.name/news/tag/internet/page/2" TargetMode="External"/><Relationship Id="rId3" Type="http://schemas.openxmlformats.org/officeDocument/2006/relationships/hyperlink" Target="http://kino.tr200.biz/?id=169155" TargetMode="External"/><Relationship Id="rId4" Type="http://schemas.openxmlformats.org/officeDocument/2006/relationships/hyperlink" Target="http://astersoft.net/articles/page411/" TargetMode="External"/><Relationship Id="rId5" Type="http://schemas.openxmlformats.org/officeDocument/2006/relationships/hyperlink" Target="http://rsnovosti.ucoz.net/news/bezopasnost_detej_v_seti_internet/2012-09-30-29" TargetMode="External"/><Relationship Id="rId6" Type="http://schemas.openxmlformats.org/officeDocument/2006/relationships/hyperlink" Target="http://rdn-team.com/tags/%D1%E0%F8%E0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newsby.biz/by/2009/02/06/text4778.htm" TargetMode="External"/><Relationship Id="rId2" Type="http://schemas.openxmlformats.org/officeDocument/2006/relationships/hyperlink" Target="http://www.sovrabstvo.ru/vid_rabstva/tehnologicheskoe.html" TargetMode="External"/><Relationship Id="rId3" Type="http://schemas.openxmlformats.org/officeDocument/2006/relationships/hyperlink" Target="http://www.sovrabstvo.ru/vid_rabstva/tehnologicheskoe.html" TargetMode="External"/><Relationship Id="rId4" Type="http://schemas.openxmlformats.org/officeDocument/2006/relationships/hyperlink" Target="http://otvetovka.ru/igru/" TargetMode="External"/><Relationship Id="rId5" Type="http://schemas.openxmlformats.org/officeDocument/2006/relationships/hyperlink" Target="http://otvetovka.ru/igru/" TargetMode="External"/><Relationship Id="rId6" Type="http://schemas.openxmlformats.org/officeDocument/2006/relationships/hyperlink" Target="http://otvetovka.ru/igru/" TargetMode="External"/><Relationship Id="rId7" Type="http://schemas.openxmlformats.org/officeDocument/2006/relationships/hyperlink" Target="http://styleandroid.ru/novosti/176-igry-dlya-android-blago-ili-skrytaya-ugroza.html" TargetMode="External"/><Relationship Id="rId8" Type="http://schemas.openxmlformats.org/officeDocument/2006/relationships/hyperlink" Target="http://sweet211.ru/more/329172/" TargetMode="External"/><Relationship Id="rId9" Type="http://schemas.openxmlformats.org/officeDocument/2006/relationships/hyperlink" Target="http://sweet211.ru/more/329172/" TargetMode="External"/><Relationship Id="rId10" Type="http://schemas.openxmlformats.org/officeDocument/2006/relationships/hyperlink" Target="http://sweet211.ru/more/329172/" TargetMode="External"/><Relationship Id="rId11" Type="http://schemas.openxmlformats.org/officeDocument/2006/relationships/hyperlink" Target="http://sweet211.ru/more/329172/" TargetMode="External"/><Relationship Id="rId12" Type="http://schemas.openxmlformats.org/officeDocument/2006/relationships/hyperlink" Target="http://winstation.ucoz.ru/photo/1-0-2-3" TargetMode="External"/><Relationship Id="rId13" Type="http://schemas.openxmlformats.org/officeDocument/2006/relationships/hyperlink" Target="http://info.sibnet.ru/?text=&amp;order=msg&amp;p=45" TargetMode="External"/><Relationship Id="rId14" Type="http://schemas.openxmlformats.org/officeDocument/2006/relationships/hyperlink" Target="http://info.sibnet.ru/?text=&amp;order=msg&amp;p=45" TargetMode="External"/><Relationship Id="rId15" Type="http://schemas.openxmlformats.org/officeDocument/2006/relationships/hyperlink" Target="http://info.sibnet.ru/?text=&amp;order=msg&amp;p=45" TargetMode="External"/><Relationship Id="rId16" Type="http://schemas.openxmlformats.org/officeDocument/2006/relationships/hyperlink" Target="http://info.sibnet.ru/?text=&amp;order=msg&amp;p=45" TargetMode="External"/><Relationship Id="rId17" Type="http://schemas.openxmlformats.org/officeDocument/2006/relationships/hyperlink" Target="http://info.sibnet.ru/?text=&amp;order=msg&amp;p=45" TargetMode="Externa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vashaibolit.ru/7484-patologicheskoe-vliyanie-kompyutera-na-organizm-cheloveka.html" TargetMode="External"/><Relationship Id="rId2" Type="http://schemas.openxmlformats.org/officeDocument/2006/relationships/hyperlink" Target="http://wrist.3dn.ru/news/dvizhenie_ehto_zdorove/2013-03-19-34" TargetMode="External"/><Relationship Id="rId3" Type="http://schemas.openxmlformats.org/officeDocument/2006/relationships/hyperlink" Target="http://pda.amic.ru/114802/&amp;dd=20&amp;mm=11&amp;yy=2009" TargetMode="Externa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342900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Осторожно: компьютер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4200" y="4928760"/>
            <a:ext cx="614376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ьвова Татьяна Василье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МБОУ «СОШ №24» г. Брат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42960" y="2714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642960" y="2714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й час по формированию медиа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1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85520" y="19285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висимость от Интернета приводит к развитию неврозов, психозов и даже шизофр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4" descr="http://yunus.hacettepe.edu.tr/~b0122383/bm.jpg"/>
          <p:cNvPicPr/>
          <p:nvPr/>
        </p:nvPicPr>
        <p:blipFill>
          <a:blip r:embed="rId1"/>
          <a:stretch/>
        </p:blipFill>
        <p:spPr>
          <a:xfrm>
            <a:off x="2857680" y="2928960"/>
            <a:ext cx="32860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5520" y="1213920"/>
            <a:ext cx="79009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 привлекает подростков  социальными сетями. В Интернете легко и просто завести новые контакты или  прервать их, если что-либо вышло не так, как хотелось 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http://thelib.ru/books/00/15/22/00152252/i_004.jpg"/>
          <p:cNvPicPr/>
          <p:nvPr/>
        </p:nvPicPr>
        <p:blipFill>
          <a:blip r:embed="rId1"/>
          <a:stretch/>
        </p:blipFill>
        <p:spPr>
          <a:xfrm>
            <a:off x="1714680" y="300024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2560" y="1785960"/>
            <a:ext cx="507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этом не нужно беспокоиться о том, какое впечатление вы производите на другого человека. В Интернете можно представить себя таким, каким хочется, и не нужно стараться измениться внешне или чему-либо научиться. У подростка возникает иллюзия жизни, наполненной эмоциями, и при этом не возникает каких-либо сложностей. Все это очень обманч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http://cs10110.userapi.com/u150770857/-14/x_8fedb960.jpg"/>
          <p:cNvPicPr/>
          <p:nvPr/>
        </p:nvPicPr>
        <p:blipFill>
          <a:blip r:embed="rId1"/>
          <a:stretch/>
        </p:blipFill>
        <p:spPr>
          <a:xfrm>
            <a:off x="5214960" y="2071800"/>
            <a:ext cx="37116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4200" y="1785600"/>
            <a:ext cx="3857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 тратит время на пустое общение, и в реальной жизни у него может не быть друзей. За этим развлечением может скрываться одиночество, страх перед реальным общением, неуверенность в себе как в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3" descr="http://www.primmarketing.ru/img/news/2010/08/04/socmir/pic640.jpg"/>
          <p:cNvPicPr/>
          <p:nvPr/>
        </p:nvPicPr>
        <p:blipFill>
          <a:blip r:embed="rId1"/>
          <a:stretch/>
        </p:blipFill>
        <p:spPr>
          <a:xfrm>
            <a:off x="4429080" y="1785960"/>
            <a:ext cx="4357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7120" y="1643040"/>
            <a:ext cx="83296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подростка создается иллюзия общения, в то время как он становится все более одиноким и отвыкает общаться с живыми людь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3" descr="http://img11.nnm.ru/3/b/4/9/8/958a19816cb463a8749ab4ce5fa.jpg"/>
          <p:cNvPicPr/>
          <p:nvPr/>
        </p:nvPicPr>
        <p:blipFill>
          <a:blip r:embed="rId1"/>
          <a:stretch/>
        </p:blipFill>
        <p:spPr>
          <a:xfrm>
            <a:off x="2357280" y="3071880"/>
            <a:ext cx="451008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асность Интернет-общения заключается также в том, что возможно придумать себе любой образ. В процессе переписки можно представить себя кем угодно, даже киногероем, известной лич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http://img1.olhardigital.uol.com.br/uploads/acervo_imagens/2012/10/20121016133455.jpg"/>
          <p:cNvPicPr/>
          <p:nvPr/>
        </p:nvPicPr>
        <p:blipFill>
          <a:blip r:embed="rId1"/>
          <a:stretch/>
        </p:blipFill>
        <p:spPr>
          <a:xfrm>
            <a:off x="1525680" y="3214800"/>
            <a:ext cx="58658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4200" y="1500120"/>
            <a:ext cx="8444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 думают многие подростки и ошибочно тратят жизнь на Интернет, подвергают себя риску потерять собственное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 тому же стремление выдавать себя за другого человека часто приводит к психическим расстройств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http://cs9554.vkontakte.ru/u46806398/l_a4740d64.png"/>
          <p:cNvPicPr/>
          <p:nvPr/>
        </p:nvPicPr>
        <p:blipFill>
          <a:blip r:embed="rId1"/>
          <a:stretch/>
        </p:blipFill>
        <p:spPr>
          <a:xfrm>
            <a:off x="1928880" y="307188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9680" y="178560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а вы просиживаете часами в Интернете, ваши сверстники успевают что-то сделать, развиваются как личности, становятся более успешными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4" descr="http://samsonov.name/news/files/2012/04/image_551971136694660903984877588346691899.jpg"/>
          <p:cNvPicPr/>
          <p:nvPr/>
        </p:nvPicPr>
        <p:blipFill>
          <a:blip r:embed="rId1"/>
          <a:stretch/>
        </p:blipFill>
        <p:spPr>
          <a:xfrm>
            <a:off x="2286000" y="3214800"/>
            <a:ext cx="41860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928520"/>
            <a:ext cx="4286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 содержит массу спама и глупостей.  Некоторые сообщества способствует разжиганию межнациональных конфликтов, подстрекают к курению, алкоголю и употреблению наркотиков, антисоциальному поведению, суици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ferra.ru/images/351/351277.png"/>
          <p:cNvPicPr/>
          <p:nvPr/>
        </p:nvPicPr>
        <p:blipFill>
          <a:blip r:embed="rId1"/>
          <a:stretch/>
        </p:blipFill>
        <p:spPr>
          <a:xfrm>
            <a:off x="4786200" y="2214720"/>
            <a:ext cx="40640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356840"/>
            <a:ext cx="5000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 всегда  знаешь, какой реальный человек  сейчас пишет вам письмо  , кто общается сейчас вами в чате. Это может быть преступник. А ведь подобный «хищник» имеет доступ к информации о вас, он получает ее из анкет, которые вы заполнили. Он может осторожно выпытать какие-то детали в беседе с вами, может назначить встречу, завоевав доверие разговорам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5" descr="http://www.fermer1.ru/sites/default/files/imagecache/500x500/wysiwyg_imageupload/2444/komp1.jpg"/>
          <p:cNvPicPr/>
          <p:nvPr/>
        </p:nvPicPr>
        <p:blipFill>
          <a:blip r:embed="rId1"/>
          <a:stretch/>
        </p:blipFill>
        <p:spPr>
          <a:xfrm>
            <a:off x="5000760" y="2000160"/>
            <a:ext cx="380988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71360" y="2214720"/>
            <a:ext cx="76914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формирование медиакультур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 с  правилами  безопасного и ответственного поведения в информационной среде, способах защиты в сети Интернет,  вредными последствиями компьютерных игр, дать представление об Интернет-зависимости, киберзавис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Содержимое 3" descr="http://www.nakaba.ru/forum/download/file.php?id=43152&amp;sid=3ab2c879b591f60059142b1ece995b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http://www.dv-reclama.ru/upload/iblock/290/Liga_bezopasnogo_internet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480" y="1928520"/>
            <a:ext cx="385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улярные видеоигры категории Е, рекомендованные для детей старше шести лет, воспитываю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лонность к насилию и жестокости. Там нужно бить, стрелять и убивать, и за это полагается вознагражд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3" descr="http://images1.wikia.nocookie.net/__cb20090608152353/halofanon/images/thumb/d/dd/800px-SPARTAN-II_Super_Soldiers.jpg/600px-800px-SPARTAN-II_Super_Soldiers.jpg"/>
          <p:cNvPicPr/>
          <p:nvPr/>
        </p:nvPicPr>
        <p:blipFill>
          <a:blip r:embed="rId1"/>
          <a:stretch/>
        </p:blipFill>
        <p:spPr>
          <a:xfrm>
            <a:off x="4572000" y="192888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9680" y="1483920"/>
            <a:ext cx="818676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грах типа «action» на насилие уходит 91 процент времени, причем в 27 процентах игр насилие приводит к смерти. Несмотря на то что  убийство и самоубийство не настоящие - в сознании игроманов реальная жизнь смешивается с виртуа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4" descr="http://www.sovrabstvo.ru/images/fon2/tehnologia/computer_game4.jpg"/>
          <p:cNvPicPr/>
          <p:nvPr/>
        </p:nvPicPr>
        <p:blipFill>
          <a:blip r:embed="rId1"/>
          <a:stretch/>
        </p:blipFill>
        <p:spPr>
          <a:xfrm>
            <a:off x="2428920" y="3571920"/>
            <a:ext cx="4143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2000160"/>
            <a:ext cx="4000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ериканская ассоциация психологов    APA заключила, что "игровое" насилие провоцирует "агрессивные мысли, агрессивное поведение и гневные чувства среди молодежи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Рисунок 3" descr="http://otvetovka.ru/uploads/posts/2012-03/3428.jpg"/>
          <p:cNvPicPr/>
          <p:nvPr/>
        </p:nvPicPr>
        <p:blipFill>
          <a:blip r:embed="rId1"/>
          <a:stretch/>
        </p:blipFill>
        <p:spPr>
          <a:xfrm>
            <a:off x="4714920" y="1785960"/>
            <a:ext cx="4143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99680" y="2285640"/>
            <a:ext cx="8115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"Показывая насильственные действия без последствий, игры учат молодежь тому, что насилие является эффективным средством разрешения конфликтов", — заявила психолог APA Элизабет Карлл. По ее словам, "наигравшись" в насилие, подростки могут захотеть продолжить эксперименты с агрессией в реаль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4200" y="1714320"/>
            <a:ext cx="4857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параллельно с прививкой жестокости у компьютерного поколения происходит падение умственных способностей. Ученые университета Тохоку в Японии обнаружили, что компьютерные игры стимулируют лишь те участки головного мозга, которые отвечают за зрение и движение, но не способствуют развитию других важных его участ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http://styleandroid.ru/uploads/posts/2012-10/1351181576_polza-i-vred-kompyuternyh-igr_7.jpg"/>
          <p:cNvPicPr/>
          <p:nvPr/>
        </p:nvPicPr>
        <p:blipFill>
          <a:blip r:embed="rId1"/>
          <a:stretch/>
        </p:blipFill>
        <p:spPr>
          <a:xfrm>
            <a:off x="5143680" y="2071800"/>
            <a:ext cx="3654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42680"/>
            <a:ext cx="45435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гры останавливают развитие лобных долей мозга, которые отвечают за поведение человека, тренировку памяти, эмоции и обуч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-за плохой развитости лобных долей мозга примитивный человек был агрессивным и злобным, неспособным жить в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teadus.err.ee/webimage8thumbshow?image_id=5305"/>
          <p:cNvPicPr/>
          <p:nvPr/>
        </p:nvPicPr>
        <p:blipFill>
          <a:blip r:embed="rId1"/>
          <a:stretch/>
        </p:blipFill>
        <p:spPr>
          <a:xfrm>
            <a:off x="5357880" y="2214720"/>
            <a:ext cx="31431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вот, компьютерные игры ведут к деградации именно лобных долей. А те дети, которые занимаются старой доброй арифметикой и решают традиционные математические задачи, лобные доли развив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3" descr="Игры для Android - благо или скрытая угроза?"/>
          <p:cNvPicPr/>
          <p:nvPr/>
        </p:nvPicPr>
        <p:blipFill>
          <a:blip r:embed="rId1"/>
          <a:stretch/>
        </p:blipFill>
        <p:spPr>
          <a:xfrm>
            <a:off x="2286000" y="3929040"/>
            <a:ext cx="4714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71400"/>
            <a:ext cx="56865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лее того, когда игрок переживает за компьютерного героя, как за себя, в крови выделяется адреналин, активизируя участки мозга, отвечающие за удовольствия. Адреналин разрушается при движении, но так как игрок сидит без движения ,то адреналин застаивается и разрушает нервную систему. В результате этого развивается неврастения и происходят необратимые процессы в работ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3" descr="http://img241.imageshack.us/img241/5791/6897736842mh.jpg"/>
          <p:cNvPicPr/>
          <p:nvPr/>
        </p:nvPicPr>
        <p:blipFill>
          <a:blip r:embed="rId1"/>
          <a:stretch/>
        </p:blipFill>
        <p:spPr>
          <a:xfrm>
            <a:off x="6143760" y="1714680"/>
            <a:ext cx="264312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ти 1,8 млрд. людей в мире подключены к Сети. Ежегодно растет число пользователей, среди которых все больше детей и подрос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http://static.zebra.lt/files/200907/M3qFRvfK.jpg"/>
          <p:cNvPicPr/>
          <p:nvPr/>
        </p:nvPicPr>
        <p:blipFill>
          <a:blip r:embed="rId1"/>
          <a:stretch/>
        </p:blipFill>
        <p:spPr>
          <a:xfrm>
            <a:off x="1643040" y="2786040"/>
            <a:ext cx="5940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6760" y="5571720"/>
            <a:ext cx="7643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ймеры и игроманы - это гении и таланты пустоты и никчемности, это - несчастные и больные лю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http://s5.gb-pics.com/userpics/cdf0ae61d5.gif"/>
          <p:cNvPicPr/>
          <p:nvPr/>
        </p:nvPicPr>
        <p:blipFill>
          <a:blip r:embed="rId1"/>
          <a:stretch/>
        </p:blipFill>
        <p:spPr>
          <a:xfrm>
            <a:off x="1785960" y="1500120"/>
            <a:ext cx="5524560" cy="371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11" name="Прямоугольник 4"/>
          <p:cNvSpPr/>
          <p:nvPr/>
        </p:nvSpPr>
        <p:spPr>
          <a:xfrm>
            <a:off x="1785960" y="5072040"/>
            <a:ext cx="55720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760" y="1857240"/>
            <a:ext cx="4572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бенок, углубившись в виртуальное общение, игры, перестает гулять на улице, встречаться с друзьями и мало двигается, как следствие, наступают проблемы со зрением, пищеварением, опорно-двигательным аппаратом, появляется повышенная утомляемость и головокру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Рисунок 3" descr="http://alimero.ru/uploads/images/00/59/48/2012/10/22/f0fd95.jpg"/>
          <p:cNvPicPr/>
          <p:nvPr/>
        </p:nvPicPr>
        <p:blipFill>
          <a:blip r:embed="rId1"/>
          <a:stretch/>
        </p:blipFill>
        <p:spPr>
          <a:xfrm>
            <a:off x="5072040" y="2214720"/>
            <a:ext cx="39290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1360" y="1484280"/>
            <a:ext cx="76150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3" descr="http://www.pvz.by/wp-content/uploads/2011/10/hypodynamicsdisea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1714320"/>
            <a:ext cx="4000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мпьютер имеет сразу два источника электромагнитного излучения (монитор и системный блок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льзователь ПК лишен возможности работать на безопасном расстоя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3" descr="http://davam.az/uploads/posts/2011-12/1323760414_matrix-filmi-_reng.jpg"/>
          <p:cNvPicPr/>
          <p:nvPr/>
        </p:nvPicPr>
        <p:blipFill>
          <a:blip r:embed="rId1"/>
          <a:stretch/>
        </p:blipFill>
        <p:spPr>
          <a:xfrm>
            <a:off x="4286160" y="2214720"/>
            <a:ext cx="442908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13880" y="1785960"/>
            <a:ext cx="75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магнитное излучение наибольшее влияние оказывает на иммунную, нервную, эндокринную и половую систему. Иммунная система уменьшает выброс в кровь специальных ферментов, выполняющих защитную функцию, происходит ослабление системы клеточного иммунитета. Эндокринная система начинает выбрасывать в кровь большее количество адреналина, как следствие, возрастает нагрузка на сердечно-сосудистую систему организма. Происходит сгущение крови, в результате чего клетки недополучают кислор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9680" y="1484280"/>
            <a:ext cx="818676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результате продолжительной работы за компьютером в течение нескольких дней человек чувствует себя уставшим, становится крайне раздражительным, часто отвечает на вопросы однозначными ответами, ему хочется прилечь. Такое явление в современном обществе получило название «синдром хронической усталост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apachan.net/images/201207/24/yqurmx0981rw.jpg"/>
          <p:cNvPicPr/>
          <p:nvPr/>
        </p:nvPicPr>
        <p:blipFill>
          <a:blip r:embed="rId1"/>
          <a:stretch/>
        </p:blipFill>
        <p:spPr>
          <a:xfrm>
            <a:off x="2500200" y="3929040"/>
            <a:ext cx="43578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чь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42680"/>
            <a:ext cx="3900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в Интернете среди подростков происходит на особом языке. Взрослым он даже не всегда понятен. При общении с помощью сокращенных и извращенных слов, смайликов, словарный запас и речевые способности подростка оскудев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3" descr="http://900igr.net/datai/informatika/JAzyk-SMS/0003-002-Short-Message-Service.jpg"/>
          <p:cNvPicPr/>
          <p:nvPr/>
        </p:nvPicPr>
        <p:blipFill>
          <a:blip r:embed="rId1"/>
          <a:stretch/>
        </p:blipFill>
        <p:spPr>
          <a:xfrm>
            <a:off x="4429080" y="1857240"/>
            <a:ext cx="40006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ч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357800" y="1356840"/>
            <a:ext cx="4572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компании любителей Интернета он выглядит своим и может общаться на этом сленге, но теряет свою грамотность, способность ясно выражать мысли и чувства. Длительное общение только в Интернете приводит к тому, что способность поддерживать разговор с живым человеком значительно снижается, даже утрачив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3" descr="http://www.dagpravda.ru/images/materials/full_sleng.jpg"/>
          <p:cNvPicPr/>
          <p:nvPr/>
        </p:nvPicPr>
        <p:blipFill>
          <a:blip r:embed="rId1"/>
          <a:stretch/>
        </p:blipFill>
        <p:spPr>
          <a:xfrm>
            <a:off x="214200" y="1571760"/>
            <a:ext cx="41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560" y="1856880"/>
            <a:ext cx="4786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нет полон всевозможных докладов и рефератов, которые становятся доступными для школьников после процедуры скачивания, занимающей не более пяти минут. Подростки распечатывают нужный реферат и сдают его учителю, даже не удосужившись его прочитать, естественно, так никакие знания получены не буду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Рисунок 3" descr="http://school.xvatit.com/images/f/f1/1107692.jpg"/>
          <p:cNvPicPr/>
          <p:nvPr/>
        </p:nvPicPr>
        <p:blipFill>
          <a:blip r:embed="rId1"/>
          <a:stretch/>
        </p:blipFill>
        <p:spPr>
          <a:xfrm>
            <a:off x="5000760" y="2000160"/>
            <a:ext cx="361620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785960"/>
            <a:ext cx="4971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помимо рефератов, в Интернете легко можно найти «решебники» по любым предметам, точно совпадающие с заданиями и задачами стандартных учебников школьной программы. Ребенок, привыкший регулярно списывать, самостоятельно перестает учить, а значит, усваивать материал и развив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4" descr="http://www.junior.ru/1b/images/referaty.jpg"/>
          <p:cNvPicPr/>
          <p:nvPr/>
        </p:nvPicPr>
        <p:blipFill>
          <a:blip r:embed="rId1"/>
          <a:stretch/>
        </p:blipFill>
        <p:spPr>
          <a:xfrm>
            <a:off x="5643720" y="1785960"/>
            <a:ext cx="3274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 недавнего времени Интернет ассоциировался с источником, где дети могли почерпнуть огромное количество полезной информации. Известно, что компьютер —  средство более быстрой и удобной передачи информации, он позволяет охватить нам более широкий круг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http://nk.org.ua/images/x_07c9c36a13816169.jpg"/>
          <p:cNvPicPr/>
          <p:nvPr/>
        </p:nvPicPr>
        <p:blipFill>
          <a:blip r:embed="rId1"/>
          <a:stretch/>
        </p:blipFill>
        <p:spPr>
          <a:xfrm>
            <a:off x="2428920" y="3714840"/>
            <a:ext cx="464328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42680"/>
            <a:ext cx="51436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ь на компьютере программы фильтрации, которые блокируют доступ к нежелательным сайтам, имеющим негативную информацию для детского воспри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ям пользоваться журналом просмотренных веб-страниц, который поможет контролировать ваши «путешествия»  в Интерне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http://images.mazika2day.com/images/42558634308562163672.jpg"/>
          <p:cNvPicPr/>
          <p:nvPr/>
        </p:nvPicPr>
        <p:blipFill>
          <a:blip r:embed="rId1"/>
          <a:stretch/>
        </p:blipFill>
        <p:spPr>
          <a:xfrm>
            <a:off x="5214960" y="2214720"/>
            <a:ext cx="3673440" cy="30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600" y="171432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ться поисковыми программами, чтобы находить нужн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 оценивать полезность сай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ться паролем и ником для общения в социальных сет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ть минимальную информацию о себе при регистрации на сай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ходить» от общения с чрезмерно назойливыми виртуальными «приятелям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егать «бесплатных» акций, лотерей и розыгры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1643040"/>
            <a:ext cx="4286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еключить своё внимание на другое занятие: неплохо увлечься спортом, найти себе какое-нибудь подвижное хобб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юбители компьютерных игр должны помнить, что перед сном эти развлечения вообще должны быть исключен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6" descr="http://s017.radikal.ru/i405/1207/50/cff37e2be277.jpg"/>
          <p:cNvPicPr/>
          <p:nvPr/>
        </p:nvPicPr>
        <p:blipFill>
          <a:blip r:embed="rId1"/>
          <a:stretch/>
        </p:blipFill>
        <p:spPr>
          <a:xfrm>
            <a:off x="4714920" y="1428840"/>
            <a:ext cx="400032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643040"/>
            <a:ext cx="7858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ростку, так же, как и взрослому человеку, на компьютерные игры можно тратить не более 1—2 часов в сутки. За это время можно и поиграть, и получить полезную информацию, и остаться живым человеком в реально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Рисунок 3" descr="http://kovalevajulia.ucoz.ru/sl16.gif"/>
          <p:cNvPicPr/>
          <p:nvPr/>
        </p:nvPicPr>
        <p:blipFill>
          <a:blip r:embed="rId1"/>
          <a:stretch/>
        </p:blipFill>
        <p:spPr>
          <a:xfrm>
            <a:off x="2428920" y="3857760"/>
            <a:ext cx="378612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213920" y="2571480"/>
            <a:ext cx="7000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2060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2920" y="149976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Опасен ли Интернет? Опасны ли компьютерные игры?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ed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kopilk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roditelja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che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opasen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inter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i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kompyuterny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igry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Чем опасен Интернет для ребёнка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art.ioso.ru/wiki/index.ph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О вреде компьютерных игр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ttp://profi-rus.by.ru/pravoslavie/text/vred-comp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Безопасный Интернет для детей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http://supermams.ru/bezopasnyj-internet-dlya-detej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Влияние компьютера на организм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www.elsmog.ru/index.php/vliaynieemi/pcemi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блон для презентации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ropowerpoint.ru/kompyuter-shablon-dlya-prezentacij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)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ld.inforotor.ru/id/companies/orfograficheskogoobsche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-paradise.ru/?category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=11&amp;tag=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5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styleandroid.ru/novosti/176-igry-dlya-android-blago-ili-skrytaya-ugro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6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nm.ru/blogs/2007/11/page30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7)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if-club.ru/news/9201-op-raskritikovala-zakon-o-zaschite-dete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bozrevatel.co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?tape=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1.yahooeu.ru/www/www/tags/%CA%EE%EC%EF%FC%FE%F2%E5%F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ogli.org/2013/03/26/est-na-moey-pamyati-odin-postydnye-dlya-menya-rasskaz-kogda-ya-ukral-dengi-u-roditeley-i-potratil-ih-na-polnuyu-erundu-i-stydno-vrode-kak-i-vrode-kak-poshli-na-voploschenie-moey-pust-malenkoy-no-vs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256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ictionbook.ru/author/kim_doldjin/psihologiya_podrostkovogo_i_yunosheskogo_vozrasta/read_online.html?pag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hrtur.ru/article/ispolzuem-socialnye-seti-dlya-poiska-horoshih-sotrudni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arkhovhann.do.am/news/internet/1-0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tairid.ucoz.ru/news/internet_marketing_i_seo_teorija_i_praktika/2013-03-13-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5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olhardigital.uol.com.br/negocios/digital_news/noticias/para-pesquisadores,-realidade-em-que-vivemos-pode-ser-simul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2920" y="1484280"/>
            <a:ext cx="8501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16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pin.pp.ua/kompyuternaya-prezentatsiy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7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amsonov.name/news/tag/internet/page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ino.tr200.biz/?id=1691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stersoft.net/articles/page41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snovosti.ucoz.net/news/bezopasnost_detej_v_seti_internet/2012-09-30-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dn-team.com/tags/%D1%E0%F8%E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перь все эти плюсы стали минусами. Как показали исследования, дети очень мало времени проводят в Интернете, учась чему-нибудь. В основном компьютер необходим для игр, Интернет — для скачивания музыки и программ (преимущественно тех же игр), а также для интерактивного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http://concreteplayground.com.au/_snacks/wp-content/uploads/2013/04/digitaladdict.jpg"/>
          <p:cNvPicPr/>
          <p:nvPr/>
        </p:nvPicPr>
        <p:blipFill>
          <a:blip r:embed="rId1"/>
          <a:stretch/>
        </p:blipFill>
        <p:spPr>
          <a:xfrm>
            <a:off x="2500200" y="3786120"/>
            <a:ext cx="4297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sby.biz/by/2009/02/06/text4778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sovrabstvo.ru/vid_rabstva/tehnologichesko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tvetovka.ru/ig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6, 2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tyleandroid.ru/novosti/176-igry-dlya-android-blago-ili-skrytaya-ugro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7)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sweet211.ru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mor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329172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instation.ucoz.ru/photo/1-0-2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nfo.sibnet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?text=&amp;order=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sg&amp;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=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ashaibolit.ru/7484-patologicheskoe-vliyanie-kompyutera-na-organizm-chelovek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rist.3dn.ru/news/dvizhenie_ehto_zdorove/2013-03-19-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3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da.amic.ru/114802/&amp;dd=20&amp;mm=11&amp;yy=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5)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pachan.net/220721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6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bluesystem.ru/news/?tag=%F1%EB%E5%ED%E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7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fashion2012.ru/modnyiy-sleng-slov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8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joshkar-ola.fis.ru/Obuchenie?good_id=10021379-otchet-po-praktike-dnevnik-prakt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9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orgtech.ru/?do=referat-na-temu-skach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0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jam-warez.ru/soft/212919-tuneup-utilities-120210024-portabl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2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vitosp1.ucoz.ru/photo/sport/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43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accidentalcollin.blogspot.com/2012/12/blog-post_822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83920"/>
            <a:ext cx="41148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того, Интернет таит в себе много опас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ый контент: «взрослая» реклама табака, алкоголя, секса, азартные игры, порнограф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тные сервисы и услуги, которые оплачиваются отде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ывы к асоциальному поведению, насилию и жесток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cs9788.vkontakte.ru/u64644379/101792905/x_6d537665.jpg"/>
          <p:cNvPicPr/>
          <p:nvPr/>
        </p:nvPicPr>
        <p:blipFill>
          <a:blip r:embed="rId1"/>
          <a:stretch/>
        </p:blipFill>
        <p:spPr>
          <a:xfrm>
            <a:off x="4857840" y="1714680"/>
            <a:ext cx="3571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00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2560" y="1571400"/>
            <a:ext cx="45003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паганда сексуальной эксплуатации и суицидального пове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на форумах и чатах с мошенниками, аферистами и преступниками под личиной доброжел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нуждение предоставления личной информации ребенка или его семьи, которая может быть использована в преступных цел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нет-зависи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http://www.sostav.ru/articles/rus/2012/26.12/news/images/ch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114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4200" y="1546200"/>
            <a:ext cx="85010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 стало известно не так давно, зависимость может быть не только наркотической или алкогольной, но и компьютер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в социальных сетях заменяют ребенку общение с родителями и сверстниками, подвижные игры и физические занят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4" descr="http://www.manosveikata.lt/resources/_catalog/1-kid-ipad.jpg"/>
          <p:cNvPicPr/>
          <p:nvPr/>
        </p:nvPicPr>
        <p:blipFill>
          <a:blip r:embed="rId1"/>
          <a:stretch/>
        </p:blipFill>
        <p:spPr>
          <a:xfrm>
            <a:off x="2786040" y="3786120"/>
            <a:ext cx="3637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00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7120" y="1483920"/>
            <a:ext cx="83296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ти теряют коммуникационные навыки и перестают испытывать потребность в нормальном общ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компьютерной зависимости человек погружается в виртуальную реальность и только изредка возвращается в реальную жи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3" descr="http://yahooeu.ru/uploads/posts/2011-12/1323526078_33227821_inhabitcgs.jpg"/>
          <p:cNvPicPr/>
          <p:nvPr/>
        </p:nvPicPr>
        <p:blipFill>
          <a:blip r:embed="rId1"/>
          <a:stretch/>
        </p:blipFill>
        <p:spPr>
          <a:xfrm>
            <a:off x="1714680" y="3643200"/>
            <a:ext cx="5143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24T12:56:22Z</dcterms:modified>
  <cp:revision>66</cp:revision>
  <dc:subject/>
  <dc:title>Слайд 1</dc:title>
</cp:coreProperties>
</file>