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BB3-EF63-4F7C-8AD2-DC34C165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500-A18A-483B-BD8D-234F2D0D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B76-ECB5-4EDC-9AC3-AADA5432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AAD-FBAB-41D3-BAF7-C9A7AE96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5CA-4390-4A65-A94A-908EF38D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C57-B45D-49CE-9850-ED2D355F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6AC-4A45-4553-90F2-8CEF7123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23B-3054-4786-807C-D04BDF77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634-E921-4CFC-953D-B16D9DBD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BE3-CFDA-4D14-BB68-6EBDFB91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B7F-05CF-49BD-99FB-AD893758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070-AF16-41EB-877A-9018D056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551D-412C-4767-B58C-D033EBAE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3069_zvetik-.ppt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28600" y="-1908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38088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У тебя всё получится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95480"/>
            <a:ext cx="769644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сть большое желание учитьс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…            желание есть, но небольш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   трудно сказать, есть желание или н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нет желания учиться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(_______ __________  __________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(_______  и  _______   _______  вт. чл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(  вт. чл.  _______  _______  и  _______   _________  вт. чл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(_______  ________ вт. чл. потому что  вт. чл. _______  ________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5909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1447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0574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137160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1240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3733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1911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(_______ __________ , __________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(______  и  ______,   ______ вт. чл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(  вт. чл.  ______,  _______  и  ______,    _________  вт. чл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(______,  _______ вт. чл., потому что  вт. чл. _______,  ________. 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1447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144792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400" y="10666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шь услыхала львиный рев, прибежала, перегрызла верев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епаха глянула своим черным глазом, пес умол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рались в скважинки коры комары, скрылись мошки, заснули жу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омко каркает на сосне ворона, воробьи чирикают на к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хнут ели, и от чистоты воздуха кружится го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знечики трещали в порыжелой траве перепела кричали ястребы плавно носились над полям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ья сливаются в чернеющие массы на синем небе робко выступают первые звезд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ще раз прозвенел над вами голос пеночки печально прокричала иволга соловей щелкнул в первый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ит октябрь и льют частые дож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ет сильный ве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олях убрали картофель капусту и морк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ва пожелтела и завя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са опустели листья с деревьев оп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овьи стрижи ласточки покинули свои гне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90720" y="990720"/>
            <a:ext cx="76197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(_______ _______, и _______ _______ 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(_______  ________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(______ ______  вт. чл., вт. чл.  и  вт. ч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(_______ _______ и  ________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(______ ________, и  _______ _______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(  вт. чл.  _______ _______, и  _______   _______  вт. чл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(_______,   ______,    _______  _______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изкультмин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371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12952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8288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3623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8954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2895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3526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335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3886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4343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4876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2951280"/>
        </p:xfrm>
        <a:graphic>
          <a:graphicData uri="http://schemas.openxmlformats.org/drawingml/2006/table">
            <a:tbl>
              <a:tblPr/>
              <a:tblGrid>
                <a:gridCol w="525600"/>
                <a:gridCol w="1471320"/>
                <a:gridCol w="2417760"/>
                <a:gridCol w="2102040"/>
                <a:gridCol w="26272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я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у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–за наличия сою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одны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 част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лож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228600" y="274320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вот луч солнца весело заиграл сквозь дымчатую сетку дождя на листьях деревьев, на тра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весеннему небу несутся низкие обл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вежем воздухе чувствуется еще сырость, но солнце все сильнее и сильнее пригревает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роняют на поля и   леса  обильные потоки дожд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из двух простых сложное предложение, отражая последовательность событий, избегая повторение одних и тех же 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ыба испугалась и уплыла. В море появилась лод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дорожкам и тропинкам побежали веселые ручейки. Солнце согрело зем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винограда получается изюм. Изюм очищается и суши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47560" y="11430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мотри на это чуч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его на солнце скрючи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кончился мороз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него растаял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це ухо прип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хо струйкой потек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1066680"/>
            <a:ext cx="777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Сядь правильно на свое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Определи расстояние глаз до мони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Включи компью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Папка «Нача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Суперд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Введи свое и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. Выбери: Веселы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8. Выбери: Найди ошиб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. Игр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У тебя всё получится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819520"/>
            <a:ext cx="7489800" cy="28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!             желание учиться усилилос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…            желание учиться не пропал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    трудно сказать, есть желание или н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        желание учиться пропало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у и подчеркну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у и подчеркну подлежа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ю, есть ли в предложен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родны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у 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авлю необходимые запя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91440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8080" y="1523520"/>
            <a:ext cx="533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05740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312408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733920"/>
            <a:ext cx="533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306864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62120" y="914400"/>
          <a:ext cx="7543800" cy="4979880"/>
        </p:xfrm>
        <a:graphic>
          <a:graphicData uri="http://schemas.openxmlformats.org/drawingml/2006/table">
            <a:tbl>
              <a:tblPr/>
              <a:tblGrid>
                <a:gridCol w="2743200"/>
                <a:gridCol w="2438640"/>
                <a:gridCol w="2361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, а, 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762120" y="914400"/>
          <a:ext cx="7467480" cy="5105520"/>
        </p:xfrm>
        <a:graphic>
          <a:graphicData uri="http://schemas.openxmlformats.org/drawingml/2006/table">
            <a:tbl>
              <a:tblPr/>
              <a:tblGrid>
                <a:gridCol w="2771640"/>
                <a:gridCol w="2486160"/>
                <a:gridCol w="2209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ос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, а, 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685800" y="838080"/>
          <a:ext cx="7467480" cy="5010120"/>
        </p:xfrm>
        <a:graphic>
          <a:graphicData uri="http://schemas.openxmlformats.org/drawingml/2006/table">
            <a:tbl>
              <a:tblPr/>
              <a:tblGrid>
                <a:gridCol w="2771640"/>
                <a:gridCol w="2486160"/>
                <a:gridCol w="2209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ос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 одинаковые члены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 одинаковых членов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, а, 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62120" y="838080"/>
          <a:ext cx="7315200" cy="5364000"/>
        </p:xfrm>
        <a:graphic>
          <a:graphicData uri="http://schemas.openxmlformats.org/drawingml/2006/table">
            <a:tbl>
              <a:tblPr/>
              <a:tblGrid>
                <a:gridCol w="2715120"/>
                <a:gridCol w="2435400"/>
                <a:gridCol w="2164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ос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 одинаковые члены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 одинаковых членов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, а, 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306864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38080" y="838080"/>
          <a:ext cx="7238880" cy="5135760"/>
        </p:xfrm>
        <a:graphic>
          <a:graphicData uri="http://schemas.openxmlformats.org/drawingml/2006/table">
            <a:tbl>
              <a:tblPr/>
              <a:tblGrid>
                <a:gridCol w="2687760"/>
                <a:gridCol w="2570040"/>
                <a:gridCol w="1981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ос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 одинаковые члены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 одинаковых членов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не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66320" y="838080"/>
            <a:ext cx="66294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Умею ли я различать простые и сложные предло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мею хорош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недостаточно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не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Умею ли я расставлять знаки препинания в предл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мею хорош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недостаточно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не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Умею ли я подбирать схемы к предложениям и составлять предложения по схем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мею хорош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недостаточно ум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не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19T12:1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