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F1C-860B-44A8-ACF5-B86B92CB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DE4-615A-4323-A580-61B072EB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E22-FD4F-4BC8-8E4C-6445636E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A30-B755-486C-9FB8-CE0A0F40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C74-E3A6-4343-9C9E-1E1D7232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D55-FB02-43DA-BA57-2BFF1360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6BF-DE45-49C8-88E5-FD5986FD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FDB-22ED-4BC2-997F-360CAFE6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347-2468-4D7B-8DF2-9BF43DB6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4F2-8309-4D02-91A9-2C72E979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A026-F7F2-4AD7-B675-9CD76B0A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C41-2944-4A29-B942-3E51E85A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204D-6E7C-48DE-A08E-27C3E6646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3069_zvetik-.ppt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28600" y="-1908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380880"/>
            <a:ext cx="8229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У тебя всё получится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95480"/>
            <a:ext cx="769644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сть большое желание учитьс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…            желание есть, но небольшо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?   трудно сказать, есть желание или не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нет желания учиться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(_______ __________  __________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(_______  и  _______   _______  вт. чл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(  вт. чл.  _______  _______  и  _______   _________  вт. чл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(_______  ________ вт. чл. потому что  вт. чл. _______  ________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5909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1447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20574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137160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12408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37339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41911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(_______ __________ , __________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(______  и  ______,   ______ вт. чл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(  вт. чл.  ______,  _______  и  ______,    _________  вт. чл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(______,  _______ вт. чл., потому что  вт. чл. _______,  ________. 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1447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144792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400" y="10666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шь услыхала львиный рев, прибежала, перегрызла верев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репаха глянула своим черным глазом, пес умол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рались в скважинки коры комары, скрылись мошки, заснули жу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омко каркает на сосне ворона, воробьи чирикают на ку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хнут ели, и от чистоты воздуха кружится го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315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знечики трещали в порыжелой траве перепела кричали ястребы плавно носились над полями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евья сливаются в чернеющие массы на синем небе робко выступают первые звезд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ще раз прозвенел над вами голос пеночки печально прокричала иволга соловей щелкнул в первый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ит октябрь и льют частые дож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ует сильный ве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полях убрали картофель капусту и морк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ава пожелтела и завя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са опустели листья с деревьев оп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овьи стрижи ласточки покинули свои гнез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90720" y="990720"/>
            <a:ext cx="76197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(_______ _______, и _______ _______ 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(_______  ________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(______ ______  вт. чл., вт. чл.  и  вт. ч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(_______ _______ и  ________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(______ ________, и  _______ _______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(  вт. чл.  _______ _______, и  _______   _______  вт. чл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(_______,   ______,    _______  _______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физкультмин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13716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12952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8288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3623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8954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2895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33526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3352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3886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4343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48769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144000" cy="2951280"/>
        </p:xfrm>
        <a:graphic>
          <a:graphicData uri="http://schemas.openxmlformats.org/drawingml/2006/table">
            <a:tbl>
              <a:tblPr/>
              <a:tblGrid>
                <a:gridCol w="525600"/>
                <a:gridCol w="1471320"/>
                <a:gridCol w="2417760"/>
                <a:gridCol w="2102040"/>
                <a:gridCol w="262728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я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у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–за наличия сою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родны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 чл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 частя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ложн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228600" y="274320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вот луч солнца весело заиграл сквозь дымчатую сетку дождя на листьях деревьев, на тра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весеннему небу несутся низкие обла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вежем воздухе чувствуется еще сырость, но солнце все сильнее и сильнее пригревает зем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и роняют на поля и   леса  обильные потоки дожд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из двух простых сложное предложение, отражая последовательность событий, избегая повторение одних и тех же с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ыба испугалась и уплыла. В море появилась лод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дорожкам и тропинкам побежали веселые ручейки. Солнце согрело земл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винограда получается изюм. Изюм очищается и суши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447560" y="11430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мотри на это чуч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его на солнце скрючи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ько кончился мороз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него растаял 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лнце ухо припек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хо струйкой потек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38080" y="1066680"/>
            <a:ext cx="7772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Сядь правильно на свое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Определи расстояние глаз до мони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Включи компью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Папка «Начал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Суперд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Введи свое и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. Выбери: Веселы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8. Выбери: Найди ошиб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9. Игр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У тебя всё получится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2819520"/>
            <a:ext cx="7489800" cy="28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!             желание учиться усилилось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…            желание учиться не пропал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?    трудно сказать, есть желание или не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         желание учиться пропало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у и подчеркну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у и подчеркну подлежащ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ю, есть ли в предложен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родные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у пред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авлю необходимые запят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914400"/>
            <a:ext cx="533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8080" y="1523520"/>
            <a:ext cx="533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057400"/>
            <a:ext cx="533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3124080"/>
            <a:ext cx="533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733920"/>
            <a:ext cx="533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4000" y="3068640"/>
            <a:ext cx="8229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62120" y="914400"/>
          <a:ext cx="7543800" cy="4979880"/>
        </p:xfrm>
        <a:graphic>
          <a:graphicData uri="http://schemas.openxmlformats.org/drawingml/2006/table">
            <a:tbl>
              <a:tblPr/>
              <a:tblGrid>
                <a:gridCol w="2743200"/>
                <a:gridCol w="2438640"/>
                <a:gridCol w="2361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тое предложение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родными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ое предложение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одинак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ов предлож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ящихся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му слову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чающих на один и тот же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нет сою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есть союзы (и, да, а, 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762120" y="914400"/>
          <a:ext cx="7467480" cy="5105520"/>
        </p:xfrm>
        <a:graphic>
          <a:graphicData uri="http://schemas.openxmlformats.org/drawingml/2006/table">
            <a:tbl>
              <a:tblPr/>
              <a:tblGrid>
                <a:gridCol w="2771640"/>
                <a:gridCol w="2486160"/>
                <a:gridCol w="2209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тое предложение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родными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ое предложение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а ос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кольк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одинак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ов предлож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ящихся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му слову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чающих на один и тот же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нет сою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есть союзы (и, да, а, 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685800" y="838080"/>
          <a:ext cx="7467480" cy="5010120"/>
        </p:xfrm>
        <a:graphic>
          <a:graphicData uri="http://schemas.openxmlformats.org/drawingml/2006/table">
            <a:tbl>
              <a:tblPr/>
              <a:tblGrid>
                <a:gridCol w="2771640"/>
                <a:gridCol w="2486160"/>
                <a:gridCol w="2209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тое предложение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родными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ое предложение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а ос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кольк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ть одинаковые члены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одинак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ов предлож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ящихся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му слову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чающих на один и тот же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 одинаковых членов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нет сою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есть союзы (и, да, а, 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762120" y="838080"/>
          <a:ext cx="7315200" cy="5364000"/>
        </p:xfrm>
        <a:graphic>
          <a:graphicData uri="http://schemas.openxmlformats.org/drawingml/2006/table">
            <a:tbl>
              <a:tblPr/>
              <a:tblGrid>
                <a:gridCol w="2715120"/>
                <a:gridCol w="2435400"/>
                <a:gridCol w="2164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тое предложение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родными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ое предложение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а ос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кольк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ть одинаковые члены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одинак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ов предлож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ящихся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му слову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чающих на один и тот же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 одинаковых членов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ст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нет сою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ст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есть союзы (и, да, а, 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3068640"/>
            <a:ext cx="8229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38080" y="838080"/>
          <a:ext cx="7238880" cy="5135760"/>
        </p:xfrm>
        <a:graphic>
          <a:graphicData uri="http://schemas.openxmlformats.org/drawingml/2006/table">
            <a:tbl>
              <a:tblPr/>
              <a:tblGrid>
                <a:gridCol w="2687760"/>
                <a:gridCol w="2570040"/>
                <a:gridCol w="1981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тое предложение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родными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ое предложение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а ос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кольк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ть одинаковые члены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одинак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ов предлож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ящихся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му слову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чающих на один и тот же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 одинаковых членов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ст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нет сою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ст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не ст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есть союзы (и, д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ст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66320" y="838080"/>
            <a:ext cx="66294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Умею ли я различать простые и сложные предло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умею хорош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недостаточно уме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не уме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Умею ли я расставлять знаки препинания в предлож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умею хорош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недостаточно уме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не уме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Умею ли я подбирать схемы к предложениям и составлять предложения по схем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умею хорош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недостаточно ум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не уме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19T12:19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