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75DA6-BAAC-4280-BBAF-84DEAF351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8BCC6-1A48-497A-BCD7-CC512C86F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1517D-B57E-41E0-86E3-6F478C999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AD34D-CE9A-45ED-90F8-C7292BE22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463FC-521D-450E-B899-7D2C7C7B5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7B198-E142-4D3A-8397-61969AC43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D99A1-217B-42E8-ACC6-B31169381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015EC-2E44-4B31-94B9-1938C456D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E5F80-48E7-4F1A-A5EE-4ABB8AE59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83919-715C-4FF3-8608-67A16ECCF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BE0AF-7A6C-4FFB-AA76-BC7470CAB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FE3FD-DD75-43E1-9660-FC2C1FC02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D4D67-8D91-4114-9F16-294EC3DE85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3069_zvetik-.ppt" TargetMode="External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-228600" y="-19080"/>
            <a:ext cx="9372600" cy="70293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80880" y="380880"/>
            <a:ext cx="822960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Comic Sans MS"/>
              </a:rPr>
              <a:t>У тебя всё получится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38080" y="2895480"/>
            <a:ext cx="7696440" cy="30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!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есть большое желание учиться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…            желание есть, но небольшое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?   трудно сказать, есть желание или нет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-        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      нет желания учиться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53352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(_______ __________  __________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(_______  и  _______   _______  вт. чл.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 (  вт. чл.  _______  _______  и  _______   _________  вт. чл.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 (_______  ________ вт. чл. потому что  вт. чл. _______  ________.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495680" y="2590920"/>
            <a:ext cx="1600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257800" y="1447920"/>
            <a:ext cx="22096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257800" y="2057400"/>
            <a:ext cx="1600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819520" y="1371600"/>
            <a:ext cx="22096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914400" y="3124080"/>
            <a:ext cx="2057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895480" y="3733920"/>
            <a:ext cx="1828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038480" y="4191120"/>
            <a:ext cx="1828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53352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(_______ __________ , __________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(______  и  ______,   ______ вт. чл.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 (  вт. чл.  ______,  _______  и  ______,    _________  вт. чл.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 (______,  _______ вт. чл., потому что  вт. чл. _______,  ________. 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43200" y="1447920"/>
            <a:ext cx="22096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410080" y="1447920"/>
            <a:ext cx="22100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914400" y="106668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ышь услыхала львиный рев, прибежала, перегрызла веревк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Черепаха глянула своим черным глазом, пес умолк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685800" y="99072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абрались в скважинки коры комары, скрылись мошки, заснули жуч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ромко каркает на сосне ворона, воробьи чирикают на куст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ахнут ели, и от чистоты воздуха кружится голо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609480" y="914040"/>
            <a:ext cx="73152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узнечики трещали в порыжелой траве перепела кричали ястребы плавно носились над полями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еревья сливаются в чернеющие массы на синем небе робко выступают первые звездоч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Еще раз прозвенел над вами голос пеночки печально прокричала иволга соловей щелкнул в первый раз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685800" y="990360"/>
            <a:ext cx="7391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тоит октябрь и льют частые дожд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ует сильный вете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 полях убрали картофель капусту и морков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рава пожелтела и завя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еса опустели листья с деревьев опал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оловьи стрижи ласточки покинули свои гнезд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990720" y="990720"/>
            <a:ext cx="76197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(_______ _______, и _______ _______ 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(_______  ________.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 (______ ______  вт. чл., вт. чл.  и  вт. чл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(_______ _______ и  ________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 (______ ________, и  _______ _______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 (  вт. чл.  _______ _______, и  _______   _______  вт. чл.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 (_______,   ______,    _______  _______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физкультминут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971800" y="1371600"/>
            <a:ext cx="1371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876920" y="1295280"/>
            <a:ext cx="1371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048120" y="1828800"/>
            <a:ext cx="1523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2362320"/>
            <a:ext cx="1219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876920" y="2895480"/>
            <a:ext cx="1523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971800" y="2895480"/>
            <a:ext cx="1371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19520" y="3352680"/>
            <a:ext cx="1523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952880" y="3352680"/>
            <a:ext cx="1371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419720" y="3886200"/>
            <a:ext cx="1371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447920" y="4343400"/>
            <a:ext cx="1371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629400" y="4876920"/>
            <a:ext cx="1371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5" name=""/>
          <p:cNvGraphicFramePr/>
          <p:nvPr/>
        </p:nvGraphicFramePr>
        <p:xfrm>
          <a:off x="0" y="0"/>
          <a:ext cx="9144000" cy="2951280"/>
        </p:xfrm>
        <a:graphic>
          <a:graphicData uri="http://schemas.openxmlformats.org/drawingml/2006/table">
            <a:tbl>
              <a:tblPr/>
              <a:tblGrid>
                <a:gridCol w="525600"/>
                <a:gridCol w="1471320"/>
                <a:gridCol w="2417760"/>
                <a:gridCol w="2102040"/>
                <a:gridCol w="2627280"/>
              </a:tblGrid>
              <a:tr h="3682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пят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08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сут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ву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сутству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–за наличия союз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жд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днородны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 членам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жду частями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ложно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ложен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06" name=""/>
          <p:cNvSpPr/>
          <p:nvPr/>
        </p:nvSpPr>
        <p:spPr>
          <a:xfrm>
            <a:off x="228600" y="2743200"/>
            <a:ext cx="86104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о вот луч солнца весело заиграл сквозь дымчатую сетку дождя на листьях деревьев, на трав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 весеннему небу несутся низкие облак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 свежем воздухе чувствуется еще сырость, но солнце все сильнее и сильнее пригревает землю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ни роняют на поля и   леса  обильные потоки дожд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оставьте из двух простых сложное предложение, отражая последовательность событий, избегая повторение одних и тех же сл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ыба испугалась и уплыла. В море появилась лодк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 дорожкам и тропинкам побежали веселые ручейки. Солнце согрело землю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з винограда получается изюм. Изюм очищается и сушитс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1447560" y="1143000"/>
            <a:ext cx="6172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смотри на это чучел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ак его на солнце скрючило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олько кончился мороз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 него растаял но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олнце ухо припекл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хо струйкой потекло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38080" y="1066680"/>
            <a:ext cx="7772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1. Сядь правильно на свое рабочее мест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2. Определи расстояние глаз до монито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3. Включи компьюте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4. Папка «Началк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5. Супердет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6. Введи свое им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7. Выбери: Веселый диктан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8. Выбери: Найди ошибк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9. Играт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Comic Sans MS"/>
              </a:rPr>
              <a:t>У тебя всё получится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990720" y="2819520"/>
            <a:ext cx="7489800" cy="28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!             желание учиться усилилось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…            желание учиться не пропало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?    трудно сказать, есть желание или нет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-         желание учиться пропало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8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3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762120" y="914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йду и подчеркну сказуем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йду и подчеркну подлежаще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пределю, есть ли в предложении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днородные чле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пишу предлож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сставлю необходимые запяты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38080" y="914400"/>
            <a:ext cx="5335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838080" y="1523520"/>
            <a:ext cx="5335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38080" y="2057400"/>
            <a:ext cx="5335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914400" y="3124080"/>
            <a:ext cx="5335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990720" y="3733920"/>
            <a:ext cx="53316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24000" y="3068640"/>
            <a:ext cx="822960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762120" y="914400"/>
          <a:ext cx="7543800" cy="4979880"/>
        </p:xfrm>
        <a:graphic>
          <a:graphicData uri="http://schemas.openxmlformats.org/drawingml/2006/table">
            <a:tbl>
              <a:tblPr/>
              <a:tblGrid>
                <a:gridCol w="2743200"/>
                <a:gridCol w="2438640"/>
                <a:gridCol w="236196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остое предложение 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днородными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членам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Линии сравн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ложное предложение     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личество осн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личие одинаковы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членов предложения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тносящихся 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дному слову 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твечающих на один и тот же вопро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личие  запятых в предложении, если нет союз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личие  запятых в предложении, если есть союзы (и, да, а, но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9" name=""/>
          <p:cNvGraphicFramePr/>
          <p:nvPr/>
        </p:nvGraphicFramePr>
        <p:xfrm>
          <a:off x="762120" y="914400"/>
          <a:ext cx="7467480" cy="5105520"/>
        </p:xfrm>
        <a:graphic>
          <a:graphicData uri="http://schemas.openxmlformats.org/drawingml/2006/table">
            <a:tbl>
              <a:tblPr/>
              <a:tblGrid>
                <a:gridCol w="2771640"/>
                <a:gridCol w="2486160"/>
                <a:gridCol w="220968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остое предложение 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днородными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членам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Линии сравн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ложное предложение     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дна осно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личество осн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сколько осн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личие одинаковы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членов предложения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тносящихся 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дному слову 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твечающих на один и тот же вопро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личие  запятых в предложении, если нет союз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личие  запятых в предложении, если есть союзы (и, да, а, но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1" name=""/>
          <p:cNvGraphicFramePr/>
          <p:nvPr/>
        </p:nvGraphicFramePr>
        <p:xfrm>
          <a:off x="685800" y="838080"/>
          <a:ext cx="7467480" cy="5010120"/>
        </p:xfrm>
        <a:graphic>
          <a:graphicData uri="http://schemas.openxmlformats.org/drawingml/2006/table">
            <a:tbl>
              <a:tblPr/>
              <a:tblGrid>
                <a:gridCol w="2771640"/>
                <a:gridCol w="2486160"/>
                <a:gridCol w="220968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остое предложение 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днородными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членам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Линии сравн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ложное предложение     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дна осно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личество осн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сколько осн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Есть одинаковые члены предлож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личие одинаковы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членов предложения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тносящихся 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дному слову 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твечающих на один и тот же вопро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т одинаковых членов предлож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личие  запятых в предложении, если нет союз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личие  запятых в предложении, если есть союзы (и, да, а, но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3" name=""/>
          <p:cNvGraphicFramePr/>
          <p:nvPr/>
        </p:nvGraphicFramePr>
        <p:xfrm>
          <a:off x="762120" y="838080"/>
          <a:ext cx="7315200" cy="5364000"/>
        </p:xfrm>
        <a:graphic>
          <a:graphicData uri="http://schemas.openxmlformats.org/drawingml/2006/table">
            <a:tbl>
              <a:tblPr/>
              <a:tblGrid>
                <a:gridCol w="2715120"/>
                <a:gridCol w="2435400"/>
                <a:gridCol w="216468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остое предложение 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днородными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членам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Линии сравн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ложное предложение     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дна осно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личество осн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сколько осн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80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Есть одинаковые члены предлож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личие одинаковы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членов предложения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тносящихся 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дному слову 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твечающих на один и тот же вопро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т одинаковых членов предлож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6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апятая ставитс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личие  запятых в предложении, если нет союз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апятая ставитс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72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личие  запятых в предложении, если есть союзы (и, да, а, но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24000" y="3068640"/>
            <a:ext cx="822960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838080" y="838080"/>
          <a:ext cx="7238880" cy="5135760"/>
        </p:xfrm>
        <a:graphic>
          <a:graphicData uri="http://schemas.openxmlformats.org/drawingml/2006/table">
            <a:tbl>
              <a:tblPr/>
              <a:tblGrid>
                <a:gridCol w="2687760"/>
                <a:gridCol w="2570040"/>
                <a:gridCol w="198108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остое предложение 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днородными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членам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Линии сравн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ложное предложение     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дна осно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личество осн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сколько осн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Есть одинаковые члены предлож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личие одинаковы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членов предложения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тносящихся 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дному слову 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твечающих на один и тот же вопро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т одинаковых членов предлож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апятая ставитс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личие  запятых в предложении, если нет союз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апятая ставитс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9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апятая не ставитс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личие  запятых в предложении, если есть союзы (и, да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апятая ставитс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1066320" y="838080"/>
            <a:ext cx="6629400" cy="51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 Умею ли я различать простые и сложные предложени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А) умею хорошо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Б) недостаточно умею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) не умею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. Умею ли я расставлять знаки препинания в предложени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А) умею хорошо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Б) недостаточно умею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) не умею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. Умею ли я подбирать схемы к предложениям и составлять предложения по схеме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А) умею хорошо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Б) недостаточно уме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) не умею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0-04-19T12:19:46Z</dcterms:modified>
  <cp:revision>3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