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EC5-F013-4942-8D43-C6714038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E3A-5C2A-4FF7-AE5F-A6915DAC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84A-0836-49FB-9288-B7C2E535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610-078F-4F54-90AA-16EBBAB4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EF0-4645-45DE-AC3E-75B899DB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E53-3902-47E7-9699-A7901708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7F6-E94A-4F41-A1E6-1F1F4674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C11-A522-435E-905C-70E8363C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643-D873-414D-865E-0D02575C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540-FA60-47C9-A576-7F2533D9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DFE-2043-4FC7-934B-E65C686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617-C46F-4FC0-B163-A8E562C2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D8F1-F850-47B2-98A5-6D903EF09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928880" y="2214720"/>
            <a:ext cx="623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ессионизм в музыке и живопи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143160" y="3714840"/>
            <a:ext cx="25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 музыки в 7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643280" y="47862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дготовила: учитель музыки и МХ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БОУ ЦО №14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.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донина О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429000" y="214308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28760" y="64296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рессионизм – направление французского  искусства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а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X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Моне автопортрет.jpg"/>
          <p:cNvPicPr/>
          <p:nvPr/>
        </p:nvPicPr>
        <p:blipFill>
          <a:blip r:embed="rId2"/>
          <a:stretch/>
        </p:blipFill>
        <p:spPr>
          <a:xfrm>
            <a:off x="5289480" y="2004840"/>
            <a:ext cx="2997360" cy="3996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91400" y="31431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д  М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Боровиковский графиня Лопухина.jpg"/>
          <p:cNvPicPr/>
          <p:nvPr/>
        </p:nvPicPr>
        <p:blipFill>
          <a:blip r:embed="rId2"/>
          <a:stretch/>
        </p:blipFill>
        <p:spPr>
          <a:xfrm>
            <a:off x="785880" y="642960"/>
            <a:ext cx="3089160" cy="39290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Ренуар Девушка расчесывающая волосы.jpg"/>
          <p:cNvPicPr/>
          <p:nvPr/>
        </p:nvPicPr>
        <p:blipFill>
          <a:blip r:embed="rId3"/>
          <a:stretch/>
        </p:blipFill>
        <p:spPr>
          <a:xfrm>
            <a:off x="5143680" y="642960"/>
            <a:ext cx="3152520" cy="3913200"/>
          </a:xfrm>
          <a:prstGeom prst="rect">
            <a:avLst/>
          </a:prstGeom>
          <a:ln w="0">
            <a:noFill/>
          </a:ln>
        </p:spPr>
      </p:pic>
      <p:pic>
        <p:nvPicPr>
          <p:cNvPr id="56" name="Жан-Эффлам_Бавузе_(фортепиано)__Клод_Дебюсси.mp3" descr=""/>
          <p:cNvPicPr/>
          <p:nvPr/>
        </p:nvPicPr>
        <p:blipFill>
          <a:blip r:embed="rId4"/>
          <a:stretch/>
        </p:blipFill>
        <p:spPr>
          <a:xfrm>
            <a:off x="7991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4597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Боровиковский графиня Лопухина.jpg"/>
          <p:cNvPicPr/>
          <p:nvPr/>
        </p:nvPicPr>
        <p:blipFill>
          <a:blip r:embed="rId2"/>
          <a:stretch/>
        </p:blipFill>
        <p:spPr>
          <a:xfrm>
            <a:off x="785880" y="642960"/>
            <a:ext cx="3089160" cy="3929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Ренуар Девушка расчесывающая волосы.jpg"/>
          <p:cNvPicPr/>
          <p:nvPr/>
        </p:nvPicPr>
        <p:blipFill>
          <a:blip r:embed="rId3"/>
          <a:stretch/>
        </p:blipFill>
        <p:spPr>
          <a:xfrm>
            <a:off x="5143680" y="642960"/>
            <a:ext cx="3152520" cy="3913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785880" y="5143680"/>
            <a:ext cx="427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.Борови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графини  Лопухи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572080" y="5143680"/>
            <a:ext cx="382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Рену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ая девуш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сывающая вол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Алексеев Ф.Я. Соборная площадь в Москве.jpg"/>
          <p:cNvPicPr/>
          <p:nvPr/>
        </p:nvPicPr>
        <p:blipFill>
          <a:blip r:embed="rId2"/>
          <a:stretch/>
        </p:blipFill>
        <p:spPr>
          <a:xfrm>
            <a:off x="285840" y="928800"/>
            <a:ext cx="4214880" cy="31604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Моне Руанский собор полдень.jpg"/>
          <p:cNvPicPr/>
          <p:nvPr/>
        </p:nvPicPr>
        <p:blipFill>
          <a:blip r:embed="rId3"/>
          <a:stretch/>
        </p:blipFill>
        <p:spPr>
          <a:xfrm>
            <a:off x="5715000" y="1643040"/>
            <a:ext cx="3048120" cy="4448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357120" y="4910760"/>
            <a:ext cx="514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от конту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тались уловить малейшие изменения        предмета в зависимости от освещ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и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1357200" y="2858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сновные черты импрессионизма в живопи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85840" y="4214880"/>
            <a:ext cx="49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Ф.Я.Алексеев «Соборная площадь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5715000" y="12142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.Моне «Руанский соб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786040" y="642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ы картин К.М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6" descr="Моне Стог сена в Живерни.jpg"/>
          <p:cNvPicPr/>
          <p:nvPr/>
        </p:nvPicPr>
        <p:blipFill>
          <a:blip r:embed="rId2"/>
          <a:stretch/>
        </p:blipFill>
        <p:spPr>
          <a:xfrm>
            <a:off x="357120" y="1571760"/>
            <a:ext cx="3857760" cy="2868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Моне Лондонский парламент.jpg"/>
          <p:cNvPicPr/>
          <p:nvPr/>
        </p:nvPicPr>
        <p:blipFill>
          <a:blip r:embed="rId3"/>
          <a:stretch/>
        </p:blipFill>
        <p:spPr>
          <a:xfrm>
            <a:off x="4500720" y="2428920"/>
            <a:ext cx="4429080" cy="3779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1143000" y="485784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га в Живе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4572000" y="150012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донский 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лнце, пробивающееся сквозь тум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786120" y="100008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714240" y="2000160"/>
            <a:ext cx="7934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изм 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правление в европейском и русском искусстве  и лит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870-1910 гг., проникнутое индивидуализмом и мистициз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 отражающее действительность в условных и отвлеч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фор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71680" y="3929040"/>
            <a:ext cx="82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ушайте два стихотворения и определите, какое из этих стихотво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ся к стилю  СИМВО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642960" y="507204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.Верлен «Искусство  поэзии»                В.Семернин «Музы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фон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928960" y="928800"/>
            <a:ext cx="36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debyussi_-_lunnyy_svet_(zaycev.net)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155960" y="2000160"/>
            <a:ext cx="31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 услыша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1143000" y="2857680"/>
            <a:ext cx="50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й образ лег в основу карти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317600" y="371484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ебюсси  «Лунный св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11447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Клод Бебюсси.jpg"/>
          <p:cNvPicPr/>
          <p:nvPr/>
        </p:nvPicPr>
        <p:blipFill>
          <a:blip r:embed="rId2"/>
          <a:stretch/>
        </p:blipFill>
        <p:spPr>
          <a:xfrm>
            <a:off x="714240" y="1571760"/>
            <a:ext cx="250056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4643280" y="2928960"/>
            <a:ext cx="21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д  Дебюс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214880" y="785880"/>
            <a:ext cx="13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20:09:11Z</dcterms:created>
  <dc:creator>Пользователь</dc:creator>
  <dc:description/>
  <dc:language>en-US</dc:language>
  <cp:lastModifiedBy>Vlad</cp:lastModifiedBy>
  <dcterms:modified xsi:type="dcterms:W3CDTF">2013-03-19T21:07:51Z</dcterms:modified>
  <cp:revision>49</cp:revision>
  <dc:subject/>
  <dc:title>Слайд 1</dc:title>
</cp:coreProperties>
</file>