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7D7-282D-4813-8C0F-CC44DB8F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03E-AF1C-48BB-8DE7-DBEE84E9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6C1-42BC-44B4-BB91-8823F1F7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E5A-8687-4DB8-94D0-888523CB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FD6-0EE8-4B09-BEC2-F9F05FE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F58-84AF-4447-86FC-E8F6291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C88-4ECC-4561-ACB2-08291428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49C-7D11-4A16-8CA4-4BA6B613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5FA-ACAD-4480-969E-05E7A67A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FFD-248E-459D-BEA7-56C3B3D3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793-9032-4EB6-A146-977773D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9AF-E081-4C6F-A319-19CA9D3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A4B-8880-4056-85ED-60944EF6B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928880" y="2214720"/>
            <a:ext cx="623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онизм в музыке и жив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3160" y="371484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музыки в 7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643280" y="47862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готовила: учитель музыки и МХ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БОУ ЦО №14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донина О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429000" y="2143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8760" y="642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онизм – направление французского  искусств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X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Моне автопортрет.jpg"/>
          <p:cNvPicPr/>
          <p:nvPr/>
        </p:nvPicPr>
        <p:blipFill>
          <a:blip r:embed="rId2"/>
          <a:stretch/>
        </p:blipFill>
        <p:spPr>
          <a:xfrm>
            <a:off x="5289480" y="2004840"/>
            <a:ext cx="2997360" cy="3996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91400" y="31431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 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Боровиковский графиня Лопухина.jpg"/>
          <p:cNvPicPr/>
          <p:nvPr/>
        </p:nvPicPr>
        <p:blipFill>
          <a:blip r:embed="rId2"/>
          <a:stretch/>
        </p:blipFill>
        <p:spPr>
          <a:xfrm>
            <a:off x="785880" y="642960"/>
            <a:ext cx="3089160" cy="3929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Ренуар Девушка расчесывающая волосы.jpg"/>
          <p:cNvPicPr/>
          <p:nvPr/>
        </p:nvPicPr>
        <p:blipFill>
          <a:blip r:embed="rId3"/>
          <a:stretch/>
        </p:blipFill>
        <p:spPr>
          <a:xfrm>
            <a:off x="5143680" y="642960"/>
            <a:ext cx="3152520" cy="3913200"/>
          </a:xfrm>
          <a:prstGeom prst="rect">
            <a:avLst/>
          </a:prstGeom>
          <a:ln w="0">
            <a:noFill/>
          </a:ln>
        </p:spPr>
      </p:pic>
      <p:pic>
        <p:nvPicPr>
          <p:cNvPr id="56" name="Жан-Эффлам_Бавузе_(фортепиано)__Клод_Дебюсси.mp3" descr=""/>
          <p:cNvPicPr/>
          <p:nvPr/>
        </p:nvPicPr>
        <p:blipFill>
          <a:blip r:embed="rId4"/>
          <a:stretch/>
        </p:blipFill>
        <p:spPr>
          <a:xfrm>
            <a:off x="7991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4597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Боровиковский графиня Лопухина.jpg"/>
          <p:cNvPicPr/>
          <p:nvPr/>
        </p:nvPicPr>
        <p:blipFill>
          <a:blip r:embed="rId2"/>
          <a:stretch/>
        </p:blipFill>
        <p:spPr>
          <a:xfrm>
            <a:off x="785880" y="642960"/>
            <a:ext cx="3089160" cy="3929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Ренуар Девушка расчесывающая волосы.jpg"/>
          <p:cNvPicPr/>
          <p:nvPr/>
        </p:nvPicPr>
        <p:blipFill>
          <a:blip r:embed="rId3"/>
          <a:stretch/>
        </p:blipFill>
        <p:spPr>
          <a:xfrm>
            <a:off x="5143680" y="642960"/>
            <a:ext cx="3152520" cy="3913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785880" y="5143680"/>
            <a:ext cx="427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.Борови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графини  Лопух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572080" y="5143680"/>
            <a:ext cx="38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Рену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ая дев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сывающая вол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лексеев Ф.Я. Соборная площадь в Москве.jpg"/>
          <p:cNvPicPr/>
          <p:nvPr/>
        </p:nvPicPr>
        <p:blipFill>
          <a:blip r:embed="rId2"/>
          <a:stretch/>
        </p:blipFill>
        <p:spPr>
          <a:xfrm>
            <a:off x="285840" y="928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Моне Руанский собор полдень.jpg"/>
          <p:cNvPicPr/>
          <p:nvPr/>
        </p:nvPicPr>
        <p:blipFill>
          <a:blip r:embed="rId3"/>
          <a:stretch/>
        </p:blipFill>
        <p:spPr>
          <a:xfrm>
            <a:off x="5715000" y="1643040"/>
            <a:ext cx="3048120" cy="4448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357120" y="4910760"/>
            <a:ext cx="514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конту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тались уловить малейшие изменения        предмета в зависимости от освещ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357200" y="2858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сновные черты импрессионизма в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85840" y="4214880"/>
            <a:ext cx="49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Ф.Я.Алексеев «Соборная площадь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5715000" y="1214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.Моне «Руанский соб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786040" y="642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ы картин К.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Моне Стог сена в Живерни.jpg"/>
          <p:cNvPicPr/>
          <p:nvPr/>
        </p:nvPicPr>
        <p:blipFill>
          <a:blip r:embed="rId2"/>
          <a:stretch/>
        </p:blipFill>
        <p:spPr>
          <a:xfrm>
            <a:off x="357120" y="1571760"/>
            <a:ext cx="3857760" cy="2868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Моне Лондонский парламент.jpg"/>
          <p:cNvPicPr/>
          <p:nvPr/>
        </p:nvPicPr>
        <p:blipFill>
          <a:blip r:embed="rId3"/>
          <a:stretch/>
        </p:blipFill>
        <p:spPr>
          <a:xfrm>
            <a:off x="4500720" y="2428920"/>
            <a:ext cx="4429080" cy="3779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1143000" y="485784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га в Жив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4572000" y="150012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ский 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нце, пробивающееся сквозь тум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786120" y="100008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14240" y="2000160"/>
            <a:ext cx="7934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зм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правление в европейском и русском искусстве  и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70-1910 гг., проникнутое индивидуализмом и мистициз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 отражающее действительность в условных и отвлеч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71680" y="3929040"/>
            <a:ext cx="82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два стихотворения и определите, какое из этих стихотво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стилю  СИМВО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642960" y="507204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.Верлен «Искусство  поэзии»                В.Семернин «Музы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фон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928960" y="928800"/>
            <a:ext cx="36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ebyussi_-_lunnyy_svet_(zaycev.net)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155960" y="2000160"/>
            <a:ext cx="31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 услыш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143000" y="285768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й образ лег в основу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317600" y="371484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ебюсси  «Лунный св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1144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Клод Бебюсси.jpg"/>
          <p:cNvPicPr/>
          <p:nvPr/>
        </p:nvPicPr>
        <p:blipFill>
          <a:blip r:embed="rId2"/>
          <a:stretch/>
        </p:blipFill>
        <p:spPr>
          <a:xfrm>
            <a:off x="714240" y="1571760"/>
            <a:ext cx="250056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643280" y="2928960"/>
            <a:ext cx="21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 Дебюс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214880" y="78588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0:09:11Z</dcterms:created>
  <dc:creator>Пользователь</dc:creator>
  <dc:description/>
  <dc:language>en-US</dc:language>
  <cp:lastModifiedBy>Vlad</cp:lastModifiedBy>
  <dcterms:modified xsi:type="dcterms:W3CDTF">2013-03-19T21:07:51Z</dcterms:modified>
  <cp:revision>49</cp:revision>
  <dc:subject/>
  <dc:title>Слайд 1</dc:title>
</cp:coreProperties>
</file>