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D11-7A4B-4160-9210-205C8DA7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40F-357C-47DF-ACE8-9028FE92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A84-CB21-4A23-8744-86FB9F6C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108-1938-44D4-94EC-518A37CC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5B9-9448-41C1-A2BD-B18F58D6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1E4-1EC2-455D-85B8-D1D1D1F7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BD0-FC1E-4213-B63B-52AE0084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9CF-A3A6-4343-B123-1344AD6D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DC2-4E39-42B8-A572-23E6230D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B45-E871-4E38-8FC8-32F608AD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B36-09C0-4B38-9E55-56332ADE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181-CB20-4D7C-941C-5B1E8086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F457-BFE2-44FA-8C9F-76D00DA4D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foteka.ru/r-163632.ht" TargetMode="External"/><Relationship Id="rId3" Type="http://schemas.openxmlformats.org/officeDocument/2006/relationships/hyperlink" Target="http://refoteka.ru/r-163632.ht" TargetMode="External"/><Relationship Id="rId4" Type="http://schemas.openxmlformats.org/officeDocument/2006/relationships/hyperlink" Target="http://refoteka.ru/r-163632.ht" TargetMode="External"/><Relationship Id="rId5" Type="http://schemas.openxmlformats.org/officeDocument/2006/relationships/hyperlink" Target="http://refoteka.ru/r-163632.ht" TargetMode="External"/><Relationship Id="rId6" Type="http://schemas.openxmlformats.org/officeDocument/2006/relationships/hyperlink" Target="http://www.abakanonline.ru/index.php?option=com_content&amp;view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Спортивные игры (баскетбол), 1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4800600" cy="2895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685800" y="2133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актическое взаимодействие игроков в нападении и защит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105520" y="3581280"/>
            <a:ext cx="403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: Михайлин Антон Геннад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рабо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ОУ СОШ №45 г. Калининг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Основная часть 29-30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4191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е защитников и напада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роение в парах в противоположных углах спортивного зала у лицевой линии баскетбольной площ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исунок2"/>
          <p:cNvPicPr/>
          <p:nvPr/>
        </p:nvPicPr>
        <p:blipFill>
          <a:blip r:embed="rId2"/>
          <a:srcRect l="0" t="3130" r="1565" b="28130"/>
          <a:stretch/>
        </p:blipFill>
        <p:spPr>
          <a:xfrm>
            <a:off x="533520" y="1219320"/>
            <a:ext cx="426708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80880" y="3844800"/>
            <a:ext cx="83059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гроки нападения с мячами. Два игрока перемещаются лицом друг к другу (защитник спиной вперед) на расстоянии вытянутой руки. Нападающий, выполняя ведение мяча и используя обманные движения (финты), должен обойти защитника. Защитник должен своим корпусом закрывать возможный проход для нападающего при этом не идти с ним на столкновение. В противоположном углу спортивного зала происходит смена р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Бросок одной рукой от плеч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пражнения с применением быстрого прорыва 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23920" y="3505320"/>
            <a:ext cx="396252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секая среднюю линию зала, тройка нападающих играет против двойки защитников (действия 3х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3"/>
          <p:cNvPicPr/>
          <p:nvPr/>
        </p:nvPicPr>
        <p:blipFill>
          <a:blip r:embed="rId2"/>
          <a:srcRect l="0" t="0" r="0" b="25000"/>
          <a:stretch/>
        </p:blipFill>
        <p:spPr>
          <a:xfrm>
            <a:off x="228600" y="342900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57200" y="15238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в 3 колонны у лицевой линии баскетбольной площадки. Два игрока (защитники) у противоположного щита. Передача мяча в движении в тройках с последующим перемещением игрока в сторону выполненной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пражнения в засл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йствия 3х3 с применением комбинации “треугольник”, “тройка”. Игроки разбиваются на группы, как указано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рисунок5"/>
          <p:cNvPicPr/>
          <p:nvPr/>
        </p:nvPicPr>
        <p:blipFill>
          <a:blip r:embed="rId2"/>
          <a:srcRect l="0" t="0" r="0" b="24272"/>
          <a:stretch/>
        </p:blipFill>
        <p:spPr>
          <a:xfrm>
            <a:off x="1219320" y="3581280"/>
            <a:ext cx="6705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ебная игра 4х4 в трех командах. 5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120" y="1523880"/>
            <a:ext cx="556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анды располагаются на площа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нападающая команда реализовала атаку удачным броском, то она атакует противоположную команд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40000" y="4038480"/>
            <a:ext cx="627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защищающаяся команда перехватила мяч, то она выполняет атаку на противоположную команду. Команда нападения остается в защите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рисунок4"/>
          <p:cNvPicPr/>
          <p:nvPr/>
        </p:nvPicPr>
        <p:blipFill>
          <a:blip r:embed="rId2"/>
          <a:srcRect l="0" t="0" r="0" b="25404"/>
          <a:stretch/>
        </p:blipFill>
        <p:spPr>
          <a:xfrm>
            <a:off x="4267080" y="1071720"/>
            <a:ext cx="4876920" cy="2728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рисунок9"/>
          <p:cNvPicPr/>
          <p:nvPr/>
        </p:nvPicPr>
        <p:blipFill>
          <a:blip r:embed="rId3"/>
          <a:srcRect l="0" t="0" r="0" b="25404"/>
          <a:stretch/>
        </p:blipFill>
        <p:spPr>
          <a:xfrm>
            <a:off x="457200" y="4130640"/>
            <a:ext cx="48769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чебная игра 4х4 в трех команд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анды располагаются на площадке, как указано на рису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рисунок4"/>
          <p:cNvPicPr/>
          <p:nvPr/>
        </p:nvPicPr>
        <p:blipFill>
          <a:blip r:embed="rId2"/>
          <a:srcRect l="0" t="0" r="0" b="25404"/>
          <a:stretch/>
        </p:blipFill>
        <p:spPr>
          <a:xfrm>
            <a:off x="990720" y="2895480"/>
            <a:ext cx="67053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Учебно-тренировочная игра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5 х 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аимодействие игроков в нападении выполняется по системе “передал – выходи” или, применяя заслоны. Зонная защита: одна команда (3:2), а другая (1:3: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рисунок6"/>
          <p:cNvPicPr/>
          <p:nvPr/>
        </p:nvPicPr>
        <p:blipFill>
          <a:blip r:embed="rId2"/>
          <a:srcRect l="0" t="0" r="0" b="24902"/>
          <a:stretch/>
        </p:blipFill>
        <p:spPr>
          <a:xfrm>
            <a:off x="1752480" y="3733920"/>
            <a:ext cx="5486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Заключительная ча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тро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бор игры. 2-3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метить групповые действия в нападении и защите, а так же действия отдельных игро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обрать тактические оши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тить внимание отдельных игроков на их “слабые места” (физическая, техническая подготов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емы игры в баскетбо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fotek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r-163632.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fizkult-ura.ru/sci/ бросок в прыжке с отклон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тт Н. Ю. “Энциклопедия спорта”, М.:199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мельский А.. Я. “Все о баскетболе”, М.:200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тивные и подвижные игры” под общей редакцией доц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А. Чумакова, “Физическая культура и спорт”, М.:197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ка игры в баскетбол refotek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бов В.В. “История физической культуры и спорта”.-М.:19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в баскетбо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abakanonline.ru/index.php?option=com_content&amp;vie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ая культура и спорт”-под редакцией доктора педагогических наук Ю.Д. Железняка, профессора Ю.М. Портнова, М.:200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Unicode MS"/>
              </a:rPr>
              <a:t>Задачи урока</a:t>
            </a:r>
            <a:r>
              <a:rPr b="0" lang="en-US" sz="4400" spc="-1" strike="noStrike">
                <a:solidFill>
                  <a:srgbClr val="800000"/>
                </a:solidFill>
                <a:latin typeface="Arial Unicode MS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ершенствовать взаимодействие игроков в позиционном нападении и зонной защит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вивать игровую выносливость и быстроту двигательной реак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питывать психологическую устойчивость (противостояние утомлению, психологическому напряжени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Вводно-подготовительная часть,  7-8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6248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80880" y="18558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ение. Приветствие. Сообщение темы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Разминка. Упражнения в пар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вижная игра (п.и.) “Салки в парах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52880" y="38098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.и. “Салки в парах” спиной впере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9520" y="5638680"/>
            <a:ext cx="259092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181840" cy="213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685800" y="38098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.и. “Салки в парах” приставными прыжк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1752480" y="4876920"/>
            <a:ext cx="5105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Вводно-подготовительная часть,  7-8 м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оение в 2 шеренги у лицевой линии баскетбольной площадки. Расстояние между шеренгами 1,5-2 м. Игроки обеих шеренг выполняют прыжки вверх - колени к груди. По сигналу игроки обеих шеренг выполняют ускорение вперед. Игроки 2-ой шеренги должны осалить игроков 1-ой шеренг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В исходное положение игроки возвращаются шагом. Смена шерен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ение в 2 шеренги у лицевой линии баскетбольной площадки. Игроки 2-ой шеренги соединяют кисти в замок. Игроки 1-ой шеренги, взявшись правой (левой) рукой за кистевой замок, тянут игроков 2-ой шеренги до противоположной лицевой линии. На средней линии зала происходит смена рук. В обратном направлении происходит смена шере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Построение в 2 шеренги у лицевой линии баскетбольной площ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гроки 2-ой шеренги, упираясь руками в спины игрокам 1-ой шеренги, толкают их до противоположной лицевой линии. В обратном направлении происходит смена шерен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Комментарии к вводно-подготовительной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ки должны перемещаться с изменением направления и скорости. Разрешается выполнять остано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ки должны перемещаться с изменением направления и скорости только спиной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роки должны перемещаться в низкой стойке только приставными прыжками правым или левым б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остроение в 2 шеренги у лицевой линии баскетбольной площад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715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тояние между шеренгами 1,5-2 м. игроки обеих шеренг выполняют ускорение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гроки 2-ой шеренги должны осалить игроков 1-ой шерен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сходное положение игроки возвращаются шагом. Смена шере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рисунок1"/>
          <p:cNvPicPr/>
          <p:nvPr/>
        </p:nvPicPr>
        <p:blipFill>
          <a:blip r:embed="rId2"/>
          <a:srcRect l="28130" t="0" r="0" b="3905"/>
          <a:stretch/>
        </p:blipFill>
        <p:spPr>
          <a:xfrm>
            <a:off x="6248520" y="1905120"/>
            <a:ext cx="26287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4:27:28Z</dcterms:created>
  <dc:creator>user</dc:creator>
  <dc:description/>
  <dc:language>en-US</dc:language>
  <cp:lastModifiedBy>Мама</cp:lastModifiedBy>
  <dcterms:modified xsi:type="dcterms:W3CDTF">2014-01-25T22:27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