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14.jpeg" ContentType="image/jpeg"/>
  <Override PartName="/ppt/media/image2.png" ContentType="image/png"/>
  <Override PartName="/ppt/media/image1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9.png" ContentType="image/png"/>
  <Override PartName="/ppt/media/image5.png" ContentType="image/png"/>
  <Override PartName="/ppt/media/image8.jpeg" ContentType="image/jpe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D3DD4-AA2E-46FE-B011-D250E3D37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ED14B-5FEE-4A8B-BB5A-958D8FE53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92B70-695E-4911-A725-15AFBB1A1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B2F25-696C-4034-9845-B3FA793DF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FCB46-079B-4792-BD73-7F5FBAD42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FDB3C-6887-45D0-9718-6A7613787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0A8F7-0051-42B7-801B-FE2550E66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1097A-50A1-409C-9A82-2B2B52E1F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393BA-D75A-43D4-8B3E-8C2B3CE80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0D352-CBC6-48BF-9145-A048D83A4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A3989-729F-40F6-9039-A76D98F42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ED1AF-B8FB-4028-B27F-E59F4C975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06849-B6D9-4FC5-BD0E-3DDD6405A6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refoteka.ru/r-163632.ht" TargetMode="External"/><Relationship Id="rId3" Type="http://schemas.openxmlformats.org/officeDocument/2006/relationships/hyperlink" Target="http://refoteka.ru/r-163632.ht" TargetMode="External"/><Relationship Id="rId4" Type="http://schemas.openxmlformats.org/officeDocument/2006/relationships/hyperlink" Target="http://refoteka.ru/r-163632.ht" TargetMode="External"/><Relationship Id="rId5" Type="http://schemas.openxmlformats.org/officeDocument/2006/relationships/hyperlink" Target="http://refoteka.ru/r-163632.ht" TargetMode="External"/><Relationship Id="rId6" Type="http://schemas.openxmlformats.org/officeDocument/2006/relationships/hyperlink" Target="http://www.abakanonline.ru/index.php?option=com_content&amp;view" TargetMode="External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Arial"/>
              </a:rPr>
              <a:t>Спортивные игры (баскетбол), 11 клас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2"/>
          <a:stretch/>
        </p:blipFill>
        <p:spPr>
          <a:xfrm>
            <a:off x="457200" y="3505320"/>
            <a:ext cx="4800600" cy="289548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685800" y="213372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Тема урок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«Тактическое взаимодействие игроков в нападении и защите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5105520" y="3581280"/>
            <a:ext cx="40384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втор: Михайлин Антон Геннадьеви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есто работы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АОУ СОШ №45 г. Калинингр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Arial"/>
              </a:rPr>
              <a:t>Основная часть 29-30 мин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724280" y="1599840"/>
            <a:ext cx="419112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еремещение защитников и нападающи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строение в парах в противоположных углах спортивного зала у лицевой линии баскетбольной площад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рисунок2"/>
          <p:cNvPicPr/>
          <p:nvPr/>
        </p:nvPicPr>
        <p:blipFill>
          <a:blip r:embed="rId2"/>
          <a:srcRect l="0" t="3130" r="1565" b="28130"/>
          <a:stretch/>
        </p:blipFill>
        <p:spPr>
          <a:xfrm>
            <a:off x="533520" y="1219320"/>
            <a:ext cx="4267080" cy="251460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5"/>
          <p:cNvSpPr/>
          <p:nvPr/>
        </p:nvSpPr>
        <p:spPr>
          <a:xfrm>
            <a:off x="380880" y="3844800"/>
            <a:ext cx="8305920" cy="30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гроки нападения с мячами. Два игрока перемещаются лицом друг к другу (защитник спиной вперед) на расстоянии вытянутой руки. Нападающий, выполняя ведение мяча и используя обманные движения (финты), должен обойти защитника. Защитник должен своим корпусом закрывать возможный проход для нападающего при этом не идти с ним на столкновение. В противоположном углу спортивного зала происходит смена рол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Arial"/>
              </a:rPr>
              <a:t>Бросок одной рукой от плеча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3" descr=""/>
          <p:cNvPicPr/>
          <p:nvPr/>
        </p:nvPicPr>
        <p:blipFill>
          <a:blip r:embed="rId2"/>
          <a:stretch/>
        </p:blipFill>
        <p:spPr>
          <a:xfrm>
            <a:off x="914400" y="1371600"/>
            <a:ext cx="73152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Arial"/>
              </a:rPr>
              <a:t>Упражнения с применением быстрого прорыва 5 ми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723920" y="3505320"/>
            <a:ext cx="3962520" cy="30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ересекая среднюю линию зала, тройка нападающих играет против двойки защитников (действия 3х2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рисунок3"/>
          <p:cNvPicPr/>
          <p:nvPr/>
        </p:nvPicPr>
        <p:blipFill>
          <a:blip r:embed="rId2"/>
          <a:srcRect l="0" t="0" r="0" b="25000"/>
          <a:stretch/>
        </p:blipFill>
        <p:spPr>
          <a:xfrm>
            <a:off x="228600" y="3429000"/>
            <a:ext cx="4343400" cy="320040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5"/>
          <p:cNvSpPr/>
          <p:nvPr/>
        </p:nvSpPr>
        <p:spPr>
          <a:xfrm>
            <a:off x="457200" y="1523880"/>
            <a:ext cx="8305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строение в 3 колонны у лицевой линии баскетбольной площадки. Два игрока (защитники) у противоположного щита. Передача мяча в движении в тройках с последующим перемещением игрока в сторону выполненной передач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Arial"/>
              </a:rPr>
              <a:t>Упражнения в заслона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ействия 3х3 с применением комбинации “треугольник”, “тройка”. Игроки разбиваются на группы, как указано на рисун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рисунок5"/>
          <p:cNvPicPr/>
          <p:nvPr/>
        </p:nvPicPr>
        <p:blipFill>
          <a:blip r:embed="rId2"/>
          <a:srcRect l="0" t="0" r="0" b="24272"/>
          <a:stretch/>
        </p:blipFill>
        <p:spPr>
          <a:xfrm>
            <a:off x="1219320" y="3581280"/>
            <a:ext cx="67053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Учебная игра 4х4 в трех командах. 5 мин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5"/>
          <p:cNvSpPr/>
          <p:nvPr/>
        </p:nvSpPr>
        <p:spPr>
          <a:xfrm>
            <a:off x="762120" y="1523880"/>
            <a:ext cx="55623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оманды располагаются на площадк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сли нападающая команда реализовала атаку удачным броском, то она атакует противоположную команду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2340000" y="4038480"/>
            <a:ext cx="62704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сли защищающаяся команда перехватила мяч, то она выполняет атаку на противоположную команду. Команда нападения остается в защите.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8" descr="рисунок4"/>
          <p:cNvPicPr/>
          <p:nvPr/>
        </p:nvPicPr>
        <p:blipFill>
          <a:blip r:embed="rId2"/>
          <a:srcRect l="0" t="0" r="0" b="25404"/>
          <a:stretch/>
        </p:blipFill>
        <p:spPr>
          <a:xfrm>
            <a:off x="4267080" y="1071720"/>
            <a:ext cx="4876920" cy="27288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9" descr="рисунок9"/>
          <p:cNvPicPr/>
          <p:nvPr/>
        </p:nvPicPr>
        <p:blipFill>
          <a:blip r:embed="rId3"/>
          <a:srcRect l="0" t="0" r="0" b="25404"/>
          <a:stretch/>
        </p:blipFill>
        <p:spPr>
          <a:xfrm>
            <a:off x="457200" y="4130640"/>
            <a:ext cx="4876920" cy="27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Arial"/>
              </a:rPr>
              <a:t>Учебная игра 4х4 в трех командах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оманды располагаются на площадке, как указано на рисун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рисунок4"/>
          <p:cNvPicPr/>
          <p:nvPr/>
        </p:nvPicPr>
        <p:blipFill>
          <a:blip r:embed="rId2"/>
          <a:srcRect l="0" t="0" r="0" b="25404"/>
          <a:stretch/>
        </p:blipFill>
        <p:spPr>
          <a:xfrm>
            <a:off x="990720" y="2895480"/>
            <a:ext cx="6705360" cy="34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Arial"/>
              </a:rPr>
              <a:t>Учебно-тренировочная игра </a:t>
            </a:r>
            <a:br>
              <a:rPr sz="4000"/>
            </a:br>
            <a:r>
              <a:rPr b="1" lang="en-US" sz="4000" spc="-1" strike="noStrike">
                <a:solidFill>
                  <a:srgbClr val="800000"/>
                </a:solidFill>
                <a:latin typeface="Arial"/>
              </a:rPr>
              <a:t>5 х 5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заимодействие игроков в нападении выполняется по системе “передал – выходи” или, применяя заслоны. Зонная защита: одна команда (3:2), а другая (1:3:1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рисунок6"/>
          <p:cNvPicPr/>
          <p:nvPr/>
        </p:nvPicPr>
        <p:blipFill>
          <a:blip r:embed="rId2"/>
          <a:srcRect l="0" t="0" r="0" b="24902"/>
          <a:stretch/>
        </p:blipFill>
        <p:spPr>
          <a:xfrm>
            <a:off x="1752480" y="3733920"/>
            <a:ext cx="548640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Arial"/>
              </a:rPr>
              <a:t>Заключительная часть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остроени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Разбор игры. 2-3 ми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Отметить групповые действия в нападении и защите, а так же действия отдельных игроков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Разобрать тактические ошибк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Обратить внимание отдельных игроков на их “слабые места” (физическая, техническая подготовка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Arial"/>
              </a:rPr>
              <a:t>Используемые  ресурс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емы игры в баскетбол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://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refoteka.ru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/r-163632.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http://www.fizkult-ura.ru/sci/ бросок в прыжке с отклонение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еретт Н. Ю. “Энциклопедия спорта”, М.:1999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омельский А.. Я. “Все о баскетболе”, М.:2000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портивные и подвижные игры” под общей редакцией доцен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.А. Чумакова, “Физическая культура и спорт”, М.:1970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хника игры в баскетбол refoteka.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олбов В.В. “История физической культуры и спорта”.-М.:1972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гра в баскетбол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http://www.abakanonline.ru/index.php?option=com_content&amp;view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изическая культура и спорт”-под редакцией доктора педагогических наук Ю.Д. Железняка, профессора Ю.М. Портнова, М.:2003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00"/>
                </a:solidFill>
                <a:latin typeface="Arial Unicode MS"/>
              </a:rPr>
              <a:t>Задачи урока</a:t>
            </a:r>
            <a:r>
              <a:rPr b="0" lang="en-US" sz="4400" spc="-1" strike="noStrike">
                <a:solidFill>
                  <a:srgbClr val="800000"/>
                </a:solidFill>
                <a:latin typeface="Arial Unicode MS"/>
              </a:rPr>
              <a:t>: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овершенствовать взаимодействие игроков в позиционном нападении и зонной защите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развивать игровую выносливость и быстроту двигательной реакции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оспитывать психологическую устойчивость (противостояние утомлению, психологическому напряжению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Arial"/>
              </a:rPr>
              <a:t>Вводно-подготовительная часть,  7-8 мин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33520" y="2742840"/>
            <a:ext cx="6248160" cy="33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2"/>
          <a:stretch/>
        </p:blipFill>
        <p:spPr>
          <a:xfrm>
            <a:off x="380880" y="3657600"/>
            <a:ext cx="4038840" cy="297180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5"/>
          <p:cNvSpPr/>
          <p:nvPr/>
        </p:nvSpPr>
        <p:spPr>
          <a:xfrm>
            <a:off x="380880" y="1855800"/>
            <a:ext cx="82296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остроение. Приветствие. Сообщение темы урок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 Разминка. Упражнения в парах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одвижная игра (п.и.) “Салки в парах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"/>
          <p:cNvPicPr/>
          <p:nvPr/>
        </p:nvPicPr>
        <p:blipFill>
          <a:blip r:embed="rId3"/>
          <a:stretch/>
        </p:blipFill>
        <p:spPr>
          <a:xfrm>
            <a:off x="4952880" y="3809880"/>
            <a:ext cx="3733920" cy="254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п.и. “Салки в парах” спиной вперед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9520" y="5638680"/>
            <a:ext cx="2590920" cy="48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"/>
          <p:cNvPicPr/>
          <p:nvPr/>
        </p:nvPicPr>
        <p:blipFill>
          <a:blip r:embed="rId2"/>
          <a:stretch/>
        </p:blipFill>
        <p:spPr>
          <a:xfrm>
            <a:off x="1752480" y="1523880"/>
            <a:ext cx="5181840" cy="213372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5"/>
          <p:cNvSpPr/>
          <p:nvPr/>
        </p:nvSpPr>
        <p:spPr>
          <a:xfrm>
            <a:off x="685800" y="3809880"/>
            <a:ext cx="7162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п.и. “Салки в парах” приставными прыжкам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6" descr=""/>
          <p:cNvPicPr/>
          <p:nvPr/>
        </p:nvPicPr>
        <p:blipFill>
          <a:blip r:embed="rId3"/>
          <a:stretch/>
        </p:blipFill>
        <p:spPr>
          <a:xfrm>
            <a:off x="1752480" y="4876920"/>
            <a:ext cx="510552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Arial"/>
              </a:rPr>
              <a:t>Вводно-подготовительная часть,  7-8 мин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строение в 2 шеренги у лицевой линии баскетбольной площадки. Расстояние между шеренгами 1,5-2 м. Игроки обеих шеренг выполняют прыжки вверх - колени к груди. По сигналу игроки обеих шеренг выполняют ускорение вперед. Игроки 2-ой шеренги должны осалить игроков 1-ой шеренг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800000"/>
                </a:solidFill>
                <a:latin typeface="Arial"/>
              </a:rPr>
              <a:t>В исходное положение игроки возвращаются шагом. Смена шеренг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остроение в 2 шеренги у лицевой линии баскетбольной площадки. Игроки 2-ой шеренги соединяют кисти в замок. Игроки 1-ой шеренги, взявшись правой (левой) рукой за кистевой замок, тянут игроков 2-ой шеренги до противоположной лицевой линии. На средней линии зала происходит смена рук. В обратном направлении происходит смена шерен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800000"/>
                </a:solidFill>
                <a:latin typeface="Arial"/>
              </a:rPr>
              <a:t>Построение в 2 шеренги у лицевой линии баскетбольной площад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Игроки 2-ой шеренги, упираясь руками в спины игрокам 1-ой шеренги, толкают их до противоположной лицевой линии. В обратном направлении происходит смена шеренг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Arial"/>
              </a:rPr>
              <a:t>Комментарии к вводно-подготовительной час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гроки должны перемещаться с изменением направления и скорости. Разрешается выполнять остановк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гроки должны перемещаться с изменением направления и скорости только спиной впере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гроки должны перемещаться в низкой стойке только приставными прыжками правым или левым бок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Построение в 2 шеренги у лицевой линии баскетбольной площадки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2133720"/>
            <a:ext cx="57150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Расстояние между шеренгами 1,5-2 м. игроки обеих шеренг выполняют ускорение впере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Игроки 2-ой шеренги должны осалить игроков 1-ой шеренг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 исходное положение игроки возвращаются шагом. Смена шерен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7" descr="рисунок1"/>
          <p:cNvPicPr/>
          <p:nvPr/>
        </p:nvPicPr>
        <p:blipFill>
          <a:blip r:embed="rId2"/>
          <a:srcRect l="28130" t="0" r="0" b="3905"/>
          <a:stretch/>
        </p:blipFill>
        <p:spPr>
          <a:xfrm>
            <a:off x="6248520" y="1905120"/>
            <a:ext cx="262872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13T14:27:28Z</dcterms:created>
  <dc:creator>user</dc:creator>
  <dc:description/>
  <dc:language>en-US</dc:language>
  <cp:lastModifiedBy>Мама</cp:lastModifiedBy>
  <dcterms:modified xsi:type="dcterms:W3CDTF">2014-01-25T22:27:55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