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168-411F-42F7-A39D-E29A2716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61A-F3AB-496C-A59B-F32A1069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094-4C10-4BE7-9ECA-C88D6953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575-00E8-4ACC-9473-94E58D3B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3763-B038-474F-9DF4-733CDE53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DEE6-57D7-484B-976B-A7F33C83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BA63-C740-40B5-9946-5AB6DBF7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9E01-02FD-4D1A-8776-CD99EF64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8871-C776-4D47-9874-888B057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A2C7-E5CE-4522-ACD7-13AA7804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235B-C8BE-4915-AA45-5DC3E64B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1B9-8811-43C5-8B71-48FD1DF2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1D93-410C-47EC-B81C-5C5211C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3C5B-F3D4-4E4D-9382-43414331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D635-85BA-469C-BB97-E94AEA76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2ABA-05F0-4B3B-8157-AA37AB48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863C-39CF-4E8C-9CB7-EB56F056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5E190-A770-4095-AA0F-F2C45CDF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0A46-F521-4279-9930-46DDFB54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C001-83C0-4761-8827-E10B4117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130F-BE71-44C3-BB67-F9BDE999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C724-E813-4BC3-BCE1-8439F9B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59B-2B37-4383-9234-6D95ECAD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2C4BC-B199-4266-B997-69833BD0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1378-2777-446B-9EAD-69DB31C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76C1-3EE5-482F-A992-0E5555C4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2FC4-2B27-4247-87B3-60551661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180E-A39B-448A-B410-D6BFA756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EFB9-F3F2-406B-A3EA-66BF65B4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6582-2536-477F-8063-3B54C5FA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DFF-A395-4C68-BB11-4D8665E9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064-FCF1-474F-8E76-09E8AAA6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1CA-2A8F-4352-ADCE-D344810C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EB8-2856-4E53-83C5-073CCB37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6C1-B842-493E-A945-5E8B67B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E09-FE9C-4C15-AE26-1B64653C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9CD-D351-4080-A886-D82A8ADE79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9874-3154-4AA1-8973-370C8BEF27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165-AFCA-455C-810E-86B570630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5.jpeg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20756400">
            <a:off x="1907640" y="1560960"/>
            <a:ext cx="6769440" cy="11908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ЛТАЙСКИЙ КРА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Юг Сибир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-684360" y="4569480"/>
            <a:ext cx="558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ыполни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ченица 9 «А»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ОУ СОШ № 3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 углубленным изучением эколог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оробьевой Анастас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уководители: Соловьева Н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далова Т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Москва 2007-2008 учебный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451640" y="5445000"/>
            <a:ext cx="1312920" cy="1247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74400" y="333360"/>
            <a:ext cx="3030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Verdana"/>
              </a:rPr>
              <a:t>ОГЛАВЛЕНИ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95480" y="113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3760" y="2060640"/>
            <a:ext cx="4382280" cy="53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2" action="ppaction://hlinksldjump"/>
              </a:rPr>
              <a:t>Общие данны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3" action="ppaction://hlinksldjump"/>
              </a:rPr>
              <a:t>Государственные символ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4" action="ppaction://hlinksldjump"/>
              </a:rPr>
              <a:t>Полезные ископаемы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5" action="ppaction://hlinksldjump"/>
              </a:rPr>
              <a:t>Фау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6" action="ppaction://hlinksldjump"/>
              </a:rPr>
              <a:t>Населени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hlinkClick r:id="rId7" action="ppaction://hlinksldjump"/>
              </a:rPr>
              <a:t>Религ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5435640" y="2781360"/>
            <a:ext cx="3564000" cy="2265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093080" y="60958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333360"/>
            <a:ext cx="4969080" cy="448308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  <a:effectLst>
            <a:outerShdw dist="153753" dir="2700000" blurRad="0" rotWithShape="0">
              <a:srgbClr val="622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лощадь 169,1 тыс. км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селение 2654 тыс.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ородское население составляет 58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1 го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0 поселков городского ти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Центр - город Барнау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мышленность: машиностроение, химическая и нефтехимическая, легкая, пищевая, горнодобывающ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удоходство по О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956720" y="5805360"/>
            <a:ext cx="95220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789440" y="338040"/>
            <a:ext cx="3652920" cy="3672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2057400" cy="1443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00" y="550800"/>
            <a:ext cx="237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л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меет свою конституцию, принятую 7 июня 1997 года, государственные символы- флаг и гер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одные языки - Русский и Алтай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лтай имеет Умеренно- континентальный клим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4292640"/>
            <a:ext cx="1666800" cy="1762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956720" y="5805360"/>
            <a:ext cx="95220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4588920"/>
            <a:ext cx="8901000" cy="22269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  <a:effectLst>
            <a:outerShdw dist="107932" dir="13500000" blurRad="0" rotWithShape="0">
              <a:srgbClr val="622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реди полезных ископаемых горного Алтая наибольшее значение имеет золо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тем идут редкие металлы –вольфрам ,молибден ,висмут ,литий ,тантал ,рт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191440" y="5661000"/>
            <a:ext cx="95256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4360" y="3985560"/>
            <a:ext cx="8064360" cy="26535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  <a:effectLst>
            <a:outerShdw dist="107932" dir="2700000" blurRad="0" rotWithShape="0">
              <a:srgbClr val="6221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Алтай-это горная страна с чрезвычайно живописным ландшаф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Количество и качество рекреационных ресурсов расположенных на территории горного Алтая, позволяет осуществлять дальнейшее развитие туризма в регио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191440" y="5589720"/>
            <a:ext cx="952560" cy="90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444920" y="0"/>
            <a:ext cx="469908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4264200"/>
            <a:ext cx="2627280" cy="2593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4000" y="541440"/>
            <a:ext cx="381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У алтайцев традиционной одеждой, как мужчин, так и женщин в прошлом была овчинная шуба с длинными, сужающимися к кисти рукавами. Богатые скотоводы в старину делали себе шубы, крытые шелком, подбитые дорогими мех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91440" y="59529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2484360" y="3860640"/>
            <a:ext cx="207000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403200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Религиозные верования алтайцев были подвержены воздействию сильных внешних религиозных факторов. На рубеже Х1Х – ХХ веков алтайцы оказались под усиленным влиянием христианской религии православных миссионеров и буддийской идеологии, проникавшей на Алтай из Тувы и Монгол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85080" y="1989000"/>
            <a:ext cx="2158920" cy="792360"/>
          </a:xfrm>
          <a:custGeom>
            <a:avLst/>
            <a:gdLst>
              <a:gd name="textAreaLeft" fmla="*/ 539640 w 2158920"/>
              <a:gd name="textAreaRight" fmla="*/ 1619280 w 2158920"/>
              <a:gd name="textAreaTop" fmla="*/ 0 h 792360"/>
              <a:gd name="textAreaBottom" fmla="*/ 693360 h 792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e42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191440" y="5229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521160" cy="23828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7226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987640" y="1773360"/>
            <a:ext cx="2490840" cy="2022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651640" y="2708280"/>
            <a:ext cx="931680" cy="1081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6732720" y="260280"/>
            <a:ext cx="2160360" cy="1393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250920" y="2349360"/>
            <a:ext cx="208908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7:13:26Z</dcterms:created>
  <dc:creator>Kristina</dc:creator>
  <dc:description/>
  <dc:language>en-US</dc:language>
  <cp:lastModifiedBy>УдаловаТВ</cp:lastModifiedBy>
  <dcterms:modified xsi:type="dcterms:W3CDTF">2008-02-01T09:25:43Z</dcterms:modified>
  <cp:revision>16</cp:revision>
  <dc:subject/>
  <dc:title>Слайд 1</dc:title>
</cp:coreProperties>
</file>