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489-C38D-4525-949B-540B79C4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0B2-62DD-4E29-A7A9-249D9D6A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865-3CEC-4460-8732-B80238AA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934-45D7-4239-9530-75B6746E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1B2E-B833-44F9-A6B2-0C1CAE6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EC3A-A4EF-4543-95E4-7E91BF97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55F-116D-4CF5-8AC7-98B517F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276-9D0B-4EF9-A890-AD94F97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46F3-DCB9-46D6-A149-BBE63CD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5869-DBF5-40C5-BA94-BA258B1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6D0-F497-41D8-A2B2-D568BB8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F21-FB31-4555-8F76-B7E4866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D1F8-4E0A-4423-A03E-D701F2A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B28-3C64-49C0-9059-9655A6B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1DB4-3223-4BD9-8785-CD5C5F4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A512-9786-4F06-B1E1-F8C27D04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C622-8CE0-4AA8-AA66-118B093A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6A27-C771-4DC2-8F7E-CE28DB73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ED40-F92A-4A1E-814C-35357186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29EA-64C7-4062-B596-C24E5A77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FA5D-D0DF-4193-973C-49C81703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C3B2-2252-4104-9B56-F1EC193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16C-E0CC-4439-A803-9891AB4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B584-0155-42E9-A934-2C5F3534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699C-F69C-4B89-9BF2-270464F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74A9-2B52-4987-A00D-09A0041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ABE3-DFFA-4141-A5D6-54CD4C7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E725-241A-457A-9B41-EFDD11C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BCF8-AA68-440A-A80F-779405F2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DD86-6BE0-491C-A3AB-F1FE0393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AFD-1430-4129-BB84-3DEB720B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303-B37A-4EBE-B328-BF5050D1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49A-93D6-430D-913F-E82CD430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1C5-7CD5-43A2-8BF1-CC0184D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B9F-C7A5-41E4-99D2-015C6AF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E51-4D58-45A1-8255-1952C69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D1F-250E-467B-A220-F83CBDEAC3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936-4779-495A-9E54-433240E176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440F-E014-4DF4-BCCE-F9E0BC2D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20756400">
            <a:off x="1907640" y="1560960"/>
            <a:ext cx="6769440" cy="11908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ЛТАЙСКИЙ КРА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Юг Сибир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684360" y="4569480"/>
            <a:ext cx="55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ченица 9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У СОШ № 3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 углубленным изучением эк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робьевой Анаста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уководители: Соловьева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далова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осква 2007-2008 учебн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451640" y="5445000"/>
            <a:ext cx="131292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74400" y="333360"/>
            <a:ext cx="3030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ОГЛАВЛ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95480" y="11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3760" y="2060640"/>
            <a:ext cx="4382280" cy="53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Общие данн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Государственные символ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Полезные ископаем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Фау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Насел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Религ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5435640" y="2781360"/>
            <a:ext cx="3564000" cy="2265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09308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333360"/>
            <a:ext cx="4969080" cy="44830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  <a:effectLst>
            <a:outerShdw dist="153753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лощадь 169,1 тыс. км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селение 2654 тыс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родское население составляет 58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1 го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0 поселков городского ти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нтр - город Барна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мышленность: машиностроение, химическая и нефтехимическая, легкая, пищевая, горнодобывающ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доходство по О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89440" y="338040"/>
            <a:ext cx="3652920" cy="367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2057400" cy="1443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55080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меет свою конституцию, принятую 7 июня 1997 года, государственные символы- флаг и ге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одные языки - Русский и Алта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 имеет Умеренно- континентальный клим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4292640"/>
            <a:ext cx="1666800" cy="1762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4588920"/>
            <a:ext cx="8901000" cy="2226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135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реди полезных ископаемых горного Алтая наибольшее значение имеет золо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тем идут редкие металлы –вольфрам ,молибден ,висмут ,литий ,тантал ,рт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191440" y="5661000"/>
            <a:ext cx="9525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3985560"/>
            <a:ext cx="8064360" cy="26535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Алтай-это горная страна с чрезвычайно живописным ландшаф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Количество и качество рекреационных ресурсов расположенных на территории горного Алтая, позволяет осуществлять дальнейшее развитие туризма в реги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191440" y="5589720"/>
            <a:ext cx="952560" cy="90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4264200"/>
            <a:ext cx="2627280" cy="2593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54144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У алтайцев традиционной одеждой, как мужчин, так и женщин в прошлом была овчинная шуба с длинными, сужающимися к кисти рукавами. Богатые скотоводы в старину делали себе шубы, крытые шелком, подбитые дорогими мех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91440" y="59529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207000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403200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Религиозные верования алтайцев были подвержены воздействию сильных внешних религиозных факторов. На рубеже Х1Х – ХХ веков алтайцы оказались под усиленным влиянием христианской религии православных миссионеров и буддийской идеологии, проникавшей на Алтай из Тувы и Монго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85080" y="1989000"/>
            <a:ext cx="2158920" cy="792360"/>
          </a:xfrm>
          <a:custGeom>
            <a:avLst/>
            <a:gdLst>
              <a:gd name="textAreaLeft" fmla="*/ 539640 w 2158920"/>
              <a:gd name="textAreaRight" fmla="*/ 1619280 w 215892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e4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191440" y="5229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521160" cy="238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7226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2490840" cy="202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651640" y="2708280"/>
            <a:ext cx="931680" cy="108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732720" y="260280"/>
            <a:ext cx="2160360" cy="139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250920" y="2349360"/>
            <a:ext cx="20890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13:26Z</dcterms:created>
  <dc:creator>Kristina</dc:creator>
  <dc:description/>
  <dc:language>en-US</dc:language>
  <cp:lastModifiedBy>УдаловаТВ</cp:lastModifiedBy>
  <dcterms:modified xsi:type="dcterms:W3CDTF">2008-02-01T09:25:43Z</dcterms:modified>
  <cp:revision>16</cp:revision>
  <dc:subject/>
  <dc:title>Слайд 1</dc:title>
</cp:coreProperties>
</file>