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0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D685-3557-45A4-8B33-E1DE9C98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0CD8-2987-46A8-A0CC-D1BC75A2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B282-F48A-4462-9675-B0767AE5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6DDB-4FD4-4F3A-B347-FE6DA949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E9A7-B2FB-4953-9285-8108E24A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5F08-FC15-457E-8A14-D1A8C6BC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5ECB-9BA4-44A0-834D-DEA1F1B6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04B8-2213-42EE-8DDC-D561A96D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6127-0A23-4228-8E0F-82BA07E6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1436-BB14-4298-94DC-70720213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E385-F319-43F7-95F3-E986CF45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8092-C802-43B9-BC81-835CD36A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59A8-25C5-4571-8CA9-EB25D9EE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F85C-FD45-42FF-808E-DB70F04F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F843-5FDB-42C3-B65A-CBCB9F96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6A39-B225-4656-8F04-412EC8899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1757-745B-4E14-8817-58BB5EDB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F1B05-1CB6-4DD5-990F-9FDA41E2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DDDFA-C8CC-421A-91B1-BE026A0A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50F74-027D-4E5F-A02B-DDF00D38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89F58-B613-41BB-93CA-0EA07989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D0872-5806-4C33-8AB2-4D14E7C6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C744-FF6D-49B1-B1FF-BF77BAD1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6BB0C-8E2E-4870-9E8E-44F5473A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A5922-9DAB-4E11-9EF5-79BBD6E5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E1AB1-22BB-4B03-AFB2-EBC5FC9C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86C39-8BDB-4EA5-A69F-A21DAB76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BBB8B-2599-41AB-844D-49B560AD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557E6-7C6F-4C15-876C-2BE63F06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67DC4-090B-4B0A-8184-9716EAAAC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173C-9A88-43E8-AA72-06B2655D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256F-E2B0-423B-8F78-E83EACEC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B5BF-3709-4317-B457-69FC320C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A1F5-A963-46F8-8132-AEBB9005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EE93-8C3E-4C73-A3B4-E83230F1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41DC-99B0-4FA2-810A-703CD46B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78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78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6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6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6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281E-8D59-41DB-83E4-42D17A36EEA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78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78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6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6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6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AA0C-4C2F-4357-A552-82F8E4332D0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B619-FA84-44DB-AF5D-7F00DF5EA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image" Target="../media/image5.jpeg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3.gif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rot="20756400">
            <a:off x="1907640" y="1560960"/>
            <a:ext cx="6769440" cy="119088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АЛТАЙСКИЙ КРА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Юг Сибир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-684360" y="4569480"/>
            <a:ext cx="5580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Выполнил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Ученица 9 «А» класс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ГОУ СОШ № 3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С углубленным изучением эколог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Воробьевой Анастас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Руководители: Соловьева Н.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Удалова Т.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Москва 2007-2008 учебный г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7451640" y="5445000"/>
            <a:ext cx="1312920" cy="1247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874400" y="333360"/>
            <a:ext cx="3030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Verdana"/>
              </a:rPr>
              <a:t>ОГЛАВЛЕНИЕ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95480" y="1139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3760" y="2060640"/>
            <a:ext cx="4382280" cy="53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9999"/>
                </a:solidFill>
                <a:uFillTx/>
                <a:latin typeface="Verdana"/>
                <a:hlinkClick r:id="rId2" action="ppaction://hlinksldjump"/>
              </a:rPr>
              <a:t>Общие данны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9999"/>
                </a:solidFill>
                <a:uFillTx/>
                <a:latin typeface="Verdana"/>
                <a:hlinkClick r:id="rId3" action="ppaction://hlinksldjump"/>
              </a:rPr>
              <a:t>Государственные символ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9999"/>
                </a:solidFill>
                <a:uFillTx/>
                <a:latin typeface="Verdana"/>
                <a:hlinkClick r:id="rId4" action="ppaction://hlinksldjump"/>
              </a:rPr>
              <a:t>Полезные ископаемы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9999"/>
                </a:solidFill>
                <a:uFillTx/>
                <a:latin typeface="Verdana"/>
                <a:hlinkClick r:id="rId5" action="ppaction://hlinksldjump"/>
              </a:rPr>
              <a:t>Фаун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9999"/>
                </a:solidFill>
                <a:uFillTx/>
                <a:latin typeface="Verdana"/>
                <a:hlinkClick r:id="rId6" action="ppaction://hlinksldjump"/>
              </a:rPr>
              <a:t>Населени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9999"/>
                </a:solidFill>
                <a:uFillTx/>
                <a:latin typeface="Verdana"/>
                <a:hlinkClick r:id="rId7" action="ppaction://hlinksldjump"/>
              </a:rPr>
              <a:t>Религия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5435640" y="2781360"/>
            <a:ext cx="3564000" cy="22654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7093080" y="609588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79280" y="333360"/>
            <a:ext cx="4969080" cy="448308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  <a:effectLst>
            <a:outerShdw dist="153753" dir="2700000" blurRad="0" rotWithShape="0">
              <a:srgbClr val="6221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лощадь 169,1 тыс. км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Население 2654 тыс. челов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Городское население составляет 58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11 город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30 поселков городского тип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Центр - город Барнау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ромышленность: машиностроение, химическая и нефтехимическая, легкая, пищевая, горнодобывающ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удоходство по Об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7956720" y="5805360"/>
            <a:ext cx="952200" cy="905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789440" y="338040"/>
            <a:ext cx="3652920" cy="3672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39640" y="5157720"/>
            <a:ext cx="2057400" cy="14432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24000" y="550800"/>
            <a:ext cx="2376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Алта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меет свою конституцию, принятую 7 июня 1997 года, государственные символы- флаг и гер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Родные языки - Русский и Алтайск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Алтай имеет Умеренно- континентальный клима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4292640"/>
            <a:ext cx="1666800" cy="17622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7956720" y="5805360"/>
            <a:ext cx="952200" cy="905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0" y="4588920"/>
            <a:ext cx="8901000" cy="222696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  <a:effectLst>
            <a:outerShdw dist="107932" dir="13500000" blurRad="0" rotWithShape="0">
              <a:srgbClr val="6221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реди полезных ископаемых горного Алтая наибольшее значение имеет золот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Затем идут редкие металлы –вольфрам ,молибден ,висмут ,литий ,тантал ,рту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8191440" y="5661000"/>
            <a:ext cx="952560" cy="905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84360" y="3985560"/>
            <a:ext cx="8064360" cy="265356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  <a:effectLst>
            <a:outerShdw dist="107932" dir="2700000" blurRad="0" rotWithShape="0">
              <a:srgbClr val="6221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Алтай-это горная страна с чрезвычайно живописным ландшафт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Количество и качество рекреационных ресурсов расположенных на территории горного Алтая, позволяет осуществлять дальнейшее развитие туризма в регио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8191440" y="5589720"/>
            <a:ext cx="952560" cy="904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444920" y="0"/>
            <a:ext cx="469908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4264200"/>
            <a:ext cx="2627280" cy="25938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24000" y="541440"/>
            <a:ext cx="3816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У алтайцев традиционной одеждой, как мужчин, так и женщин в прошлом была овчинная шуба с длинными, сужающимися к кисти рукавами. Богатые скотоводы в старину делали себе шубы, крытые шелком, подбитые дорогими мех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8191440" y="5952960"/>
            <a:ext cx="952560" cy="905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2484360" y="3860640"/>
            <a:ext cx="2070000" cy="2997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4032000"/>
            <a:ext cx="820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Религиозные верования алтайцев были подвержены воздействию сильных внешних религиозных факторов. На рубеже Х1Х – ХХ веков алтайцы оказались под усиленным влиянием христианской религии православных миссионеров и буддийской идеологии, проникавшей на Алтай из Тувы и Монгол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985080" y="1989000"/>
            <a:ext cx="2158920" cy="792360"/>
          </a:xfrm>
          <a:custGeom>
            <a:avLst/>
            <a:gdLst>
              <a:gd name="textAreaLeft" fmla="*/ 539640 w 2158920"/>
              <a:gd name="textAreaRight" fmla="*/ 1619280 w 2158920"/>
              <a:gd name="textAreaTop" fmla="*/ 0 h 792360"/>
              <a:gd name="textAreaBottom" fmla="*/ 693360 h 792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e42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иде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8191440" y="5229360"/>
            <a:ext cx="952560" cy="9046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521160" cy="23828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4643280" y="260280"/>
            <a:ext cx="1722600" cy="17780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2987640" y="1773360"/>
            <a:ext cx="2490840" cy="20224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5651640" y="2708280"/>
            <a:ext cx="931680" cy="10810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6732720" y="260280"/>
            <a:ext cx="2160360" cy="13939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250920" y="2349360"/>
            <a:ext cx="2089080" cy="1440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17:13:26Z</dcterms:created>
  <dc:creator>Kristina</dc:creator>
  <dc:description/>
  <dc:language>en-US</dc:language>
  <cp:lastModifiedBy>УдаловаТВ</cp:lastModifiedBy>
  <dcterms:modified xsi:type="dcterms:W3CDTF">2008-02-01T09:25:43Z</dcterms:modified>
  <cp:revision>16</cp:revision>
  <dc:subject/>
  <dc:title>Слайд 1</dc:title>
</cp:coreProperties>
</file>