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7386-41E7-4348-8E39-8E0ACC53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B9871-62F8-48BA-9F53-7DBF0984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5ACA-2974-4C10-9D85-CC157328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FAD9-040E-4356-94D1-8FEBAC60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6EC9-8B77-4D1A-B1A2-A49889EA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4BA0-733B-403E-8FD7-523AA349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498F-4102-47CD-9679-58B1AE09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A0E1-8457-4E02-806A-CBE5F43E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2B59-8254-4433-B3BD-C4C46A5C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4E1C-7A6A-40EC-AAFC-4508D997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583C-0554-45E2-A57A-CAE648A8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71174-F11B-4F99-BFB0-7BDA76FD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B6FC-69B7-471B-86FB-A2C3E22F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D28F-F4F9-43E4-BDE2-7778EAC9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5AB9-A6E3-44A6-88FD-420EE504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89AC-21F8-4543-AC59-B6C63FCB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1574-336D-4C32-86A5-C347FBA4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483C-A4BD-43B7-8B8E-D72B0A6F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65E6-3481-4225-8A91-DB09F9BA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F2D2-9FE1-4458-9BB5-132D28BF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2ACD-9300-4C2C-A000-FD0BC96C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E347-6EB1-453C-97FE-2910EECA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F7C4-ED8F-422B-828E-7BB3D820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2747-7D94-4C18-AD72-853933E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5F23-133D-4A2E-A236-820E0DF5CF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536E-F510-46E4-8360-CC49EC1AC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Свердловская область: ЭГП, население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географии Рапопорт Л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мназия №1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труктура нас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598644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озный состав –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ославное христиан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усские, украинцы, белорусы, марийцы, чуваши, мордва, удмурты)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ла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атары и башкиры – мусульман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занятости населения – 71% занято в отраслях материального производства, в строительстве – 48,9%. Уменьшается удельный вес занятого населения в промышленности при удалении от Екатеринбурга и растет занятость в сельской мес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лицком, Артинском, Ачитском районах занятость в сельском хозяйстве составляет более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659640" y="2421000"/>
            <a:ext cx="1825560" cy="1461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58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Формы рас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640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родское насел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удельный вес городского населения – 87,5%. Преобладание малых однофункциональных гор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ельское посе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еженность сельского расселения; большая доля несельскохозяйственных поселений - (ЛЗП, горнодобывающие поселки). Сельское население расселяется дерев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48360" y="549360"/>
            <a:ext cx="1568520" cy="1866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596360" y="501336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124000" y="472428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84360" y="2672640"/>
            <a:ext cx="6727680" cy="1783440"/>
            <a:chOff x="684360" y="2672640"/>
            <a:chExt cx="6727680" cy="1783440"/>
          </a:xfrm>
        </p:grpSpPr>
        <p:cxnSp>
          <p:nvCxnSpPr>
            <p:cNvPr id="153" name="_s69647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211360" y="2351880"/>
              <a:ext cx="228960" cy="2556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69645"/>
            <p:cNvCxnSpPr>
              <a:stCxn id="157" idx="0"/>
              <a:endCxn id="155" idx="2"/>
            </p:cNvCxnSpPr>
            <p:nvPr/>
          </p:nvCxnSpPr>
          <p:spPr>
            <a:xfrm flipV="1" rot="16200000">
              <a:off x="4359600" y="3203640"/>
              <a:ext cx="228960" cy="8528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9644"/>
            <p:cNvCxnSpPr>
              <a:stCxn id="159" idx="0"/>
              <a:endCxn id="155" idx="2"/>
            </p:cNvCxnSpPr>
            <p:nvPr/>
          </p:nvCxnSpPr>
          <p:spPr>
            <a:xfrm flipH="1" flipV="1" rot="5400000">
              <a:off x="3507120" y="3203640"/>
              <a:ext cx="228960" cy="8528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69643"/>
            <p:cNvCxnSpPr>
              <a:stCxn id="161" idx="0"/>
              <a:endCxn id="155" idx="2"/>
            </p:cNvCxnSpPr>
            <p:nvPr/>
          </p:nvCxnSpPr>
          <p:spPr>
            <a:xfrm flipH="1" flipV="1" rot="5400000">
              <a:off x="2655360" y="2351880"/>
              <a:ext cx="228960" cy="2556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69639"/>
            <p:cNvSpPr/>
            <p:nvPr/>
          </p:nvSpPr>
          <p:spPr>
            <a:xfrm>
              <a:off x="3040920" y="2672640"/>
              <a:ext cx="2014200" cy="844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лассификация город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 количеству жи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69640"/>
            <p:cNvSpPr/>
            <p:nvPr/>
          </p:nvSpPr>
          <p:spPr>
            <a:xfrm>
              <a:off x="684360" y="3745080"/>
              <a:ext cx="16156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Город-миллион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Г..Екатеринбур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9641"/>
            <p:cNvSpPr/>
            <p:nvPr/>
          </p:nvSpPr>
          <p:spPr>
            <a:xfrm>
              <a:off x="2388240" y="3745080"/>
              <a:ext cx="16156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Большие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олее 100 тыс. жи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(Н.Тагил, Первоуральск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аменск-Уральск, Серо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69642"/>
            <p:cNvSpPr/>
            <p:nvPr/>
          </p:nvSpPr>
          <p:spPr>
            <a:xfrm>
              <a:off x="4092480" y="3745080"/>
              <a:ext cx="16156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Средние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-50-100 тыс.жи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10 городо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69646"/>
            <p:cNvSpPr/>
            <p:nvPr/>
          </p:nvSpPr>
          <p:spPr>
            <a:xfrm>
              <a:off x="5796360" y="3745080"/>
              <a:ext cx="16156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Малые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– до 50 тыс.жи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32 города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227640" y="476280"/>
            <a:ext cx="25923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Закрепле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77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му большая часть прироста численности населения области приходится на Екатеринбург и ближайшие территор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овы причины снижения естественного прироста населения Свердловской обла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в наши дни можно уменьшить смертность населения в обла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дет ли меняться отраслевая структура занятости трудовых ресурсов в Свердловской области в новых экономических условия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м вызвана «проблема невест» в сельской мест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04000" y="549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48355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осить своих старших родственников о числе детей в семьях их родителей. Обработать данные (записать по годам рожд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учить консп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74278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ь особенности ЭГП Свердлов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природно-ресурсный потенциал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формировать знания о размещении и динамике численности население как о процессах, которые закономерно изменяются во времени и географическом пространст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2232000" cy="165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Свердловская область на карте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03280" y="2060640"/>
            <a:ext cx="684072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вердловская область образовалась 17 января 1938 г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щадь области – 195 тыс. кв.км, что составляет 1,14% площади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чертания области напоминают треугольни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западе граничит с республикой КОМИ, Пермской обл.; на юге – с Башкортостаном, Челябинской обл., Курганской обл.; на востоке – Тюменской обл., включая Ханты-Мансийский А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ходится на границе двух частей света – Европы и Аз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нимает внутриконтинентальное положение: удаленность от Атлантического океана – 2000км, от Северного Ледовитого -1000к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анзитное положение между западом и востоком стра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даленность от государственных границ несколько затрудняет развитие рыночных отношений с зарубежными стра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73000" cy="18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Природно-ресурсный потенциал Свердловской обл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2820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ладовая земли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удные полезные ископае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железные руды ( Высокогорское, Гороблагодатское, Серовское), медные руды (Красноуральское, Дегтярское, Турьинское), алюминиевые руды (Североуральское, Черемуховское), марганцевые и никелевые руды (Полуночное, Режевское), золото и платина (Березовское, по долинам рек Тагил, Тур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рудные полезные ископаемы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бест (Невьянское), тальк (Шабровское), кварциты (окрестности Первоуральска), огнеупорные глины(Белкинское близ Серова), драгоценные и цветные камни (Малышевское, Мурзинка, Гумешлевск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236000" y="1125360"/>
            <a:ext cx="19080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69231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дные ресурс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равномерно распределены по территории области. Наиболее развитая промышленная зона, менее всего обеспечена водными ресурсами, т.к. в ней расположены верховья рек.  Из 29 куб . км объема годового стока рек территории 5,3 куб км приходится на бассейн Тавды и 5,4 куб км- на бассейн Уфы и Сыл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хозяйственные цели области требуется более 2 куб.км в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енные на реках водохранилища, а также переброска части стока Уфы в промышленный регион обеспечивают потребности территории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логическая ситуация с водными ресурсами весьма напряжен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5892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380360" y="4797360"/>
            <a:ext cx="14745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78595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нообразны и богаты растительные ресурсы, самая важная их часть –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лесные ресурсы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Лес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ласти делятся на три группы: первая группа -неэксплуатируемые леса вокруг городов и населенных пунктов (лесопарки и зеленые зоны), вторая группа – частично эксплуатируемые, в основном резервные, третья группа – эксплуатируемые л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аежные леса разделяются на темнохвойные (ель, пихта, кедр) и светлохвойные (сосна, лиственниц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таежной зоне много вторичных лесов, преимущественно березовых. Сосна занимает 40% площади лесов, береза-30%,ель-17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еса дают не только древесину. Заготовка лекарственных трав, ягод, грибов, орех имеет не менее важное знач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есные и пойменные луга – это пастбища и сенок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райнем юго-востоке и юго-западе – лесостеп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ree"/>
          <p:cNvSpPr/>
          <p:nvPr/>
        </p:nvSpPr>
        <p:spPr>
          <a:xfrm>
            <a:off x="1042920" y="260280"/>
            <a:ext cx="1235160" cy="1621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588000" y="4941720"/>
            <a:ext cx="2376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5689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и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ч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ласти наиболее плодородными являются черноземы и серые лесные почвы, которые находятся на юго-востоке и юго-западе области. Это основные сельскохозяйственные рай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южной тайги, необходимо повышать плодородие дерново-подзолистых почв, используя минеральные удобрения и известк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обходимо проводить меры по борьбе с водной и ветровой эрозией поч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5373720"/>
            <a:ext cx="126828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476280"/>
            <a:ext cx="26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Население Свердловской обл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5627520" cy="38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исленность населения на 2001 год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 млн.человек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трицательный естественный приро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Причины: высокий уровень урбанизации (уровень образования и культуры, занятость женщин в производстве), благосостояние населения, вредные привычки, экологическая ситу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ертность среди сельского населения выше, чем среди городского, это объясняется возрастной структурой (отток трудоспособного насе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численность населения оказывает влияние –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играци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утри области миграции по направлению «село-город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аселение размещено неравномер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Средняя плотность – 24 человека на 1 кв.км. Это в 3 раза выше общероссийской 8,7 чел на 1 кв.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6360" y="2060640"/>
            <a:ext cx="2790720" cy="273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9280" y="1987560"/>
            <a:ext cx="8424720" cy="2836440"/>
            <a:chOff x="179280" y="1987560"/>
            <a:chExt cx="8424720" cy="2836440"/>
          </a:xfrm>
        </p:grpSpPr>
        <p:cxnSp>
          <p:nvCxnSpPr>
            <p:cNvPr id="135" name="_s59406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725080" y="2087280"/>
              <a:ext cx="228960" cy="2897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9405"/>
            <p:cNvCxnSpPr>
              <a:stCxn id="139" idx="0"/>
              <a:endCxn id="137" idx="2"/>
            </p:cNvCxnSpPr>
            <p:nvPr/>
          </p:nvCxnSpPr>
          <p:spPr>
            <a:xfrm flipV="1" rot="16200000">
              <a:off x="4277160" y="3535200"/>
              <a:ext cx="228960" cy="14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9404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2828880" y="2088000"/>
              <a:ext cx="228960" cy="2896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59400"/>
            <p:cNvSpPr/>
            <p:nvPr/>
          </p:nvSpPr>
          <p:spPr>
            <a:xfrm>
              <a:off x="3143880" y="1987560"/>
              <a:ext cx="2494800" cy="1435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труктура нас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59401"/>
            <p:cNvSpPr/>
            <p:nvPr/>
          </p:nvSpPr>
          <p:spPr>
            <a:xfrm>
              <a:off x="179280" y="3651480"/>
              <a:ext cx="2631240" cy="11725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Половая структура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реобладание женщин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59402"/>
            <p:cNvSpPr/>
            <p:nvPr/>
          </p:nvSpPr>
          <p:spPr>
            <a:xfrm>
              <a:off x="3075840" y="3651480"/>
              <a:ext cx="2631240" cy="11725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Возрастная струк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остарение населения,19,2% насе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енсионе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9403"/>
            <p:cNvSpPr/>
            <p:nvPr/>
          </p:nvSpPr>
          <p:spPr>
            <a:xfrm>
              <a:off x="5972760" y="3651480"/>
              <a:ext cx="2631240" cy="11725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Национальный соста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Русские – 89,3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Татары – 4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Украинцы, немцы, башкиры, марийц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08:07:39Z</dcterms:created>
  <dc:creator>1</dc:creator>
  <dc:description/>
  <dc:language>en-US</dc:language>
  <cp:lastModifiedBy>1</cp:lastModifiedBy>
  <dcterms:modified xsi:type="dcterms:W3CDTF">2007-04-17T14:26:10Z</dcterms:modified>
  <cp:revision>34</cp:revision>
  <dc:subject/>
  <dc:title>Свердловская область</dc:title>
</cp:coreProperties>
</file>