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C5B6-4636-49BD-BF3F-91747C55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0EE9-E6FE-4B08-8FAD-5B792DC5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0CFE-C6EB-4676-9D7A-1E7EE259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5607-75B5-42B1-A583-43AC0DB5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74DF-1BE5-4132-A3CA-3447D761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DA47-FC19-4AFE-92A3-8CD2B30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8EA-C72D-4D01-BE3A-29D0D13C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EF5-228D-4F20-8AD3-ED4E373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ED7A-7EEA-4E25-B01A-058F15D8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F51-FDDC-453E-BC9D-6B3A8FA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DFBC-8DE1-41A4-81A1-E7EFA61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7E41-CF17-4902-9774-CC928CC8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C56B-D9F9-4B58-8530-FC246BA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5C7-CF9F-4258-A6C2-E10A2F4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48EF-DF58-4420-B6CA-9CAF33F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D564-5B4B-4C3B-8E48-72DDBEE8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263-22DD-48B4-BCA7-61561E91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209F-A92B-4D25-9A2E-27B06F8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3D23-337F-4426-A708-D0515A4C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95CE-FC42-43D1-829F-685769E9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EA08-9A8C-4491-8EE7-2725BB8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5767-990F-408F-9320-3ABE110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756A-CB1E-4F95-A96E-20344DC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3445-ED64-4845-9CF9-E29FC22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9C7-4C93-4DA1-9A79-FDC24AC18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CA57-C495-4685-B9FE-1CDFB2052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вердловская область: ЭГП, населени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Рапопорт Л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я №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уктура нас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598644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й состав –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ославное христиа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сские, украинцы, белорусы, марийцы, чуваши, мордва, удмурты)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ла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атары и башкиры – мусульман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занятости населения – 71% занято в отраслях материального производства, в строительстве – 48,9%. Уменьшается удельный вес занятого населения в промышленности при удалении от Екатеринбурга и растет занятость в сельской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лицком, Артинском, Ачитском районах занятость в сельском хозяйстве составляет более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58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Формы рас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640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одское насе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удельный вес городского населения – 87,5%. Преобладание малых однофункциональных го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льское пос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женность сельского расселения; большая доля несельскохозяйственных поселений - (ЛЗП, горнодобывающие поселки). Сельское население расселяется дерев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568520" cy="186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96360" y="501336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4360" y="2672640"/>
            <a:ext cx="6727680" cy="1783440"/>
            <a:chOff x="684360" y="2672640"/>
            <a:chExt cx="6727680" cy="1783440"/>
          </a:xfrm>
        </p:grpSpPr>
        <p:cxnSp>
          <p:nvCxnSpPr>
            <p:cNvPr id="153" name="_s69647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211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9645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35960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9644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350712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9643"/>
            <p:cNvCxnSpPr>
              <a:stCxn id="161" idx="0"/>
              <a:endCxn id="155" idx="2"/>
            </p:cNvCxnSpPr>
            <p:nvPr/>
          </p:nvCxnSpPr>
          <p:spPr>
            <a:xfrm flipH="1" flipV="1" rot="5400000">
              <a:off x="2655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69639"/>
            <p:cNvSpPr/>
            <p:nvPr/>
          </p:nvSpPr>
          <p:spPr>
            <a:xfrm>
              <a:off x="3040920" y="2672640"/>
              <a:ext cx="2014200" cy="844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ассификация горо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 количеству ж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9640"/>
            <p:cNvSpPr/>
            <p:nvPr/>
          </p:nvSpPr>
          <p:spPr>
            <a:xfrm>
              <a:off x="684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Город-миллион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Г..Екатеринбур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9641"/>
            <p:cNvSpPr/>
            <p:nvPr/>
          </p:nvSpPr>
          <p:spPr>
            <a:xfrm>
              <a:off x="238824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Большие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олее 100 тыс. 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Н.Тагил, Первоуральск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менск-Уральск, Сер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9642"/>
            <p:cNvSpPr/>
            <p:nvPr/>
          </p:nvSpPr>
          <p:spPr>
            <a:xfrm>
              <a:off x="409248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Средни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50-10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0 город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69646"/>
            <p:cNvSpPr/>
            <p:nvPr/>
          </p:nvSpPr>
          <p:spPr>
            <a:xfrm>
              <a:off x="5796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Малы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до 5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32 города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592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Закрепле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77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большая часть прироста численности населения области приходится на Екатеринбург и ближайшие территор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ы причины снижения естественного прироста населения Свердловской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в наши дни можно уменьшить смертность населения в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ли меняться отраслевая структура занятости трудовых ресурсов в Свердловской области в новых экономических услови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вызвана «проблема невест» в сельской мес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8355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ить своих старших родственников о числе детей в семьях их родителей. Обработать данные (записать по годам рожд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учить консп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7427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 особенности ЭГП Свердл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природно-ресурсный потенциал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ормировать знания о размещении и динамике численности население как о процессах, которые закономерно изменяются во времени и географическом простран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Свердловская область на карте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684072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ердловская область образовалась 17 января 1938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области – 195 тыс. кв.км, что составляет 1,14% площади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чертания области напоминают треугольн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ападе граничит с республикой КОМИ, Пермской обл.; на юге – с Башкортостаном, Челябинской обл., Курганской обл.; на востоке – Тюменской обл., включая Ханты-Мансийский А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ходится на границе двух частей света – Европы и 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имает внутриконтинентальное положение: удаленность от Атлантического океана – 2000км, от Северного Ледовитого -1000к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нзитное положение между западом и востоком стр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даленность от государственных границ несколько затрудняет развитие рыночных отношений с зарубежными стра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Природно-ресурсный потенциал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2820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ладовая земли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дные полезные ископ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железные руды ( Высокогорское, Гороблагодатское, Серовское), медные руды (Красноуральское, Дегтярское, Турьинское), алюминиевые руды (Североуральское, Черемуховское), марганцевые и никелевые руды (Полуночное, Режевское), золото и платина (Березовское, по долинам рек Тагил, Ту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рудные полезные ископаем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бест (Невьянское), тальк (Шабровское), кварциты (окрестности Первоуральска), огнеупорные глины(Белкинское близ Серова), драгоценные и цветные камни (Малышевское, Мурзинка, Гумешлев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9080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69231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ные ресур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равномерно распределены по территории области. Наиболее развитая промышленная зона, менее всего обеспечена водными ресурсами, т.к. в ней расположены верховья рек.  Из 29 куб . км объема годового стока рек территории 5,3 куб км приходится на бассейн Тавды и 5,4 куб км- на бассейн Уфы и Сыл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хозяйственные цели области требуется более 2 куб.км 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ные на реках водохранилища, а также переброска части стока Уфы в промышленный регион обеспечивают потребности территории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ая ситуация с водными ресурсами весьма напряж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5892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474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859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нообразны и богаты растительные ресурсы, самая важная их часть –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лесные ресурс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ес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ласти делятся на три группы: первая группа -неэксплуатируемые леса вокруг городов и населенных пунктов (лесопарки и зеленые зоны), вторая группа – частично эксплуатируемые, в основном резервные, третья группа – эксплуатируемые л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ежные леса разделяются на темнохвойные (ель, пихта, кедр) и светлохвойные (сосна, лиственниц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таежной зоне много вторичных лесов, преимущественно березовых. Сосна занимает 40% площади лесов, береза-30%,ель-1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а дают не только древесину. Заготовка лекарственных трав, ягод, грибов, орех имеет не менее важное зна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ные и пойменные луга – это пастбища и сенок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райнем юго-востоке и юго-западе – лесосте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ree"/>
          <p:cNvSpPr/>
          <p:nvPr/>
        </p:nvSpPr>
        <p:spPr>
          <a:xfrm>
            <a:off x="1042920" y="260280"/>
            <a:ext cx="1235160" cy="1621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37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5689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ч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асти наиболее плодородными являются черноземы и серые лесные почвы, которые находятся на юго-востоке и юго-западе области. Это основные сельскохозяйственные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тайги, необходимо повышать плодородие дерново-подзолистых почв, используя минеральные удобрения и известк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бходимо проводить меры по борьбе с водной и ветровой эрозией поч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5373720"/>
            <a:ext cx="1268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6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Население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2752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енность населения на 2001 год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млн.челове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й естественный прир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Причины: высокий уровень урбанизации (уровень образования и культуры, занятость женщин в производстве), благосостояние населения, вредные привычки, экологическая ситу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ртность среди сельского населения выше, чем среди городского, это объясняется возрастной структурой (отток трудоспособного насе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численность населения оказывает влияние –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играци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и области миграции по направлению «село-город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селение размещено неравномер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Средняя плотность – 24 человека на 1 кв.км. Это в 3 раза выше общероссийской 8,7 чел на 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790720" cy="27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9280" y="1987560"/>
            <a:ext cx="8424720" cy="2836440"/>
            <a:chOff x="179280" y="1987560"/>
            <a:chExt cx="8424720" cy="2836440"/>
          </a:xfrm>
        </p:grpSpPr>
        <p:cxnSp>
          <p:nvCxnSpPr>
            <p:cNvPr id="135" name="_s59406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725080" y="2087280"/>
              <a:ext cx="228960" cy="2897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9405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4277160" y="3535200"/>
              <a:ext cx="228960" cy="1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828880" y="2088000"/>
              <a:ext cx="228960" cy="2896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59400"/>
            <p:cNvSpPr/>
            <p:nvPr/>
          </p:nvSpPr>
          <p:spPr>
            <a:xfrm>
              <a:off x="3143880" y="1987560"/>
              <a:ext cx="2494800" cy="1435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руктура нас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17928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оловая структура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еобладание женщин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59402"/>
            <p:cNvSpPr/>
            <p:nvPr/>
          </p:nvSpPr>
          <p:spPr>
            <a:xfrm>
              <a:off x="307584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Возрастная струк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старение населения,19,2% насе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нсион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9403"/>
            <p:cNvSpPr/>
            <p:nvPr/>
          </p:nvSpPr>
          <p:spPr>
            <a:xfrm>
              <a:off x="597276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Национальный соста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усские – 89,3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атары – 4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Украинцы, немцы, башкиры, марийц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8:07:39Z</dcterms:created>
  <dc:creator>1</dc:creator>
  <dc:description/>
  <dc:language>en-US</dc:language>
  <cp:lastModifiedBy>1</cp:lastModifiedBy>
  <dcterms:modified xsi:type="dcterms:W3CDTF">2007-04-17T14:26:10Z</dcterms:modified>
  <cp:revision>34</cp:revision>
  <dc:subject/>
  <dc:title>Свердловская область</dc:title>
</cp:coreProperties>
</file>