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9.wmf" ContentType="image/x-wmf"/>
  <Override PartName="/ppt/media/image13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wmf" ContentType="image/x-wmf"/>
  <Override PartName="/ppt/media/image11.wmf" ContentType="image/x-wmf"/>
  <Override PartName="/ppt/media/image8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3593A-AA19-4AF9-89FE-EC03D7A47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D3C0A-5CC8-4A19-BD0D-E2215790D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3F4AB-52FC-4932-93AB-E7CD37C4D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BD033-51A9-45DF-86D6-C4D70A6B8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D0E3C-E717-4127-B743-E510E1EFF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D521A-F7A9-493E-923D-CCE0F23BB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E7D33-4F6D-4CAB-ADA5-7A24236D5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0672C-4DBC-438E-A9BE-E2BBCD7F4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37C21-9784-4E1C-B6A6-04DAB04DD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01CF7-F211-42E1-B389-0B5EA7020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B7B53-1976-4801-9365-0759A8F7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EEC4E-A512-48B7-8A36-6EEB65FA6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46525-1AF3-4A0F-A7A3-EAFEF5A5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C53CF-031F-4311-8326-85D3A0B5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70A6B-AAA9-49F9-AFDB-5C350BE95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10EF3-D002-4D53-966D-043A7765C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8BA48-C967-4177-A3B4-B8BAFB722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A7D4D-0F42-433D-8CD2-95DE40068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C7D69-D1FE-47F6-9419-80BC29306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33A7A-4068-472C-8B41-90C35FC51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AB767-36ED-43C6-AEBA-095EC70A9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ADDBA-673E-4122-8701-6028F00F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CCAC9-AAB1-4A97-BBF3-442581F3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67217-6A63-4F15-A52F-A10E80A8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8C3EF-2DEA-4D1B-B288-DAA010153C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D024F-19AF-462A-887F-4459941B26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Свердловская область: ЭГП, население.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итель географии Рапопорт Л.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имназия №17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Структура насе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915920"/>
            <a:ext cx="5986440" cy="39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лигиозный состав –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авославное христианств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русские, украинцы, белорусы, марийцы, чуваши, мордва, удмурты) и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ислам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татары и башкиры – мусульман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уктура занятости населения – 71% занято в отраслях материального производства, в строительстве – 48,9%. Уменьшается удельный вес занятого населения в промышленности при удалении от Екатеринбурга и растет занятость в сельской мест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алицком, Артинском, Ачитском районах занятость в сельском хозяйстве составляет более 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659640" y="2421000"/>
            <a:ext cx="1825560" cy="14619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7164360" y="4797360"/>
            <a:ext cx="15829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7d"/>
                </a:solidFill>
                <a:latin typeface="Arial"/>
              </a:rPr>
              <a:t>Формы рассе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6408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Городское населени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сокий удельный вес городского населения – 87,5%. Преобладание малых однофункциональных горо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ельское посел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еженность сельского расселения; большая доля несельскохозяйственных поселений - (ЛЗП, горнодобывающие поселки). Сельское население расселяется деревн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948360" y="549360"/>
            <a:ext cx="1568520" cy="18669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7596360" y="5013360"/>
            <a:ext cx="922320" cy="9237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2124000" y="4724280"/>
            <a:ext cx="1819440" cy="1809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684360" y="2672640"/>
            <a:ext cx="6727680" cy="1783440"/>
            <a:chOff x="684360" y="2672640"/>
            <a:chExt cx="6727680" cy="1783440"/>
          </a:xfrm>
        </p:grpSpPr>
        <p:cxnSp>
          <p:nvCxnSpPr>
            <p:cNvPr id="153" name="_s69647"/>
            <p:cNvCxnSpPr>
              <a:stCxn id="154" idx="0"/>
              <a:endCxn id="155" idx="2"/>
            </p:cNvCxnSpPr>
            <p:nvPr/>
          </p:nvCxnSpPr>
          <p:spPr>
            <a:xfrm flipV="1" rot="16200000">
              <a:off x="5211360" y="2351880"/>
              <a:ext cx="228960" cy="255636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6" name="_s69645"/>
            <p:cNvCxnSpPr>
              <a:stCxn id="157" idx="0"/>
              <a:endCxn id="155" idx="2"/>
            </p:cNvCxnSpPr>
            <p:nvPr/>
          </p:nvCxnSpPr>
          <p:spPr>
            <a:xfrm flipV="1" rot="16200000">
              <a:off x="4359600" y="3203640"/>
              <a:ext cx="228960" cy="85284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8" name="_s69644"/>
            <p:cNvCxnSpPr>
              <a:stCxn id="159" idx="0"/>
              <a:endCxn id="155" idx="2"/>
            </p:cNvCxnSpPr>
            <p:nvPr/>
          </p:nvCxnSpPr>
          <p:spPr>
            <a:xfrm flipH="1" flipV="1" rot="5400000">
              <a:off x="3507120" y="3203640"/>
              <a:ext cx="228960" cy="85284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0" name="_s69643"/>
            <p:cNvCxnSpPr>
              <a:stCxn id="161" idx="0"/>
              <a:endCxn id="155" idx="2"/>
            </p:cNvCxnSpPr>
            <p:nvPr/>
          </p:nvCxnSpPr>
          <p:spPr>
            <a:xfrm flipH="1" flipV="1" rot="5400000">
              <a:off x="2655360" y="2351880"/>
              <a:ext cx="228960" cy="255636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5" name="_s69639"/>
            <p:cNvSpPr/>
            <p:nvPr/>
          </p:nvSpPr>
          <p:spPr>
            <a:xfrm>
              <a:off x="3040920" y="2672640"/>
              <a:ext cx="2014200" cy="844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4840" rIns="24840" tIns="12240" bIns="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Классификация город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по количеству жителе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69640"/>
            <p:cNvSpPr/>
            <p:nvPr/>
          </p:nvSpPr>
          <p:spPr>
            <a:xfrm>
              <a:off x="684360" y="3745080"/>
              <a:ext cx="1615680" cy="7110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4840" rIns="24840" tIns="12240" bIns="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Город-миллионе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Г..Екатеринбур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69641"/>
            <p:cNvSpPr/>
            <p:nvPr/>
          </p:nvSpPr>
          <p:spPr>
            <a:xfrm>
              <a:off x="2388240" y="3745080"/>
              <a:ext cx="1615680" cy="7110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4840" rIns="24840" tIns="12240" bIns="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Большие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более 100 тыс. жит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(Н.Тагил, Первоуральск,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Каменск-Уральск, Серов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69642"/>
            <p:cNvSpPr/>
            <p:nvPr/>
          </p:nvSpPr>
          <p:spPr>
            <a:xfrm>
              <a:off x="4092480" y="3745080"/>
              <a:ext cx="1615680" cy="7110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4840" rIns="24840" tIns="12240" bIns="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Средние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-50-100 тыс.жит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10 городов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69646"/>
            <p:cNvSpPr/>
            <p:nvPr/>
          </p:nvSpPr>
          <p:spPr>
            <a:xfrm>
              <a:off x="5796360" y="3745080"/>
              <a:ext cx="1615680" cy="7110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4840" rIns="24840" tIns="12240" bIns="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Малые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– до 50 тыс.жит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32 города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227640" y="476280"/>
            <a:ext cx="259236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7d"/>
                </a:solidFill>
                <a:latin typeface="Arial"/>
              </a:rPr>
              <a:t>Закрепление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6778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чему большая часть прироста численности населения области приходится на Екатеринбург и ближайшие территор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ковы причины снижения естественного прироста населения Свердловской област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к в наши дни можно уменьшить смертность населения в област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удет ли меняться отраслевая структура занятости трудовых ресурсов в Свердловской области в новых экономических условия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ем вызвана «проблема невест» в сельской местно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804000" y="54936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7d"/>
                </a:solidFill>
                <a:latin typeface="Arial"/>
              </a:rPr>
              <a:t>Домашнее задани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483552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просить своих старших родственников о числе детей в семьях их родителей. Обработать данные (записать по годам рождени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ыучить конспек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796000" y="1557360"/>
            <a:ext cx="2160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i="1" lang="en-US" sz="4400" spc="-1" strike="noStrike">
                <a:solidFill>
                  <a:srgbClr val="00007d"/>
                </a:solidFill>
                <a:latin typeface="Arial"/>
              </a:rPr>
              <a:t>Цель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988640"/>
            <a:ext cx="742788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пределить особенности ЭГП Свердловской обла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явить природно-ресурсный потенциал обла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формировать знания о размещении и динамике численности население как о процессах, которые закономерно изменяются во времени и географическом пространств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435640" y="476280"/>
            <a:ext cx="2232000" cy="16574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d"/>
                </a:solidFill>
                <a:latin typeface="Arial"/>
              </a:rPr>
              <a:t>Свердловская область на карте Росс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03280" y="2060640"/>
            <a:ext cx="6840720" cy="38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вердловская область образовалась 17 января 1938 год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лощадь области – 195 тыс. кв.км, что составляет 1,14% площади Росс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чертания области напоминают треугольник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 западе граничит с республикой КОМИ, Пермской обл.; на юге – с Башкортостаном, Челябинской обл., Курганской обл.; на востоке – Тюменской обл., включая Ханты-Мансийский АО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ходится на границе двух частей света – Европы и Аз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анимает внутриконтинентальное положение: удаленность от Атлантического океана – 2000км, от Северного Ледовитого -1000к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Транзитное положение между западом и востоком стран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Удаленность от государственных границ несколько затрудняет развитие рыночных отношений с зарубежными стран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1100160" cy="18050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93080" y="333360"/>
            <a:ext cx="1773000" cy="182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7d"/>
                </a:solidFill>
                <a:latin typeface="Arial"/>
              </a:rPr>
              <a:t>Природно-ресурсный потенциал Свердловской обла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728208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кладовая земли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удные полезные ископаем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железные руды ( Высокогорское, Гороблагодатское, Серовское), медные руды (Красноуральское, Дегтярское, Турьинское), алюминиевые руды (Североуральское, Черемуховское), марганцевые и никелевые руды (Полуночное, Режевское), золото и платина (Березовское, по долинам рек Тагил, Туры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Нерудные полезные ископаемые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сбест (Невьянское), тальк (Шабровское), кварциты (окрестности Первоуральска), огнеупорные глины(Белкинское близ Серова), драгоценные и цветные камни (Малышевское, Мурзинка, Гумешлевско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236000" y="1125360"/>
            <a:ext cx="190800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69231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одные ресурс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неравномерно распределены по территории области. Наиболее развитая промышленная зона, менее всего обеспечена водными ресурсами, т.к. в ней расположены верховья рек.  Из 29 куб . км объема годового стока рек территории 5,3 куб км приходится на бассейн Тавды и 5,4 куб км- на бассейн Уфы и Сылв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хозяйственные цели области требуется более 2 куб.км вод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троенные на реках водохранилища, а также переброска части стока Уфы в промышленный регион обеспечивают потребности территории в вод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кологическая ситуация с водными ресурсами весьма напряженн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732720" y="260280"/>
            <a:ext cx="2158920" cy="18734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7380360" y="4797360"/>
            <a:ext cx="147456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785952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знообразны и богаты растительные ресурсы, самая важная их часть –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лесные ресурсы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Леса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бласти делятся на три группы: первая группа -неэксплуатируемые леса вокруг городов и населенных пунктов (лесопарки и зеленые зоны), вторая группа – частично эксплуатируемые, в основном резервные, третья группа – эксплуатируемые лес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Таежные леса разделяются на темнохвойные (ель, пихта, кедр) и светлохвойные (сосна, лиственниц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таежной зоне много вторичных лесов, преимущественно березовых. Сосна занимает 40% площади лесов, береза-30%,ель-17%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Леса дают не только древесину. Заготовка лекарственных трав, ягод, грибов, орех имеет не менее важное знач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Лесные и пойменные луга – это пастбища и сенокос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 крайнем юго-востоке и юго-западе – лесостеп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ree"/>
          <p:cNvSpPr/>
          <p:nvPr/>
        </p:nvSpPr>
        <p:spPr>
          <a:xfrm>
            <a:off x="1042920" y="260280"/>
            <a:ext cx="1235160" cy="162108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588000" y="4941720"/>
            <a:ext cx="237672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6920" y="2133360"/>
            <a:ext cx="5689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реди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почв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ласти наиболее плодородными являются черноземы и серые лесные почвы, которые находятся на юго-востоке и юго-западе области. Это основные сельскохозяйственные райо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южной тайги, необходимо повышать плодородие дерново-подзолистых почв, используя минеральные удобрения и известкова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обходимо проводить меры по борьбе с водной и ветровой эрозией поч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55640" y="5373720"/>
            <a:ext cx="1268280" cy="12952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156360" y="476280"/>
            <a:ext cx="26636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7d"/>
                </a:solidFill>
                <a:latin typeface="Arial"/>
              </a:rPr>
              <a:t>Население Свердловской обла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5627520" cy="38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исленность населения на 2001 год –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коло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5 млн.человек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Отрицательный естественный прирос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Причины: высокий уровень урбанизации (уровень образования и культуры, занятость женщин в производстве), благосостояние населения, вредные привычки, экологическая ситуац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мертность среди сельского населения выше, чем среди городского, это объясняется возрастной структурой (отток трудоспособного населени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 численность населения оказывает влияние –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миграции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нутри области миграции по направлению «село-город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Население размещено неравномерн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Средняя плотность – 24 человека на 1 кв.км. Это в 3 раза выше общероссийской 8,7 чел на 1 кв.к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156360" y="2060640"/>
            <a:ext cx="2790720" cy="2736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79280" y="1987560"/>
            <a:ext cx="8424720" cy="2836440"/>
            <a:chOff x="179280" y="1987560"/>
            <a:chExt cx="8424720" cy="2836440"/>
          </a:xfrm>
        </p:grpSpPr>
        <p:cxnSp>
          <p:nvCxnSpPr>
            <p:cNvPr id="135" name="_s59406"/>
            <p:cNvCxnSpPr>
              <a:stCxn id="136" idx="0"/>
              <a:endCxn id="137" idx="2"/>
            </p:cNvCxnSpPr>
            <p:nvPr/>
          </p:nvCxnSpPr>
          <p:spPr>
            <a:xfrm flipV="1" rot="16200000">
              <a:off x="5725080" y="2087280"/>
              <a:ext cx="228960" cy="289728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8" name="_s59405"/>
            <p:cNvCxnSpPr>
              <a:stCxn id="139" idx="0"/>
              <a:endCxn id="137" idx="2"/>
            </p:cNvCxnSpPr>
            <p:nvPr/>
          </p:nvCxnSpPr>
          <p:spPr>
            <a:xfrm flipV="1" rot="16200000">
              <a:off x="4277160" y="3535200"/>
              <a:ext cx="228960" cy="144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59404"/>
            <p:cNvCxnSpPr>
              <a:stCxn id="141" idx="0"/>
              <a:endCxn id="137" idx="2"/>
            </p:cNvCxnSpPr>
            <p:nvPr/>
          </p:nvCxnSpPr>
          <p:spPr>
            <a:xfrm flipH="1" flipV="1" rot="5400000">
              <a:off x="2828880" y="2088000"/>
              <a:ext cx="228960" cy="289656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7" name="_s59400"/>
            <p:cNvSpPr/>
            <p:nvPr/>
          </p:nvSpPr>
          <p:spPr>
            <a:xfrm>
              <a:off x="3143880" y="1987560"/>
              <a:ext cx="2494800" cy="1435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360" rIns="3636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Структура насел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59401"/>
            <p:cNvSpPr/>
            <p:nvPr/>
          </p:nvSpPr>
          <p:spPr>
            <a:xfrm>
              <a:off x="179280" y="3651480"/>
              <a:ext cx="2631240" cy="11725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360" rIns="3636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Половая структура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Преобладание женщин    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59402"/>
            <p:cNvSpPr/>
            <p:nvPr/>
          </p:nvSpPr>
          <p:spPr>
            <a:xfrm>
              <a:off x="3075840" y="3651480"/>
              <a:ext cx="2631240" cy="11725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360" rIns="3636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Возрастная структур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Постарение населения,19,2% населения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пенсионеры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59403"/>
            <p:cNvSpPr/>
            <p:nvPr/>
          </p:nvSpPr>
          <p:spPr>
            <a:xfrm>
              <a:off x="5972760" y="3651480"/>
              <a:ext cx="2631240" cy="11725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360" rIns="3636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Национальный соста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Русские – 89,3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Татары – 4 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Украинцы, немцы, башкиры, марийцы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5T08:07:39Z</dcterms:created>
  <dc:creator>1</dc:creator>
  <dc:description/>
  <dc:language>en-US</dc:language>
  <cp:lastModifiedBy>1</cp:lastModifiedBy>
  <dcterms:modified xsi:type="dcterms:W3CDTF">2007-04-17T14:26:10Z</dcterms:modified>
  <cp:revision>34</cp:revision>
  <dc:subject/>
  <dc:title>Свердловская область</dc:title>
</cp:coreProperties>
</file>