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E2D-4DDC-408C-A195-32ED9213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6A7-3C48-4C16-A914-3B1B6988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EEB-F78A-4F55-9EDA-5AD0710B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1C6-5DEF-484E-8F02-119894D4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0AE-1EA7-4AF7-AB08-147EBBC2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7A6-9131-4D21-8F32-29AEBD30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408-5572-4F1C-A09F-F420E2EF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563-D8D9-4DAE-99E9-B93335CC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95F-68CB-4F8D-BF6E-8F50F2DD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618-CBB9-4A93-B205-D1C54FD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FF3-5392-4DCA-B660-6AB801AE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CEA-105B-4371-B807-DE6D9281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AF3F-0164-4CA6-B715-2F381590025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00040" y="142920"/>
            <a:ext cx="8215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Бегемот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вай покажем, как бегемотики рот широко открывают. Открой рот как можно шире и удерживай его в таком положении на счёт от одного до пяти, потом закрой рот. Повтори три-четыре 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29040" y="2000160"/>
            <a:ext cx="4648320" cy="44290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57120" y="2643120"/>
            <a:ext cx="2928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 пошире открыва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гемотиков игра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раскроем роти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голодный бегемот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вать его нельз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яти считаю 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закроем ро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ет беге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ПАРУ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10717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широко открыть рот, кончик языка поднять и поставить на бугорки (альвеолы) за верхними зубами. Удерживать язык в таком положении на счёт до восьми, потом до десяти. Опустить язык и повторить упражнение 2-3 р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__17139"/>
          <p:cNvPicPr/>
          <p:nvPr/>
        </p:nvPicPr>
        <p:blipFill>
          <a:blip r:embed="rId1"/>
          <a:srcRect l="0" t="0" r="0" b="28"/>
          <a:stretch/>
        </p:blipFill>
        <p:spPr>
          <a:xfrm>
            <a:off x="0" y="2000160"/>
            <a:ext cx="8786880" cy="458964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МЕСИМ ТЕСТ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28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кусать язык зубами та-та-та…; пошлёпать язык губами пя-пя-пя…; закусить язык зубами и протаскивать его сквозь зубы с усил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__20549"/>
          <p:cNvPicPr/>
          <p:nvPr/>
        </p:nvPicPr>
        <p:blipFill>
          <a:blip r:embed="rId1"/>
          <a:stretch/>
        </p:blipFill>
        <p:spPr>
          <a:xfrm>
            <a:off x="500040" y="1495440"/>
            <a:ext cx="8643960" cy="536256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БЛИНЧИК»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Положить широкий язык на нижнюю губу. Удерживать в спокойном состоянии на счет до пяти. В этом упражнении важно следить, чтобы нижняя губа не напрягалась и не натягивалась на нижние зуб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__64059"/>
          <p:cNvPicPr/>
          <p:nvPr/>
        </p:nvPicPr>
        <p:blipFill>
          <a:blip r:embed="rId1"/>
          <a:stretch/>
        </p:blipFill>
        <p:spPr>
          <a:xfrm>
            <a:off x="500040" y="2357280"/>
            <a:ext cx="8286840" cy="383544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«ВКУСНОЕ ВАРЕНЬ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168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Языком в форме чашечки облизывать верхнюю губу сверху- вниз(можно помазать ее вареньем). Нижняя губа не должна обтягивать зубы (можно оттянуть ее  вниз руко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__42884"/>
          <p:cNvPicPr/>
          <p:nvPr/>
        </p:nvPicPr>
        <p:blipFill>
          <a:blip r:embed="rId1"/>
          <a:stretch/>
        </p:blipFill>
        <p:spPr>
          <a:xfrm>
            <a:off x="928800" y="2000160"/>
            <a:ext cx="7572240" cy="46418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ЧАШЕ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9284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ложить широкий язык на нижнюю губу, боковые края языка загнуть в форме чашечки. Удерживать на счет до пяти. Нижняя губа не должна обтягивать нижние зу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__45202"/>
          <p:cNvPicPr/>
          <p:nvPr/>
        </p:nvPicPr>
        <p:blipFill>
          <a:blip r:embed="rId1"/>
          <a:srcRect l="0" t="0" r="42" b="106"/>
          <a:stretch/>
        </p:blipFill>
        <p:spPr>
          <a:xfrm>
            <a:off x="428760" y="2071800"/>
            <a:ext cx="8215200" cy="450036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опубликовано на 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logolife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33:01Z</dcterms:created>
  <dc:creator>Zver</dc:creator>
  <dc:description/>
  <dc:language>en-US</dc:language>
  <cp:lastModifiedBy>Admin</cp:lastModifiedBy>
  <dcterms:modified xsi:type="dcterms:W3CDTF">2011-11-30T14:38:27Z</dcterms:modified>
  <cp:revision>37</cp:revision>
  <dc:subject/>
  <dc:title>УПРАЖНЕНИЕ «ГРИБО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40000000000010250600207f5200358026400</vt:lpwstr>
  </property>
</Properties>
</file>