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CA7-F928-43AB-8A7C-297C03E8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108-00B5-452F-BFB8-C12026BA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04C-A455-40A1-920D-D052D93D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48A-EF99-4545-8C6C-BB1FA754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F4A-0088-41FB-8749-E7C1467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24F-5463-43FA-96F0-3FFB6E8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55D-0CB4-46BA-BF0C-4B2B2FFF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EB2-1C01-407D-87CD-62614CE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CA4-4D57-494E-8E09-62DAD803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8B3-FB21-4264-B72E-4066859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3DF-8D96-4132-8A24-61ADC80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1EF-1451-460B-8A8A-BD26972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B3EA-1B54-4776-9A03-11B4A69EF9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142920"/>
            <a:ext cx="8215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егемот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кажем, как бегемотики рот широко открывают. Открой рот как можно шире и удерживай его в таком положении на счёт от одного до пяти, потом закрой рот. Повтори три-четыре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29040" y="2000160"/>
            <a:ext cx="464832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7120" y="264312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пошире открыва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гемотиков игра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раскроем рот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олодный бегемот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ть его нельз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яти считаю 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закроем ро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ет беге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7139"/>
          <p:cNvPicPr/>
          <p:nvPr/>
        </p:nvPicPr>
        <p:blipFill>
          <a:blip r:embed="rId1"/>
          <a:srcRect l="0" t="0" r="0" b="28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__64059"/>
          <p:cNvPicPr/>
          <p:nvPr/>
        </p:nvPicPr>
        <p:blipFill>
          <a:blip r:embed="rId1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__45202"/>
          <p:cNvPicPr/>
          <p:nvPr/>
        </p:nvPicPr>
        <p:blipFill>
          <a:blip r:embed="rId1"/>
          <a:srcRect l="0" t="0" r="42" b="106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Admin</cp:lastModifiedBy>
  <dcterms:modified xsi:type="dcterms:W3CDTF">2011-11-30T14:38:27Z</dcterms:modified>
  <cp:revision>37</cp:revision>
  <dc:subject/>
  <dc:title>УПРАЖНЕНИЕ «ГРИБ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