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0FB-E8B3-4111-B445-52EB8893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B09-3E63-48A6-9CA3-1501C1F8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E15-1BF4-44B5-820F-1AF0146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33C-EB0C-4C08-8D40-5F14A30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F7E-C1BF-4E5D-9D90-B8899695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DAC-E07A-4686-8BFD-E72B5561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1EC-08A1-4EC6-8046-2B1290D2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56F-F2D5-4D9B-9B00-D7042DB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81A-B262-4612-86BE-FD0B7DC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99E-B97A-46A3-8CCD-6EFD7D4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C57-97B2-4898-9F5E-FD76D62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059-6996-4B2A-BB22-6E7222B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E04-B24C-4D28-8906-DBED271070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142920"/>
            <a:ext cx="8215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егемот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кажем, как бегемотики рот широко открывают. Открой рот как можно шире и удерживай его в таком положении на счёт от одного до пяти, потом закрой рот. Повтори три-четыре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29040" y="2000160"/>
            <a:ext cx="464832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7120" y="264312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пошире открыва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гемотиков игра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раскроем рот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олодный бегемот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ть его нельз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яти считаю 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закроем ро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ет беге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7139"/>
          <p:cNvPicPr/>
          <p:nvPr/>
        </p:nvPicPr>
        <p:blipFill>
          <a:blip r:embed="rId1"/>
          <a:srcRect l="0" t="0" r="0" b="28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__64059"/>
          <p:cNvPicPr/>
          <p:nvPr/>
        </p:nvPicPr>
        <p:blipFill>
          <a:blip r:embed="rId1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__45202"/>
          <p:cNvPicPr/>
          <p:nvPr/>
        </p:nvPicPr>
        <p:blipFill>
          <a:blip r:embed="rId1"/>
          <a:srcRect l="0" t="0" r="42" b="106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Admin</cp:lastModifiedBy>
  <dcterms:modified xsi:type="dcterms:W3CDTF">2011-11-30T14:38:27Z</dcterms:modified>
  <cp:revision>37</cp:revision>
  <dc:subject/>
  <dc:title>УПРАЖНЕНИЕ «ГРИБ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