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23.gif" ContentType="image/gif"/>
  <Override PartName="/ppt/media/image17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9B07-17BE-4779-98DD-CA83F621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8AAD-760A-4BF4-A68A-E6EE260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88EB-EE0C-4B88-8E66-FC0D02D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8051-7A30-426A-8834-6D7888AB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C6B-99E1-4853-A9E9-6747E4AE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6C80-B351-4ED8-9C77-5708BC5E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3B8F-7973-41BF-8A5F-832DFD5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A03-8F02-4EDF-A44F-B956B06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0AF-2324-45DD-9F27-125C36E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68AA-723F-421B-8D62-55D4507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6CC9-2CC7-4A7B-BE9C-60B9A2A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E1F6-F48B-4E6F-B0D3-02264F8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0180-BDE6-489D-A1C9-F7CC13F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43F1-3481-4252-8951-53024E1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C5C9-753C-4042-9AB0-46D7558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7C6A-8259-41BA-BEE9-6345F514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600D-0131-4C49-BCE9-11E13518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7A59-6550-47CC-8006-021C25A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F452-D92A-47CB-9374-14A90E6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BF7B-04B8-4EF9-B5AF-7BE9CE45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CCE4-610A-4D2C-B8A9-C0F96D2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FC51-9400-41D9-8545-7EF0A12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D7D9-14D3-4B40-9F5F-9D7CF99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22C8-A855-4F6C-8689-250E76F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0D62-7E27-4F1C-AF92-0A37BA6D3A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2ED-1F47-40E8-AAEF-447080E287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j0316756"/>
          <p:cNvPicPr/>
          <p:nvPr/>
        </p:nvPicPr>
        <p:blipFill>
          <a:blip r:embed="rId1"/>
          <a:stretch/>
        </p:blipFill>
        <p:spPr>
          <a:xfrm>
            <a:off x="6012000" y="222120"/>
            <a:ext cx="2898720" cy="19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640" y="1913040"/>
            <a:ext cx="60199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узыка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 живопис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18920" y="4340160"/>
            <a:ext cx="6085080" cy="213048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Работа ученика 8 «а» класса МОУ «Сош № 94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алущенко Гео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0175029"/>
          <p:cNvPicPr/>
          <p:nvPr/>
        </p:nvPicPr>
        <p:blipFill>
          <a:blip r:embed="rId2"/>
          <a:stretch/>
        </p:blipFill>
        <p:spPr>
          <a:xfrm>
            <a:off x="395280" y="3524400"/>
            <a:ext cx="17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G00053_"/>
          <p:cNvPicPr/>
          <p:nvPr/>
        </p:nvPicPr>
        <p:blipFill>
          <a:blip r:embed="rId3"/>
          <a:stretch/>
        </p:blipFill>
        <p:spPr>
          <a:xfrm flipH="1" rot="5400000">
            <a:off x="-972720" y="4758120"/>
            <a:ext cx="2647800" cy="14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G00055_"/>
          <p:cNvPicPr/>
          <p:nvPr/>
        </p:nvPicPr>
        <p:blipFill>
          <a:blip r:embed="rId4"/>
          <a:stretch/>
        </p:blipFill>
        <p:spPr>
          <a:xfrm>
            <a:off x="6012000" y="2138400"/>
            <a:ext cx="28987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206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Чайковский_Апрель_Подснежник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Саврасов_Грачи прилетели"/>
          <p:cNvPicPr/>
          <p:nvPr/>
        </p:nvPicPr>
        <p:blipFill>
          <a:blip r:embed="rId2"/>
          <a:stretch/>
        </p:blipFill>
        <p:spPr>
          <a:xfrm>
            <a:off x="4067280" y="512640"/>
            <a:ext cx="444492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 Box 5"/>
          <p:cNvSpPr/>
          <p:nvPr/>
        </p:nvSpPr>
        <p:spPr>
          <a:xfrm>
            <a:off x="431640" y="2529000"/>
            <a:ext cx="313236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Грачи прилетел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снеж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1871640" y="6129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022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63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1450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Чайковский_Май_Белые ночи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Головин_Ветлы"/>
          <p:cNvPicPr/>
          <p:nvPr/>
        </p:nvPicPr>
        <p:blipFill>
          <a:blip r:embed="rId2"/>
          <a:stretch/>
        </p:blipFill>
        <p:spPr>
          <a:xfrm>
            <a:off x="4103640" y="512640"/>
            <a:ext cx="436248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647640" y="2673360"/>
            <a:ext cx="3024360" cy="188280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Я. Головин «Ветлы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Ярославски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елые но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" action="ppaction://hlinkshowjump?jump=nextslide"/>
          </p:cNvPr>
          <p:cNvSpPr/>
          <p:nvPr/>
        </p:nvSpPr>
        <p:spPr>
          <a:xfrm>
            <a:off x="154764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297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82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457200"/>
            <a:ext cx="14050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Чайковский_Июнь_Баркарол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Венецианов_На пашне Весна"/>
          <p:cNvPicPr/>
          <p:nvPr/>
        </p:nvPicPr>
        <p:blipFill>
          <a:blip r:embed="rId2"/>
          <a:stretch/>
        </p:blipFill>
        <p:spPr>
          <a:xfrm>
            <a:off x="1619280" y="476280"/>
            <a:ext cx="73087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 Box 5"/>
          <p:cNvSpPr/>
          <p:nvPr/>
        </p:nvSpPr>
        <p:spPr>
          <a:xfrm>
            <a:off x="287280" y="558972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М. Венецианов «На пашн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аркар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45964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5870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01" dur="5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990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Чайковский_Июль_Песнь косаря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Саврасов_Домик в провинции"/>
          <p:cNvPicPr/>
          <p:nvPr/>
        </p:nvPicPr>
        <p:blipFill>
          <a:blip r:embed="rId2"/>
          <a:stretch/>
        </p:blipFill>
        <p:spPr>
          <a:xfrm>
            <a:off x="4140360" y="512640"/>
            <a:ext cx="440676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9640" y="2565360"/>
            <a:ext cx="295128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Домик в провинци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коса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" action="ppaction://hlinkshowjump?jump=nextslide"/>
          </p:cNvPr>
          <p:cNvSpPr/>
          <p:nvPr/>
        </p:nvSpPr>
        <p:spPr>
          <a:xfrm>
            <a:off x="1403280" y="6021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2632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20" dur="5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19908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Чайковский_Август_Жатва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Шишкин_Рожь"/>
          <p:cNvPicPr/>
          <p:nvPr/>
        </p:nvPicPr>
        <p:blipFill>
          <a:blip r:embed="rId2"/>
          <a:stretch/>
        </p:blipFill>
        <p:spPr>
          <a:xfrm>
            <a:off x="216000" y="836640"/>
            <a:ext cx="874872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25092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Шишкин «Рожь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а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496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4854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39" dur="5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25668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Чайковский_Сентябрь_Охот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Серов_Осень Домоткапово "/>
          <p:cNvPicPr/>
          <p:nvPr/>
        </p:nvPicPr>
        <p:blipFill>
          <a:blip r:embed="rId2"/>
          <a:stretch/>
        </p:blipFill>
        <p:spPr>
          <a:xfrm>
            <a:off x="216000" y="906480"/>
            <a:ext cx="874872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28728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А. Серов «Осень в Домотканово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Ивановский областно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х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7981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58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5640" y="620640"/>
            <a:ext cx="220644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Чайковский_Октябрь_Осенняя песнь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Жуковский_Брошенная терраса "/>
          <p:cNvPicPr/>
          <p:nvPr/>
        </p:nvPicPr>
        <p:blipFill>
          <a:blip r:embed="rId2"/>
          <a:stretch/>
        </p:blipFill>
        <p:spPr>
          <a:xfrm>
            <a:off x="3492360" y="512640"/>
            <a:ext cx="5221440" cy="61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Text Box 5"/>
          <p:cNvSpPr/>
          <p:nvPr/>
        </p:nvSpPr>
        <p:spPr>
          <a:xfrm>
            <a:off x="539640" y="2565360"/>
            <a:ext cx="2268720" cy="27057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Ю. Жуковский «Брошенная террас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Тульский музей изобразительных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енняя пес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" action="ppaction://hlinkshowjump?jump=nextslide"/>
          </p:cNvPr>
          <p:cNvSpPr/>
          <p:nvPr/>
        </p:nvSpPr>
        <p:spPr>
          <a:xfrm>
            <a:off x="1187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33622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7097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Чайковский_Ноябрь_На тройке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Гермашев_Снег выпал"/>
          <p:cNvPicPr/>
          <p:nvPr/>
        </p:nvPicPr>
        <p:blipFill>
          <a:blip r:embed="rId2"/>
          <a:srcRect l="0" t="0" r="7176" b="4584"/>
          <a:stretch/>
        </p:blipFill>
        <p:spPr>
          <a:xfrm>
            <a:off x="2879640" y="1125360"/>
            <a:ext cx="6013440" cy="52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Text Box 5"/>
          <p:cNvSpPr/>
          <p:nvPr/>
        </p:nvSpPr>
        <p:spPr>
          <a:xfrm>
            <a:off x="179280" y="1881360"/>
            <a:ext cx="2484720" cy="25743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М. Гермашев «Снег выпа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 трой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" action="ppaction://hlinkshowjump?jump=nextslide"/>
          </p:cNvPr>
          <p:cNvSpPr/>
          <p:nvPr/>
        </p:nvSpPr>
        <p:spPr>
          <a:xfrm>
            <a:off x="118728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67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96" dur="5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и живопись дополняют друг друга, усиливают воздействие изобразительного и музыкального произведения н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j0282786"/>
          <p:cNvPicPr/>
          <p:nvPr/>
        </p:nvPicPr>
        <p:blipFill>
          <a:blip r:embed="rId1"/>
          <a:stretch/>
        </p:blipFill>
        <p:spPr>
          <a:xfrm>
            <a:off x="2916360" y="1503360"/>
            <a:ext cx="2340000" cy="22352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3"/>
          <p:cNvSpPr txBox="1"/>
          <p:nvPr/>
        </p:nvSpPr>
        <p:spPr>
          <a:xfrm>
            <a:off x="4427640" y="3328920"/>
            <a:ext cx="2016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60792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54500"/>
          <p:cNvPicPr/>
          <p:nvPr/>
        </p:nvPicPr>
        <p:blipFill>
          <a:blip r:embed="rId1"/>
          <a:stretch/>
        </p:blipFill>
        <p:spPr>
          <a:xfrm>
            <a:off x="3527280" y="1736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Музей изобразительных искусств им Пушкина.mpg" descr=""/>
          <p:cNvPicPr/>
          <p:nvPr/>
        </p:nvPicPr>
        <p:blipFill>
          <a:blip r:embed="rId1"/>
          <a:stretch/>
        </p:blipFill>
        <p:spPr>
          <a:xfrm>
            <a:off x="792000" y="368280"/>
            <a:ext cx="7669440" cy="5676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611280" y="6308640"/>
            <a:ext cx="824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й изобразительных искусств имени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9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28640"/>
            <a:ext cx="82915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заимосвязаны между собой два вида искусства – музыка и живоп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он дополняют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ервично и что вторично? Существует ли однозначный от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54500"/>
          <p:cNvPicPr/>
          <p:nvPr/>
        </p:nvPicPr>
        <p:blipFill>
          <a:blip r:embed="rId1"/>
          <a:stretch/>
        </p:blipFill>
        <p:spPr>
          <a:xfrm>
            <a:off x="179280" y="80028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54500"/>
          <p:cNvPicPr/>
          <p:nvPr/>
        </p:nvPicPr>
        <p:blipFill>
          <a:blip r:embed="rId2"/>
          <a:stretch/>
        </p:blipFill>
        <p:spPr>
          <a:xfrm>
            <a:off x="216000" y="407664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54500"/>
          <p:cNvPicPr/>
          <p:nvPr/>
        </p:nvPicPr>
        <p:blipFill>
          <a:blip r:embed="rId3"/>
          <a:stretch/>
        </p:blipFill>
        <p:spPr>
          <a:xfrm>
            <a:off x="179280" y="2384280"/>
            <a:ext cx="621000" cy="6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54454"/>
          <p:cNvPicPr/>
          <p:nvPr/>
        </p:nvPicPr>
        <p:blipFill>
          <a:blip r:embed="rId4"/>
          <a:stretch/>
        </p:blipFill>
        <p:spPr>
          <a:xfrm>
            <a:off x="7020000" y="566100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j0213485"/>
          <p:cNvPicPr/>
          <p:nvPr/>
        </p:nvPicPr>
        <p:blipFill>
          <a:blip r:embed="rId5"/>
          <a:stretch/>
        </p:blipFill>
        <p:spPr>
          <a:xfrm>
            <a:off x="7885080" y="526572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Чайковский"/>
          <p:cNvPicPr/>
          <p:nvPr/>
        </p:nvPicPr>
        <p:blipFill>
          <a:blip r:embed="rId1"/>
          <a:srcRect l="3581" t="947" r="1998" b="0"/>
          <a:stretch/>
        </p:blipFill>
        <p:spPr>
          <a:xfrm>
            <a:off x="358920" y="1449360"/>
            <a:ext cx="3193920" cy="42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995640" y="245736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9280" y="1449360"/>
            <a:ext cx="4860720" cy="421164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о музыкальное произведение «Времена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– Пётр Ильич Чайковский (1840 – 18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386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Чайковский_Декабрь_Святки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Дубовский_Зима"/>
          <p:cNvPicPr/>
          <p:nvPr/>
        </p:nvPicPr>
        <p:blipFill>
          <a:blip r:embed="rId2"/>
          <a:stretch/>
        </p:blipFill>
        <p:spPr>
          <a:xfrm>
            <a:off x="250920" y="1125360"/>
            <a:ext cx="8677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Н. Дубовский «Зим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ят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2389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87" dur="5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20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Чайковский_Январь_У камель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Грабарь_Иней "/>
          <p:cNvPicPr/>
          <p:nvPr/>
        </p:nvPicPr>
        <p:blipFill>
          <a:blip r:embed="rId2"/>
          <a:stretch/>
        </p:blipFill>
        <p:spPr>
          <a:xfrm>
            <a:off x="900000" y="1197000"/>
            <a:ext cx="741852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Э. Грабарь «Иней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 камел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</p:cNvPr>
          <p:cNvSpPr/>
          <p:nvPr/>
        </p:nvSpPr>
        <p:spPr>
          <a:xfrm>
            <a:off x="853272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1839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06" dur="5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5304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Чайковский_Февраль_Маслениц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устодиев_Масленица"/>
          <p:cNvPicPr/>
          <p:nvPr/>
        </p:nvPicPr>
        <p:blipFill>
          <a:blip r:embed="rId2"/>
          <a:stretch/>
        </p:blipFill>
        <p:spPr>
          <a:xfrm>
            <a:off x="287280" y="1015920"/>
            <a:ext cx="8569440" cy="43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Text Box 5"/>
          <p:cNvSpPr/>
          <p:nvPr/>
        </p:nvSpPr>
        <p:spPr>
          <a:xfrm>
            <a:off x="25092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М. Кустодиев «Маслениц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асле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7684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25" dur="5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1351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Чайковский_Март_Песнь жаворон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Левитан_Март"/>
          <p:cNvPicPr/>
          <p:nvPr/>
        </p:nvPicPr>
        <p:blipFill>
          <a:blip r:embed="rId2"/>
          <a:stretch/>
        </p:blipFill>
        <p:spPr>
          <a:xfrm>
            <a:off x="2195640" y="584280"/>
            <a:ext cx="6734160" cy="51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 Box 5"/>
          <p:cNvSpPr/>
          <p:nvPr/>
        </p:nvSpPr>
        <p:spPr>
          <a:xfrm>
            <a:off x="28728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Левитан «Март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жаворо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6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44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32:12Z</dcterms:created>
  <dc:creator>Егорова Елена Николаевна</dc:creator>
  <dc:description/>
  <dc:language>en-US</dc:language>
  <cp:lastModifiedBy>Коля</cp:lastModifiedBy>
  <dcterms:modified xsi:type="dcterms:W3CDTF">2013-03-20T19:44:43Z</dcterms:modified>
  <cp:revision>31</cp:revision>
  <dc:subject/>
  <dc:title>Слайд 1</dc:title>
</cp:coreProperties>
</file>