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7242-FEEA-4D23-8BD6-6BD745853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0366-2283-498F-938F-69092697A577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CCC-4CBD-4F4B-9302-CE876E85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404-2763-4C87-A67C-1ABEA47B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87D-AD87-4F9E-8C08-B857AA8D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C9F-6475-4101-B34A-6DA97AF2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BB07-FE61-4A7C-B7B3-3C12BAF7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2DA-AAEA-4ED6-8362-9C518EF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080D-C5C8-4CE8-B099-C5746A5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026E-18B0-46B4-9F65-3AEABBA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973-D83D-49DE-BCF6-C5159D8D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4F13-64A6-444F-B7F4-951B8575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2CAD-4D4D-48AF-9F5A-5CBC3B7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D15-646E-4200-8F63-EA79F7E7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1A56-4EFE-43FD-890C-41D8BCF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E25E-CF3A-47AC-90F9-D4147DF8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F59-AC37-4B22-9C88-85D5370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02E-49A4-440A-8373-3573433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8B21-E80F-4A17-8F2F-3D311781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144-566D-4016-A918-6234069D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6B2-CFAC-4A52-976F-4D31214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943-4568-46EE-A489-D61DEC8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410-BD79-4045-8C2D-3209FB4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9A7-9C5D-415F-BEB9-99342C9A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216-3A10-4ADD-9BBA-6382EF3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43C-1E55-4A12-A654-5289082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A726-ADAE-41B7-A89A-1F7D626F083C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325440" y="2104920"/>
            <a:ext cx="3618000" cy="30636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95F-30BE-48EE-A0C8-9E6104277D12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8" descr="эмблема"/>
          <p:cNvPicPr/>
          <p:nvPr/>
        </p:nvPicPr>
        <p:blipFill>
          <a:blip r:embed="rId1"/>
          <a:stretch/>
        </p:blipFill>
        <p:spPr>
          <a:xfrm>
            <a:off x="2989440" y="66600"/>
            <a:ext cx="11617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0"/>
          <p:cNvSpPr/>
          <p:nvPr/>
        </p:nvSpPr>
        <p:spPr>
          <a:xfrm>
            <a:off x="73080" y="1573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3080" y="2058840"/>
            <a:ext cx="4174920" cy="10839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Цели занятия: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1. Ознакомиться со структурой Вооруженных сил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2. Изучить назначение и состав Сухопутных войск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73080" y="3227400"/>
            <a:ext cx="4174920" cy="733320"/>
          </a:xfrm>
          <a:prstGeom prst="rect">
            <a:avLst/>
          </a:prstGeom>
          <a:solidFill>
            <a:srgbClr val="ffff99">
              <a:alpha val="8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Учебные вопросы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1. Назначение и структура Вооруженных сил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2. Назначение и состав 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ВС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153"/>
          <p:cNvSpPr/>
          <p:nvPr/>
        </p:nvSpPr>
        <p:spPr>
          <a:xfrm>
            <a:off x="360360" y="1554120"/>
            <a:ext cx="3600360" cy="3682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31640" y="1254240"/>
            <a:ext cx="3529080" cy="580680"/>
          </a:xfrm>
          <a:prstGeom prst="rect">
            <a:avLst/>
          </a:prstGeom>
          <a:solidFill>
            <a:srgbClr val="3366ff">
              <a:alpha val="70000"/>
            </a:srgbClr>
          </a:solidFill>
          <a:ln cap="sq"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сская народная пословица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Хочешь мира – готовься к войне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труктур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оруженных сил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360" y="2305080"/>
            <a:ext cx="4032360" cy="1554120"/>
          </a:xfrm>
          <a:prstGeom prst="rect">
            <a:avLst/>
          </a:prstGeom>
          <a:solidFill>
            <a:srgbClr val="ffcccc">
              <a:alpha val="70000"/>
            </a:srgbClr>
          </a:solidFill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Вооруженные Силы РФ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–государственная военная организация, составляющая основу обороны нашей Родины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Образованы указом Президента РФ о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7 мая 1992 г. «О создании Вооруженных Сил РФ»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1"/>
          <p:cNvSpPr/>
          <p:nvPr/>
        </p:nvSpPr>
        <p:spPr>
          <a:xfrm>
            <a:off x="647640" y="73080"/>
            <a:ext cx="3025800" cy="701640"/>
          </a:xfrm>
          <a:prstGeom prst="rect">
            <a:avLst/>
          </a:prstGeom>
          <a:solidFill>
            <a:srgbClr val="ffcc00">
              <a:alpha val="90000"/>
            </a:srgbClr>
          </a:solidFill>
          <a:ln cap="sq"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обая ро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ооруженных сил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144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. Назначе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задачи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2592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. Систем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правле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1368360" y="2951280"/>
            <a:ext cx="1584360" cy="64908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. Статус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216000" y="2089080"/>
            <a:ext cx="143964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Защита национальных интересов России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2665440" y="2089080"/>
            <a:ext cx="144000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Президент РФ – Главнокомандующий ВС РФ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936720" y="3863880"/>
            <a:ext cx="2448000" cy="27648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ВС РФ – силовое ведомство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05" name="AutoShape 48"/>
          <p:cNvCxnSpPr>
            <a:stCxn id="98" idx="2"/>
            <a:endCxn id="99" idx="0"/>
          </p:cNvCxnSpPr>
          <p:nvPr/>
        </p:nvCxnSpPr>
        <p:spPr>
          <a:xfrm rot="5400000">
            <a:off x="1412280" y="38412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6" name="AutoShape 49"/>
          <p:cNvCxnSpPr>
            <a:stCxn id="98" idx="2"/>
            <a:endCxn id="100" idx="0"/>
          </p:cNvCxnSpPr>
          <p:nvPr/>
        </p:nvCxnSpPr>
        <p:spPr>
          <a:xfrm flipH="1" rot="16200000">
            <a:off x="2637000" y="38376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7" name="AutoShape 50"/>
          <p:cNvCxnSpPr>
            <a:stCxn id="98" idx="2"/>
            <a:endCxn id="101" idx="0"/>
          </p:cNvCxnSpPr>
          <p:nvPr/>
        </p:nvCxnSpPr>
        <p:spPr>
          <a:xfrm flipH="1">
            <a:off x="2160000" y="860040"/>
            <a:ext cx="1080" cy="20725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8" name="AutoShape 51"/>
          <p:cNvCxnSpPr>
            <a:stCxn id="99" idx="2"/>
            <a:endCxn id="102" idx="0"/>
          </p:cNvCxnSpPr>
          <p:nvPr/>
        </p:nvCxnSpPr>
        <p:spPr>
          <a:xfrm flipH="1">
            <a:off x="936000" y="1819440"/>
            <a:ext cx="1080" cy="25092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09" name="AutoShape 52"/>
          <p:cNvCxnSpPr>
            <a:stCxn id="100" idx="2"/>
            <a:endCxn id="103" idx="0"/>
          </p:cNvCxnSpPr>
          <p:nvPr/>
        </p:nvCxnSpPr>
        <p:spPr>
          <a:xfrm flipH="1" rot="16200000">
            <a:off x="3260160" y="1943640"/>
            <a:ext cx="250920" cy="2160"/>
          </a:xfrm>
          <a:prstGeom prst="bentConnector3">
            <a:avLst>
              <a:gd name="adj1" fmla="val 49425"/>
            </a:avLst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10" name="AutoShape 53"/>
          <p:cNvCxnSpPr>
            <a:stCxn id="101" idx="2"/>
            <a:endCxn id="104" idx="0"/>
          </p:cNvCxnSpPr>
          <p:nvPr/>
        </p:nvCxnSpPr>
        <p:spPr>
          <a:xfrm flipH="1">
            <a:off x="2160000" y="3619440"/>
            <a:ext cx="1080" cy="22608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1"/>
          <p:cNvGrpSpPr/>
          <p:nvPr/>
        </p:nvGrpSpPr>
        <p:grpSpPr>
          <a:xfrm>
            <a:off x="146160" y="0"/>
            <a:ext cx="4026600" cy="4202280"/>
            <a:chOff x="146160" y="0"/>
            <a:chExt cx="4026600" cy="4202280"/>
          </a:xfrm>
        </p:grpSpPr>
        <p:sp>
          <p:nvSpPr>
            <p:cNvPr id="112" name="Rectangle 2"/>
            <p:cNvSpPr/>
            <p:nvPr/>
          </p:nvSpPr>
          <p:spPr>
            <a:xfrm>
              <a:off x="1081080" y="314280"/>
              <a:ext cx="2158920" cy="432000"/>
            </a:xfrm>
            <a:prstGeom prst="rect">
              <a:avLst/>
            </a:prstGeom>
            <a:solidFill>
              <a:srgbClr val="ffcccc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Президент РФ – 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Главнокомандующий ВС РФ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289080" y="1251000"/>
              <a:ext cx="1046160" cy="3492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Министерство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борон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2986200" y="1251000"/>
              <a:ext cx="1046160" cy="3492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Генеральный штаб ВС РФ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289080" y="1765440"/>
              <a:ext cx="1046160" cy="3474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2986200" y="1765440"/>
              <a:ext cx="1046160" cy="3474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25360" y="2335320"/>
              <a:ext cx="1143000" cy="349200"/>
            </a:xfrm>
            <a:prstGeom prst="rect">
              <a:avLst/>
            </a:prstGeom>
            <a:solidFill>
              <a:srgbClr val="9966ff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ид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952720" y="2335320"/>
              <a:ext cx="1146240" cy="34920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ода войск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584360" y="2335320"/>
              <a:ext cx="1152360" cy="349200"/>
            </a:xfrm>
            <a:prstGeom prst="rect">
              <a:avLst/>
            </a:prstGeom>
            <a:solidFill>
              <a:srgbClr val="0080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Ты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2952720" y="2835360"/>
              <a:ext cx="868320" cy="3394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2952720" y="3313080"/>
              <a:ext cx="868320" cy="38412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Космически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2952720" y="3841920"/>
              <a:ext cx="868320" cy="3268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34880" y="2833560"/>
              <a:ext cx="933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ухопутные 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434880" y="3265560"/>
              <a:ext cx="933480" cy="46512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воздушны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ил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434880" y="3841920"/>
              <a:ext cx="933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морской флот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766880" y="2833560"/>
              <a:ext cx="825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С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1766880" y="3336840"/>
              <a:ext cx="825480" cy="324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ВС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766880" y="3841920"/>
              <a:ext cx="825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МФ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129" name="AutoShape 19"/>
            <p:cNvCxnSpPr>
              <a:stCxn id="112" idx="2"/>
              <a:endCxn id="130" idx="0"/>
            </p:cNvCxnSpPr>
            <p:nvPr/>
          </p:nvCxnSpPr>
          <p:spPr>
            <a:xfrm flipH="1">
              <a:off x="2160000" y="755280"/>
              <a:ext cx="1080" cy="1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20"/>
            <p:cNvCxnSpPr>
              <a:stCxn id="130" idx="1"/>
              <a:endCxn id="113" idx="0"/>
            </p:cNvCxnSpPr>
            <p:nvPr/>
          </p:nvCxnSpPr>
          <p:spPr>
            <a:xfrm flipV="1" rot="10800000">
              <a:off x="812160" y="1106280"/>
              <a:ext cx="6181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1"/>
            <p:cNvCxnSpPr>
              <a:stCxn id="130" idx="3"/>
              <a:endCxn id="114" idx="0"/>
            </p:cNvCxnSpPr>
            <p:nvPr/>
          </p:nvCxnSpPr>
          <p:spPr>
            <a:xfrm>
              <a:off x="2890800" y="1106640"/>
              <a:ext cx="6199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22"/>
            <p:cNvCxnSpPr>
              <a:stCxn id="113" idx="2"/>
              <a:endCxn id="115" idx="0"/>
            </p:cNvCxnSpPr>
            <p:nvPr/>
          </p:nvCxnSpPr>
          <p:spPr>
            <a:xfrm flipH="1">
              <a:off x="81216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23"/>
            <p:cNvCxnSpPr>
              <a:stCxn id="114" idx="2"/>
              <a:endCxn id="116" idx="0"/>
            </p:cNvCxnSpPr>
            <p:nvPr/>
          </p:nvCxnSpPr>
          <p:spPr>
            <a:xfrm flipH="1">
              <a:off x="350928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" name="Group 24"/>
            <p:cNvGrpSpPr/>
            <p:nvPr/>
          </p:nvGrpSpPr>
          <p:grpSpPr>
            <a:xfrm>
              <a:off x="146160" y="2508840"/>
              <a:ext cx="279720" cy="1514160"/>
              <a:chOff x="146160" y="2508840"/>
              <a:chExt cx="279720" cy="1514160"/>
            </a:xfrm>
          </p:grpSpPr>
          <p:cxnSp>
            <p:nvCxnSpPr>
              <p:cNvPr id="136" name="AutoShape 25"/>
              <p:cNvCxnSpPr>
                <a:stCxn id="117" idx="1"/>
                <a:endCxn id="123" idx="1"/>
              </p:cNvCxnSpPr>
              <p:nvPr/>
            </p:nvCxnSpPr>
            <p:spPr>
              <a:xfrm flipH="1" flipV="1" rot="10800000">
                <a:off x="215640" y="2508840"/>
                <a:ext cx="210240" cy="494280"/>
              </a:xfrm>
              <a:prstGeom prst="bentConnector3">
                <a:avLst>
                  <a:gd name="adj1" fmla="val -31732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7" name="AutoShape 26"/>
              <p:cNvCxnSpPr>
                <a:stCxn id="117" idx="1"/>
                <a:endCxn id="124" idx="1"/>
              </p:cNvCxnSpPr>
              <p:nvPr/>
            </p:nvCxnSpPr>
            <p:spPr>
              <a:xfrm flipH="1" flipV="1" rot="10800000">
                <a:off x="215640" y="2508480"/>
                <a:ext cx="210240" cy="989280"/>
              </a:xfrm>
              <a:prstGeom prst="bentConnector3">
                <a:avLst>
                  <a:gd name="adj1" fmla="val -3241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8" name="AutoShape 27"/>
              <p:cNvCxnSpPr>
                <a:stCxn id="117" idx="1"/>
                <a:endCxn id="125" idx="1"/>
              </p:cNvCxnSpPr>
              <p:nvPr/>
            </p:nvCxnSpPr>
            <p:spPr>
              <a:xfrm flipH="1" flipV="1" rot="10800000">
                <a:off x="215640" y="2509560"/>
                <a:ext cx="210240" cy="1513440"/>
              </a:xfrm>
              <a:prstGeom prst="bentConnector3">
                <a:avLst>
                  <a:gd name="adj1" fmla="val -3327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39" name="AutoShape 28"/>
            <p:cNvCxnSpPr>
              <a:stCxn id="123" idx="3"/>
              <a:endCxn id="126" idx="1"/>
            </p:cNvCxnSpPr>
            <p:nvPr/>
          </p:nvCxnSpPr>
          <p:spPr>
            <a:xfrm>
              <a:off x="1378080" y="300312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AutoShape 29"/>
            <p:cNvCxnSpPr>
              <a:stCxn id="124" idx="3"/>
              <a:endCxn id="127" idx="1"/>
            </p:cNvCxnSpPr>
            <p:nvPr/>
          </p:nvCxnSpPr>
          <p:spPr>
            <a:xfrm>
              <a:off x="1378080" y="34984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30"/>
            <p:cNvCxnSpPr>
              <a:stCxn id="125" idx="3"/>
              <a:endCxn id="128" idx="1"/>
            </p:cNvCxnSpPr>
            <p:nvPr/>
          </p:nvCxnSpPr>
          <p:spPr>
            <a:xfrm>
              <a:off x="1378080" y="40222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" name="Group 31"/>
            <p:cNvGrpSpPr/>
            <p:nvPr/>
          </p:nvGrpSpPr>
          <p:grpSpPr>
            <a:xfrm>
              <a:off x="3830040" y="2509560"/>
              <a:ext cx="342720" cy="1496160"/>
              <a:chOff x="3830040" y="2509560"/>
              <a:chExt cx="342720" cy="1496160"/>
            </a:xfrm>
          </p:grpSpPr>
          <p:cxnSp>
            <p:nvCxnSpPr>
              <p:cNvPr id="143" name="AutoShape 32"/>
              <p:cNvCxnSpPr>
                <a:stCxn id="118" idx="3"/>
                <a:endCxn id="120" idx="3"/>
              </p:cNvCxnSpPr>
              <p:nvPr/>
            </p:nvCxnSpPr>
            <p:spPr>
              <a:xfrm flipH="1">
                <a:off x="3830040" y="2509560"/>
                <a:ext cx="278280" cy="49428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33"/>
              <p:cNvCxnSpPr>
                <a:stCxn id="118" idx="3"/>
                <a:endCxn id="121" idx="3"/>
              </p:cNvCxnSpPr>
              <p:nvPr/>
            </p:nvCxnSpPr>
            <p:spPr>
              <a:xfrm flipH="1">
                <a:off x="3830040" y="2509560"/>
                <a:ext cx="278280" cy="996120"/>
              </a:xfrm>
              <a:prstGeom prst="bentConnector3">
                <a:avLst>
                  <a:gd name="adj1" fmla="val -22797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5" name="AutoShape 34"/>
              <p:cNvCxnSpPr>
                <a:stCxn id="118" idx="3"/>
                <a:endCxn id="122" idx="3"/>
              </p:cNvCxnSpPr>
              <p:nvPr/>
            </p:nvCxnSpPr>
            <p:spPr>
              <a:xfrm flipH="1">
                <a:off x="3830040" y="2509920"/>
                <a:ext cx="278280" cy="149616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46" name="AutoShape 36"/>
            <p:cNvCxnSpPr/>
            <p:nvPr/>
          </p:nvCxnSpPr>
          <p:spPr>
            <a:xfrm rot="5400000">
              <a:off x="944640" y="1109880"/>
              <a:ext cx="1019880" cy="1412280"/>
            </a:xfrm>
            <a:prstGeom prst="bentConnector3">
              <a:avLst>
                <a:gd name="adj1" fmla="val 8601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37"/>
            <p:cNvCxnSpPr/>
            <p:nvPr/>
          </p:nvCxnSpPr>
          <p:spPr>
            <a:xfrm flipH="1" rot="16200000">
              <a:off x="2358000" y="1107720"/>
              <a:ext cx="1019880" cy="1416600"/>
            </a:xfrm>
            <a:prstGeom prst="bentConnector3">
              <a:avLst>
                <a:gd name="adj1" fmla="val 8629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AutoShape 38"/>
            <p:cNvCxnSpPr/>
            <p:nvPr/>
          </p:nvCxnSpPr>
          <p:spPr>
            <a:xfrm flipH="1">
              <a:off x="2160000" y="1250640"/>
              <a:ext cx="1080" cy="1075320"/>
            </a:xfrm>
            <a:prstGeom prst="straightConnector1">
              <a:avLst/>
            </a:prstGeom>
            <a:ln cap="sq" w="1908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130" name="Rectangle 39"/>
            <p:cNvSpPr/>
            <p:nvPr/>
          </p:nvSpPr>
          <p:spPr>
            <a:xfrm>
              <a:off x="1440000" y="961920"/>
              <a:ext cx="1441440" cy="28908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3300"/>
                  </a:solidFill>
                  <a:latin typeface="Times New Roman"/>
                </a:rPr>
                <a:t>Министр обороны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Text Box 40"/>
            <p:cNvSpPr/>
            <p:nvPr/>
          </p:nvSpPr>
          <p:spPr>
            <a:xfrm>
              <a:off x="720720" y="0"/>
              <a:ext cx="28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Times New Roman"/>
                </a:rPr>
                <a:t>Структура Вооруженных сил РФ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оста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16000" y="1324080"/>
            <a:ext cx="3960720" cy="2574360"/>
          </a:xfrm>
          <a:prstGeom prst="rect">
            <a:avLst/>
          </a:prstGeom>
          <a:solidFill>
            <a:srgbClr val="ffcc99"/>
          </a:solidFill>
          <a:ln cap="sq"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Times New Roman"/>
              </a:rPr>
              <a:t>Сухопутные войска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– вид ВС РФ, предназначенный для ведения боевых действий на суше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ухопутные войска – основной вид Вооруженных сил РФ. Они являются важнейшим компонентом сил общего назначения.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Picture 4" descr="эмблема"/>
          <p:cNvPicPr/>
          <p:nvPr/>
        </p:nvPicPr>
        <p:blipFill>
          <a:blip r:embed="rId1"/>
          <a:stretch/>
        </p:blipFill>
        <p:spPr>
          <a:xfrm>
            <a:off x="3243240" y="1944720"/>
            <a:ext cx="717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504720" y="217440"/>
            <a:ext cx="3384720" cy="792360"/>
          </a:xfrm>
          <a:prstGeom prst="rect">
            <a:avLst/>
          </a:prstGeom>
          <a:solidFill>
            <a:srgbClr val="bdd7e5">
              <a:alpha val="90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трукту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ухопутных войск ВС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4436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постоянной готовности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30508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сокращенного состава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и кадра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1224000" y="3024360"/>
            <a:ext cx="1944720" cy="108108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тратегические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резервы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57" name="AutoShape 23"/>
          <p:cNvCxnSpPr>
            <a:stCxn id="153" idx="2"/>
            <a:endCxn id="154" idx="0"/>
          </p:cNvCxnSpPr>
          <p:nvPr/>
        </p:nvCxnSpPr>
        <p:spPr>
          <a:xfrm rot="5400000">
            <a:off x="1478880" y="630360"/>
            <a:ext cx="319680" cy="111672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8" name="AutoShape 24"/>
          <p:cNvCxnSpPr>
            <a:stCxn id="153" idx="2"/>
            <a:endCxn id="155" idx="0"/>
          </p:cNvCxnSpPr>
          <p:nvPr/>
        </p:nvCxnSpPr>
        <p:spPr>
          <a:xfrm flipH="1" rot="16200000">
            <a:off x="2559960" y="665640"/>
            <a:ext cx="319680" cy="104544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9" name="AutoShape 25"/>
          <p:cNvCxnSpPr>
            <a:stCxn id="153" idx="2"/>
            <a:endCxn id="156" idx="0"/>
          </p:cNvCxnSpPr>
          <p:nvPr/>
        </p:nvCxnSpPr>
        <p:spPr>
          <a:xfrm flipH="1">
            <a:off x="2196360" y="1028880"/>
            <a:ext cx="1080" cy="19771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ig18020"/>
          <p:cNvPicPr/>
          <p:nvPr/>
        </p:nvPicPr>
        <p:blipFill>
          <a:blip r:embed="rId1"/>
          <a:srcRect l="0" t="0" r="0" b="23990"/>
          <a:stretch/>
        </p:blipFill>
        <p:spPr>
          <a:xfrm>
            <a:off x="73080" y="739800"/>
            <a:ext cx="4174920" cy="2068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0" y="-3132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ста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31640" y="31147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нова Сухопутных войск – мотострелковые войск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56"/>
          <p:cNvSpPr/>
          <p:nvPr/>
        </p:nvSpPr>
        <p:spPr>
          <a:xfrm>
            <a:off x="0" y="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отострелковое отделение –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амая маленькая структурная единица мотострелков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3080" y="1081080"/>
          <a:ext cx="4174920" cy="3139920"/>
        </p:xfrm>
        <a:graphic>
          <a:graphicData uri="http://schemas.openxmlformats.org/drawingml/2006/table">
            <a:tbl>
              <a:tblPr/>
              <a:tblGrid>
                <a:gridCol w="2303280"/>
                <a:gridCol w="1871640"/>
              </a:tblGrid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остав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ооружение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мандир отделения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арший стрело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Наводчик-оператор БМП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БПМ (БТР), 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Механик БМП (БТ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уле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Гранато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Г-7 (РПГ-18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ом. гранатометчика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релок (снайпе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 (СВД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5" name="АК.wmv" descr=""/>
          <p:cNvPicPr/>
          <p:nvPr/>
        </p:nvPicPr>
        <p:blipFill>
          <a:blip r:embed="rId1"/>
          <a:stretch/>
        </p:blipFill>
        <p:spPr>
          <a:xfrm>
            <a:off x="73080" y="1095480"/>
            <a:ext cx="4205160" cy="3152520"/>
          </a:xfrm>
          <a:prstGeom prst="rect">
            <a:avLst/>
          </a:prstGeom>
          <a:ln w="0">
            <a:noFill/>
          </a:ln>
        </p:spPr>
      </p:pic>
      <p:pic>
        <p:nvPicPr>
          <p:cNvPr id="166" name="БМП-3.wmv" descr=""/>
          <p:cNvPicPr/>
          <p:nvPr/>
        </p:nvPicPr>
        <p:blipFill>
          <a:blip r:embed="rId2"/>
          <a:stretch/>
        </p:blipFill>
        <p:spPr>
          <a:xfrm>
            <a:off x="66600" y="1087560"/>
            <a:ext cx="4208400" cy="3157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000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104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304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404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512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49160"/>
                            </p:stCondLst>
                            <p:childTnLst>
                              <p:par>
                                <p:cTn id="2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эмблема"/>
          <p:cNvPicPr/>
          <p:nvPr/>
        </p:nvPicPr>
        <p:blipFill>
          <a:blip r:embed="rId1"/>
          <a:stretch/>
        </p:blipFill>
        <p:spPr>
          <a:xfrm>
            <a:off x="2989440" y="73080"/>
            <a:ext cx="1258560" cy="1511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3080" y="1699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080" y="2482920"/>
            <a:ext cx="4174920" cy="13107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На занятии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1. Ознакомились со структурой Вооруженных сил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2. Изучили назначение и состав Сухопутных войск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16000" y="1797120"/>
            <a:ext cx="3889440" cy="3988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16:16Z</dcterms:created>
  <dc:creator>Новомлинов</dc:creator>
  <dc:description/>
  <dc:language>en-US</dc:language>
  <cp:lastModifiedBy>ZooM</cp:lastModifiedBy>
  <dcterms:modified xsi:type="dcterms:W3CDTF">2013-11-07T13:34:26Z</dcterms:modified>
  <cp:revision>192</cp:revision>
  <dc:subject/>
  <dc:title>ТЕМА № 17</dc:title>
</cp:coreProperties>
</file>