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4319588" cy="431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9DF9-CB14-47F8-9DC9-13752A1921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F018-642A-4931-ABED-8EB0FB5AA882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6D7-F20B-46F8-90D5-29A8D2F0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3673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2601360"/>
            <a:ext cx="3673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124-502A-4618-A621-8482C8CE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644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B41-93CF-41E8-9C45-9316F58D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66000" y="124740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08360" y="124740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260136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66000" y="260136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08360" y="260136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180-C11D-471F-B310-30805429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5BDE-F23E-468A-B6E0-37B5C957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247400"/>
            <a:ext cx="3673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B25E-C771-4932-A98B-D6E9B24E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3673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BE46-458A-4DF4-A132-44A31DCF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6876-1A9B-41D1-9F7A-146E92E9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896D-2BB2-41EE-96D9-FD61BC3E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87280"/>
            <a:ext cx="367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7884-8789-4A86-8942-17D84FFF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48CD-7B4B-4C6D-88AD-5CD99190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247400"/>
            <a:ext cx="3673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A15-6F27-44C5-9BD8-9479D8F9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0644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5C13-5788-46A2-B0E6-F4F849F2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2601360"/>
            <a:ext cx="3673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5781-B2FF-4275-AFB6-CC3F3234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3673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2601360"/>
            <a:ext cx="3673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9CFF-51D0-4787-B097-F5B2BB81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20644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B545-1EF9-4F33-8C3E-564BF816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566000" y="124740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808360" y="124740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260136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566000" y="260136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808360" y="2601360"/>
            <a:ext cx="118260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882C-4C3A-4144-90C1-B20F55D6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3673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E1A-BFDD-4874-8A22-9A00EF35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317-EEF1-4930-88E9-61359F9C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8294-1836-4B02-862A-84BD1F22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287280"/>
            <a:ext cx="367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7869-AFB1-4650-9DF6-098350FF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DC3A-C3EF-4075-B00A-CEBE2AB2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6440" y="260136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6F3C-68A0-40A5-898F-BA896F29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6440" y="1247400"/>
            <a:ext cx="1792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2601360"/>
            <a:ext cx="3673440" cy="12362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A79-0378-4DD2-B6CD-5F908EAB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1247400"/>
            <a:ext cx="3673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marL="185760" indent="-185760">
              <a:spcBef>
                <a:spcPts val="4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1" marL="401760" indent="-155520">
              <a:spcBef>
                <a:spcPts val="425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2" marL="61740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•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3" marL="86508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–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4" marL="111132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5" marL="111132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6" marL="111132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3936960"/>
            <a:ext cx="900000" cy="2872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000" y="3936960"/>
            <a:ext cx="1368360" cy="2872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720" y="3936960"/>
            <a:ext cx="900360" cy="2872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1469-EBAD-4B21-B298-2316ABBB17C0}" type="slidenum">
              <a:rPr b="0" lang="ru-RU" sz="8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325440" y="2104920"/>
            <a:ext cx="3618000" cy="30636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287280"/>
            <a:ext cx="3673440" cy="7207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b">
            <a:noAutofit/>
          </a:bodyPr>
          <a:p>
            <a:pPr indent="0">
              <a:buNone/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4000" y="1247400"/>
            <a:ext cx="3673440" cy="259236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rmAutofit/>
          </a:bodyPr>
          <a:p>
            <a:pPr marL="185760" indent="-185760">
              <a:spcBef>
                <a:spcPts val="42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1" marL="401760" indent="-155520">
              <a:spcBef>
                <a:spcPts val="425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2" marL="61740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•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3" marL="86508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–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4" marL="111132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5" marL="111132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  <a:p>
            <a:pPr lvl="6" marL="1111320" indent="-123840">
              <a:spcBef>
                <a:spcPts val="425"/>
              </a:spcBef>
              <a:buClr>
                <a:srgbClr val="333333"/>
              </a:buClr>
              <a:buFont typeface="Times New Roman"/>
              <a:buChar char="»"/>
              <a:tabLst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24000" y="3936960"/>
            <a:ext cx="900000" cy="2872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476000" y="3936960"/>
            <a:ext cx="1368360" cy="2872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3096720" y="3936960"/>
            <a:ext cx="900360" cy="28728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24840" bIns="24840" anchor="t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BE79-6F11-49BE-965A-5EE907DA4EE1}" type="slidenum">
              <a:rPr b="0" lang="ru-RU" sz="8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48" descr="эмблема"/>
          <p:cNvPicPr/>
          <p:nvPr/>
        </p:nvPicPr>
        <p:blipFill>
          <a:blip r:embed="rId1"/>
          <a:stretch/>
        </p:blipFill>
        <p:spPr>
          <a:xfrm>
            <a:off x="2989440" y="66600"/>
            <a:ext cx="11617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50"/>
          <p:cNvSpPr/>
          <p:nvPr/>
        </p:nvSpPr>
        <p:spPr>
          <a:xfrm>
            <a:off x="73080" y="157320"/>
            <a:ext cx="30240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Times New Roman"/>
              </a:rPr>
              <a:t>Тема занятия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ОРГАНИЗАЦИОННАЯ СТРУКТУРА ВООРУЖЕННЫХ СИЛ. ВИДЫ ВООРУЖЕННЫХ СИЛ, РОДА ВОЙСК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73080" y="2058840"/>
            <a:ext cx="4174920" cy="1083960"/>
          </a:xfrm>
          <a:prstGeom prst="rect">
            <a:avLst/>
          </a:prstGeom>
          <a:solidFill>
            <a:srgbClr val="99ccff">
              <a:alpha val="60000"/>
            </a:srgbClr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300" spc="-1" strike="noStrike">
                <a:solidFill>
                  <a:srgbClr val="800000"/>
                </a:solidFill>
                <a:latin typeface="Times New Roman"/>
              </a:rPr>
              <a:t>Цели занятия: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300" spc="-1" strike="noStrike">
                <a:solidFill>
                  <a:srgbClr val="800000"/>
                </a:solidFill>
                <a:latin typeface="Times New Roman"/>
              </a:rPr>
              <a:t>1. Ознакомиться со структурой Вооруженных сил Российской Федерации.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300" spc="-1" strike="noStrike">
                <a:solidFill>
                  <a:srgbClr val="800000"/>
                </a:solidFill>
                <a:latin typeface="Times New Roman"/>
              </a:rPr>
              <a:t>2. Изучить назначение и состав Сухопутных войск Российской Федерации.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73080" y="3227400"/>
            <a:ext cx="4174920" cy="733320"/>
          </a:xfrm>
          <a:prstGeom prst="rect">
            <a:avLst/>
          </a:prstGeom>
          <a:solidFill>
            <a:srgbClr val="ffff99">
              <a:alpha val="80000"/>
            </a:srgbClr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Times New Roman"/>
              </a:rPr>
              <a:t>Учебные вопросы: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Times New Roman"/>
              </a:rPr>
              <a:t>1. Назначение и структура Вооруженных сил РФ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Times New Roman"/>
              </a:rPr>
              <a:t>2. Назначение и состав Сухопутных войск</a:t>
            </a:r>
            <a:r>
              <a:rPr b="0" lang="ru-RU" sz="13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66ff"/>
                </a:solidFill>
                <a:latin typeface="Times New Roman"/>
              </a:rPr>
              <a:t>ВС РФ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Text Box 153"/>
          <p:cNvSpPr/>
          <p:nvPr/>
        </p:nvSpPr>
        <p:spPr>
          <a:xfrm>
            <a:off x="360360" y="1554120"/>
            <a:ext cx="3600360" cy="368280"/>
          </a:xfrm>
          <a:prstGeom prst="rect">
            <a:avLst/>
          </a:prstGeom>
          <a:solidFill>
            <a:srgbClr val="ffcc99">
              <a:alpha val="80000"/>
            </a:srgbClr>
          </a:solidFill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Занятие 1: Сухопутные войск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431640" y="1254240"/>
            <a:ext cx="3529080" cy="580680"/>
          </a:xfrm>
          <a:prstGeom prst="rect">
            <a:avLst/>
          </a:prstGeom>
          <a:solidFill>
            <a:srgbClr val="3366ff">
              <a:alpha val="70000"/>
            </a:srgbClr>
          </a:solidFill>
          <a:ln cap="sq"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усская народная пословица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Хочешь мира – готовься к войне»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-1440"/>
            <a:ext cx="4321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1 учебный вопрос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азначение и структура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ооруженных сил РФ</a:t>
            </a: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44360" y="2305080"/>
            <a:ext cx="4032360" cy="1554120"/>
          </a:xfrm>
          <a:prstGeom prst="rect">
            <a:avLst/>
          </a:prstGeom>
          <a:solidFill>
            <a:srgbClr val="ffcccc">
              <a:alpha val="70000"/>
            </a:srgbClr>
          </a:solidFill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Вооруженные Силы РФ</a:t>
            </a: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 –государственная военная организация, составляющая основу обороны нашей Родины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Образованы указом Президента РФ от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</a:rPr>
              <a:t>7 мая 1992 г. «О создании Вооруженных Сил РФ».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1"/>
          <p:cNvSpPr/>
          <p:nvPr/>
        </p:nvSpPr>
        <p:spPr>
          <a:xfrm>
            <a:off x="647640" y="73080"/>
            <a:ext cx="3025800" cy="701640"/>
          </a:xfrm>
          <a:prstGeom prst="rect">
            <a:avLst/>
          </a:prstGeom>
          <a:solidFill>
            <a:srgbClr val="ffcc00">
              <a:alpha val="90000"/>
            </a:srgbClr>
          </a:solidFill>
          <a:ln cap="sq"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Особая роль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Вооруженных сил РФ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Rectangle 42"/>
          <p:cNvSpPr/>
          <p:nvPr/>
        </p:nvSpPr>
        <p:spPr>
          <a:xfrm>
            <a:off x="144360" y="1150920"/>
            <a:ext cx="1584360" cy="649440"/>
          </a:xfrm>
          <a:prstGeom prst="rect">
            <a:avLst/>
          </a:prstGeom>
          <a:solidFill>
            <a:srgbClr val="ffcccc"/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1. Назначение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(задачи)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Rectangle 43"/>
          <p:cNvSpPr/>
          <p:nvPr/>
        </p:nvSpPr>
        <p:spPr>
          <a:xfrm>
            <a:off x="2592360" y="1150920"/>
            <a:ext cx="1584360" cy="649440"/>
          </a:xfrm>
          <a:prstGeom prst="rect">
            <a:avLst/>
          </a:prstGeom>
          <a:solidFill>
            <a:srgbClr val="ffcccc"/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2. Система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управле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Rectangle 44"/>
          <p:cNvSpPr/>
          <p:nvPr/>
        </p:nvSpPr>
        <p:spPr>
          <a:xfrm>
            <a:off x="1368360" y="2951280"/>
            <a:ext cx="1584360" cy="649080"/>
          </a:xfrm>
          <a:prstGeom prst="rect">
            <a:avLst/>
          </a:prstGeom>
          <a:solidFill>
            <a:srgbClr val="ffcccc"/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3. Статус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Text Box 45"/>
          <p:cNvSpPr/>
          <p:nvPr/>
        </p:nvSpPr>
        <p:spPr>
          <a:xfrm>
            <a:off x="216000" y="2089080"/>
            <a:ext cx="1439640" cy="641520"/>
          </a:xfrm>
          <a:prstGeom prst="rect">
            <a:avLst/>
          </a:prstGeom>
          <a:solidFill>
            <a:srgbClr val="ffff99"/>
          </a:solidFill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</a:rPr>
              <a:t>Защита национальных интересов России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Text Box 46"/>
          <p:cNvSpPr/>
          <p:nvPr/>
        </p:nvSpPr>
        <p:spPr>
          <a:xfrm>
            <a:off x="2665440" y="2089080"/>
            <a:ext cx="1440000" cy="641520"/>
          </a:xfrm>
          <a:prstGeom prst="rect">
            <a:avLst/>
          </a:prstGeom>
          <a:solidFill>
            <a:srgbClr val="ffff99"/>
          </a:solidFill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</a:rPr>
              <a:t>Президент РФ – Главнокомандующий ВС РФ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Text Box 47"/>
          <p:cNvSpPr/>
          <p:nvPr/>
        </p:nvSpPr>
        <p:spPr>
          <a:xfrm>
            <a:off x="936720" y="3863880"/>
            <a:ext cx="2448000" cy="276480"/>
          </a:xfrm>
          <a:prstGeom prst="rect">
            <a:avLst/>
          </a:prstGeom>
          <a:solidFill>
            <a:srgbClr val="ffff99"/>
          </a:solidFill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Times New Roman"/>
              </a:rPr>
              <a:t>ВС РФ – силовое ведомство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105" name="AutoShape 48"/>
          <p:cNvCxnSpPr>
            <a:stCxn id="98" idx="2"/>
            <a:endCxn id="99" idx="0"/>
          </p:cNvCxnSpPr>
          <p:nvPr/>
        </p:nvCxnSpPr>
        <p:spPr>
          <a:xfrm rot="5400000">
            <a:off x="1412280" y="384120"/>
            <a:ext cx="272160" cy="1224720"/>
          </a:xfrm>
          <a:prstGeom prst="bentConnector3">
            <a:avLst>
              <a:gd name="adj1" fmla="val 47947"/>
            </a:avLst>
          </a:prstGeom>
          <a:ln cap="sq" w="28440">
            <a:solidFill>
              <a:srgbClr val="0033cc"/>
            </a:solidFill>
            <a:miter/>
            <a:tailEnd len="sm" type="triangle" w="sm"/>
          </a:ln>
        </p:spPr>
      </p:cxnSp>
      <p:cxnSp>
        <p:nvCxnSpPr>
          <p:cNvPr id="106" name="AutoShape 49"/>
          <p:cNvCxnSpPr>
            <a:stCxn id="98" idx="2"/>
            <a:endCxn id="100" idx="0"/>
          </p:cNvCxnSpPr>
          <p:nvPr/>
        </p:nvCxnSpPr>
        <p:spPr>
          <a:xfrm flipH="1" rot="16200000">
            <a:off x="2637000" y="383760"/>
            <a:ext cx="272160" cy="1224720"/>
          </a:xfrm>
          <a:prstGeom prst="bentConnector3">
            <a:avLst>
              <a:gd name="adj1" fmla="val 47947"/>
            </a:avLst>
          </a:prstGeom>
          <a:ln cap="sq" w="28440">
            <a:solidFill>
              <a:srgbClr val="0033cc"/>
            </a:solidFill>
            <a:miter/>
            <a:tailEnd len="sm" type="triangle" w="sm"/>
          </a:ln>
        </p:spPr>
      </p:cxnSp>
      <p:cxnSp>
        <p:nvCxnSpPr>
          <p:cNvPr id="107" name="AutoShape 50"/>
          <p:cNvCxnSpPr>
            <a:stCxn id="98" idx="2"/>
            <a:endCxn id="101" idx="0"/>
          </p:cNvCxnSpPr>
          <p:nvPr/>
        </p:nvCxnSpPr>
        <p:spPr>
          <a:xfrm flipH="1">
            <a:off x="2160000" y="860040"/>
            <a:ext cx="1080" cy="2072520"/>
          </a:xfrm>
          <a:prstGeom prst="straightConnector1">
            <a:avLst/>
          </a:prstGeom>
          <a:ln cap="sq" w="28440">
            <a:solidFill>
              <a:srgbClr val="0033cc"/>
            </a:solidFill>
            <a:miter/>
            <a:tailEnd len="sm" type="triangle" w="sm"/>
          </a:ln>
        </p:spPr>
      </p:cxnSp>
      <p:cxnSp>
        <p:nvCxnSpPr>
          <p:cNvPr id="108" name="AutoShape 51"/>
          <p:cNvCxnSpPr>
            <a:stCxn id="99" idx="2"/>
            <a:endCxn id="102" idx="0"/>
          </p:cNvCxnSpPr>
          <p:nvPr/>
        </p:nvCxnSpPr>
        <p:spPr>
          <a:xfrm flipH="1">
            <a:off x="936000" y="1819440"/>
            <a:ext cx="1080" cy="250920"/>
          </a:xfrm>
          <a:prstGeom prst="straightConnector1">
            <a:avLst/>
          </a:prstGeom>
          <a:ln cap="sq" w="28440">
            <a:solidFill>
              <a:srgbClr val="008000"/>
            </a:solidFill>
            <a:miter/>
            <a:tailEnd len="sm" type="triangle" w="sm"/>
          </a:ln>
        </p:spPr>
      </p:cxnSp>
      <p:cxnSp>
        <p:nvCxnSpPr>
          <p:cNvPr id="109" name="AutoShape 52"/>
          <p:cNvCxnSpPr>
            <a:stCxn id="100" idx="2"/>
            <a:endCxn id="103" idx="0"/>
          </p:cNvCxnSpPr>
          <p:nvPr/>
        </p:nvCxnSpPr>
        <p:spPr>
          <a:xfrm flipH="1" rot="16200000">
            <a:off x="3260160" y="1943640"/>
            <a:ext cx="250920" cy="2160"/>
          </a:xfrm>
          <a:prstGeom prst="bentConnector3">
            <a:avLst>
              <a:gd name="adj1" fmla="val 49425"/>
            </a:avLst>
          </a:prstGeom>
          <a:ln cap="sq" w="28440">
            <a:solidFill>
              <a:srgbClr val="008000"/>
            </a:solidFill>
            <a:miter/>
            <a:tailEnd len="sm" type="triangle" w="sm"/>
          </a:ln>
        </p:spPr>
      </p:cxnSp>
      <p:cxnSp>
        <p:nvCxnSpPr>
          <p:cNvPr id="110" name="AutoShape 53"/>
          <p:cNvCxnSpPr>
            <a:stCxn id="101" idx="2"/>
            <a:endCxn id="104" idx="0"/>
          </p:cNvCxnSpPr>
          <p:nvPr/>
        </p:nvCxnSpPr>
        <p:spPr>
          <a:xfrm flipH="1">
            <a:off x="2160000" y="3619440"/>
            <a:ext cx="1080" cy="226080"/>
          </a:xfrm>
          <a:prstGeom prst="straightConnector1">
            <a:avLst/>
          </a:prstGeom>
          <a:ln cap="sq" w="28440">
            <a:solidFill>
              <a:srgbClr val="008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41"/>
          <p:cNvGrpSpPr/>
          <p:nvPr/>
        </p:nvGrpSpPr>
        <p:grpSpPr>
          <a:xfrm>
            <a:off x="146160" y="0"/>
            <a:ext cx="4026600" cy="4202280"/>
            <a:chOff x="146160" y="0"/>
            <a:chExt cx="4026600" cy="4202280"/>
          </a:xfrm>
        </p:grpSpPr>
        <p:sp>
          <p:nvSpPr>
            <p:cNvPr id="112" name="Rectangle 2"/>
            <p:cNvSpPr/>
            <p:nvPr/>
          </p:nvSpPr>
          <p:spPr>
            <a:xfrm>
              <a:off x="1081080" y="314280"/>
              <a:ext cx="2158920" cy="432000"/>
            </a:xfrm>
            <a:prstGeom prst="rect">
              <a:avLst/>
            </a:prstGeom>
            <a:solidFill>
              <a:srgbClr val="ffcccc">
                <a:alpha val="7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ff"/>
                  </a:solidFill>
                  <a:latin typeface="Times New Roman"/>
                </a:rPr>
                <a:t>Президент РФ – 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ff"/>
                  </a:solidFill>
                  <a:latin typeface="Times New Roman"/>
                </a:rPr>
                <a:t>Главнокомандующий ВС РФ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289080" y="1251000"/>
              <a:ext cx="1046160" cy="349200"/>
            </a:xfrm>
            <a:prstGeom prst="rect">
              <a:avLst/>
            </a:prstGeom>
            <a:solidFill>
              <a:srgbClr val="cc9900">
                <a:alpha val="60000"/>
              </a:srgbClr>
            </a:soli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333333"/>
                  </a:solidFill>
                  <a:latin typeface="Times New Roman"/>
                </a:rPr>
                <a:t>Министерство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333333"/>
                  </a:solidFill>
                  <a:latin typeface="Times New Roman"/>
                </a:rPr>
                <a:t>обороны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2986200" y="1251000"/>
              <a:ext cx="1046160" cy="349200"/>
            </a:xfrm>
            <a:prstGeom prst="rect">
              <a:avLst/>
            </a:prstGeom>
            <a:solidFill>
              <a:srgbClr val="00ccff">
                <a:alpha val="70000"/>
              </a:srgbClr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333333"/>
                  </a:solidFill>
                  <a:latin typeface="Times New Roman"/>
                </a:rPr>
                <a:t>Генеральный штаб ВС РФ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Rectangle 5"/>
            <p:cNvSpPr/>
            <p:nvPr/>
          </p:nvSpPr>
          <p:spPr>
            <a:xfrm>
              <a:off x="289080" y="1765440"/>
              <a:ext cx="1046160" cy="347400"/>
            </a:xfrm>
            <a:prstGeom prst="rect">
              <a:avLst/>
            </a:prstGeom>
            <a:solidFill>
              <a:srgbClr val="cc9900">
                <a:alpha val="60000"/>
              </a:srgbClr>
            </a:soli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333333"/>
                  </a:solidFill>
                  <a:latin typeface="Times New Roman"/>
                </a:rPr>
                <a:t>Управления,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333333"/>
                  </a:solidFill>
                  <a:latin typeface="Times New Roman"/>
                </a:rPr>
                <a:t>отделы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2986200" y="1765440"/>
              <a:ext cx="1046160" cy="347400"/>
            </a:xfrm>
            <a:prstGeom prst="rect">
              <a:avLst/>
            </a:prstGeom>
            <a:solidFill>
              <a:srgbClr val="00ccff">
                <a:alpha val="70000"/>
              </a:srgbClr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333333"/>
                  </a:solidFill>
                  <a:latin typeface="Times New Roman"/>
                </a:rPr>
                <a:t>Управления,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333333"/>
                  </a:solidFill>
                  <a:latin typeface="Times New Roman"/>
                </a:rPr>
                <a:t>отделы</a:t>
              </a:r>
              <a:endParaRPr b="0" lang="en-US" sz="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225360" y="2335320"/>
              <a:ext cx="1143000" cy="349200"/>
            </a:xfrm>
            <a:prstGeom prst="rect">
              <a:avLst/>
            </a:prstGeom>
            <a:solidFill>
              <a:srgbClr val="9966ff">
                <a:alpha val="8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Виды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Вооруженных сил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2952720" y="2335320"/>
              <a:ext cx="1146240" cy="349200"/>
            </a:xfrm>
            <a:prstGeom prst="rect">
              <a:avLst/>
            </a:prstGeom>
            <a:solidFill>
              <a:srgbClr val="cc6600">
                <a:alpha val="8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Рода войск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Вооруженных сил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1584360" y="2335320"/>
              <a:ext cx="1152360" cy="349200"/>
            </a:xfrm>
            <a:prstGeom prst="rect">
              <a:avLst/>
            </a:prstGeom>
            <a:solidFill>
              <a:srgbClr val="008000">
                <a:alpha val="8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Тыл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Вооруженных сил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2952720" y="2835360"/>
              <a:ext cx="868320" cy="339480"/>
            </a:xfrm>
            <a:prstGeom prst="rect">
              <a:avLst/>
            </a:prstGeom>
            <a:solidFill>
              <a:srgbClr val="c0c0c0">
                <a:alpha val="8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РВСН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2952720" y="3313080"/>
              <a:ext cx="868320" cy="384120"/>
            </a:xfrm>
            <a:prstGeom prst="rect">
              <a:avLst/>
            </a:prstGeom>
            <a:solidFill>
              <a:srgbClr val="c0c0c0">
                <a:alpha val="8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Космические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войска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2952720" y="3841920"/>
              <a:ext cx="868320" cy="326880"/>
            </a:xfrm>
            <a:prstGeom prst="rect">
              <a:avLst/>
            </a:prstGeom>
            <a:solidFill>
              <a:srgbClr val="c0c0c0">
                <a:alpha val="8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Times New Roman"/>
                </a:rPr>
                <a:t>ВДВ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Rectangle 13"/>
            <p:cNvSpPr/>
            <p:nvPr/>
          </p:nvSpPr>
          <p:spPr>
            <a:xfrm>
              <a:off x="434880" y="2833560"/>
              <a:ext cx="933480" cy="33984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Сухопутные войска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Rectangle 14"/>
            <p:cNvSpPr/>
            <p:nvPr/>
          </p:nvSpPr>
          <p:spPr>
            <a:xfrm>
              <a:off x="434880" y="3265560"/>
              <a:ext cx="933480" cy="465120"/>
            </a:xfrm>
            <a:prstGeom prst="rect">
              <a:avLst/>
            </a:prstGeom>
            <a:solidFill>
              <a:srgbClr val="ffcc00">
                <a:alpha val="70000"/>
              </a:srgbClr>
            </a:soli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Военно-воздушные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силы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Rectangle 15"/>
            <p:cNvSpPr/>
            <p:nvPr/>
          </p:nvSpPr>
          <p:spPr>
            <a:xfrm>
              <a:off x="434880" y="3841920"/>
              <a:ext cx="933480" cy="360360"/>
            </a:xfrm>
            <a:prstGeom prst="rect">
              <a:avLst/>
            </a:prstGeom>
            <a:solidFill>
              <a:srgbClr val="ffcccc">
                <a:alpha val="80000"/>
              </a:srgbClr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Военно-морской флот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Rectangle 16"/>
            <p:cNvSpPr/>
            <p:nvPr/>
          </p:nvSpPr>
          <p:spPr>
            <a:xfrm>
              <a:off x="1766880" y="2833560"/>
              <a:ext cx="825480" cy="33984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Рода СВ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Rectangle 17"/>
            <p:cNvSpPr/>
            <p:nvPr/>
          </p:nvSpPr>
          <p:spPr>
            <a:xfrm>
              <a:off x="1766880" y="3336840"/>
              <a:ext cx="825480" cy="324000"/>
            </a:xfrm>
            <a:prstGeom prst="rect">
              <a:avLst/>
            </a:prstGeom>
            <a:solidFill>
              <a:srgbClr val="ffcc00">
                <a:alpha val="70000"/>
              </a:srgbClr>
            </a:soli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Рода ВВС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1766880" y="3841920"/>
              <a:ext cx="825480" cy="360360"/>
            </a:xfrm>
            <a:prstGeom prst="rect">
              <a:avLst/>
            </a:prstGeom>
            <a:solidFill>
              <a:srgbClr val="ffcccc">
                <a:alpha val="80000"/>
              </a:srgbClr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333333"/>
                  </a:solidFill>
                  <a:latin typeface="Times New Roman"/>
                </a:rPr>
                <a:t>Рода ВМФ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129" name="AutoShape 19"/>
            <p:cNvCxnSpPr>
              <a:stCxn id="112" idx="2"/>
              <a:endCxn id="130" idx="0"/>
            </p:cNvCxnSpPr>
            <p:nvPr/>
          </p:nvCxnSpPr>
          <p:spPr>
            <a:xfrm flipH="1">
              <a:off x="2160000" y="755280"/>
              <a:ext cx="1080" cy="197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AutoShape 20"/>
            <p:cNvCxnSpPr>
              <a:stCxn id="130" idx="1"/>
              <a:endCxn id="113" idx="0"/>
            </p:cNvCxnSpPr>
            <p:nvPr/>
          </p:nvCxnSpPr>
          <p:spPr>
            <a:xfrm flipV="1" rot="10800000">
              <a:off x="812160" y="1106280"/>
              <a:ext cx="618120" cy="13536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AutoShape 21"/>
            <p:cNvCxnSpPr>
              <a:stCxn id="130" idx="3"/>
              <a:endCxn id="114" idx="0"/>
            </p:cNvCxnSpPr>
            <p:nvPr/>
          </p:nvCxnSpPr>
          <p:spPr>
            <a:xfrm>
              <a:off x="2890800" y="1106640"/>
              <a:ext cx="619920" cy="13536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AutoShape 22"/>
            <p:cNvCxnSpPr>
              <a:stCxn id="113" idx="2"/>
              <a:endCxn id="115" idx="0"/>
            </p:cNvCxnSpPr>
            <p:nvPr/>
          </p:nvCxnSpPr>
          <p:spPr>
            <a:xfrm flipH="1">
              <a:off x="812160" y="1609560"/>
              <a:ext cx="1080" cy="146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AutoShape 23"/>
            <p:cNvCxnSpPr>
              <a:stCxn id="114" idx="2"/>
              <a:endCxn id="116" idx="0"/>
            </p:cNvCxnSpPr>
            <p:nvPr/>
          </p:nvCxnSpPr>
          <p:spPr>
            <a:xfrm flipH="1">
              <a:off x="3509280" y="1609560"/>
              <a:ext cx="1080" cy="146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35" name="Group 24"/>
            <p:cNvGrpSpPr/>
            <p:nvPr/>
          </p:nvGrpSpPr>
          <p:grpSpPr>
            <a:xfrm>
              <a:off x="146160" y="2508840"/>
              <a:ext cx="279720" cy="1514160"/>
              <a:chOff x="146160" y="2508840"/>
              <a:chExt cx="279720" cy="1514160"/>
            </a:xfrm>
          </p:grpSpPr>
          <p:cxnSp>
            <p:nvCxnSpPr>
              <p:cNvPr id="136" name="AutoShape 25"/>
              <p:cNvCxnSpPr>
                <a:stCxn id="117" idx="1"/>
                <a:endCxn id="123" idx="1"/>
              </p:cNvCxnSpPr>
              <p:nvPr/>
            </p:nvCxnSpPr>
            <p:spPr>
              <a:xfrm flipH="1" flipV="1" rot="10800000">
                <a:off x="215640" y="2508840"/>
                <a:ext cx="210240" cy="494280"/>
              </a:xfrm>
              <a:prstGeom prst="bentConnector3">
                <a:avLst>
                  <a:gd name="adj1" fmla="val -31732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7" name="AutoShape 26"/>
              <p:cNvCxnSpPr>
                <a:stCxn id="117" idx="1"/>
                <a:endCxn id="124" idx="1"/>
              </p:cNvCxnSpPr>
              <p:nvPr/>
            </p:nvCxnSpPr>
            <p:spPr>
              <a:xfrm flipH="1" flipV="1" rot="10800000">
                <a:off x="215640" y="2508480"/>
                <a:ext cx="210240" cy="989280"/>
              </a:xfrm>
              <a:prstGeom prst="bentConnector3">
                <a:avLst>
                  <a:gd name="adj1" fmla="val -32418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8" name="AutoShape 27"/>
              <p:cNvCxnSpPr>
                <a:stCxn id="117" idx="1"/>
                <a:endCxn id="125" idx="1"/>
              </p:cNvCxnSpPr>
              <p:nvPr/>
            </p:nvCxnSpPr>
            <p:spPr>
              <a:xfrm flipH="1" flipV="1" rot="10800000">
                <a:off x="215640" y="2509560"/>
                <a:ext cx="210240" cy="1513440"/>
              </a:xfrm>
              <a:prstGeom prst="bentConnector3">
                <a:avLst>
                  <a:gd name="adj1" fmla="val -33276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139" name="AutoShape 28"/>
            <p:cNvCxnSpPr>
              <a:stCxn id="123" idx="3"/>
              <a:endCxn id="126" idx="1"/>
            </p:cNvCxnSpPr>
            <p:nvPr/>
          </p:nvCxnSpPr>
          <p:spPr>
            <a:xfrm>
              <a:off x="1378080" y="3003120"/>
              <a:ext cx="380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AutoShape 29"/>
            <p:cNvCxnSpPr>
              <a:stCxn id="124" idx="3"/>
              <a:endCxn id="127" idx="1"/>
            </p:cNvCxnSpPr>
            <p:nvPr/>
          </p:nvCxnSpPr>
          <p:spPr>
            <a:xfrm>
              <a:off x="1378080" y="3498480"/>
              <a:ext cx="380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AutoShape 30"/>
            <p:cNvCxnSpPr>
              <a:stCxn id="125" idx="3"/>
              <a:endCxn id="128" idx="1"/>
            </p:cNvCxnSpPr>
            <p:nvPr/>
          </p:nvCxnSpPr>
          <p:spPr>
            <a:xfrm>
              <a:off x="1378080" y="4022280"/>
              <a:ext cx="380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42" name="Group 31"/>
            <p:cNvGrpSpPr/>
            <p:nvPr/>
          </p:nvGrpSpPr>
          <p:grpSpPr>
            <a:xfrm>
              <a:off x="3830040" y="2509560"/>
              <a:ext cx="342720" cy="1496160"/>
              <a:chOff x="3830040" y="2509560"/>
              <a:chExt cx="342720" cy="1496160"/>
            </a:xfrm>
          </p:grpSpPr>
          <p:cxnSp>
            <p:nvCxnSpPr>
              <p:cNvPr id="143" name="AutoShape 32"/>
              <p:cNvCxnSpPr>
                <a:stCxn id="118" idx="3"/>
                <a:endCxn id="120" idx="3"/>
              </p:cNvCxnSpPr>
              <p:nvPr/>
            </p:nvCxnSpPr>
            <p:spPr>
              <a:xfrm flipH="1">
                <a:off x="3830040" y="2509560"/>
                <a:ext cx="278280" cy="494280"/>
              </a:xfrm>
              <a:prstGeom prst="bentConnector3">
                <a:avLst>
                  <a:gd name="adj1" fmla="val -23316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4" name="AutoShape 33"/>
              <p:cNvCxnSpPr>
                <a:stCxn id="118" idx="3"/>
                <a:endCxn id="121" idx="3"/>
              </p:cNvCxnSpPr>
              <p:nvPr/>
            </p:nvCxnSpPr>
            <p:spPr>
              <a:xfrm flipH="1">
                <a:off x="3830040" y="2509560"/>
                <a:ext cx="278280" cy="996120"/>
              </a:xfrm>
              <a:prstGeom prst="bentConnector3">
                <a:avLst>
                  <a:gd name="adj1" fmla="val -22797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5" name="AutoShape 34"/>
              <p:cNvCxnSpPr>
                <a:stCxn id="118" idx="3"/>
                <a:endCxn id="122" idx="3"/>
              </p:cNvCxnSpPr>
              <p:nvPr/>
            </p:nvCxnSpPr>
            <p:spPr>
              <a:xfrm flipH="1">
                <a:off x="3830040" y="2509920"/>
                <a:ext cx="278280" cy="1496160"/>
              </a:xfrm>
              <a:prstGeom prst="bentConnector3">
                <a:avLst>
                  <a:gd name="adj1" fmla="val -23316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146" name="AutoShape 36"/>
            <p:cNvCxnSpPr/>
            <p:nvPr/>
          </p:nvCxnSpPr>
          <p:spPr>
            <a:xfrm rot="5400000">
              <a:off x="944640" y="1109880"/>
              <a:ext cx="1019880" cy="1412280"/>
            </a:xfrm>
            <a:prstGeom prst="bentConnector3">
              <a:avLst>
                <a:gd name="adj1" fmla="val 86016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" name="AutoShape 37"/>
            <p:cNvCxnSpPr/>
            <p:nvPr/>
          </p:nvCxnSpPr>
          <p:spPr>
            <a:xfrm flipH="1" rot="16200000">
              <a:off x="2358000" y="1107720"/>
              <a:ext cx="1019880" cy="1416600"/>
            </a:xfrm>
            <a:prstGeom prst="bentConnector3">
              <a:avLst>
                <a:gd name="adj1" fmla="val 86299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" name="AutoShape 38"/>
            <p:cNvCxnSpPr/>
            <p:nvPr/>
          </p:nvCxnSpPr>
          <p:spPr>
            <a:xfrm flipH="1">
              <a:off x="2160000" y="1250640"/>
              <a:ext cx="1080" cy="1075320"/>
            </a:xfrm>
            <a:prstGeom prst="straightConnector1">
              <a:avLst/>
            </a:prstGeom>
            <a:ln cap="sq" w="1908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130" name="Rectangle 39"/>
            <p:cNvSpPr/>
            <p:nvPr/>
          </p:nvSpPr>
          <p:spPr>
            <a:xfrm>
              <a:off x="1440000" y="961920"/>
              <a:ext cx="1441440" cy="28908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3300"/>
                  </a:solidFill>
                  <a:latin typeface="Times New Roman"/>
                </a:rPr>
                <a:t>Министр обороны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Text Box 40"/>
            <p:cNvSpPr/>
            <p:nvPr/>
          </p:nvSpPr>
          <p:spPr>
            <a:xfrm>
              <a:off x="720720" y="0"/>
              <a:ext cx="2879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493560"/>
                  <a:tab algn="l" pos="987480"/>
                  <a:tab algn="l" pos="1481040"/>
                  <a:tab algn="l" pos="1974960"/>
                  <a:tab algn="l" pos="2468520"/>
                  <a:tab algn="l" pos="2962440"/>
                  <a:tab algn="l" pos="3456000"/>
                  <a:tab algn="l" pos="3949560"/>
                  <a:tab algn="l" pos="4443480"/>
                  <a:tab algn="l" pos="4937040"/>
                  <a:tab algn="l" pos="5430960"/>
                  <a:tab algn="l" pos="5924520"/>
                  <a:tab algn="l" pos="6418440"/>
                  <a:tab algn="l" pos="6912000"/>
                  <a:tab algn="l" pos="7405560"/>
                  <a:tab algn="l" pos="7899480"/>
                  <a:tab algn="l" pos="8393040"/>
                  <a:tab algn="l" pos="8886960"/>
                  <a:tab algn="l" pos="9380520"/>
                  <a:tab algn="l" pos="9874080"/>
                </a:tabLst>
              </a:pPr>
              <a:r>
                <a:rPr b="1" lang="ru-RU" sz="1400" spc="-1" strike="noStrike">
                  <a:solidFill>
                    <a:srgbClr val="ff3300"/>
                  </a:solidFill>
                  <a:latin typeface="Times New Roman"/>
                </a:rPr>
                <a:t>Структура Вооруженных сил РФ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-1440"/>
            <a:ext cx="4321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2 учебный вопрос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азначение и состав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Сухопутных войск</a:t>
            </a:r>
            <a:r>
              <a:rPr b="0" lang="ru-RU" sz="13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ВС РФ</a:t>
            </a: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16000" y="1324080"/>
            <a:ext cx="3960720" cy="2574360"/>
          </a:xfrm>
          <a:prstGeom prst="rect">
            <a:avLst/>
          </a:prstGeom>
          <a:solidFill>
            <a:srgbClr val="ffcc99"/>
          </a:solidFill>
          <a:ln cap="sq"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i="1" lang="ru-RU" sz="1800" spc="-1" strike="noStrike" u="sng">
                <a:solidFill>
                  <a:srgbClr val="0033cc"/>
                </a:solidFill>
                <a:uFillTx/>
                <a:latin typeface="Times New Roman"/>
              </a:rPr>
              <a:t>Сухопутные войска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– вид ВС РФ, предназначенный для ведения боевых действий на суше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ухопутные войска – основной вид Вооруженных сил РФ. Они являются важнейшим компонентом сил общего назначения.</a:t>
            </a:r>
            <a:r>
              <a:rPr b="0" lang="ru-RU" sz="13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2" name="Picture 4" descr="эмблема"/>
          <p:cNvPicPr/>
          <p:nvPr/>
        </p:nvPicPr>
        <p:blipFill>
          <a:blip r:embed="rId1"/>
          <a:stretch/>
        </p:blipFill>
        <p:spPr>
          <a:xfrm>
            <a:off x="3243240" y="1944720"/>
            <a:ext cx="7174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9"/>
          <p:cNvSpPr/>
          <p:nvPr/>
        </p:nvSpPr>
        <p:spPr>
          <a:xfrm>
            <a:off x="504720" y="217440"/>
            <a:ext cx="3384720" cy="792360"/>
          </a:xfrm>
          <a:prstGeom prst="rect">
            <a:avLst/>
          </a:prstGeom>
          <a:solidFill>
            <a:srgbClr val="bdd7e5">
              <a:alpha val="90000"/>
            </a:srgbClr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ctr">
            <a:no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труктур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ухопутных войск ВС РФ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144360" y="1366920"/>
            <a:ext cx="1871640" cy="1154160"/>
          </a:xfrm>
          <a:prstGeom prst="rect">
            <a:avLst/>
          </a:prstGeom>
          <a:solidFill>
            <a:srgbClr val="ffff00">
              <a:alpha val="80000"/>
            </a:srgbClr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1 Компонент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Times New Roman"/>
              </a:rPr>
              <a:t>(Соединения и части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Times New Roman"/>
              </a:rPr>
              <a:t>постоянной готовности)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Rectangle 21"/>
          <p:cNvSpPr/>
          <p:nvPr/>
        </p:nvSpPr>
        <p:spPr>
          <a:xfrm>
            <a:off x="2305080" y="1366920"/>
            <a:ext cx="1871640" cy="1154160"/>
          </a:xfrm>
          <a:prstGeom prst="rect">
            <a:avLst/>
          </a:prstGeom>
          <a:solidFill>
            <a:srgbClr val="ffff00">
              <a:alpha val="80000"/>
            </a:srgbClr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2 Компонент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Times New Roman"/>
              </a:rPr>
              <a:t>(Соединения и части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Times New Roman"/>
              </a:rPr>
              <a:t>сокращенного состава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Times New Roman"/>
              </a:rPr>
              <a:t>и кадра)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Rectangle 22"/>
          <p:cNvSpPr/>
          <p:nvPr/>
        </p:nvSpPr>
        <p:spPr>
          <a:xfrm>
            <a:off x="1224000" y="3024360"/>
            <a:ext cx="1944720" cy="1081080"/>
          </a:xfrm>
          <a:prstGeom prst="rect">
            <a:avLst/>
          </a:prstGeom>
          <a:solidFill>
            <a:srgbClr val="ffff00">
              <a:alpha val="80000"/>
            </a:srgbClr>
          </a:solidFill>
          <a:ln cap="sq"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3 Компонент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Times New Roman"/>
              </a:rPr>
              <a:t>(стратегические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Times New Roman"/>
              </a:rPr>
              <a:t>резервы)</a:t>
            </a:r>
            <a:endParaRPr b="0" lang="en-US" sz="13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157" name="AutoShape 23"/>
          <p:cNvCxnSpPr>
            <a:stCxn id="153" idx="2"/>
            <a:endCxn id="154" idx="0"/>
          </p:cNvCxnSpPr>
          <p:nvPr/>
        </p:nvCxnSpPr>
        <p:spPr>
          <a:xfrm rot="5400000">
            <a:off x="1478880" y="630360"/>
            <a:ext cx="319680" cy="1116720"/>
          </a:xfrm>
          <a:prstGeom prst="bentConnector3">
            <a:avLst>
              <a:gd name="adj1" fmla="val 49718"/>
            </a:avLst>
          </a:prstGeom>
          <a:ln cap="sq" w="28440">
            <a:solidFill>
              <a:srgbClr val="0033cc"/>
            </a:solidFill>
            <a:miter/>
            <a:tailEnd len="sm" type="triangle" w="sm"/>
          </a:ln>
        </p:spPr>
      </p:cxnSp>
      <p:cxnSp>
        <p:nvCxnSpPr>
          <p:cNvPr id="158" name="AutoShape 24"/>
          <p:cNvCxnSpPr>
            <a:stCxn id="153" idx="2"/>
            <a:endCxn id="155" idx="0"/>
          </p:cNvCxnSpPr>
          <p:nvPr/>
        </p:nvCxnSpPr>
        <p:spPr>
          <a:xfrm flipH="1" rot="16200000">
            <a:off x="2559960" y="665640"/>
            <a:ext cx="319680" cy="1045440"/>
          </a:xfrm>
          <a:prstGeom prst="bentConnector3">
            <a:avLst>
              <a:gd name="adj1" fmla="val 49718"/>
            </a:avLst>
          </a:prstGeom>
          <a:ln cap="sq" w="28440">
            <a:solidFill>
              <a:srgbClr val="0033cc"/>
            </a:solidFill>
            <a:miter/>
            <a:tailEnd len="sm" type="triangle" w="sm"/>
          </a:ln>
        </p:spPr>
      </p:cxnSp>
      <p:cxnSp>
        <p:nvCxnSpPr>
          <p:cNvPr id="159" name="AutoShape 25"/>
          <p:cNvCxnSpPr>
            <a:stCxn id="153" idx="2"/>
            <a:endCxn id="156" idx="0"/>
          </p:cNvCxnSpPr>
          <p:nvPr/>
        </p:nvCxnSpPr>
        <p:spPr>
          <a:xfrm flipH="1">
            <a:off x="2196360" y="1028880"/>
            <a:ext cx="1080" cy="1977120"/>
          </a:xfrm>
          <a:prstGeom prst="straightConnector1">
            <a:avLst/>
          </a:prstGeom>
          <a:ln cap="sq" w="28440">
            <a:solidFill>
              <a:srgbClr val="0033cc"/>
            </a:solidFill>
            <a:miter/>
            <a:tailEnd len="sm" type="triangle" w="sm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big18020"/>
          <p:cNvPicPr/>
          <p:nvPr/>
        </p:nvPicPr>
        <p:blipFill>
          <a:blip r:embed="rId1"/>
          <a:srcRect l="0" t="0" r="0" b="23990"/>
          <a:stretch/>
        </p:blipFill>
        <p:spPr>
          <a:xfrm>
            <a:off x="73080" y="739800"/>
            <a:ext cx="4174920" cy="20685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7"/>
          <p:cNvSpPr/>
          <p:nvPr/>
        </p:nvSpPr>
        <p:spPr>
          <a:xfrm>
            <a:off x="0" y="-3132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став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ухопутных войск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ВС РФ</a:t>
            </a:r>
            <a:r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431640" y="311472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Основа Сухопутных войск – мотострелковые войска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56"/>
          <p:cNvSpPr/>
          <p:nvPr/>
        </p:nvSpPr>
        <p:spPr>
          <a:xfrm>
            <a:off x="0" y="360"/>
            <a:ext cx="43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Мотострелковое отделение –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амая маленькая структурная единица мотострелков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3080" y="1081080"/>
          <a:ext cx="4174920" cy="3139920"/>
        </p:xfrm>
        <a:graphic>
          <a:graphicData uri="http://schemas.openxmlformats.org/drawingml/2006/table">
            <a:tbl>
              <a:tblPr/>
              <a:tblGrid>
                <a:gridCol w="2303280"/>
                <a:gridCol w="1871640"/>
              </a:tblGrid>
              <a:tr h="35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1" lang="ru-RU" sz="17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Состав</a:t>
                      </a:r>
                      <a:endParaRPr b="0" lang="en-US" sz="17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1" lang="ru-RU" sz="17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Вооружение</a:t>
                      </a:r>
                      <a:endParaRPr b="0" lang="en-US" sz="17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Командир отделения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АК-74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Старший стрелок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АК-74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Наводчик-оператор БМП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БПМ (БТР), ПМ, (АК-74)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Механик БМП (БТР)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ПМ, (АК-74)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Пулеметчик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РПК-74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Гранатометчик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РПГ-7 (РПГ-18)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Пом. гранатометчика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АК-74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Стрелок (снайпер)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493560"/>
                          <a:tab algn="l" pos="987480"/>
                          <a:tab algn="l" pos="1481040"/>
                          <a:tab algn="l" pos="1974960"/>
                          <a:tab algn="l" pos="2468520"/>
                          <a:tab algn="l" pos="2962440"/>
                          <a:tab algn="l" pos="3456000"/>
                          <a:tab algn="l" pos="3949560"/>
                          <a:tab algn="l" pos="4443480"/>
                          <a:tab algn="l" pos="4937040"/>
                          <a:tab algn="l" pos="5430960"/>
                          <a:tab algn="l" pos="5924520"/>
                          <a:tab algn="l" pos="6418440"/>
                          <a:tab algn="l" pos="6912000"/>
                          <a:tab algn="l" pos="7405560"/>
                          <a:tab algn="l" pos="7899480"/>
                          <a:tab algn="l" pos="8393040"/>
                          <a:tab algn="l" pos="8886960"/>
                          <a:tab algn="l" pos="9380520"/>
                          <a:tab algn="l" pos="9874080"/>
                        </a:tabLst>
                      </a:pPr>
                      <a:r>
                        <a:rPr b="0" lang="ru-RU" sz="15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АК-74 (СВД)</a:t>
                      </a:r>
                      <a:endParaRPr b="0" lang="en-US" sz="15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65" name="АК.wmv" descr=""/>
          <p:cNvPicPr/>
          <p:nvPr/>
        </p:nvPicPr>
        <p:blipFill>
          <a:blip r:embed="rId1"/>
          <a:stretch/>
        </p:blipFill>
        <p:spPr>
          <a:xfrm>
            <a:off x="73080" y="1095480"/>
            <a:ext cx="4205160" cy="3152520"/>
          </a:xfrm>
          <a:prstGeom prst="rect">
            <a:avLst/>
          </a:prstGeom>
          <a:ln w="0">
            <a:noFill/>
          </a:ln>
        </p:spPr>
      </p:pic>
      <p:pic>
        <p:nvPicPr>
          <p:cNvPr id="166" name="БМП-3.wmv" descr=""/>
          <p:cNvPicPr/>
          <p:nvPr/>
        </p:nvPicPr>
        <p:blipFill>
          <a:blip r:embed="rId2"/>
          <a:stretch/>
        </p:blipFill>
        <p:spPr>
          <a:xfrm>
            <a:off x="66600" y="1087560"/>
            <a:ext cx="4208400" cy="3157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30004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104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304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404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4512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49160"/>
                            </p:stCondLst>
                            <p:childTnLst>
                              <p:par>
                                <p:cTn id="24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8" descr="эмблема"/>
          <p:cNvPicPr/>
          <p:nvPr/>
        </p:nvPicPr>
        <p:blipFill>
          <a:blip r:embed="rId1"/>
          <a:stretch/>
        </p:blipFill>
        <p:spPr>
          <a:xfrm>
            <a:off x="2989440" y="73080"/>
            <a:ext cx="1258560" cy="15112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9"/>
          <p:cNvSpPr/>
          <p:nvPr/>
        </p:nvSpPr>
        <p:spPr>
          <a:xfrm>
            <a:off x="73080" y="169920"/>
            <a:ext cx="30240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Times New Roman"/>
              </a:rPr>
              <a:t>Тема занятия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</a:rPr>
              <a:t>ОРГАНИЗАЦИОННАЯ СТРУКТУРА ВООРУЖЕННЫХ СИЛ. ВИДЫ ВООРУЖЕННЫХ СИЛ, РОДА ВОЙСК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73080" y="2482920"/>
            <a:ext cx="4174920" cy="1310760"/>
          </a:xfrm>
          <a:prstGeom prst="rect">
            <a:avLst/>
          </a:prstGeom>
          <a:solidFill>
            <a:srgbClr val="99ccff">
              <a:alpha val="60000"/>
            </a:srgbClr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На занятии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1. Ознакомились со структурой Вооруженных сил Российской Федерации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2. Изучили назначение и состав Сухопутных войск Российской Федерации.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16000" y="1797120"/>
            <a:ext cx="3889440" cy="398880"/>
          </a:xfrm>
          <a:prstGeom prst="rect">
            <a:avLst/>
          </a:prstGeom>
          <a:solidFill>
            <a:srgbClr val="ffcc99">
              <a:alpha val="80000"/>
            </a:srgbClr>
          </a:solidFill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Занятие 1: Сухопутные войск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3:16:16Z</dcterms:created>
  <dc:creator>Новомлинов</dc:creator>
  <dc:description/>
  <dc:language>en-US</dc:language>
  <cp:lastModifiedBy>ZooM</cp:lastModifiedBy>
  <dcterms:modified xsi:type="dcterms:W3CDTF">2013-11-07T13:34:26Z</dcterms:modified>
  <cp:revision>192</cp:revision>
  <dc:subject/>
  <dc:title>ТЕМА № 17</dc:title>
</cp:coreProperties>
</file>