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271F-F7BA-4354-BB11-499F784F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3B17-CDF5-41A8-890A-58CBB371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276B7-1241-4D92-A843-69A328F2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ECFBB-8C94-4436-A881-1699484B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E13F8-D369-4F2B-86DA-06CE745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5411A-D738-474B-8C1B-16B5BD4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9DAE-5F53-4886-AE04-D32D5177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7956C-2ECD-4B85-BAF1-4B6FB70C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CA2D4-499C-48FC-8DE3-0C36B1DB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B98E6-2F35-4232-8A97-4C36FA0C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786BF-7F26-4801-9076-A5181662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136AF-628E-456D-B305-47B96D79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FA5C-472C-4131-8FD1-3192C188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3FE45-7476-4EAD-B25C-9C23661E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87FC5-2936-41AB-8C8D-B8B19D0A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9116-B22C-40D3-9150-F0B7AE6F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26563-836D-4084-A23F-3B65D225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E6BB-6A45-4A15-8565-FEA340B8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AC20B-8011-4BCF-A640-CFA6BF6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142ED-FDDC-46F1-BB3E-22B6B45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8E1E7-3AED-4B63-9EF6-4D03ECE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55C3C-C099-416E-815D-4673DA46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59AAA-61D3-4AA1-A4AC-4A1E337C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06CF-8283-4C0E-B37C-54BDE5B7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7C841-F675-4992-8AB1-E706EC4B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91840-3215-4FA4-8461-D7C9BF51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D4DF6-409F-47DE-BF4B-25FF16FC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66D3-8F06-4929-9D1F-F24BCC1A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5E7E0-DCF7-45EA-A0B3-B830E651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2FB3C-B3A6-4FDF-89C3-28003CD6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81BDD-79AF-4031-91B4-12880D5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82CA2-551A-44A5-B8BA-D6D18868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B4883-9432-4C27-95E3-CC734A8D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8FF43-283B-497B-A263-45DC7CF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EAB-A531-4E1E-841E-7597A3BD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27444-B79E-4F67-82AD-2975D1D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A909E-C1C9-4B62-A235-7E2A1F68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D44D3-5CD5-4E2F-BD00-EDD5A308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AA7B7-B2A4-4955-83B9-2A0AABDA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EFE99-1300-40A5-B232-6ABA892E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122D6-FDCE-4F88-82C3-4BEC9065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1A37B-E81A-4416-B1E6-A913670C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BEB6D-6815-444C-99FA-D592B705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5DB22-145C-4161-B40E-B036ABD0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3D178-FD12-49E0-886A-B6F7FBD9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236D-61BA-4E0A-B815-1CD90172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A1226-760C-4886-8A2F-154D74D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69AE4-273A-4152-A647-06DD2D40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44A84-6F3F-4B42-9E96-48AE9F4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B973C-78DE-45A6-9C52-47506CF6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FA76A-8CDE-49DC-8FF2-865E3C8D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EC8A1-F076-4A82-8B0B-8D682865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A9595-1971-45BB-9574-A1963E74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D2C07-78A2-4F66-BD64-E466010C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0B60B-73DA-458D-9088-92F47F8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1ACBE-0D27-41AE-B0DD-C48E165D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4A2F-3D08-44DB-AB2E-5F7DE289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5AD71-B462-4AFF-92ED-001C4351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5A665-84EA-4CE1-8A2D-0DE47E8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F45B8-0A3C-48D2-ACE9-00EB99FA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74A18-0709-441A-AE5B-3530BD2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A8B20-8D7A-4FB4-A046-8717FF7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BAB92-F902-45BF-9662-6495D8D3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3424D-D88B-4D91-9798-51854559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ED948-B51A-4D70-ACFD-96E0F064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F7155-7CE9-407A-870D-734DAC29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D3A22-0954-429E-8625-97E5C9B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27F3-7AD5-4FBB-AA82-DABA569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E73A1-71A2-45A1-BDC8-7C8F3C05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D5051-05EE-4CCE-9A9A-3B58F70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8D9DE-7E7B-4147-AB44-88B5F50E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23FBD-CE93-400B-9AC1-ED33D2C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F8773-510B-4F1B-AA04-1FA96DF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991A0-EC65-4F79-A83C-D24C652D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3E952-BCFF-4123-BE69-B6418C83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39FC5-57FF-405A-9D16-2245AA01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5990B-F8AD-4F01-AC06-5AB5589A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E13E6-035F-4B83-A5AC-0BFEACA4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AF4F-F6E6-4774-82E4-939D5BDC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9BB8F-FE21-4763-857A-AD534B71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D9305-8EF1-46B5-B608-F5A718F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5DDCA-07AE-4C97-9CA8-A5992F8E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93E10-2CC6-44C5-9B40-A51E8E8F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AE36D-0511-4113-AA92-DC87FC7B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6BA63-7EEA-4010-BCDD-5D251FF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866D9-F48A-4B75-8412-14B6E40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1FE75-162E-4203-9E0D-D4309F72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0A4DF-3E84-4339-96AC-3E07911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A4455-D14C-4613-B8FE-62AD72DF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5D48-6FD1-4DFD-9727-7C97828D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78899-3211-4F85-A5F1-BA0FB31C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46F2B-69AE-4310-B515-4432EB6D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1B573-C235-4DB5-AD6B-569758B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4FF82-2CE0-4A96-9131-533DB0FA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DA8AB-E982-46E2-9405-07D6F91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6E2A0-FA4A-4CC8-8498-594D94D8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C3D22-E4D6-4615-ABCC-55628646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FB2D2-6890-405B-8A7B-38E2002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07A91-3EEF-491A-8EC2-D89729A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F257B-138B-47B3-9DF9-372E3E6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C221-0E05-47AA-AB9F-B5B1E79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AD226-3D5F-43BA-81A8-0CF0DD9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54CC7-C8ED-4B13-AE0D-85F341D2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20DBF-FBAB-4DAD-96ED-4946864C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C22C0-7AD5-43E0-AE90-4BBDAC4A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59F98-D96B-4F47-B7A1-EFE9AAD4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11542-E647-4301-92FC-EC63E14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54988-9519-4BE2-99A4-08338212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9C842-84BF-4B58-82A4-E8AA7508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BA387-C158-4AB9-AE00-B8263449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16E98-7C60-40A9-9145-863F725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41EC-06BB-426B-869D-C8C2F1C6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BA38-ADAB-4584-8F26-EDC0BAB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BE235-312C-4548-B535-339A6C9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EF528-86B4-46A0-A197-1F472FF3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C7C37-86DA-4EC4-A383-2B8428CD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A9636-3430-4967-8B65-F7A77A43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AE6C5-02F6-4CC5-A328-DC7D9D93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FC45-15D3-4982-ADDB-86006EBB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0244-5A6C-4E5F-BAE4-F1D2764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C748-3C15-4000-9200-395CBB78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89AE-53E4-4C0F-83F4-8E7AA81C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AC33-736C-40FE-8836-8CCE0168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7A2D-A0CB-411D-8407-876B26F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7D5D-FD81-4D8C-9B2F-7AA0FB3F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A657-00C1-4340-BDA5-1CD9C23E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D9E1-4AE4-4A33-9B17-DA70118E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F681-EFE3-4FAE-B385-B9FC48CA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D2CD-CF26-4DB5-A40F-2197380E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13E0-283C-431A-B3E9-D8CFF8F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0487-0DC6-427C-9A6A-99A4D58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1B95-5E48-4808-9E53-04892992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8F57-2C2A-4C0F-A563-C389753C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E941-E98A-4F39-BD02-3ED26A04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980B-66F1-4FF5-81C4-F02B6F11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70869-1CF5-4C79-97E7-DBA5B3CB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5C72-9282-4957-91B2-88DE391C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F86B-B31E-4FA1-9376-1E48FB8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84F6-0135-4F2C-9565-1D9AF94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6BD3-27C6-4EBB-BAE1-875627DE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272B-9C78-4909-AE30-F0ED06A7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6B05-258A-40AE-AA1D-AEB80A98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C342-666E-4D25-9916-9CA8DCA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592B-4445-4DFE-AC5C-B05642C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B8C0-A0EE-403C-9B25-E9C38F7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E69B-792A-46BE-AE32-41C0B6CA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670C-F0B0-4E78-A378-E5DC0544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AD01-C1A5-4B5F-BDD3-14F8FB8C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AAC50-BA1E-4775-B64A-191CC60A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26E1-D8AD-4D4E-A91C-3B942917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96F1-8F4D-41B8-916C-9D82F7C5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A860-057C-4272-8606-EE66570C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22846-87CE-483F-9FEE-9925F369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A015-3CE6-4CB6-81DD-C25BC7C2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BCC2E-394D-432A-9782-BB5D3C4E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312C-B07F-4B33-81F5-8E0BBE0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E9DC8-804E-4F41-929C-184AC67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D585-C63D-4A9B-994F-D9E7E65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74AA-2B23-4374-B433-391F7C33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881A1-32CA-4BAD-B6EA-8036A0D4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AC05-7D58-4CA4-8DDB-E71FF92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06112-AED5-498C-85F8-2C2E7DBE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532CE-2E2F-4C9B-A6C5-9D81FA6D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FC80-BAE0-40AC-8059-57FD5DD3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D0E71-E019-45F7-AE2B-00E6F702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81FC4-C3C7-45B2-AAE9-F194969A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26F8-D1A8-40D4-B164-A6F83C5C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4E26E-EEE0-4A2F-93DB-73834578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2386-C283-49EA-831C-DAA2F118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A0489-998A-4510-BF59-EB50099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20C30-3037-4DC1-AFC5-E710DAED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5AE0-99E3-4B04-8AE2-7E60678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4FF4-081F-4986-8852-8A31EBCC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27576-C15B-499F-8BB5-4CBDA091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F732-C690-4B13-AEB1-2E9D8531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B7131-4B8D-4254-93E3-6D074875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865B-FD9A-4A93-A9C7-8F78421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1A664-580A-4743-B53B-9630734D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14B67-AAFB-4950-8E6E-DDF123F7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CEAB-1034-486B-ABFE-C25E2685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DBB6-E923-4F13-A14A-600CF85C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F96AF-48C3-43A7-B3BE-A06E7F0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25A2-BDB4-4C5C-BD22-B8CFA75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6424-D4B0-4B5E-8CA7-2287030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F87D-225E-45DE-9598-850EDFB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02574-3FD9-4E64-B3EA-DA1D3280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B305-AE5C-4640-A1B6-0AD00686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4BCC4-1222-42C5-88AC-EA8C9095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FDA9-5C9D-4A32-97A3-BA0E1119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2C11E-185E-4712-8AA8-AE948BAF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6938E-D973-474D-8632-52CB36E9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53CD2-1955-4CC8-BA04-93F4454B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7207-6490-4A55-A01B-31EED8C2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87A1-A12D-44EC-B405-F1BF25B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9D148-0C89-435C-868B-C552E9C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AC6BE-A83A-4DA7-8588-410BA95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1287F-1A46-45C3-A52B-29855B1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5D47D-46FA-46F3-8D6B-D922922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FF52-3C1A-479D-99DF-A0B9E6A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0282-B10A-43A9-BC79-AF51AC95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E439E-276D-4FD7-93FD-72B04B6A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90F8F-5E93-484E-9714-CBAD64A0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DD6A8-E7AA-457A-BBEF-C784FD5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D9DAE-B5EF-479D-A534-36D6174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DC7D-E907-4E65-BDBB-7B366EF865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6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E83-7098-487D-95A6-4E6E163D95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619" name="Group 3"/>
            <p:cNvGrpSpPr/>
            <p:nvPr/>
          </p:nvGrpSpPr>
          <p:grpSpPr>
            <a:xfrm>
              <a:off x="3484080" y="956160"/>
              <a:ext cx="945720" cy="709920"/>
              <a:chOff x="3484080" y="956160"/>
              <a:chExt cx="945720" cy="709920"/>
            </a:xfrm>
          </p:grpSpPr>
          <p:sp>
            <p:nvSpPr>
              <p:cNvPr id="620" name="Oval 4"/>
              <p:cNvSpPr/>
              <p:nvPr/>
            </p:nvSpPr>
            <p:spPr>
              <a:xfrm>
                <a:off x="3484080" y="9561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5"/>
              <p:cNvSpPr/>
              <p:nvPr/>
            </p:nvSpPr>
            <p:spPr>
              <a:xfrm>
                <a:off x="3823920" y="12679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2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62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24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625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6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28" name="Group 12"/>
                  <p:cNvGrpSpPr/>
                  <p:nvPr/>
                </p:nvGrpSpPr>
                <p:grpSpPr>
                  <a:xfrm>
                    <a:off x="5761080" y="2321280"/>
                    <a:ext cx="2559600" cy="2739960"/>
                    <a:chOff x="5761080" y="2321280"/>
                    <a:chExt cx="2559600" cy="2739960"/>
                  </a:xfrm>
                </p:grpSpPr>
                <p:sp>
                  <p:nvSpPr>
                    <p:cNvPr id="629" name="Freeform 13"/>
                    <p:cNvSpPr/>
                    <p:nvPr/>
                  </p:nvSpPr>
                  <p:spPr>
                    <a:xfrm rot="2711400">
                      <a:off x="5583600" y="30193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0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1" name="Group 15"/>
                  <p:cNvGrpSpPr/>
                  <p:nvPr/>
                </p:nvGrpSpPr>
                <p:grpSpPr>
                  <a:xfrm>
                    <a:off x="5787720" y="2144160"/>
                    <a:ext cx="3039480" cy="2529720"/>
                    <a:chOff x="5787720" y="2144160"/>
                    <a:chExt cx="3039480" cy="2529720"/>
                  </a:xfrm>
                </p:grpSpPr>
                <p:sp>
                  <p:nvSpPr>
                    <p:cNvPr id="632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3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1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4" name="Group 18"/>
                  <p:cNvGrpSpPr/>
                  <p:nvPr/>
                </p:nvGrpSpPr>
                <p:grpSpPr>
                  <a:xfrm>
                    <a:off x="5774760" y="2061000"/>
                    <a:ext cx="3097800" cy="1993320"/>
                    <a:chOff x="5774760" y="2061000"/>
                    <a:chExt cx="3097800" cy="1993320"/>
                  </a:xfrm>
                </p:grpSpPr>
                <p:sp>
                  <p:nvSpPr>
                    <p:cNvPr id="635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6" name="Freeform 20"/>
                    <p:cNvSpPr/>
                    <p:nvPr/>
                  </p:nvSpPr>
                  <p:spPr>
                    <a:xfrm rot="1582800">
                      <a:off x="7652520" y="3242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7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638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9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0" name="Group 24"/>
                  <p:cNvGrpSpPr/>
                  <p:nvPr/>
                </p:nvGrpSpPr>
                <p:grpSpPr>
                  <a:xfrm>
                    <a:off x="5805720" y="1874880"/>
                    <a:ext cx="2939040" cy="1002960"/>
                    <a:chOff x="5805720" y="1874880"/>
                    <a:chExt cx="2939040" cy="1002960"/>
                  </a:xfrm>
                </p:grpSpPr>
                <p:sp>
                  <p:nvSpPr>
                    <p:cNvPr id="641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2" name="Freeform 26"/>
                    <p:cNvSpPr/>
                    <p:nvPr/>
                  </p:nvSpPr>
                  <p:spPr>
                    <a:xfrm rot="463200">
                      <a:off x="7685640" y="22082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3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644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5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6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647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8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9" name="Group 33"/>
                  <p:cNvGrpSpPr/>
                  <p:nvPr/>
                </p:nvGrpSpPr>
                <p:grpSpPr>
                  <a:xfrm>
                    <a:off x="2646360" y="2471760"/>
                    <a:ext cx="2556720" cy="2740680"/>
                    <a:chOff x="2646360" y="2471760"/>
                    <a:chExt cx="2556720" cy="2740680"/>
                  </a:xfrm>
                </p:grpSpPr>
                <p:sp>
                  <p:nvSpPr>
                    <p:cNvPr id="650" name="Freeform 34"/>
                    <p:cNvSpPr/>
                    <p:nvPr/>
                  </p:nvSpPr>
                  <p:spPr>
                    <a:xfrm flipH="1" rot="18888600">
                      <a:off x="3254040" y="316872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1" name="Freeform 35"/>
                    <p:cNvSpPr/>
                    <p:nvPr/>
                  </p:nvSpPr>
                  <p:spPr>
                    <a:xfrm flipH="1" rot="18888600">
                      <a:off x="2691360" y="42922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2" name="Group 36"/>
                  <p:cNvGrpSpPr/>
                  <p:nvPr/>
                </p:nvGrpSpPr>
                <p:grpSpPr>
                  <a:xfrm>
                    <a:off x="2084040" y="2365920"/>
                    <a:ext cx="3039480" cy="2531520"/>
                    <a:chOff x="2084040" y="2365920"/>
                    <a:chExt cx="3039480" cy="2531520"/>
                  </a:xfrm>
                </p:grpSpPr>
                <p:sp>
                  <p:nvSpPr>
                    <p:cNvPr id="653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4" name="Freeform 38"/>
                    <p:cNvSpPr/>
                    <p:nvPr/>
                  </p:nvSpPr>
                  <p:spPr>
                    <a:xfrm flipH="1" rot="19496400">
                      <a:off x="2167920" y="394020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5" name="Group 39"/>
                  <p:cNvGrpSpPr/>
                  <p:nvPr/>
                </p:nvGrpSpPr>
                <p:grpSpPr>
                  <a:xfrm>
                    <a:off x="2040120" y="2278080"/>
                    <a:ext cx="3097080" cy="1992240"/>
                    <a:chOff x="2040120" y="2278080"/>
                    <a:chExt cx="3097080" cy="1992240"/>
                  </a:xfrm>
                </p:grpSpPr>
                <p:sp>
                  <p:nvSpPr>
                    <p:cNvPr id="656" name="Freeform 40"/>
                    <p:cNvSpPr/>
                    <p:nvPr/>
                  </p:nvSpPr>
                  <p:spPr>
                    <a:xfrm flipH="1" rot="20017200">
                      <a:off x="3023640" y="27338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7" name="Freeform 41"/>
                    <p:cNvSpPr/>
                    <p:nvPr/>
                  </p:nvSpPr>
                  <p:spPr>
                    <a:xfrm flipH="1" rot="20017200">
                      <a:off x="2110320" y="3458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8" name="Group 42"/>
                  <p:cNvGrpSpPr/>
                  <p:nvPr/>
                </p:nvGrpSpPr>
                <p:grpSpPr>
                  <a:xfrm>
                    <a:off x="2010960" y="2185560"/>
                    <a:ext cx="3134160" cy="1607400"/>
                    <a:chOff x="2010960" y="2185560"/>
                    <a:chExt cx="3134160" cy="1607400"/>
                  </a:xfrm>
                </p:grpSpPr>
                <p:sp>
                  <p:nvSpPr>
                    <p:cNvPr id="659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0" name="Freeform 44"/>
                    <p:cNvSpPr/>
                    <p:nvPr/>
                  </p:nvSpPr>
                  <p:spPr>
                    <a:xfrm flipH="1" rot="20520000">
                      <a:off x="2083680" y="298836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1" name="Group 45"/>
                  <p:cNvGrpSpPr/>
                  <p:nvPr/>
                </p:nvGrpSpPr>
                <p:grpSpPr>
                  <a:xfrm>
                    <a:off x="2167560" y="2093400"/>
                    <a:ext cx="2937240" cy="1004040"/>
                    <a:chOff x="2167560" y="2093400"/>
                    <a:chExt cx="2937240" cy="1004040"/>
                  </a:xfrm>
                </p:grpSpPr>
                <p:sp>
                  <p:nvSpPr>
                    <p:cNvPr id="662" name="Freeform 46"/>
                    <p:cNvSpPr/>
                    <p:nvPr/>
                  </p:nvSpPr>
                  <p:spPr>
                    <a:xfrm flipH="1" rot="21136800">
                      <a:off x="3183480" y="221940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3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4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665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6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7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668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9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0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671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2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3" name="Group 57"/>
                  <p:cNvGrpSpPr/>
                  <p:nvPr/>
                </p:nvGrpSpPr>
                <p:grpSpPr>
                  <a:xfrm>
                    <a:off x="3161520" y="828000"/>
                    <a:ext cx="2169720" cy="1505880"/>
                    <a:chOff x="3161520" y="828000"/>
                    <a:chExt cx="2169720" cy="1505880"/>
                  </a:xfrm>
                </p:grpSpPr>
                <p:sp>
                  <p:nvSpPr>
                    <p:cNvPr id="674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60"/>
                  <p:cNvGrpSpPr/>
                  <p:nvPr/>
                </p:nvGrpSpPr>
                <p:grpSpPr>
                  <a:xfrm>
                    <a:off x="3437280" y="435240"/>
                    <a:ext cx="1987560" cy="1828440"/>
                    <a:chOff x="3437280" y="435240"/>
                    <a:chExt cx="1987560" cy="1828440"/>
                  </a:xfrm>
                </p:grpSpPr>
                <p:sp>
                  <p:nvSpPr>
                    <p:cNvPr id="677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62"/>
                    <p:cNvSpPr/>
                    <p:nvPr/>
                  </p:nvSpPr>
                  <p:spPr>
                    <a:xfrm flipH="1" rot="2664600">
                      <a:off x="3464280" y="66528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63"/>
                  <p:cNvGrpSpPr/>
                  <p:nvPr/>
                </p:nvGrpSpPr>
                <p:grpSpPr>
                  <a:xfrm>
                    <a:off x="4028400" y="324360"/>
                    <a:ext cx="1461600" cy="1895760"/>
                    <a:chOff x="4028400" y="324360"/>
                    <a:chExt cx="1461600" cy="1895760"/>
                  </a:xfrm>
                </p:grpSpPr>
                <p:sp>
                  <p:nvSpPr>
                    <p:cNvPr id="680" name="Freeform 64"/>
                    <p:cNvSpPr/>
                    <p:nvPr/>
                  </p:nvSpPr>
                  <p:spPr>
                    <a:xfrm flipH="1" rot="3474000">
                      <a:off x="4335840" y="144108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65"/>
                    <p:cNvSpPr/>
                    <p:nvPr/>
                  </p:nvSpPr>
                  <p:spPr>
                    <a:xfrm flipH="1" rot="3474000">
                      <a:off x="4033800" y="53496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66"/>
                  <p:cNvGrpSpPr/>
                  <p:nvPr/>
                </p:nvGrpSpPr>
                <p:grpSpPr>
                  <a:xfrm>
                    <a:off x="4448160" y="245520"/>
                    <a:ext cx="1122120" cy="1947240"/>
                    <a:chOff x="4448160" y="245520"/>
                    <a:chExt cx="1122120" cy="1947240"/>
                  </a:xfrm>
                </p:grpSpPr>
                <p:sp>
                  <p:nvSpPr>
                    <p:cNvPr id="683" name="Freeform 67"/>
                    <p:cNvSpPr/>
                    <p:nvPr/>
                  </p:nvSpPr>
                  <p:spPr>
                    <a:xfrm flipH="1" rot="4126800">
                      <a:off x="4555800" y="140256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68"/>
                    <p:cNvSpPr/>
                    <p:nvPr/>
                  </p:nvSpPr>
                  <p:spPr>
                    <a:xfrm flipH="1" rot="4126800">
                      <a:off x="4416840" y="441000"/>
                      <a:ext cx="7034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69"/>
                  <p:cNvGrpSpPr/>
                  <p:nvPr/>
                </p:nvGrpSpPr>
                <p:grpSpPr>
                  <a:xfrm>
                    <a:off x="5661720" y="948240"/>
                    <a:ext cx="2318760" cy="1112400"/>
                    <a:chOff x="5661720" y="948240"/>
                    <a:chExt cx="2318760" cy="1112400"/>
                  </a:xfrm>
                </p:grpSpPr>
                <p:sp>
                  <p:nvSpPr>
                    <p:cNvPr id="686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689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91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2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93" name="Group 77"/>
                  <p:cNvGrpSpPr/>
                  <p:nvPr/>
                </p:nvGrpSpPr>
                <p:grpSpPr>
                  <a:xfrm>
                    <a:off x="5358240" y="267840"/>
                    <a:ext cx="1191600" cy="1897560"/>
                    <a:chOff x="5358240" y="267840"/>
                    <a:chExt cx="1191600" cy="1897560"/>
                  </a:xfrm>
                </p:grpSpPr>
                <p:sp>
                  <p:nvSpPr>
                    <p:cNvPr id="694" name="Freeform 78"/>
                    <p:cNvSpPr/>
                    <p:nvPr/>
                  </p:nvSpPr>
                  <p:spPr>
                    <a:xfrm rot="17742000">
                      <a:off x="5089680" y="1413360"/>
                      <a:ext cx="130824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6" name="Group 80"/>
                  <p:cNvGrpSpPr/>
                  <p:nvPr/>
                </p:nvGrpSpPr>
                <p:grpSpPr>
                  <a:xfrm>
                    <a:off x="5350680" y="381600"/>
                    <a:ext cx="1889640" cy="1796760"/>
                    <a:chOff x="5350680" y="381600"/>
                    <a:chExt cx="1889640" cy="1796760"/>
                  </a:xfrm>
                </p:grpSpPr>
                <p:sp>
                  <p:nvSpPr>
                    <p:cNvPr id="697" name="Freeform 81"/>
                    <p:cNvSpPr/>
                    <p:nvPr/>
                  </p:nvSpPr>
                  <p:spPr>
                    <a:xfrm rot="18822600">
                      <a:off x="5250600" y="1380960"/>
                      <a:ext cx="142668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8" name="Freeform 82"/>
                    <p:cNvSpPr/>
                    <p:nvPr/>
                  </p:nvSpPr>
                  <p:spPr>
                    <a:xfrm rot="18822600">
                      <a:off x="6402960" y="57852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9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700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1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2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703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4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5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706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7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8" name="Group 92"/>
                  <p:cNvGrpSpPr/>
                  <p:nvPr/>
                </p:nvGrpSpPr>
                <p:grpSpPr>
                  <a:xfrm>
                    <a:off x="4507560" y="2694960"/>
                    <a:ext cx="876600" cy="2932560"/>
                    <a:chOff x="4507560" y="2694960"/>
                    <a:chExt cx="876600" cy="2932560"/>
                  </a:xfrm>
                </p:grpSpPr>
                <p:sp>
                  <p:nvSpPr>
                    <p:cNvPr id="709" name="Freeform 93"/>
                    <p:cNvSpPr/>
                    <p:nvPr/>
                  </p:nvSpPr>
                  <p:spPr>
                    <a:xfrm flipH="1" rot="16870800">
                      <a:off x="4084920" y="3483000"/>
                      <a:ext cx="189180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0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1" name="Group 95"/>
                  <p:cNvGrpSpPr/>
                  <p:nvPr/>
                </p:nvGrpSpPr>
                <p:grpSpPr>
                  <a:xfrm>
                    <a:off x="5678280" y="2479320"/>
                    <a:ext cx="2280600" cy="2955240"/>
                    <a:chOff x="5678280" y="2479320"/>
                    <a:chExt cx="2280600" cy="2955240"/>
                  </a:xfrm>
                </p:grpSpPr>
                <p:sp>
                  <p:nvSpPr>
                    <p:cNvPr id="712" name="Freeform 96"/>
                    <p:cNvSpPr/>
                    <p:nvPr/>
                  </p:nvSpPr>
                  <p:spPr>
                    <a:xfrm rot="3144000">
                      <a:off x="5415120" y="3247560"/>
                      <a:ext cx="2128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3" name="Freeform 97"/>
                    <p:cNvSpPr/>
                    <p:nvPr/>
                  </p:nvSpPr>
                  <p:spPr>
                    <a:xfrm rot="3144000">
                      <a:off x="6801480" y="44964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4" name="Group 98"/>
                  <p:cNvGrpSpPr/>
                  <p:nvPr/>
                </p:nvGrpSpPr>
                <p:grpSpPr>
                  <a:xfrm>
                    <a:off x="5646600" y="2591640"/>
                    <a:ext cx="1757880" cy="3031200"/>
                    <a:chOff x="5646600" y="2591640"/>
                    <a:chExt cx="1757880" cy="3031200"/>
                  </a:xfrm>
                </p:grpSpPr>
                <p:sp>
                  <p:nvSpPr>
                    <p:cNvPr id="715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6" name="Freeform 100"/>
                    <p:cNvSpPr/>
                    <p:nvPr/>
                  </p:nvSpPr>
                  <p:spPr>
                    <a:xfrm rot="3745200">
                      <a:off x="6352200" y="471888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7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718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9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0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721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2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3" name="Group 107"/>
                  <p:cNvGrpSpPr/>
                  <p:nvPr/>
                </p:nvGrpSpPr>
                <p:grpSpPr>
                  <a:xfrm>
                    <a:off x="4965120" y="2882520"/>
                    <a:ext cx="663480" cy="2719800"/>
                    <a:chOff x="4965120" y="2882520"/>
                    <a:chExt cx="663480" cy="2719800"/>
                  </a:xfrm>
                </p:grpSpPr>
                <p:sp>
                  <p:nvSpPr>
                    <p:cNvPr id="724" name="Freeform 108"/>
                    <p:cNvSpPr/>
                    <p:nvPr/>
                  </p:nvSpPr>
                  <p:spPr>
                    <a:xfrm rot="5755200">
                      <a:off x="4533480" y="366192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5" name="Freeform 109"/>
                    <p:cNvSpPr/>
                    <p:nvPr/>
                  </p:nvSpPr>
                  <p:spPr>
                    <a:xfrm rot="5755200">
                      <a:off x="4718880" y="492840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26" name="Group 110"/>
              <p:cNvGrpSpPr/>
              <p:nvPr/>
            </p:nvGrpSpPr>
            <p:grpSpPr>
              <a:xfrm>
                <a:off x="2174400" y="677880"/>
                <a:ext cx="6732720" cy="4525200"/>
                <a:chOff x="2174400" y="677880"/>
                <a:chExt cx="6732720" cy="4525200"/>
              </a:xfrm>
            </p:grpSpPr>
            <p:grpSp>
              <p:nvGrpSpPr>
                <p:cNvPr id="727" name="Group 111"/>
                <p:cNvGrpSpPr/>
                <p:nvPr/>
              </p:nvGrpSpPr>
              <p:grpSpPr>
                <a:xfrm>
                  <a:off x="2174400" y="677880"/>
                  <a:ext cx="6732720" cy="4525200"/>
                  <a:chOff x="2174400" y="677880"/>
                  <a:chExt cx="6732720" cy="4525200"/>
                </a:xfrm>
              </p:grpSpPr>
              <p:sp>
                <p:nvSpPr>
                  <p:cNvPr id="728" name="Arc 112"/>
                  <p:cNvSpPr/>
                  <p:nvPr/>
                </p:nvSpPr>
                <p:spPr>
                  <a:xfrm flipV="1">
                    <a:off x="5740560" y="851400"/>
                    <a:ext cx="3166560" cy="25286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9" name="Arc 113"/>
                  <p:cNvSpPr/>
                  <p:nvPr/>
                </p:nvSpPr>
                <p:spPr>
                  <a:xfrm flipH="1">
                    <a:off x="2561400" y="2268360"/>
                    <a:ext cx="248688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0" name="Arc 114"/>
                  <p:cNvSpPr/>
                  <p:nvPr/>
                </p:nvSpPr>
                <p:spPr>
                  <a:xfrm>
                    <a:off x="5818320" y="1747440"/>
                    <a:ext cx="1758240" cy="2938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Arc 115"/>
                  <p:cNvSpPr/>
                  <p:nvPr/>
                </p:nvSpPr>
                <p:spPr>
                  <a:xfrm flipH="1">
                    <a:off x="2174400" y="129384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Freeform 118"/>
                  <p:cNvSpPr/>
                  <p:nvPr/>
                </p:nvSpPr>
                <p:spPr>
                  <a:xfrm flipH="1">
                    <a:off x="4302000" y="829800"/>
                    <a:ext cx="515160" cy="1880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35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36" name="Group 120"/>
            <p:cNvGrpSpPr/>
            <p:nvPr/>
          </p:nvGrpSpPr>
          <p:grpSpPr>
            <a:xfrm>
              <a:off x="2343960" y="735120"/>
              <a:ext cx="6411960" cy="4712040"/>
              <a:chOff x="2343960" y="735120"/>
              <a:chExt cx="6411960" cy="4712040"/>
            </a:xfrm>
          </p:grpSpPr>
          <p:sp>
            <p:nvSpPr>
              <p:cNvPr id="737" name="Freeform 121"/>
              <p:cNvSpPr/>
              <p:nvPr/>
            </p:nvSpPr>
            <p:spPr>
              <a:xfrm flipH="1">
                <a:off x="4470840" y="325908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Arc 122"/>
              <p:cNvSpPr/>
              <p:nvPr/>
            </p:nvSpPr>
            <p:spPr>
              <a:xfrm flipH="1">
                <a:off x="3385440" y="2603520"/>
                <a:ext cx="2617200" cy="284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Arc 123"/>
              <p:cNvSpPr/>
              <p:nvPr/>
            </p:nvSpPr>
            <p:spPr>
              <a:xfrm flipH="1">
                <a:off x="3646800" y="214560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Arc 124"/>
              <p:cNvSpPr/>
              <p:nvPr/>
            </p:nvSpPr>
            <p:spPr>
              <a:xfrm flipH="1">
                <a:off x="2343600" y="176184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Arc 125"/>
              <p:cNvSpPr/>
              <p:nvPr/>
            </p:nvSpPr>
            <p:spPr>
              <a:xfrm>
                <a:off x="5588640" y="217404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Arc 126"/>
              <p:cNvSpPr/>
              <p:nvPr/>
            </p:nvSpPr>
            <p:spPr>
              <a:xfrm>
                <a:off x="5711760" y="216036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127"/>
              <p:cNvSpPr/>
              <p:nvPr/>
            </p:nvSpPr>
            <p:spPr>
              <a:xfrm>
                <a:off x="6155640" y="357156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128"/>
              <p:cNvSpPr/>
              <p:nvPr/>
            </p:nvSpPr>
            <p:spPr>
              <a:xfrm flipV="1" rot="19660800">
                <a:off x="5227200" y="297072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129"/>
              <p:cNvSpPr/>
              <p:nvPr/>
            </p:nvSpPr>
            <p:spPr>
              <a:xfrm flipH="1">
                <a:off x="2688120" y="340848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130"/>
              <p:cNvSpPr/>
              <p:nvPr/>
            </p:nvSpPr>
            <p:spPr>
              <a:xfrm flipH="1">
                <a:off x="3318840" y="142128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31"/>
              <p:cNvSpPr/>
              <p:nvPr/>
            </p:nvSpPr>
            <p:spPr>
              <a:xfrm>
                <a:off x="7513920" y="31320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32"/>
              <p:cNvSpPr/>
              <p:nvPr/>
            </p:nvSpPr>
            <p:spPr>
              <a:xfrm>
                <a:off x="6868800" y="2133360"/>
                <a:ext cx="1872360" cy="131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3"/>
              <p:cNvSpPr/>
              <p:nvPr/>
            </p:nvSpPr>
            <p:spPr>
              <a:xfrm>
                <a:off x="6937920" y="73512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34"/>
              <p:cNvSpPr/>
              <p:nvPr/>
            </p:nvSpPr>
            <p:spPr>
              <a:xfrm flipH="1" rot="1347000">
                <a:off x="4183920" y="217800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98D-6725-4819-BDF0-FCD01FEBC83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93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8977-E601-45BC-82F1-581DBA8A2F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B84-1A41-4698-8387-995C86DA04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882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8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889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5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40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41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4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FFAE-6E60-4118-AED6-F5D424D32AB0}" type="slidenum"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94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01B5-DCA9-4E0E-A385-62E249F8E7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4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85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6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7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88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92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4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4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4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005D-8CE7-4142-88BF-24B90E2D8D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035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dt" idx="4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ftr" idx="5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 type="sldNum" idx="5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00AC-45BC-4207-A668-4C0B949E54D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5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6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72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73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1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82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4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85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7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88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0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91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94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6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97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9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0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2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03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5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06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09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1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7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18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2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6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27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3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1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2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33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7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38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4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6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47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50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53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5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59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62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65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68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B29-DFC7-4D6C-9E08-BA03E62C055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3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91C-586D-43D0-85EA-71C9BDD6E1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ED3D-4407-449F-84BA-C7270BCF56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5DEF-665F-4DFC-8FCD-321349D7A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37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7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8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ED81-8A86-44C4-9C0D-3CE70894A24C}" type="slidenum"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38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DAC0-7282-46CA-95E9-1626682E8B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6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B1C-8A12-4D9B-9A49-5C74862AFC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16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5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6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27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A02-296E-4E2D-B7FC-CA5D4F9DAD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1f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лшебный мир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женщины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1" name="Picture 7" descr="сканирование0015"/>
          <p:cNvPicPr/>
          <p:nvPr/>
        </p:nvPicPr>
        <p:blipFill>
          <a:blip r:embed="rId1"/>
          <a:stretch/>
        </p:blipFill>
        <p:spPr>
          <a:xfrm rot="20156400">
            <a:off x="1135080" y="1940040"/>
            <a:ext cx="2381400" cy="432108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1082" name="TextBox 9"/>
          <p:cNvSpPr/>
          <p:nvPr/>
        </p:nvSpPr>
        <p:spPr>
          <a:xfrm>
            <a:off x="3573360" y="3143160"/>
            <a:ext cx="48045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зентация на те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Отделка и аксессу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швейных изделия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: учитель швейного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ОУ «Школа – интернат № 3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йх Светлана Викто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Во  всем  блеске!!!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5" name="Picture 4" descr="сканирование0059"/>
          <p:cNvPicPr/>
          <p:nvPr/>
        </p:nvPicPr>
        <p:blipFill>
          <a:blip r:embed="rId1"/>
          <a:srcRect l="0" t="-6887" r="0" b="0"/>
          <a:stretch/>
        </p:blipFill>
        <p:spPr>
          <a:xfrm>
            <a:off x="3276720" y="1268280"/>
            <a:ext cx="2089080" cy="55897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5" descr="сканирование0061"/>
          <p:cNvPicPr/>
          <p:nvPr/>
        </p:nvPicPr>
        <p:blipFill>
          <a:blip r:embed="rId2"/>
          <a:stretch/>
        </p:blipFill>
        <p:spPr>
          <a:xfrm rot="1715400">
            <a:off x="6516720" y="3357360"/>
            <a:ext cx="1440000" cy="172080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7" name="Picture 7" descr="сканирование0060"/>
          <p:cNvPicPr/>
          <p:nvPr/>
        </p:nvPicPr>
        <p:blipFill>
          <a:blip r:embed="rId3"/>
          <a:stretch/>
        </p:blipFill>
        <p:spPr>
          <a:xfrm rot="21047400">
            <a:off x="971640" y="1773360"/>
            <a:ext cx="1657440" cy="1295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8" name="Picture 8" descr="сканирование0063"/>
          <p:cNvPicPr/>
          <p:nvPr/>
        </p:nvPicPr>
        <p:blipFill>
          <a:blip r:embed="rId4"/>
          <a:stretch/>
        </p:blipFill>
        <p:spPr>
          <a:xfrm rot="1818600">
            <a:off x="7075080" y="1790640"/>
            <a:ext cx="1108080" cy="881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9" name="Picture 9" descr="сканирование0062"/>
          <p:cNvPicPr/>
          <p:nvPr/>
        </p:nvPicPr>
        <p:blipFill>
          <a:blip r:embed="rId5"/>
          <a:stretch/>
        </p:blipFill>
        <p:spPr>
          <a:xfrm rot="20883600">
            <a:off x="1045800" y="3855960"/>
            <a:ext cx="1500120" cy="129384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Модно и эффектно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1" name="Picture 7" descr="сканирование0040"/>
          <p:cNvPicPr/>
          <p:nvPr/>
        </p:nvPicPr>
        <p:blipFill>
          <a:blip r:embed="rId1"/>
          <a:stretch/>
        </p:blipFill>
        <p:spPr>
          <a:xfrm>
            <a:off x="3714840" y="1785960"/>
            <a:ext cx="1974600" cy="4754520"/>
          </a:xfrm>
          <a:prstGeom prst="rect">
            <a:avLst/>
          </a:prstGeom>
          <a:ln w="31680">
            <a:solidFill>
              <a:srgbClr val="00ccff"/>
            </a:solidFill>
            <a:miter/>
          </a:ln>
        </p:spPr>
      </p:pic>
      <p:pic>
        <p:nvPicPr>
          <p:cNvPr id="1122" name="Picture 8" descr="сканирование0030"/>
          <p:cNvPicPr/>
          <p:nvPr/>
        </p:nvPicPr>
        <p:blipFill>
          <a:blip r:embed="rId2"/>
          <a:stretch/>
        </p:blipFill>
        <p:spPr>
          <a:xfrm>
            <a:off x="428760" y="1643040"/>
            <a:ext cx="2158920" cy="489744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123" name="Picture 10" descr="сканирование0037"/>
          <p:cNvPicPr/>
          <p:nvPr/>
        </p:nvPicPr>
        <p:blipFill>
          <a:blip r:embed="rId3"/>
          <a:stretch/>
        </p:blipFill>
        <p:spPr>
          <a:xfrm>
            <a:off x="7000920" y="1928880"/>
            <a:ext cx="1798560" cy="456228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24" name="Picture 17" descr=""/>
          <p:cNvPicPr/>
          <p:nvPr/>
        </p:nvPicPr>
        <p:blipFill>
          <a:blip r:embed="rId4"/>
          <a:stretch/>
        </p:blipFill>
        <p:spPr>
          <a:xfrm>
            <a:off x="7715160" y="642960"/>
            <a:ext cx="986040" cy="10796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Женщина – красота и гармония!!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6" name="Picture 9" descr=""/>
          <p:cNvPicPr/>
          <p:nvPr/>
        </p:nvPicPr>
        <p:blipFill>
          <a:blip r:embed="rId1"/>
          <a:srcRect l="7317" t="7315" r="0" b="12156"/>
          <a:stretch/>
        </p:blipFill>
        <p:spPr>
          <a:xfrm>
            <a:off x="285840" y="5643720"/>
            <a:ext cx="776160" cy="10080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5" descr="сканирование0038"/>
          <p:cNvPicPr/>
          <p:nvPr/>
        </p:nvPicPr>
        <p:blipFill>
          <a:blip r:embed="rId2"/>
          <a:stretch/>
        </p:blipFill>
        <p:spPr>
          <a:xfrm>
            <a:off x="1214280" y="1500120"/>
            <a:ext cx="2160720" cy="4942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7" descr="сканирование0049"/>
          <p:cNvPicPr/>
          <p:nvPr/>
        </p:nvPicPr>
        <p:blipFill>
          <a:blip r:embed="rId3"/>
          <a:stretch/>
        </p:blipFill>
        <p:spPr>
          <a:xfrm>
            <a:off x="4214880" y="1571760"/>
            <a:ext cx="1272960" cy="4935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8" descr="сканирование0050"/>
          <p:cNvPicPr/>
          <p:nvPr/>
        </p:nvPicPr>
        <p:blipFill>
          <a:blip r:embed="rId4"/>
          <a:stretch/>
        </p:blipFill>
        <p:spPr>
          <a:xfrm>
            <a:off x="6588000" y="1628640"/>
            <a:ext cx="1397160" cy="4824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4" descr="сканирование0001"/>
          <p:cNvPicPr/>
          <p:nvPr/>
        </p:nvPicPr>
        <p:blipFill>
          <a:blip r:embed="rId1"/>
          <a:stretch/>
        </p:blipFill>
        <p:spPr>
          <a:xfrm rot="20722200">
            <a:off x="874440" y="1528560"/>
            <a:ext cx="2933640" cy="504000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084" name="Picture 6" descr="сканирование0003"/>
          <p:cNvPicPr/>
          <p:nvPr/>
        </p:nvPicPr>
        <p:blipFill>
          <a:blip r:embed="rId2"/>
          <a:stretch/>
        </p:blipFill>
        <p:spPr>
          <a:xfrm rot="1171200">
            <a:off x="6875280" y="2205000"/>
            <a:ext cx="1728720" cy="223056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sp>
        <p:nvSpPr>
          <p:cNvPr id="1085" name="WordArt 8"/>
          <p:cNvSpPr txBox="1"/>
          <p:nvPr/>
        </p:nvSpPr>
        <p:spPr>
          <a:xfrm>
            <a:off x="500040" y="214200"/>
            <a:ext cx="8424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205f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ы - во всем своём великолепии</a:t>
            </a:r>
            <a:endParaRPr b="0" lang="en-US" sz="4000" spc="1" strike="noStrike">
              <a:ln w="0">
                <a:noFill/>
              </a:ln>
              <a:solidFill>
                <a:srgbClr val="2205f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43a0c"/>
                </a:solidFill>
                <a:latin typeface="Arial"/>
              </a:rPr>
              <a:t>Ваш стиль – изысканная простота!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Picture 5" descr="сканирование0004"/>
          <p:cNvPicPr/>
          <p:nvPr/>
        </p:nvPicPr>
        <p:blipFill>
          <a:blip r:embed="rId1"/>
          <a:stretch/>
        </p:blipFill>
        <p:spPr>
          <a:xfrm rot="1806600">
            <a:off x="6659640" y="2997000"/>
            <a:ext cx="1806480" cy="234144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88" name="Picture 6" descr="сканирование0006"/>
          <p:cNvPicPr/>
          <p:nvPr/>
        </p:nvPicPr>
        <p:blipFill>
          <a:blip r:embed="rId2"/>
          <a:stretch/>
        </p:blipFill>
        <p:spPr>
          <a:xfrm>
            <a:off x="3203640" y="2133720"/>
            <a:ext cx="2305080" cy="38890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1089" name="Picture 8" descr="j0281904"/>
          <p:cNvPicPr/>
          <p:nvPr/>
        </p:nvPicPr>
        <p:blipFill>
          <a:blip r:embed="rId3"/>
          <a:stretch/>
        </p:blipFill>
        <p:spPr>
          <a:xfrm rot="19938000">
            <a:off x="527040" y="2890440"/>
            <a:ext cx="2041560" cy="19303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p:transition advTm="3000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Интересный  нюан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1" name="Picture 5" descr="сканирование0016"/>
          <p:cNvPicPr/>
          <p:nvPr/>
        </p:nvPicPr>
        <p:blipFill>
          <a:blip r:embed="rId1"/>
          <a:stretch/>
        </p:blipFill>
        <p:spPr>
          <a:xfrm rot="1017000">
            <a:off x="5598720" y="1609200"/>
            <a:ext cx="2600280" cy="429120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092" name="Picture 6" descr="сканирование0017"/>
          <p:cNvPicPr/>
          <p:nvPr/>
        </p:nvPicPr>
        <p:blipFill>
          <a:blip r:embed="rId2"/>
          <a:stretch/>
        </p:blipFill>
        <p:spPr>
          <a:xfrm rot="19779600">
            <a:off x="1187280" y="1557000"/>
            <a:ext cx="2737080" cy="4338720"/>
          </a:xfrm>
          <a:prstGeom prst="rect">
            <a:avLst/>
          </a:prstGeom>
          <a:ln w="31680">
            <a:solidFill>
              <a:srgbClr val="ee941c"/>
            </a:solidFill>
            <a:miter/>
          </a:ln>
        </p:spPr>
      </p:pic>
    </p:spTree>
  </p:cSld>
  <p:transition advTm="3000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ольше   крас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4" name="Picture 4" descr="сканирование0009"/>
          <p:cNvPicPr/>
          <p:nvPr/>
        </p:nvPicPr>
        <p:blipFill>
          <a:blip r:embed="rId1"/>
          <a:stretch/>
        </p:blipFill>
        <p:spPr>
          <a:xfrm rot="21058800">
            <a:off x="461520" y="1774800"/>
            <a:ext cx="2313000" cy="42498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5" name="Picture 5" descr="сканирование0012"/>
          <p:cNvPicPr/>
          <p:nvPr/>
        </p:nvPicPr>
        <p:blipFill>
          <a:blip r:embed="rId2"/>
          <a:stretch/>
        </p:blipFill>
        <p:spPr>
          <a:xfrm rot="20674200">
            <a:off x="3247560" y="4586040"/>
            <a:ext cx="1892520" cy="15145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6" name="Picture 6" descr="сканирование0010"/>
          <p:cNvPicPr/>
          <p:nvPr/>
        </p:nvPicPr>
        <p:blipFill>
          <a:blip r:embed="rId3"/>
          <a:stretch/>
        </p:blipFill>
        <p:spPr>
          <a:xfrm rot="889200">
            <a:off x="6134040" y="1365120"/>
            <a:ext cx="2400480" cy="507204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</p:spTree>
  </p:cSld>
  <p:transition advTm="3000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553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Мой  любимый  костю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98" name="Picture 4" descr="сканирование0019"/>
          <p:cNvPicPr/>
          <p:nvPr/>
        </p:nvPicPr>
        <p:blipFill>
          <a:blip r:embed="rId1"/>
          <a:stretch/>
        </p:blipFill>
        <p:spPr>
          <a:xfrm rot="21073200">
            <a:off x="393480" y="2055960"/>
            <a:ext cx="2162160" cy="4027320"/>
          </a:xfrm>
          <a:prstGeom prst="rect">
            <a:avLst/>
          </a:prstGeom>
          <a:ln w="31680">
            <a:solidFill>
              <a:srgbClr val="800080"/>
            </a:solidFill>
            <a:miter/>
          </a:ln>
        </p:spPr>
      </p:pic>
      <p:pic>
        <p:nvPicPr>
          <p:cNvPr id="1099" name="Picture 7" descr="сканирование"/>
          <p:cNvPicPr/>
          <p:nvPr/>
        </p:nvPicPr>
        <p:blipFill>
          <a:blip r:embed="rId2"/>
          <a:stretch/>
        </p:blipFill>
        <p:spPr>
          <a:xfrm>
            <a:off x="3571920" y="1500120"/>
            <a:ext cx="2084400" cy="465300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00" name="Picture 8" descr="Untitled-Scanned-03"/>
          <p:cNvPicPr/>
          <p:nvPr/>
        </p:nvPicPr>
        <p:blipFill>
          <a:blip r:embed="rId3"/>
          <a:stretch/>
        </p:blipFill>
        <p:spPr>
          <a:xfrm rot="815400">
            <a:off x="6537240" y="1472760"/>
            <a:ext cx="2119320" cy="4392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иль, воплощенный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блестящем шел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2" name="Picture 4" descr="Untitled-Scanned-01"/>
          <p:cNvPicPr/>
          <p:nvPr/>
        </p:nvPicPr>
        <p:blipFill>
          <a:blip r:embed="rId1"/>
          <a:stretch/>
        </p:blipFill>
        <p:spPr>
          <a:xfrm rot="21018600">
            <a:off x="684360" y="1915920"/>
            <a:ext cx="2165040" cy="449568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3" name="Picture 6" descr="сканирование0023"/>
          <p:cNvPicPr/>
          <p:nvPr/>
        </p:nvPicPr>
        <p:blipFill>
          <a:blip r:embed="rId2"/>
          <a:stretch/>
        </p:blipFill>
        <p:spPr>
          <a:xfrm>
            <a:off x="3421080" y="1844640"/>
            <a:ext cx="1798560" cy="360360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1104" name="Picture 7" descr="сканирование0021"/>
          <p:cNvPicPr/>
          <p:nvPr/>
        </p:nvPicPr>
        <p:blipFill>
          <a:blip r:embed="rId3"/>
          <a:stretch/>
        </p:blipFill>
        <p:spPr>
          <a:xfrm rot="921000">
            <a:off x="6156000" y="1844280"/>
            <a:ext cx="2306520" cy="444672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быть ХОРОШО  одет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6" name="Picture 5" descr="сканирование0055"/>
          <p:cNvPicPr/>
          <p:nvPr/>
        </p:nvPicPr>
        <p:blipFill>
          <a:blip r:embed="rId1"/>
          <a:stretch/>
        </p:blipFill>
        <p:spPr>
          <a:xfrm rot="737400">
            <a:off x="6659280" y="1557360"/>
            <a:ext cx="1920960" cy="451008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  <p:pic>
        <p:nvPicPr>
          <p:cNvPr id="1107" name="Picture 6" descr="сканирование0057"/>
          <p:cNvPicPr/>
          <p:nvPr/>
        </p:nvPicPr>
        <p:blipFill>
          <a:blip r:embed="rId2"/>
          <a:stretch/>
        </p:blipFill>
        <p:spPr>
          <a:xfrm>
            <a:off x="3500280" y="1928880"/>
            <a:ext cx="2087640" cy="41767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8" name="Picture 7" descr="сканирование0058"/>
          <p:cNvPicPr/>
          <p:nvPr/>
        </p:nvPicPr>
        <p:blipFill>
          <a:blip r:embed="rId3"/>
          <a:stretch/>
        </p:blipFill>
        <p:spPr>
          <a:xfrm rot="21167400">
            <a:off x="325440" y="2274480"/>
            <a:ext cx="1798560" cy="4176720"/>
          </a:xfrm>
          <a:prstGeom prst="rect">
            <a:avLst/>
          </a:prstGeom>
          <a:ln w="31680">
            <a:solidFill>
              <a:srgbClr val="8c0000"/>
            </a:solidFill>
            <a:miter/>
          </a:ln>
        </p:spPr>
      </p:pic>
    </p:spTree>
  </p:cSld>
  <p:transition advTm="3000"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0" name="Picture 4" descr="сканирование0051"/>
          <p:cNvPicPr/>
          <p:nvPr/>
        </p:nvPicPr>
        <p:blipFill>
          <a:blip r:embed="rId1"/>
          <a:stretch/>
        </p:blipFill>
        <p:spPr>
          <a:xfrm rot="700200">
            <a:off x="6372360" y="2349360"/>
            <a:ext cx="2146320" cy="4057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сканирование0046"/>
          <p:cNvPicPr/>
          <p:nvPr/>
        </p:nvPicPr>
        <p:blipFill>
          <a:blip r:embed="rId2"/>
          <a:srcRect l="0" t="-5264" r="0" b="0"/>
          <a:stretch/>
        </p:blipFill>
        <p:spPr>
          <a:xfrm rot="20781600">
            <a:off x="755280" y="1988640"/>
            <a:ext cx="1758960" cy="43135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12" name="Picture 6" descr="сканирование0044"/>
          <p:cNvPicPr/>
          <p:nvPr/>
        </p:nvPicPr>
        <p:blipFill>
          <a:blip r:embed="rId3"/>
          <a:stretch/>
        </p:blipFill>
        <p:spPr>
          <a:xfrm>
            <a:off x="3419640" y="1916280"/>
            <a:ext cx="2295360" cy="46432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sp>
        <p:nvSpPr>
          <p:cNvPr id="1113" name="AutoShape 9"/>
          <p:cNvSpPr/>
          <p:nvPr/>
        </p:nvSpPr>
        <p:spPr>
          <a:xfrm>
            <a:off x="1835280" y="333360"/>
            <a:ext cx="6984720" cy="1584360"/>
          </a:xfrm>
          <a:custGeom>
            <a:avLst/>
            <a:gdLst>
              <a:gd name="textAreaLeft" fmla="*/ 0 w 6984720"/>
              <a:gd name="textAreaRight" fmla="*/ 6985080 w 698472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00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лассика и роман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57:43Z</dcterms:created>
  <dc:creator>User</dc:creator>
  <dc:description/>
  <dc:language>en-US</dc:language>
  <cp:lastModifiedBy>Светлана</cp:lastModifiedBy>
  <dcterms:modified xsi:type="dcterms:W3CDTF">2013-10-21T13:27:51Z</dcterms:modified>
  <cp:revision>17</cp:revision>
  <dc:subject/>
  <dc:title>Слайд 1</dc:title>
</cp:coreProperties>
</file>