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3A78-40A4-418B-942A-381E624C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E230-8777-4B48-9B95-EC37E398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EB2E5-30C2-4A09-81DF-F8DA774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B3FF9-A120-4C5D-A1F3-784E19B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BAF70-B296-4690-BECD-CC980F25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29D66-A2D2-46E8-9B21-618EEB3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7D199-5203-482E-BBF7-AA840A55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BE780-CC57-46F1-A8A1-87BA085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204DD-178A-417B-B7A7-6F39140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58CC-3FE4-48EF-A06F-4E2F5DE6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061F-1943-4506-8FA4-41ACB1CB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5720C-3071-4791-B42D-E2A2012D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E052-5BB0-4B47-9D5E-20F03163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BA939-196F-4C6F-BA9A-A857146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608D9-DCA1-4BEB-BDB3-6FB28AEC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FF5D1-81F3-4767-8E29-548D73A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30391-6581-4DA9-AA69-A9D57AA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B178C-584E-4113-8907-1AA7BDE9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018B2-F797-42EF-9D0C-758C51D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78840-A575-40F7-A825-3A308EB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F23F6-B8CA-4D93-A2A3-533785D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0038F-73D0-4A6B-8557-3DF0B0D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2ADB7-7F51-47F8-8848-F46E4DD3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8DF9-FD95-4642-913D-62BDA2AC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7DEC7-8F70-474C-A3BD-ABBF1CF2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F2BA4-A968-451B-B858-2CADD468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2A454-63FB-442E-94D9-CD6210B5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27F65-15DC-4740-ABAB-7DDB708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E66AD-7B26-40B7-97B3-A53AE643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C7226-8C9A-406F-BA54-E37D644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9AB2-7DCC-4334-B211-9EC0F4D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FA0B5-FCF8-4C86-9CF2-21FDB04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60CDC-62F8-41DA-8868-3EA92FB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3FFF7-7E6B-4971-86E1-D7AB5FA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2FD-B85C-481A-A5B5-31DF5C3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B694-F7AC-4930-A4D8-32CDC98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7326-B705-49F6-B2F7-F3255862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2967C-B599-4464-A077-CB612238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30769-1986-4317-93F3-9DEFBFB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83F05-F606-4A6C-BF33-DB50391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37EA1-F9C2-478F-80CA-A1E7687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2B551-8CBA-4879-A6D4-C6C266B0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619F0-2F92-4375-A687-5F79DD68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2CA90-2F75-41A9-A54D-80C76BD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64A1F-519D-42A5-A459-B7E73D9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BE8-796B-46AE-A345-AC33423E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D64CB-846C-467B-8E7A-4287D06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5E50E-6C4A-482B-8FB6-049DDC2D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21BD1-D7C9-4CC2-A76E-F253B950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D60C-3E20-4032-BB8A-9D8A898A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3A410-D6B8-48E3-A3E2-0A1CC6C9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9C795-85E3-449C-939C-17718D1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1571C-43E2-4963-B902-153A00B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E441A-AB0C-4C76-A465-2AE70A8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E8481-0187-45E2-92C6-97642CE9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2D9D4-B79D-4D65-A85F-D387A8D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2716-151D-4E09-B254-2B2D673C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9CF21-D195-471D-AD36-F47B0EF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201EB-92F0-4D06-9764-5C5AF2F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80313-2B7A-4C9C-AE8C-F60DFB89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4B211-6CE3-451C-836C-EEC3FC5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2F914-DAAB-49C8-A5D8-D408C943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326BA-0545-448E-B622-BFCCA921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EAB66-2EE3-42F1-B5D2-574BF567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5EC6D-3A09-4AB5-B3EC-634C8F39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0FD51-2D1E-4B8A-A1F0-6B677254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05FE8-8294-4947-82A4-F9B8552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2AC-6A3E-447C-9C7F-E87BC304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7AA95-D101-455A-A4D4-0E1C3D21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AE33D-9782-4B87-92F0-6F221C3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51157-2DF8-4168-B3C3-9F9B984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D03B7-CE59-4B4F-BD58-B82E0A3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DD9B6-ACDC-4862-B02B-67F543C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887EB-F767-4293-93A1-8D75D81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B76B5-8CAD-4060-B9F8-31B3860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77DCA-F899-4BE7-931F-9B38251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3A0D5-910B-4E82-BD9C-40CA3EB0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AE2CB-EE82-42B5-8EDC-A3F0918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799-ADB4-4C21-A1E8-1E9D39FD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1CB4F-3BD8-4331-8C18-947E4F0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EBDBF-987B-43E1-B8DD-0B3A6C63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40CAD-D8C4-4A86-B034-165E1743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1D43D-9657-4B1D-905C-448DF880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E7014-7E34-4E98-B1BA-14A12C0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02CDB-5876-4F0D-AD97-D41D9EB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7D88A-7670-45C8-9153-8B13AB6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5C614-B064-4C8B-A048-E13D525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16F96-53E5-4DF3-B978-7E663C0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24FE4-75BD-4DE7-A82C-1373D27E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3D47-35C7-4440-B804-C1ED6E1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20398-B453-4221-99DF-24E49B43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814FD-60A2-4CFF-8A5A-BBC0BB4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FA086-A8A4-48EF-9B6A-84F7796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34BC7-604C-4B38-B779-5DAE6681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F1696-2E2D-4A49-9604-E9374A6F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FA05A-61D0-487D-B665-2E40BFE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59313-8BA0-417C-B8A5-42C9324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A18CB-0307-4B6E-9075-99CDB6C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177AF-CB50-4E2D-8F57-FEAEDA4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E4815-58AA-4BC2-A642-DF6996F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013B-33D8-4FFA-BC42-01D388F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9F0C0-B316-41F0-8E02-053409E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573FB-762A-41A0-AB4B-4C364EA6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C043B-6FCE-444B-BD61-DD70C4EF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B1E83-8816-46D9-AFA5-8957E32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95455-50F4-4969-9554-A9A63BD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5FAB4-124B-44C2-BAD6-801AF87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B417E-8382-42B7-B4A5-1D523454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78527-CFFA-4800-A974-881483F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9477D-F69D-4C7F-B10A-0535178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588C5-CD65-49A0-8B0E-848BAD2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5392-4C6E-4870-BD56-083F488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828-97A6-4A72-A80C-AC685AE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BE21F-2361-458F-944C-30CFF89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E6C91-ABAA-476F-B27A-7C80A11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E0E35-8C36-4115-8ED1-A62D3E9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7F8AF-3D4C-47C3-A9DB-C77FEB5E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1F952-925F-4B1B-9279-4C1A9FD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B0F1-6686-47F9-82B1-05CD16B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E2E-CA35-4FE9-8B41-C1925765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4EA7-A2FA-42DC-83FC-051330E8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189-FE64-41E8-B413-ECC45563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30A0-E899-4826-A6B6-F4D9FF69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373E-7C23-49AE-8563-52C802D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8410-7B16-45A3-B754-D8D6E1A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CE2E-733D-4DAD-A44B-228FFD91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87C5-56F0-4708-BB29-D0486AC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EFB0-B332-4004-AE8E-24FCD65B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85CC-63D9-4757-92C1-D7E36920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45FD-83D4-4501-BF36-0777005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10A4-CCC3-4432-9A5A-6C508FE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3172-6EFB-4B35-B4FB-1C3F8FF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27FD-8098-4604-8F20-50342E99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7558-4463-46B9-B81C-5730479F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6B53-D61C-4F90-A6B9-72055C85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1818-FCBA-4CA5-8A31-6EFD225D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1016-4A2E-43F2-8820-D452593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C5A6-3B0E-4903-8F14-6BF5427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9702-0890-49AD-9014-EE12EB1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4AE9-7B58-4F07-83CF-63F4CC8C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581D-B212-4AA4-9319-204DC440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ABE1-3F8D-416A-9CC5-618EF5C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7ADC-8A35-4A48-9B0B-5EF0C98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CA28-5766-488D-86FE-03F3775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C080-7A7F-4298-84F6-D7F8A85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265E-55DB-4EE3-BC27-64EC15C6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CBEF-D366-4A86-991B-FC52AC30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3013-A0D3-41DE-A34E-F1FA6D64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FCA5-8EE5-4ADC-A1E8-ED6AD628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034B-E367-43A8-A6DB-DD7AD01A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F888-1891-4006-8AFB-3932DCB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929B-EE9B-4BD4-BE8B-E47815D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F801-ACDF-48F7-A89F-A9AF868C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7031-E736-468F-B3B3-02EA583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E845-89B1-4867-8E46-8595019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EEC0-A87E-47A0-9978-5F39AF7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D6BD-39DF-4F8D-B8EA-24F88D4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3DA2-4A63-4C9F-A4DA-17E2A9A1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E164-FE7A-4A93-BA15-B6E111D5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0DBE3-DE6E-4674-95EE-EF94E375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5D13-F34F-4BD5-B745-5B7AAF4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A7AA-B9DC-4740-82AD-37090B40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AF8C-E3A5-4DEC-AD50-49226D6A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C690-9D9A-4DDC-89E4-FEAA7296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601E-63F7-4407-B82E-6CF9DEBD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AA04-2672-4EAE-806F-6C5A9C75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2545-1BCC-4655-91EA-D26426D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0B27-4D90-4B8B-AF65-2569AC4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546A-4CE7-48EA-9B94-5A2CE67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D6C96-431A-4C49-A18C-6BE13B5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5BE4-F37B-483E-A396-5E46FE6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BDC5-72AD-4879-8D09-BE57C04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B867-6E0F-42E9-BFF4-34D872D3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C53B-AB7C-4D7B-B739-C5A5926B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7095-DDD9-40F0-B888-AEE82232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93AA-F09E-4A66-858E-6C0DCE1B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B8C9-D603-4F7D-8244-E68D495E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B2F6A-F937-4298-A7EC-65AF5E0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5E5C-27ED-4CB4-B4E0-BCADA3FC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05475-A875-4357-9B7B-EC2AA89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B6B2-C12F-42A1-BB9E-A5535D2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0626-125B-4428-89FF-AC20071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A763-8E30-4B40-AAD3-2D93AE3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A984-201B-4DDC-AA39-85BA0A2C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3CCE-1F52-4E32-A136-F931FF3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77558-184B-4F3A-ACFA-EDDF4F7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0A6B-8A91-459C-97BB-0992E2C2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F914-4471-4914-8E9B-377B786A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ADB6-0B8E-4AAA-B4CF-C441FA83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4997-53A1-4FA9-8199-192738B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53B9-C48E-4D50-99D3-637C2693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5D45-5BB5-47F1-A0D2-1B5AE4C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CF451-3215-4A16-99C3-24167A1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8D78-C7C6-4D4D-B91D-3FAA5B2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A8C3-E6C2-47B5-B97B-F6AF316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1996-50B6-4705-91B0-16EFCA6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9F933-A890-47DC-A09C-18F4FF8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32EF0-42D6-4745-96AD-CAA216A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2EF8-365B-4D7E-AD2D-66525152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31F9-F33D-479D-A703-8394B492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92552-B6A5-48DB-8E52-8EFD5025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6E284-F702-4C62-9681-943D0890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8504-6093-4D54-A8E1-F858352B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564B-83A9-4C2E-A306-7CFC32B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822-696D-4EC4-AAB9-7B283AB671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F80-5EEB-4EF9-AEBB-82E44ED68B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619" name="Group 3"/>
            <p:cNvGrpSpPr/>
            <p:nvPr/>
          </p:nvGrpSpPr>
          <p:grpSpPr>
            <a:xfrm>
              <a:off x="3484080" y="956160"/>
              <a:ext cx="945720" cy="709920"/>
              <a:chOff x="3484080" y="956160"/>
              <a:chExt cx="945720" cy="709920"/>
            </a:xfrm>
          </p:grpSpPr>
          <p:sp>
            <p:nvSpPr>
              <p:cNvPr id="620" name="Oval 4"/>
              <p:cNvSpPr/>
              <p:nvPr/>
            </p:nvSpPr>
            <p:spPr>
              <a:xfrm>
                <a:off x="3484080" y="9561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"/>
              <p:cNvSpPr/>
              <p:nvPr/>
            </p:nvSpPr>
            <p:spPr>
              <a:xfrm>
                <a:off x="3823920" y="12679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2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62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24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625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6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28" name="Group 12"/>
                  <p:cNvGrpSpPr/>
                  <p:nvPr/>
                </p:nvGrpSpPr>
                <p:grpSpPr>
                  <a:xfrm>
                    <a:off x="5761080" y="2321280"/>
                    <a:ext cx="2559600" cy="2739960"/>
                    <a:chOff x="5761080" y="2321280"/>
                    <a:chExt cx="2559600" cy="2739960"/>
                  </a:xfrm>
                </p:grpSpPr>
                <p:sp>
                  <p:nvSpPr>
                    <p:cNvPr id="629" name="Freeform 13"/>
                    <p:cNvSpPr/>
                    <p:nvPr/>
                  </p:nvSpPr>
                  <p:spPr>
                    <a:xfrm rot="2711400">
                      <a:off x="558360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0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1" name="Group 15"/>
                  <p:cNvGrpSpPr/>
                  <p:nvPr/>
                </p:nvGrpSpPr>
                <p:grpSpPr>
                  <a:xfrm>
                    <a:off x="5787720" y="2144160"/>
                    <a:ext cx="3039480" cy="2529720"/>
                    <a:chOff x="5787720" y="2144160"/>
                    <a:chExt cx="3039480" cy="2529720"/>
                  </a:xfrm>
                </p:grpSpPr>
                <p:sp>
                  <p:nvSpPr>
                    <p:cNvPr id="632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3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4" name="Group 18"/>
                  <p:cNvGrpSpPr/>
                  <p:nvPr/>
                </p:nvGrpSpPr>
                <p:grpSpPr>
                  <a:xfrm>
                    <a:off x="5774760" y="2061000"/>
                    <a:ext cx="3097800" cy="1993320"/>
                    <a:chOff x="5774760" y="2061000"/>
                    <a:chExt cx="3097800" cy="1993320"/>
                  </a:xfrm>
                </p:grpSpPr>
                <p:sp>
                  <p:nvSpPr>
                    <p:cNvPr id="635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6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7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638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9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0" name="Group 24"/>
                  <p:cNvGrpSpPr/>
                  <p:nvPr/>
                </p:nvGrpSpPr>
                <p:grpSpPr>
                  <a:xfrm>
                    <a:off x="5805720" y="1874880"/>
                    <a:ext cx="2939040" cy="1002960"/>
                    <a:chOff x="5805720" y="1874880"/>
                    <a:chExt cx="2939040" cy="1002960"/>
                  </a:xfrm>
                </p:grpSpPr>
                <p:sp>
                  <p:nvSpPr>
                    <p:cNvPr id="641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2" name="Freeform 26"/>
                    <p:cNvSpPr/>
                    <p:nvPr/>
                  </p:nvSpPr>
                  <p:spPr>
                    <a:xfrm rot="463200">
                      <a:off x="7685640" y="22082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3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644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5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6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647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8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9" name="Group 33"/>
                  <p:cNvGrpSpPr/>
                  <p:nvPr/>
                </p:nvGrpSpPr>
                <p:grpSpPr>
                  <a:xfrm>
                    <a:off x="2646360" y="2471760"/>
                    <a:ext cx="2556720" cy="2740680"/>
                    <a:chOff x="2646360" y="2471760"/>
                    <a:chExt cx="2556720" cy="2740680"/>
                  </a:xfrm>
                </p:grpSpPr>
                <p:sp>
                  <p:nvSpPr>
                    <p:cNvPr id="650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1" name="Freeform 35"/>
                    <p:cNvSpPr/>
                    <p:nvPr/>
                  </p:nvSpPr>
                  <p:spPr>
                    <a:xfrm flipH="1" rot="18888600">
                      <a:off x="2691360" y="42922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2" name="Group 36"/>
                  <p:cNvGrpSpPr/>
                  <p:nvPr/>
                </p:nvGrpSpPr>
                <p:grpSpPr>
                  <a:xfrm>
                    <a:off x="2084040" y="2365920"/>
                    <a:ext cx="3039480" cy="2531520"/>
                    <a:chOff x="2084040" y="2365920"/>
                    <a:chExt cx="3039480" cy="2531520"/>
                  </a:xfrm>
                </p:grpSpPr>
                <p:sp>
                  <p:nvSpPr>
                    <p:cNvPr id="653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4" name="Freeform 38"/>
                    <p:cNvSpPr/>
                    <p:nvPr/>
                  </p:nvSpPr>
                  <p:spPr>
                    <a:xfrm flipH="1" rot="19496400">
                      <a:off x="2167920" y="394020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5" name="Group 39"/>
                  <p:cNvGrpSpPr/>
                  <p:nvPr/>
                </p:nvGrpSpPr>
                <p:grpSpPr>
                  <a:xfrm>
                    <a:off x="2040120" y="2278080"/>
                    <a:ext cx="3097080" cy="1992240"/>
                    <a:chOff x="2040120" y="2278080"/>
                    <a:chExt cx="3097080" cy="1992240"/>
                  </a:xfrm>
                </p:grpSpPr>
                <p:sp>
                  <p:nvSpPr>
                    <p:cNvPr id="656" name="Freeform 40"/>
                    <p:cNvSpPr/>
                    <p:nvPr/>
                  </p:nvSpPr>
                  <p:spPr>
                    <a:xfrm flipH="1" rot="20017200">
                      <a:off x="3023640" y="27338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7" name="Freeform 41"/>
                    <p:cNvSpPr/>
                    <p:nvPr/>
                  </p:nvSpPr>
                  <p:spPr>
                    <a:xfrm flipH="1" rot="20017200">
                      <a:off x="2110320" y="3458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8" name="Group 42"/>
                  <p:cNvGrpSpPr/>
                  <p:nvPr/>
                </p:nvGrpSpPr>
                <p:grpSpPr>
                  <a:xfrm>
                    <a:off x="2010960" y="2185560"/>
                    <a:ext cx="3134160" cy="1607400"/>
                    <a:chOff x="2010960" y="2185560"/>
                    <a:chExt cx="3134160" cy="1607400"/>
                  </a:xfrm>
                </p:grpSpPr>
                <p:sp>
                  <p:nvSpPr>
                    <p:cNvPr id="659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0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1" name="Group 45"/>
                  <p:cNvGrpSpPr/>
                  <p:nvPr/>
                </p:nvGrpSpPr>
                <p:grpSpPr>
                  <a:xfrm>
                    <a:off x="2167560" y="2093400"/>
                    <a:ext cx="2937240" cy="1004040"/>
                    <a:chOff x="2167560" y="2093400"/>
                    <a:chExt cx="2937240" cy="1004040"/>
                  </a:xfrm>
                </p:grpSpPr>
                <p:sp>
                  <p:nvSpPr>
                    <p:cNvPr id="662" name="Freeform 46"/>
                    <p:cNvSpPr/>
                    <p:nvPr/>
                  </p:nvSpPr>
                  <p:spPr>
                    <a:xfrm flipH="1" rot="21136800">
                      <a:off x="3183480" y="221940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3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4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665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6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7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668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9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0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671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2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3" name="Group 57"/>
                  <p:cNvGrpSpPr/>
                  <p:nvPr/>
                </p:nvGrpSpPr>
                <p:grpSpPr>
                  <a:xfrm>
                    <a:off x="3161520" y="828000"/>
                    <a:ext cx="2169720" cy="1505880"/>
                    <a:chOff x="3161520" y="828000"/>
                    <a:chExt cx="2169720" cy="1505880"/>
                  </a:xfrm>
                </p:grpSpPr>
                <p:sp>
                  <p:nvSpPr>
                    <p:cNvPr id="674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60"/>
                  <p:cNvGrpSpPr/>
                  <p:nvPr/>
                </p:nvGrpSpPr>
                <p:grpSpPr>
                  <a:xfrm>
                    <a:off x="3437280" y="435240"/>
                    <a:ext cx="1987560" cy="1828440"/>
                    <a:chOff x="3437280" y="435240"/>
                    <a:chExt cx="1987560" cy="1828440"/>
                  </a:xfrm>
                </p:grpSpPr>
                <p:sp>
                  <p:nvSpPr>
                    <p:cNvPr id="677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62"/>
                    <p:cNvSpPr/>
                    <p:nvPr/>
                  </p:nvSpPr>
                  <p:spPr>
                    <a:xfrm flipH="1" rot="2664600">
                      <a:off x="3464280" y="66528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63"/>
                  <p:cNvGrpSpPr/>
                  <p:nvPr/>
                </p:nvGrpSpPr>
                <p:grpSpPr>
                  <a:xfrm>
                    <a:off x="4028400" y="324360"/>
                    <a:ext cx="1461600" cy="1895760"/>
                    <a:chOff x="4028400" y="324360"/>
                    <a:chExt cx="1461600" cy="1895760"/>
                  </a:xfrm>
                </p:grpSpPr>
                <p:sp>
                  <p:nvSpPr>
                    <p:cNvPr id="680" name="Freeform 64"/>
                    <p:cNvSpPr/>
                    <p:nvPr/>
                  </p:nvSpPr>
                  <p:spPr>
                    <a:xfrm flipH="1" rot="3474000">
                      <a:off x="4335840" y="144108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65"/>
                    <p:cNvSpPr/>
                    <p:nvPr/>
                  </p:nvSpPr>
                  <p:spPr>
                    <a:xfrm flipH="1" rot="3474000">
                      <a:off x="4033800" y="53496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66"/>
                  <p:cNvGrpSpPr/>
                  <p:nvPr/>
                </p:nvGrpSpPr>
                <p:grpSpPr>
                  <a:xfrm>
                    <a:off x="4448160" y="245520"/>
                    <a:ext cx="1122120" cy="1947240"/>
                    <a:chOff x="4448160" y="245520"/>
                    <a:chExt cx="1122120" cy="1947240"/>
                  </a:xfrm>
                </p:grpSpPr>
                <p:sp>
                  <p:nvSpPr>
                    <p:cNvPr id="683" name="Freeform 67"/>
                    <p:cNvSpPr/>
                    <p:nvPr/>
                  </p:nvSpPr>
                  <p:spPr>
                    <a:xfrm flipH="1" rot="4126800">
                      <a:off x="4555800" y="140256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68"/>
                    <p:cNvSpPr/>
                    <p:nvPr/>
                  </p:nvSpPr>
                  <p:spPr>
                    <a:xfrm flipH="1" rot="4126800">
                      <a:off x="441684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69"/>
                  <p:cNvGrpSpPr/>
                  <p:nvPr/>
                </p:nvGrpSpPr>
                <p:grpSpPr>
                  <a:xfrm>
                    <a:off x="5661720" y="948240"/>
                    <a:ext cx="2318760" cy="1112400"/>
                    <a:chOff x="5661720" y="948240"/>
                    <a:chExt cx="2318760" cy="1112400"/>
                  </a:xfrm>
                </p:grpSpPr>
                <p:sp>
                  <p:nvSpPr>
                    <p:cNvPr id="686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689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91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2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3" name="Group 77"/>
                  <p:cNvGrpSpPr/>
                  <p:nvPr/>
                </p:nvGrpSpPr>
                <p:grpSpPr>
                  <a:xfrm>
                    <a:off x="5358240" y="267840"/>
                    <a:ext cx="1191600" cy="1897560"/>
                    <a:chOff x="5358240" y="267840"/>
                    <a:chExt cx="1191600" cy="1897560"/>
                  </a:xfrm>
                </p:grpSpPr>
                <p:sp>
                  <p:nvSpPr>
                    <p:cNvPr id="694" name="Freeform 78"/>
                    <p:cNvSpPr/>
                    <p:nvPr/>
                  </p:nvSpPr>
                  <p:spPr>
                    <a:xfrm rot="17742000">
                      <a:off x="5089680" y="1413360"/>
                      <a:ext cx="130824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6" name="Group 80"/>
                  <p:cNvGrpSpPr/>
                  <p:nvPr/>
                </p:nvGrpSpPr>
                <p:grpSpPr>
                  <a:xfrm>
                    <a:off x="5350680" y="381600"/>
                    <a:ext cx="1889640" cy="1796760"/>
                    <a:chOff x="5350680" y="381600"/>
                    <a:chExt cx="1889640" cy="1796760"/>
                  </a:xfrm>
                </p:grpSpPr>
                <p:sp>
                  <p:nvSpPr>
                    <p:cNvPr id="697" name="Freeform 81"/>
                    <p:cNvSpPr/>
                    <p:nvPr/>
                  </p:nvSpPr>
                  <p:spPr>
                    <a:xfrm rot="18822600">
                      <a:off x="5250600" y="1380960"/>
                      <a:ext cx="142668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8" name="Freeform 82"/>
                    <p:cNvSpPr/>
                    <p:nvPr/>
                  </p:nvSpPr>
                  <p:spPr>
                    <a:xfrm rot="18822600">
                      <a:off x="6402960" y="57852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9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700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1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2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703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4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5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706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7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8" name="Group 92"/>
                  <p:cNvGrpSpPr/>
                  <p:nvPr/>
                </p:nvGrpSpPr>
                <p:grpSpPr>
                  <a:xfrm>
                    <a:off x="4507560" y="2694960"/>
                    <a:ext cx="876600" cy="2932560"/>
                    <a:chOff x="4507560" y="2694960"/>
                    <a:chExt cx="876600" cy="2932560"/>
                  </a:xfrm>
                </p:grpSpPr>
                <p:sp>
                  <p:nvSpPr>
                    <p:cNvPr id="709" name="Freeform 93"/>
                    <p:cNvSpPr/>
                    <p:nvPr/>
                  </p:nvSpPr>
                  <p:spPr>
                    <a:xfrm flipH="1" rot="16870800">
                      <a:off x="4084920" y="3483000"/>
                      <a:ext cx="189180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0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1" name="Group 95"/>
                  <p:cNvGrpSpPr/>
                  <p:nvPr/>
                </p:nvGrpSpPr>
                <p:grpSpPr>
                  <a:xfrm>
                    <a:off x="5678280" y="2479320"/>
                    <a:ext cx="2280600" cy="2955240"/>
                    <a:chOff x="5678280" y="2479320"/>
                    <a:chExt cx="2280600" cy="2955240"/>
                  </a:xfrm>
                </p:grpSpPr>
                <p:sp>
                  <p:nvSpPr>
                    <p:cNvPr id="712" name="Freeform 96"/>
                    <p:cNvSpPr/>
                    <p:nvPr/>
                  </p:nvSpPr>
                  <p:spPr>
                    <a:xfrm rot="3144000">
                      <a:off x="5415120" y="3247560"/>
                      <a:ext cx="2128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3" name="Freeform 97"/>
                    <p:cNvSpPr/>
                    <p:nvPr/>
                  </p:nvSpPr>
                  <p:spPr>
                    <a:xfrm rot="3144000">
                      <a:off x="680148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4" name="Group 98"/>
                  <p:cNvGrpSpPr/>
                  <p:nvPr/>
                </p:nvGrpSpPr>
                <p:grpSpPr>
                  <a:xfrm>
                    <a:off x="5646600" y="2591640"/>
                    <a:ext cx="1757880" cy="3031200"/>
                    <a:chOff x="5646600" y="2591640"/>
                    <a:chExt cx="1757880" cy="3031200"/>
                  </a:xfrm>
                </p:grpSpPr>
                <p:sp>
                  <p:nvSpPr>
                    <p:cNvPr id="715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6" name="Freeform 100"/>
                    <p:cNvSpPr/>
                    <p:nvPr/>
                  </p:nvSpPr>
                  <p:spPr>
                    <a:xfrm rot="3745200">
                      <a:off x="635220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7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718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9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0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721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2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3" name="Group 107"/>
                  <p:cNvGrpSpPr/>
                  <p:nvPr/>
                </p:nvGrpSpPr>
                <p:grpSpPr>
                  <a:xfrm>
                    <a:off x="4965120" y="2882520"/>
                    <a:ext cx="663480" cy="2719800"/>
                    <a:chOff x="4965120" y="2882520"/>
                    <a:chExt cx="663480" cy="2719800"/>
                  </a:xfrm>
                </p:grpSpPr>
                <p:sp>
                  <p:nvSpPr>
                    <p:cNvPr id="724" name="Freeform 108"/>
                    <p:cNvSpPr/>
                    <p:nvPr/>
                  </p:nvSpPr>
                  <p:spPr>
                    <a:xfrm rot="5755200">
                      <a:off x="4533480" y="366192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5" name="Freeform 109"/>
                    <p:cNvSpPr/>
                    <p:nvPr/>
                  </p:nvSpPr>
                  <p:spPr>
                    <a:xfrm rot="5755200">
                      <a:off x="4718880" y="492840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26" name="Group 110"/>
              <p:cNvGrpSpPr/>
              <p:nvPr/>
            </p:nvGrpSpPr>
            <p:grpSpPr>
              <a:xfrm>
                <a:off x="2174400" y="677880"/>
                <a:ext cx="6732720" cy="4525200"/>
                <a:chOff x="2174400" y="677880"/>
                <a:chExt cx="6732720" cy="4525200"/>
              </a:xfrm>
            </p:grpSpPr>
            <p:grpSp>
              <p:nvGrpSpPr>
                <p:cNvPr id="727" name="Group 111"/>
                <p:cNvGrpSpPr/>
                <p:nvPr/>
              </p:nvGrpSpPr>
              <p:grpSpPr>
                <a:xfrm>
                  <a:off x="2174400" y="677880"/>
                  <a:ext cx="6732720" cy="4525200"/>
                  <a:chOff x="2174400" y="677880"/>
                  <a:chExt cx="6732720" cy="4525200"/>
                </a:xfrm>
              </p:grpSpPr>
              <p:sp>
                <p:nvSpPr>
                  <p:cNvPr id="728" name="Arc 112"/>
                  <p:cNvSpPr/>
                  <p:nvPr/>
                </p:nvSpPr>
                <p:spPr>
                  <a:xfrm flipV="1">
                    <a:off x="5740560" y="851400"/>
                    <a:ext cx="3166560" cy="25286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Arc 113"/>
                  <p:cNvSpPr/>
                  <p:nvPr/>
                </p:nvSpPr>
                <p:spPr>
                  <a:xfrm flipH="1">
                    <a:off x="2561400" y="2268360"/>
                    <a:ext cx="24868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Arc 114"/>
                  <p:cNvSpPr/>
                  <p:nvPr/>
                </p:nvSpPr>
                <p:spPr>
                  <a:xfrm>
                    <a:off x="5818320" y="1747440"/>
                    <a:ext cx="1758240" cy="2938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Arc 115"/>
                  <p:cNvSpPr/>
                  <p:nvPr/>
                </p:nvSpPr>
                <p:spPr>
                  <a:xfrm flipH="1">
                    <a:off x="2174400" y="129384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Freeform 118"/>
                  <p:cNvSpPr/>
                  <p:nvPr/>
                </p:nvSpPr>
                <p:spPr>
                  <a:xfrm flipH="1">
                    <a:off x="4302000" y="82980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5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36" name="Group 120"/>
            <p:cNvGrpSpPr/>
            <p:nvPr/>
          </p:nvGrpSpPr>
          <p:grpSpPr>
            <a:xfrm>
              <a:off x="2343960" y="735120"/>
              <a:ext cx="6411960" cy="4712040"/>
              <a:chOff x="2343960" y="735120"/>
              <a:chExt cx="6411960" cy="4712040"/>
            </a:xfrm>
          </p:grpSpPr>
          <p:sp>
            <p:nvSpPr>
              <p:cNvPr id="737" name="Freeform 121"/>
              <p:cNvSpPr/>
              <p:nvPr/>
            </p:nvSpPr>
            <p:spPr>
              <a:xfrm flipH="1">
                <a:off x="4470840" y="32590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Arc 122"/>
              <p:cNvSpPr/>
              <p:nvPr/>
            </p:nvSpPr>
            <p:spPr>
              <a:xfrm flipH="1">
                <a:off x="3385440" y="260352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Arc 123"/>
              <p:cNvSpPr/>
              <p:nvPr/>
            </p:nvSpPr>
            <p:spPr>
              <a:xfrm flipH="1">
                <a:off x="3646800" y="214560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Arc 124"/>
              <p:cNvSpPr/>
              <p:nvPr/>
            </p:nvSpPr>
            <p:spPr>
              <a:xfrm flipH="1">
                <a:off x="2343600" y="176184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Arc 125"/>
              <p:cNvSpPr/>
              <p:nvPr/>
            </p:nvSpPr>
            <p:spPr>
              <a:xfrm>
                <a:off x="5588640" y="217404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Arc 126"/>
              <p:cNvSpPr/>
              <p:nvPr/>
            </p:nvSpPr>
            <p:spPr>
              <a:xfrm>
                <a:off x="5711760" y="216036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27"/>
              <p:cNvSpPr/>
              <p:nvPr/>
            </p:nvSpPr>
            <p:spPr>
              <a:xfrm>
                <a:off x="6155640" y="3571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28"/>
              <p:cNvSpPr/>
              <p:nvPr/>
            </p:nvSpPr>
            <p:spPr>
              <a:xfrm flipV="1" rot="19660800">
                <a:off x="5227200" y="297072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29"/>
              <p:cNvSpPr/>
              <p:nvPr/>
            </p:nvSpPr>
            <p:spPr>
              <a:xfrm flipH="1">
                <a:off x="2688120" y="340848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30"/>
              <p:cNvSpPr/>
              <p:nvPr/>
            </p:nvSpPr>
            <p:spPr>
              <a:xfrm flipH="1">
                <a:off x="3318840" y="142128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31"/>
              <p:cNvSpPr/>
              <p:nvPr/>
            </p:nvSpPr>
            <p:spPr>
              <a:xfrm>
                <a:off x="7513920" y="31320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32"/>
              <p:cNvSpPr/>
              <p:nvPr/>
            </p:nvSpPr>
            <p:spPr>
              <a:xfrm>
                <a:off x="6868800" y="213336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3"/>
              <p:cNvSpPr/>
              <p:nvPr/>
            </p:nvSpPr>
            <p:spPr>
              <a:xfrm>
                <a:off x="6937920" y="73512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34"/>
              <p:cNvSpPr/>
              <p:nvPr/>
            </p:nvSpPr>
            <p:spPr>
              <a:xfrm flipH="1" rot="1347000">
                <a:off x="4183920" y="21780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A4C-EDF5-4DB6-9B72-42D49EECB83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93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B96-70A8-47A7-8E41-91B9DAE92D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AF0-144E-462C-9061-B9D312B9D2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88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88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873-82B4-41EC-8E91-5C983E7B0A82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4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FD7-5691-4D6A-9BDF-7DB7B75460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85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7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88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2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4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4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4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6B7E-F9CF-4753-AB00-322D65EA0E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035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5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5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62C-8F4A-4103-AD1C-BA1C5D64FF5A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5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6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72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73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1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82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4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85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8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91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94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7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9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2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0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06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9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7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8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27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2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3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38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47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50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3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5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62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65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8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74C-D251-4261-9B71-B8AB7D0E93B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3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8B0-2E7D-4D9F-A55E-EE7489D30B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C8A4-2B76-40CF-BD8B-A74E7D1C89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3A28-35A7-4546-A888-45094BC2E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7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664E-6DAF-4C4A-9231-CAA72BA0AE3A}" type="slidenum"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8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782-6B34-4950-A893-DB88AD588A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6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9BF-5910-4C65-B5BF-B316E3C7D5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6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5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7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E82-09A9-462C-8E71-F1EC18886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1f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лшебный мир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женщины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1" name="Picture 7" descr="сканирование0015"/>
          <p:cNvPicPr/>
          <p:nvPr/>
        </p:nvPicPr>
        <p:blipFill>
          <a:blip r:embed="rId1"/>
          <a:stretch/>
        </p:blipFill>
        <p:spPr>
          <a:xfrm rot="20156400">
            <a:off x="1135080" y="1940040"/>
            <a:ext cx="2381400" cy="432108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1082" name="TextBox 9"/>
          <p:cNvSpPr/>
          <p:nvPr/>
        </p:nvSpPr>
        <p:spPr>
          <a:xfrm>
            <a:off x="3573360" y="3143160"/>
            <a:ext cx="48045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зентация на т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тделка и аксессу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швейных изделия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: учитель шв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«Школа – интернат № 3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йх Светлана Викт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Во  всем  блеске!!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5" name="Picture 4" descr="сканирование0059"/>
          <p:cNvPicPr/>
          <p:nvPr/>
        </p:nvPicPr>
        <p:blipFill>
          <a:blip r:embed="rId1"/>
          <a:srcRect l="0" t="-6887" r="0" b="0"/>
          <a:stretch/>
        </p:blipFill>
        <p:spPr>
          <a:xfrm>
            <a:off x="3276720" y="1268280"/>
            <a:ext cx="2089080" cy="55897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сканирование0061"/>
          <p:cNvPicPr/>
          <p:nvPr/>
        </p:nvPicPr>
        <p:blipFill>
          <a:blip r:embed="rId2"/>
          <a:stretch/>
        </p:blipFill>
        <p:spPr>
          <a:xfrm rot="1715400">
            <a:off x="6516720" y="3357360"/>
            <a:ext cx="1440000" cy="172080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7" name="Picture 7" descr="сканирование0060"/>
          <p:cNvPicPr/>
          <p:nvPr/>
        </p:nvPicPr>
        <p:blipFill>
          <a:blip r:embed="rId3"/>
          <a:stretch/>
        </p:blipFill>
        <p:spPr>
          <a:xfrm rot="21047400">
            <a:off x="971640" y="1773360"/>
            <a:ext cx="1657440" cy="1295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8" name="Picture 8" descr="сканирование0063"/>
          <p:cNvPicPr/>
          <p:nvPr/>
        </p:nvPicPr>
        <p:blipFill>
          <a:blip r:embed="rId4"/>
          <a:stretch/>
        </p:blipFill>
        <p:spPr>
          <a:xfrm rot="1818600">
            <a:off x="7075080" y="1790640"/>
            <a:ext cx="1108080" cy="881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9" name="Picture 9" descr="сканирование0062"/>
          <p:cNvPicPr/>
          <p:nvPr/>
        </p:nvPicPr>
        <p:blipFill>
          <a:blip r:embed="rId5"/>
          <a:stretch/>
        </p:blipFill>
        <p:spPr>
          <a:xfrm rot="20883600">
            <a:off x="1045800" y="3855960"/>
            <a:ext cx="1500120" cy="129384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Модно и эффектно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1" name="Picture 7" descr="сканирование0040"/>
          <p:cNvPicPr/>
          <p:nvPr/>
        </p:nvPicPr>
        <p:blipFill>
          <a:blip r:embed="rId1"/>
          <a:stretch/>
        </p:blipFill>
        <p:spPr>
          <a:xfrm>
            <a:off x="3714840" y="1785960"/>
            <a:ext cx="1974600" cy="4754520"/>
          </a:xfrm>
          <a:prstGeom prst="rect">
            <a:avLst/>
          </a:prstGeom>
          <a:ln w="31680">
            <a:solidFill>
              <a:srgbClr val="00ccff"/>
            </a:solidFill>
            <a:miter/>
          </a:ln>
        </p:spPr>
      </p:pic>
      <p:pic>
        <p:nvPicPr>
          <p:cNvPr id="1122" name="Picture 8" descr="сканирование0030"/>
          <p:cNvPicPr/>
          <p:nvPr/>
        </p:nvPicPr>
        <p:blipFill>
          <a:blip r:embed="rId2"/>
          <a:stretch/>
        </p:blipFill>
        <p:spPr>
          <a:xfrm>
            <a:off x="428760" y="1643040"/>
            <a:ext cx="2158920" cy="489744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123" name="Picture 10" descr="сканирование0037"/>
          <p:cNvPicPr/>
          <p:nvPr/>
        </p:nvPicPr>
        <p:blipFill>
          <a:blip r:embed="rId3"/>
          <a:stretch/>
        </p:blipFill>
        <p:spPr>
          <a:xfrm>
            <a:off x="7000920" y="1928880"/>
            <a:ext cx="1798560" cy="456228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24" name="Picture 17" descr=""/>
          <p:cNvPicPr/>
          <p:nvPr/>
        </p:nvPicPr>
        <p:blipFill>
          <a:blip r:embed="rId4"/>
          <a:stretch/>
        </p:blipFill>
        <p:spPr>
          <a:xfrm>
            <a:off x="7715160" y="642960"/>
            <a:ext cx="986040" cy="1079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енщина – красота и гармония!!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6" name="Picture 9" descr=""/>
          <p:cNvPicPr/>
          <p:nvPr/>
        </p:nvPicPr>
        <p:blipFill>
          <a:blip r:embed="rId1"/>
          <a:srcRect l="7317" t="7315" r="0" b="12156"/>
          <a:stretch/>
        </p:blipFill>
        <p:spPr>
          <a:xfrm>
            <a:off x="285840" y="5643720"/>
            <a:ext cx="77616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5" descr="сканирование0038"/>
          <p:cNvPicPr/>
          <p:nvPr/>
        </p:nvPicPr>
        <p:blipFill>
          <a:blip r:embed="rId2"/>
          <a:stretch/>
        </p:blipFill>
        <p:spPr>
          <a:xfrm>
            <a:off x="1214280" y="1500120"/>
            <a:ext cx="2160720" cy="4942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7" descr="сканирование0049"/>
          <p:cNvPicPr/>
          <p:nvPr/>
        </p:nvPicPr>
        <p:blipFill>
          <a:blip r:embed="rId3"/>
          <a:stretch/>
        </p:blipFill>
        <p:spPr>
          <a:xfrm>
            <a:off x="4214880" y="1571760"/>
            <a:ext cx="1272960" cy="4935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8" descr="сканирование0050"/>
          <p:cNvPicPr/>
          <p:nvPr/>
        </p:nvPicPr>
        <p:blipFill>
          <a:blip r:embed="rId4"/>
          <a:stretch/>
        </p:blipFill>
        <p:spPr>
          <a:xfrm>
            <a:off x="6588000" y="1628640"/>
            <a:ext cx="1397160" cy="4824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сканирование0001"/>
          <p:cNvPicPr/>
          <p:nvPr/>
        </p:nvPicPr>
        <p:blipFill>
          <a:blip r:embed="rId1"/>
          <a:stretch/>
        </p:blipFill>
        <p:spPr>
          <a:xfrm rot="20722200">
            <a:off x="874440" y="1528560"/>
            <a:ext cx="2933640" cy="504000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084" name="Picture 6" descr="сканирование0003"/>
          <p:cNvPicPr/>
          <p:nvPr/>
        </p:nvPicPr>
        <p:blipFill>
          <a:blip r:embed="rId2"/>
          <a:stretch/>
        </p:blipFill>
        <p:spPr>
          <a:xfrm rot="1171200">
            <a:off x="6875280" y="2205000"/>
            <a:ext cx="1728720" cy="223056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1085" name="WordArt 8"/>
          <p:cNvSpPr txBox="1"/>
          <p:nvPr/>
        </p:nvSpPr>
        <p:spPr>
          <a:xfrm>
            <a:off x="500040" y="214200"/>
            <a:ext cx="8424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205f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ы - во всем своём великолепии</a:t>
            </a:r>
            <a:endParaRPr b="0" lang="en-US" sz="4000" spc="1" strike="noStrike">
              <a:ln w="0">
                <a:noFill/>
              </a:ln>
              <a:solidFill>
                <a:srgbClr val="2205f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43a0c"/>
                </a:solidFill>
                <a:latin typeface="Arial"/>
              </a:rPr>
              <a:t>Ваш стиль – изысканная простота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5" descr="сканирование0004"/>
          <p:cNvPicPr/>
          <p:nvPr/>
        </p:nvPicPr>
        <p:blipFill>
          <a:blip r:embed="rId1"/>
          <a:stretch/>
        </p:blipFill>
        <p:spPr>
          <a:xfrm rot="1806600">
            <a:off x="6659640" y="2997000"/>
            <a:ext cx="1806480" cy="23414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88" name="Picture 6" descr="сканирование0006"/>
          <p:cNvPicPr/>
          <p:nvPr/>
        </p:nvPicPr>
        <p:blipFill>
          <a:blip r:embed="rId2"/>
          <a:stretch/>
        </p:blipFill>
        <p:spPr>
          <a:xfrm>
            <a:off x="3203640" y="2133720"/>
            <a:ext cx="2305080" cy="38890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1089" name="Picture 8" descr="j0281904"/>
          <p:cNvPicPr/>
          <p:nvPr/>
        </p:nvPicPr>
        <p:blipFill>
          <a:blip r:embed="rId3"/>
          <a:stretch/>
        </p:blipFill>
        <p:spPr>
          <a:xfrm rot="19938000">
            <a:off x="527040" y="2890440"/>
            <a:ext cx="2041560" cy="19303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p:transition advTm="3000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Интересный  нюан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1" name="Picture 5" descr="сканирование0016"/>
          <p:cNvPicPr/>
          <p:nvPr/>
        </p:nvPicPr>
        <p:blipFill>
          <a:blip r:embed="rId1"/>
          <a:stretch/>
        </p:blipFill>
        <p:spPr>
          <a:xfrm rot="1017000">
            <a:off x="5598720" y="1609200"/>
            <a:ext cx="2600280" cy="42912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092" name="Picture 6" descr="сканирование0017"/>
          <p:cNvPicPr/>
          <p:nvPr/>
        </p:nvPicPr>
        <p:blipFill>
          <a:blip r:embed="rId2"/>
          <a:stretch/>
        </p:blipFill>
        <p:spPr>
          <a:xfrm rot="19779600">
            <a:off x="1187280" y="1557000"/>
            <a:ext cx="2737080" cy="4338720"/>
          </a:xfrm>
          <a:prstGeom prst="rect">
            <a:avLst/>
          </a:prstGeom>
          <a:ln w="31680">
            <a:solidFill>
              <a:srgbClr val="ee941c"/>
            </a:solidFill>
            <a:miter/>
          </a:ln>
        </p:spPr>
      </p:pic>
    </p:spTree>
  </p:cSld>
  <p:transition advTm="3000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ьше   крас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4" name="Picture 4" descr="сканирование0009"/>
          <p:cNvPicPr/>
          <p:nvPr/>
        </p:nvPicPr>
        <p:blipFill>
          <a:blip r:embed="rId1"/>
          <a:stretch/>
        </p:blipFill>
        <p:spPr>
          <a:xfrm rot="21058800">
            <a:off x="461520" y="1774800"/>
            <a:ext cx="2313000" cy="42498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5" name="Picture 5" descr="сканирование0012"/>
          <p:cNvPicPr/>
          <p:nvPr/>
        </p:nvPicPr>
        <p:blipFill>
          <a:blip r:embed="rId2"/>
          <a:stretch/>
        </p:blipFill>
        <p:spPr>
          <a:xfrm rot="20674200">
            <a:off x="3247560" y="4586040"/>
            <a:ext cx="1892520" cy="15145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6" name="Picture 6" descr="сканирование0010"/>
          <p:cNvPicPr/>
          <p:nvPr/>
        </p:nvPicPr>
        <p:blipFill>
          <a:blip r:embed="rId3"/>
          <a:stretch/>
        </p:blipFill>
        <p:spPr>
          <a:xfrm rot="889200">
            <a:off x="6134040" y="1365120"/>
            <a:ext cx="2400480" cy="50720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</p:spTree>
  </p:cSld>
  <p:transition advTm="3000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553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Мой  любимый  костю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98" name="Picture 4" descr="сканирование0019"/>
          <p:cNvPicPr/>
          <p:nvPr/>
        </p:nvPicPr>
        <p:blipFill>
          <a:blip r:embed="rId1"/>
          <a:stretch/>
        </p:blipFill>
        <p:spPr>
          <a:xfrm rot="21073200">
            <a:off x="393480" y="2055960"/>
            <a:ext cx="2162160" cy="4027320"/>
          </a:xfrm>
          <a:prstGeom prst="rect">
            <a:avLst/>
          </a:prstGeom>
          <a:ln w="31680">
            <a:solidFill>
              <a:srgbClr val="800080"/>
            </a:solidFill>
            <a:miter/>
          </a:ln>
        </p:spPr>
      </p:pic>
      <p:pic>
        <p:nvPicPr>
          <p:cNvPr id="1099" name="Picture 7" descr="сканирование"/>
          <p:cNvPicPr/>
          <p:nvPr/>
        </p:nvPicPr>
        <p:blipFill>
          <a:blip r:embed="rId2"/>
          <a:stretch/>
        </p:blipFill>
        <p:spPr>
          <a:xfrm>
            <a:off x="3571920" y="1500120"/>
            <a:ext cx="2084400" cy="465300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00" name="Picture 8" descr="Untitled-Scanned-03"/>
          <p:cNvPicPr/>
          <p:nvPr/>
        </p:nvPicPr>
        <p:blipFill>
          <a:blip r:embed="rId3"/>
          <a:stretch/>
        </p:blipFill>
        <p:spPr>
          <a:xfrm rot="815400">
            <a:off x="6537240" y="1472760"/>
            <a:ext cx="211932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иль, воплощенный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блестящем шел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2" name="Picture 4" descr="Untitled-Scanned-01"/>
          <p:cNvPicPr/>
          <p:nvPr/>
        </p:nvPicPr>
        <p:blipFill>
          <a:blip r:embed="rId1"/>
          <a:stretch/>
        </p:blipFill>
        <p:spPr>
          <a:xfrm rot="21018600">
            <a:off x="684360" y="1915920"/>
            <a:ext cx="2165040" cy="44956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3" name="Picture 6" descr="сканирование0023"/>
          <p:cNvPicPr/>
          <p:nvPr/>
        </p:nvPicPr>
        <p:blipFill>
          <a:blip r:embed="rId2"/>
          <a:stretch/>
        </p:blipFill>
        <p:spPr>
          <a:xfrm>
            <a:off x="3421080" y="1844640"/>
            <a:ext cx="1798560" cy="360360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1104" name="Picture 7" descr="сканирование0021"/>
          <p:cNvPicPr/>
          <p:nvPr/>
        </p:nvPicPr>
        <p:blipFill>
          <a:blip r:embed="rId3"/>
          <a:stretch/>
        </p:blipFill>
        <p:spPr>
          <a:xfrm rot="921000">
            <a:off x="6156000" y="1844280"/>
            <a:ext cx="2306520" cy="444672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быть ХОРОШО  оде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6" name="Picture 5" descr="сканирование0055"/>
          <p:cNvPicPr/>
          <p:nvPr/>
        </p:nvPicPr>
        <p:blipFill>
          <a:blip r:embed="rId1"/>
          <a:stretch/>
        </p:blipFill>
        <p:spPr>
          <a:xfrm rot="737400">
            <a:off x="6659280" y="1557360"/>
            <a:ext cx="1920960" cy="451008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  <p:pic>
        <p:nvPicPr>
          <p:cNvPr id="1107" name="Picture 6" descr="сканирование0057"/>
          <p:cNvPicPr/>
          <p:nvPr/>
        </p:nvPicPr>
        <p:blipFill>
          <a:blip r:embed="rId2"/>
          <a:stretch/>
        </p:blipFill>
        <p:spPr>
          <a:xfrm>
            <a:off x="3500280" y="1928880"/>
            <a:ext cx="2087640" cy="41767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8" name="Picture 7" descr="сканирование0058"/>
          <p:cNvPicPr/>
          <p:nvPr/>
        </p:nvPicPr>
        <p:blipFill>
          <a:blip r:embed="rId3"/>
          <a:stretch/>
        </p:blipFill>
        <p:spPr>
          <a:xfrm rot="21167400">
            <a:off x="325440" y="2274480"/>
            <a:ext cx="1798560" cy="417672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p:transition advTm="3000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0" name="Picture 4" descr="сканирование0051"/>
          <p:cNvPicPr/>
          <p:nvPr/>
        </p:nvPicPr>
        <p:blipFill>
          <a:blip r:embed="rId1"/>
          <a:stretch/>
        </p:blipFill>
        <p:spPr>
          <a:xfrm rot="700200">
            <a:off x="6372360" y="2349360"/>
            <a:ext cx="2146320" cy="4057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сканирование0046"/>
          <p:cNvPicPr/>
          <p:nvPr/>
        </p:nvPicPr>
        <p:blipFill>
          <a:blip r:embed="rId2"/>
          <a:srcRect l="0" t="-5264" r="0" b="0"/>
          <a:stretch/>
        </p:blipFill>
        <p:spPr>
          <a:xfrm rot="20781600">
            <a:off x="755280" y="1988640"/>
            <a:ext cx="1758960" cy="43135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12" name="Picture 6" descr="сканирование0044"/>
          <p:cNvPicPr/>
          <p:nvPr/>
        </p:nvPicPr>
        <p:blipFill>
          <a:blip r:embed="rId3"/>
          <a:stretch/>
        </p:blipFill>
        <p:spPr>
          <a:xfrm>
            <a:off x="3419640" y="1916280"/>
            <a:ext cx="2295360" cy="46432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1113" name="AutoShape 9"/>
          <p:cNvSpPr/>
          <p:nvPr/>
        </p:nvSpPr>
        <p:spPr>
          <a:xfrm>
            <a:off x="1835280" y="333360"/>
            <a:ext cx="6984720" cy="1584360"/>
          </a:xfrm>
          <a:custGeom>
            <a:avLst/>
            <a:gdLst>
              <a:gd name="textAreaLeft" fmla="*/ 0 w 6984720"/>
              <a:gd name="textAreaRight" fmla="*/ 6985080 w 698472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00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ассика и роман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57:43Z</dcterms:created>
  <dc:creator>User</dc:creator>
  <dc:description/>
  <dc:language>en-US</dc:language>
  <cp:lastModifiedBy>Светлана</cp:lastModifiedBy>
  <dcterms:modified xsi:type="dcterms:W3CDTF">2013-10-21T13:27:51Z</dcterms:modified>
  <cp:revision>17</cp:revision>
  <dc:subject/>
  <dc:title>Слайд 1</dc:title>
</cp:coreProperties>
</file>