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6A8D-E51F-4523-8CF2-35D52964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8369-A1FE-47C8-B658-91623E8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38FD3-A85D-45E1-928D-14B913E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B761-CCEC-4320-86D0-C1B71762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0C9EF-621F-4667-B33B-55AB3EF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D27D-418A-41AC-9BE9-1763F4A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6D897-BFC4-496A-B521-981822C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27FDD-85F0-45ED-9B45-B6B40C16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BF317-A248-4D28-9155-11BA6781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74F52-9214-4168-9582-82A95321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1414-694B-4957-9837-E770C372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88557-4438-49F9-BAB8-BECF0076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0262-3DA9-4C5C-AAD6-AB1A3DF4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81FD-1863-4D94-B7DC-78E3F9C0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488F6-38CA-4763-BA8C-9F34926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677DF-94B7-42EC-8264-7B430DD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427DC-F784-4913-B676-D11C13D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A0690-C31B-4896-9CC2-2A99C6F2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94BF6-AD94-4E09-869C-9E8C7E9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0EE13-C02E-4DEF-B01B-6B1FD64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6766C-E612-4D21-BD82-7F8FBE5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E3148-7472-449F-BA5C-93FD427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EF054-745F-436E-A8EF-A3AAA7BD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2AE1-A122-4BEE-A541-03F1F22B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D5254-2852-46EA-A131-F1D2C484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D258-FEE3-4822-ABA5-4BE6E229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12C9-9E9D-4837-BC78-E129B0C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B61-400E-424E-B2B1-00946BE7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FEE-9B0A-4B80-870A-9AFD4F6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ADB9-4BA7-4218-88A1-04D865A1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0340-EC36-4B0B-8C4C-E6A69DB2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242E-E34F-44B4-B336-AA56585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1557-34E0-43D6-B6C9-3CA8E978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E0D9-8C8B-446D-8A27-0D952FD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2D92-A353-4F84-B99A-BE572D7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11A-CFB1-448C-B305-BDB9F6CD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E79-F7D0-4DCF-96C1-C92DB3B3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798B-2021-4198-A3B2-1267D32B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AF33-0FA4-4A73-AE2F-E0D3C516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036F-2396-48BC-8CB9-967DC051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6E1D-8E14-4008-92B2-D9D7823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B60E-8E91-44B4-9AF2-9729FA6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1B03-2EF1-4ACD-8529-7CFA970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7FA2-F633-45CD-A2EB-754F99C6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4A77-CD0B-4C1D-A2AF-1D14BDA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143C-76FA-460C-9888-356E3085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B9B5-E4A1-4C32-95DB-E78348B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29BF-79C4-4331-AD69-EED8F88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535C-14D0-453C-A9F8-4AD72F20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3257-C43F-46C3-86E4-44CD9CF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9B09B-19BE-4A87-86F1-21DB3E8C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2656-9B08-43BC-8B46-303725FF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DEAB-4910-42D8-ADB0-2AFC05B8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19D9-5819-4580-B935-746B5C9D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F06B-D40B-4E0A-AD00-394CB9EB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EA6E4-0934-4B73-AD38-8FEEC34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28B79-D94B-4CAA-9DA6-DB5C5D7B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771D2-7DA4-4DEB-A35D-2CBB8A7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0552-CA7B-4E05-99ED-61B438F3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2DEC-3F34-465F-98F5-E1DF7BFA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884B-5E07-42E9-920C-B87F27D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B4C4F-E562-49D6-B8BE-5B38273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F02C-2435-47FB-B2A8-5FCCB6F5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3FAF-D978-4BE2-915E-EF9A708E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1FB1-7541-44F6-BBA5-7BC0B7AA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48E6-0E2E-48C4-9550-BA2E763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6E4F-E152-4F72-AC1A-743C775D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3E89-5B3C-4A3E-9772-704D6B7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94F4C-457B-459D-87AC-EF6A832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CC70-2A82-4817-952E-9B3EA70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BAFD-ED7A-41B3-9C3F-DE4910A4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C4707-FAD9-40D3-810F-E91FCF9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45C7-E052-4983-BF4C-65F7C9C0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FAC0-0E33-47A8-9E6B-7AA5A53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BBB9-D628-487E-809A-255B083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65A5-DFC6-4FCD-886E-726CB2D6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9ADF-1A6D-40CC-A313-57AE2D7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D5D5-56B3-4346-AAA1-B8E5960D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A4F9D-F255-412D-97F7-E40C3D55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7110-7583-4292-A0F3-4BFD0D42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A706-5AF2-4606-8100-713F7B73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07CCC-2EC1-4BC3-B4D4-050A1A9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CE89-E4D3-46A5-94F3-8BBCEB6C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4B62-43C6-42A8-8380-19236368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DE5E-00B0-4B82-9FE0-82CF206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A96E-E673-4EA2-99D8-371BB34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89FB-B1DD-4915-93D3-5333212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AF7F-A717-4874-80A1-C91B193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2616-DBDB-421C-A476-93A4EA14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6048-9BE4-4043-822B-5C8F02A7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9DF0-B326-47C9-ACAC-30C24826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652F-A273-4DE4-9B2B-D2181DAD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6A58-29D6-4CF7-BE28-0986B51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5AFC-3323-49B9-9926-22104AB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D952-D6E8-41B8-86A3-91AFA58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3F08-F358-467B-AF79-81CDF03F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B8A1-74DB-413D-8ECF-935EDC8E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13E0-A0E2-454C-84FF-005AB91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DA40-00AC-4711-A5FA-6736B23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6DE5-C8EF-4CEE-8F9C-807850A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F5BDC-4083-426D-A18C-5B5623D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3B2C2-AFAE-4A38-A635-6D72A9D6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E5626-3435-422B-B278-4B9FAD3E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05DA-A1CE-4D0A-816C-3A8F533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A17A-ADD4-4011-8512-3D81E92F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074E-94CB-445D-A5CA-572BB22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BD29-7006-4B2F-A146-2A13E9F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6A6E-43BF-4DFF-8196-A455A7D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C732-0707-4B4E-92C3-2BC8FF65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68E5-58AD-4904-8B81-5C0E451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BDE7B-26F1-448E-A59D-9406116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334F6-AB73-4FD3-A21F-96ADAE59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6E3A5-5DC5-40E6-B4F8-CF47F742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4C12-3796-40D7-A567-4AB72D9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736E4-B998-41C7-8530-3369057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00DF-AEA2-4FFA-BE76-45B2E333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5A00-CBD0-4B79-863F-6CB4212E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EE97C-95B7-47E7-866B-D61A53DD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6F21E-D51D-4670-82EB-AF8894C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C548-490E-4BC0-A306-84F1B028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F1F-06A5-424D-98FD-12473278F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5002-9649-4331-8BDF-A885971CDE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252-5DFB-4DA3-8A80-C156B0583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FFC-32B3-4C03-9EC3-3A74A6DE96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C81-BC85-4CC5-A555-72AD0F9D70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24A1-E1DB-4E3D-BF7E-A2145E71A7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7BC-E466-4F52-AA43-A96268EEFC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9121-18D4-42D9-9443-F0440C2413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F9B-C8D3-4CEF-A37D-C244395D79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5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1F2-64CB-49B2-9632-C195E7D50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МУНИЦИПАЛЬНОЕ ОБЩЕОБРАЗОВАТЕЛЬНОЕ УЧЕРЕЖДЕНИЕ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ТОГУРСКАЯ СРЕДНЯЯ ОБЩЕОБРАЗОВАТЕЛЬНАЯ ШК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Влияние музыки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(Научно-исследовательская рабо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Выполнил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Аверьянов А. 10А клас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Руководитель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Дробышева М. А., учит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ехнологии и основ проектир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квалификационной категор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огур 2009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характеру испол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каме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о-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хоро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со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электр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фортепианная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отличительным свойствам музыкальной фактуры и композиторской тех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олифон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ом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монод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етер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оно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ерийная и т.п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ff"/>
                </a:solidFill>
                <a:latin typeface="Verdana"/>
              </a:rPr>
              <a:t>Что такое звук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0000"/>
                </a:solidFill>
                <a:latin typeface="Times New Roman"/>
              </a:rPr>
              <a:t>Звуки бывают разные: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высокие и низ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короткие и долг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приглушенные и гром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ясны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Строение ух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ружно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шная раковин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проход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арабанная перепо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ред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ость среднего ух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ая труба; косточки среднего уха: молоточ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коваль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б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еч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нутрен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литк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нер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стибулярный аппарат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дверие с мешочками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кружные кан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267000"/>
          </a:xfrm>
          <a:prstGeom prst="rect">
            <a:avLst/>
          </a:prstGeom>
          <a:ln w="0">
            <a:noFill/>
          </a:ln>
        </p:spPr>
      </p:pic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Целебные свойства музыки в Древние Време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pевности выделяли 3 напpавления влияния мyзыки на человеческий оpганиз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дyховнyю сyщность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интелл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физическое т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-3610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ff"/>
                </a:solidFill>
                <a:latin typeface="Arial"/>
              </a:rPr>
              <a:t>Музыкотерапия - одно из наиболее интересных и пока малоисследованных направлений традиционной медицины.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ff"/>
                </a:solidFill>
                <a:latin typeface="Times New Roman"/>
              </a:rPr>
              <a:t>Выделяют четыре основных направления лечебного действия музыкотерап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оциональное активирование в ходе вербальной психотерап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навыков межличностного общения (коммуникативных функций и способносте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улирующее влияние на психовегетативные процесс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ение эстетических потреб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уховное развитие личности через музыкальную культуру как одна из форм здорового образа жизн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анализ анкеты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и статистических данных Тогурской ДШИ)</a:t>
            </a:r>
            <a:r>
              <a:rPr b="0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Результаты социологического опроса проведенного учеными в 2001году «Музыкальные вкусы сегодняшней молодежи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ыявил углубляющиеся односторонние вкусы школьников в области эстрадной развлекательн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6% анкетируемых предпочитают отечественную эстраду с такими певцами, как Алсу, Губин, группа «Руки вверх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32% - за зарубежную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18% - классическую и тол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% - народную музы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Беседа с заместителем директора по УР Тогурской ДШИ Крикуновой Н. Н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данное время музыкальное отделение ДШИ посещают 153 ученика, что составляет  примерно 17,1% всех детей Тогура школьного возраст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“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Наполним музыкой 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     сердца</a:t>
            </a: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Calibri"/>
              </a:rPr>
              <a:t>Ю. Визбо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Статистические данные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 последние 5 ле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огурскую ДШИ на музыкальное отделение поступило 775 человек; выпустилось – 124 человека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разным причинам были исключены – 28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есть выпускники, которые связали свою дальнейшую жизнь с музыкой – 35 человек, т.е. стали певцами, музыкантами, учителями музыки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Times New Roman"/>
              </a:rPr>
              <a:t>Цель социологического опроса учащихся Тогурской СОШ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изучение музыкальных вкусов сегодняшней молодёж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Результаты социологического опроса учащихс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ыло опрошено более 50 человек от 14 до 18л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ос показал, что 84% опрошенных в той или иной степени увлекаются музы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числа опрошенных 78,9% учатся или учились в музыкальной шк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Что для Вас есть музыка? »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дых, вдохновение, настроение, отвлечение от проблем – 31,6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знь, всё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обби, увлечение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слушать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танцевать – 10,5%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Играете ли Вы на музыкальном инструменте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,3% опрошенных учащихся, умеют играть на каком - либо музыкальном инструмент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ыми распространенными музыкальными инструментами стали: гитара – 30%, баян – 20%, фортепиано – 2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опрос: «Какую музыку Вы слушаете для поднятия настроения?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койную- 6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грессивную - 2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ип-хоп, рэп - 15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ную, поп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опрос: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ой жанр музыки Вам больше нравится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временная популярная музыка 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7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к - 31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ическая европейская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лектронная – 21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жаз и народная музыка - 10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ховная музыка – 5,2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Вопрос: «Какие музыкальная (-ые) группа (-ы) или певец (певцы) Вам нравится (-ятся)»?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-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i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50 центо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 Floy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 Pistol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н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и-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утилус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ис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ет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с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лотое кольцо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Вывод: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Как гимнастика выпрямляет тело, так музыка выпрямляет душу человека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До свидания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4280" cy="484020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endshow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Цель работы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996600"/>
                </a:solidFill>
                <a:latin typeface="Times New Roman"/>
              </a:rPr>
              <a:t>выяснить, как влияет музыка на организм челове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одобрать и изучить литературу о происхождении и видах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Разобраться в механизме воздействия музыки на человека, попытаться раскрыть и объяснить особенности реакции человеческого организма от прослушивания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утём опроса учащихся нашей школы выявить музыкальные вкусы сегодняшней молодёж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роанализировать статистические данные о работе Тогурской ДШИ за последние 5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Times New Roman"/>
              </a:rPr>
              <a:t>Апполон –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окровитель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-main-pic" descr="Картинка 2 из 58"/>
          <p:cNvPicPr/>
          <p:nvPr/>
        </p:nvPicPr>
        <p:blipFill>
          <a:blip r:embed="rId1"/>
          <a:stretch/>
        </p:blipFill>
        <p:spPr>
          <a:xfrm>
            <a:off x="4711680" y="1523880"/>
            <a:ext cx="4110120" cy="518184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-main-pic" descr="Картинка 15 из 17"/>
          <p:cNvPicPr/>
          <p:nvPr/>
        </p:nvPicPr>
        <p:blipFill>
          <a:blip r:embed="rId1"/>
          <a:stretch/>
        </p:blipFill>
        <p:spPr>
          <a:xfrm>
            <a:off x="228600" y="1447920"/>
            <a:ext cx="4081320" cy="5029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Times New Roman"/>
              </a:rPr>
              <a:t>Орфей –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прекрасный пе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узыкальная культура Африки, Азии и Латинской Америки, в которых доминирующая роль принадлежит телодвижениям, ритму, ударности, и преобладают ударные музыкальные инструменты.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64796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лово «музыка» –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греческого происхождения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ческая (или серьезн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европейская (неевропей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ническая (и традицион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дная (или лег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нгардная (эксперимента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ьтерн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виды музыки по среде их обитания и функци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воен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церковна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религиоз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еатр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анцев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киному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и т.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09-01-30T12:47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