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BFDA-A6E7-4865-BACF-EE051A05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F349-187B-4DD1-A982-87B83D6C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E647F-33FB-4ADF-BBC1-D86B7C1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45338-6F3E-4A33-9B68-EDFC50E6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ABBB3-7BEE-4A8B-BA61-5F0D5DBE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8EF9-6B8F-491D-B841-14F4C54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53D7-C442-4E56-8F00-A469AB7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4156E-235C-405A-96A7-AFD73C1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CBEBA-D92E-4277-BC26-10E102F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C87C2-9BAF-412C-9253-3B6524A5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8B472-E93B-4C40-876D-ECDDDDBF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569D-DBEC-4DBB-9A08-2BBE56C6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2983D-D748-4314-9FF7-5675D16C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F54EB-6AE0-436A-9350-5F19176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FCAD9-7890-40F1-9187-8AD2C29E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5D185-ECBA-4302-AC4D-DE3853C7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C4051-DBC0-4885-BD7F-E4AA3D1E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C6D50-4490-4E00-9AC3-936AA6E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3D08B-9177-4188-B2B0-5A4AD3AF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8CAE8-0668-4EE0-85DD-D1BFA84A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3566A-D6B4-4F45-B19D-5C67D9F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E3120-CCFE-4A1C-B315-CD7F0F98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F77EA-8B8F-4998-A218-300CF62F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A128-1345-4360-8D1F-80EC158D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D6BC8-AFB8-47F8-8A61-484739EE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2729-67A7-4EDD-BF35-976F776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8B3-D47F-4DB8-8EFF-C979ACB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84B4-9EC4-49ED-A461-4BF9EB3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B1C-AE53-4272-AC56-75003ABE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731E-155F-4EE2-A115-2CE5960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13E-6488-4040-BA2D-38498150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E1A5-5F82-4295-9CCA-4D553FD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0988-709E-4F32-BE9A-204BAEAF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8546-8259-43FC-B0C1-1C92EDE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76C4-3D96-4815-807B-F8088F9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61FC-44E9-48CF-90E2-4B69D951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FD55-CAC7-42C8-9BA1-64F874FE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763C-80A6-4A70-B5A8-9C1012C8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9B07-3864-435A-BCB3-CA0F61F5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70BB-5819-4848-9B9F-3BFB404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3324-7D65-4FDE-ABC8-AB39C20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98B4-5548-4071-8D58-E4092505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59AD-221F-4968-8509-0042C83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33D7-A737-4FE3-BE53-7273F2EE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201F-084D-4815-BDA6-6DFC263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59C0-6393-4376-B0C0-AF27BF3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EA27-9703-4ABC-A41A-F362EBE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94C4-120F-4DFA-B388-88721CF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1437-34A8-48DB-A574-A58FC8F9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46D5-91E2-4469-9E31-60FF92F4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30C08-83EC-4F88-B08B-6EB34D33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D15C-394F-4A26-8EC8-A4785C11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60CD-1574-4F68-9305-A8A90427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E337-5EE8-4266-8BCE-508CA3A4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C1F8-1A4E-4595-A425-C41FC05A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EC665-F408-40AA-A457-90BACC98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473B-F06F-4C32-ACD8-03AA510D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3B04-86C4-4C9F-972B-C518949B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C6F8-22F3-4136-9EDC-E7D83360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4F521-0323-4DD1-9166-EE29555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3923-BA96-4177-AF97-E9FD17D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E0FB-B085-4DE3-9542-E3A2E8B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CB3F-17D0-466E-A8A2-316847F1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CA9A-C6B2-4AF1-BFF8-2D4CF6C7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8C30A-9B1B-4F44-BA90-F613DD87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31B0-B5AD-448F-AC68-6CBFBCFA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0C7C-D914-4E80-8634-09E5242D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8C6C-12E0-4D96-83A4-C44D2CD8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A9D5-A096-480D-8D58-8F6E07CE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C490-1413-4D0B-9834-48645FEA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D684-B75B-4283-9FC2-42E6D352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05FF6-D6D1-4F12-820A-17E400D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AF79-1E2A-4DFB-B440-B4352F5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BB93-5F26-4782-8339-7D44805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4B05-BF95-4730-B70A-E189B80A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4432-9960-4C6D-976B-B4F509CA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D99A-E7CA-44EF-8F20-541D9863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32FA-76D7-4F48-9248-6E71A5BE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D75F-13B7-440E-83D2-67568B77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2403-729B-4D8A-9A35-3653D345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94B7F-3B67-471F-BE81-0530D763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EDEE-8FC1-49F8-A7C8-272C1068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4877-90CD-4734-8B5B-6D76E6B0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B7B25-D463-44FF-A425-0EDF2642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4E21-B6A3-4C7E-9E09-EF9CA75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FE80-C739-4D69-B1C9-A85C830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F1DFD-8C0A-46B3-9694-B8D2D7C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436B-68E5-460E-827F-AD1A038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BF85A-CE02-40E9-830A-C3652B1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D497F-1F8A-4C6C-BDF2-8C9B1B28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8371C-39FB-4448-8B2D-FF68A742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2FBDD-454E-46E9-9951-7F3519F1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5F34-13A4-46DE-83C7-423A11B5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20292-A56A-4CF9-8CE0-116B533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3373-6572-410A-9015-F2A65285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E1E78-2D46-4AE7-BADC-EA7C837F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14FB-E8B4-40B6-A97C-043F65C6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D1F3-DA1C-4792-BB93-3C8F7FA4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29FC-F6C7-45B3-B746-A2034A4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79635-F614-466C-9994-1FAE60E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01AE3-0514-47F0-82E4-3ACFB9B4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51FBD-553F-4C07-9976-3DAC0A0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9CA49-BD08-495B-ABB0-290C3FA0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22D9-5C4C-4B07-975D-897E7E7F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4E4BC-BB8C-492B-BF82-63136F65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FEFE4-5C66-43A4-81A5-0FF3B495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3357-4738-47CA-91F1-9D56A798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D124-2BC3-41BF-B8D2-FAD68936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FCE57-FCF6-4535-992C-AEF9C061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63162-2B3B-41DE-B0A2-CC6B832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818F0-506C-4ED8-B2C6-8745594A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4D97-1DA9-4DCF-85CE-D5D41E59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76BBB-DC18-47D9-93EB-80BDD1AB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D1F8E-8020-4F97-9A60-F4D0110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AA737-4F92-4190-B44E-4CDA0F56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F2B17-28EB-43F5-A89E-1CCA3D1B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949D-6EFB-491E-95E1-42EA5120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92C4A-4ED5-4F96-890A-341780AD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5ABC2-7B74-4C1A-B856-4A96C397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8D511-C364-4B62-9863-FBFB2A20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36D5-47E6-4E0D-923F-36DEA6C26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B0E6-ACC6-4C3B-95D0-C09C8D297D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BB93-DD15-4DC9-83F2-DB909E164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2463-00F6-4DB2-93FE-8DEAD001AC2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5F3-B7FB-4F1F-8BF9-9180C37757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A6A-FA94-4708-ACD8-210825968F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0AAA-B2AD-460A-9AFF-11ABF3F642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B1E5-1CC2-4CAB-9945-0ACC46C27A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A63-EAC5-4CFE-8106-3CF647B044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5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6CD-91BB-4E88-B6D4-4B904782D1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МУНИЦИПАЛЬНОЕ ОБЩЕОБРАЗОВАТЕЛЬНОЕ УЧЕРЕЖДЕНИЕ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ТОГУРСКАЯ СРЕДНЯЯ ОБЩЕОБРАЗОВАТЕЛЬНАЯ ШК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Влияние музыки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(Научно-исследовательская рабо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Выполнил: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Аверьянов А. 10А клас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Руководитель: 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Дробышева М. А., учите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технологии и основ проектир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 квалификационной категор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Times New Roman"/>
              </a:rPr>
              <a:t>Тогур 2009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иды музыки по характеру испол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вок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инструмент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камер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вокально-инструмента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хоров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со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электр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фортепианная и др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иды музыки по отличительным свойствам музыкальной фактуры и композиторской тех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олифон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гомоф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монодичес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гетерофон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онор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серийная и т.п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ff"/>
                </a:solidFill>
                <a:latin typeface="Verdana"/>
              </a:rPr>
              <a:t>Что такое звук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800000"/>
                </a:solidFill>
                <a:latin typeface="Times New Roman"/>
              </a:rPr>
              <a:t>Звуки бывают разные: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высокие и низк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короткие и долг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приглушенные и громкие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ясны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Times New Roman"/>
              </a:rPr>
              <a:t>Строение ух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ружно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шная раковин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ой проход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арабанная перепо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редне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ость среднего ух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ая труба; косточки среднего уха: молоточе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коваль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б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тремеч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нутреннее ух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литка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уховой нер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стибулярный аппарат: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еддверие с мешочками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—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укружные кан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495680" cy="3267000"/>
          </a:xfrm>
          <a:prstGeom prst="rect">
            <a:avLst/>
          </a:prstGeom>
          <a:ln w="0">
            <a:noFill/>
          </a:ln>
        </p:spPr>
      </p:pic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Целебные свойства музыки в Древние Време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дpевности выделяли 3 напpавления влияния мyзыки на человеческий оpганизм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дyховнyю сyщность челове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интелл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на физическое те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-3610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66ff"/>
                </a:solidFill>
                <a:latin typeface="Arial"/>
              </a:rPr>
              <a:t>Музыкотерапия - одно из наиболее интересных и пока малоисследованных направлений традиционной медицины.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ff"/>
                </a:solidFill>
                <a:latin typeface="Times New Roman"/>
              </a:rPr>
              <a:t>Выделяют четыре основных направления лечебного действия музыкотерапии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моциональное активирование в ходе вербальной психотерап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тие навыков межличностного общения (коммуникативных функций и способносте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гулирующее влияние на психовегетативные процесс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ение эстетических потреб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Духовное развитие личности через музыкальную культуру как одна из форм здорового образа жизн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(анализ анкеты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и статистических данных Тогурской ДШИ)</a:t>
            </a:r>
            <a:r>
              <a:rPr b="0" lang="en-US" sz="3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Результаты социологического опроса проведенного учеными в 2001году «Музыкальные вкусы сегодняшней молодежи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ыявил углубляющиеся односторонние вкусы школьников в области эстрадной развлекательной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46% анкетируемых предпочитают отечественную эстраду с такими певцами, как Алсу, Губин, группа «Руки вверх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32% - за зарубежную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18% - классическую и толь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66ff"/>
                </a:solidFill>
                <a:latin typeface="Times New Roman"/>
              </a:rPr>
              <a:t>4% - народную музы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Беседа с заместителем директора по УР Тогурской ДШИ Крикуновой Н. Н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 данное время музыкальное отделение ДШИ посещают 153 ученика, что составляет  примерно 17,1% всех детей Тогура школьного возраст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alibri"/>
              </a:rPr>
              <a:t>“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Наполним музыкой 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993300"/>
                </a:solidFill>
                <a:latin typeface="Calibri"/>
              </a:rPr>
              <a:t>     сердца</a:t>
            </a:r>
            <a:r>
              <a:rPr b="1" lang="en-US" sz="6000" spc="-1" strike="noStrike">
                <a:solidFill>
                  <a:srgbClr val="993300"/>
                </a:solidFill>
                <a:latin typeface="Calibri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Calibri"/>
              </a:rPr>
              <a:t>Ю. Визбо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Статистические данные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 последние 5 ле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Тогурскую ДШИ на музыкальное отделение поступило 775 человек; выпустилось – 124 человека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разным причинам были исключены – 28челове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же есть выпускники, которые связали свою дальнейшую жизнь с музыкой – 35 человек, т.е. стали певцами, музыкантами, учителями музыки и т.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Times New Roman"/>
              </a:rPr>
              <a:t>Цель социологического опроса учащихся Тогурской СОШ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изучение музыкальных вкусов сегодняшней молодёж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0773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Результаты социологического опроса учащихс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600" y="2438280"/>
            <a:ext cx="777240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ыло опрошено более 50 человек от 14 до 18л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ос показал, что 84% опрошенных в той или иной степени увлекаются музы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числа опрошенных 78,9% учатся или учились в музыкальной шк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: «Что для Вас есть музыка? »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дых, вдохновение, настроение, отвлечение от проблем – 31,6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Жизнь, всё – 26,3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обби, увлечение – 15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лю слушать – 15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лю танцевать – 10,5%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прос: «Играете ли Вы на музыкальном инструменте?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,3% опрошенных учащихся, умеют играть на каком - либо музыкальном инструмент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ыми распространенными музыкальными инструментами стали: гитара – 30%, баян – 20%, фортепиано – 2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Вопрос: «Какую музыку Вы слушаете для поднятия настроения?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окойную- 60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грессивную - 20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ип-хоп, рэп - 15%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убную, поп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опрос: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ой жанр музыки Вам больше нравится?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временная популярная музыка –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7,8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ок - 31,5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ассическая европейская – 26,3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лектронная – 21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жаз и народная музыка - 10,5%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ховная музыка – 5,2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Вопрос: «Какие музыкальная (-ые) группа (-ы) или певец (певцы) Вам нравится (-ятся)»?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-9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ni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50 центо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 Floy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 Pistol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ино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и-2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утилус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ис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ет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с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олотое кольцо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Вывод: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«Как гимнастика выпрямляет тело, так музыка выпрямляет душу человека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Times New Roman"/>
              </a:rPr>
              <a:t>До свидания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924280" cy="484020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endshow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Garamond"/>
              </a:rPr>
              <a:t>Цель работы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996600"/>
                </a:solidFill>
                <a:latin typeface="Times New Roman"/>
              </a:rPr>
              <a:t>выяснить, как влияет музыка на организм человек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Garamond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одобрать и изучить литературу о происхождении и видах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Разобраться в механизме воздействия музыки на человека, попытаться раскрыть и объяснить особенности реакции человеческого организма от прослушивания музы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утём опроса учащихся нашей школы выявить музыкальные вкусы сегодняшней молодёж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Проанализировать статистические данные о работе Тогурской ДШИ за последние 5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Times New Roman"/>
              </a:rPr>
              <a:t>Апполон –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покровитель му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i-main-pic" descr="Картинка 2 из 58"/>
          <p:cNvPicPr/>
          <p:nvPr/>
        </p:nvPicPr>
        <p:blipFill>
          <a:blip r:embed="rId1"/>
          <a:stretch/>
        </p:blipFill>
        <p:spPr>
          <a:xfrm>
            <a:off x="4711680" y="1523880"/>
            <a:ext cx="4110120" cy="518184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-main-pic" descr="Картинка 15 из 17"/>
          <p:cNvPicPr/>
          <p:nvPr/>
        </p:nvPicPr>
        <p:blipFill>
          <a:blip r:embed="rId1"/>
          <a:stretch/>
        </p:blipFill>
        <p:spPr>
          <a:xfrm>
            <a:off x="228600" y="1447920"/>
            <a:ext cx="4081320" cy="50292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Times New Roman"/>
              </a:rPr>
              <a:t>Орфей –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прекрасный пе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Происхождение музы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Музыкальная культура Африки, Азии и Латинской Америки, в которых доминирующая роль принадлежит телодвижениям, ритму, ударности, и преобладают ударные музыкальные инструменты.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64796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лово «музыка» –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греческого происхождения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музы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ческая (или серьезна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европейская (неевропей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ническая (и традицион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радная (или лег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жа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ангардная (экспериментальн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ьтерн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виды музыки по среде их обитания и функци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воен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церковна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религиоз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еатраль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анцевальн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киному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и т.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61920 w 457200"/>
              <a:gd name="textAreaRight" fmla="*/ 395280 w 457200"/>
              <a:gd name="textAreaTop" fmla="*/ 61920 h 457200"/>
              <a:gd name="textAreaBottom" fmla="*/ 3952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675" y="2925"/>
                </a:lnTo>
                <a:lnTo>
                  <a:pt x="2925" y="292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675" y="18675"/>
                </a:lnTo>
                <a:lnTo>
                  <a:pt x="18675" y="292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925" y="18675"/>
                </a:lnTo>
                <a:lnTo>
                  <a:pt x="18675" y="1867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925" y="2925"/>
                </a:lnTo>
                <a:lnTo>
                  <a:pt x="2925" y="18675"/>
                </a:lnTo>
                <a:close/>
              </a:path>
              <a:path fill="darken" w="21600" h="21600">
                <a:moveTo>
                  <a:pt x="4930" y="4930"/>
                </a:moveTo>
                <a:lnTo>
                  <a:pt x="16670" y="10800"/>
                </a:lnTo>
                <a:lnTo>
                  <a:pt x="4930" y="1667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09-01-30T12:47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