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421B-EE0C-4C1F-9819-5E2C40DA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8D73-AA1B-400D-A8DA-BC9D14A1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E9711-314C-4CBF-9B2C-5F652454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3B5DE-9407-43A8-86DA-74C7E058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A230-6C8F-4D6A-BDE3-91A24CCE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61C19-785E-43B8-BBD6-F686B7D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E5EF6-5736-4F93-B73B-97FFA9E7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7DB14-0340-45A0-BFBC-A27C53B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38345-5F5F-4F0F-AF4D-672A9B21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C1AF5-69E9-4413-B652-A4330812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19A20-9B57-4E4A-927F-51D91DEC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8CA59-4E19-4ECD-B7B3-DB3754B2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9146-429F-415E-A499-C34CD990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82A9A-26F5-4A5F-8C98-E1ECF439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05BAD-5EB6-4FBB-AAF1-9DF73355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7F470-E9AC-40A5-8E59-F8D66E8E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42D21-D913-40C0-9419-F152904E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812E4-AB74-4B05-8A69-066011A5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94069-F632-4FAA-8E64-2930D9CE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2944E-0062-41C4-A485-DE7111C9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BDC0B-2903-4531-BCC9-E1D307A5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C23F0-7D71-4B9E-84C1-50C72BED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4D16D-7E42-4275-BE63-B7BA6C8D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07BB-4866-402F-BFCA-8B31EB22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40EB9-9ACB-4888-AE65-3FD8F7FA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BB41-2D2E-4BAF-93DD-1967316E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AF46-4B85-48B4-B968-F06F47BD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FDAF-2A7C-42E3-B68C-60358413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4EFF-AD71-423F-A4D4-8882F648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9375-F017-4DA2-B1C0-F6A3DD71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C868-8002-4BC6-8F5E-F20FAA14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08AC-AE93-4612-8789-2A91E7F8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142D-8032-4630-B7F5-E1231E2C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0967-9ECC-4F81-9D57-87536EEC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A8AC-89E1-48E2-BA63-F846224D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490F-3352-482D-8BD9-95BAD751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19B-229F-402C-934C-9501C0BC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87B6-8CD6-4AB6-81A9-71EC6EFA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D0BF-7230-44A9-BA92-2A8C3629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8DBC-3C3D-43FB-993B-064D2BB8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EDA7-5CCC-46FF-BEEC-794E77B7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0F9F-4F96-4DA9-BB79-992E40B5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CE57-23B4-4A4D-B92C-BA852F76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3EFF-147B-48CB-BEE5-830587BA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A021-9B44-47DB-8653-6BE0377A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4A9E-D87B-45D2-B0F3-47578D5F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A9A0-DE83-439D-BEFF-11068E28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4D03-FE95-43C4-A671-08E3098B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F347-5F9C-4B07-8094-0B79840D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0DC7-F928-4A81-AB05-9D7B589C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8E6F-7029-4C54-817A-7720B3AD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E6716-7952-4883-90A0-68B5AB37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5497E-DB12-45EC-AB62-D3594ECE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17AE-7694-49C6-9890-A4D841FC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1876-6BA2-4FAD-9BB3-DBA64A69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4960-A589-4905-BAAC-CCEBFFD9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C30C-3C52-4A40-B9F5-B4C6C962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30940-4C33-489E-AB77-4606C420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5BD9-5E09-4279-961F-B495F1BE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D3AF-0E0F-435B-9513-3965E62F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DEA2B-235D-4374-809E-D679768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AD4E-1B99-4CD7-9C62-56FB6536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50628-4BFD-4599-8B42-64FC9095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BA361-91A3-4398-ACF6-50429F9D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EAA1C-8FCC-4F46-9123-B30DE474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CBA7-B8C5-4466-AFA7-68427AB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2E19-E7DC-4167-B843-909DFFBA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61E9A-3BA2-47D2-8015-BB464256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5656-5C0F-4DC2-AB29-D57575BC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437F-361C-4C53-B93B-1A78B4AA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21B2-7F5B-47F1-8EBF-6124CE04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D49B9-94CE-4024-AE72-64CE9860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070A6-E4AB-4637-8E83-BBEE3FD3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F2A1A-A171-4EBA-A114-E7EEAC6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991B0-7650-4816-9809-F59AC844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3F938-1FC4-4E8F-8AA3-B061FCCF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B56A-F397-4E27-8087-305737DC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3671A-8B9C-45E7-AC0A-E608EE9E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257AA-C67E-4F93-9460-9AFCE2C2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AAE1F-78E5-4CEC-9460-164BE630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30F1D-0C95-4197-B75C-E3EB5D52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71FA7-65C4-4C0D-A766-7F0AFCF0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56D7A-7680-4000-BE21-771CAE02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853AC-E428-4305-8596-F73CA58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E9A82-BBE3-4401-88EA-328FE6A4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930AB-0486-441E-B363-2FBE4A9E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23961-96A1-4CA2-9DA4-4226BDF2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DBA4-46E1-4E5F-A4A0-B2357C07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33FDE-AA47-4CCF-A511-92BA9456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725FC-0FF2-4B49-B8BF-B2D859AE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DF07-D25E-477B-94C1-AFD0E39D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9AAB1-BB8A-4DC8-A89C-1A3CC26B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70A76-4EB9-4FF8-984D-523589E2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6BEAB-C8C4-4022-BAB4-9156E58E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DB039-AD68-4343-B033-15CD756D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D968B-48BF-4139-882C-CC53A37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0CF7-9EA1-4BF8-9ACF-850BF6EE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E4978-15B6-41D9-9C17-2EBD16C1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615C-3028-429A-B5F1-7E229BAD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41CFA-6CF4-47F1-8B4E-CACE219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1BB1F-7D56-48BD-B3E4-9F4D16E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05830-7A2A-4684-9212-3BEE0A1E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6E931-5D61-47A5-ABBF-79F3A3A7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AAFCE-54B9-4831-B975-A75E0B12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B3034-4664-4BD2-AAE3-2A90E305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743A6-773D-41C5-9C9C-37D9A5DB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3E1A5-17C9-4637-A6D5-BFB2750C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C7724-2AC0-48BC-8B07-C0FE67D7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851A1-432B-45B3-B526-13593A1B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8C21-5A1D-4F23-A654-8C31669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EBDA-A24B-45D6-958B-F4C96816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B1AC7-3F82-4CF2-9C64-096A5C2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53197-2F25-42F3-8B9B-DD602A1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93286-F377-453D-89BE-D53611C9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B9D9D-C04E-4C52-920E-B9B5E572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150C4-08DE-4333-9B9D-D4EBE4DB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F003D-6130-4256-933E-45B80A9F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BF1CA-9426-4F69-BC4B-6D0B50AD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79916-83A7-4F1A-9902-29166B40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B8FF6-17F0-4D44-AD72-CC0CA2E0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A339-85F7-4CF2-9FFE-4A2BA00AB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E643-6AF2-4453-8B43-F065F3CDB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A7C2-AB51-4139-8598-C0DC3532A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3B16-CF5A-415B-BEAA-E0BE4F0E61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F0D-8C36-49AD-825E-4F1F077A85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F7A0-100D-405E-B3CB-F84547861F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45BF-F74C-413A-94E6-1E925AC10B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1F8C-2F53-43E5-BA3D-B3BBDB0BA5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6FB9-637B-4BB7-A7A7-2A09FE6213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55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A05E-AA79-45E1-ABA9-6FABFDDF7F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МУНИЦИПАЛЬНОЕ ОБЩЕОБРАЗОВАТЕЛЬНОЕ УЧЕРЕЖДЕНИЕ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ТОГУРСКАЯ СРЕДНЯЯ ОБЩЕОБРАЗОВАТЕЛЬНАЯ ШК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Влияние музыки на челов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(Научно-исследовательская рабо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Выполнил: 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Аверьянов А. 10А клас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Руководитель: 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Дробышева М. А., учите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технологии и основ проектиро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 квалификационной категор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Тогур 2009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Виды музыки по характеру испол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вока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инструмента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камер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вокально-инструмента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хоров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со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электрон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фортепианная и др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Виды музыки по отличительным свойствам музыкальной фактуры и композиторской тех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олифоничес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гомофон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монодичес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гетерофон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сонор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серийная и т.п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ff"/>
                </a:solidFill>
                <a:latin typeface="Verdana"/>
              </a:rPr>
              <a:t>Что такое звук?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800000"/>
                </a:solidFill>
                <a:latin typeface="Times New Roman"/>
              </a:rPr>
              <a:t>Звуки бывают разные: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высокие и низк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короткие и долг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приглушенные и громк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ясны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Times New Roman"/>
              </a:rPr>
              <a:t>Строение ух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ружное ух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шная раковина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ховой проход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арабанная перепо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реднее ух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лость среднего уха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ховая труба; косточки среднего уха: молоточе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коваль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б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емеч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нутреннее ух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литка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ховой нер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стибулярный аппарат: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дверие с мешочками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лукружные кан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495680" cy="3267000"/>
          </a:xfrm>
          <a:prstGeom prst="rect">
            <a:avLst/>
          </a:prstGeom>
          <a:ln w="0">
            <a:noFill/>
          </a:ln>
        </p:spPr>
      </p:pic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Целебные свойства музыки в Древние Време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дpевности выделяли 3 напpавления влияния мyзыки на человеческий оpганизм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на дyховнyю сyщность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на интелл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на физическое те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-3610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ff"/>
                </a:solidFill>
                <a:latin typeface="Arial"/>
              </a:rPr>
              <a:t>Музыкотерапия - одно из наиболее интересных и пока малоисследованных направлений традиционной медицины.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ff"/>
                </a:solidFill>
                <a:latin typeface="Times New Roman"/>
              </a:rPr>
              <a:t>Выделяют четыре основных направления лечебного действия музыкотерапии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моциональное активирование в ходе вербальной психотерап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 навыков межличностного общения (коммуникативных функций и способносте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гулирующее влияние на психовегетативные процесс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ышение эстетических потребн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Духовное развитие личности через музыкальную культуру как одна из форм здорового образа жизн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анализ анкеты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и статистических данных Тогурской ДШИ)</a:t>
            </a:r>
            <a:r>
              <a:rPr b="0" lang="en-US" sz="3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Результаты социологического опроса проведенного учеными в 2001году «Музыкальные вкусы сегодняшней молодежи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ыявил углубляющиеся односторонние вкусы школьников в области эстрадной развлекательной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46% анкетируемых предпочитают отечественную эстраду с такими певцами, как Алсу, Губин, группа «Руки вверх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32% - за зарубежную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18% - классическую и толь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4% - народную музы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Беседа с заместителем директора по УР Тогурской ДШИ Крикуновой Н. Н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 данное время музыкальное отделение ДШИ посещают 153 ученика, что составляет  примерно 17,1% всех детей Тогура школьного возраста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4953240"/>
          </a:xfrm>
          <a:prstGeom prst="rect">
            <a:avLst/>
          </a:prstGeom>
          <a:ln w="0">
            <a:noFill/>
          </a:ln>
        </p:spPr>
      </p:pic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Calibri"/>
              </a:rPr>
              <a:t>“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Наполним музыкой 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     сердца</a:t>
            </a:r>
            <a:r>
              <a:rPr b="1" lang="en-US" sz="6000" spc="-1" strike="noStrike">
                <a:solidFill>
                  <a:srgbClr val="993300"/>
                </a:solidFill>
                <a:latin typeface="Calibri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Calibri"/>
              </a:rPr>
              <a:t>Ю. Визбор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Статистические данные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 последние 5 ле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огурскую ДШИ на музыкальное отделение поступило 775 человек; выпустилось – 124 человека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разным причинам были исключены – 28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же есть выпускники, которые связали свою дальнейшую жизнь с музыкой – 35 человек, т.е. стали певцами, музыкантами, учителями музыки и т.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66"/>
                </a:solidFill>
                <a:latin typeface="Times New Roman"/>
              </a:rPr>
              <a:t>Цель социологического опроса учащихся Тогурской СОШ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изучение музыкальных вкусов сегодняшней молодёж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0773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Результаты социологического опроса учащихс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82600" y="2438280"/>
            <a:ext cx="7772400" cy="36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ыло опрошено более 50 человек от 14 до 18л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ос показал, что 84% опрошенных в той или иной степени увлекаются музык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 числа опрошенных 78,9% учатся или учились в музыкальной шко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: «Что для Вас есть музыка? »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дых, вдохновение, настроение, отвлечение от проблем – 31,6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изнь, всё – 26,3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обби, увлечение – 15,8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лю слушать – 15,8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лю танцевать – 10,5%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: «Играете ли Вы на музыкальном инструменте?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,3% опрошенных учащихся, умеют играть на каком - либо музыкальном инструмент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ыми распространенными музыкальными инструментами стали: гитара – 30%, баян – 20%, фортепиано – 2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опрос: «Какую музыку Вы слушаете для поднятия настроения?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койную- 60%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грессивную - 20%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ип-хоп, рэп - 15%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ную, поп –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опрос: «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ой жанр музыки Вам больше нравится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временная популярная музыка –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57,8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к - 31,5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лассическая европейская – 26,3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лектронная – 21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жаз и народная музыка - 10,5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уховная музыка – 5,2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Вопрос: «Какие музыкальная (-ые) группа (-ы) или певец (певцы) Вам нравится (-ятся)»?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-9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ni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50 центо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 Floy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 Pistol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ино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и-2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утилус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ис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ет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с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олотое кольцо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Вывод: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«Как гимнастика выпрямляет тело, так музыка выпрямляет душу человека»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.А. Сухомлин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До свидания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4280" cy="4840200"/>
          </a:xfrm>
          <a:prstGeom prst="rect">
            <a:avLst/>
          </a:prstGeom>
          <a:ln w="0">
            <a:noFill/>
          </a:ln>
        </p:spPr>
      </p:pic>
      <p:sp>
        <p:nvSpPr>
          <p:cNvPr id="613" name="">
            <a:hlinkClick r:id="" action="ppaction://hlinkshowjump?jump=endshow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Garamond"/>
              </a:rPr>
              <a:t>Цель работы: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800" spc="-1" strike="noStrike">
                <a:solidFill>
                  <a:srgbClr val="996600"/>
                </a:solidFill>
                <a:latin typeface="Times New Roman"/>
              </a:rPr>
              <a:t>выяснить, как влияет музыка на организм человек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Garamond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одобрать и изучить литературу о происхождении и видах музы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Разобраться в механизме воздействия музыки на человека, попытаться раскрыть и объяснить особенности реакции человеческого организма от прослушивания музы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утём опроса учащихся нашей школы выявить музыкальные вкусы сегодняшней молодёж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роанализировать статистические данные о работе Тогурской ДШИ за последние 5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Происхождение музы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Times New Roman"/>
              </a:rPr>
              <a:t>Апполон –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покровитель муз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i-main-pic" descr="Картинка 2 из 58"/>
          <p:cNvPicPr/>
          <p:nvPr/>
        </p:nvPicPr>
        <p:blipFill>
          <a:blip r:embed="rId1"/>
          <a:stretch/>
        </p:blipFill>
        <p:spPr>
          <a:xfrm>
            <a:off x="4711680" y="1523880"/>
            <a:ext cx="4110120" cy="518184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Происхождение музы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-main-pic" descr="Картинка 15 из 17"/>
          <p:cNvPicPr/>
          <p:nvPr/>
        </p:nvPicPr>
        <p:blipFill>
          <a:blip r:embed="rId1"/>
          <a:stretch/>
        </p:blipFill>
        <p:spPr>
          <a:xfrm>
            <a:off x="228600" y="1447920"/>
            <a:ext cx="4081320" cy="50292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Times New Roman"/>
              </a:rPr>
              <a:t>Орфей –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прекрасный пе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Происхождение музы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узыкальная культура Африки, Азии и Латинской Америки, в которых доминирующая роль принадлежит телодвижениям, ритму, ударности, и преобладают ударные музыкальные инструменты.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464796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Слово «музыка» –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греческого происхождения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муз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ческая (или серьезна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пу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европейская (неевропей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ническая (и традицион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традная (или лег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ж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ангардная (эксперименталь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ьтерн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виды музыки по среде их обитания и функци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воен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церковна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религиоз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театраль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танцеваль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киному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и т.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09-01-30T12:47:0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