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040" y="4269960"/>
            <a:ext cx="7807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040" y="4269960"/>
            <a:ext cx="38098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4269960"/>
            <a:ext cx="38098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8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920" y="1906560"/>
            <a:ext cx="25138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50800" y="1906560"/>
            <a:ext cx="25138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040" y="4269960"/>
            <a:ext cx="25138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920" y="4269960"/>
            <a:ext cx="25138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50800" y="4269960"/>
            <a:ext cx="25138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73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040" y="4269960"/>
            <a:ext cx="38098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4269960"/>
            <a:ext cx="38098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040" y="4269960"/>
            <a:ext cx="78073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73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8080"/>
                </a:solidFill>
                <a:latin typeface="Times New Roman"/>
              </a:rPr>
              <a:t>Викторина по информатике</a:t>
            </a:r>
            <a:br>
              <a:rPr sz="4400"/>
            </a:br>
            <a:r>
              <a:rPr b="1" i="1" lang="ru-RU" sz="7200" spc="-1" strike="noStrike">
                <a:solidFill>
                  <a:srgbClr val="008080"/>
                </a:solidFill>
                <a:latin typeface="Times New Roman"/>
              </a:rPr>
              <a:t>«Инфознайка»</a:t>
            </a:r>
            <a:endParaRPr b="1" lang="en-US" sz="7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00720" y="4365360"/>
            <a:ext cx="4248000" cy="1919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МКОУ Светлояр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СОШ №2 им.Ф Ф Плужни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Скворцова Ирина Никола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r">
              <a:lnSpc>
                <a:spcPct val="95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r">
              <a:lnSpc>
                <a:spcPct val="95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344808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314352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Задание 1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3600"/>
            </a:b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Элементы компью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3333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иром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3333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оссоцер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3333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койдж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3333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Шак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3333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еррипт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3333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латувик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3333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ьмап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3333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ом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214800" y="1714680"/>
            <a:ext cx="32144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Задание 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i="1" lang="ru-RU" sz="3600" spc="-1" strike="noStrike">
                <a:solidFill>
                  <a:srgbClr val="262626"/>
                </a:solidFill>
                <a:latin typeface="Arial"/>
              </a:rPr>
              <a:t>Элементы мультимеди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Arial"/>
              </a:rPr>
              <a:t>Кув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Arial"/>
              </a:rPr>
              <a:t>Ивед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Arial"/>
              </a:rPr>
              <a:t>Стек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Arial"/>
              </a:rPr>
              <a:t>Фикар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215040" y="214200"/>
            <a:ext cx="2928960" cy="57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Задание 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Разные терм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окур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Заба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Ментуд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ай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Урси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Лай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Маропгр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Стрелка вправо 6">
            <a:hlinkClick r:id="rId1" action="ppaction://hlinksldjump"/>
          </p:cNvPr>
          <p:cNvSpPr/>
          <p:nvPr/>
        </p:nvSpPr>
        <p:spPr>
          <a:xfrm>
            <a:off x="8286840" y="6357960"/>
            <a:ext cx="857160" cy="5000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57160" y="214200"/>
          <a:ext cx="7500960" cy="6426360"/>
        </p:xfrm>
        <a:graphic>
          <a:graphicData uri="http://schemas.openxmlformats.org/drawingml/2006/table">
            <a:tbl>
              <a:tblPr/>
              <a:tblGrid>
                <a:gridCol w="4286520"/>
                <a:gridCol w="3214440"/>
              </a:tblGrid>
              <a:tr h="12193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ние 1.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менты компьюте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ильные ответы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50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ром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ито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650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оцер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о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650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йдж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йст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650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кы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ш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650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п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т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650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тувик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ви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650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мап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мя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650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ме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785880" y="428760"/>
          <a:ext cx="7807320" cy="4032000"/>
        </p:xfrm>
        <a:graphic>
          <a:graphicData uri="http://schemas.openxmlformats.org/drawingml/2006/table">
            <a:tbl>
              <a:tblPr/>
              <a:tblGrid>
                <a:gridCol w="4829040"/>
                <a:gridCol w="2978280"/>
              </a:tblGrid>
              <a:tr h="12553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ние 2.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лементы мультимеди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ильные ответы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94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з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694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ов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694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к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6944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гара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57160" y="357120"/>
          <a:ext cx="7807320" cy="6114960"/>
        </p:xfrm>
        <a:graphic>
          <a:graphicData uri="http://schemas.openxmlformats.org/drawingml/2006/table">
            <a:tbl>
              <a:tblPr/>
              <a:tblGrid>
                <a:gridCol w="4500720"/>
                <a:gridCol w="3306600"/>
              </a:tblGrid>
              <a:tr h="12549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ние 3.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ные термин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ильные ответы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94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кур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о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694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ац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зац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694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туд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6951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й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й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694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си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694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йф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6944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опгра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183960"/>
            <a:ext cx="78073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КОНКУРС 4</a:t>
            </a:r>
            <a:br>
              <a:rPr sz="2400"/>
            </a:br>
            <a:r>
              <a:rPr b="1" lang="ru-RU" sz="5400" spc="-1" strike="noStrike">
                <a:solidFill>
                  <a:srgbClr val="008080"/>
                </a:solidFill>
                <a:latin typeface="Arial"/>
              </a:rPr>
              <a:t>«Догадайся» </a:t>
            </a:r>
            <a:br>
              <a:rPr sz="3200"/>
            </a:br>
            <a:br>
              <a:rPr sz="1300"/>
            </a:br>
            <a:endParaRPr b="1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428760" y="1571760"/>
            <a:ext cx="828036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В приведенных картинках определите компьютерный терми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На экране последовательно будут появляться подсказки. Если вы отгадаете термин с первой подсказки, то получите 5 баллов, со второй – 4 балла, с третьей 3 балла, с четвертой – 2 балла и 1 балл, если были использованы все подсказки. Каждая команда имеет право на ответ в каждом задании только 1 раз. При ошибке команда право отвечать теря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8080"/>
                </a:solidFill>
                <a:uFillTx/>
                <a:latin typeface="Arial"/>
              </a:rPr>
              <a:t>1.</a:t>
            </a:r>
            <a:r>
              <a:rPr b="1" lang="ru-RU" sz="3200" spc="-1" strike="noStrike" u="sng">
                <a:solidFill>
                  <a:srgbClr val="008080"/>
                </a:solidFill>
                <a:uFillTx/>
                <a:latin typeface="Arial"/>
              </a:rPr>
              <a:t>Какому объекту операционной системы </a:t>
            </a:r>
            <a:r>
              <a:rPr b="1" lang="en-US" sz="3200" spc="-1" strike="noStrike" u="sng">
                <a:solidFill>
                  <a:srgbClr val="008080"/>
                </a:solidFill>
                <a:uFillTx/>
                <a:latin typeface="Arial"/>
              </a:rPr>
              <a:t>Windows</a:t>
            </a:r>
            <a:r>
              <a:rPr b="1" lang="ru-RU" sz="3200" spc="-1" strike="noStrike" u="sng">
                <a:solidFill>
                  <a:srgbClr val="008080"/>
                </a:solidFill>
                <a:uFillTx/>
                <a:latin typeface="Arial"/>
              </a:rPr>
              <a:t> соответствует рисунок?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71400" y="1906560"/>
            <a:ext cx="3827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28680" y="1928880"/>
            <a:ext cx="500076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-3358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жет быть и маленьким и больш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г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него можно собирать гри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пользуется для хранения ненужной бума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ходится на рабочем столе П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"/>
          <p:cNvGrpSpPr/>
          <p:nvPr/>
        </p:nvGrpSpPr>
        <p:grpSpPr>
          <a:xfrm>
            <a:off x="2857680" y="2286000"/>
            <a:ext cx="3198600" cy="3198960"/>
            <a:chOff x="2857680" y="2286000"/>
            <a:chExt cx="3198600" cy="3198960"/>
          </a:xfrm>
        </p:grpSpPr>
        <p:sp>
          <p:nvSpPr>
            <p:cNvPr id="74" name="Oval 3"/>
            <p:cNvSpPr/>
            <p:nvPr/>
          </p:nvSpPr>
          <p:spPr>
            <a:xfrm>
              <a:off x="2857680" y="2286000"/>
              <a:ext cx="3198600" cy="31989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2857680" y="2286000"/>
              <a:ext cx="3196800" cy="3197160"/>
              <a:chOff x="2857680" y="2286000"/>
              <a:chExt cx="3196800" cy="3197160"/>
            </a:xfrm>
          </p:grpSpPr>
          <p:sp>
            <p:nvSpPr>
              <p:cNvPr id="76" name="Line 5"/>
              <p:cNvSpPr/>
              <p:nvPr/>
            </p:nvSpPr>
            <p:spPr>
              <a:xfrm>
                <a:off x="2895120" y="3580560"/>
                <a:ext cx="30844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" name="Group 6"/>
              <p:cNvGrpSpPr/>
              <p:nvPr/>
            </p:nvGrpSpPr>
            <p:grpSpPr>
              <a:xfrm>
                <a:off x="2857680" y="2286000"/>
                <a:ext cx="3196800" cy="3197160"/>
                <a:chOff x="2857680" y="2286000"/>
                <a:chExt cx="3196800" cy="3197160"/>
              </a:xfrm>
            </p:grpSpPr>
            <p:grpSp>
              <p:nvGrpSpPr>
                <p:cNvPr id="78" name="Group 7"/>
                <p:cNvGrpSpPr/>
                <p:nvPr/>
              </p:nvGrpSpPr>
              <p:grpSpPr>
                <a:xfrm>
                  <a:off x="3238200" y="2352240"/>
                  <a:ext cx="2397240" cy="3083040"/>
                  <a:chOff x="3238200" y="2352240"/>
                  <a:chExt cx="2397240" cy="3083040"/>
                </a:xfrm>
              </p:grpSpPr>
              <p:sp>
                <p:nvSpPr>
                  <p:cNvPr id="79" name="Line 8"/>
                  <p:cNvSpPr/>
                  <p:nvPr/>
                </p:nvSpPr>
                <p:spPr>
                  <a:xfrm>
                    <a:off x="4798080" y="2352240"/>
                    <a:ext cx="1440" cy="308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Line 9"/>
                  <p:cNvSpPr/>
                  <p:nvPr/>
                </p:nvSpPr>
                <p:spPr>
                  <a:xfrm>
                    <a:off x="3238200" y="2856240"/>
                    <a:ext cx="2397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Group 10"/>
                <p:cNvGrpSpPr/>
                <p:nvPr/>
              </p:nvGrpSpPr>
              <p:grpSpPr>
                <a:xfrm>
                  <a:off x="2857680" y="2286000"/>
                  <a:ext cx="3196800" cy="3197160"/>
                  <a:chOff x="2857680" y="2286000"/>
                  <a:chExt cx="3196800" cy="3197160"/>
                </a:xfrm>
              </p:grpSpPr>
              <p:sp>
                <p:nvSpPr>
                  <p:cNvPr id="82" name="Oval 11"/>
                  <p:cNvSpPr/>
                  <p:nvPr/>
                </p:nvSpPr>
                <p:spPr>
                  <a:xfrm>
                    <a:off x="3771000" y="3313440"/>
                    <a:ext cx="1371240" cy="1370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Line 12"/>
                  <p:cNvSpPr/>
                  <p:nvPr/>
                </p:nvSpPr>
                <p:spPr>
                  <a:xfrm>
                    <a:off x="4341600" y="2286000"/>
                    <a:ext cx="1440" cy="3197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13"/>
                  <p:cNvSpPr/>
                  <p:nvPr/>
                </p:nvSpPr>
                <p:spPr>
                  <a:xfrm>
                    <a:off x="3884760" y="2399760"/>
                    <a:ext cx="1440" cy="2968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Line 14"/>
                  <p:cNvSpPr/>
                  <p:nvPr/>
                </p:nvSpPr>
                <p:spPr>
                  <a:xfrm flipH="1">
                    <a:off x="5251320" y="2532960"/>
                    <a:ext cx="53640" cy="2721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Line 15"/>
                  <p:cNvSpPr/>
                  <p:nvPr/>
                </p:nvSpPr>
                <p:spPr>
                  <a:xfrm>
                    <a:off x="5711760" y="2923200"/>
                    <a:ext cx="1440" cy="1941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Line 16"/>
                  <p:cNvSpPr/>
                  <p:nvPr/>
                </p:nvSpPr>
                <p:spPr>
                  <a:xfrm>
                    <a:off x="3428280" y="2675520"/>
                    <a:ext cx="1440" cy="2397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Line 17"/>
                  <p:cNvSpPr/>
                  <p:nvPr/>
                </p:nvSpPr>
                <p:spPr>
                  <a:xfrm>
                    <a:off x="3000240" y="3275280"/>
                    <a:ext cx="1080" cy="1256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Line 18"/>
                  <p:cNvSpPr/>
                  <p:nvPr/>
                </p:nvSpPr>
                <p:spPr>
                  <a:xfrm>
                    <a:off x="3656520" y="2514240"/>
                    <a:ext cx="159840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Line 19"/>
                  <p:cNvSpPr/>
                  <p:nvPr/>
                </p:nvSpPr>
                <p:spPr>
                  <a:xfrm>
                    <a:off x="3018960" y="3199320"/>
                    <a:ext cx="28544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20"/>
                  <p:cNvSpPr/>
                  <p:nvPr/>
                </p:nvSpPr>
                <p:spPr>
                  <a:xfrm>
                    <a:off x="2857680" y="3998520"/>
                    <a:ext cx="319680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21"/>
                  <p:cNvSpPr/>
                  <p:nvPr/>
                </p:nvSpPr>
                <p:spPr>
                  <a:xfrm>
                    <a:off x="2923920" y="4359960"/>
                    <a:ext cx="308232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Line 22"/>
                  <p:cNvSpPr/>
                  <p:nvPr/>
                </p:nvSpPr>
                <p:spPr>
                  <a:xfrm>
                    <a:off x="3085920" y="4721760"/>
                    <a:ext cx="273996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Line 23"/>
                  <p:cNvSpPr/>
                  <p:nvPr/>
                </p:nvSpPr>
                <p:spPr>
                  <a:xfrm>
                    <a:off x="3361680" y="5026320"/>
                    <a:ext cx="216900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Line 24"/>
                  <p:cNvSpPr/>
                  <p:nvPr/>
                </p:nvSpPr>
                <p:spPr>
                  <a:xfrm>
                    <a:off x="3856320" y="5349600"/>
                    <a:ext cx="114156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Объект, изображенный в других ракурсах: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97" name="Group 2"/>
          <p:cNvGrpSpPr/>
          <p:nvPr/>
        </p:nvGrpSpPr>
        <p:grpSpPr>
          <a:xfrm>
            <a:off x="5219640" y="2492280"/>
            <a:ext cx="2970360" cy="3116160"/>
            <a:chOff x="5219640" y="2492280"/>
            <a:chExt cx="2970360" cy="3116160"/>
          </a:xfrm>
        </p:grpSpPr>
        <p:grpSp>
          <p:nvGrpSpPr>
            <p:cNvPr id="98" name="Group 3"/>
            <p:cNvGrpSpPr/>
            <p:nvPr/>
          </p:nvGrpSpPr>
          <p:grpSpPr>
            <a:xfrm>
              <a:off x="5219640" y="2492280"/>
              <a:ext cx="2970360" cy="3116160"/>
              <a:chOff x="5219640" y="2492280"/>
              <a:chExt cx="2970360" cy="3116160"/>
            </a:xfrm>
          </p:grpSpPr>
          <p:grpSp>
            <p:nvGrpSpPr>
              <p:cNvPr id="99" name="Group 4"/>
              <p:cNvGrpSpPr/>
              <p:nvPr/>
            </p:nvGrpSpPr>
            <p:grpSpPr>
              <a:xfrm>
                <a:off x="5219640" y="2492280"/>
                <a:ext cx="2970360" cy="3116160"/>
                <a:chOff x="5219640" y="2492280"/>
                <a:chExt cx="2970360" cy="3116160"/>
              </a:xfrm>
            </p:grpSpPr>
            <p:sp>
              <p:nvSpPr>
                <p:cNvPr id="100" name="Line 5"/>
                <p:cNvSpPr/>
                <p:nvPr/>
              </p:nvSpPr>
              <p:spPr>
                <a:xfrm>
                  <a:off x="5962320" y="5607360"/>
                  <a:ext cx="1485000" cy="1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Line 6"/>
                <p:cNvSpPr/>
                <p:nvPr/>
              </p:nvSpPr>
              <p:spPr>
                <a:xfrm>
                  <a:off x="5219640" y="2492280"/>
                  <a:ext cx="2970360" cy="14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Line 7"/>
                <p:cNvSpPr/>
                <p:nvPr/>
              </p:nvSpPr>
              <p:spPr>
                <a:xfrm>
                  <a:off x="5276520" y="2492280"/>
                  <a:ext cx="685440" cy="308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Line 8"/>
                <p:cNvSpPr/>
                <p:nvPr/>
              </p:nvSpPr>
              <p:spPr>
                <a:xfrm flipH="1">
                  <a:off x="7444080" y="2492280"/>
                  <a:ext cx="691560" cy="308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Line 9"/>
              <p:cNvSpPr/>
              <p:nvPr/>
            </p:nvSpPr>
            <p:spPr>
              <a:xfrm>
                <a:off x="6648480" y="2492280"/>
                <a:ext cx="1440" cy="308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Line 10"/>
              <p:cNvSpPr/>
              <p:nvPr/>
            </p:nvSpPr>
            <p:spPr>
              <a:xfrm>
                <a:off x="7105680" y="2492280"/>
                <a:ext cx="1440" cy="308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11"/>
              <p:cNvSpPr/>
              <p:nvPr/>
            </p:nvSpPr>
            <p:spPr>
              <a:xfrm>
                <a:off x="6191280" y="2511360"/>
                <a:ext cx="1440" cy="308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12"/>
              <p:cNvSpPr/>
              <p:nvPr/>
            </p:nvSpPr>
            <p:spPr>
              <a:xfrm>
                <a:off x="5734080" y="2492280"/>
                <a:ext cx="1440" cy="19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Line 13"/>
              <p:cNvSpPr/>
              <p:nvPr/>
            </p:nvSpPr>
            <p:spPr>
              <a:xfrm>
                <a:off x="7562880" y="2530440"/>
                <a:ext cx="144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14"/>
              <p:cNvSpPr/>
              <p:nvPr/>
            </p:nvSpPr>
            <p:spPr>
              <a:xfrm>
                <a:off x="7905600" y="2492280"/>
                <a:ext cx="180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15"/>
              <p:cNvSpPr/>
              <p:nvPr/>
            </p:nvSpPr>
            <p:spPr>
              <a:xfrm>
                <a:off x="5391000" y="2492280"/>
                <a:ext cx="1800" cy="57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Line 16"/>
            <p:cNvSpPr/>
            <p:nvPr/>
          </p:nvSpPr>
          <p:spPr>
            <a:xfrm>
              <a:off x="5619600" y="3978360"/>
              <a:ext cx="2171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7"/>
            <p:cNvSpPr/>
            <p:nvPr/>
          </p:nvSpPr>
          <p:spPr>
            <a:xfrm>
              <a:off x="5505480" y="3635280"/>
              <a:ext cx="2400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>
              <a:off x="5734080" y="4321080"/>
              <a:ext cx="1942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>
              <a:off x="5734080" y="4664160"/>
              <a:ext cx="1942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5848200" y="5006880"/>
              <a:ext cx="1714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>
              <a:off x="5467320" y="3292560"/>
              <a:ext cx="2514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2"/>
            <p:cNvSpPr/>
            <p:nvPr/>
          </p:nvSpPr>
          <p:spPr>
            <a:xfrm>
              <a:off x="5391000" y="2949480"/>
              <a:ext cx="2629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>
              <a:off x="5276880" y="2606760"/>
              <a:ext cx="2857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>
              <a:off x="5905440" y="5292720"/>
              <a:ext cx="160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Group 25"/>
          <p:cNvGrpSpPr/>
          <p:nvPr/>
        </p:nvGrpSpPr>
        <p:grpSpPr>
          <a:xfrm>
            <a:off x="1332000" y="2421000"/>
            <a:ext cx="3198600" cy="3198600"/>
            <a:chOff x="1332000" y="2421000"/>
            <a:chExt cx="3198600" cy="3198600"/>
          </a:xfrm>
        </p:grpSpPr>
        <p:sp>
          <p:nvSpPr>
            <p:cNvPr id="121" name="Oval 26"/>
            <p:cNvSpPr/>
            <p:nvPr/>
          </p:nvSpPr>
          <p:spPr>
            <a:xfrm>
              <a:off x="1332000" y="2421000"/>
              <a:ext cx="3198600" cy="3198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Group 27"/>
            <p:cNvGrpSpPr/>
            <p:nvPr/>
          </p:nvGrpSpPr>
          <p:grpSpPr>
            <a:xfrm>
              <a:off x="1332000" y="2421000"/>
              <a:ext cx="3196800" cy="3196800"/>
              <a:chOff x="1332000" y="2421000"/>
              <a:chExt cx="3196800" cy="3196800"/>
            </a:xfrm>
          </p:grpSpPr>
          <p:sp>
            <p:nvSpPr>
              <p:cNvPr id="123" name="Line 28"/>
              <p:cNvSpPr/>
              <p:nvPr/>
            </p:nvSpPr>
            <p:spPr>
              <a:xfrm>
                <a:off x="1369800" y="3715200"/>
                <a:ext cx="3084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" name="Group 29"/>
              <p:cNvGrpSpPr/>
              <p:nvPr/>
            </p:nvGrpSpPr>
            <p:grpSpPr>
              <a:xfrm>
                <a:off x="1332000" y="2421000"/>
                <a:ext cx="3196800" cy="3196800"/>
                <a:chOff x="1332000" y="2421000"/>
                <a:chExt cx="3196800" cy="3196800"/>
              </a:xfrm>
            </p:grpSpPr>
            <p:grpSp>
              <p:nvGrpSpPr>
                <p:cNvPr id="125" name="Group 30"/>
                <p:cNvGrpSpPr/>
                <p:nvPr/>
              </p:nvGrpSpPr>
              <p:grpSpPr>
                <a:xfrm>
                  <a:off x="1712520" y="2487240"/>
                  <a:ext cx="2397240" cy="3082680"/>
                  <a:chOff x="1712520" y="2487240"/>
                  <a:chExt cx="2397240" cy="3082680"/>
                </a:xfrm>
              </p:grpSpPr>
              <p:sp>
                <p:nvSpPr>
                  <p:cNvPr id="126" name="Line 31"/>
                  <p:cNvSpPr/>
                  <p:nvPr/>
                </p:nvSpPr>
                <p:spPr>
                  <a:xfrm>
                    <a:off x="3272400" y="2487240"/>
                    <a:ext cx="1440" cy="308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32"/>
                  <p:cNvSpPr/>
                  <p:nvPr/>
                </p:nvSpPr>
                <p:spPr>
                  <a:xfrm>
                    <a:off x="1712520" y="2991240"/>
                    <a:ext cx="239724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33"/>
                <p:cNvGrpSpPr/>
                <p:nvPr/>
              </p:nvGrpSpPr>
              <p:grpSpPr>
                <a:xfrm>
                  <a:off x="1332000" y="2421000"/>
                  <a:ext cx="3196800" cy="3196800"/>
                  <a:chOff x="1332000" y="2421000"/>
                  <a:chExt cx="3196800" cy="3196800"/>
                </a:xfrm>
              </p:grpSpPr>
              <p:sp>
                <p:nvSpPr>
                  <p:cNvPr id="129" name="Oval 34"/>
                  <p:cNvSpPr/>
                  <p:nvPr/>
                </p:nvSpPr>
                <p:spPr>
                  <a:xfrm>
                    <a:off x="2245320" y="3448080"/>
                    <a:ext cx="1371240" cy="1369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35"/>
                  <p:cNvSpPr/>
                  <p:nvPr/>
                </p:nvSpPr>
                <p:spPr>
                  <a:xfrm>
                    <a:off x="2815920" y="2421000"/>
                    <a:ext cx="1440" cy="319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Line 36"/>
                  <p:cNvSpPr/>
                  <p:nvPr/>
                </p:nvSpPr>
                <p:spPr>
                  <a:xfrm>
                    <a:off x="2359080" y="2534760"/>
                    <a:ext cx="1440" cy="2968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Line 37"/>
                  <p:cNvSpPr/>
                  <p:nvPr/>
                </p:nvSpPr>
                <p:spPr>
                  <a:xfrm flipH="1">
                    <a:off x="3725640" y="2668320"/>
                    <a:ext cx="53640" cy="272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38"/>
                  <p:cNvSpPr/>
                  <p:nvPr/>
                </p:nvSpPr>
                <p:spPr>
                  <a:xfrm>
                    <a:off x="4186080" y="3058560"/>
                    <a:ext cx="1440" cy="1940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39"/>
                  <p:cNvSpPr/>
                  <p:nvPr/>
                </p:nvSpPr>
                <p:spPr>
                  <a:xfrm>
                    <a:off x="1902600" y="2810880"/>
                    <a:ext cx="1440" cy="239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40"/>
                  <p:cNvSpPr/>
                  <p:nvPr/>
                </p:nvSpPr>
                <p:spPr>
                  <a:xfrm>
                    <a:off x="1474560" y="3409920"/>
                    <a:ext cx="1080" cy="1256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41"/>
                  <p:cNvSpPr/>
                  <p:nvPr/>
                </p:nvSpPr>
                <p:spPr>
                  <a:xfrm>
                    <a:off x="2130840" y="2649240"/>
                    <a:ext cx="159840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Line 42"/>
                  <p:cNvSpPr/>
                  <p:nvPr/>
                </p:nvSpPr>
                <p:spPr>
                  <a:xfrm>
                    <a:off x="1493640" y="3334320"/>
                    <a:ext cx="285408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Line 43"/>
                  <p:cNvSpPr/>
                  <p:nvPr/>
                </p:nvSpPr>
                <p:spPr>
                  <a:xfrm>
                    <a:off x="1332000" y="4133160"/>
                    <a:ext cx="31968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44"/>
                  <p:cNvSpPr/>
                  <p:nvPr/>
                </p:nvSpPr>
                <p:spPr>
                  <a:xfrm>
                    <a:off x="1398240" y="4494960"/>
                    <a:ext cx="308232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45"/>
                  <p:cNvSpPr/>
                  <p:nvPr/>
                </p:nvSpPr>
                <p:spPr>
                  <a:xfrm>
                    <a:off x="1560240" y="4856400"/>
                    <a:ext cx="273996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46"/>
                  <p:cNvSpPr/>
                  <p:nvPr/>
                </p:nvSpPr>
                <p:spPr>
                  <a:xfrm>
                    <a:off x="1836000" y="5160960"/>
                    <a:ext cx="216936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47"/>
                  <p:cNvSpPr/>
                  <p:nvPr/>
                </p:nvSpPr>
                <p:spPr>
                  <a:xfrm>
                    <a:off x="2330640" y="5484240"/>
                    <a:ext cx="114156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8080"/>
                </a:solidFill>
                <a:uFillTx/>
                <a:latin typeface="Arial"/>
              </a:rPr>
              <a:t>2. Какому объекту операционной системы </a:t>
            </a:r>
            <a:r>
              <a:rPr b="1" lang="en-US" sz="3200" spc="-1" strike="noStrike" u="sng">
                <a:solidFill>
                  <a:srgbClr val="008080"/>
                </a:solidFill>
                <a:uFillTx/>
                <a:latin typeface="Arial"/>
              </a:rPr>
              <a:t>Windows</a:t>
            </a:r>
            <a:r>
              <a:rPr b="1" lang="ru-RU" sz="3200" spc="-1" strike="noStrike" u="sng">
                <a:solidFill>
                  <a:srgbClr val="008080"/>
                </a:solidFill>
                <a:uFillTx/>
                <a:latin typeface="Arial"/>
              </a:rPr>
              <a:t> соответствует рисунок?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1400" y="1906560"/>
            <a:ext cx="3827520" cy="4524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571920" y="1906560"/>
            <a:ext cx="521496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-3394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ногда ходит, иногда убег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ывает настенный и прикроват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зредка издает резкие зву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ез него утром тяже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Его заводя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3635280" y="2529000"/>
            <a:ext cx="2087280" cy="3130200"/>
            <a:chOff x="3635280" y="2529000"/>
            <a:chExt cx="2087280" cy="3130200"/>
          </a:xfrm>
        </p:grpSpPr>
        <p:sp>
          <p:nvSpPr>
            <p:cNvPr id="147" name="Rectangle 3"/>
            <p:cNvSpPr/>
            <p:nvPr/>
          </p:nvSpPr>
          <p:spPr>
            <a:xfrm>
              <a:off x="3635280" y="2820600"/>
              <a:ext cx="1905120" cy="28371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4371120" y="5073840"/>
              <a:ext cx="271080" cy="58536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5"/>
            <p:cNvSpPr/>
            <p:nvPr/>
          </p:nvSpPr>
          <p:spPr>
            <a:xfrm>
              <a:off x="5540400" y="3488760"/>
              <a:ext cx="182160" cy="58212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6"/>
            <p:cNvSpPr/>
            <p:nvPr/>
          </p:nvSpPr>
          <p:spPr>
            <a:xfrm>
              <a:off x="4179240" y="2529000"/>
              <a:ext cx="816840" cy="29160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409" h="159">
                  <a:moveTo>
                    <a:pt x="0" y="159"/>
                  </a:moveTo>
                  <a:cubicBezTo>
                    <a:pt x="19" y="102"/>
                    <a:pt x="38" y="46"/>
                    <a:pt x="91" y="23"/>
                  </a:cubicBezTo>
                  <a:cubicBezTo>
                    <a:pt x="144" y="0"/>
                    <a:pt x="265" y="0"/>
                    <a:pt x="318" y="23"/>
                  </a:cubicBezTo>
                  <a:cubicBezTo>
                    <a:pt x="371" y="46"/>
                    <a:pt x="394" y="136"/>
                    <a:pt x="409" y="15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1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Объект, изображенный в других ракурсах: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6300720" y="3068640"/>
            <a:ext cx="1582920" cy="1726920"/>
            <a:chOff x="6300720" y="3068640"/>
            <a:chExt cx="1582920" cy="1726920"/>
          </a:xfrm>
        </p:grpSpPr>
        <p:sp>
          <p:nvSpPr>
            <p:cNvPr id="153" name="Oval 3"/>
            <p:cNvSpPr/>
            <p:nvPr/>
          </p:nvSpPr>
          <p:spPr>
            <a:xfrm>
              <a:off x="6300720" y="3212640"/>
              <a:ext cx="1582920" cy="158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4"/>
            <p:cNvSpPr/>
            <p:nvPr/>
          </p:nvSpPr>
          <p:spPr>
            <a:xfrm>
              <a:off x="6516360" y="4579920"/>
              <a:ext cx="14256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>
              <a:off x="7594920" y="4579920"/>
              <a:ext cx="1422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6"/>
            <p:cNvSpPr/>
            <p:nvPr/>
          </p:nvSpPr>
          <p:spPr>
            <a:xfrm>
              <a:off x="7003440" y="3885480"/>
              <a:ext cx="215280" cy="215640"/>
            </a:xfrm>
            <a:prstGeom prst="ellipse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7"/>
            <p:cNvSpPr/>
            <p:nvPr/>
          </p:nvSpPr>
          <p:spPr>
            <a:xfrm>
              <a:off x="7092360" y="3428640"/>
              <a:ext cx="1080" cy="57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8"/>
            <p:cNvSpPr/>
            <p:nvPr/>
          </p:nvSpPr>
          <p:spPr>
            <a:xfrm>
              <a:off x="7092360" y="4004280"/>
              <a:ext cx="64692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7019280" y="3068640"/>
              <a:ext cx="288360" cy="16776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182" h="106">
                  <a:moveTo>
                    <a:pt x="0" y="106"/>
                  </a:moveTo>
                  <a:cubicBezTo>
                    <a:pt x="11" y="68"/>
                    <a:pt x="23" y="30"/>
                    <a:pt x="46" y="15"/>
                  </a:cubicBezTo>
                  <a:cubicBezTo>
                    <a:pt x="69" y="0"/>
                    <a:pt x="113" y="0"/>
                    <a:pt x="136" y="15"/>
                  </a:cubicBezTo>
                  <a:cubicBezTo>
                    <a:pt x="159" y="30"/>
                    <a:pt x="174" y="91"/>
                    <a:pt x="182" y="1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10"/>
          <p:cNvGrpSpPr/>
          <p:nvPr/>
        </p:nvGrpSpPr>
        <p:grpSpPr>
          <a:xfrm>
            <a:off x="755640" y="3573360"/>
            <a:ext cx="1943280" cy="1077480"/>
            <a:chOff x="755640" y="3573360"/>
            <a:chExt cx="1943280" cy="1077480"/>
          </a:xfrm>
        </p:grpSpPr>
        <p:sp>
          <p:nvSpPr>
            <p:cNvPr id="161" name="Rectangle 11"/>
            <p:cNvSpPr/>
            <p:nvPr/>
          </p:nvSpPr>
          <p:spPr>
            <a:xfrm>
              <a:off x="755640" y="3573360"/>
              <a:ext cx="1943280" cy="100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186920" y="4579560"/>
              <a:ext cx="21564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2122920" y="4579560"/>
              <a:ext cx="21564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4"/>
            <p:cNvSpPr/>
            <p:nvPr/>
          </p:nvSpPr>
          <p:spPr>
            <a:xfrm>
              <a:off x="1186920" y="3933000"/>
              <a:ext cx="144360" cy="1443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5"/>
            <p:cNvSpPr/>
            <p:nvPr/>
          </p:nvSpPr>
          <p:spPr>
            <a:xfrm>
              <a:off x="2122920" y="3933000"/>
              <a:ext cx="144000" cy="1443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Group 16"/>
          <p:cNvGrpSpPr/>
          <p:nvPr/>
        </p:nvGrpSpPr>
        <p:grpSpPr>
          <a:xfrm>
            <a:off x="3492360" y="3573360"/>
            <a:ext cx="1943280" cy="1077480"/>
            <a:chOff x="3492360" y="3573360"/>
            <a:chExt cx="1943280" cy="1077480"/>
          </a:xfrm>
        </p:grpSpPr>
        <p:sp>
          <p:nvSpPr>
            <p:cNvPr id="167" name="Rectangle 17"/>
            <p:cNvSpPr/>
            <p:nvPr/>
          </p:nvSpPr>
          <p:spPr>
            <a:xfrm>
              <a:off x="3492360" y="3573360"/>
              <a:ext cx="1943280" cy="1006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18"/>
            <p:cNvSpPr/>
            <p:nvPr/>
          </p:nvSpPr>
          <p:spPr>
            <a:xfrm>
              <a:off x="3779640" y="4579560"/>
              <a:ext cx="21528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19"/>
            <p:cNvSpPr/>
            <p:nvPr/>
          </p:nvSpPr>
          <p:spPr>
            <a:xfrm>
              <a:off x="4858200" y="4579560"/>
              <a:ext cx="21564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20"/>
            <p:cNvSpPr/>
            <p:nvPr/>
          </p:nvSpPr>
          <p:spPr>
            <a:xfrm>
              <a:off x="4284000" y="3859920"/>
              <a:ext cx="431280" cy="43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9966"/>
                </a:solidFill>
                <a:uFillTx/>
                <a:latin typeface="Arial"/>
              </a:rPr>
              <a:t>3. Какому компоненту операционной системы </a:t>
            </a:r>
            <a:r>
              <a:rPr b="1" lang="en-US" sz="3200" spc="-1" strike="noStrike" u="sng">
                <a:solidFill>
                  <a:srgbClr val="339966"/>
                </a:solidFill>
                <a:uFillTx/>
                <a:latin typeface="Arial"/>
              </a:rPr>
              <a:t>Windows</a:t>
            </a:r>
            <a:r>
              <a:rPr b="1" lang="ru-RU" sz="3200" spc="-1" strike="noStrike" u="sng">
                <a:solidFill>
                  <a:srgbClr val="339966"/>
                </a:solidFill>
                <a:uFillTx/>
                <a:latin typeface="Arial"/>
              </a:rPr>
              <a:t> соответствует рисунок?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71400" y="1906560"/>
            <a:ext cx="3827520" cy="4524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650840" y="1906560"/>
            <a:ext cx="43498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-3358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Есть у каждого до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меет конеч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бычно деревян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За ним сидя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а нем находится е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"/>
          <p:cNvGrpSpPr/>
          <p:nvPr/>
        </p:nvGrpSpPr>
        <p:grpSpPr>
          <a:xfrm>
            <a:off x="2071800" y="2857680"/>
            <a:ext cx="4875120" cy="1903320"/>
            <a:chOff x="2071800" y="2857680"/>
            <a:chExt cx="4875120" cy="1903320"/>
          </a:xfrm>
        </p:grpSpPr>
        <p:sp>
          <p:nvSpPr>
            <p:cNvPr id="175" name="Rectangle 3"/>
            <p:cNvSpPr/>
            <p:nvPr/>
          </p:nvSpPr>
          <p:spPr>
            <a:xfrm>
              <a:off x="2071800" y="2857680"/>
              <a:ext cx="4875120" cy="1903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4"/>
            <p:cNvSpPr/>
            <p:nvPr/>
          </p:nvSpPr>
          <p:spPr>
            <a:xfrm>
              <a:off x="2223720" y="3009960"/>
              <a:ext cx="151920" cy="1519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5"/>
            <p:cNvSpPr/>
            <p:nvPr/>
          </p:nvSpPr>
          <p:spPr>
            <a:xfrm>
              <a:off x="2223720" y="4456080"/>
              <a:ext cx="151920" cy="1522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6586560" y="3024000"/>
              <a:ext cx="152280" cy="1522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6586560" y="4456080"/>
              <a:ext cx="152280" cy="1522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3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700360" y="580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53" descr=""/>
          <p:cNvPicPr/>
          <p:nvPr/>
        </p:nvPicPr>
        <p:blipFill>
          <a:blip r:embed="rId1"/>
          <a:stretch/>
        </p:blipFill>
        <p:spPr>
          <a:xfrm>
            <a:off x="4067280" y="4076640"/>
            <a:ext cx="1558800" cy="194616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54"/>
          <p:cNvSpPr/>
          <p:nvPr/>
        </p:nvSpPr>
        <p:spPr>
          <a:xfrm>
            <a:off x="-181080" y="500040"/>
            <a:ext cx="9325080" cy="5759640"/>
          </a:xfrm>
          <a:prstGeom prst="vertic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WordArt 55" descr=""/>
          <p:cNvPicPr/>
          <p:nvPr/>
        </p:nvPicPr>
        <p:blipFill>
          <a:blip r:embed="rId2"/>
          <a:stretch/>
        </p:blipFill>
        <p:spPr>
          <a:xfrm>
            <a:off x="1847880" y="633240"/>
            <a:ext cx="5315040" cy="62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6" descr=""/>
          <p:cNvPicPr/>
          <p:nvPr/>
        </p:nvPicPr>
        <p:blipFill>
          <a:blip r:embed="rId3"/>
          <a:stretch/>
        </p:blipFill>
        <p:spPr>
          <a:xfrm>
            <a:off x="2857680" y="1285920"/>
            <a:ext cx="3692520" cy="46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Объект, изображенный в других ракурсах: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609480" y="2928960"/>
            <a:ext cx="2533680" cy="133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3714840" y="2928960"/>
            <a:ext cx="2274480" cy="1360080"/>
            <a:chOff x="3714840" y="2928960"/>
            <a:chExt cx="2274480" cy="1360080"/>
          </a:xfrm>
        </p:grpSpPr>
        <p:sp>
          <p:nvSpPr>
            <p:cNvPr id="183" name="Rectangle 4"/>
            <p:cNvSpPr/>
            <p:nvPr/>
          </p:nvSpPr>
          <p:spPr>
            <a:xfrm>
              <a:off x="3714840" y="2928960"/>
              <a:ext cx="2274480" cy="1699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5"/>
            <p:cNvSpPr/>
            <p:nvPr/>
          </p:nvSpPr>
          <p:spPr>
            <a:xfrm>
              <a:off x="3796200" y="3098880"/>
              <a:ext cx="162000" cy="119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6"/>
            <p:cNvSpPr/>
            <p:nvPr/>
          </p:nvSpPr>
          <p:spPr>
            <a:xfrm>
              <a:off x="5723640" y="3098880"/>
              <a:ext cx="162720" cy="119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Group 7"/>
          <p:cNvGrpSpPr/>
          <p:nvPr/>
        </p:nvGrpSpPr>
        <p:grpSpPr>
          <a:xfrm>
            <a:off x="6837480" y="3000240"/>
            <a:ext cx="1371240" cy="1380960"/>
            <a:chOff x="6837480" y="3000240"/>
            <a:chExt cx="1371240" cy="1380960"/>
          </a:xfrm>
        </p:grpSpPr>
        <p:sp>
          <p:nvSpPr>
            <p:cNvPr id="187" name="Rectangle 8"/>
            <p:cNvSpPr/>
            <p:nvPr/>
          </p:nvSpPr>
          <p:spPr>
            <a:xfrm>
              <a:off x="6837480" y="3000240"/>
              <a:ext cx="1371240" cy="1724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9"/>
            <p:cNvSpPr/>
            <p:nvPr/>
          </p:nvSpPr>
          <p:spPr>
            <a:xfrm>
              <a:off x="7032960" y="3172680"/>
              <a:ext cx="195480" cy="1208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10"/>
            <p:cNvSpPr/>
            <p:nvPr/>
          </p:nvSpPr>
          <p:spPr>
            <a:xfrm>
              <a:off x="7816680" y="3172680"/>
              <a:ext cx="196200" cy="1208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339966"/>
                </a:solidFill>
                <a:uFillTx/>
                <a:latin typeface="Arial"/>
              </a:rPr>
              <a:t>5. Компьютерное устройство. 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57800" y="1714680"/>
            <a:ext cx="4349520" cy="464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настоящее время необходимость в нем стремительно раст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оится пыли и вл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мещается в карм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 нем помещается очень много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тавляется в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орт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"/>
          <p:cNvPicPr/>
          <p:nvPr/>
        </p:nvPicPr>
        <p:blipFill>
          <a:blip r:embed="rId1"/>
          <a:stretch/>
        </p:blipFill>
        <p:spPr>
          <a:xfrm>
            <a:off x="2500200" y="3286080"/>
            <a:ext cx="377820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08 0.00116 L -0.20885 0.00231 E">
                                      <p:cBhvr>
                                        <p:cTn id="265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040" y="183960"/>
            <a:ext cx="78073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КОНКУРС 5 </a:t>
            </a:r>
            <a:br>
              <a:rPr sz="2400"/>
            </a:br>
            <a:r>
              <a:rPr b="1" lang="ru-RU" sz="6000" spc="-1" strike="noStrike">
                <a:solidFill>
                  <a:srgbClr val="008080"/>
                </a:solidFill>
                <a:latin typeface="Arial"/>
              </a:rPr>
              <a:t>«Словолов» </a:t>
            </a:r>
            <a:br>
              <a:rPr sz="3200"/>
            </a:br>
            <a:br>
              <a:rPr sz="1300"/>
            </a:br>
            <a:endParaRPr b="1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428760" y="1785960"/>
            <a:ext cx="82803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0" i="1" lang="ru-RU" sz="3600" spc="-1" strike="noStrike">
                <a:solidFill>
                  <a:srgbClr val="000080"/>
                </a:solidFill>
                <a:latin typeface="Arial"/>
              </a:rPr>
              <a:t>Найдите как можно больше слов, имеющих отношение к персональному компьютеру. Двигаться можно вниз, вправо и вверх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80"/>
                </a:solidFill>
                <a:latin typeface="Arial"/>
              </a:rPr>
              <a:t>Каждое слово принесет команде 1 бал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928800" y="214200"/>
          <a:ext cx="7094520" cy="6357960"/>
        </p:xfrm>
        <a:graphic>
          <a:graphicData uri="http://schemas.openxmlformats.org/drawingml/2006/table">
            <a:tbl>
              <a:tblPr/>
              <a:tblGrid>
                <a:gridCol w="642960"/>
                <a:gridCol w="653760"/>
                <a:gridCol w="716040"/>
                <a:gridCol w="716040"/>
                <a:gridCol w="716040"/>
                <a:gridCol w="725400"/>
                <a:gridCol w="763560"/>
                <a:gridCol w="723960"/>
                <a:gridCol w="717480"/>
                <a:gridCol w="719280"/>
              </a:tblGrid>
              <a:tr h="635040"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4680"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960"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Стрелка вправо 2">
            <a:hlinkClick r:id="rId1" action="ppaction://hlinksldjump"/>
          </p:cNvPr>
          <p:cNvSpPr/>
          <p:nvPr/>
        </p:nvSpPr>
        <p:spPr>
          <a:xfrm>
            <a:off x="8358120" y="6500880"/>
            <a:ext cx="57168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119240" y="444600"/>
          <a:ext cx="6759360" cy="5992560"/>
        </p:xfrm>
        <a:graphic>
          <a:graphicData uri="http://schemas.openxmlformats.org/drawingml/2006/table">
            <a:tbl>
              <a:tblPr/>
              <a:tblGrid>
                <a:gridCol w="554040"/>
                <a:gridCol w="681120"/>
                <a:gridCol w="682560"/>
                <a:gridCol w="682560"/>
                <a:gridCol w="682560"/>
                <a:gridCol w="690480"/>
                <a:gridCol w="727200"/>
                <a:gridCol w="690480"/>
                <a:gridCol w="682560"/>
                <a:gridCol w="685800"/>
              </a:tblGrid>
              <a:tr h="598320"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680"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320"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680"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320"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680"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320"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320"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680"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6240"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5680" bIns="46800" anchor="t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80"/>
                      </a:solidFill>
                    </a:lnL>
                    <a:lnR w="3600">
                      <a:solidFill>
                        <a:srgbClr val="000080"/>
                      </a:solidFill>
                    </a:lnR>
                    <a:lnT w="3600">
                      <a:solidFill>
                        <a:srgbClr val="000080"/>
                      </a:solidFill>
                    </a:lnT>
                    <a:lnB w="360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98" name="Picture 322" descr=""/>
          <p:cNvPicPr/>
          <p:nvPr/>
        </p:nvPicPr>
        <p:blipFill>
          <a:blip r:embed="rId1"/>
          <a:stretch/>
        </p:blipFill>
        <p:spPr>
          <a:xfrm>
            <a:off x="1260360" y="539640"/>
            <a:ext cx="648036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71400" y="1950840"/>
            <a:ext cx="78091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34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008080"/>
                </a:solidFill>
                <a:latin typeface="Times New Roman"/>
              </a:rPr>
              <a:t>Удачи и успехов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272916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гра со зрителями</a:t>
            </a:r>
            <a:endParaRPr b="1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71040" y="1906560"/>
            <a:ext cx="78073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Терми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лов составить слова связанные с информатикой и компьютером. Составлять слова только из тех букв которые в словах. За каждое отгаданное слово – 1 фи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713880" y="857160"/>
            <a:ext cx="78073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-3016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д, дис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ф, нота, ик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ь, пис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, ко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м, поро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, май, та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трелка вправо 3">
            <a:hlinkClick r:id="rId1" action="ppaction://hlinksldjump"/>
          </p:cNvPr>
          <p:cNvSpPr/>
          <p:nvPr/>
        </p:nvSpPr>
        <p:spPr>
          <a:xfrm>
            <a:off x="8429760" y="6429240"/>
            <a:ext cx="714240" cy="4287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гра со зрителями</a:t>
            </a:r>
            <a:endParaRPr b="1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71040" y="1906560"/>
            <a:ext cx="78073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Ребус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адать слова связанные с информатикой и компьютером. За каждое отгаданное слово – 1 фи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8" name="border" descr="модем"/>
          <p:cNvPicPr/>
          <p:nvPr/>
        </p:nvPicPr>
        <p:blipFill>
          <a:blip r:embed="rId1"/>
          <a:stretch/>
        </p:blipFill>
        <p:spPr>
          <a:xfrm>
            <a:off x="285840" y="1000080"/>
            <a:ext cx="8642160" cy="44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073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КОНКУРС 2</a:t>
            </a:r>
            <a:br>
              <a:rPr sz="2400"/>
            </a:br>
            <a:r>
              <a:rPr b="1" lang="ru-RU" sz="6600" spc="-1" strike="noStrike">
                <a:solidFill>
                  <a:srgbClr val="008080"/>
                </a:solidFill>
                <a:latin typeface="Arial"/>
              </a:rPr>
              <a:t>«Разминка»</a:t>
            </a:r>
            <a:br>
              <a:rPr sz="6600"/>
            </a:br>
            <a:br>
              <a:rPr sz="1300"/>
            </a:br>
            <a:endParaRPr b="1" lang="en-US" sz="6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68360" y="191628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Вопросы задаются по очереди каждой команде. Если команда правильно отвечает на вопрос, ей дается 1 балл, если не отвечает или ответ не верный, то вопрос переходит следующей команде соперник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border" descr="накопитель"/>
          <p:cNvPicPr/>
          <p:nvPr/>
        </p:nvPicPr>
        <p:blipFill>
          <a:blip r:embed="rId1"/>
          <a:stretch/>
        </p:blipFill>
        <p:spPr>
          <a:xfrm>
            <a:off x="500040" y="1357200"/>
            <a:ext cx="82152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8521560" cy="37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border" descr="клавиша"/>
          <p:cNvPicPr/>
          <p:nvPr/>
        </p:nvPicPr>
        <p:blipFill>
          <a:blip r:embed="rId1"/>
          <a:stretch/>
        </p:blipFill>
        <p:spPr>
          <a:xfrm>
            <a:off x="428760" y="1143000"/>
            <a:ext cx="8286480" cy="47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6" name="border" descr="винчестер"/>
          <p:cNvPicPr/>
          <p:nvPr/>
        </p:nvPicPr>
        <p:blipFill>
          <a:blip r:embed="rId1"/>
          <a:stretch/>
        </p:blipFill>
        <p:spPr>
          <a:xfrm>
            <a:off x="428760" y="1143000"/>
            <a:ext cx="82864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8" name="border" descr="программист"/>
          <p:cNvPicPr/>
          <p:nvPr/>
        </p:nvPicPr>
        <p:blipFill>
          <a:blip r:embed="rId1"/>
          <a:stretch/>
        </p:blipFill>
        <p:spPr>
          <a:xfrm>
            <a:off x="500040" y="1000080"/>
            <a:ext cx="814392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42920" y="2571840"/>
            <a:ext cx="8715240" cy="28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81000" y="2071800"/>
            <a:ext cx="9063000" cy="2612880"/>
          </a:xfrm>
          <a:prstGeom prst="rect">
            <a:avLst/>
          </a:prstGeom>
          <a:ln w="0">
            <a:noFill/>
          </a:ln>
        </p:spPr>
      </p:pic>
      <p:sp>
        <p:nvSpPr>
          <p:cNvPr id="223" name="Стрелка вправо 6">
            <a:hlinkClick r:id="rId2" action="ppaction://hlinksldjump"/>
          </p:cNvPr>
          <p:cNvSpPr/>
          <p:nvPr/>
        </p:nvSpPr>
        <p:spPr>
          <a:xfrm>
            <a:off x="8501040" y="6500880"/>
            <a:ext cx="428760" cy="35712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400" spc="-1" strike="noStrike">
                <a:solidFill>
                  <a:srgbClr val="008080"/>
                </a:solidFill>
                <a:latin typeface="Arial"/>
              </a:rPr>
              <a:t>Список литературы: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-609480">
              <a:lnSpc>
                <a:spcPct val="93000"/>
              </a:lnSpc>
              <a:buClr>
                <a:srgbClr val="000099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Занимательные задачи по информатике. Задачник. Л.Л. Босова, А.Ю. Босова, Ю.Г. Коломен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buClr>
                <a:srgbClr val="000099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нформатика в увлекательных задачах. Д.М. Златопольский. Библиотечка «Первого сентября»,  200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buClr>
                <a:srgbClr val="000099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Занимательные задачи и ребусы по информатике. А.А. Зубрилин. «Информатика в школе», №3-200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buClr>
                <a:srgbClr val="000099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МК “Роботландия”. А.А. Дуванов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20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58920" y="685440"/>
            <a:ext cx="878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ru-RU" sz="5400" spc="-1" strike="noStrike">
                <a:solidFill>
                  <a:srgbClr val="000099"/>
                </a:solidFill>
                <a:latin typeface="Arial"/>
              </a:rPr>
              <a:t>Часть клавиатуры.</a:t>
            </a:r>
            <a:br>
              <a:rPr sz="5400"/>
            </a:br>
            <a:r>
              <a:rPr b="0" lang="ru-RU" sz="5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Arial"/>
              </a:rPr>
              <a:t>8 бит.</a:t>
            </a:r>
            <a:br>
              <a:rPr sz="5400"/>
            </a:br>
            <a:r>
              <a:rPr b="0" lang="ru-RU" sz="5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Arial"/>
              </a:rPr>
              <a:t>Оно есть как у файла, так и у человек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58920" y="361440"/>
            <a:ext cx="8785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0720" indent="-3553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Материальный объект для хранения информаци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50720" indent="-3553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50720" indent="-3553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Исправление ошибок в    тексте. </a:t>
            </a:r>
            <a:r>
              <a:rPr b="0" i="1" lang="ru-RU" sz="4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50720" indent="-3553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50720" indent="-3553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Список, из которого можно выбрать команду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14200" y="382320"/>
            <a:ext cx="87854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1720" indent="-5317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Как зовут дирижера оркестра компьютерных устройств?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Указатель позиции на экране диспле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Как называется главная плата компьютера?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358920" y="532080"/>
            <a:ext cx="8785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Как долго хранится информация в оперативной памяти компьютера?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Сколько времени вам потребуется для создания изображения в простейшем музыкальном редакторе?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Как долго хранится информация в постоянной памяти компьютера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214200" y="104400"/>
            <a:ext cx="89298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И военный, и строительный, и системный в персональном компьютере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И семейный, и военный, и файловый.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И место для стоянки и разгрузки судов, и точка подключения внешних устройств к шине компьютер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183960"/>
            <a:ext cx="780732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КОНКУРС 3</a:t>
            </a:r>
            <a:br>
              <a:rPr sz="2400"/>
            </a:b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«Анаграмма, или  переставь буквы и получи слово»</a:t>
            </a:r>
            <a:br>
              <a:rPr sz="3600"/>
            </a:br>
            <a:br>
              <a:rPr sz="1300"/>
            </a:b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28760" y="1800360"/>
            <a:ext cx="83912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80"/>
                </a:solidFill>
                <a:latin typeface="Arial"/>
              </a:rPr>
              <a:t>Переставьте буквы так, чтобы получились слова, связанные с темой, указанной в заголовке зада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За каждое правильно отгаданное слово по 1 балл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6:20:20Z</dcterms:created>
  <dc:creator>Test1</dc:creator>
  <dc:description/>
  <dc:language>en-US</dc:language>
  <cp:lastModifiedBy>inform7</cp:lastModifiedBy>
  <dcterms:modified xsi:type="dcterms:W3CDTF">2014-01-27T08:09:01Z</dcterms:modified>
  <cp:revision>62</cp:revision>
  <dc:subject/>
  <dc:title>1.Какому объекту операционной системы Windows соответствует рисунок?</dc:title>
</cp:coreProperties>
</file>