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media/image12.png" ContentType="image/pn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9397-FD85-4F1F-B449-FD2CD87E0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F490-EA25-4276-A771-3F582E89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4DF6-1B6E-4FF4-89C3-AE613FB2C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8A6C-2821-477C-8163-6D49BB351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85F9D-5BDA-4DA3-87F0-503744B81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9A13-70CE-4108-82EA-8D6CF181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550F-A57E-4DCC-8704-D449B458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41552-2F38-4D96-81B2-FECE09A9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550D-924C-4798-9B41-E6073DA9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B680-D770-4879-8881-2E9A0B07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DAA51-28D8-4E38-AE8B-4FB19B75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B712-19AD-49EC-9C1C-342C2DAC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A1A7-118D-44EA-A7A7-F34225B4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F091-2B8F-4023-978C-097EF1A7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8A08-DB25-469C-82A5-7012D944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2C0E1-5139-451D-80F8-0442AA7E2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2AF3-3CD6-4BD7-9178-076796839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470F-88E6-4762-9F61-CD0BEC7F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4272-72B9-42D6-A6F4-911885EF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A5A4-1098-48E5-B96E-28FAEE6F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B20C-11C3-4573-A6B6-0C94720B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C7E7-49ED-4651-9E84-E556FC7E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A866-30AD-4FDD-BB89-E4F5884E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3196-442F-4909-9D47-5B8E3A02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A14E-55E5-4636-9EE2-2877FC177BA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EAEC-CF81-4E12-B770-A165651626A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5;&#1075;&#1083;&#1080;&#1081;&#1089;&#1082;&#1080;&#1081;_&#1103;&#1079;&#1099;&#1082;" TargetMode="External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27432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-108360" y="380880"/>
            <a:ext cx="524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Garamond"/>
              </a:rPr>
              <a:t>Шведов Виктор Валентинови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Garamond"/>
              </a:rPr>
              <a:t>Учитель физической куль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Garamond"/>
              </a:rPr>
              <a:t>МОУ СОШ №4 г. Минья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066680"/>
            <a:ext cx="80010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ТЕХНИКА ОВЛАДЕНИЯ МЯЧОМ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5800" y="4114800"/>
            <a:ext cx="2819520" cy="22273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60960" y="2895480"/>
            <a:ext cx="25624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0880" y="1447920"/>
            <a:ext cx="4267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Если противник удерживает мяч, находясь на месте или выполняя повороты, целесообразно вырвать у него мяч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2840" y="457200"/>
            <a:ext cx="35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cc00"/>
                </a:solidFill>
                <a:uFillTx/>
                <a:latin typeface="Verdana"/>
              </a:rPr>
              <a:t>Вырывани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724280" y="1371600"/>
            <a:ext cx="4114800" cy="3125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80880" y="4572000"/>
            <a:ext cx="7925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Известно два способа вырывания: рывком на себя и толчком на противника вперед - вниз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038480" y="1523880"/>
            <a:ext cx="4876920" cy="57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Garamond"/>
              </a:rPr>
              <a:t>Захватив мяч с двух сторон, быстрым движением, делается сильный рывок на себя не разгибая рук и с одновременным поворотом туловища спиной к противнику.</a:t>
            </a:r>
            <a:r>
              <a:rPr b="1" lang="en-US" sz="3200" spc="-1" strike="noStrike">
                <a:solidFill>
                  <a:srgbClr val="eaeaea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-246960" y="228600"/>
            <a:ext cx="782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cc00"/>
                </a:solidFill>
                <a:uFillTx/>
                <a:latin typeface="Rockwell"/>
              </a:rPr>
              <a:t>Вырывание рывком на себ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1212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04920" y="1752480"/>
            <a:ext cx="4038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Одновременно с захватом игрок как бы «наваливается» на мяч, толкая его в свободную от захвата сторону, вперед - вниз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22860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cc00"/>
                </a:solidFill>
                <a:uFillTx/>
                <a:latin typeface="Rockwell"/>
              </a:rPr>
              <a:t>Вырывание толчком на противника вперед - вниз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191120" y="2057400"/>
            <a:ext cx="4724280" cy="2952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04920" y="5105520"/>
            <a:ext cx="883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с одновременным поворотом туловищ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спиной к противнику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0880" y="1371600"/>
            <a:ext cx="8458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Для овладения мячом надо выйти к нему, высоко выпрыгнуть и поймать мяч в возможно более высокой точке раньше, чем это сделает противник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96440" y="45720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cc00"/>
                </a:solidFill>
                <a:uFillTx/>
                <a:latin typeface="Verdana"/>
              </a:rPr>
              <a:t>Взятие отскока мяч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3354480"/>
            <a:ext cx="5562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Приземлившись на площадку, надо укрыть мяч, для чего баскетболист широко расставляет ноги, отводит локти в стороны, а мяч укрывает туловищем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019920" y="2971800"/>
            <a:ext cx="246204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0" y="685800"/>
            <a:ext cx="815328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АЩИТ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–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ОТ ЛУЧШЕЕ НАПАДЕ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38080" y="798480"/>
            <a:ext cx="746784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cc00"/>
              </a:buClr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Rockwell"/>
              </a:rPr>
              <a:t>Нестеровский Д.И. Баскетбол: Теория и методика обучения: учеб. пособие для студ. высш. учеб. заведений /Д.И. Нестеровский. — 3-е изд., стер. — М.: Издательский центр «Академия», 2007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cc00"/>
              </a:buClr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cc00"/>
              </a:buClr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Rockwell"/>
              </a:rPr>
              <a:t>Упражнения в баскетболе. "Физкультура и спорт", 1972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Rockwell"/>
              </a:rPr>
              <a:t>3. Физкультура и Спорт малая энциклопедия (Гусевой Г.В., Кондрашовой Н.М., Милютина В.П., 1992г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3200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Rockwell"/>
              </a:rPr>
              <a:t>Литература: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609480"/>
            <a:ext cx="8458200" cy="80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66"/>
                </a:solidFill>
                <a:latin typeface="Garamond"/>
              </a:rPr>
              <a:t>Прежде чем нападать,</a:t>
            </a: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66"/>
                </a:solidFill>
                <a:latin typeface="Garamond"/>
              </a:rPr>
              <a:t> </a:t>
            </a:r>
            <a:r>
              <a:rPr b="1" i="1" lang="en-US" sz="5200" spc="-1" strike="noStrike" u="sng">
                <a:solidFill>
                  <a:srgbClr val="ff6600"/>
                </a:solidFill>
                <a:uFillTx/>
                <a:latin typeface="Garamond"/>
              </a:rPr>
              <a:t>вы должны овладеть</a:t>
            </a:r>
            <a:r>
              <a:rPr b="1" lang="en-US" sz="5200" spc="-1" strike="noStrike" u="sng">
                <a:solidFill>
                  <a:srgbClr val="ff6600"/>
                </a:solidFill>
                <a:uFillTx/>
                <a:latin typeface="Garamond"/>
              </a:rPr>
              <a:t> мячом</a:t>
            </a:r>
            <a:r>
              <a:rPr b="1" lang="en-US" sz="5200" spc="-1" strike="noStrike">
                <a:solidFill>
                  <a:srgbClr val="ffff66"/>
                </a:solidFill>
                <a:latin typeface="Garamond"/>
              </a:rPr>
              <a:t> - свободным (временно не контролируемым никем) или контролируемым противником.</a:t>
            </a:r>
            <a:br>
              <a:rPr sz="5200"/>
            </a:br>
            <a:br>
              <a:rPr sz="5400"/>
            </a:b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0880" y="-76320"/>
            <a:ext cx="853452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Rockwell"/>
              </a:rPr>
              <a:t>Умение перехватывать передачи противника отражают высокий интеллектуальный уровень игрока. Это умение говорит о том, что игрок всегда внимательно следит за действиями игроков команды нападения и в отдельные моменты предугадывает их действи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Rockwell"/>
              </a:rPr>
              <a:t>( читает игру ).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00"/>
                </a:solidFill>
                <a:latin typeface="Garamond"/>
              </a:rPr>
              <a:t>К приемам овладения мячом относятся:</a:t>
            </a:r>
            <a:r>
              <a:rPr b="1" lang="en-US" sz="4800" spc="-1" strike="noStrike">
                <a:solidFill>
                  <a:srgbClr val="ffff66"/>
                </a:solidFill>
                <a:latin typeface="Garamond"/>
              </a:rPr>
              <a:t> </a:t>
            </a:r>
            <a:br>
              <a:rPr sz="4800"/>
            </a:b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190512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Перехват, вырывание и взятие отскока от щи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943600" y="3429000"/>
            <a:ext cx="2895480" cy="1917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581280" y="3429000"/>
            <a:ext cx="2079720" cy="3124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80880" y="3429000"/>
            <a:ext cx="289584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4920" y="1371600"/>
            <a:ext cx="5943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противодействия, время его выполнения, характер действия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Garamond"/>
              </a:rPr>
              <a:t>всегда зависят</a:t>
            </a: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 от противника, владеющего мячо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3809880"/>
            <a:ext cx="4495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Он имеет возможность выполнять свои движения раньше, чем способен среагировать на них защитник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715000" y="1371600"/>
            <a:ext cx="3247920" cy="4876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-541800" y="380880"/>
            <a:ext cx="1042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Главной особенностью этих приемов являет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то, что выбор прие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191120" y="761760"/>
            <a:ext cx="4952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   </a:t>
            </a: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Поэтому в приемах, осуществляемых довольно простыми движениями, первостепенное значение принадлежит выбору позиции, позволяющей действовать быстро, своевременно и безошибочно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347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77560"/>
            <a:ext cx="838224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cc00"/>
                </a:solidFill>
                <a:uFillTx/>
                <a:latin typeface="Verdana"/>
              </a:rPr>
              <a:t>Перехват</a:t>
            </a:r>
            <a:r>
              <a:rPr b="1" lang="ru-RU" sz="36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fff66"/>
                </a:solidFill>
                <a:latin typeface="Garamond"/>
              </a:rPr>
              <a:t>(англ</a:t>
            </a:r>
            <a:r>
              <a:rPr b="1" lang="ru-RU" sz="3600" spc="-1" strike="noStrike" u="sng">
                <a:solidFill>
                  <a:srgbClr val="ffffcc"/>
                </a:solidFill>
                <a:uFillTx/>
                <a:latin typeface="Garamond"/>
                <a:hlinkClick r:id="rId1"/>
              </a:rPr>
              <a:t>.</a:t>
            </a:r>
            <a:r>
              <a:rPr b="1" lang="ru-RU" sz="3600" spc="-1" strike="noStrike">
                <a:solidFill>
                  <a:srgbClr val="ffff66"/>
                </a:solidFill>
                <a:latin typeface="Garamond"/>
              </a:rPr>
              <a:t> </a:t>
            </a:r>
            <a:r>
              <a:rPr b="1" i="1" lang="en" sz="3600" spc="-1" strike="noStrike">
                <a:solidFill>
                  <a:srgbClr val="ffff66"/>
                </a:solidFill>
                <a:latin typeface="Garamond"/>
              </a:rPr>
              <a:t>steal</a:t>
            </a:r>
            <a:r>
              <a:rPr b="1" lang="ru-RU" sz="3600" spc="-1" strike="noStrike">
                <a:solidFill>
                  <a:srgbClr val="ffff66"/>
                </a:solidFill>
                <a:latin typeface="Garamond"/>
              </a:rPr>
              <a:t>) - наиболее активный прием техники защиты.</a:t>
            </a:r>
            <a:br>
              <a:rPr sz="3600"/>
            </a:br>
            <a:br>
              <a:rPr sz="3200"/>
            </a:br>
            <a:r>
              <a:rPr b="1" lang="ru-RU" sz="3200" spc="-1" strike="noStrike">
                <a:solidFill>
                  <a:srgbClr val="ffff66"/>
                </a:solidFill>
                <a:latin typeface="Garamond"/>
              </a:rPr>
              <a:t>Он обеспечивает возможность овладения мячом и осуществления контратаки. </a:t>
            </a:r>
            <a:br>
              <a:rPr sz="3200"/>
            </a:br>
            <a:r>
              <a:rPr b="1" lang="ru-RU" sz="3200" spc="-1" strike="noStrike">
                <a:solidFill>
                  <a:srgbClr val="ffff66"/>
                </a:solidFill>
                <a:latin typeface="Garamond"/>
              </a:rPr>
              <a:t>С помощью этого приема можно противодействовать передачам и ведению (перенимание мяча).</a:t>
            </a:r>
            <a:br>
              <a:rPr sz="3200"/>
            </a:br>
            <a:r>
              <a:rPr b="1" lang="ru-RU" sz="3200" spc="-1" strike="noStrike">
                <a:solidFill>
                  <a:srgbClr val="ffff66"/>
                </a:solidFill>
                <a:latin typeface="Garamond"/>
              </a:rPr>
              <a:t>После перехвата мяча защищающаяся команда переходит в быстрый прорыв и набирает «лёгкие» очки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3733560"/>
            <a:ext cx="83059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В момент отрыва мяча от рук передающего следует резко выйти вперед, опередив подопечного и преградив ему возможность выхода, овладеть мячом, поймав его или толкнув вперед с последующим овладением.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304920"/>
            <a:ext cx="601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cc00"/>
                </a:solidFill>
                <a:uFillTx/>
                <a:latin typeface="Rockwell"/>
              </a:rPr>
              <a:t>Перехват передачи.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295280"/>
            <a:ext cx="5943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Защитник располагается несколько сбоку ил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за спиной нападающего и выжидает, когда ему будет направлена передач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791320" y="228600"/>
            <a:ext cx="29779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990720"/>
            <a:ext cx="50292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Следуя рядом с игроком, ведущим мяч, надо определить ритм толчков по мячу и быстрым рывком выйти к мячу, когда он находится в свободном полете, перенять ведени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-187560" y="117360"/>
            <a:ext cx="792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cc00"/>
                </a:solidFill>
                <a:uFillTx/>
                <a:latin typeface="Rockwell"/>
              </a:rPr>
              <a:t>Перехват при ведении мяч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4120" y="1143000"/>
            <a:ext cx="3551040" cy="3886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0880" y="5029200"/>
            <a:ext cx="8153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подставив руку для встречи мяча раньш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чем это сделает ведущий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3-29T10:52:16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