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media/image12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0C98-F0B4-4EBC-AA8C-4B6D9C24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3FDD-6471-438B-9B37-5413E479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FC2A-10A1-4300-A21B-8D19FCC2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C1DC-4588-4A01-811A-F802819E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55A7-544C-4805-9E2F-6EEEF0BE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45DC-9206-4982-94BC-35030E8E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16AF-32BC-4246-99AC-E5246C8E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E756-6AD6-4299-9BBD-1C7512DA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B92E-BC0F-441C-9640-363353E8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4FA2-0ADA-4C2A-A28E-FA96A037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1E70-E698-4C19-926F-A620E57F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503B-B301-4FA3-BE15-CE1DC43E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DFBA-5EEB-4F0D-B3AF-972629E0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8040-D5FB-4E57-8E6A-FBD9EB3F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9821-4A11-486E-8A60-03213D0B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5709-88A3-4C71-960B-CAC0D0B9B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9BE3-6C32-4E1D-8B72-C6E41A6C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C6B2-2DAA-45C4-B831-B7E08FD7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0D8D-2DB3-41C0-B041-FA61DFF8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404F-D054-4609-AE80-56FAF5A6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42BF-32C9-47EF-B501-2F837A1B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6833-33DC-4B2D-9C92-3BD7C3BF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022C-E034-433B-BB70-EAF839E6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983D-C628-420C-BC33-91ABC91E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9365-0016-4202-A660-7079AC8FB8B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D40D-A9BB-42E0-8C9A-9750EB3A5DD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75;&#1083;&#1080;&#1081;&#1089;&#1082;&#1080;&#1081;_&#1103;&#1079;&#1099;&#1082;" TargetMode="External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27432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108360" y="380880"/>
            <a:ext cx="524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Garamond"/>
              </a:rPr>
              <a:t>Шведов Виктор Валентин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Garamond"/>
              </a:rPr>
              <a:t>Учитель физической куль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Garamond"/>
              </a:rPr>
              <a:t>МОУ СОШ №4 г. Минья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066680"/>
            <a:ext cx="80010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ТЕХНИКА ОВЛАДЕНИЯ МЯЧОМ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5800" y="4114800"/>
            <a:ext cx="2819520" cy="2227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60960" y="2895480"/>
            <a:ext cx="25624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0880" y="1447920"/>
            <a:ext cx="4267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Если противник удерживает мяч, находясь на месте или выполняя повороты, целесообразно вырвать у него мяч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840" y="457200"/>
            <a:ext cx="35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cc00"/>
                </a:solidFill>
                <a:uFillTx/>
                <a:latin typeface="Verdana"/>
              </a:rPr>
              <a:t>Вырывани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724280" y="1371600"/>
            <a:ext cx="4114800" cy="3125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80880" y="4572000"/>
            <a:ext cx="7925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Известно два способа вырывания: рывком на себя и толчком на противника вперед - вниз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038480" y="1523880"/>
            <a:ext cx="487692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Garamond"/>
              </a:rPr>
              <a:t>Захватив мяч с двух сторон, быстрым движением, делается сильный рывок на себя не разгибая рук и с одновременным поворотом туловища спиной к противнику.</a:t>
            </a: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246960" y="228600"/>
            <a:ext cx="782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cc00"/>
                </a:solidFill>
                <a:uFillTx/>
                <a:latin typeface="Rockwell"/>
              </a:rPr>
              <a:t>Вырывание рывком на себ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1212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04920" y="1752480"/>
            <a:ext cx="4038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Одновременно с захватом игрок как бы «наваливается» на мяч, толкая его в свободную от захвата сторону, вперед - вниз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22860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cc00"/>
                </a:solidFill>
                <a:uFillTx/>
                <a:latin typeface="Rockwell"/>
              </a:rPr>
              <a:t>Вырывание толчком на противника вперед - вниз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191120" y="2057400"/>
            <a:ext cx="4724280" cy="2952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04920" y="5105520"/>
            <a:ext cx="883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с одновременным поворотом туловищ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спиной к противнику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1371600"/>
            <a:ext cx="8458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Для овладения мячом надо выйти к нему, высоко выпрыгнуть и поймать мяч в возможно более высокой точке раньше, чем это сделает противник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96440" y="45720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cc00"/>
                </a:solidFill>
                <a:uFillTx/>
                <a:latin typeface="Verdana"/>
              </a:rPr>
              <a:t>Взятие отскока мяч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3354480"/>
            <a:ext cx="556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Приземлившись на площадку, надо укрыть мяч, для чего баскетболист широко расставляет ноги, отводит локти в стороны, а мяч укрывает туловищем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019920" y="2971800"/>
            <a:ext cx="246204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0" y="685800"/>
            <a:ext cx="815328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ЩИТ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–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ОТ ЛУЧШЕЕ НАПАДЕ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38080" y="798480"/>
            <a:ext cx="746784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cc00"/>
              </a:buClr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Rockwell"/>
              </a:rPr>
              <a:t>Нестеровский Д.И. Баскетбол: Теория и методика обучения: учеб. пособие для студ. высш. учеб. заведений /Д.И. Нестеровский. — 3-е изд., стер. — М.: Издательский центр «Академия», 2007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cc00"/>
              </a:buClr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cc00"/>
              </a:buClr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Rockwell"/>
              </a:rPr>
              <a:t>Упражнения в баскетболе. "Физкультура и спорт", 1972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Rockwell"/>
              </a:rPr>
              <a:t>3. Физкультура и Спорт малая энциклопедия (Гусевой Г.В., Кондрашовой Н.М., Милютина В.П., 1992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3200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Rockwell"/>
              </a:rPr>
              <a:t>Литература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609480"/>
            <a:ext cx="8458200" cy="80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66"/>
                </a:solidFill>
                <a:latin typeface="Garamond"/>
              </a:rPr>
              <a:t>Прежде чем нападать,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66"/>
                </a:solidFill>
                <a:latin typeface="Garamond"/>
              </a:rPr>
              <a:t> </a:t>
            </a:r>
            <a:r>
              <a:rPr b="1" i="1" lang="en-US" sz="5200" spc="-1" strike="noStrike" u="sng">
                <a:solidFill>
                  <a:srgbClr val="ff6600"/>
                </a:solidFill>
                <a:uFillTx/>
                <a:latin typeface="Garamond"/>
              </a:rPr>
              <a:t>вы должны овладеть</a:t>
            </a:r>
            <a:r>
              <a:rPr b="1" lang="en-US" sz="5200" spc="-1" strike="noStrike" u="sng">
                <a:solidFill>
                  <a:srgbClr val="ff6600"/>
                </a:solidFill>
                <a:uFillTx/>
                <a:latin typeface="Garamond"/>
              </a:rPr>
              <a:t> мячом</a:t>
            </a:r>
            <a:r>
              <a:rPr b="1" lang="en-US" sz="5200" spc="-1" strike="noStrike">
                <a:solidFill>
                  <a:srgbClr val="ffff66"/>
                </a:solidFill>
                <a:latin typeface="Garamond"/>
              </a:rPr>
              <a:t> - свободным (временно не контролируемым никем) или контролируемым противником.</a:t>
            </a:r>
            <a:br>
              <a:rPr sz="5200"/>
            </a:br>
            <a:br>
              <a:rPr sz="5400"/>
            </a:b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-76320"/>
            <a:ext cx="853452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Rockwell"/>
              </a:rPr>
              <a:t>Умение перехватывать передачи противника отражают высокий интеллектуальный уровень игрока. Это умение говорит о том, что игрок всегда внимательно следит за действиями игроков команды нападения и в отдельные моменты предугадывает их действ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Rockwell"/>
              </a:rPr>
              <a:t>( читает игру ).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Garamond"/>
              </a:rPr>
              <a:t>К приемам овладения мячом относятся:</a:t>
            </a:r>
            <a:r>
              <a:rPr b="1" lang="en-US" sz="4800" spc="-1" strike="noStrike">
                <a:solidFill>
                  <a:srgbClr val="ffff66"/>
                </a:solidFill>
                <a:latin typeface="Garamond"/>
              </a:rPr>
              <a:t> </a:t>
            </a:r>
            <a:br>
              <a:rPr sz="4800"/>
            </a:b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9051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Перехват, вырывание и взятие отскока от щи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943600" y="3429000"/>
            <a:ext cx="2895480" cy="1917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581280" y="3429000"/>
            <a:ext cx="2079720" cy="3124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80880" y="3429000"/>
            <a:ext cx="289584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1371600"/>
            <a:ext cx="5943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противодействия, время его выполнения, характер действия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Garamond"/>
              </a:rPr>
              <a:t>всегда зависят</a:t>
            </a: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 от противника, владеющего мяч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3809880"/>
            <a:ext cx="4495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Он имеет возможность выполнять свои движения раньше, чем способен среагировать на них защитник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715000" y="1371600"/>
            <a:ext cx="3247920" cy="4876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-541800" y="380880"/>
            <a:ext cx="1042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Главной особенностью этих приемов являет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то, что выбор прие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191120" y="76176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   </a:t>
            </a: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Поэтому в приемах, осуществляемых довольно простыми движениями, первостепенное значение принадлежит выбору позиции, позволяющей действовать быстро, своевременно и безошибочно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347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77560"/>
            <a:ext cx="838224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cc00"/>
                </a:solidFill>
                <a:uFillTx/>
                <a:latin typeface="Verdana"/>
              </a:rPr>
              <a:t>Перехват</a:t>
            </a:r>
            <a:r>
              <a:rPr b="1" lang="ru-RU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ff66"/>
                </a:solidFill>
                <a:latin typeface="Garamond"/>
              </a:rPr>
              <a:t>(англ</a:t>
            </a:r>
            <a:r>
              <a:rPr b="1" lang="ru-RU" sz="3600" spc="-1" strike="noStrike" u="sng">
                <a:solidFill>
                  <a:srgbClr val="ffffcc"/>
                </a:solidFill>
                <a:uFillTx/>
                <a:latin typeface="Garamond"/>
                <a:hlinkClick r:id="rId1"/>
              </a:rPr>
              <a:t>.</a:t>
            </a:r>
            <a:r>
              <a:rPr b="1" lang="ru-RU" sz="3600" spc="-1" strike="noStrike">
                <a:solidFill>
                  <a:srgbClr val="ffff66"/>
                </a:solidFill>
                <a:latin typeface="Garamond"/>
              </a:rPr>
              <a:t> </a:t>
            </a:r>
            <a:r>
              <a:rPr b="1" i="1" lang="en" sz="3600" spc="-1" strike="noStrike">
                <a:solidFill>
                  <a:srgbClr val="ffff66"/>
                </a:solidFill>
                <a:latin typeface="Garamond"/>
              </a:rPr>
              <a:t>steal</a:t>
            </a:r>
            <a:r>
              <a:rPr b="1" lang="ru-RU" sz="3600" spc="-1" strike="noStrike">
                <a:solidFill>
                  <a:srgbClr val="ffff66"/>
                </a:solidFill>
                <a:latin typeface="Garamond"/>
              </a:rPr>
              <a:t>) - наиболее активный прием техники защиты.</a:t>
            </a:r>
            <a:br>
              <a:rPr sz="3600"/>
            </a:br>
            <a:br>
              <a:rPr sz="3200"/>
            </a:br>
            <a:r>
              <a:rPr b="1" lang="ru-RU" sz="3200" spc="-1" strike="noStrike">
                <a:solidFill>
                  <a:srgbClr val="ffff66"/>
                </a:solidFill>
                <a:latin typeface="Garamond"/>
              </a:rPr>
              <a:t>Он обеспечивает возможность овладения мячом и осуществления контратаки. </a:t>
            </a:r>
            <a:br>
              <a:rPr sz="3200"/>
            </a:br>
            <a:r>
              <a:rPr b="1" lang="ru-RU" sz="3200" spc="-1" strike="noStrike">
                <a:solidFill>
                  <a:srgbClr val="ffff66"/>
                </a:solidFill>
                <a:latin typeface="Garamond"/>
              </a:rPr>
              <a:t>С помощью этого приема можно противодействовать передачам и ведению (перенимание мяча).</a:t>
            </a:r>
            <a:br>
              <a:rPr sz="3200"/>
            </a:br>
            <a:r>
              <a:rPr b="1" lang="ru-RU" sz="3200" spc="-1" strike="noStrike">
                <a:solidFill>
                  <a:srgbClr val="ffff66"/>
                </a:solidFill>
                <a:latin typeface="Garamond"/>
              </a:rPr>
              <a:t>После перехвата мяча защищающаяся команда переходит в быстрый прорыв и набирает «лёгкие» очки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3733560"/>
            <a:ext cx="8305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В момент отрыва мяча от рук передающего следует резко выйти вперед, опередив подопечного и преградив ему возможность выхода, овладеть мячом, поймав его или толкнув вперед с последующим овладением.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30492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cc00"/>
                </a:solidFill>
                <a:uFillTx/>
                <a:latin typeface="Rockwell"/>
              </a:rPr>
              <a:t>Перехват передачи.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295280"/>
            <a:ext cx="5943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Защитник располагается несколько сбоку и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за спиной нападающего и выжидает, когда ему будет направлена передач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791320" y="228600"/>
            <a:ext cx="29779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990720"/>
            <a:ext cx="50292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Следуя рядом с игроком, ведущим мяч, надо определить ритм толчков по мячу и быстрым рывком выйти к мячу, когда он находится в свободном полете, перенять ведени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187560" y="117360"/>
            <a:ext cx="792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cc00"/>
                </a:solidFill>
                <a:uFillTx/>
                <a:latin typeface="Rockwell"/>
              </a:rPr>
              <a:t>Перехват при ведении мяч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3551040" cy="3886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5029200"/>
            <a:ext cx="815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подставив руку для встречи мяча раньш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чем это сделает ведущий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3-29T10:52:1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