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3FB-4AB4-445E-AF90-64B45DF5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FA5-B606-4888-BC85-89E42E57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704-D8F2-421D-8F6E-12C9E6D1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583-9B36-443D-B14A-BC9A067B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339B-3716-4B06-B9F5-39CA94FB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9F5-0F89-40C6-A5B8-55B8DE26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391A-5078-4E32-8C37-F3A38C89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D106-834D-4531-BB90-2A9E6623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DFB3-A305-4163-AFF0-D11AF46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CBE2-D783-4845-B249-BA12FF7F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F154-E248-47E4-8E1D-4ED735A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CC2-04D0-460E-B140-76E54D2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B55D-5C53-4C78-99D2-74825E8B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7D30-0531-4286-816A-AF7C2A2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1B66-2699-46BC-96BE-47C9C5DD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8C4C-7D31-4095-AB89-3F6EDA6E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F70F-AAFC-4C07-8130-9FAF3342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F5A-2E0B-4D51-8FDF-3CAB8ED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F59-9459-4D8B-8238-85F2AAD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D44-1A51-4876-A7F4-2BB6BA85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A00-CF6E-4109-8759-F23E4AC9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FDC-F8D1-466B-94EC-FC02D883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593-C509-4C47-BFF8-CF57E08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FE0-D18A-4DE0-A650-7E118DA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CEE5-70CA-4D42-AACB-8F590E770A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1DA-2EB7-4F94-B455-F859EBDD7C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5;&#1083;&#1080;&#1081;&#1089;&#1082;&#1080;&#1081;_&#1103;&#1079;&#1099;&#1082;" TargetMode="Externa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7432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08360" y="38088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Шведов Виктор Валентин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МОУ СОШ №4 г. Минья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0666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ТЕХНИКА ОВЛАДЕНИЯ МЯЧОМ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819520" cy="2227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60960" y="2895480"/>
            <a:ext cx="2562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1447920"/>
            <a:ext cx="426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Если противник удерживает мяч, находясь на месте или выполняя повороты, целесообразно вырвать у него мя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840" y="45720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00"/>
                </a:solidFill>
                <a:uFillTx/>
                <a:latin typeface="Verdana"/>
              </a:rPr>
              <a:t>Выры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114800" cy="312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457200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Известно два способа вырывания: рывком на себя и толчком на противника вперед - вниз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38480" y="1523880"/>
            <a:ext cx="48769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Garamond"/>
              </a:rPr>
              <a:t>Захватив мяч с двух сторон, быстрым движением, делается сильный рывок на себя не разгибая рук и с одновременным поворотом туловища спиной к противнику.</a:t>
            </a: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46960" y="228600"/>
            <a:ext cx="782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Вырывание рывком на себ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121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752480"/>
            <a:ext cx="4038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Одновременно с захватом игрок как бы «наваливается» на мяч, толкая его в свободную от захвата сторону, вперед - вн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286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Вырывание толчком на противника вперед - вни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510552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 одновременным поворотом туловищ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пиной к противнику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37160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Для овладения мячом надо выйти к нему, высоко выпрыгнуть и поймать мяч в возможно более высокой точке раньше, чем это сделает противн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6440" y="45720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cc00"/>
                </a:solidFill>
                <a:uFillTx/>
                <a:latin typeface="Verdana"/>
              </a:rPr>
              <a:t>Взятие отскока мяч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354480"/>
            <a:ext cx="556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риземлившись на площадку, надо укрыть мяч, для чего баскетболист широко расставляет ноги, отводит локти в стороны, а мяч укрывает туловищем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4620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685800"/>
            <a:ext cx="81532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ЩИ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–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Т ЛУЧШЕЕ НАПАДЕ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080" y="798480"/>
            <a:ext cx="74678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Нестеровский Д.И. Баскетбол: Теория и методика обучения: учеб. пособие для студ. высш. учеб. заведений /Д.И. Нестеровский. — 3-е изд., стер. — М.: Издательский центр «Академия», 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Упражнения в баскетболе. "Физкультура и спорт", 1972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Rockwell"/>
              </a:rPr>
              <a:t>3. Физкультура и Спорт малая энциклопедия (Гусевой Г.В., Кондрашовой Н.М., Милютина В.П., 1992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320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Rockwell"/>
              </a:rPr>
              <a:t>Литература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609480"/>
            <a:ext cx="8458200" cy="80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Прежде чем нападать,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i="1" lang="en-US" sz="5200" spc="-1" strike="noStrike" u="sng">
                <a:solidFill>
                  <a:srgbClr val="ff6600"/>
                </a:solidFill>
                <a:uFillTx/>
                <a:latin typeface="Garamond"/>
              </a:rPr>
              <a:t>вы должны овладеть</a:t>
            </a:r>
            <a:r>
              <a:rPr b="1" lang="en-US" sz="5200" spc="-1" strike="noStrike" u="sng">
                <a:solidFill>
                  <a:srgbClr val="ff6600"/>
                </a:solidFill>
                <a:uFillTx/>
                <a:latin typeface="Garamond"/>
              </a:rPr>
              <a:t> мячом</a:t>
            </a:r>
            <a:r>
              <a:rPr b="1" lang="en-US" sz="5200" spc="-1" strike="noStrike">
                <a:solidFill>
                  <a:srgbClr val="ffff66"/>
                </a:solidFill>
                <a:latin typeface="Garamond"/>
              </a:rPr>
              <a:t> - свободным (временно не контролируемым никем) или контролируемым противником.</a:t>
            </a:r>
            <a:br>
              <a:rPr sz="5200"/>
            </a:br>
            <a:br>
              <a:rPr sz="5400"/>
            </a:b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-76320"/>
            <a:ext cx="85345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Rockwell"/>
              </a:rPr>
              <a:t>Умение перехватывать передачи противника отражают высокий интеллектуальный уровень игрока. Это умение говорит о том, что игрок всегда внимательно следит за действиями игроков команды нападения и в отдельные моменты предугадывает их действ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Rockwell"/>
              </a:rPr>
              <a:t>( читает игру ).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Garamond"/>
              </a:rPr>
              <a:t>К приемам овладения мячом относятся:</a:t>
            </a:r>
            <a:r>
              <a:rPr b="1" lang="en-US" sz="4800" spc="-1" strike="noStrike">
                <a:solidFill>
                  <a:srgbClr val="ffff66"/>
                </a:solidFill>
                <a:latin typeface="Garamond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905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ерехват, вырывание и взятие отскока от щи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89548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2079720" cy="312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28958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3716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ротиводействия, время его выполнения, характер действия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Garamond"/>
              </a:rPr>
              <a:t>всегда зависят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от противника, владеющего мяч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809880"/>
            <a:ext cx="449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Он имеет возможность выполнять свои движения раньше, чем способен среагировать на них защитни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24792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541800" y="380880"/>
            <a:ext cx="104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Главной особенностью этих приемов 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то, что выбор прие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191120" y="76176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оэтому в приемах, осуществляемых довольно простыми движениями, первостепенное значение принадлежит выбору позиции, позволяющей действовать быстро, своевременно и безошибоч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47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8224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cc00"/>
                </a:solidFill>
                <a:uFillTx/>
                <a:latin typeface="Verdana"/>
              </a:rPr>
              <a:t>Перехват</a:t>
            </a:r>
            <a:r>
              <a:rPr b="1" lang="ru-RU" sz="36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(англ</a:t>
            </a:r>
            <a:r>
              <a:rPr b="1" lang="ru-RU" sz="3600" spc="-1" strike="noStrike" u="sng">
                <a:solidFill>
                  <a:srgbClr val="ffffcc"/>
                </a:solidFill>
                <a:uFillTx/>
                <a:latin typeface="Garamond"/>
                <a:hlinkClick r:id="rId1"/>
              </a:rPr>
              <a:t>.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 </a:t>
            </a:r>
            <a:r>
              <a:rPr b="1" i="1" lang="en" sz="3600" spc="-1" strike="noStrike">
                <a:solidFill>
                  <a:srgbClr val="ffff66"/>
                </a:solidFill>
                <a:latin typeface="Garamond"/>
              </a:rPr>
              <a:t>steal</a:t>
            </a: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) - наиболее активный прием техники защиты.</a:t>
            </a: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Он обеспечивает возможность овладения мячом и осуществления контратаки.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С помощью этого приема можно противодействовать передачам и ведению (перенимание мяча).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Garamond"/>
              </a:rPr>
              <a:t>После перехвата мяча защищающаяся команда переходит в быстрый прорыв и набирает «лёгкие» очки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7335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В момент отрыва мяча от рук передающего следует резко выйти вперед, опередив подопечного и преградив ему возможность выхода, овладеть мячом, поймав его или толкнув вперед с последующим овладением.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0492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Перехват передачи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2952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Защитник располагается несколько сбоку 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за спиной нападающего и выжидает, когда ему будет направлена переда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77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990720"/>
            <a:ext cx="5029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Следуя рядом с игроком, ведущим мяч, надо определить ритм толчков по мячу и быстрым рывком выйти к мячу, когда он находится в свободном полете, перенять ве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87560" y="117360"/>
            <a:ext cx="79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cc00"/>
                </a:solidFill>
                <a:uFillTx/>
                <a:latin typeface="Rockwell"/>
              </a:rPr>
              <a:t>Перехват при ведении мяч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5104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502920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подставив руку для встречи мяча раньш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чем это сделает ведущий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9T10:52:1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