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9376-D5C0-4CC8-95B5-14272E74E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8600-95A4-4ACD-AEF5-2A47A683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3971-B7C1-43F3-B302-91CD7D19C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8C8E-9946-44A3-BFF3-CAC126D98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7244-B0BE-4D34-83D1-09DFB2EF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24BE-1227-4C67-AD12-DA388480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C364-B65E-46BC-9390-E8F69390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3108-E8BA-4C7D-8023-639C400C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8D9B-D68A-45D8-8E37-FA8D664E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5693-5940-4F77-9251-898D7C82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1891-7254-4546-9438-ED7DC0D6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B097-571B-4585-BB72-DA75AA35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C90D-44DB-461A-86F0-9A97241E1B0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2"/>
          <a:stretch/>
        </p:blipFill>
        <p:spPr>
          <a:xfrm>
            <a:off x="-658800" y="-128520"/>
            <a:ext cx="9309240" cy="755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ози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й катрен – тем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й катрен – развитие тем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й катрен – развязка, решение тем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нее двустишие – афористический ито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ри Ризли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гл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nry Wriothesle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Объект 3" descr=""/>
          <p:cNvPicPr/>
          <p:nvPr/>
        </p:nvPicPr>
        <p:blipFill>
          <a:blip r:embed="rId1"/>
          <a:stretch/>
        </p:blipFill>
        <p:spPr>
          <a:xfrm>
            <a:off x="2700360" y="2060640"/>
            <a:ext cx="381636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5229360"/>
            <a:ext cx="8569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ри Фиттон           Мери Гербер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Объект 3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3743280" cy="5111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Полина\Desktop\Сидней [Мэри] [Mary Sidney, 1561-1621].preview.jpg"/>
          <p:cNvPicPr/>
          <p:nvPr/>
        </p:nvPicPr>
        <p:blipFill>
          <a:blip r:embed="rId2"/>
          <a:stretch/>
        </p:blipFill>
        <p:spPr>
          <a:xfrm>
            <a:off x="4648320" y="333360"/>
            <a:ext cx="410040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дч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уил Маршак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ис Пастернак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ерий Брюсов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Финкель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алу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Полина\Desktop\9da4e0354bc6.jpg"/>
          <p:cNvPicPr/>
          <p:nvPr/>
        </p:nvPicPr>
        <p:blipFill>
          <a:blip r:embed="rId2"/>
          <a:stretch/>
        </p:blipFill>
        <p:spPr>
          <a:xfrm>
            <a:off x="2916360" y="1413000"/>
            <a:ext cx="6095880" cy="4824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Users\Полина\Desktop\0050pr-r.jpg"/>
          <p:cNvPicPr/>
          <p:nvPr/>
        </p:nvPicPr>
        <p:blipFill>
          <a:blip r:embed="rId3"/>
          <a:stretch/>
        </p:blipFill>
        <p:spPr>
          <a:xfrm>
            <a:off x="324000" y="1341360"/>
            <a:ext cx="2592360" cy="33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дивый свет мне заменила тьма,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ложь меня объяла, как чу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азан я: глаза и сердце лгут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век дороги верной не найду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капли правды взор не видит мо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я черной ложью, как чумой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глаз, ни сердце лжи не замечаю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ба по заслугам получаю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неты поэта отражают размышление об окружающей жизни, сложных философских и нравственных проблемах, воспевают светлое, прекрасное в людях и их делах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ить знания о творчестве У.Шекспира, познакомиться с жанром «сонет», проанализировать несколько сонетов У.Шекспир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нет” и “соната” – однокоренные и произошли от латинского слова “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are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, которое в переводе значит “звучать”, “звенеть”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нет  - твёрдая поэтическая форма: стихотворение из 14 строк, развивающая какой-то один моти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яют три типа сонета: Итальянский, Французский и Английски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90108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3" descr="1239433735_nb_pinacoteca_bronzino_allegorical_portrait_of_dan.jpg"/>
          <p:cNvPicPr/>
          <p:nvPr/>
        </p:nvPicPr>
        <p:blipFill>
          <a:blip r:embed="rId1"/>
          <a:stretch/>
        </p:blipFill>
        <p:spPr>
          <a:xfrm>
            <a:off x="108000" y="189000"/>
            <a:ext cx="3571920" cy="6119640"/>
          </a:xfrm>
          <a:prstGeom prst="rect">
            <a:avLst/>
          </a:prstGeom>
          <a:ln w="0">
            <a:noFill/>
          </a:ln>
        </p:spPr>
      </p:pic>
      <p:pic>
        <p:nvPicPr>
          <p:cNvPr id="50" name="Содержимое 3" descr="1236821689_1236784491_famous_persons_francesco_petrarca_wga.jpg"/>
          <p:cNvPicPr/>
          <p:nvPr/>
        </p:nvPicPr>
        <p:blipFill>
          <a:blip r:embed="rId2"/>
          <a:stretch/>
        </p:blipFill>
        <p:spPr>
          <a:xfrm>
            <a:off x="3780000" y="115920"/>
            <a:ext cx="5184720" cy="61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005000"/>
            <a:ext cx="83628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се 154 стихотворения были опубликованы в 1609 году, в книге Шекспира «Сонеты»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shekspir.jpg"/>
          <p:cNvPicPr/>
          <p:nvPr/>
        </p:nvPicPr>
        <p:blipFill>
          <a:blip r:embed="rId1"/>
          <a:stretch/>
        </p:blipFill>
        <p:spPr>
          <a:xfrm>
            <a:off x="2916360" y="260280"/>
            <a:ext cx="3816360" cy="384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ы сонетов Шекспи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в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жб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ышления о жизни,творчестве,искусств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рен – четверостишь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цет  - трехстишь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неты Шекспи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катрена(прекресная рифма АВАВ) + двустишие (парная рифма ДД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р – пятистопный ямб (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—́ | U—́ | U—́ | U—́ | U—́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6:55:09Z</dcterms:created>
  <dc:creator>AR7MEN</dc:creator>
  <dc:description/>
  <dc:language>en-US</dc:language>
  <cp:lastModifiedBy>Полина</cp:lastModifiedBy>
  <dcterms:modified xsi:type="dcterms:W3CDTF">2012-09-14T15:36:42Z</dcterms:modified>
  <cp:revision>26</cp:revision>
  <dc:subject/>
  <dc:title>Слайд 1</dc:title>
</cp:coreProperties>
</file>