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1B0-19D8-4FE7-BEB8-1FFB68FD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B24-EFF3-4D5D-A705-E8E1997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DB3-0AE4-455A-91E5-0DC9EFC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36B-DE49-49C7-B126-29D2FB8A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51E-1DB7-40B4-A53C-21EE10A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1DF-D506-44CE-A0FD-E76DBD1F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308-D8F4-47DB-9AF3-02FF5CE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2BB-F304-48C6-9636-2A9F00E2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D54-3B62-4367-A04B-D96FAD3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FB9-D0BE-4DD1-87B2-FB27C40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85F-1AF3-4A73-A2A4-BE3AD9D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7B2-801A-4F0D-8EA8-2BB5116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4E53-4203-490F-A325-3AD6E6FD9D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658800" y="-128520"/>
            <a:ext cx="9309240" cy="755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катрен – те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катрен – развитие те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катрен – развязка, решение 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двустишие – афористический ит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 Ризл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y Wriothesl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22936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и Фиттон           Мери Гербе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3743280" cy="511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Полина\Desktop\Сидней [Мэри] [Mary Sidney, 1561-1621].preview.jpg"/>
          <p:cNvPicPr/>
          <p:nvPr/>
        </p:nvPicPr>
        <p:blipFill>
          <a:blip r:embed="rId2"/>
          <a:stretch/>
        </p:blipFill>
        <p:spPr>
          <a:xfrm>
            <a:off x="4648320" y="333360"/>
            <a:ext cx="41004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ч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уил Марш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Пастернак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рий Брюс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Финкел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у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Полина\Desktop\9da4e0354bc6.jpg"/>
          <p:cNvPicPr/>
          <p:nvPr/>
        </p:nvPicPr>
        <p:blipFill>
          <a:blip r:embed="rId2"/>
          <a:stretch/>
        </p:blipFill>
        <p:spPr>
          <a:xfrm>
            <a:off x="2916360" y="1413000"/>
            <a:ext cx="6095880" cy="482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Полина\Desktop\0050pr-r.jpg"/>
          <p:cNvPicPr/>
          <p:nvPr/>
        </p:nvPicPr>
        <p:blipFill>
          <a:blip r:embed="rId3"/>
          <a:stretch/>
        </p:blipFill>
        <p:spPr>
          <a:xfrm>
            <a:off x="324000" y="1341360"/>
            <a:ext cx="2592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ивый свет мне заменила тьма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ожь меня объяла, как ч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ан я: глаза и сердце лгу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ек дороги верной не найд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апли правды взор не видит мо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я черной ложью, как чумой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глаз, ни сердце лжи не заме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ба по заслугам полу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поэта отражают размышление об окружающей жизни, сложных философских и нравственных проблемах, воспевают светлое, прекрасное в людях и их дел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о творчестве У.Шекспира, познакомиться с жанром «сонет», проанализировать несколько сонетов У.Шекспи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” и “соната” – однокоренные и произошли от латинского слова “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are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которое в переводе значит “звучать”, “звенеть”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  - твёрдая поэтическая форма: стихотворение из 14 строк, развивающая какой-то один моти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три типа сонета: Итальянский, Французский и Англий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9010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1239433735_nb_pinacoteca_bronzino_allegorical_portrait_of_dan.jpg"/>
          <p:cNvPicPr/>
          <p:nvPr/>
        </p:nvPicPr>
        <p:blipFill>
          <a:blip r:embed="rId1"/>
          <a:stretch/>
        </p:blipFill>
        <p:spPr>
          <a:xfrm>
            <a:off x="108000" y="189000"/>
            <a:ext cx="3571920" cy="61196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1236821689_1236784491_famous_persons_francesco_petrarca_wga.jpg"/>
          <p:cNvPicPr/>
          <p:nvPr/>
        </p:nvPicPr>
        <p:blipFill>
          <a:blip r:embed="rId2"/>
          <a:stretch/>
        </p:blipFill>
        <p:spPr>
          <a:xfrm>
            <a:off x="3780000" y="115920"/>
            <a:ext cx="518472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05000"/>
            <a:ext cx="83628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се 154 стихотворения были опубликованы в 1609 году, в книге Шекспира «Сонеты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shekspir.jpg"/>
          <p:cNvPicPr/>
          <p:nvPr/>
        </p:nvPicPr>
        <p:blipFill>
          <a:blip r:embed="rId1"/>
          <a:stretch/>
        </p:blipFill>
        <p:spPr>
          <a:xfrm>
            <a:off x="2916360" y="260280"/>
            <a:ext cx="381636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нетов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ышления о жизни,творчестве,искус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рен – четверо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цет  - трехстиш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еты Шекспи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атрена(прекресная рифма АВАВ) + двустишие (парная рифма Д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– пятистопный ямб (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—́ | U—́ | U—́ | U—́ | U—́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55:09Z</dcterms:created>
  <dc:creator>AR7MEN</dc:creator>
  <dc:description/>
  <dc:language>en-US</dc:language>
  <cp:lastModifiedBy>Полина</cp:lastModifiedBy>
  <dcterms:modified xsi:type="dcterms:W3CDTF">2012-09-14T15:36:42Z</dcterms:modified>
  <cp:revision>26</cp:revision>
  <dc:subject/>
  <dc:title>Слайд 1</dc:title>
</cp:coreProperties>
</file>