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8DC-7973-4C8C-B10C-B4E5F2E5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99F-1298-45E6-A614-B584A44D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0AF-980D-40F1-B40F-CE795D3A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A39-C06C-4761-9BAD-26C881F8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1D9-64CE-4A52-8E18-90737914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075-A33B-440A-BEA4-A3E4F63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FA0-4950-4C61-8E72-DBB3657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5E6-751B-4AA0-B1C5-AF56CD71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79C-B90E-4F45-B097-EBF53B1B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BBC-96EC-49E5-B701-D473497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5A1-50D7-48FC-B9B0-FFA4089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071-CBAB-4DE7-A550-E79F152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864B-B6BC-41D5-ADFF-6CC8024473F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658800" y="-128520"/>
            <a:ext cx="9309240" cy="75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катрен – те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катрен – развитие те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катрен – развязка, решение 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двустишие – афористический ит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 Ризл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y Wriothes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229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и Фиттон           Мери Гербе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743280" cy="511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Полина\Desktop\Сидней [Мэри] [Mary Sidney, 1561-1621].preview.jpg"/>
          <p:cNvPicPr/>
          <p:nvPr/>
        </p:nvPicPr>
        <p:blipFill>
          <a:blip r:embed="rId2"/>
          <a:stretch/>
        </p:blipFill>
        <p:spPr>
          <a:xfrm>
            <a:off x="4648320" y="333360"/>
            <a:ext cx="41004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ч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Маршак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Пастернак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рий Брюс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Финкел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Полина\Desktop\9da4e0354bc6.jpg"/>
          <p:cNvPicPr/>
          <p:nvPr/>
        </p:nvPicPr>
        <p:blipFill>
          <a:blip r:embed="rId2"/>
          <a:stretch/>
        </p:blipFill>
        <p:spPr>
          <a:xfrm>
            <a:off x="2916360" y="1413000"/>
            <a:ext cx="609588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Полина\Desktop\0050pr-r.jpg"/>
          <p:cNvPicPr/>
          <p:nvPr/>
        </p:nvPicPr>
        <p:blipFill>
          <a:blip r:embed="rId3"/>
          <a:stretch/>
        </p:blipFill>
        <p:spPr>
          <a:xfrm>
            <a:off x="324000" y="1341360"/>
            <a:ext cx="2592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вый свет мне заменила тьм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ожь меня объяла, как ч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 я: глаза и сердце лгу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ек дороги верной не найд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апли правды взор не видит м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я черной ложью, как чумой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глаз, ни сердце лжи не заме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а по заслугам полу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ы поэта отражают размышление об окружающей жизни, сложных философских и нравственных проблемах, воспевают светлое, прекрасное в людях и их дел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о творчестве У.Шекспира, познакомиться с жанром «сонет», проанализировать несколько сонетов У.Шекспи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” и “соната” – однокоренные и произошли от латинского слова “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are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которое в переводе значит “звучать”, “звенеть”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  - твёрдая поэтическая форма: стихотворение из 14 строк, развивающая какой-то один моти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три типа сонета: Итальянский, Французский и Англий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9010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1239433735_nb_pinacoteca_bronzino_allegorical_portrait_of_dan.jpg"/>
          <p:cNvPicPr/>
          <p:nvPr/>
        </p:nvPicPr>
        <p:blipFill>
          <a:blip r:embed="rId1"/>
          <a:stretch/>
        </p:blipFill>
        <p:spPr>
          <a:xfrm>
            <a:off x="108000" y="189000"/>
            <a:ext cx="3571920" cy="61196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1236821689_1236784491_famous_persons_francesco_petrarca_wga.jpg"/>
          <p:cNvPicPr/>
          <p:nvPr/>
        </p:nvPicPr>
        <p:blipFill>
          <a:blip r:embed="rId2"/>
          <a:stretch/>
        </p:blipFill>
        <p:spPr>
          <a:xfrm>
            <a:off x="3780000" y="115920"/>
            <a:ext cx="518472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05000"/>
            <a:ext cx="8362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е 154 стихотворения были опубликованы в 1609 году, в книге Шекспира «Сонеты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shekspir.jpg"/>
          <p:cNvPicPr/>
          <p:nvPr/>
        </p:nvPicPr>
        <p:blipFill>
          <a:blip r:embed="rId1"/>
          <a:stretch/>
        </p:blipFill>
        <p:spPr>
          <a:xfrm>
            <a:off x="2916360" y="260280"/>
            <a:ext cx="381636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нетов Шексп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я о жизни,творчестве,искус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ен – четверостиш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ет  - трехстиш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ы Шексп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атрена(прекресная рифма АВАВ) + двустишие (парная рифма Д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– пятистопный ямб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—́ | U—́ | U—́ | U—́ | U—́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55:09Z</dcterms:created>
  <dc:creator>AR7MEN</dc:creator>
  <dc:description/>
  <dc:language>en-US</dc:language>
  <cp:lastModifiedBy>Полина</cp:lastModifiedBy>
  <dcterms:modified xsi:type="dcterms:W3CDTF">2012-09-14T15:36:42Z</dcterms:modified>
  <cp:revision>26</cp:revision>
  <dc:subject/>
  <dc:title>Слайд 1</dc:title>
</cp:coreProperties>
</file>