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4F8-D977-439B-94D6-2B603280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059-D464-4AC3-BAD9-5226CEA8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CDC-2527-46E3-9CC4-2D05361E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AB8-85FA-4804-99B1-AB2D18D2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A858-49F7-4C07-B863-96449FB0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25E3-B7F4-4119-B893-B508FB24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D954-F654-404E-8CCA-CAD6F7DD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CD00-74C3-4D76-A8C9-1415A761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58D6-C3DB-44EA-8FF9-C6187A7D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4842-352D-4FDF-B597-D5F5AC79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4CED-C8FC-45CF-8D9F-F08B8049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940-C9A6-4A0E-9159-1DAB7C18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5386-D40E-4E50-AD42-C2C5F995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FE66-95D9-4789-83C4-44AB8DC8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1A5D-6914-4CF9-87C5-1D07FFB3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995F-05CA-4B10-9E3D-4F9066D0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EB20-A02F-4DF3-984A-47907058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14D-9ABA-4435-8B3A-73230268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611-8014-44CD-BB45-C552E37D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08A-D9F4-4157-B7A5-75CDDE16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FE9-3FAB-432F-93D5-B6DBA629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7C5-A992-403D-A48C-D2780325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419-45E7-43B5-B1C3-52EC754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3B9-7477-4D28-A080-14D48302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5c0a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6CC3-1093-4D0D-87AD-78157C31B8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5c0a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AB5E-6240-4FC0-B833-D169F449AE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144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Comic Sans MS"/>
              </a:rPr>
              <a:t>В мире сказок Ганса Христиана</a:t>
            </a:r>
            <a:r>
              <a:rPr b="0" lang="ru-RU" sz="3800" spc="-1" strike="noStrike">
                <a:solidFill>
                  <a:srgbClr val="330033"/>
                </a:solidFill>
                <a:latin typeface="Comic Sans MS"/>
              </a:rPr>
              <a:t> </a:t>
            </a:r>
            <a:r>
              <a:rPr b="0" lang="ru-RU" sz="3800" spc="-1" strike="noStrike">
                <a:solidFill>
                  <a:srgbClr val="0000ff"/>
                </a:solidFill>
                <a:latin typeface="Comic Sans MS"/>
              </a:rPr>
              <a:t>Андерсе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10" descr="сканирование0001"/>
          <p:cNvPicPr/>
          <p:nvPr/>
        </p:nvPicPr>
        <p:blipFill>
          <a:blip r:embed="rId1"/>
          <a:stretch/>
        </p:blipFill>
        <p:spPr>
          <a:xfrm rot="21051000">
            <a:off x="533520" y="1595160"/>
            <a:ext cx="2342880" cy="365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сканирование0005"/>
          <p:cNvPicPr/>
          <p:nvPr/>
        </p:nvPicPr>
        <p:blipFill>
          <a:blip r:embed="rId2"/>
          <a:srcRect l="2946" t="0" r="0" b="0"/>
          <a:stretch/>
        </p:blipFill>
        <p:spPr>
          <a:xfrm rot="559800">
            <a:off x="6234120" y="1797120"/>
            <a:ext cx="2314440" cy="3092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сканирование0006"/>
          <p:cNvPicPr/>
          <p:nvPr/>
        </p:nvPicPr>
        <p:blipFill>
          <a:blip r:embed="rId3"/>
          <a:stretch/>
        </p:blipFill>
        <p:spPr>
          <a:xfrm>
            <a:off x="3635280" y="1521000"/>
            <a:ext cx="1604880" cy="204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сканирование0007"/>
          <p:cNvPicPr/>
          <p:nvPr/>
        </p:nvPicPr>
        <p:blipFill>
          <a:blip r:embed="rId4"/>
          <a:stretch/>
        </p:blipFill>
        <p:spPr>
          <a:xfrm>
            <a:off x="3492360" y="3911760"/>
            <a:ext cx="2192400" cy="2558880"/>
          </a:xfrm>
          <a:prstGeom prst="rect">
            <a:avLst/>
          </a:prstGeom>
          <a:ln w="0">
            <a:noFill/>
          </a:ln>
        </p:spPr>
      </p:pic>
      <p:pic>
        <p:nvPicPr>
          <p:cNvPr id="102" name="Track 12.mp3" descr=""/>
          <p:cNvPicPr/>
          <p:nvPr/>
        </p:nvPicPr>
        <p:blipFill>
          <a:blip r:embed="rId5"/>
          <a:stretch/>
        </p:blipFill>
        <p:spPr>
          <a:xfrm>
            <a:off x="0" y="6696000"/>
            <a:ext cx="29700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9272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Times New Roman"/>
              </a:rPr>
              <a:t>Почему Герда </a:t>
            </a:r>
            <a:br>
              <a:rPr sz="3400"/>
            </a:br>
            <a:r>
              <a:rPr b="1" lang="ru-RU" sz="3400" spc="-1" strike="noStrike">
                <a:solidFill>
                  <a:srgbClr val="990000"/>
                </a:solidFill>
                <a:latin typeface="Times New Roman"/>
              </a:rPr>
              <a:t>смогла победить Снежную королеву?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3429000"/>
            <a:ext cx="38145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юб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ила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Физическая с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сканирование00015"/>
          <p:cNvPicPr/>
          <p:nvPr/>
        </p:nvPicPr>
        <p:blipFill>
          <a:blip r:embed="rId1"/>
          <a:stretch/>
        </p:blipFill>
        <p:spPr>
          <a:xfrm>
            <a:off x="4572000" y="476280"/>
            <a:ext cx="4491000" cy="5761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611280" y="2565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Что ей помог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Times New Roman"/>
              </a:rPr>
              <a:t>Каков конец сказки  «Снежная королева»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7" name="Picture 4" descr="сканирование0018"/>
          <p:cNvPicPr/>
          <p:nvPr/>
        </p:nvPicPr>
        <p:blipFill>
          <a:blip r:embed="rId1"/>
          <a:stretch/>
        </p:blipFill>
        <p:spPr>
          <a:xfrm>
            <a:off x="1332000" y="879480"/>
            <a:ext cx="7127640" cy="4503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5580000" y="1125360"/>
            <a:ext cx="2952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частливые  и повзрослев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й и Герда вернулись в родно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725480" y="5589720"/>
            <a:ext cx="609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й остался жить у Снежной короле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й и Герда вернулись до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й остался жить у маленькой разбой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200" y="188640"/>
            <a:ext cx="799308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990000"/>
                </a:solidFill>
                <a:latin typeface="Monotype Corsiva"/>
              </a:rPr>
              <a:t>Викторина « Узнай сказку».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79280" y="580500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Monotype Corsiva"/>
              </a:rPr>
              <a:t>Принцесса на горошине</a:t>
            </a: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сканирование0003"/>
          <p:cNvPicPr/>
          <p:nvPr/>
        </p:nvPicPr>
        <p:blipFill>
          <a:blip r:embed="rId1"/>
          <a:stretch/>
        </p:blipFill>
        <p:spPr>
          <a:xfrm>
            <a:off x="826920" y="906480"/>
            <a:ext cx="7560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80000" y="2708280"/>
            <a:ext cx="316872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990000"/>
                </a:solidFill>
                <a:latin typeface="Monotype Corsiva"/>
              </a:rPr>
              <a:t>Русалочка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4" name="Picture 13" descr="сканирование0002"/>
          <p:cNvPicPr/>
          <p:nvPr/>
        </p:nvPicPr>
        <p:blipFill>
          <a:blip r:embed="rId1"/>
          <a:stretch/>
        </p:blipFill>
        <p:spPr>
          <a:xfrm>
            <a:off x="826920" y="189000"/>
            <a:ext cx="4453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4" descr="сканирование0005"/>
          <p:cNvPicPr/>
          <p:nvPr/>
        </p:nvPicPr>
        <p:blipFill>
          <a:blip r:embed="rId1"/>
          <a:stretch/>
        </p:blipFill>
        <p:spPr>
          <a:xfrm>
            <a:off x="1116000" y="4680"/>
            <a:ext cx="7272360" cy="6818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355640" y="6092640"/>
            <a:ext cx="4248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990000"/>
                </a:solidFill>
                <a:latin typeface="Monotype Corsiva"/>
              </a:rPr>
              <a:t>Дюймовочка</a:t>
            </a:r>
            <a:endParaRPr b="0" lang="en-US" sz="6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24" descr="сканирование0004"/>
          <p:cNvPicPr/>
          <p:nvPr/>
        </p:nvPicPr>
        <p:blipFill>
          <a:blip r:embed="rId1"/>
          <a:stretch/>
        </p:blipFill>
        <p:spPr>
          <a:xfrm>
            <a:off x="2976480" y="0"/>
            <a:ext cx="61326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34560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990000"/>
                </a:solidFill>
                <a:latin typeface="Broadway BT"/>
              </a:rPr>
              <a:t>Цветы </a:t>
            </a:r>
            <a:br>
              <a:rPr sz="4200"/>
            </a:br>
            <a:r>
              <a:rPr b="1" i="1" lang="ru-RU" sz="4200" spc="-1" strike="noStrike">
                <a:solidFill>
                  <a:srgbClr val="990000"/>
                </a:solidFill>
                <a:latin typeface="Broadway BT"/>
              </a:rPr>
              <a:t>маленькой </a:t>
            </a:r>
            <a:br>
              <a:rPr sz="4200"/>
            </a:br>
            <a:r>
              <a:rPr b="1" i="1" lang="ru-RU" sz="4200" spc="-1" strike="noStrike">
                <a:solidFill>
                  <a:srgbClr val="990000"/>
                </a:solidFill>
                <a:latin typeface="Broadway BT"/>
              </a:rPr>
              <a:t>И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55324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ойкий оловянный солдатик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0" name="Picture 117" descr="сканирование0006"/>
          <p:cNvPicPr/>
          <p:nvPr/>
        </p:nvPicPr>
        <p:blipFill>
          <a:blip r:embed="rId1"/>
          <a:stretch/>
        </p:blipFill>
        <p:spPr>
          <a:xfrm rot="20997000">
            <a:off x="684000" y="549360"/>
            <a:ext cx="3579840" cy="4422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6" descr="сканирование0003"/>
          <p:cNvPicPr/>
          <p:nvPr/>
        </p:nvPicPr>
        <p:blipFill>
          <a:blip r:embed="rId2"/>
          <a:stretch/>
        </p:blipFill>
        <p:spPr>
          <a:xfrm rot="6327600">
            <a:off x="4806360" y="1431720"/>
            <a:ext cx="419400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5721120"/>
            <a:ext cx="851076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Bradley Hand ITC"/>
              </a:rPr>
              <a:t>Новое платье коро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Picture 23" descr="сканирование0004"/>
          <p:cNvPicPr/>
          <p:nvPr/>
        </p:nvPicPr>
        <p:blipFill>
          <a:blip r:embed="rId1"/>
          <a:srcRect l="6672" t="6273" r="3095" b="3098"/>
          <a:stretch/>
        </p:blipFill>
        <p:spPr>
          <a:xfrm>
            <a:off x="1835280" y="333360"/>
            <a:ext cx="532260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6" descr="сканирование0014"/>
          <p:cNvPicPr/>
          <p:nvPr/>
        </p:nvPicPr>
        <p:blipFill>
          <a:blip r:embed="rId1"/>
          <a:stretch/>
        </p:blipFill>
        <p:spPr>
          <a:xfrm>
            <a:off x="1476360" y="0"/>
            <a:ext cx="6108840" cy="6883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5589720"/>
            <a:ext cx="6408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Monotype Corsiva"/>
              </a:rPr>
              <a:t>Путешествие в сказку  </a:t>
            </a:r>
            <a:br>
              <a:rPr sz="5400"/>
            </a:br>
            <a:r>
              <a:rPr b="1" lang="ru-RU" sz="5400" spc="-1" strike="noStrike">
                <a:solidFill>
                  <a:srgbClr val="663300"/>
                </a:solidFill>
                <a:latin typeface="Monotype Corsiva"/>
              </a:rPr>
              <a:t>«Снежная королева» 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7521480" cy="27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rack 12.mp3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Times New Roman"/>
              </a:rPr>
              <a:t>«Снежная  королева»  </a:t>
            </a:r>
            <a:br>
              <a:rPr sz="3800"/>
            </a:br>
            <a:r>
              <a:rPr b="1" lang="ru-RU" sz="3800" spc="-1" strike="noStrike">
                <a:solidFill>
                  <a:srgbClr val="663300"/>
                </a:solidFill>
                <a:latin typeface="Times New Roman"/>
              </a:rPr>
              <a:t>сказка  народная  или  авторская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00000" y="2852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Авто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сканирование001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500720" y="1557360"/>
            <a:ext cx="3697200" cy="501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 flipV="1" rot="10800000">
            <a:off x="684000" y="259200"/>
            <a:ext cx="73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Назовите   автора  сказки  «Снежная  короле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26920" y="3040200"/>
            <a:ext cx="29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Г. Х. Андерс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сканирование0011"/>
          <p:cNvPicPr/>
          <p:nvPr/>
        </p:nvPicPr>
        <p:blipFill>
          <a:blip r:embed="rId1"/>
          <a:stretch/>
        </p:blipFill>
        <p:spPr>
          <a:xfrm>
            <a:off x="4716360" y="1700280"/>
            <a:ext cx="34974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68360" y="609480"/>
            <a:ext cx="45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00000" y="213372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333000"/>
            <a:ext cx="82090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3300"/>
                </a:solidFill>
                <a:latin typeface="Times New Roman"/>
              </a:rPr>
              <a:t>Назовите главных героев сказки «Снежная  королева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8160" y="2585520"/>
            <a:ext cx="3813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елоснежка и 7 гно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й и Ге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еляночка и Роз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сканирование0012"/>
          <p:cNvPicPr/>
          <p:nvPr/>
        </p:nvPicPr>
        <p:blipFill>
          <a:blip r:embed="rId1"/>
          <a:srcRect l="2129" t="1585" r="3677" b="2403"/>
          <a:stretch/>
        </p:blipFill>
        <p:spPr>
          <a:xfrm>
            <a:off x="4970520" y="1123920"/>
            <a:ext cx="40654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696680" y="115920"/>
            <a:ext cx="622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Что случилось с Каем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сканирование0014"/>
          <p:cNvPicPr/>
          <p:nvPr/>
        </p:nvPicPr>
        <p:blipFill>
          <a:blip r:embed="rId1"/>
          <a:srcRect l="0" t="0" r="0" b="3237"/>
          <a:stretch/>
        </p:blipFill>
        <p:spPr>
          <a:xfrm>
            <a:off x="5003640" y="836640"/>
            <a:ext cx="3364200" cy="432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сканирование0013"/>
          <p:cNvPicPr/>
          <p:nvPr/>
        </p:nvPicPr>
        <p:blipFill>
          <a:blip r:embed="rId2"/>
          <a:stretch/>
        </p:blipFill>
        <p:spPr>
          <a:xfrm>
            <a:off x="849240" y="907920"/>
            <a:ext cx="3121200" cy="4229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539640" y="5056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ай ушел из дома и потеря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788000" y="508464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ая заколдовала Снежная Корол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79280" y="6021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очему Герда пошла искать Ка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00"/>
                </a:solidFill>
                <a:latin typeface="Times New Roman"/>
              </a:rPr>
              <a:t>Кто не помогал Герде в поисках Кая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552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тарушка-цветоч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аленькая разбой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орона и в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нц и прин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еверный 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979640" y="4724280"/>
            <a:ext cx="576360" cy="865440"/>
          </a:xfrm>
          <a:custGeom>
            <a:avLst/>
            <a:gdLst>
              <a:gd name="textAreaLeft" fmla="*/ 237600 w 576360"/>
              <a:gd name="textAreaRight" fmla="*/ 338760 w 576360"/>
              <a:gd name="textAreaTop" fmla="*/ 356400 h 865440"/>
              <a:gd name="textAreaBottom" fmla="*/ 50904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084720" y="2060640"/>
            <a:ext cx="719280" cy="936720"/>
          </a:xfrm>
          <a:custGeom>
            <a:avLst/>
            <a:gdLst>
              <a:gd name="textAreaLeft" fmla="*/ 296280 w 719280"/>
              <a:gd name="textAreaRight" fmla="*/ 423000 w 71928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4643280" y="4005360"/>
            <a:ext cx="720720" cy="936360"/>
          </a:xfrm>
          <a:custGeom>
            <a:avLst/>
            <a:gdLst>
              <a:gd name="textAreaLeft" fmla="*/ 297000 w 720720"/>
              <a:gd name="textAreaRight" fmla="*/ 423720 w 720720"/>
              <a:gd name="textAreaTop" fmla="*/ 385920 h 936360"/>
              <a:gd name="textAreaBottom" fmla="*/ 550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7740720" y="1557360"/>
            <a:ext cx="576360" cy="936720"/>
          </a:xfrm>
          <a:custGeom>
            <a:avLst/>
            <a:gdLst>
              <a:gd name="textAreaLeft" fmla="*/ 237600 w 576360"/>
              <a:gd name="textAreaRight" fmla="*/ 338760 w 57636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4716360" y="2852640"/>
            <a:ext cx="289080" cy="936720"/>
          </a:xfrm>
          <a:custGeom>
            <a:avLst/>
            <a:gdLst>
              <a:gd name="textAreaLeft" fmla="*/ 119160 w 289080"/>
              <a:gd name="textAreaRight" fmla="*/ 169920 w 28908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372360" y="5084640"/>
            <a:ext cx="792000" cy="936720"/>
          </a:xfrm>
          <a:custGeom>
            <a:avLst/>
            <a:gdLst>
              <a:gd name="textAreaLeft" fmla="*/ 326160 w 792000"/>
              <a:gd name="textAreaRight" fmla="*/ 465840 w 79200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03640" y="5516640"/>
            <a:ext cx="1008000" cy="936720"/>
          </a:xfrm>
          <a:custGeom>
            <a:avLst/>
            <a:gdLst>
              <a:gd name="textAreaLeft" fmla="*/ 415440 w 1008000"/>
              <a:gd name="textAreaRight" fmla="*/ 592560 w 100800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7236000" y="3429000"/>
            <a:ext cx="360360" cy="936720"/>
          </a:xfrm>
          <a:custGeom>
            <a:avLst/>
            <a:gdLst>
              <a:gd name="textAreaLeft" fmla="*/ 148320 w 360360"/>
              <a:gd name="textAreaRight" fmla="*/ 212040 w 36036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0480" y="557280"/>
            <a:ext cx="4475160" cy="17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00"/>
                </a:solidFill>
                <a:latin typeface="Times New Roman"/>
              </a:rPr>
              <a:t>Кого приняла Герда за Кая во дворц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Picture 4" descr="сканирование0015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72960" y="358920"/>
            <a:ext cx="4486320" cy="5949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808200" y="588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19120" y="22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508720" y="3002040"/>
            <a:ext cx="24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1. При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. Ко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3. Вельм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" action="ppaction://hlinkshowjump?jump=nextslide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3794"/>
                </a:moveTo>
                <a:lnTo>
                  <a:pt x="22665" y="10800"/>
                </a:lnTo>
                <a:lnTo>
                  <a:pt x="865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сканирование0017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417920" y="189000"/>
            <a:ext cx="4635720" cy="63435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-324000" y="189000"/>
            <a:ext cx="5256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Какое слово из льдинок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никак не мог составить Кай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по просьбе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нежной королев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187280" y="4867200"/>
            <a:ext cx="223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е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оло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>
            <a:hlinkClick r:id="" action="ppaction://hlinkshowjump?jump=nextslide"/>
          </p:cNvPr>
          <p:cNvSpPr/>
          <p:nvPr/>
        </p:nvSpPr>
        <p:spPr>
          <a:xfrm>
            <a:off x="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1" y="3794"/>
                </a:moveTo>
                <a:lnTo>
                  <a:pt x="20154" y="10800"/>
                </a:lnTo>
                <a:lnTo>
                  <a:pt x="614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0:09:52Z</dcterms:created>
  <dc:creator>Средняя школа № 2</dc:creator>
  <dc:description/>
  <dc:language>en-US</dc:language>
  <cp:lastModifiedBy>Коля</cp:lastModifiedBy>
  <dcterms:modified xsi:type="dcterms:W3CDTF">2013-04-24T06:07:17Z</dcterms:modified>
  <cp:revision>28</cp:revision>
  <dc:subject/>
  <dc:title>ПРОВЕРЯЕМ   ЗНАНИЕ  СОДЕРЖАНИЯ   СКАЗКИ «СНЕЖНАЯ  КОРОЛЕВА»</dc:title>
</cp:coreProperties>
</file>