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79A-153E-4EA7-8AE1-889D183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F35-5B4A-4A75-B4D0-006654F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43A-A998-4C62-A05C-66FE773B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36A1-C58E-4E98-8FE6-169A6CAB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739-B875-4FE7-A184-B1B23641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F08-07FD-4C30-9016-A4BBDE12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8CB-559C-4D28-9780-2B442A27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412-7085-4FF1-8DB4-1ABD0D69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365-8C2A-4050-984C-F3E46F0B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7B2-5D2B-421C-8667-3FFF293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EC9-4D94-42DF-8A30-82F5943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91A-68B3-4FDE-B86F-43C23F4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1BB-9E33-485D-A261-5DF90E0AAA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Симметрия в природ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0200" y="4214880"/>
            <a:ext cx="64008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ученица 6 «Б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МБОУ СОШ №2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г.Новосибир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йбаур Анжел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овосельская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г.Новосибирск 2010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Ярко выраженной симметрией обладают листья, цветы, ветви, плоды. Зеркальная симметрия характерна для листьев, но встречается и у цве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3" descr="сканирование0011"/>
          <p:cNvPicPr/>
          <p:nvPr/>
        </p:nvPicPr>
        <p:blipFill>
          <a:blip r:embed="rId1"/>
          <a:stretch/>
        </p:blipFill>
        <p:spPr>
          <a:xfrm>
            <a:off x="108000" y="2781360"/>
            <a:ext cx="4284720" cy="397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Копия (2) сканирование0011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500280" y="1071720"/>
            <a:ext cx="252108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Копия сканирование0011"/>
          <p:cNvPicPr/>
          <p:nvPr/>
        </p:nvPicPr>
        <p:blipFill>
          <a:blip r:embed="rId3"/>
          <a:stretch/>
        </p:blipFill>
        <p:spPr>
          <a:xfrm>
            <a:off x="5796000" y="2421000"/>
            <a:ext cx="3141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Однако симметрия существует и там где её не видно на первый взгляд. Физик сказал, что всякое твердое тело – кристалл. Знаменитый кристаллограф Евграф Степанович Фёдоров сказал: «Кристаллы блещут симметрией». Химик скажет, что все тела состоят из атомов. А многие атомы располагаются в пространстве по принципу симметр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8" descr="pic4"/>
          <p:cNvPicPr/>
          <p:nvPr/>
        </p:nvPicPr>
        <p:blipFill>
          <a:blip r:embed="rId1"/>
          <a:stretch/>
        </p:blipFill>
        <p:spPr>
          <a:xfrm>
            <a:off x="5148360" y="620640"/>
            <a:ext cx="29988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stone13"/>
          <p:cNvPicPr/>
          <p:nvPr/>
        </p:nvPicPr>
        <p:blipFill>
          <a:blip r:embed="rId2"/>
          <a:stretch/>
        </p:blipFill>
        <p:spPr>
          <a:xfrm>
            <a:off x="4746600" y="3500280"/>
            <a:ext cx="38419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8920" y="333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Одной из разновидностей кристалла является снежинка. Снежинка - это маленький кристалл замершей воды. Форма снежинок может быть разнообразной, но все они обладают зеркальной симметр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C:\Documents and Settings\Margo\Мои документы\Мои рисунки\gyuijnoip.jpg"/>
          <p:cNvPicPr/>
          <p:nvPr/>
        </p:nvPicPr>
        <p:blipFill>
          <a:blip r:embed="rId1"/>
          <a:stretch/>
        </p:blipFill>
        <p:spPr>
          <a:xfrm>
            <a:off x="785880" y="1571760"/>
            <a:ext cx="7656480" cy="51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14200" y="1071720"/>
            <a:ext cx="871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Человеческое творчество во всех своих проявлениях тяготеет к симметрии. Известный французский архитектор Ле Корбюзье сказал: «Человеку необходим порядок: без него все его действия теряют согласованность, логическую взаимосвязь. Чем совершеннее порядок, тем спокойнее и увереннее чувствует себя человек.» Нагляднее всего видна симметрия в архитектуре. Особенно блистательно использовали симметрию в архитектурных сооружениях древние зодч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rtemis"/>
          <p:cNvPicPr/>
          <p:nvPr/>
        </p:nvPicPr>
        <p:blipFill>
          <a:blip r:embed="rId1"/>
          <a:stretch/>
        </p:blipFill>
        <p:spPr>
          <a:xfrm>
            <a:off x="428760" y="3643200"/>
            <a:ext cx="3671640" cy="3017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429240" y="60008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Акрополь. Древняя Гр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18900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Симметрия в искусстве, архитектуре, музыке, лит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143240" y="3571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Наиболее ярко симметрия проявляется в античных сооружениях Древней Греции, предметах роскоши и орнаментов, украшавших их. С тех пор и до наших дней симметрия в сознании человека стала объективным признаком крас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1429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omic Sans MS"/>
              </a:rPr>
              <a:t>Соблюдение симметрии является первым правилом архитектора при проектировании любого сооружения. Стоит только посмотреть на великолепное произведение А.Н.Воронихина Казанский собор в Санкт - Петербурге, чтобы убедиться в эт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omic Sans MS"/>
              </a:rPr>
              <a:t>Если мы мысленно проведем вертикальную линию через шпиль на куполе и вершину фронтона, то увидит, что с двух сторон от нее абсолютно одинаковые части сооружения (колоннады и здания собор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C:\Documents and Settings\Margo\Мои документы\Мои рисунки\mjop[.jpg"/>
          <p:cNvPicPr/>
          <p:nvPr/>
        </p:nvPicPr>
        <p:blipFill>
          <a:blip r:embed="rId1"/>
          <a:stretch/>
        </p:blipFill>
        <p:spPr>
          <a:xfrm>
            <a:off x="785880" y="1844640"/>
            <a:ext cx="74516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857160" y="142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нутренний вид храма Зевса в Олимп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C:\Documents and Settings\Margo\Мои документы\Мои рисунки\rtyr.jpg"/>
          <p:cNvPicPr/>
          <p:nvPr/>
        </p:nvPicPr>
        <p:blipFill>
          <a:blip r:embed="rId1"/>
          <a:stretch/>
        </p:blipFill>
        <p:spPr>
          <a:xfrm>
            <a:off x="1571760" y="785880"/>
            <a:ext cx="5994360" cy="574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643720" y="571680"/>
            <a:ext cx="300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нутренний вид индийского пещерного храма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III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век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C:\Documents and Settings\Margo\Мои документы\Мои рисунки\utue.jpg"/>
          <p:cNvPicPr/>
          <p:nvPr/>
        </p:nvPicPr>
        <p:blipFill>
          <a:blip r:embed="rId1"/>
          <a:stretch/>
        </p:blipFill>
        <p:spPr>
          <a:xfrm>
            <a:off x="500040" y="642960"/>
            <a:ext cx="4986360" cy="569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Свойство симметричности, присущее живой природе, человек использовал в своих достижениях: изобрел самолет, создал уникальные здания архитек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Да и сам человек является фигурой симметрич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j0157763"/>
          <p:cNvPicPr/>
          <p:nvPr/>
        </p:nvPicPr>
        <p:blipFill>
          <a:blip r:embed="rId1"/>
          <a:stretch/>
        </p:blipFill>
        <p:spPr>
          <a:xfrm>
            <a:off x="2987640" y="2852640"/>
            <a:ext cx="35672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Симметрии посвящены такие строч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О, симметрия! Гимн тебе пою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ебя повсюду в мире узна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ы в Эйфелевой башне, в малой мошк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ы  в елочке, что у лесной дорож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С тобой  в дружбе и тюльпан, и  роз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И снежный рай – творение мороз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95280" y="220500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Симметрия противостоит хаосу, беспорядку. Она присутствует в нашей жизни буквально во всём, но мы настолько к ней привыкли, что не замечаем этого. Некоторым она кажется скучной, некоторые любят её за спокойствие, которое она вносит в нашу жизнь, некоторые пытаются противостоять ей. Но как бы мы к ней не относились, она есть в нашей жизни буквально во всём, добавляя в неё мир, спокойствие и состояние чего-то нечуждого глаз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437640" y="11253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mic Sans MS"/>
              </a:rPr>
              <a:t>Вывод 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Математи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ыявляет порядок, симметрию и определеннос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а это – важнейшие виды прекрас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Аристо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3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7" descr="31585ec6675ece630a0d8c0862643cdb"/>
          <p:cNvPicPr/>
          <p:nvPr/>
        </p:nvPicPr>
        <p:blipFill>
          <a:blip r:embed="rId1"/>
          <a:stretch/>
        </p:blipFill>
        <p:spPr>
          <a:xfrm>
            <a:off x="1357200" y="1785960"/>
            <a:ext cx="6286680" cy="430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omic Sans MS"/>
              </a:rPr>
              <a:t>Цель исследования 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0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Выяснить существует ли связь между симметрией и окружающим ми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omic Sans MS"/>
              </a:rPr>
              <a:t>Задачи исследования 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2204640"/>
            <a:ext cx="78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1. Изучить понятие и виды симмет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2. Выяснить, где и в каких разделах науки и искусства встречается симмет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892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Трудно найти человека, который не имел бы какого-то представления о симметрии. «Симметрия»-слово греческого происхождения. Оно, как и слово «гармония», означает соразмерность, наличие определенного порядка, закономерности в расположении ч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В математике рассматриваются различные виды симметрии. Каждый из них имеет свое название: осевая симметрия (симметрия относительно прямой), центральная симметрия (симметрия относительно точки) и зеркальная симметрия (симметрия относительно плоскост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Природ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удивительный творец и мастер. Всё живое в природе обладает свойством симметри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Если сверху посмотреть на любое насекомое и мысленно провести посередине прямую (плоскость), то левые и правые половинки насекомых будут одинаковыми и по расположению, и по размерам, и по окрас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4" descr="short"/>
          <p:cNvPicPr/>
          <p:nvPr/>
        </p:nvPicPr>
        <p:blipFill>
          <a:blip r:embed="rId1"/>
          <a:stretch/>
        </p:blipFill>
        <p:spPr>
          <a:xfrm>
            <a:off x="2409840" y="3645000"/>
            <a:ext cx="43243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Ведь мы ни разу не видели, чтобы у жука или стрекозы, у любого другого насекомого лапы слева были бы ближе к голове, чем справа, а правое крыло бабочки или божьей коровки было бы больше чем левое. Такого в природе не бывает, иначе бы насекомые не смогли лет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3932"/>
          <p:cNvPicPr/>
          <p:nvPr/>
        </p:nvPicPr>
        <p:blipFill>
          <a:blip r:embed="rId1"/>
          <a:stretch/>
        </p:blipFill>
        <p:spPr>
          <a:xfrm>
            <a:off x="2340000" y="2781360"/>
            <a:ext cx="47545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имметрию можно увидеть среди цветов. Осевой симметрией обладают цветки семейства розоцветных, а центральной симметрией – семейство крестоцветных. Симметрию можно увидеть и на листьях деревьев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8" descr="2295"/>
          <p:cNvPicPr/>
          <p:nvPr/>
        </p:nvPicPr>
        <p:blipFill>
          <a:blip r:embed="rId1"/>
          <a:stretch/>
        </p:blipFill>
        <p:spPr>
          <a:xfrm>
            <a:off x="539640" y="248904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497338_a451b62b"/>
          <p:cNvPicPr/>
          <p:nvPr/>
        </p:nvPicPr>
        <p:blipFill>
          <a:blip r:embed="rId2"/>
          <a:stretch/>
        </p:blipFill>
        <p:spPr>
          <a:xfrm>
            <a:off x="4648320" y="2490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24000" y="333360"/>
            <a:ext cx="4932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Если преобразование симметрии относительно плоскости переводит фигуру (тело) в себя, то фигура называется симметричной относительно плоскости, а данная плоскость – плоскостью симметрии этой фиг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 некоторых источниках такую симметрию называют зеркальной. А зеркало не просто копирует объект, но и меняет местами (переставляет) передние и задние по отношению к зеркалу части объекта. Примерами фигур – зеркальных отражений одна другой – могут служить правая и левая рука человека, правый и левый винты, части архитектурных форм, некоторые природные кристаллы и орнаме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314964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26:15Z</dcterms:created>
  <dc:creator>Мой первый компьютер</dc:creator>
  <dc:description/>
  <dc:language>en-US</dc:language>
  <cp:lastModifiedBy>Глухов В.Ф.</cp:lastModifiedBy>
  <dcterms:modified xsi:type="dcterms:W3CDTF">2011-01-24T05:52:01Z</dcterms:modified>
  <cp:revision>64</cp:revision>
  <dc:subject/>
  <dc:title>Симметрия в природе</dc:title>
</cp:coreProperties>
</file>