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30A2-28F5-43EF-A506-78312191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5ED-E9F6-4D8E-B04E-FB04376D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9021-D94B-4105-8CB4-B22548B8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9A74-4198-4BE7-872E-3E0DD5CC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2CD2-CA90-47E8-8B02-5CB1CB3F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C706-613E-4128-AF11-E95B1621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644-08B8-4D13-8D57-F800B9E8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D5AF-5F67-4EE4-89BF-CB0D031A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20A7-EC15-4CB3-98BA-940795F7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9912-CB8D-4289-8896-5159E9DE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09DF-18C9-416D-8B51-FBF49847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C5EF-37EB-4441-8784-838A1153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931A-3A05-4817-AFBE-AE471B4E331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Comic Sans MS"/>
              </a:rPr>
              <a:t>Симметрия в природе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0200" y="4214880"/>
            <a:ext cx="6400800" cy="25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Выполнил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ученица 6 «Б» клас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МБОУ СОШ №2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г.Новосибирс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Найбаур Анжели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Руководител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учитель математи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Новосельская О.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г.Новосибирск 2010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24000" y="260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Comic Sans MS"/>
              </a:rPr>
              <a:t>Ярко выраженной симметрией обладают листья, цветы, ветви, плоды. Зеркальная симметрия характерна для листьев, но встречается и у цвет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13" descr="сканирование0011"/>
          <p:cNvPicPr/>
          <p:nvPr/>
        </p:nvPicPr>
        <p:blipFill>
          <a:blip r:embed="rId1"/>
          <a:stretch/>
        </p:blipFill>
        <p:spPr>
          <a:xfrm>
            <a:off x="108000" y="2781360"/>
            <a:ext cx="4284720" cy="3970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Копия (2) сканирование0011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500280" y="1071720"/>
            <a:ext cx="2521080" cy="2381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Копия сканирование0011"/>
          <p:cNvPicPr/>
          <p:nvPr/>
        </p:nvPicPr>
        <p:blipFill>
          <a:blip r:embed="rId3"/>
          <a:stretch/>
        </p:blipFill>
        <p:spPr>
          <a:xfrm>
            <a:off x="5796000" y="2421000"/>
            <a:ext cx="3141720" cy="41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Однако симметрия существует и там где её не видно на первый взгляд. Физик сказал, что всякое твердое тело – кристалл. Знаменитый кристаллограф Евграф Степанович Фёдоров сказал: «Кристаллы блещут симметрией». Химик скажет, что все тела состоят из атомов. А многие атомы располагаются в пространстве по принципу симметр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8" descr="pic4"/>
          <p:cNvPicPr/>
          <p:nvPr/>
        </p:nvPicPr>
        <p:blipFill>
          <a:blip r:embed="rId1"/>
          <a:stretch/>
        </p:blipFill>
        <p:spPr>
          <a:xfrm>
            <a:off x="5148360" y="620640"/>
            <a:ext cx="2998800" cy="2743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stone13"/>
          <p:cNvPicPr/>
          <p:nvPr/>
        </p:nvPicPr>
        <p:blipFill>
          <a:blip r:embed="rId2"/>
          <a:stretch/>
        </p:blipFill>
        <p:spPr>
          <a:xfrm>
            <a:off x="4746600" y="3500280"/>
            <a:ext cx="3841920" cy="28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200"/>
                            </p:stCondLst>
                            <p:childTnLst>
                              <p:par>
                                <p:cTn id="1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88920" y="3333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Comic Sans MS"/>
              </a:rPr>
              <a:t>Одной из разновидностей кристалла является снежинка. Снежинка - это маленький кристалл замершей воды. Форма снежинок может быть разнообразной, но все они обладают зеркальной симметри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4" descr="C:\Documents and Settings\Margo\Мои документы\Мои рисунки\gyuijnoip.jpg"/>
          <p:cNvPicPr/>
          <p:nvPr/>
        </p:nvPicPr>
        <p:blipFill>
          <a:blip r:embed="rId1"/>
          <a:stretch/>
        </p:blipFill>
        <p:spPr>
          <a:xfrm>
            <a:off x="785880" y="1571760"/>
            <a:ext cx="7656480" cy="5136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214200" y="1071720"/>
            <a:ext cx="871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Comic Sans MS"/>
              </a:rPr>
              <a:t>Человеческое творчество во всех своих проявлениях тяготеет к симметрии. Известный французский архитектор Ле Корбюзье сказал: «Человеку необходим порядок: без него все его действия теряют согласованность, логическую взаимосвязь. Чем совершеннее порядок, тем спокойнее и увереннее чувствует себя человек.» Нагляднее всего видна симметрия в архитектуре. Особенно блистательно использовали симметрию в архитектурных сооружениях древние зодчи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artemis"/>
          <p:cNvPicPr/>
          <p:nvPr/>
        </p:nvPicPr>
        <p:blipFill>
          <a:blip r:embed="rId1"/>
          <a:stretch/>
        </p:blipFill>
        <p:spPr>
          <a:xfrm>
            <a:off x="428760" y="3643200"/>
            <a:ext cx="3671640" cy="30178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6429240" y="600084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Comic Sans MS"/>
              </a:rPr>
              <a:t>Акрополь. Древняя Гре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250920" y="189000"/>
            <a:ext cx="86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Симметрия в искусстве, архитектуре, музыке, литерату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4143240" y="35719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Comic Sans MS"/>
              </a:rPr>
              <a:t>Наиболее ярко симметрия проявляется в античных сооружениях Древней Греции, предметах роскоши и орнаментов, украшавших их. С тех пор и до наших дней симметрия в сознании человека стала объективным признаком красо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142920"/>
            <a:ext cx="914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Comic Sans MS"/>
              </a:rPr>
              <a:t>Соблюдение симметрии является первым правилом архитектора при проектировании любого сооружения. Стоит только посмотреть на великолепное произведение А.Н.Воронихина Казанский собор в Санкт - Петербурге, чтобы убедиться в это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Comic Sans MS"/>
              </a:rPr>
              <a:t>Если мы мысленно проведем вертикальную линию через шпиль на куполе и вершину фронтона, то увидит, что с двух сторон от нее абсолютно одинаковые части сооружения (колоннады и здания собора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4" descr="C:\Documents and Settings\Margo\Мои документы\Мои рисунки\mjop[.jpg"/>
          <p:cNvPicPr/>
          <p:nvPr/>
        </p:nvPicPr>
        <p:blipFill>
          <a:blip r:embed="rId1"/>
          <a:stretch/>
        </p:blipFill>
        <p:spPr>
          <a:xfrm>
            <a:off x="785880" y="1844640"/>
            <a:ext cx="7451640" cy="5013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5"/>
          <p:cNvSpPr/>
          <p:nvPr/>
        </p:nvSpPr>
        <p:spPr>
          <a:xfrm>
            <a:off x="857160" y="14292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Внутренний вид храма Зевса в Олимп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4" descr="C:\Documents and Settings\Margo\Мои документы\Мои рисунки\rtyr.jpg"/>
          <p:cNvPicPr/>
          <p:nvPr/>
        </p:nvPicPr>
        <p:blipFill>
          <a:blip r:embed="rId1"/>
          <a:stretch/>
        </p:blipFill>
        <p:spPr>
          <a:xfrm>
            <a:off x="1571760" y="785880"/>
            <a:ext cx="5994360" cy="5748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643720" y="571680"/>
            <a:ext cx="3000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Внутренний вид индийского пещерного храма.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III</a:t>
            </a: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 век до н.э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4" descr="C:\Documents and Settings\Margo\Мои документы\Мои рисунки\utue.jpg"/>
          <p:cNvPicPr/>
          <p:nvPr/>
        </p:nvPicPr>
        <p:blipFill>
          <a:blip r:embed="rId1"/>
          <a:stretch/>
        </p:blipFill>
        <p:spPr>
          <a:xfrm>
            <a:off x="500040" y="642960"/>
            <a:ext cx="4986360" cy="5691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Свойство симметричности, присущее живой природе, человек использовал в своих достижениях: изобрел самолет, создал уникальные здания архитектур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Да и сам человек является фигурой симметричн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7" descr="j0157763"/>
          <p:cNvPicPr/>
          <p:nvPr/>
        </p:nvPicPr>
        <p:blipFill>
          <a:blip r:embed="rId1"/>
          <a:stretch/>
        </p:blipFill>
        <p:spPr>
          <a:xfrm>
            <a:off x="2987640" y="2852640"/>
            <a:ext cx="3567240" cy="35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768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Симметрии посвящены такие строчк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9900"/>
                </a:solidFill>
                <a:latin typeface="Comic Sans MS"/>
              </a:rPr>
              <a:t>О, симметрия! Гимн тебе пою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9900"/>
                </a:solidFill>
                <a:latin typeface="Comic Sans MS"/>
              </a:rPr>
              <a:t>Тебя повсюду в мире узна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9900"/>
                </a:solidFill>
                <a:latin typeface="Comic Sans MS"/>
              </a:rPr>
              <a:t>Ты в Эйфелевой башне, в малой мошк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9900"/>
                </a:solidFill>
                <a:latin typeface="Comic Sans MS"/>
              </a:rPr>
              <a:t>Ты  в елочке, что у лесной дорож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9900"/>
                </a:solidFill>
                <a:latin typeface="Comic Sans MS"/>
              </a:rPr>
              <a:t>С тобой  в дружбе и тюльпан, и  роз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9900"/>
                </a:solidFill>
                <a:latin typeface="Comic Sans MS"/>
              </a:rPr>
              <a:t>И снежный рай – творение мороз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95280" y="2205000"/>
            <a:ext cx="849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Симметрия противостоит хаосу, беспорядку. Она присутствует в нашей жизни буквально во всём, но мы настолько к ней привыкли, что не замечаем этого. Некоторым она кажется скучной, некоторые любят её за спокойствие, которое она вносит в нашу жизнь, некоторые пытаются противостоять ей. Но как бы мы к ней не относились, она есть в нашей жизни буквально во всём, добавляя в неё мир, спокойствие и состояние чего-то нечуждого глаз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437640" y="1125360"/>
            <a:ext cx="19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Comic Sans MS"/>
              </a:rPr>
              <a:t>Вывод 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Математика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выявляет порядок, симметрию и определенность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а это – важнейшие виды прекрасно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mic Sans MS"/>
              </a:rPr>
              <a:t>Аристот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00"/>
                            </p:stCondLst>
                            <p:childTnLst>
                              <p:par>
                                <p:cTn id="19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700"/>
                            </p:stCondLst>
                            <p:childTnLst>
                              <p:par>
                                <p:cTn id="25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30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7" descr="31585ec6675ece630a0d8c0862643cdb"/>
          <p:cNvPicPr/>
          <p:nvPr/>
        </p:nvPicPr>
        <p:blipFill>
          <a:blip r:embed="rId1"/>
          <a:stretch/>
        </p:blipFill>
        <p:spPr>
          <a:xfrm>
            <a:off x="1357200" y="1785960"/>
            <a:ext cx="6286680" cy="4309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8000"/>
                </a:solidFill>
                <a:latin typeface="Comic Sans MS"/>
              </a:rPr>
              <a:t>Цель исследования 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55640" y="2852640"/>
            <a:ext cx="770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Выяснить существует ли связь между симметрией и окружающим мир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8000"/>
                </a:solidFill>
                <a:latin typeface="Comic Sans MS"/>
              </a:rPr>
              <a:t>Задачи исследования 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5280" y="2204640"/>
            <a:ext cx="7885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1. Изучить понятие и виды симметр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2. Выяснить, где и в каких разделах науки и искусства встречается симметр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5892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Трудно найти человека, который не имел бы какого-то представления о симметрии. «Симметрия»-слово греческого происхождения. Оно, как и слово «гармония», означает соразмерность, наличие определенного порядка, закономерности в расположении час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В математике рассматриваются различные виды симметрии. Каждый из них имеет свое название: осевая симметрия (симметрия относительно прямой), центральная симметрия (симметрия относительно точки) и зеркальная симметрия (симметрия относительно плоскост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Природа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удивительный творец и мастер. Всё живое в природе обладает свойством симметрии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Если сверху посмотреть на любое насекомое и мысленно провести посередине прямую (плоскость), то левые и правые половинки насекомых будут одинаковыми и по расположению, и по размерам, и по окрас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24" descr="short"/>
          <p:cNvPicPr/>
          <p:nvPr/>
        </p:nvPicPr>
        <p:blipFill>
          <a:blip r:embed="rId1"/>
          <a:stretch/>
        </p:blipFill>
        <p:spPr>
          <a:xfrm>
            <a:off x="2409840" y="3645000"/>
            <a:ext cx="432432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Ведь мы ни разу не видели, чтобы у жука или стрекозы, у любого другого насекомого лапы слева были бы ближе к голове, чем справа, а правое крыло бабочки или божьей коровки было бы больше чем левое. Такого в природе не бывает, иначе бы насекомые не смогли лета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7" descr="3932"/>
          <p:cNvPicPr/>
          <p:nvPr/>
        </p:nvPicPr>
        <p:blipFill>
          <a:blip r:embed="rId1"/>
          <a:stretch/>
        </p:blipFill>
        <p:spPr>
          <a:xfrm>
            <a:off x="2340000" y="2781360"/>
            <a:ext cx="4754520" cy="35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Симметрию можно увидеть среди цветов. Осевой симметрией обладают цветки семейства розоцветных, а центральной симметрией – семейство крестоцветных. Симметрию можно увидеть и на листьях деревьев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8" descr="2295"/>
          <p:cNvPicPr/>
          <p:nvPr/>
        </p:nvPicPr>
        <p:blipFill>
          <a:blip r:embed="rId1"/>
          <a:stretch/>
        </p:blipFill>
        <p:spPr>
          <a:xfrm>
            <a:off x="539640" y="248904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2497338_a451b62b"/>
          <p:cNvPicPr/>
          <p:nvPr/>
        </p:nvPicPr>
        <p:blipFill>
          <a:blip r:embed="rId2"/>
          <a:stretch/>
        </p:blipFill>
        <p:spPr>
          <a:xfrm>
            <a:off x="4648320" y="2490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324000" y="333360"/>
            <a:ext cx="49323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Если преобразование симметрии относительно плоскости переводит фигуру (тело) в себя, то фигура называется симметричной относительно плоскости, а данная плоскость – плоскостью симметрии этой фигу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В некоторых источниках такую симметрию называют зеркальной. А зеркало не просто копирует объект, но и меняет местами (переставляет) передние и задние по отношению к зеркалу части объекта. Примерами фигур – зеркальных отражений одна другой – могут служить правая и левая рука человека, правый и левый винты, части архитектурных форм, некоторые природные кристаллы и орнамент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5724360" y="836640"/>
            <a:ext cx="3149640" cy="482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08:26:15Z</dcterms:created>
  <dc:creator>Мой первый компьютер</dc:creator>
  <dc:description/>
  <dc:language>en-US</dc:language>
  <cp:lastModifiedBy>Глухов В.Ф.</cp:lastModifiedBy>
  <dcterms:modified xsi:type="dcterms:W3CDTF">2011-01-24T05:52:01Z</dcterms:modified>
  <cp:revision>64</cp:revision>
  <dc:subject/>
  <dc:title>Симметрия в природе</dc:title>
</cp:coreProperties>
</file>