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4CAB-B9CB-4EC6-810B-4673B1AC5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F79E-C7F3-4F36-9468-7E6ED5644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7E9A-EE79-4672-BF5A-31D64E847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E57B-874C-43B2-909D-44935ECBF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9235-5B64-4CAF-8136-E7523C804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F27B-C697-4BA0-A2B1-04CCAA67F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71FF-296F-4784-B3E0-4FCEB6512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F98F-C2A4-4954-9865-6CEFD4B05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8965-7DA7-455A-9101-63C7FA2DC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E91A-4A18-4CF4-8E66-ECC377E66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24AB-A2BF-4E01-BE83-6A60AAB3A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2657-B79F-4B2F-A149-0EA05075D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98AC0-66EE-4857-8045-FA4A4E6904F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Психология.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33cc"/>
                </a:solidFill>
                <a:latin typeface="Arial"/>
              </a:rPr>
              <a:t>Что это тако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Самое простое определение психологии как науки таково: 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Психология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— 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это наука о душе человека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. Ведь 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«pshyso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» в переводе с греческого языка означает 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«душа»,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а 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«logia»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«наука, учение».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Стандартное определение психологии как науки от самих психологов: </a:t>
            </a:r>
            <a:r>
              <a:rPr b="0" i="1" lang="ru-RU" sz="1900" spc="-1" strike="noStrike">
                <a:solidFill>
                  <a:srgbClr val="000000"/>
                </a:solidFill>
                <a:latin typeface="Arial"/>
              </a:rPr>
              <a:t>Психология — это такая наука о закономерностях развития и функционирования психической деятельности человека.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Достаточно нудное, сложное и непонятное определение, верно?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Психологическая эмблема"/>
          <p:cNvPicPr/>
          <p:nvPr/>
        </p:nvPicPr>
        <p:blipFill>
          <a:blip r:embed="rId1"/>
          <a:stretch/>
        </p:blipFill>
        <p:spPr>
          <a:xfrm>
            <a:off x="4648320" y="184320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66cc"/>
                </a:solidFill>
                <a:latin typeface="Arial"/>
              </a:rPr>
              <a:t>Темперамент служит как бы маркером всей психической деятельности человека. Он является биологическим фундаментом личности, так как основан на свойствах нервной системы человека, которые следует оценивать как внутренние резервы его деятельности и адаптации. Темперамент представляет собой прирожденное свойство человека, генетически предопределенный феномен, сохраняющийся многие годы, часто всю жизнь. Он является предпосылкой и основой личностных образований более высокого порядка (например, характера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Свойства темперамент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дивидуальный тип и ритм психических процессов, степень устойчивости чувств, напряженность волевых усилий проявляются в мышлении, эмоциональной сфере, поведении, манере держатьс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Идея и учение о темперамент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Древнегреческий врач Гиппокра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описал основные типы темперамент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Античный врач Клавдий Гален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классификация темпераментов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Немецкий философ И.Кан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дал описание темпераментов, которые используют и в наше врем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Российский ученый Н.П. Пав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cc"/>
                </a:solidFill>
                <a:latin typeface="Arial"/>
              </a:rPr>
              <a:t>И. П. Павлов описал 3 основные свойства нервных процессов, которые определяют тип нервной системы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ила нервных процессов 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особность нервной системы человека выдерживать большие нагрузки и раздражители. Это природная индивидуальная особенность, показывающая работоспособность и выносливость. Силу нервных процессов переделать нельзя, но можно регулирова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Уравновешенность нервных процессо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процессы возбуждения и торможения могут быть либо уравновешены, т.е. одинаковой силы, либо какой-то из них преобладае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одвижность нервных процессов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способность быстро реагировать на изменения в окружающей среде. Данное свойство является показателем быстроты смены возбуждения и тормож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оотношение основных свойств нервной системы лежит в основе темперамен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Типы темперамен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743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Холер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легмат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еланхол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ангвиник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27"/>
          <p:cNvPicPr/>
          <p:nvPr/>
        </p:nvPicPr>
        <p:blipFill>
          <a:blip r:embed="rId1"/>
          <a:stretch/>
        </p:blipFill>
        <p:spPr>
          <a:xfrm>
            <a:off x="4113360" y="1143000"/>
            <a:ext cx="41148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304920" y="425520"/>
            <a:ext cx="8534160" cy="60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t_02"/>
          <p:cNvPicPr/>
          <p:nvPr/>
        </p:nvPicPr>
        <p:blipFill>
          <a:blip r:embed="rId1"/>
          <a:stretch/>
        </p:blipFill>
        <p:spPr>
          <a:xfrm>
            <a:off x="1295280" y="208080"/>
            <a:ext cx="6553440" cy="64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91" descr="Lavater1"/>
          <p:cNvPicPr/>
          <p:nvPr/>
        </p:nvPicPr>
        <p:blipFill>
          <a:blip r:embed="rId1"/>
          <a:stretch/>
        </p:blipFill>
        <p:spPr>
          <a:xfrm>
            <a:off x="2016000" y="380880"/>
            <a:ext cx="517536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Два основных взгляда на темперамент человека в психолог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66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cc"/>
                </a:solidFill>
                <a:latin typeface="Arial"/>
              </a:rPr>
              <a:t>В классической психологии считается, что каждый человек обладает смешанным темпераментом, т.е. демонстрирует признаки всех темпераментов в различных пропорция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66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cc"/>
                </a:solidFill>
                <a:latin typeface="Arial"/>
              </a:rPr>
              <a:t>Каждому человеку присущ свой определенный темперамен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melanhole"/>
          <p:cNvPicPr/>
          <p:nvPr/>
        </p:nvPicPr>
        <p:blipFill>
          <a:blip r:embed="rId1"/>
          <a:stretch/>
        </p:blipFill>
        <p:spPr>
          <a:xfrm>
            <a:off x="1447920" y="2690640"/>
            <a:ext cx="5638680" cy="41673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ILpodtip"/>
          <p:cNvPicPr/>
          <p:nvPr/>
        </p:nvPicPr>
        <p:blipFill>
          <a:blip r:embed="rId2"/>
          <a:stretch/>
        </p:blipFill>
        <p:spPr>
          <a:xfrm>
            <a:off x="1219320" y="228600"/>
            <a:ext cx="6553080" cy="22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Arial"/>
              </a:rPr>
              <a:t>Отрасли и виды психологии как науки и как социального явления: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бщая психология, 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сихология личности, 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сихология коллектива, 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бщественная, социальная психология, 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пулярная психология — поп-психология, 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етская психология ребенка и детей, 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сихология родителей, психология воспитания и психология наказания, 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сихотерапия, 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литическая психология, 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юридическая психология, 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едагогическая психология и т.д. и т.п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P.S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.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Психология глухих - сурдопсихолог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cc"/>
                </a:solidFill>
                <a:latin typeface="Arial"/>
              </a:rPr>
              <a:t>Меланхол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еланхолический темперамент (интуитивно-логический подтип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лабый неустойчивый тип нервной систем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еланхолик обычно имеет неустойчивые эмоции, склонен к необоснованным страхам и беспокойствам, отличается непостоянством, легкой возбудимостью, высокой утомляемостью и нерешительностью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увства его замедленные и неуравновешенные, они внешне невыразительны, обычно при сопровождаются не слишком активной мимикой. При этом нервная система меланхолика отличается высокой чувствительностью ко всем раздражителя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н чрезвычайно восприимчив и податлив по отношению к любым внешним воздействиям. Испортить или наоборот улучшить настроение меланхолика с помощью нескольких минут эмоционально заряженного общения пожалуй легче, чем представителю любого другого темперамент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нешне меланхолика можно легко отличить по подвижности. Меняется ситуация, окружение, поведение собеседника - меланхолик меняется вместе с ними. Его тянет туда, где присутствует движение. В целом меланхолическая конституция сухая, тонкая, изменчива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еланхолик стоит на втором месте после холерика по части худобы и потери веса.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cc"/>
                </a:solidFill>
                <a:latin typeface="Arial"/>
              </a:rPr>
              <a:t>Меланхол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мственные способности меланхолика обычно столь же хорошие, сколь и неустойчивые. Он с одинаковой легкостью и быстротой схватывает материал и забывает его. Меланхоликам рекомендуется, в первую очередь, интеллектуальная сфера деятельности, где они чувствуют себя наиболее уверенно. Это программирование, Интернет, аналитика, конструирование, планирование, работа с большими объёмами &lt;виртуальной информации&gt;. Меланхоликам следует избегать большой эмоциональной нагрузки и не перегружать себя контактами с людь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cc"/>
                </a:solidFill>
                <a:latin typeface="Arial"/>
              </a:rPr>
              <a:t>Меланхол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сокая скорость обмена веществ, обычно просто так меланхолики не полнеют, однако обмен веществ несбалансированный, отчего часто бывает сильная усталост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тонченные черты лица, хрупкость внешнего облика, худоба и худощавость, отсутствие выраженной склонности к ожирению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тянутые части тела, заметное удлинение конечностей по отношению к общим пропорциям, акцент всей фигуры на конечностя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ступающие кости, плоская, утонченная, слабая мускулатура, длинные тонкие мускулы и кост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лоская спина, узкая, длинная, плоская или вогнутая грудная клетка, острый реберный уго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носительно широкие таз и плечи при узкой тали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сокий угловатый квадратный лоб, череп значительно сужается книзу, верхняя часть головы по объему больше нижне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тылок имеет выступы, сильно скашивается к шее, имеет резкий переход к шее, заостренная теменная област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дбородок заострен, выступает вперед или слабо скошен, нижняя челюсть "слабая", заметно сужается книз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кулы средне или сильно выражены, выступают, часто заострен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ос часто удлиненный, заостренный, выступающий вперед, ярко выражен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шея длинная, средней толщины или тонкая, часто изогнута, на вид присутствует отделенность от головы и тела, кадык выражен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оги и руки длинные, тонкие, суставы острые и угловатые, ступни и кисти узкие, вытянут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SLpodtip"/>
          <p:cNvPicPr/>
          <p:nvPr/>
        </p:nvPicPr>
        <p:blipFill>
          <a:blip r:embed="rId1"/>
          <a:stretch/>
        </p:blipFill>
        <p:spPr>
          <a:xfrm>
            <a:off x="1066680" y="304920"/>
            <a:ext cx="7313760" cy="22302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flegma"/>
          <p:cNvPicPr/>
          <p:nvPr/>
        </p:nvPicPr>
        <p:blipFill>
          <a:blip r:embed="rId2"/>
          <a:stretch/>
        </p:blipFill>
        <p:spPr>
          <a:xfrm>
            <a:off x="1828800" y="2654280"/>
            <a:ext cx="609588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00"/>
                </a:solidFill>
                <a:latin typeface="Arial"/>
              </a:rPr>
              <a:t>Флегмат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абый устойчивый тип нервной системы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ипичный флегматик обычно ровен, спокоен, у него слабые эмоции и устойчивое настроен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первый взгляд он кажется уверенным в себе, но несколько ленивым и безразличны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юдей этого темперамента отличают медлительность, неторопливость, уравновешенность, инертност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общении с флегматиком легче всего почувствовать позитивные эмоции и умиротворен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нешне флегматик невыразителен в чувствах и мимик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спокойном состоянии его движения вялые, медленные, несколько неуклюжие, но сильные и уверенные. Думает он также медленно, долго колеблется, принимая решение, выводы, к которым приходит, трудно поколебать, а решения, которые он принимает, трудно изменить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00"/>
                </a:solidFill>
                <a:latin typeface="Arial"/>
              </a:rPr>
              <a:t>Флегмат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легматика наверно можно назвать рекордсменом по работоспособности и производительности, что делает его незаменимым во всех областях, связанных с производством. При всей внешней ленивости и медлительности флегматик достигает лучших результатов по объему и качеству работы по сравнению с людьми любых других темпераментов в сходных условиях. Однако для успеха ему требуются стабильные условия работы, если же ситуация постоянно меняется, работоспособность флегматика падает. Эти свойства делают флегматика незаменимым в сферах производства, администрирования и везде, где востребовано умение поддерживать текущие процессы в стабильном состоянии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Флегмат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медленные движения, спокойная и уверенная, как бы плывущая походк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вадратно-прямоугольное, "бочкообразное" туловище. Массивная, плотная, крепко сбитая фигура, угловатые форм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динаковое развитие внутренних полостей тела (головы, груди, живота), структуры плечевого пояса и конечносте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кцент фигуры в центре туловища, на "грудной клетке и на округлом животе. Кости и мышцы короткие, широкие, крепкике.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ускулатура массивная, крепкая, сильная. Короткие, круглые или средней длины и толщины ноги и руки.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меется склонность к ожирению. Явно или средне выраженная жировая ткань, в первую очередь проявляется в ожирении торса, живота.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меренная ли низкая скорость обмена веществ - вес прибывает в случае избыточного питания.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роткая, широкая, выпуклая расширяющаяся книзу грудная клетка, тупой реберный угол.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00"/>
                </a:solidFill>
                <a:latin typeface="Arial"/>
              </a:rPr>
              <a:t>Флегмат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тянутая "бочкообразная" голова. Верхняя и нижняя часть черепа равны по объему, или нижняя больше. Широкий, угловатый, квадратный череп, имеет сглаженные выступы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об слабо сужающийся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тылок плоский, без выступов, переход в шею очерчен слабо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углый, шарообразный контур темени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кулы слабо или средне выражены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с крупный, прямой, выступающий вперед, кончик опушен книзу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носительно короткая, толстая, прямая шея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деленность от головы и туловища не выражена, ноги и руки длинные, суставы округлые, ступни и кисти широкие корот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IEpodtip"/>
          <p:cNvPicPr/>
          <p:nvPr/>
        </p:nvPicPr>
        <p:blipFill>
          <a:blip r:embed="rId1"/>
          <a:stretch/>
        </p:blipFill>
        <p:spPr>
          <a:xfrm>
            <a:off x="914400" y="297000"/>
            <a:ext cx="7315200" cy="21412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holeriki"/>
          <p:cNvPicPr/>
          <p:nvPr/>
        </p:nvPicPr>
        <p:blipFill>
          <a:blip r:embed="rId2"/>
          <a:stretch/>
        </p:blipFill>
        <p:spPr>
          <a:xfrm>
            <a:off x="1752480" y="2514600"/>
            <a:ext cx="61596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Arial"/>
              </a:rPr>
              <a:t>Холер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льный неустойчивый тип нервной системы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олерический темперамент связан с неуравновешенным типом нервной системы, возбуждение у таких людей обычно преобладает над торможение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моции холерика яркие, сильные, но неустойчивые, у него активная, демонстративная выразительная мимика, торопливая речь, резкие жест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строение у него часто резко меняется. Причем внешних причин эти изменения часто не имеют, настроения возникают &lt;вдруг&gt;, ниоткуда, сам холерик обычно с трудом может объяснить, отчего это он вдруг разошелся или наоборот, сни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арактерной манерой преувеличенно на все реагировать холерик заслужил себе славу самого злобного и склочного темперамента. Однако это не так. Просто холерический темперамент естественным образом усиливает любые проявления активности человека - и хорошие, и плохие. Поэтому то, что в подаче человека другого темперамента воспринимается нормально, в подаче холерика выглядит преувеличенно ярко, гротескн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моции холерика яркие, сильные, но неустойчивые, у него активная, демонстративная, чрезвычайно выразительная мимика, торопливая речь, резкие жесты, которые часто называют нервными. Движения быстрые, резкие, энергичные, сильны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Arial"/>
              </a:rPr>
              <a:t>Цель психологии как науки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 дать ответ на вопрос, почему тот или иной человек ведет себя в той или иной ситуации, так, а не иначе, и что можно сделать, чтобы изменить поведение этого человека или свое отношение к тому, что он делает или не делает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Arial"/>
              </a:rPr>
              <a:t>Холер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холериков при принятии решений на первом месте стоит человеческий фактор, эмоции и отношения. Это делает их очень полезными в сферах, связанным с личным общением, знакомствами и услугами. С другой стороны переменчивость делает холерика трудно управляемым как работника и непредсказуемым. Работоспособность холерика высокая, но неустойчивая. Ко всему новому холерик привыкает легко и быстро, но устойчивые навыки формируются у него долго и с большим трудом. Сильные стороны руководителя этого темперамента - умение быстро выдать свежую идею в неожиданно изменившейся ситуации, зажечь и повести за собой окружающих, не важно, подчиненный это, клиент или вышестоящий руководитель. Недостатком холерика - руководителя является его отстранённость от технических аспектов производства и ориентация в первую очередь на людей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Холер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хрупкость внешнего облика, худоба и худощавость, телосложение сухо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тянутые части тела. Сильное развитие конечностей, акцент фигуры на конечностях. Длинные тонкие мускулы и кост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сутствие выраженной склонности к ожирению, худоб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сокая скорость обмена вещест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рудная клетка узкая, длинная, плоская или вогнута, острый реберный угол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легка конусообразный череп, овальной или яйцеобразной слегка сужающийся кверху форм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об плавно сужающийся кверху, конусообразный, без выступов и неровносте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ерхняя часть головы больше по объему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дбородок заострен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ижняя челюсть "слабая" или сильно скошенная, заметно сужается книзу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кулы средне или сильно выражены, выступают, заострен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ос ярко выраженной формы - с горбинкой "птичий", сильно выступающий, заостренный, удлиненный, вытянутый вперед, кончик явно опущен вниз по отношению к основанию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тылок имеет выступы, сильно скашивается книзу, резкий переходи к ше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остренная теменная область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Шея длинная, средней толщины или тонкая, часто изогнута, на вид присутствует отделенность от головы и тела, кадык выражен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оги длинные, тонкие, колени худые, угловатые, острые, ступни узкие, вытянутые, узловатые, суставы резко выступаю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SEpodtip"/>
          <p:cNvPicPr/>
          <p:nvPr/>
        </p:nvPicPr>
        <p:blipFill>
          <a:blip r:embed="rId1"/>
          <a:stretch/>
        </p:blipFill>
        <p:spPr>
          <a:xfrm>
            <a:off x="1295280" y="457200"/>
            <a:ext cx="6096240" cy="17496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sangvin"/>
          <p:cNvPicPr/>
          <p:nvPr/>
        </p:nvPicPr>
        <p:blipFill>
          <a:blip r:embed="rId2"/>
          <a:stretch/>
        </p:blipFill>
        <p:spPr>
          <a:xfrm>
            <a:off x="2057400" y="2336760"/>
            <a:ext cx="4775040" cy="45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9900"/>
                </a:solidFill>
                <a:latin typeface="Arial"/>
              </a:rPr>
              <a:t>Сангвин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ильный устойчивый тип нервной системы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ангвиник больше всего известен как активный жизнерадостный и добродушный человек. Это в полной мере отражает действительность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большинстве своем сангвиник обладает сильными, уравновешенными, но при этом такими же подвижными эмоциями, как и холерик. Можно сказать, что сангвиник беспокоен внешне, но спокоен внутри. Даже после вспышки раздражительности, которая случается у сангвиника крайне редко, он очень быстро успокаиваетс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птимизм, жизнерадостность и добродушие, которые излучает сангвиник в любой ситуации, составляют главные отличительные черты представителей этого темперамента. У сангвиника как правило преобладает хорошее настроение, которое редко меняется. Его реакции всегда явно выражены, легко и быстро сменяютс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 сангвиника такая же активная мимика как и у холерика. Этот темперамент обеспечивает уверенный контроль над эмоциями, быструю, отчетливую речь, сопровождаемую выразительными мимикой и жестам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вижения сангвиника сильные, энергичные, уверенные, пластичные. Сангвиническая конституция дает широкое лицо и круглое тело, выраженную склонность к полноте и двигательную активность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нормальном состоянии конституция сангвиника проявляется как упругость и подвижность,. Даже походка этого человека отражает эти свойства - она быстрая, но плавная и упругая.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9900"/>
                </a:solidFill>
                <a:latin typeface="Arial"/>
              </a:rPr>
              <a:t>Сангвин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нгвиник быстро переключается с одного вида деятельности на другой. Легко управляет своей работоспособностью, которая обычно очень высокая не зависимо от внешних и внутренних причин. Привычки у него образуются быстро и легко, а сформированные навыки закрепляются и долго сохраняются. В работе, как и в личных отношениях, сангвиник склонен, прежде всего, ориентироваться на &lt;человеческий фактор&gt;. Наилучшими сферами для самореализации сангвиника являются воспитательско - преподавательская работа, где упор делается не на техническую сферу, ) косметология, общественное питание, рекрутинг, знакомства и т.д. Сангвиник является, пожалуй, самым приятным и душевным руководителем с точки зрения подчиненных. Однако технические моменты в работе часто вызывают у сангвиников затруднение. Его сильная черта - уговоры и расположение к себе - не всегда срабатывает в условиях, например, планового производст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9900"/>
                </a:solidFill>
                <a:latin typeface="Arial"/>
              </a:rPr>
              <a:t>Сангвин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углое, "шарообразное" туловище, округлые формы, низкий, редко средний рос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льное развитие внутренних полостей тела (головы, груди, живота) при слабо развитой структуре плечевого пояса и конечност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цент в центре туловища на округлом живот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роткие, широкие кости и мышцы - вид круглых "нашлепок" на плечах, как латы. Выпуклый рельеф мышц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вно выраженная жировая ткань, жир откладывается равномерно во всех частях тел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изкая скорость обмена веществ - вес прибывает, даже если есть относительно мал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роткая, широкая, выпуклая грудная клетка, тупой реберный уго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углая шарообразная голова., верхняя и нижняя часть черепа равны по объему, круглый, шарообразный контур темен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об круглый, без выступов и неровностей, плавно закругленный, почти незаметный переход к волосяной час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бородок и скулы не выражен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с явно не выражен, "утиный", "картошкой" или слегка вздерну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тылок круглый или плоский, без выступов, переход в шею очерчен слаб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ея слабо или совсем не выражена, короткая, толста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ги короткие, гладкие, круглы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звестные люд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Лермонтов, Наполеон и Петр1 - сангвиник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Кутузов, Крылов - флегматик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Суворов и Пушкин - холерик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Гоголь - меланхолик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НО!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На развитие личности у психологов неоднозначные взгляды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юди все разные!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ловек – это не робот! Практически каждый человек – это личность. Личность настолько многогранна в своих индивидуально-психологических проявлениях, что соотношение её разнообразных качеств может сказываться и на проявлениях мировоззрения, и на поведен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oldgirl"/>
          <p:cNvPicPr/>
          <p:nvPr/>
        </p:nvPicPr>
        <p:blipFill>
          <a:blip r:embed="rId1"/>
          <a:stretch/>
        </p:blipFill>
        <p:spPr>
          <a:xfrm>
            <a:off x="5013360" y="1600200"/>
            <a:ext cx="3620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Личность — результат процесса воспитания и самовоспитания. «Личностью не рождаются, а становятся» А. Н. Леонтье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трибуты лич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 Во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 Своб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 Разу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мплекс устойчивых компонентов лич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 Темпераме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 Характ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 Способ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 Мотив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1"/>
          <p:cNvPicPr/>
          <p:nvPr/>
        </p:nvPicPr>
        <p:blipFill>
          <a:blip r:embed="rId1"/>
          <a:stretch/>
        </p:blipFill>
        <p:spPr>
          <a:xfrm>
            <a:off x="457200" y="609480"/>
            <a:ext cx="8686800" cy="571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Основу социальной подструктуры личности составляет единство и взаимосвязь социального опыта и направленности личност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циальные норм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редставляют собой правила или модели поведения, санкционированные социальными группами и ожидаемые в реальном поведении от состоящих в этих отношения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основе социального опыта вырабатываются умения, навыки, знания и привычки человека. Если характер человека содержит ответ на вопрос: "Что он будет делать в той или иной ситуации", то социальный опыт даст ответ "Как он поступит в определенной ситуации"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правленность личност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— это тоже категория больше социальная, чем генетически определенная. Направленность определяет доминирующую продолжительное время ту или иную ценность, которая ложится в основу мотивации поведения человека. Ради этой ценности (основного мотива) человек готов отказаться от многих привлекательных и желаемых альтернати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Индивидуально-психологические особенности личност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Темпераме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нову биологической подструктуры личности составляет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емперамен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— закономерное соотношение устойчивых индивидуальных особенностей личности, характеризующих различные стороны динамики психической деятель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ooM</cp:lastModifiedBy>
  <dcterms:modified xsi:type="dcterms:W3CDTF">2013-12-10T23:35:32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