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6C3-EE15-4F3E-9C7B-1CFC79E3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BBB-CAB8-4630-9E2A-328D26E0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29A-3143-4EE9-A049-E5C949FE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0EF-3320-4039-9C06-C4CB5B81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D57-EFFD-4451-AD42-22274DA3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7B8-1B4C-4910-B5E7-67F60EAA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058-E284-41B2-BC0D-CCE006C6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A72-03BC-46A4-88ED-A96DFDD4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98D-E952-4923-80DA-8A9CA102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FEE-46E0-4D7E-8CB9-7123D61D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01C-586A-4536-AAF3-DA099AE7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134-7D8D-4A63-9210-C18F09A5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8F85-78D5-43C8-ADCB-58BA777AD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сихология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е простое определение психологии как науки таково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наука о душе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ед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pshyso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» в переводе с греческого языка означа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душа»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logia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наука, учение»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ное определение психологии как науки от самих психологов: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статочно нудное, сложное и непонятное определение, верн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Психологическая эмблема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войства темперамен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дея и учение о темпер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ревнегреческий врач Гиппок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писал основные типы темпера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нтичный врач Клавдий Гал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ассификация темпера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мецкий философ И.К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ал описание темпераментов, которые используют и в наше врем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оссийский ученый Н.П. Пав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а нервных процессов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овешенность нервны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 нервных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основных свойств нервной системы лежит в основе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7"/>
          <p:cNvPicPr/>
          <p:nvPr/>
        </p:nvPicPr>
        <p:blipFill>
          <a:blip r:embed="rId1"/>
          <a:stretch/>
        </p:blipFill>
        <p:spPr>
          <a:xfrm>
            <a:off x="4113360" y="1143000"/>
            <a:ext cx="4114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04920" y="425520"/>
            <a:ext cx="853416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t_02"/>
          <p:cNvPicPr/>
          <p:nvPr/>
        </p:nvPicPr>
        <p:blipFill>
          <a:blip r:embed="rId1"/>
          <a:stretch/>
        </p:blipFill>
        <p:spPr>
          <a:xfrm>
            <a:off x="1295280" y="208080"/>
            <a:ext cx="655344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91" descr="Lavater1"/>
          <p:cNvPicPr/>
          <p:nvPr/>
        </p:nvPicPr>
        <p:blipFill>
          <a:blip r:embed="rId1"/>
          <a:stretch/>
        </p:blipFill>
        <p:spPr>
          <a:xfrm>
            <a:off x="2016000" y="380880"/>
            <a:ext cx="5175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ва основных взгляда на темперамент человека в псих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аждому человеку присущ свой определенный темпер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melanhole"/>
          <p:cNvPicPr/>
          <p:nvPr/>
        </p:nvPicPr>
        <p:blipFill>
          <a:blip r:embed="rId1"/>
          <a:stretch/>
        </p:blipFill>
        <p:spPr>
          <a:xfrm>
            <a:off x="1447920" y="2690640"/>
            <a:ext cx="5638680" cy="416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Lpodtip"/>
          <p:cNvPicPr/>
          <p:nvPr/>
        </p:nvPicPr>
        <p:blipFill>
          <a:blip r:embed="rId2"/>
          <a:stretch/>
        </p:blipFill>
        <p:spPr>
          <a:xfrm>
            <a:off x="1219320" y="228600"/>
            <a:ext cx="65530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трасли и виды психологии как науки и как социального я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личности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коллектива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ая, социальн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лярная психология — поп-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ая психология ребенка и детей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родителей, психология воспитания и психология наказан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д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ая психология и т.д.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.S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сихология глухих - сурдопсих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ческий темперамент (интуитивно-логический подт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й неустойчивый тип нерв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стоит на втором месте после холерика по части худобы и потери вес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широкие таз и плечи при узкой тал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часто заостр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часто удлиненный, заостренный, выступающий вперед, ярко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SLpodtip"/>
          <p:cNvPicPr/>
          <p:nvPr/>
        </p:nvPicPr>
        <p:blipFill>
          <a:blip r:embed="rId1"/>
          <a:stretch/>
        </p:blipFill>
        <p:spPr>
          <a:xfrm>
            <a:off x="1066680" y="304920"/>
            <a:ext cx="7313760" cy="2230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legma"/>
          <p:cNvPicPr/>
          <p:nvPr/>
        </p:nvPicPr>
        <p:blipFill>
          <a:blip r:embed="rId2"/>
          <a:stretch/>
        </p:blipFill>
        <p:spPr>
          <a:xfrm>
            <a:off x="1828800" y="2654280"/>
            <a:ext cx="60958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 устойчивый тип нервной систем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й взгляд он кажется уверенным в себе, но несколько ленивым и безразл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 флегматик невыразителен в чувствах и мим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дленные движения, спокойная и уверенная, как бы плывущая похо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ая, широкая, выпуклая расширяющаяся книзу грудная клетка, тупой реберный уго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слабо сужающий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плоский, без выступов, переход в шею очерчен слаб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, шарообразный контур темен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ы слабо или средне выраже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крупный, прямой, выступающий вперед, кончик опушен книз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короткая, толстая, прямая ше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IEpodtip"/>
          <p:cNvPicPr/>
          <p:nvPr/>
        </p:nvPicPr>
        <p:blipFill>
          <a:blip r:embed="rId1"/>
          <a:stretch/>
        </p:blipFill>
        <p:spPr>
          <a:xfrm>
            <a:off x="914400" y="297000"/>
            <a:ext cx="7315200" cy="214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oleriki"/>
          <p:cNvPicPr/>
          <p:nvPr/>
        </p:nvPicPr>
        <p:blipFill>
          <a:blip r:embed="rId2"/>
          <a:stretch/>
        </p:blipFill>
        <p:spPr>
          <a:xfrm>
            <a:off x="1752480" y="2514600"/>
            <a:ext cx="615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неустойчивый тип нервной системы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психологии как наук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внешнего облика, худоба и худощавость, телосложение сух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выраженной склонности к ожирению, худо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дная клетка узкая, длинная, плоская или вогнута, острый реберный уг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 плавно сужающийся кверху, конусообразный, без выступов и неров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хняя часть головы больше по объ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яя челюсть "слабая" или сильно скошенная, заметно сужается кни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заостре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низу, резкий переходи к ш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остренная теменная обла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SEpodtip"/>
          <p:cNvPicPr/>
          <p:nvPr/>
        </p:nvPicPr>
        <p:blipFill>
          <a:blip r:embed="rId1"/>
          <a:stretch/>
        </p:blipFill>
        <p:spPr>
          <a:xfrm>
            <a:off x="1295280" y="457200"/>
            <a:ext cx="6096240" cy="174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sangvin"/>
          <p:cNvPicPr/>
          <p:nvPr/>
        </p:nvPicPr>
        <p:blipFill>
          <a:blip r:embed="rId2"/>
          <a:stretch/>
        </p:blipFill>
        <p:spPr>
          <a:xfrm>
            <a:off x="2057400" y="2336760"/>
            <a:ext cx="47750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й устойчивый тип нервной систем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е, "шарообразное" туловище, округлые формы, низкий, редко средний р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в центре туловища на округлом жив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 выраженная жировая ткань, жир откладывается равномерно во всех частях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скорость обмена веществ - вес прибывает, даже если есть относительно м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, широкая, выпуклая грудная клетка, тупой реберны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одок и скулы не выра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явно не выражен, "утиный", "картошкой" или слегка вздер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круглый или плоский, без выступов, переход в шею очерчен сла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я слабо или совсем не выражена, короткая, толс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короткие, гладкие, круг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рмонтов, Наполеон и Петр1 - сангвин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тузов, Крылов - флег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воров и Пушкин - холер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голь - меланхоли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 развитие личности у психологов неоднозначные взгля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все разны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oldgirl"/>
          <p:cNvPicPr/>
          <p:nvPr/>
        </p:nvPicPr>
        <p:blipFill>
          <a:blip r:embed="rId1"/>
          <a:stretch/>
        </p:blipFill>
        <p:spPr>
          <a:xfrm>
            <a:off x="5013360" y="1600200"/>
            <a:ext cx="3620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рибуты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з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стойчивых компонентов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емпер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дивидуально-психологические особенност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пер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у биологической подструктуры личности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10T23:35:3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