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FF7-C9BC-4771-B5FD-24701884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89B-D0C2-4816-BBBB-1837588C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DF8-5921-4EC1-A4D6-C42EA131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BEC-DB84-44CE-BB43-35BF9C4C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CACB-F6CF-446D-898E-2E4A760B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D67F-05F5-40D0-96F8-5D62A0C4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83C1-8ACC-49CE-9D7B-6FA06C85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2AF3-9C4F-4D89-83AF-B5B13E9E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0958-E225-4E08-9D08-239C9710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E739-1442-40F0-AD5D-0DE6128A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7CCA-35DE-4118-83B5-77B98DE4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AA4-693F-4D20-A097-D34D796D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3816-E44B-4A4A-99B4-FA3728A1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779A-1316-4AD0-8BFF-54F424B5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C150-251C-4BEB-B6ED-61440C7D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F1C2-91AF-4467-B721-F37A2799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1C86-845C-44EB-8CD6-4862A48C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AA3-A690-4892-8DD8-01E2D58F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E00-ED5A-4E1D-BF35-6714699A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9E0-7432-449C-AE23-A20F00EB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922-1559-444A-9D4E-3AA744C2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9CE-E84C-4F6C-8AB2-1C99E5FF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02B-41F1-4FD1-822E-47FA8E9D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94E-DCFA-42A0-833F-E2D1AEFC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BAAA-A758-4A6A-AA6D-D9E19A98369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1449-65A9-4CCB-B9F2-EAFB0AAA0F9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911240"/>
            <a:ext cx="7378560" cy="340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9360" y="448200"/>
            <a:ext cx="912528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мский  государственный 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циональный  исследовательский 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ско-социологический факуль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ФЕДРА  ПСИХОЛОГИИ 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mpact"/>
              </a:rPr>
              <a:t>МАГИСТРАТУРА  по  направлению  «ПСИХО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«ПСИХОЛОГИЯ РАЗВИТ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СЕМЬИ И ЛИЧ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Люблянский университет</a:t>
            </a:r>
            <a:br>
              <a:rPr sz="3200"/>
            </a:b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ff5050"/>
                </a:solidFill>
                <a:latin typeface="Impact"/>
              </a:rPr>
              <a:t>Любляна,  Словения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4" descr="IMG_7328"/>
          <p:cNvPicPr/>
          <p:nvPr/>
        </p:nvPicPr>
        <p:blipFill>
          <a:blip r:embed="rId1"/>
          <a:srcRect l="0" t="-1915" r="16148" b="0"/>
          <a:stretch/>
        </p:blipFill>
        <p:spPr>
          <a:xfrm>
            <a:off x="1476360" y="1268280"/>
            <a:ext cx="6048360" cy="5400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1547640" y="6021360"/>
            <a:ext cx="583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Impact"/>
              </a:rPr>
              <a:t>       </a:t>
            </a:r>
            <a:r>
              <a:rPr b="1" lang="ru-RU" sz="2400" spc="-1" strike="noStrike">
                <a:solidFill>
                  <a:srgbClr val="ff5050"/>
                </a:solidFill>
                <a:latin typeface="Impact"/>
              </a:rPr>
              <a:t>Встреча с преподавателем кафедры психологии развития Майей Зупаню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79280" y="2133720"/>
            <a:ext cx="87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Л IMG_0877"/>
          <p:cNvPicPr/>
          <p:nvPr/>
        </p:nvPicPr>
        <p:blipFill>
          <a:blip r:embed="rId1"/>
          <a:stretch/>
        </p:blipFill>
        <p:spPr>
          <a:xfrm>
            <a:off x="1187280" y="115920"/>
            <a:ext cx="7632720" cy="5952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1258920" y="6093000"/>
            <a:ext cx="741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Impact"/>
              </a:rPr>
              <a:t>       </a:t>
            </a:r>
            <a:r>
              <a:rPr b="1" lang="ru-RU" sz="2400" spc="-1" strike="noStrike">
                <a:solidFill>
                  <a:srgbClr val="ff5050"/>
                </a:solidFill>
                <a:latin typeface="Impact"/>
              </a:rPr>
              <a:t>Встреча с руководителем центра психолого-социологических  исследований Марьяной 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44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Компания </a:t>
            </a:r>
            <a:r>
              <a:rPr b="1" lang="en-US" sz="3200" spc="-1" strike="noStrike">
                <a:solidFill>
                  <a:srgbClr val="333399"/>
                </a:solidFill>
                <a:latin typeface="Impact"/>
              </a:rPr>
              <a:t>Neosys Organisational Development and Consulting</a:t>
            </a:r>
            <a:br>
              <a:rPr sz="3200"/>
            </a:br>
            <a:r>
              <a:rPr b="1" lang="en-US" sz="2400" spc="-1" strike="noStrike">
                <a:solidFill>
                  <a:srgbClr val="ff5050"/>
                </a:solidFill>
                <a:latin typeface="Impact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ff5050"/>
                </a:solidFill>
                <a:latin typeface="Impact"/>
              </a:rPr>
              <a:t>Будапешт,  Венгрия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19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Копия Лекцию читает Andras Koncz "/>
          <p:cNvPicPr/>
          <p:nvPr/>
        </p:nvPicPr>
        <p:blipFill>
          <a:blip r:embed="rId1"/>
          <a:stretch/>
        </p:blipFill>
        <p:spPr>
          <a:xfrm>
            <a:off x="1332000" y="1916280"/>
            <a:ext cx="6210360" cy="47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Русский институт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Линдонского государственного колледжа </a:t>
            </a:r>
            <a:br>
              <a:rPr sz="3200"/>
            </a:b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ff5050"/>
                </a:solidFill>
                <a:latin typeface="Impact"/>
              </a:rPr>
              <a:t>Линдон,  шт. Вермонт,  США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6" descr="DSCN3874!"/>
          <p:cNvPicPr/>
          <p:nvPr/>
        </p:nvPicPr>
        <p:blipFill>
          <a:blip r:embed="rId1"/>
          <a:srcRect l="2278" t="1501" r="0" b="22824"/>
          <a:stretch/>
        </p:blipFill>
        <p:spPr>
          <a:xfrm>
            <a:off x="1332000" y="1989000"/>
            <a:ext cx="6840360" cy="44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!Изображение 032"/>
          <p:cNvPicPr/>
          <p:nvPr/>
        </p:nvPicPr>
        <p:blipFill>
          <a:blip r:embed="rId1"/>
          <a:stretch/>
        </p:blipFill>
        <p:spPr>
          <a:xfrm>
            <a:off x="1116000" y="528480"/>
            <a:ext cx="7848720" cy="6091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1351080" y="549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Impact"/>
              </a:rPr>
              <a:t>Чтение Ждановой С.Ю. лекции по психологии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79280" y="2133720"/>
            <a:ext cx="87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!Изображение 078"/>
          <p:cNvPicPr/>
          <p:nvPr/>
        </p:nvPicPr>
        <p:blipFill>
          <a:blip r:embed="rId1"/>
          <a:stretch/>
        </p:blipFill>
        <p:spPr>
          <a:xfrm>
            <a:off x="1116000" y="638280"/>
            <a:ext cx="7850160" cy="5889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1351080" y="620640"/>
            <a:ext cx="779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Impact"/>
              </a:rPr>
              <a:t>Занятие преподавателей кафедры психологии развития ПГУ с американскими студ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октора и кандидат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сихологических и педагогических нау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сихологи - практик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Среди них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ауреа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ми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тепени им. В.С. Мерлин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ауреа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конкурсов на лучшие научно-исследовательские работы в области гуманитарных и общественных наук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ладатели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енной стипендии Пермской област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четной грамоты Минобразования и науки РФ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ипендии Оксфордского университет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32000" y="380880"/>
            <a:ext cx="761184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Impact"/>
              </a:rPr>
              <a:t>Преподаватели кафедр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79280" y="2133720"/>
            <a:ext cx="87854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Impact"/>
              </a:rPr>
              <a:t>Мы приглашаем В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 МАГИСТРАТУРУ    по програм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«ПСИХОЛОГИЯ РАЗВИТ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СЕМЬИ И ЛИЧНОСТИ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5050"/>
                </a:solidFill>
                <a:latin typeface="Impact"/>
              </a:rPr>
              <a:t>Поступив в магистратуру  </a:t>
            </a:r>
            <a:r>
              <a:rPr b="0" lang="ru-RU" sz="2000" spc="-1" strike="noStrike">
                <a:solidFill>
                  <a:srgbClr val="ff5050"/>
                </a:solidFill>
                <a:latin typeface="Impact"/>
              </a:rPr>
              <a:t>по</a:t>
            </a:r>
            <a:r>
              <a:rPr b="0" lang="ru-RU" sz="3600" spc="-1" strike="noStrike">
                <a:solidFill>
                  <a:srgbClr val="ff5050"/>
                </a:solidFill>
                <a:latin typeface="Impact"/>
              </a:rPr>
              <a:t> </a:t>
            </a:r>
            <a:r>
              <a:rPr b="1" lang="ru-RU" sz="2000" spc="-1" strike="noStrike">
                <a:solidFill>
                  <a:srgbClr val="ff5050"/>
                </a:solidFill>
                <a:latin typeface="Impact"/>
              </a:rPr>
              <a:t>программе 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«ПСИХОЛОГИЯ  РАЗВИТИЯ,  СЕМЬИ  И  ЛИЧНОСТИ»</a:t>
            </a:r>
            <a:br>
              <a:rPr sz="3200"/>
            </a:b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ff5050"/>
                </a:solidFill>
                <a:latin typeface="Impact"/>
              </a:rPr>
              <a:t>ВЫ  СМОЖЕТЕ: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420640"/>
            <a:ext cx="85741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начительно расширит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вои профессиональные компетенции в научной и практической деятельности психолог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риентироваться в возможностях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фессиональной психологической практики Перми, Пермского края и Росс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начительно повысить уровен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ладения иностранным языко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лучить возможность установления контактов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 зарубежными коллегами для реализации совместных научных проектов (университеты Любляны (Словения), Линдона (США), Дюссельдорфа, Люнебурга (Германия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дготовиться к сдач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ндидатских экзамен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иступить к работ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д кандидатской диссертаци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74440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В числе  дисциплин,  способствующих реализации  данных  возможностей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2090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звитие лич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сихология пренатального развит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сихология семьи и семейных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новы семейного консультирования и семейной психотерап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сихология работы с семьей в кризисных ситуац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йролингвистическое программирова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сновы психологической аттестации экспертизы персона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чность в организ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сихология межличностной коммуник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ика работы с научным текст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остранный язык в профессиональной коммуник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Impact"/>
              </a:rPr>
              <a:t>Сферы  трудоустройств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учно-исследовательская деятельность, образовательные учреждения (вузы, дополнительное образование и др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сихологические центры  (центры детского развития, пренатальные центры, центры планирования семьи, медико-психолого-социальные центры, кризисные центры и др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сихологические службы в организациях, отделы управления персоналом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R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гентств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астная психологическая практи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342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ahoma"/>
              </a:rPr>
              <a:t>За 2 года обучения</a:t>
            </a:r>
            <a:r>
              <a:rPr b="0" lang="ru-RU" sz="2000" spc="-1" strike="noStrike">
                <a:solidFill>
                  <a:srgbClr val="ff5050"/>
                </a:solidFill>
                <a:latin typeface="Tahoma"/>
              </a:rPr>
              <a:t> в магистратуре возможн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писать кандидатскую диссертацию и подготовиться к ее защит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готовиться к сдаче кандидатского минимума (не тратя время и денежные средства на обучение в аспирантуре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тупить руководителем или исполнителем научно-исследовательских грант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тупить руководителем научно-исследовательской работы бакалав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йти научные стажировки в России и за рубеж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Перспективы  научного  роста  магистр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8508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5050"/>
                </a:solidFill>
                <a:uFillTx/>
                <a:latin typeface="Tahoma"/>
              </a:rPr>
              <a:t>Научно-исследовательские темы: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Системные аспекты развития: личность, групп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Психология взаимодействия человека с окружающей средой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5050"/>
                </a:solidFill>
                <a:uFillTx/>
                <a:latin typeface="Tahoma"/>
              </a:rPr>
              <a:t>Аспирантура по специальности  19.00.01.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Общая психология, история психологии, психология личност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611840" cy="13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Impact"/>
              </a:rPr>
              <a:t>Научная  деятельность 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Impact"/>
              </a:rPr>
              <a:t>кафедры  психологии  развития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617040"/>
            <a:ext cx="7611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Impact"/>
              </a:rPr>
              <a:t>Достижения  выпускающей  кафедр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5050"/>
                </a:solidFill>
                <a:uFillTx/>
                <a:latin typeface="Impact"/>
              </a:rPr>
              <a:t>Успешно  осуществляется  руководство  выполнением  научно-исследовательских  проектов,  поддержанных  РГНФ и  Министерством промышленности,  инноваций  и  науки  Пермского  края  по  темам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Impact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Образ города Перми у представителей зарубежных стран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Образ городов-побратимов в сознании русских и иностранцев (к 20-летию побратимства с Оксфордом и 15-летию - с Луисвиллем)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5050"/>
                </a:solidFill>
                <a:uFillTx/>
                <a:latin typeface="Impact"/>
              </a:rPr>
              <a:t>Принимается  активное  участие  в  выполнении  научно-исследовательских  проектов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рофессиональное становление субъекта в социономических профессиях» (РГНФ, г. Москва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Сопряженная профессиональная карьера субъекта: становление, эволюция, ресурсы» (РГНФ, г. Москва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818820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Impact"/>
              </a:rPr>
              <a:t>Международные контакты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Impact"/>
              </a:rPr>
              <a:t>и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Impact"/>
              </a:rPr>
              <a:t>стажировки</a:t>
            </a:r>
            <a:r>
              <a:rPr b="0" lang="ru-RU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Impact"/>
              </a:rPr>
              <a:t>кафедры психологии развити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Международный центр повышения квалификации</a:t>
            </a:r>
            <a:r>
              <a:rPr b="1" lang="ru-RU" sz="28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ff5050"/>
                </a:solidFill>
                <a:latin typeface="Impact"/>
              </a:rPr>
              <a:t>Дюссельдорф,  Германия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4" descr="P4190086"/>
          <p:cNvPicPr/>
          <p:nvPr/>
        </p:nvPicPr>
        <p:blipFill>
          <a:blip r:embed="rId1"/>
          <a:stretch/>
        </p:blipFill>
        <p:spPr>
          <a:xfrm>
            <a:off x="2268360" y="1628640"/>
            <a:ext cx="4631040" cy="479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1:44:41Z</dcterms:created>
  <dc:creator>Student</dc:creator>
  <dc:description/>
  <dc:language>en-US</dc:language>
  <cp:lastModifiedBy>ZooM</cp:lastModifiedBy>
  <dcterms:modified xsi:type="dcterms:W3CDTF">2013-11-07T18:34:16Z</dcterms:modified>
  <cp:revision>51</cp:revision>
  <dc:subject/>
  <dc:title>Презентация PowerPoint</dc:title>
</cp:coreProperties>
</file>