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31B-A8A9-4E50-9D6B-BE3FAB6D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774-F37C-4CE3-B44B-DBB4C9E3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587-F033-494F-AB1E-FAC8D102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67B-C690-4296-842C-CFBC6A4E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0E21-0616-4CAC-95E6-4E7A0D56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FEE3-5B6E-4A07-B87E-7D877714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4B3B-A79C-4858-B183-5F73269E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9D8B-726C-4C24-9B61-A0873299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27B0-AB76-4986-941B-0035E590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EEF8-F65F-4968-8B4B-7485DEF5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95C2-1E57-4D31-BEB3-DD3EDBD7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59C-4D8D-4E9D-ACC4-368E8B13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493F-1A58-4745-AC34-78458D6D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E9D2-75DF-48EA-838C-37BD3C3F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86C4-A0E5-4194-8894-6167D7DB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A08B-2BE6-4070-8A24-4D2B16D1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FB2E-0657-40FC-B30E-D6B198CA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717-3C29-4632-B667-297A3D2B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F4B-FF33-4E6D-8468-E2ECC476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DF7-8F86-4E15-BE28-179902F1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207-02F8-4F5F-AFEA-5C62A604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208-A591-4356-953B-76267CE6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78A-2061-4DCC-B6FA-ABC9FAAB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578-9E42-4EDB-86E7-82935D75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34A5-1425-481B-A17A-6CF1BB3EC95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445E-19C2-44E8-ADE8-2FE79D2CF26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911240"/>
            <a:ext cx="7378560" cy="340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9360" y="448200"/>
            <a:ext cx="912528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ский  государственный 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ьный  исследовательский 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о-социологический факуль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 ПСИХОЛОГИИ 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Impact"/>
              </a:rPr>
              <a:t>МАГИСТРАТУРА  по  направлению  «ПСИХО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«ПСИХОЛОГИЯ РАЗВИТ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СЕМЬИ И ЛИЧ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Люблянский университет</a:t>
            </a:r>
            <a:br>
              <a:rPr sz="3200"/>
            </a:b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Любляна,  Словения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4" descr="IMG_7328"/>
          <p:cNvPicPr/>
          <p:nvPr/>
        </p:nvPicPr>
        <p:blipFill>
          <a:blip r:embed="rId1"/>
          <a:srcRect l="0" t="-1915" r="16148" b="0"/>
          <a:stretch/>
        </p:blipFill>
        <p:spPr>
          <a:xfrm>
            <a:off x="1476360" y="1268280"/>
            <a:ext cx="6048360" cy="5400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1547640" y="6021360"/>
            <a:ext cx="583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       </a:t>
            </a: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Встреча с преподавателем кафедры психологии развития Майей Зупаню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9280" y="2133720"/>
            <a:ext cx="87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Л IMG_0877"/>
          <p:cNvPicPr/>
          <p:nvPr/>
        </p:nvPicPr>
        <p:blipFill>
          <a:blip r:embed="rId1"/>
          <a:stretch/>
        </p:blipFill>
        <p:spPr>
          <a:xfrm>
            <a:off x="1187280" y="115920"/>
            <a:ext cx="7632720" cy="5952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1258920" y="6093000"/>
            <a:ext cx="741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       </a:t>
            </a: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Встреча с руководителем центра психолого-социологических  исследований Марьяной 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4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Компания </a:t>
            </a:r>
            <a:r>
              <a:rPr b="1" lang="en-US" sz="3200" spc="-1" strike="noStrike">
                <a:solidFill>
                  <a:srgbClr val="333399"/>
                </a:solidFill>
                <a:latin typeface="Impact"/>
              </a:rPr>
              <a:t>Neosys Organisational Development and Consulting</a:t>
            </a:r>
            <a:br>
              <a:rPr sz="3200"/>
            </a:br>
            <a:r>
              <a:rPr b="1" lang="en-US" sz="2400" spc="-1" strike="noStrike">
                <a:solidFill>
                  <a:srgbClr val="ff5050"/>
                </a:solidFill>
                <a:latin typeface="Impact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Будапешт,  Венгрия</a:t>
            </a:r>
            <a:r>
              <a:rPr b="1" lang="en-US" sz="2800" spc="-1" strike="noStrike">
                <a:solidFill>
                  <a:srgbClr val="ff5050"/>
                </a:solidFill>
                <a:latin typeface="Tahoma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19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Копия Лекцию читает Andras Koncz "/>
          <p:cNvPicPr/>
          <p:nvPr/>
        </p:nvPicPr>
        <p:blipFill>
          <a:blip r:embed="rId1"/>
          <a:stretch/>
        </p:blipFill>
        <p:spPr>
          <a:xfrm>
            <a:off x="1332000" y="1916280"/>
            <a:ext cx="6210360" cy="47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Русский институт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Линдонского государственного колледжа </a:t>
            </a:r>
            <a:br>
              <a:rPr sz="3200"/>
            </a:b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Линдон,  шт. Вермонт,  США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6" descr="DSCN3874!"/>
          <p:cNvPicPr/>
          <p:nvPr/>
        </p:nvPicPr>
        <p:blipFill>
          <a:blip r:embed="rId1"/>
          <a:srcRect l="2278" t="1501" r="0" b="22824"/>
          <a:stretch/>
        </p:blipFill>
        <p:spPr>
          <a:xfrm>
            <a:off x="1332000" y="1989000"/>
            <a:ext cx="684036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!Изображение 032"/>
          <p:cNvPicPr/>
          <p:nvPr/>
        </p:nvPicPr>
        <p:blipFill>
          <a:blip r:embed="rId1"/>
          <a:stretch/>
        </p:blipFill>
        <p:spPr>
          <a:xfrm>
            <a:off x="1116000" y="528480"/>
            <a:ext cx="7848720" cy="6091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1351080" y="549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Impact"/>
              </a:rPr>
              <a:t>Чтение Ждановой С.Ю. лекции по психологии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79280" y="2133720"/>
            <a:ext cx="87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!Изображение 078"/>
          <p:cNvPicPr/>
          <p:nvPr/>
        </p:nvPicPr>
        <p:blipFill>
          <a:blip r:embed="rId1"/>
          <a:stretch/>
        </p:blipFill>
        <p:spPr>
          <a:xfrm>
            <a:off x="1116000" y="638280"/>
            <a:ext cx="7850160" cy="5889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1351080" y="620640"/>
            <a:ext cx="77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Impact"/>
              </a:rPr>
              <a:t>Занятие преподавателей кафедры психологии развития ПГУ с американскими студ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ктора и кандида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сихологических и педагогических нау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 - практик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Среди них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ауреа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ми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тепени им. В.С. Мерлин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ауреа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конкурсов на лучшие научно-исследовательские работы в области гуманитарных и общественных нау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ладател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менной стипендии Пермской област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четной грамоты Минобразования и науки РФ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ипендии Оксфордского университет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32000" y="380880"/>
            <a:ext cx="761184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Преподаватели кафед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79280" y="2133720"/>
            <a:ext cx="8785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Мы приглашаем В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 МАГИСТРАТУРУ    по програм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«ПСИХОЛОГИЯ РАЗВИТ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СЕМЬИ И ЛИЧНОСТИ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5050"/>
                </a:solidFill>
                <a:latin typeface="Impact"/>
              </a:rPr>
              <a:t>Поступив в магистратуру  </a:t>
            </a:r>
            <a:r>
              <a:rPr b="0" lang="ru-RU" sz="2000" spc="-1" strike="noStrike">
                <a:solidFill>
                  <a:srgbClr val="ff5050"/>
                </a:solidFill>
                <a:latin typeface="Impact"/>
              </a:rPr>
              <a:t>по</a:t>
            </a:r>
            <a:r>
              <a:rPr b="0" lang="ru-RU" sz="3600" spc="-1" strike="noStrike">
                <a:solidFill>
                  <a:srgbClr val="ff5050"/>
                </a:solidFill>
                <a:latin typeface="Impact"/>
              </a:rPr>
              <a:t> </a:t>
            </a:r>
            <a:r>
              <a:rPr b="1" lang="ru-RU" sz="2000" spc="-1" strike="noStrike">
                <a:solidFill>
                  <a:srgbClr val="ff5050"/>
                </a:solidFill>
                <a:latin typeface="Impact"/>
              </a:rPr>
              <a:t>программе 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«ПСИХОЛОГИЯ  РАЗВИТИЯ,  СЕМЬИ  И  ЛИЧНОСТИ»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ВЫ  СМОЖЕТЕ: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420640"/>
            <a:ext cx="85741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начительно расшири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и профессиональные компетенции в научной и практической деятельности психолог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риентироваться в возможностях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фессиональной психологической практики Перми, Пермского края и Росс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начительно повысить уровен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ладения иностранным языко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учить возможность установления контактов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 зарубежными коллегами для реализации совместных научных проектов (университеты Любляны (Словения), Линдона (США), Дюссельдорфа, Люнебурга (Германия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дготовиться к сдач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ндидатских экзаме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ступить к работ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д кандидатской диссертаци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7444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В числе  дисциплин,  способствующих реализации  данных  возможностей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2090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витие лич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сихология пренатального развит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я семьи и семей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ы семейного консультирования и семейной психо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я работы с семьей в кризисных ситуац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йролингвистическое программиров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новы психологической аттестации экспертизы персона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чность в орган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сихология межличностной коммуник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ика работы с научным текс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остранный язык в профессиональной коммуник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Impact"/>
              </a:rPr>
              <a:t>Сферы  трудоустройств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учно-исследовательская деятельность, образовательные учреждения (вузы, дополнительное образование и др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сихологические центры  (центры детского развития, пренатальные центры, центры планирования семьи, медико-психолого-социальные центры, кризисные центры и др.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сихологические службы в организациях, отделы управления персоналом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R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гентс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астная психологическая практи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342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Tahoma"/>
              </a:rPr>
              <a:t>За 2 года обучения</a:t>
            </a:r>
            <a:r>
              <a:rPr b="0" lang="ru-RU" sz="2000" spc="-1" strike="noStrike">
                <a:solidFill>
                  <a:srgbClr val="ff5050"/>
                </a:solidFill>
                <a:latin typeface="Tahoma"/>
              </a:rPr>
              <a:t> в магистратуре возмож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писать кандидатскую диссертацию и подготовиться к ее защит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готовиться к сдаче кандидатского минимума (не тратя время и денежные средства на обучение в аспирантур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тупить руководителем или исполнителем научно-исследовательских грант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тупить руководителем научно-исследовательской работы бакалав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йти научные стажировки в России и за рубеж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Перспективы  научного  роста  магистр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508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Tahoma"/>
              </a:rPr>
              <a:t>Научно-исследовательские темы: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Системные аспекты развития: личность, групп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Психология взаимодействия человека с окружающей средой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Tahoma"/>
              </a:rPr>
              <a:t>Аспирантура по специальности  19.00.01.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Общая психология, история психологии, психология личности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611840" cy="13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Impact"/>
              </a:rPr>
              <a:t>Научная  деятельность 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Impact"/>
              </a:rPr>
              <a:t>кафедры  психологии  развития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617040"/>
            <a:ext cx="7611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Достижения  выпускающей  кафедр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5050"/>
                </a:solidFill>
                <a:uFillTx/>
                <a:latin typeface="Impact"/>
              </a:rPr>
              <a:t>Успешно  осуществляется  руководство  выполнением  научно-исследовательских  проектов,  поддержанных  РГНФ и  Министерством промышленности,  инноваций  и  науки  Пермского  края  по  тема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Impact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Образ города Перми у представителей зарубежных стран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Образ городов-побратимов в сознании русских и иностранцев (к 20-летию побратимства с Оксфордом и 15-летию - с Луисвиллем)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5050"/>
                </a:solidFill>
                <a:uFillTx/>
                <a:latin typeface="Impact"/>
              </a:rPr>
              <a:t>Принимается  активное  участие  в  выполнении  научно-исследовательских  проектов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офессиональное становление субъекта в социономических профессиях» (РГНФ, г. Москва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25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Сопряженная профессиональная карьера субъекта: становление, эволюция, ресурсы» (РГНФ, г. Москва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818820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Международные контакты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и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Impact"/>
              </a:rPr>
              <a:t>стажировки</a:t>
            </a:r>
            <a:r>
              <a:rPr b="0" lang="ru-RU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Impact"/>
              </a:rPr>
              <a:t>кафедры психологии развити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Impact"/>
              </a:rPr>
              <a:t>Международный центр повышения квалификации</a:t>
            </a:r>
            <a:r>
              <a:rPr b="1" lang="ru-RU" sz="28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(</a:t>
            </a:r>
            <a:r>
              <a:rPr b="1" lang="ru-RU" sz="2800" spc="-1" strike="noStrike">
                <a:solidFill>
                  <a:srgbClr val="ff5050"/>
                </a:solidFill>
                <a:latin typeface="Impact"/>
              </a:rPr>
              <a:t>Дюссельдорф,  Германия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4" descr="P4190086"/>
          <p:cNvPicPr/>
          <p:nvPr/>
        </p:nvPicPr>
        <p:blipFill>
          <a:blip r:embed="rId1"/>
          <a:stretch/>
        </p:blipFill>
        <p:spPr>
          <a:xfrm>
            <a:off x="2268360" y="1628640"/>
            <a:ext cx="4631040" cy="479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1:44:41Z</dcterms:created>
  <dc:creator>Student</dc:creator>
  <dc:description/>
  <dc:language>en-US</dc:language>
  <cp:lastModifiedBy>ZooM</cp:lastModifiedBy>
  <dcterms:modified xsi:type="dcterms:W3CDTF">2013-11-07T18:34:16Z</dcterms:modified>
  <cp:revision>51</cp:revision>
  <dc:subject/>
  <dc:title>Презентация PowerPoint</dc:title>
</cp:coreProperties>
</file>