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FC5-8D3B-4750-B675-29C82C00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3B0-680B-4380-8357-66A1BFD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3F3-165A-41E5-AD8E-CD63A65B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4FA-22F0-40F3-A287-25517ED6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14A5-5FFF-4AFC-83F3-6C72A404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B4E4-B5CD-47A5-B2E8-DCF0246F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DBFA-7B0F-4034-9ADA-3436B53E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4467-4858-4147-A5C9-1D65A4BF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47A4-2BCF-4A8A-A879-C98B01A6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A04D-7C7A-458C-9E02-D8FD24FE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327A-3243-45C0-BCD4-7CDEAB3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A49-2D83-4494-BD55-618C6224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CEAA-1045-4D80-B3E4-628E4DFD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AFA2-B392-4B3C-8925-26005635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C438-481F-431D-B9A5-F675BF8E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0F3A-D4AF-4A27-A9B8-BC47F488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2435-49A5-454D-8BAE-5242E89A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CBC-C517-4765-A5EF-1E273E08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2CA-C21C-4BE6-B8A1-A0C41990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334-A87C-4AF1-8EDE-25E556D8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C05-FA24-4887-8F6B-FB49ACF7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F71-834F-46F8-91D1-4BDDB74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962-657A-4383-8328-D383A9E9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7BF-D695-4848-BA09-1A688B5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AE3E-2035-4B45-8074-1A7F4948D83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ADC2-C837-4F21-840D-E9C92F8656D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911240"/>
            <a:ext cx="7378560" cy="340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9360" y="448200"/>
            <a:ext cx="912528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ский  государственный 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й  исследовательский 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о-социолог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 ПСИХОЛОГИИ 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mpact"/>
              </a:rPr>
              <a:t>МАГИСТРАТУРА  по  направлению  «ПСИХО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«ПСИХОЛОГИЯ РАЗВИТ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СЕМЬИ И ЛИЧ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Люблянский университет</a:t>
            </a:r>
            <a:br>
              <a:rPr sz="3200"/>
            </a:b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Любляна,  Словения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4" descr="IMG_7328"/>
          <p:cNvPicPr/>
          <p:nvPr/>
        </p:nvPicPr>
        <p:blipFill>
          <a:blip r:embed="rId1"/>
          <a:srcRect l="0" t="-1915" r="16148" b="0"/>
          <a:stretch/>
        </p:blipFill>
        <p:spPr>
          <a:xfrm>
            <a:off x="1476360" y="1268280"/>
            <a:ext cx="6048360" cy="5400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1547640" y="6021360"/>
            <a:ext cx="583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       </a:t>
            </a: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Встреча с преподавателем кафедры психологии развития Майей Зупан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133720"/>
            <a:ext cx="87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Л IMG_0877"/>
          <p:cNvPicPr/>
          <p:nvPr/>
        </p:nvPicPr>
        <p:blipFill>
          <a:blip r:embed="rId1"/>
          <a:stretch/>
        </p:blipFill>
        <p:spPr>
          <a:xfrm>
            <a:off x="1187280" y="115920"/>
            <a:ext cx="7632720" cy="5952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1258920" y="6093000"/>
            <a:ext cx="741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       </a:t>
            </a: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Встреча с руководителем центра психолого-социологических  исследований Марьяной 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4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Компания </a:t>
            </a:r>
            <a:r>
              <a:rPr b="1" lang="en-US" sz="3200" spc="-1" strike="noStrike">
                <a:solidFill>
                  <a:srgbClr val="333399"/>
                </a:solidFill>
                <a:latin typeface="Impact"/>
              </a:rPr>
              <a:t>Neosys Organisational Development and Consulting</a:t>
            </a:r>
            <a:br>
              <a:rPr sz="3200"/>
            </a:br>
            <a:r>
              <a:rPr b="1" lang="en-US" sz="2400" spc="-1" strike="noStrike">
                <a:solidFill>
                  <a:srgbClr val="ff5050"/>
                </a:solidFill>
                <a:latin typeface="Impact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Будапешт,  Венгрия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19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Копия Лекцию читает Andras Koncz "/>
          <p:cNvPicPr/>
          <p:nvPr/>
        </p:nvPicPr>
        <p:blipFill>
          <a:blip r:embed="rId1"/>
          <a:stretch/>
        </p:blipFill>
        <p:spPr>
          <a:xfrm>
            <a:off x="1332000" y="1916280"/>
            <a:ext cx="6210360" cy="47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Русский институт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Линдонского государственного колледжа </a:t>
            </a:r>
            <a:br>
              <a:rPr sz="3200"/>
            </a:b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Линдон,  шт. Вермонт,  США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6" descr="DSCN3874!"/>
          <p:cNvPicPr/>
          <p:nvPr/>
        </p:nvPicPr>
        <p:blipFill>
          <a:blip r:embed="rId1"/>
          <a:srcRect l="2278" t="1501" r="0" b="22824"/>
          <a:stretch/>
        </p:blipFill>
        <p:spPr>
          <a:xfrm>
            <a:off x="1332000" y="1989000"/>
            <a:ext cx="684036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!Изображение 032"/>
          <p:cNvPicPr/>
          <p:nvPr/>
        </p:nvPicPr>
        <p:blipFill>
          <a:blip r:embed="rId1"/>
          <a:stretch/>
        </p:blipFill>
        <p:spPr>
          <a:xfrm>
            <a:off x="1116000" y="528480"/>
            <a:ext cx="7848720" cy="6091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1351080" y="549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Impact"/>
              </a:rPr>
              <a:t>Чтение Ждановой С.Ю. лекции по психологии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79280" y="2133720"/>
            <a:ext cx="87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!Изображение 078"/>
          <p:cNvPicPr/>
          <p:nvPr/>
        </p:nvPicPr>
        <p:blipFill>
          <a:blip r:embed="rId1"/>
          <a:stretch/>
        </p:blipFill>
        <p:spPr>
          <a:xfrm>
            <a:off x="1116000" y="638280"/>
            <a:ext cx="7850160" cy="5889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1351080" y="620640"/>
            <a:ext cx="77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Занятие преподавателей кафедры психологии развития ПГУ с американскими студ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ктора и кандида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сихологических и педагогических нау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 - практи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Среди них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ауреа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м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тепени им. В.С. Мерлин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ауреа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конкурсов на лучшие научно-исследовательские работы в области гуманитарных и общественных нау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ладател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ной стипендии Пермской област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четной грамоты Минобразования и науки РФ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ипендии Оксфордского университет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32000" y="380880"/>
            <a:ext cx="761184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Преподаватели кафед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79280" y="2133720"/>
            <a:ext cx="8785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Мы приглашаем В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 МАГИСТРАТУРУ    по програм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«ПСИХОЛОГИЯ РАЗВИТ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СЕМЬИ И ЛИЧНОСТИ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5050"/>
                </a:solidFill>
                <a:latin typeface="Impact"/>
              </a:rPr>
              <a:t>Поступив в магистратуру  </a:t>
            </a:r>
            <a:r>
              <a:rPr b="0" lang="ru-RU" sz="2000" spc="-1" strike="noStrike">
                <a:solidFill>
                  <a:srgbClr val="ff5050"/>
                </a:solidFill>
                <a:latin typeface="Impact"/>
              </a:rPr>
              <a:t>по</a:t>
            </a:r>
            <a:r>
              <a:rPr b="0" lang="ru-RU" sz="3600" spc="-1" strike="noStrike">
                <a:solidFill>
                  <a:srgbClr val="ff5050"/>
                </a:solidFill>
                <a:latin typeface="Impact"/>
              </a:rPr>
              <a:t> </a:t>
            </a:r>
            <a:r>
              <a:rPr b="1" lang="ru-RU" sz="2000" spc="-1" strike="noStrike">
                <a:solidFill>
                  <a:srgbClr val="ff5050"/>
                </a:solidFill>
                <a:latin typeface="Impact"/>
              </a:rPr>
              <a:t>программе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«ПСИХОЛОГИЯ  РАЗВИТИЯ,  СЕМЬИ  И  ЛИЧНОСТИ»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ВЫ  СМОЖЕТЕ: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420640"/>
            <a:ext cx="85741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начительно расшири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и профессиональные компетенции в научной и практической деятельности психолог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риентироваться в возможностях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фессиональной психологической практики Перми, Пермского края и Росс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начительно повысить уровен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ладения иностранным языко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учить возможность установления контактов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зарубежными коллегами для реализации совместных научных проектов (университеты Любляны (Словения), Линдона (США), Дюссельдорфа, Люнебурга (Германия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дготовиться к сдач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ндидатских экзаме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ступить к работ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д кандидатской диссертаци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444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В числе  дисциплин,  способствующих реализации  данных  возможностей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2090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витие лич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сихология пренатального развит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я семьи и семей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ы семейного консультирования и семейной психо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я работы с семьей в кризисных ситуац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йролингвистическое программиров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новы психологической аттестации экспертизы персона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чность в орган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я межличностной коммуник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ика работы с научным текс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остранный язык в профессиональной коммуник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Сферы  трудоустройств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учно-исследовательская деятельность, образовательные учреждения (вузы, дополнительное образование и др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сихологические центры  (центры детского развития, пренатальные центры, центры планирования семьи, медико-психолого-социальные центры, кризисные центры и др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сихологические службы в организациях, отделы управления персоналом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R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гентс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астная психологическая практи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342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</a:rPr>
              <a:t>За 2 года обучения</a:t>
            </a:r>
            <a:r>
              <a:rPr b="0" lang="ru-RU" sz="2000" spc="-1" strike="noStrike">
                <a:solidFill>
                  <a:srgbClr val="ff5050"/>
                </a:solidFill>
                <a:latin typeface="Tahoma"/>
              </a:rPr>
              <a:t> в магистратуре возмо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писать кандидатскую диссертацию и подготовиться к ее защит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готовиться к сдаче кандидатского минимума (не тратя время и денежные средства на обучение в аспирантур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тупить руководителем или исполнителем научно-исследовательских грант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тупить руководителем научно-исследовательской работы бакалав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йти научные стажировки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Перспективы  научного  роста  магистр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508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Tahoma"/>
              </a:rPr>
              <a:t>Научно-исследовательские темы: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истемные аспекты развития: личность, групп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сихология взаимодействия человека с окружающей средой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Tahoma"/>
              </a:rPr>
              <a:t>Аспирантура по специальности  19.00.01.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Общая психология, история психологии, психология личност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611840" cy="13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Impact"/>
              </a:rPr>
              <a:t>Научная  деятельность 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Impact"/>
              </a:rPr>
              <a:t>кафедры  психологии  развития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617040"/>
            <a:ext cx="7611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Достижения  выпускающей  кафедр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5050"/>
                </a:solidFill>
                <a:uFillTx/>
                <a:latin typeface="Impact"/>
              </a:rPr>
              <a:t>Успешно  осуществляется  руководство  выполнением  научно-исследовательских  проектов,  поддержанных  РГНФ и  Министерством промышленности,  инноваций  и  науки  Пермского  края  по  тем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Impact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Образ города Перми у представителей зарубежных стран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Образ городов-побратимов в сознании русских и иностранцев (к 20-летию побратимства с Оксфордом и 15-летию - с Луисвиллем)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5050"/>
                </a:solidFill>
                <a:uFillTx/>
                <a:latin typeface="Impact"/>
              </a:rPr>
              <a:t>Принимается  активное  участие  в  выполнении  научно-исследовательских  проект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офессиональное становление субъекта в социономических профессиях» (РГНФ, г. Москва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опряженная профессиональная карьера субъекта: становление, эволюция, ресурсы» (РГНФ, г. Москва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81882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Международные контакты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и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стажировки</a:t>
            </a:r>
            <a:r>
              <a:rPr b="0" lang="ru-RU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Impact"/>
              </a:rPr>
              <a:t>кафедры психологии развит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Международный центр повышения квалификации</a:t>
            </a:r>
            <a:r>
              <a:rPr b="1" lang="ru-RU" sz="28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Дюссельдорф,  Германия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4" descr="P4190086"/>
          <p:cNvPicPr/>
          <p:nvPr/>
        </p:nvPicPr>
        <p:blipFill>
          <a:blip r:embed="rId1"/>
          <a:stretch/>
        </p:blipFill>
        <p:spPr>
          <a:xfrm>
            <a:off x="2268360" y="1628640"/>
            <a:ext cx="4631040" cy="479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1:44:41Z</dcterms:created>
  <dc:creator>Student</dc:creator>
  <dc:description/>
  <dc:language>en-US</dc:language>
  <cp:lastModifiedBy>ZooM</cp:lastModifiedBy>
  <dcterms:modified xsi:type="dcterms:W3CDTF">2013-11-07T18:34:16Z</dcterms:modified>
  <cp:revision>51</cp:revision>
  <dc:subject/>
  <dc:title>Презентация PowerPoint</dc:title>
</cp:coreProperties>
</file>