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F48-9459-4E1F-B711-A5A63163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F3C-D37B-4F02-BCEA-FEBB16FD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5C5-672B-4543-9CAA-E44740D9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227-7998-482A-B9F3-D7A0940D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6261-A13B-419E-8CD5-62DF2D9A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809E-A3FE-4685-A4F2-820AFE95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2D6C-D4CF-4286-9321-EEAEF5E2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A9EB-B5D1-4153-87D5-C4439FA3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3150-3EEC-4420-9597-4F3A3D9E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2A40-05AA-4FB3-B555-0CBE23E9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3F94-503F-4C2F-9B91-A245393C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348-AD40-4AED-876E-6B499DBC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3689-AC87-4B90-9FA3-9E6EF84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A7C1-B8C4-4876-A7A3-CBD29F7C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95FE-9A00-47E7-9CE3-E5F4E44C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BFA2-405B-479F-BE99-17B79281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FD81-2AB9-4EF7-A062-9E67FA6C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AA3-0759-40ED-B71C-B136A19C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172-5DA5-43CA-876D-20912C30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17E-F53B-4E48-9570-FF826BC9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C29-E9C8-4C9F-8860-A7446711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97F-0FEC-44ED-9F04-87CBD328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047-F44C-453B-8CB9-67E98874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F7E-35F1-434B-B336-161DA1FA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FCF2-2956-40D1-9432-08F6EA638D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7EE0-14BB-4F0B-B7DE-C105A46323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1473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Легкая атлетика.</a:t>
            </a:r>
            <a:br>
              <a:rPr sz="4800"/>
            </a:b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Прыжок в высоту с разбега </a:t>
            </a:r>
            <a:br>
              <a:rPr sz="4800"/>
            </a:b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способом «перешагивание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5733720"/>
            <a:ext cx="7561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етодические рекоменд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читель физической культуры: Завалей Анастасия Валерье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9086-426C-49C4-89D8-6706D4EBA31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9efee"/>
                </a:solidFill>
                <a:latin typeface="Garamond"/>
              </a:rPr>
              <a:t>Основные ошибки </a:t>
            </a:r>
            <a:br>
              <a:rPr sz="2600"/>
            </a:br>
            <a:r>
              <a:rPr b="0" lang="ru-RU" sz="2600" spc="-1" strike="noStrike">
                <a:solidFill>
                  <a:srgbClr val="b9efee"/>
                </a:solidFill>
                <a:latin typeface="Garamond"/>
              </a:rPr>
              <a:t>в технике прыжка в высоту</a:t>
            </a:r>
            <a:endParaRPr b="1" lang="en-US" sz="2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773360"/>
            <a:ext cx="29527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збег и подготовка к отталкиванию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талкива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ле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земле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34920" y="1700280"/>
            <a:ext cx="5257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пряженный, скованный разбег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попадание на брусок толчковой ног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тановка ноги на место отталкивания расслабленными мышцами, особенно стоп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Излишний наклон туловища вперед или назад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ах ногой не в направлении разбег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ассивная работа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согласованный мах рук и ног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лабый, неэффективный толчок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еждевременное подтягивание толчковой ноги к маховой после вылета «в шаге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изко подняты ноги к моменту приземлен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топы расположены параллельн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адение назад, ближе следа, оставленного ног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354B-9FD6-4438-890C-9EC0247A162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9efee"/>
                </a:solidFill>
                <a:latin typeface="Garamond"/>
              </a:rPr>
              <a:t>Начальное обучение </a:t>
            </a:r>
            <a:br>
              <a:rPr sz="3400"/>
            </a:br>
            <a:r>
              <a:rPr b="0" lang="ru-RU" sz="3400" spc="-1" strike="noStrike">
                <a:solidFill>
                  <a:srgbClr val="b9efee"/>
                </a:solidFill>
                <a:latin typeface="Garamond"/>
              </a:rPr>
              <a:t>прыжкам в высоту</a:t>
            </a:r>
            <a:endParaRPr b="1" lang="en-US" sz="3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Прыжок через резиновую ленту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Прыжок через перевернутые гимнастические скамейки (мелом обозначить места для отталкиваний, 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и направление разбега)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Начальное обучение прыжкам в высоту целесообразно проводить в зале фронтальным или групповым методами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Это обеспечивает активность одновременно всего класса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16E4-89BB-42AE-9A6E-F534ECFE7B7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9efee"/>
                </a:solidFill>
                <a:latin typeface="Garamond"/>
              </a:rPr>
              <a:t>Задачи обучения</a:t>
            </a:r>
            <a:endParaRPr b="1" lang="en-US" sz="3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1151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упрощенной технике прыжкам в высоту с 3-5 шагов разбе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правильной постановке толчковой ноги места отталкива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технике отталкивания с места и разбега. А также выполнению маховых движений при отталкива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технике разбега, ритму разбега и отталкиванию в сочетании с маховыми движения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технике перехода планки и ухода от не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становить оптимальную длину и скорость индивидуального разбе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7B5F-C16E-4654-A2ED-ED05BAFE249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15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Упражнения для овладения техники прыжка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3714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Маховые движения ногой с использованием гимнастической стен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очетание маха с отталкива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очетание маха с отталкиванием из положения «стоя в шаге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165320" y="1125360"/>
            <a:ext cx="2975040" cy="53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442A-DF02-4AB5-98DB-0F766315199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966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Техника разбега в сочетании с отталкиванием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2920" y="1557360"/>
            <a:ext cx="37148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талкивание и взлет с трех шаг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талкивание с 2, 3, 5 беговых шагов с приземлением толчковой ногой на возвыш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36680" y="1484280"/>
            <a:ext cx="41353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2316-C890-4A06-B546-F906D517EF0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966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Техника перехода через планку и приземление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28800" y="1628640"/>
            <a:ext cx="3714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оя с боку от скамейки перешагнуть через не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ыжок через планку с ме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ыжки со сменой ног с одного шага («ножницы»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9687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77BF-FC3F-45AB-8E68-35020BE7B96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6040" cy="1446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fee"/>
                </a:solidFill>
                <a:latin typeface="Garamond"/>
              </a:rPr>
              <a:t>Прыжковые упражнения </a:t>
            </a:r>
            <a:br>
              <a:rPr sz="2800"/>
            </a:br>
            <a:r>
              <a:rPr b="0" lang="ru-RU" sz="2800" spc="-1" strike="noStrike">
                <a:solidFill>
                  <a:srgbClr val="b9efee"/>
                </a:solidFill>
                <a:latin typeface="Garamond"/>
              </a:rPr>
              <a:t>для развития скоростно – силовых качест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690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C57E-5489-41B6-B936-8BEC33AEDF5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fee"/>
                </a:solidFill>
                <a:latin typeface="Garamond"/>
              </a:rPr>
              <a:t>Упражнения для развития подвижности тазобедренных суставах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20108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A43D-6E08-4F5A-9DDC-1D119D5B615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Техника движений </a:t>
            </a:r>
            <a:br>
              <a:rPr sz="3200"/>
            </a:b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при переходе через планку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27920" cy="395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13:34Z</dcterms:created>
  <dc:creator>User</dc:creator>
  <dc:description/>
  <dc:language>en-US</dc:language>
  <cp:lastModifiedBy>Анастасия</cp:lastModifiedBy>
  <dcterms:modified xsi:type="dcterms:W3CDTF">2014-01-28T14:32:17Z</dcterms:modified>
  <cp:revision>16</cp:revision>
  <dc:subject/>
  <dc:title>Прыжок в высоту с разбега способом «перешагивание»</dc:title>
</cp:coreProperties>
</file>