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350-45DD-4815-9299-3101DCC0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2EB-862F-4018-BF18-1581178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76B-1DC8-4BF7-9AF2-85D85C6B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58B-4C50-4B4F-AA5A-81A245C8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750C-4916-4E4B-8C23-7EB19A99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29F9-D059-4A72-95C5-529D5172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E42A-49BC-40B3-B2B2-9056B98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7517-F0C0-4AA0-89D5-7F2DDE7A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8E7C-390E-444A-9882-E73C18B9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63D-2CCD-49AB-BB9D-405DE7D7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7F5B-85CB-440C-9D56-6D315EC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378-92EF-44D2-B5A0-F2294AAB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1F7-19C6-40A4-9DB3-19CDF860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DA9-784D-4776-A28B-8BB5ECF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730A-2B0F-4F09-8A5A-B927418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EB2F-D4B6-4E76-9134-C169FAB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2E48-DC7F-4C73-98FE-C0BB3AE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DBE-4F69-4738-B433-D488461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F26-A123-479A-BAC1-89003C33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2CF-44CE-487D-B9C0-FA20626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0C5-6B8C-4BFE-9DD6-742E58D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F28-6B58-421D-8516-A592B7C9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9B4-ADD1-4041-9C8B-66B1295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996-CD36-4BAC-86D4-1E86D38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1592-8EAF-497B-B80D-4C6BD3401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AD8-13FB-4EF1-839B-9D295B33F7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147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Легкая атлетика.</a:t>
            </a:r>
            <a:br>
              <a:rPr sz="4800"/>
            </a:b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Прыжок в высоту с разбега </a:t>
            </a:r>
            <a:br>
              <a:rPr sz="4800"/>
            </a:b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способом «перешагивание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5733720"/>
            <a:ext cx="7561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етодические рекоменд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ль физической культуры: Завалей Анастасия Валерь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FB06-6F70-4984-A2F5-12B9F91F97D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fee"/>
                </a:solidFill>
                <a:latin typeface="Garamond"/>
              </a:rPr>
              <a:t>Основные ошибки </a:t>
            </a:r>
            <a:br>
              <a:rPr sz="2600"/>
            </a:br>
            <a:r>
              <a:rPr b="0" lang="ru-RU" sz="2600" spc="-1" strike="noStrike">
                <a:solidFill>
                  <a:srgbClr val="b9efee"/>
                </a:solidFill>
                <a:latin typeface="Garamond"/>
              </a:rPr>
              <a:t>в технике прыжка в высоту</a:t>
            </a:r>
            <a:endParaRPr b="1" lang="en-US" sz="2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773360"/>
            <a:ext cx="2952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збег и подготовка к отталкиван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талкив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л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земле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34920" y="1700280"/>
            <a:ext cx="5257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пряженный, скованный разбег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попадание на брусок толчковой ног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ановка ноги на место отталкивания расслабленными мышцами, особенно стоп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злишний наклон туловища вперед или наза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х ногой не в направлении разбег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ссивная работа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согласованный мах рук и но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лабый, неэффективный толчо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еждевременное подтягивание толчковой ноги к маховой после вылета «в шаг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изко подняты ноги к моменту приземле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опы расположены параллельн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дение назад, ближе следа, оставленного ног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A300-CDDF-4973-9556-B43E0A26168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Начальное обучение </a:t>
            </a:r>
            <a:br>
              <a:rPr sz="3400"/>
            </a:b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прыжкам в высоту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ыжок через резиновую ленту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ыжок через перевернутые гимнастические скамейки (мелом обозначить места для отталкиваний,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и направление разбега)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Начальное обучение прыжкам в высоту целесообразно проводить в зале фронтальным или групповым методам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Это обеспечивает активность одновременно всего класса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6684-3B4E-4375-A208-F28C2E4DC6C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Задачи обучения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1151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упрощенной технике прыжкам в высоту с 3-5 шагов раз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правильной постановке толчковой ноги места отталкив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отталкивания с места и разбега. А также выполнению маховых движений при отталкива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разбега, ритму разбега и отталкиванию в сочетании с маховыми движения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перехода планки и ухода от не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тановить оптимальную длину и скорость индивидуального раз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4E5B-5C18-4F4A-BB37-493B0756A47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Упражнения для овладения техники прыжк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3714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аховые движения ногой с использованием гимнастической сте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очетание маха с отталкива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очетание маха с отталкиванием из положения «стоя в шаге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165320" y="1125360"/>
            <a:ext cx="2975040" cy="53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9579-09C5-4E38-974A-93737C5043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96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Техника разбега в сочетании с отталкиванием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557360"/>
            <a:ext cx="37148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талкивание и взлет с трех шаг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талкивание с 2, 3, 5 беговых шагов с приземлением толчковой ногой на возвы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36680" y="1484280"/>
            <a:ext cx="41353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E10A-ED35-4661-A1A2-A6BA1C3C50C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96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Техника перехода через планку и приземлени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28800" y="1628640"/>
            <a:ext cx="371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оя с боку от скамейки перешагнуть через не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ыжок через планку с ме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ыжки со сменой ног с одного шага («ножницы»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968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09F4-05B8-41B9-8EF4-B4567BE1DEB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6040" cy="144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Прыжковые упражнения </a:t>
            </a:r>
            <a:br>
              <a:rPr sz="2800"/>
            </a:b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для развития скоростно – силовых качест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2090-C6F3-4B91-87AB-D57A7ED5BE7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Упражнения для развития подвижности тазобедренных суставах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58E-25DC-4738-8C2A-B9B8B8D50F5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Техника движений </a:t>
            </a:r>
            <a:br>
              <a:rPr sz="32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при переходе через планку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7920" cy="39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13:34Z</dcterms:created>
  <dc:creator>User</dc:creator>
  <dc:description/>
  <dc:language>en-US</dc:language>
  <cp:lastModifiedBy>Анастасия</cp:lastModifiedBy>
  <dcterms:modified xsi:type="dcterms:W3CDTF">2014-01-28T14:32:17Z</dcterms:modified>
  <cp:revision>16</cp:revision>
  <dc:subject/>
  <dc:title>Прыжок в высоту с разбега способом «перешагивание»</dc:title>
</cp:coreProperties>
</file>