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437-D2BF-465A-9EE9-7FB6D566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DBC-F2B1-403D-AA12-B64A6709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18E-B1A6-4276-92E2-2379EE7F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CC0-9442-47A0-8BC8-968CE3FC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2447-D95F-4B1B-92DB-64B4B6FC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DCA4-DA50-44D8-8E64-AD4C3658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3822-C8BF-4343-983E-57EB3659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1EB0-191B-4D4A-9A9A-09D54B52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31F1-1459-4C9B-BD95-8DA39D10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B573-D0E4-4B32-A6DE-74B46B41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6EBE-7AC0-43E6-8855-C62649D1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B18-703F-4C32-9F56-00A087D9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A413-7ECE-468F-B9C9-46AA2DB0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B2C7-50D7-4AEB-831A-85D51CBA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5DFC-CE61-46CE-9D4F-F9CEE394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4065-AAC6-41AE-BD11-1ED4684A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EF86-CAFD-4FAB-8800-9EB1F3DF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518-BE81-4F6C-BFE8-29CB184B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D70-C12D-4E53-A09D-1763A7E6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69A-1629-402C-AD16-106D3200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4CD-5CED-4F70-810A-60332B64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18B-1E80-4150-951A-FFFBB5EC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5BB-DEDB-4D2D-A8CF-1AEF72B0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6E6-EDA8-4866-A437-E66AF9F7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1151-D975-4E9A-9830-26DADEA0D1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72D7-E83D-4A9D-AF28-16912CDFD5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1473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66"/>
                </a:solidFill>
                <a:latin typeface="Garamond"/>
              </a:rPr>
              <a:t>Легкая атлетика.</a:t>
            </a:r>
            <a:br>
              <a:rPr sz="4800"/>
            </a:br>
            <a:r>
              <a:rPr b="1" lang="ru-RU" sz="4800" spc="-1" strike="noStrike">
                <a:solidFill>
                  <a:srgbClr val="ccff66"/>
                </a:solidFill>
                <a:latin typeface="Garamond"/>
              </a:rPr>
              <a:t>Прыжок в высоту с разбега </a:t>
            </a:r>
            <a:br>
              <a:rPr sz="4800"/>
            </a:br>
            <a:r>
              <a:rPr b="1" lang="ru-RU" sz="4800" spc="-1" strike="noStrike">
                <a:solidFill>
                  <a:srgbClr val="ccff66"/>
                </a:solidFill>
                <a:latin typeface="Garamond"/>
              </a:rPr>
              <a:t>способом «перешагивание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5733720"/>
            <a:ext cx="7561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етодические рекоменд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читель физической культуры: Завалей Анастасия Валерье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A6A3-2F30-41ED-852F-DE6AED4772C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9efee"/>
                </a:solidFill>
                <a:latin typeface="Garamond"/>
              </a:rPr>
              <a:t>Основные ошибки </a:t>
            </a:r>
            <a:br>
              <a:rPr sz="2600"/>
            </a:br>
            <a:r>
              <a:rPr b="0" lang="ru-RU" sz="2600" spc="-1" strike="noStrike">
                <a:solidFill>
                  <a:srgbClr val="b9efee"/>
                </a:solidFill>
                <a:latin typeface="Garamond"/>
              </a:rPr>
              <a:t>в технике прыжка в высоту</a:t>
            </a:r>
            <a:endParaRPr b="1" lang="en-US" sz="2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773360"/>
            <a:ext cx="295272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збег и подготовка к отталкиванию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тталкивани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ле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землени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34920" y="1700280"/>
            <a:ext cx="5257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апряженный, скованный разбег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епопадание на брусок толчковой ног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становка ноги на место отталкивания расслабленными мышцами, особенно стоп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Излишний наклон туловища вперед или назад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ах ногой не в направлении разбег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ассивная работа ру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есогласованный мах рук и ног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лабый, неэффективный толчок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еждевременное подтягивание толчковой ноги к маховой после вылета «в шаге»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изко подняты ноги к моменту приземлен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топы расположены параллельн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адение назад, ближе следа, оставленного ногам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2563-D73B-477D-B259-26CB0C9F4BE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b9efee"/>
                </a:solidFill>
                <a:latin typeface="Garamond"/>
              </a:rPr>
              <a:t>Начальное обучение </a:t>
            </a:r>
            <a:br>
              <a:rPr sz="3400"/>
            </a:br>
            <a:r>
              <a:rPr b="0" lang="ru-RU" sz="3400" spc="-1" strike="noStrike">
                <a:solidFill>
                  <a:srgbClr val="b9efee"/>
                </a:solidFill>
                <a:latin typeface="Garamond"/>
              </a:rPr>
              <a:t>прыжкам в высоту</a:t>
            </a:r>
            <a:endParaRPr b="1" lang="en-US" sz="3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Прыжок через резиновую ленту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Прыжок через перевернутые гимнастические скамейки (мелом обозначить места для отталкиваний, 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и направление разбега)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Начальное обучение прыжкам в высоту целесообразно проводить в зале фронтальным или групповым методами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Это обеспечивает активность одновременно всего класса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8163-4ACB-4D80-B82C-BBCC0C7BCA4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2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b9efee"/>
                </a:solidFill>
                <a:latin typeface="Garamond"/>
              </a:rPr>
              <a:t>Задачи обучения</a:t>
            </a:r>
            <a:endParaRPr b="1" lang="en-US" sz="3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11512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 упрощенной технике прыжкам в высоту с 3-5 шагов разбе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 правильной постановке толчковой ноги места отталкива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 технике отталкивания с места и разбега. А также выполнению маховых движений при отталкиван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 технике разбега, ритму разбега и отталкиванию в сочетании с маховыми движения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учить технике перехода планки и ухода от не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становить оптимальную длину и скорость индивидуального разбег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0458-1B9E-4BC1-AC08-B491C2D7B8E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15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Упражнения для овладения техники прыжка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2920" y="1125000"/>
            <a:ext cx="3714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Маховые движения ногой с использованием гимнастической стен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очетание маха с отталкивани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очетание маха с отталкиванием из положения «стоя в шаге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165320" y="1125360"/>
            <a:ext cx="2975040" cy="53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7331-ECD6-49FE-AD4E-F12E3E166EC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966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Техника разбега в сочетании с отталкиванием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2920" y="1557360"/>
            <a:ext cx="37148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талкивание и взлет с трех шаг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талкивание с 2, 3, 5 беговых шагов с приземлением толчковой ногой на возвыш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436680" y="1484280"/>
            <a:ext cx="41353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543B-21F8-4476-A0FE-4914ED30984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966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Техника перехода через планку и приземление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428800" y="1628640"/>
            <a:ext cx="3714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оя с боку от скамейки перешагнуть через не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ыжок через планку с мес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ыжки со сменой ног с одного шага («ножницы»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9687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B2B7-2886-4BEC-9217-D83BCB6A376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6040" cy="1446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efee"/>
                </a:solidFill>
                <a:latin typeface="Garamond"/>
              </a:rPr>
              <a:t>Прыжковые упражнения </a:t>
            </a:r>
            <a:br>
              <a:rPr sz="2800"/>
            </a:br>
            <a:r>
              <a:rPr b="0" lang="ru-RU" sz="2800" spc="-1" strike="noStrike">
                <a:solidFill>
                  <a:srgbClr val="b9efee"/>
                </a:solidFill>
                <a:latin typeface="Garamond"/>
              </a:rPr>
              <a:t>для развития скоростно – силовых качеств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5690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FF4E-5E32-43F8-BB61-47A5888F500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efee"/>
                </a:solidFill>
                <a:latin typeface="Garamond"/>
              </a:rPr>
              <a:t>Упражнения для развития подвижности тазобедренных суставах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201080" cy="44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9FB3-40B5-44E8-8C2B-28BFF639FC6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4784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Техника движений </a:t>
            </a:r>
            <a:br>
              <a:rPr sz="3200"/>
            </a:b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при переходе через планку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927920" cy="395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13:34Z</dcterms:created>
  <dc:creator>User</dc:creator>
  <dc:description/>
  <dc:language>en-US</dc:language>
  <cp:lastModifiedBy>Анастасия</cp:lastModifiedBy>
  <dcterms:modified xsi:type="dcterms:W3CDTF">2014-01-28T14:32:17Z</dcterms:modified>
  <cp:revision>16</cp:revision>
  <dc:subject/>
  <dc:title>Прыжок в высоту с разбега способом «перешагивание»</dc:title>
</cp:coreProperties>
</file>