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F22-7EE6-46B4-A773-36C3BD5A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203-E516-4800-ABFA-BFDD06E3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C34-DE5B-4B35-AFC9-C927CDB9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EF6-91C8-469B-80F0-90FC1125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F9D4-9E39-4FEB-B8C2-419FB7C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D66-3359-4CA8-ABA2-DE1F656E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D998-2388-4FE4-866B-064A5355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8589-B581-4479-A481-D884035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D1F3-5F0D-4993-B250-D313AF70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E4E-0997-4918-B9CF-EA4D55F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131-6596-4847-AD9E-5FC293E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461-1F53-4553-B01C-0C205854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4E62-33F0-4269-8316-B53D966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972E-B89D-4156-B26E-01234F4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EAA8-10E1-4374-A05D-3910207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5EFC-EA1E-4C79-8949-34839936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25A5-1CB4-42DA-8069-B1E90430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60B15-EB5E-40B7-AA78-68814B4A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E617D-A25B-4A12-8FBF-ACA106F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027DD-23E0-4250-9063-BB1785F9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A9644-D0CF-434A-947D-4A0F01EF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49D82-A643-4092-95B7-1B8997C4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F5E-947A-498A-B3F4-2FD22F7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C15D2-9588-4AE1-B31A-931B7A0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CE52E-E164-439A-A04E-6C42BA6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7E4C0-04DC-4A82-BCF6-952EE47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6A747-39F9-4B40-8EC2-66941BE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CDC59-12C9-4E24-95D3-D0455D6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189A4-047D-4E6C-85E6-D277F8B4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9A3DC-71A6-4239-B08A-CA4403C7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B5DA-D00E-4ECC-A2B1-B01BA0D2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DA49-1AC7-4291-955B-52B6EF33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0D99-6164-4990-B65E-ACCB19B6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8CD-27A2-4478-ABA0-7C2C6B93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E491-AC63-4097-BE6A-7D69FF17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3EDD-F875-4E90-BB51-C269164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D345-2B10-44F5-B09D-66E8B175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A463-852E-40C1-8FCF-84348799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022DB-0338-4CF7-AC6D-B499A6EA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5138-A936-4EFF-AD71-E102F88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0A91-BAF4-44D3-99AB-B52B908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C1E80-72E5-46B4-B7F1-E33C38CF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34BA-E436-487B-8939-3FC03A74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64CD9-D533-4BB7-8D53-93B0BD1B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47E-9804-46F2-93EC-BB91C53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A50EA-D51B-4EBB-9A32-E9A22BC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156E8-C4D8-492F-A32D-5C3B597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58711-8576-4308-865B-12F20506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40569-148A-4405-9C55-69421FA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A704E-A9A0-47AA-A68B-B95DE0D8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E187E-A819-4334-B9C7-93AC7BE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22ED3-65BE-46A4-A2F8-C78EFEEF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AE47C-9C26-4373-8E73-2B3B5A55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B10BA-63EE-4E49-AD38-11BE5A7B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DF8AA-D77E-4BB1-A9DB-ECA40619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FD5-B892-46F5-9A6E-F83FA903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17530-9FED-4596-BDCC-014DB0A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DAB51-8495-4F39-9D52-6529D868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82A60-F293-4890-8AD6-81B3A53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92397-19FA-40CB-AEFB-CEBEBA5F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82EAB-FDCF-43EA-84CD-DBCB2848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CDA52-44DF-44F6-A0FF-8659B7D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89189-35DE-4594-9D28-C556ADA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D1B1E-BDBB-4E3C-B6DA-8E3FBA3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F904C-7B76-4B98-8D8E-DD2615A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F5D73-673E-4653-AC92-625F10A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6F3-2E86-40B8-8688-6071839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55A56-63D2-4287-A7A3-5299177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78DDB-3A27-4498-AE60-653146A5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9C7EA-C3CF-431F-8C01-3FCF2A8A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8786C-2620-4B68-A846-3B21AB66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5A126-38B3-4DAC-9DA3-261D0FA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D7342-8E6A-4720-86E8-579D33D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804A2-D74F-4617-8DB9-24B81A9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E6F36-CEA7-4665-B7E1-887D0A9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2B70B-D97F-4D3F-B4CA-1D9E5AA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96679-BC51-4799-8BED-65CBC5A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CC-46B0-4772-B32C-543B23B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23C8F-8E0F-480D-868A-47443B29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BECAC-7E5A-4A7A-9AD4-75A66DE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03822-9E3F-4A08-A519-B434A17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500E7-DAF4-4A68-98A1-369AA696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4B0BC-1D0D-4B39-81A1-E3F0807F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885-4C45-4D49-80AE-9F0881F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4FE-08D4-427C-806E-D005792930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AF43-962D-42D0-8F9D-893868C173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56E-0927-451A-AB5C-CF8C44C2F0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258-A883-4A42-BA17-BCCB71EC03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904D-DDC8-41B0-A451-D4C18C4404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9243-71EF-483C-A48E-15BEAC57B07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379-1D49-463D-96DD-BB86A86D39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СТЕЙШИЕ ЗАДАЧИ В КООРДИНАТА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атематики МОУСОШ №1                                                 с. Александров-Г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ыхова Г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координаты векторов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3а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= 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5а + 2 в     , ес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{2;4}  , в{-3;2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 Даны векторы 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1;-2}  и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-3;2} , с {-2;-3}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х = 2 а -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+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Запишите разложение вектора х по                 неколлинеарным вектора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ти координаты вектора у , противоположного х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>
            <a:off x="499680" y="207180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6" name="Прямая со стрелкой 6"/>
          <p:cNvCxnSpPr/>
          <p:nvPr/>
        </p:nvCxnSpPr>
        <p:spPr>
          <a:xfrm>
            <a:off x="57132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7" name="Прямая со стрелкой 8"/>
          <p:cNvCxnSpPr/>
          <p:nvPr/>
        </p:nvCxnSpPr>
        <p:spPr>
          <a:xfrm>
            <a:off x="2214360" y="221472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8" name="Прямая со стрелкой 9"/>
          <p:cNvCxnSpPr/>
          <p:nvPr/>
        </p:nvCxnSpPr>
        <p:spPr>
          <a:xfrm>
            <a:off x="500040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9" name="Прямая со стрелкой 10"/>
          <p:cNvCxnSpPr/>
          <p:nvPr/>
        </p:nvCxnSpPr>
        <p:spPr>
          <a:xfrm>
            <a:off x="66434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0" name="Прямая со стрелкой 11"/>
          <p:cNvCxnSpPr/>
          <p:nvPr/>
        </p:nvCxnSpPr>
        <p:spPr>
          <a:xfrm>
            <a:off x="6072120" y="17146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12"/>
          <p:cNvCxnSpPr/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17"/>
          <p:cNvCxnSpPr/>
          <p:nvPr/>
        </p:nvCxnSpPr>
        <p:spPr>
          <a:xfrm>
            <a:off x="57146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3" name="Прямая со стрелкой 20"/>
          <p:cNvCxnSpPr/>
          <p:nvPr/>
        </p:nvCxnSpPr>
        <p:spPr>
          <a:xfrm>
            <a:off x="2357280" y="349992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4" name="Прямая со стрелкой 21"/>
          <p:cNvCxnSpPr/>
          <p:nvPr/>
        </p:nvCxnSpPr>
        <p:spPr>
          <a:xfrm>
            <a:off x="4571640" y="299988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22"/>
          <p:cNvCxnSpPr/>
          <p:nvPr/>
        </p:nvCxnSpPr>
        <p:spPr>
          <a:xfrm>
            <a:off x="578628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6" name="Прямая со стрелкой 23"/>
          <p:cNvCxnSpPr/>
          <p:nvPr/>
        </p:nvCxnSpPr>
        <p:spPr>
          <a:xfrm>
            <a:off x="164268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24"/>
          <p:cNvCxnSpPr/>
          <p:nvPr/>
        </p:nvCxnSpPr>
        <p:spPr>
          <a:xfrm>
            <a:off x="178560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25"/>
          <p:cNvCxnSpPr/>
          <p:nvPr/>
        </p:nvCxnSpPr>
        <p:spPr>
          <a:xfrm>
            <a:off x="4643280" y="428580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26"/>
          <p:cNvCxnSpPr/>
          <p:nvPr/>
        </p:nvCxnSpPr>
        <p:spPr>
          <a:xfrm>
            <a:off x="3000240" y="342900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7"/>
          <p:cNvCxnSpPr/>
          <p:nvPr/>
        </p:nvCxnSpPr>
        <p:spPr>
          <a:xfrm>
            <a:off x="314316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8"/>
          <p:cNvCxnSpPr/>
          <p:nvPr/>
        </p:nvCxnSpPr>
        <p:spPr>
          <a:xfrm>
            <a:off x="357156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9"/>
          <p:cNvCxnSpPr/>
          <p:nvPr/>
        </p:nvCxnSpPr>
        <p:spPr>
          <a:xfrm>
            <a:off x="5500440" y="39290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Прямая со стрелкой 30"/>
          <p:cNvCxnSpPr/>
          <p:nvPr/>
        </p:nvCxnSpPr>
        <p:spPr>
          <a:xfrm>
            <a:off x="5214600" y="428580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4" name="Прямая со стрелкой 32"/>
          <p:cNvCxnSpPr/>
          <p:nvPr/>
        </p:nvCxnSpPr>
        <p:spPr>
          <a:xfrm>
            <a:off x="4929120" y="471492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5" name="Прямая со стрелкой 33"/>
          <p:cNvCxnSpPr/>
          <p:nvPr/>
        </p:nvCxnSpPr>
        <p:spPr>
          <a:xfrm>
            <a:off x="3643200" y="507204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АМОСТОЯТЕЛЬНАЯ РАБОТ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ы вектор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{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{-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 {-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найти координаты вектора а =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записать разложение векто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координатным вектора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8" name="Прямая со стрелкой 4"/>
          <p:cNvCxnSpPr/>
          <p:nvPr/>
        </p:nvCxnSpPr>
        <p:spPr>
          <a:xfrm>
            <a:off x="321480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9" name="Прямая со стрелкой 6"/>
          <p:cNvCxnSpPr/>
          <p:nvPr/>
        </p:nvCxnSpPr>
        <p:spPr>
          <a:xfrm>
            <a:off x="442908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>
            <a:off x="5715000" y="164304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8"/>
          <p:cNvCxnSpPr/>
          <p:nvPr/>
        </p:nvCxnSpPr>
        <p:spPr>
          <a:xfrm>
            <a:off x="485784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Прямая со стрелкой 9"/>
          <p:cNvCxnSpPr/>
          <p:nvPr/>
        </p:nvCxnSpPr>
        <p:spPr>
          <a:xfrm>
            <a:off x="5643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3" name="Прямая со стрелкой 10"/>
          <p:cNvCxnSpPr/>
          <p:nvPr/>
        </p:nvCxnSpPr>
        <p:spPr>
          <a:xfrm>
            <a:off x="628668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6786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5" name="Прямая со стрелкой 12"/>
          <p:cNvCxnSpPr/>
          <p:nvPr/>
        </p:nvCxnSpPr>
        <p:spPr>
          <a:xfrm>
            <a:off x="4785840" y="3357720"/>
            <a:ext cx="3582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6" name="Прямая со стрелкой 17"/>
          <p:cNvCxnSpPr/>
          <p:nvPr/>
        </p:nvCxnSpPr>
        <p:spPr>
          <a:xfrm>
            <a:off x="5572080" y="33577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7" name="Прямая со стрелкой 19"/>
          <p:cNvCxnSpPr/>
          <p:nvPr/>
        </p:nvCxnSpPr>
        <p:spPr>
          <a:xfrm>
            <a:off x="5357880" y="30718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ВЯЗЬ МЕЖДУ КООРДИНАТАМИ ВЕКТОРА И КООРДИНАТАМИ   ЕГО   НАЧАЛА   И  КОНЦ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 Вектор ОМ –радиус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ктор точки 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Координаты точки 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вны соответствующ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ам радиус-вектора  ОМ {х;у}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0" name="Прямая со стрелкой 4"/>
          <p:cNvCxnSpPr/>
          <p:nvPr/>
        </p:nvCxnSpPr>
        <p:spPr>
          <a:xfrm>
            <a:off x="785520" y="3571920"/>
            <a:ext cx="22150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Прямая со стрелкой 7"/>
          <p:cNvCxnSpPr/>
          <p:nvPr/>
        </p:nvCxnSpPr>
        <p:spPr>
          <a:xfrm flipV="1">
            <a:off x="1428840" y="2642400"/>
            <a:ext cx="2160" cy="1500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1428480" y="3214440"/>
            <a:ext cx="85788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93" name="TextBox 17"/>
          <p:cNvSpPr/>
          <p:nvPr/>
        </p:nvSpPr>
        <p:spPr>
          <a:xfrm>
            <a:off x="2268720" y="31431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х;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 flipH="1">
            <a:off x="107100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3"/>
          <p:cNvSpPr/>
          <p:nvPr/>
        </p:nvSpPr>
        <p:spPr>
          <a:xfrm flipV="1">
            <a:off x="2714760" y="36446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1071720" y="264312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Прямая со стрелкой 30"/>
          <p:cNvCxnSpPr/>
          <p:nvPr/>
        </p:nvCxnSpPr>
        <p:spPr>
          <a:xfrm>
            <a:off x="3642840" y="45720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>
            <a:off x="5500440" y="20718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br>
              <a:rPr sz="27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КАЖДАЯ   КООРДИНАТА   ВЕКТОРА  РАВНА   РАЗНОСТИ СООТВЕТСТВУЮЩИХ КООРДИНАТ  ЕГО КОНЦА И НАЧАЛА.</a:t>
            </a:r>
            <a:br>
              <a:rPr sz="20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= ОВ – О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и ОА – радиус-                                               векторы точек В и 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                   ОА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 {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;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1" name="Прямая со стрелкой 4"/>
          <p:cNvCxnSpPr/>
          <p:nvPr/>
        </p:nvCxnSpPr>
        <p:spPr>
          <a:xfrm>
            <a:off x="928800" y="2857680"/>
            <a:ext cx="20008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2" name="Прямая со стрелкой 6"/>
          <p:cNvCxnSpPr/>
          <p:nvPr/>
        </p:nvCxnSpPr>
        <p:spPr>
          <a:xfrm flipV="1">
            <a:off x="1641960" y="1856880"/>
            <a:ext cx="1080" cy="1501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3" name="Прямая со стрелкой 11"/>
          <p:cNvCxnSpPr/>
          <p:nvPr/>
        </p:nvCxnSpPr>
        <p:spPr>
          <a:xfrm flipH="1" flipV="1">
            <a:off x="2714040" y="2214360"/>
            <a:ext cx="57204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4" name="Прямая со стрелкой 14"/>
          <p:cNvCxnSpPr/>
          <p:nvPr/>
        </p:nvCxnSpPr>
        <p:spPr>
          <a:xfrm flipV="1">
            <a:off x="1643040" y="2214720"/>
            <a:ext cx="121536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5" name="Прямая со стрелкой 16"/>
          <p:cNvCxnSpPr/>
          <p:nvPr/>
        </p:nvCxnSpPr>
        <p:spPr>
          <a:xfrm flipV="1">
            <a:off x="1571760" y="2571480"/>
            <a:ext cx="171504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06" name="TextBox 22"/>
          <p:cNvSpPr/>
          <p:nvPr/>
        </p:nvSpPr>
        <p:spPr>
          <a:xfrm>
            <a:off x="2714760" y="292896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4"/>
          <p:cNvSpPr/>
          <p:nvPr/>
        </p:nvSpPr>
        <p:spPr>
          <a:xfrm>
            <a:off x="1357200" y="2928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357200" y="1857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3286080" y="2428920"/>
            <a:ext cx="1285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4"/>
          <p:cNvSpPr/>
          <p:nvPr/>
        </p:nvSpPr>
        <p:spPr>
          <a:xfrm>
            <a:off x="2714760" y="1928880"/>
            <a:ext cx="12859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42"/>
          <p:cNvCxnSpPr/>
          <p:nvPr/>
        </p:nvCxnSpPr>
        <p:spPr>
          <a:xfrm>
            <a:off x="485784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2" name="Прямая со стрелкой 43"/>
          <p:cNvCxnSpPr/>
          <p:nvPr/>
        </p:nvCxnSpPr>
        <p:spPr>
          <a:xfrm>
            <a:off x="557208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3" name="Прямая со стрелкой 44"/>
          <p:cNvCxnSpPr/>
          <p:nvPr/>
        </p:nvCxnSpPr>
        <p:spPr>
          <a:xfrm>
            <a:off x="635796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4" name="Прямая со стрелкой 45"/>
          <p:cNvCxnSpPr/>
          <p:nvPr/>
        </p:nvCxnSpPr>
        <p:spPr>
          <a:xfrm>
            <a:off x="678672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5" name="Прямая со стрелкой 46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6" name="Прямая со стрелкой 48"/>
          <p:cNvCxnSpPr/>
          <p:nvPr/>
        </p:nvCxnSpPr>
        <p:spPr>
          <a:xfrm>
            <a:off x="2214720" y="378576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7" name="Прямая со стрелкой 49"/>
          <p:cNvCxnSpPr/>
          <p:nvPr/>
        </p:nvCxnSpPr>
        <p:spPr>
          <a:xfrm>
            <a:off x="5285880" y="378576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Прямая со стрелкой 50"/>
          <p:cNvCxnSpPr/>
          <p:nvPr/>
        </p:nvCxnSpPr>
        <p:spPr>
          <a:xfrm>
            <a:off x="3071880" y="46429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КООРДИНАТЫ СЕРЕДИНЫ ОТРЕЗ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   , В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(х;у) – координаты середины отрезка А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 { Х ; У }  -  радиус –вектор точки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:2                  У= (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 :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вектора :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√ х² + у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21" name="Прямая со стрелкой 7"/>
          <p:cNvCxnSpPr/>
          <p:nvPr/>
        </p:nvCxnSpPr>
        <p:spPr>
          <a:xfrm>
            <a:off x="85716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>
            <a:off x="3642840" y="428580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3" name="Прямая соединительная линия 23"/>
          <p:cNvSpPr/>
          <p:nvPr/>
        </p:nvSpPr>
        <p:spPr>
          <a:xfrm>
            <a:off x="3143160" y="5357880"/>
            <a:ext cx="11430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5"/>
          <p:cNvSpPr/>
          <p:nvPr/>
        </p:nvSpPr>
        <p:spPr>
          <a:xfrm>
            <a:off x="4714920" y="4286160"/>
            <a:ext cx="11430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54:44Z</dcterms:created>
  <dc:creator>Admin</dc:creator>
  <dc:description/>
  <dc:language>en-US</dc:language>
  <cp:lastModifiedBy>Галина Владимировна</cp:lastModifiedBy>
  <dcterms:modified xsi:type="dcterms:W3CDTF">2011-12-23T11:27:08Z</dcterms:modified>
  <cp:revision>21</cp:revision>
  <dc:subject/>
  <dc:title>Простейшие задачи в координатах</dc:title>
</cp:coreProperties>
</file>