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196-3317-4DAC-A06E-8E6D485B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6B6-BCEE-410D-8C6B-EF9F30BA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313-A7ED-4A63-BE3B-64558C05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281-EE3F-431D-B4BB-132AAC2B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77D4-46ED-49D9-8655-D1CEE943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5DA5-44C4-4E62-B121-82BB0842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CF07-24F3-4450-9F1F-F7579281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0591-3D8B-4D2C-AD3F-E15FD48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203D-54E2-46E8-A041-3D13F7E1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7A62-1342-497C-AAA3-0D25F38E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342D-F7A0-4EE5-B4B2-2FFCCAA8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992-25A1-4600-9BDA-B1D46C1B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ABE9-364A-4FE6-B531-8E463423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79EB-3D36-40F8-9F67-2DDFA680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4EB-1AC5-4183-A822-6766F7A3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F1FB-8AF5-4534-B3CE-ABE24FAD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FF7E-24C5-4808-84A2-7AD06283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6E2DD-7C82-4AF2-A6B8-8F440865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A67BF-AD51-417C-8A0F-6413FFD1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B718F-1931-4DE6-BC31-9C6CF83E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9EDF4-763C-4E66-98D5-EA4BBD1E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9A5B4-5FC4-4F63-B9D2-4FC0E9A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EA6-7329-489E-B588-72BE09A4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C5443-ADCB-4114-B1B3-D4425E0D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03E79-BF19-4548-B542-57D92248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3BB9E-64F2-49F1-941E-AE8BF9AB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8B640-908C-456C-B49A-62209F2F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94722-6921-4138-87CE-68EE99F2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439C0-E6CF-4861-91B8-13DBC108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C36DF-B370-4335-AC11-AB05FAF1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64CE-3988-45D5-9C60-790FC457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DF9C-8AE4-485A-B8B6-97677758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90A0C-84CA-48A2-BD3E-020971E3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281-B49C-4D41-B04D-1472696F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4A86-6144-478B-86C6-A089ABD3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D2D1-FCA7-40FF-9AD5-2BF7DC86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8CDF-BADC-42C8-B849-D0045740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518E-0609-42E8-AA1D-C193EBE3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4FAD-BB6A-47A5-A453-67CF1E4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6D582-4A8E-43FA-BB13-B7778F24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099A-3CAA-470E-8D2D-DBB17060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2227-4CEA-4A86-98C5-9491559E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5928-76C5-4AFA-8D72-A3B86008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D1D9F-47DA-496F-A30D-29C8DA26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05B-FE45-4255-A920-AAC5B6E4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52909-AD6A-43C7-8915-FB31A5CB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963AA-F59F-4EF9-9946-F9C3E4D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7C6C8-D432-403C-8CC5-A6DA5F6B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452CF-1D16-4EF6-A538-EA0CD70E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118BB-1DC4-4801-A52E-D2F2CFD9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219F4-F3EF-44C4-91DE-3203149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4DB39-137A-4820-97EC-C679626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D2F0B-6706-4518-AEFC-B3C529F1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3E20F-10F6-4477-905F-99F2340C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73B37-297B-4F34-ADDC-7C71F6B6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D3D-ADAA-43C8-8E9C-46531FBE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74983-0AC7-4CC6-971D-F8E9A98F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D6218-BEC6-4ADF-85AB-D21F61F5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EC4C7-DC63-4AB5-B5BE-E6DB8AEA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5CE3F-2BED-4861-9EB2-91641128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99D15-1B1C-4B51-AA21-C3CFC378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4F436-84D8-469D-9424-C186B721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77462-D81A-4730-AF36-B93C58F0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60AB6-65BA-4A4B-B0E6-D4AFBB6A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41FC2-244C-4749-B10C-97F3FE9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7000A-EA34-488D-B368-7D6C1724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47A-838F-4EB4-BDFA-5A0B97C6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3A72D-2823-4B78-A63D-14894CC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C0AFD6-015B-48E8-B71A-C67109D9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AEF4B-65BF-4E93-8F6D-09916F7D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41E24-CC88-408E-B4C6-1D6EC143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335D2-BA5D-42EA-BB50-7D96F81E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65C3E-45EF-465A-8769-A6170F19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D6FEF-5FFC-4563-8656-B317808D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38FC9-CFA2-4FD7-8CFF-BF4581EB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A4A34-540D-4DEF-AC5D-54C9B3FC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21C384-E8AB-4353-8D84-1DDAA36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AC5-D861-495E-AB6A-37D20B0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DD2AB-7607-4565-87D5-29133C1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E9552-301D-48BF-B842-FA7C72C3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07914-C2B6-41F9-A36C-FCFF8C8A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07849-3DAA-4A7F-AACC-378EEBAD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9CEB0-D127-42B6-B08E-7543967A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76E-EECD-4948-B872-AC958C2C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271-29BF-4A7F-BC60-A238D1C07EA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80E6-A4E7-42C7-A4B3-B0B1D125F80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4B4C-4FEC-4509-9E92-78E1D8E1320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41D0-B041-49B8-BAE6-AC2C0D430E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FDE4-FDE9-41B3-BC01-7DF35D9BCB3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3335-FEB1-4E8C-A526-31478C543B4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284A-7E21-4E85-9AA9-4BE763E0F12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ОСТЕЙШИЕ ЗАДАЧИ В КООРДИНАТА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математики МОУСОШ №1                                                 с. Александров-Г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ыхова Г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 координаты векторов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3а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= 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= 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5а + 2 в     , есл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{2;4}  , в{-3;2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 Даны векторы 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{1;-2}  и 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{-3;2} , с {-2;-3}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 х = 2 а -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+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Запишите разложение вектора х по                 неколлинеарным векторам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Найти координаты вектора у , противоположного х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5" name="Прямая со стрелкой 4"/>
          <p:cNvCxnSpPr/>
          <p:nvPr/>
        </p:nvCxnSpPr>
        <p:spPr>
          <a:xfrm>
            <a:off x="499680" y="207180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6" name="Прямая со стрелкой 6"/>
          <p:cNvCxnSpPr/>
          <p:nvPr/>
        </p:nvCxnSpPr>
        <p:spPr>
          <a:xfrm>
            <a:off x="571320" y="257184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7" name="Прямая со стрелкой 8"/>
          <p:cNvCxnSpPr/>
          <p:nvPr/>
        </p:nvCxnSpPr>
        <p:spPr>
          <a:xfrm>
            <a:off x="2214360" y="221472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8" name="Прямая со стрелкой 9"/>
          <p:cNvCxnSpPr/>
          <p:nvPr/>
        </p:nvCxnSpPr>
        <p:spPr>
          <a:xfrm>
            <a:off x="5000400" y="171468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59" name="Прямая со стрелкой 10"/>
          <p:cNvCxnSpPr/>
          <p:nvPr/>
        </p:nvCxnSpPr>
        <p:spPr>
          <a:xfrm>
            <a:off x="6643440" y="171468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0" name="Прямая со стрелкой 11"/>
          <p:cNvCxnSpPr/>
          <p:nvPr/>
        </p:nvCxnSpPr>
        <p:spPr>
          <a:xfrm>
            <a:off x="6072120" y="171468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1" name="Прямая со стрелкой 12"/>
          <p:cNvCxnSpPr/>
          <p:nvPr/>
        </p:nvCxnSpPr>
        <p:spPr>
          <a:xfrm>
            <a:off x="1428480" y="214272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2" name="Прямая со стрелкой 17"/>
          <p:cNvCxnSpPr/>
          <p:nvPr/>
        </p:nvCxnSpPr>
        <p:spPr>
          <a:xfrm>
            <a:off x="5714640" y="171468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3" name="Прямая со стрелкой 20"/>
          <p:cNvCxnSpPr/>
          <p:nvPr/>
        </p:nvCxnSpPr>
        <p:spPr>
          <a:xfrm>
            <a:off x="2357280" y="3499920"/>
            <a:ext cx="21528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4" name="Прямая со стрелкой 21"/>
          <p:cNvCxnSpPr/>
          <p:nvPr/>
        </p:nvCxnSpPr>
        <p:spPr>
          <a:xfrm>
            <a:off x="4571640" y="299988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5" name="Прямая со стрелкой 22"/>
          <p:cNvCxnSpPr/>
          <p:nvPr/>
        </p:nvCxnSpPr>
        <p:spPr>
          <a:xfrm>
            <a:off x="5786280" y="307188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6" name="Прямая со стрелкой 23"/>
          <p:cNvCxnSpPr/>
          <p:nvPr/>
        </p:nvCxnSpPr>
        <p:spPr>
          <a:xfrm>
            <a:off x="1642680" y="349992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7" name="Прямая со стрелкой 24"/>
          <p:cNvCxnSpPr/>
          <p:nvPr/>
        </p:nvCxnSpPr>
        <p:spPr>
          <a:xfrm>
            <a:off x="1785600" y="257184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8" name="Прямая со стрелкой 25"/>
          <p:cNvCxnSpPr/>
          <p:nvPr/>
        </p:nvCxnSpPr>
        <p:spPr>
          <a:xfrm>
            <a:off x="4643280" y="4285800"/>
            <a:ext cx="21528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Прямая со стрелкой 26"/>
          <p:cNvCxnSpPr/>
          <p:nvPr/>
        </p:nvCxnSpPr>
        <p:spPr>
          <a:xfrm>
            <a:off x="3000240" y="342900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Прямая со стрелкой 27"/>
          <p:cNvCxnSpPr/>
          <p:nvPr/>
        </p:nvCxnSpPr>
        <p:spPr>
          <a:xfrm>
            <a:off x="3143160" y="307188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1" name="Прямая со стрелкой 28"/>
          <p:cNvCxnSpPr/>
          <p:nvPr/>
        </p:nvCxnSpPr>
        <p:spPr>
          <a:xfrm>
            <a:off x="3571560" y="349992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2" name="Прямая со стрелкой 29"/>
          <p:cNvCxnSpPr/>
          <p:nvPr/>
        </p:nvCxnSpPr>
        <p:spPr>
          <a:xfrm>
            <a:off x="5500440" y="3929040"/>
            <a:ext cx="21492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3" name="Прямая со стрелкой 30"/>
          <p:cNvCxnSpPr/>
          <p:nvPr/>
        </p:nvCxnSpPr>
        <p:spPr>
          <a:xfrm>
            <a:off x="5214600" y="4285800"/>
            <a:ext cx="21492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4" name="Прямая со стрелкой 32"/>
          <p:cNvCxnSpPr/>
          <p:nvPr/>
        </p:nvCxnSpPr>
        <p:spPr>
          <a:xfrm>
            <a:off x="4929120" y="471492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5" name="Прямая со стрелкой 33"/>
          <p:cNvCxnSpPr/>
          <p:nvPr/>
        </p:nvCxnSpPr>
        <p:spPr>
          <a:xfrm>
            <a:off x="3643200" y="5072040"/>
            <a:ext cx="2152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САМОСТОЯТЕЛЬНАЯ РАБОТ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ны векторы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 {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-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{-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}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 {-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-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}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 найти координаты вектора а =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) записать разложение вектор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координатным векторам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i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j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8" name="Прямая со стрелкой 4"/>
          <p:cNvCxnSpPr/>
          <p:nvPr/>
        </p:nvCxnSpPr>
        <p:spPr>
          <a:xfrm>
            <a:off x="3214800" y="171468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9" name="Прямая со стрелкой 6"/>
          <p:cNvCxnSpPr/>
          <p:nvPr/>
        </p:nvCxnSpPr>
        <p:spPr>
          <a:xfrm>
            <a:off x="4429080" y="171468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0" name="Прямая со стрелкой 7"/>
          <p:cNvCxnSpPr/>
          <p:nvPr/>
        </p:nvCxnSpPr>
        <p:spPr>
          <a:xfrm>
            <a:off x="5715000" y="164304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1" name="Прямая со стрелкой 8"/>
          <p:cNvCxnSpPr/>
          <p:nvPr/>
        </p:nvCxnSpPr>
        <p:spPr>
          <a:xfrm>
            <a:off x="485784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2" name="Прямая со стрелкой 9"/>
          <p:cNvCxnSpPr/>
          <p:nvPr/>
        </p:nvCxnSpPr>
        <p:spPr>
          <a:xfrm>
            <a:off x="564372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3" name="Прямая со стрелкой 10"/>
          <p:cNvCxnSpPr/>
          <p:nvPr/>
        </p:nvCxnSpPr>
        <p:spPr>
          <a:xfrm>
            <a:off x="628668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4" name="Прямая со стрелкой 11"/>
          <p:cNvCxnSpPr/>
          <p:nvPr/>
        </p:nvCxnSpPr>
        <p:spPr>
          <a:xfrm>
            <a:off x="6786720" y="21427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5" name="Прямая со стрелкой 12"/>
          <p:cNvCxnSpPr/>
          <p:nvPr/>
        </p:nvCxnSpPr>
        <p:spPr>
          <a:xfrm>
            <a:off x="4785840" y="3357720"/>
            <a:ext cx="35820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6" name="Прямая со стрелкой 17"/>
          <p:cNvCxnSpPr/>
          <p:nvPr/>
        </p:nvCxnSpPr>
        <p:spPr>
          <a:xfrm>
            <a:off x="5572080" y="335772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7" name="Прямая со стрелкой 19"/>
          <p:cNvCxnSpPr/>
          <p:nvPr/>
        </p:nvCxnSpPr>
        <p:spPr>
          <a:xfrm>
            <a:off x="5357880" y="307188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СВЯЗЬ МЕЖДУ КООРДИНАТАМИ ВЕКТОРА И КООРДИНАТАМИ   ЕГО   НАЧАЛА   И  КОНЦ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 Вектор ОМ –радиус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ктор точки 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Координаты точки 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вны соответствующи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ам радиус-вектора  ОМ {х;у}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0" name="Прямая со стрелкой 4"/>
          <p:cNvCxnSpPr/>
          <p:nvPr/>
        </p:nvCxnSpPr>
        <p:spPr>
          <a:xfrm>
            <a:off x="785520" y="3571920"/>
            <a:ext cx="22150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1" name="Прямая со стрелкой 7"/>
          <p:cNvCxnSpPr/>
          <p:nvPr/>
        </p:nvCxnSpPr>
        <p:spPr>
          <a:xfrm flipV="1">
            <a:off x="1428840" y="2642400"/>
            <a:ext cx="2160" cy="1500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1428480" y="3214440"/>
            <a:ext cx="85788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93" name="TextBox 17"/>
          <p:cNvSpPr/>
          <p:nvPr/>
        </p:nvSpPr>
        <p:spPr>
          <a:xfrm>
            <a:off x="2268720" y="3143160"/>
            <a:ext cx="8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(х;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 flipH="1">
            <a:off x="1071000" y="3643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3"/>
          <p:cNvSpPr/>
          <p:nvPr/>
        </p:nvSpPr>
        <p:spPr>
          <a:xfrm flipV="1">
            <a:off x="2714760" y="36446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5"/>
          <p:cNvSpPr/>
          <p:nvPr/>
        </p:nvSpPr>
        <p:spPr>
          <a:xfrm>
            <a:off x="1071720" y="2643120"/>
            <a:ext cx="2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Прямая со стрелкой 30"/>
          <p:cNvCxnSpPr/>
          <p:nvPr/>
        </p:nvCxnSpPr>
        <p:spPr>
          <a:xfrm>
            <a:off x="3642840" y="4572000"/>
            <a:ext cx="5007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8" name="Прямая со стрелкой 31"/>
          <p:cNvCxnSpPr/>
          <p:nvPr/>
        </p:nvCxnSpPr>
        <p:spPr>
          <a:xfrm>
            <a:off x="5500440" y="2071800"/>
            <a:ext cx="5007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.</a:t>
            </a:r>
            <a:br>
              <a:rPr sz="2700"/>
            </a:br>
            <a:br>
              <a:rPr sz="2700"/>
            </a:b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КАЖДАЯ   КООРДИНАТА   ВЕКТОРА  РАВНА   РАЗНОСТИ СООТВЕТСТВУЮЩИХ КООРДИНАТ  ЕГО КОНЦА И НАЧАЛА.</a:t>
            </a:r>
            <a:br>
              <a:rPr sz="20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= ОВ – О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 и ОА – радиус-                                               векторы точек В и 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 {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}                   ОА {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В {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 ¯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;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 ¯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1" name="Прямая со стрелкой 4"/>
          <p:cNvCxnSpPr/>
          <p:nvPr/>
        </p:nvCxnSpPr>
        <p:spPr>
          <a:xfrm>
            <a:off x="928800" y="2857680"/>
            <a:ext cx="200088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2" name="Прямая со стрелкой 6"/>
          <p:cNvCxnSpPr/>
          <p:nvPr/>
        </p:nvCxnSpPr>
        <p:spPr>
          <a:xfrm flipV="1">
            <a:off x="1641960" y="1856880"/>
            <a:ext cx="1080" cy="1501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3" name="Прямая со стрелкой 11"/>
          <p:cNvCxnSpPr/>
          <p:nvPr/>
        </p:nvCxnSpPr>
        <p:spPr>
          <a:xfrm flipH="1" flipV="1">
            <a:off x="2714040" y="2214360"/>
            <a:ext cx="57204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4" name="Прямая со стрелкой 14"/>
          <p:cNvCxnSpPr/>
          <p:nvPr/>
        </p:nvCxnSpPr>
        <p:spPr>
          <a:xfrm flipV="1">
            <a:off x="1643040" y="2214720"/>
            <a:ext cx="1215360" cy="643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5" name="Прямая со стрелкой 16"/>
          <p:cNvCxnSpPr/>
          <p:nvPr/>
        </p:nvCxnSpPr>
        <p:spPr>
          <a:xfrm flipV="1">
            <a:off x="1571760" y="2571480"/>
            <a:ext cx="171504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06" name="TextBox 22"/>
          <p:cNvSpPr/>
          <p:nvPr/>
        </p:nvSpPr>
        <p:spPr>
          <a:xfrm>
            <a:off x="2714760" y="2928960"/>
            <a:ext cx="3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4"/>
          <p:cNvSpPr/>
          <p:nvPr/>
        </p:nvSpPr>
        <p:spPr>
          <a:xfrm>
            <a:off x="1357200" y="29289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9"/>
          <p:cNvSpPr/>
          <p:nvPr/>
        </p:nvSpPr>
        <p:spPr>
          <a:xfrm>
            <a:off x="1357200" y="18572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2"/>
          <p:cNvSpPr/>
          <p:nvPr/>
        </p:nvSpPr>
        <p:spPr>
          <a:xfrm>
            <a:off x="3286080" y="2428920"/>
            <a:ext cx="1285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(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34"/>
          <p:cNvSpPr/>
          <p:nvPr/>
        </p:nvSpPr>
        <p:spPr>
          <a:xfrm>
            <a:off x="2714760" y="1928880"/>
            <a:ext cx="12859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(Х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Прямая со стрелкой 42"/>
          <p:cNvCxnSpPr/>
          <p:nvPr/>
        </p:nvCxnSpPr>
        <p:spPr>
          <a:xfrm>
            <a:off x="4857840" y="207180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2" name="Прямая со стрелкой 43"/>
          <p:cNvCxnSpPr/>
          <p:nvPr/>
        </p:nvCxnSpPr>
        <p:spPr>
          <a:xfrm>
            <a:off x="5572080" y="207180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3" name="Прямая со стрелкой 44"/>
          <p:cNvCxnSpPr/>
          <p:nvPr/>
        </p:nvCxnSpPr>
        <p:spPr>
          <a:xfrm>
            <a:off x="6357960" y="2071800"/>
            <a:ext cx="35784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4" name="Прямая со стрелкой 45"/>
          <p:cNvCxnSpPr/>
          <p:nvPr/>
        </p:nvCxnSpPr>
        <p:spPr>
          <a:xfrm>
            <a:off x="6786720" y="249984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5" name="Прямая со стрелкой 46"/>
          <p:cNvCxnSpPr/>
          <p:nvPr/>
        </p:nvCxnSpPr>
        <p:spPr>
          <a:xfrm>
            <a:off x="5928840" y="2499840"/>
            <a:ext cx="3582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6" name="Прямая со стрелкой 48"/>
          <p:cNvCxnSpPr/>
          <p:nvPr/>
        </p:nvCxnSpPr>
        <p:spPr>
          <a:xfrm>
            <a:off x="2214720" y="378576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7" name="Прямая со стрелкой 49"/>
          <p:cNvCxnSpPr/>
          <p:nvPr/>
        </p:nvCxnSpPr>
        <p:spPr>
          <a:xfrm>
            <a:off x="5285880" y="3785760"/>
            <a:ext cx="3582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8" name="Прямая со стрелкой 50"/>
          <p:cNvCxnSpPr/>
          <p:nvPr/>
        </p:nvCxnSpPr>
        <p:spPr>
          <a:xfrm>
            <a:off x="3071880" y="464292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КООРДИНАТЫ СЕРЕДИНЫ ОТРЕЗ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   , В 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;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(х;у) – координаты середины отрезка А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 { Х ; У }  -  радиус –вектор точки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=(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):2                  У= (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+ 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) :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ина вектора :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√ х² + у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21" name="Прямая со стрелкой 7"/>
          <p:cNvCxnSpPr/>
          <p:nvPr/>
        </p:nvCxnSpPr>
        <p:spPr>
          <a:xfrm>
            <a:off x="857160" y="2499840"/>
            <a:ext cx="3578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>
            <a:off x="3642840" y="4285800"/>
            <a:ext cx="3582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23" name="Прямая соединительная линия 23"/>
          <p:cNvSpPr/>
          <p:nvPr/>
        </p:nvSpPr>
        <p:spPr>
          <a:xfrm>
            <a:off x="3143160" y="5357880"/>
            <a:ext cx="1143000" cy="1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5"/>
          <p:cNvSpPr/>
          <p:nvPr/>
        </p:nvSpPr>
        <p:spPr>
          <a:xfrm>
            <a:off x="4714920" y="4286160"/>
            <a:ext cx="1143000" cy="18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8:54:44Z</dcterms:created>
  <dc:creator>Admin</dc:creator>
  <dc:description/>
  <dc:language>en-US</dc:language>
  <cp:lastModifiedBy>Галина Владимировна</cp:lastModifiedBy>
  <dcterms:modified xsi:type="dcterms:W3CDTF">2011-12-23T11:27:08Z</dcterms:modified>
  <cp:revision>21</cp:revision>
  <dc:subject/>
  <dc:title>Простейшие задачи в координатах</dc:title>
</cp:coreProperties>
</file>