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69E-D8EB-42CB-992D-052C3325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83E-AC90-4889-BF59-A7878991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7F4E-58B5-42AF-AD51-BFC63A9F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315-CDF1-4AAB-A534-5AA6B9EB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E52C-389E-473C-B01F-8DEA1819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A5B7-B8B5-4967-B9AD-2EB22C40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560E-2D6F-4030-B6E1-EF9EE25A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E587-BCC0-423F-B26F-E48743B5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ABEB-ACCC-4CA1-B3DB-BB8ACCC9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55DD-28A1-48E9-98B7-13D4CBA6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1D29-8B3A-4FCE-92F0-40ECDE61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6DA-096E-4BAA-A564-BC11165B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8A6E-E2F0-47FD-B281-A2A9854E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B77D-4B29-4636-9AF6-5168B09F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036B-7DEC-494E-B2E0-8C147751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66CC-944E-46F3-A255-830A27A3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C575-EF6E-46A7-B1E7-B21C8108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B07A16-5323-4359-8132-4B12BF93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F99F3-40EB-4BE8-AF60-47F2DB78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1F69E-2109-45B8-B5C9-979D14C3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66C08-247A-4A8F-9852-0959C415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C76EF-67E6-459C-B65C-1FB629F5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5B1-D7BB-4971-93BD-9ACCEB8E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E9581-0D4C-46D0-AFD8-71C24285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1A6B9-CCEC-4DD7-A3AE-59D95423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7B2B6-65E0-45E8-861B-2B08C6BC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A87C7-DFC9-4FF8-8776-B56DC4FF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521C6-9178-4B4D-B2C2-BCBAC5D3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697F6-424A-4D83-BAEC-4E167BEE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8ECA5-74EC-465C-8986-C5E18296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AE3EC-2F47-4AF1-AFDC-4AB2636F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45D6E-B1FF-45F8-923D-3CCAB3B9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BF07C-0146-40BC-B4D5-9817E6E3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8E0-6965-4C1F-8EFD-42DD16FF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36023-DAAB-46CE-B79A-7D016D95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D1EF1-B1A6-4070-A2E2-8494C5DC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A9EAC-2958-40BA-8979-6FD9AB94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23AFC-C73A-4A53-8E31-6088C85B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F1E03-A2B1-4187-8360-F0B8D132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EC9A1-6287-4F8D-8A1B-4D2DF073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839BD-6D08-44C8-9E2D-84BB7E8A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734AE-D8F0-4126-B07C-44D17AE7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BD619-29C2-44A0-8694-AB50C4C9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5609C3-E342-4E15-A8A7-5C5864C5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D12D-07BC-48D9-A619-F2C69F3A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413022-1D35-4DEA-BCDB-93E3C01A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FE31D2-DE66-4328-8A8C-EDDAEFE0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C266D-459F-4F29-BBBB-003FA53D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D7BE5C-BE90-40B9-A77E-3B01B02C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0CE652-3044-4FD4-9C16-32D1D5A1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EDEA5E-4D07-4E67-978E-CDDC6469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C05F8A-9385-4379-8192-1388877C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B419FB-97FC-4D9F-8722-608D37BA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2EABB-45B7-4DD4-8325-48D597D7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467B6-8F98-4D02-97CE-B551FC89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92B0-8E52-4BB9-9AE2-74A96A02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DFA2E8-006F-48D5-9E83-AEC40A56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FCA71D-E03B-459E-A622-1760F71B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01ABEF-23C2-468F-84A9-C675125C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B93EEB-B854-42D1-9826-2957072F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68D682-3E72-4E1C-BAFB-1A27C87E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BF14B-BBE5-4741-B7C4-E7C79132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A09829-D721-4BC7-897C-92B69719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BC1A33-1640-4A5C-9C98-04E66542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1796F3-2C3E-4CD3-9945-3276689B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816BEA-6DA4-43BC-BCD7-46EF825C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38F6-A559-44DE-8F66-29439EC6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636072-53A8-41C9-91F6-470420AE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8ADCB2-A7A4-4974-A3FC-56B5215B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0764A5-3168-44E3-AE14-46672404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57A089-0138-4061-BE3E-5A7FC8D8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E36BB5-B700-45A3-A187-8E95AA40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E9339A-AF6D-4178-B407-D7F9B8A9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07B3CC-C4B3-4420-897E-4B2C5B8A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1010CC-EFE2-47E1-8D19-02EC329F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2E067A-6F47-4D28-B31A-C2061F63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293D3B-6F3C-422E-86D9-69226B36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418-575C-40E6-A473-477946FC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5F249A-2F9C-494F-B932-BC69A090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E47548-A591-4D72-B2DA-C4017489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C7D262-62F7-46AB-BF70-D62EE4F0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A0B172-F268-4D45-8298-3B562C38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13A340-8413-43B6-B5E7-7D7455FA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AEA-EB3F-40B4-BB26-6CC997D0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33F8-765F-48FD-AE71-65DEA735DC1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3A1C-85AF-41D2-AC30-9226C80AB60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0463-E779-4852-9EB5-03C3B836F9A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6742-C147-4744-A968-276DEE6FF2D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1D39-E91E-4B62-86FF-885ADB40BCE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6347-7B2D-4F45-8CC3-9D8054D7E2D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7B82-9327-44E9-A86F-68FB5CD2FD7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ПРОСТЕЙШИЕ ЗАДАЧИ В КООРДИНАТАХ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Учитель математики МОУСОШ №1                                                 с. Александров-Га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ыхова Г.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йти  координаты векторов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= 3а,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= -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= 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5а + 2 в     , есл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{2;4}  , в{-3;2}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 Даны векторы 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{1;-2}  и 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{-3;2} , с {-2;-3}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йти  х = 2 а -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+ 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Запишите разложение вектора х по                 неколлинеарным векторам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i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j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Найти координаты вектора у , противоположного х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55" name="Прямая со стрелкой 4"/>
          <p:cNvCxnSpPr/>
          <p:nvPr/>
        </p:nvCxnSpPr>
        <p:spPr>
          <a:xfrm>
            <a:off x="499680" y="207180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56" name="Прямая со стрелкой 6"/>
          <p:cNvCxnSpPr/>
          <p:nvPr/>
        </p:nvCxnSpPr>
        <p:spPr>
          <a:xfrm>
            <a:off x="571320" y="257184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57" name="Прямая со стрелкой 8"/>
          <p:cNvCxnSpPr/>
          <p:nvPr/>
        </p:nvCxnSpPr>
        <p:spPr>
          <a:xfrm>
            <a:off x="2214360" y="221472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58" name="Прямая со стрелкой 9"/>
          <p:cNvCxnSpPr/>
          <p:nvPr/>
        </p:nvCxnSpPr>
        <p:spPr>
          <a:xfrm>
            <a:off x="5000400" y="171468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59" name="Прямая со стрелкой 10"/>
          <p:cNvCxnSpPr/>
          <p:nvPr/>
        </p:nvCxnSpPr>
        <p:spPr>
          <a:xfrm>
            <a:off x="6643440" y="171468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0" name="Прямая со стрелкой 11"/>
          <p:cNvCxnSpPr/>
          <p:nvPr/>
        </p:nvCxnSpPr>
        <p:spPr>
          <a:xfrm>
            <a:off x="6072120" y="1714680"/>
            <a:ext cx="2152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1" name="Прямая со стрелкой 12"/>
          <p:cNvCxnSpPr/>
          <p:nvPr/>
        </p:nvCxnSpPr>
        <p:spPr>
          <a:xfrm>
            <a:off x="1428480" y="2142720"/>
            <a:ext cx="21492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2" name="Прямая со стрелкой 17"/>
          <p:cNvCxnSpPr/>
          <p:nvPr/>
        </p:nvCxnSpPr>
        <p:spPr>
          <a:xfrm>
            <a:off x="5714640" y="171468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3" name="Прямая со стрелкой 20"/>
          <p:cNvCxnSpPr/>
          <p:nvPr/>
        </p:nvCxnSpPr>
        <p:spPr>
          <a:xfrm>
            <a:off x="2357280" y="3499920"/>
            <a:ext cx="21528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4" name="Прямая со стрелкой 21"/>
          <p:cNvCxnSpPr/>
          <p:nvPr/>
        </p:nvCxnSpPr>
        <p:spPr>
          <a:xfrm>
            <a:off x="4571640" y="2999880"/>
            <a:ext cx="21492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5" name="Прямая со стрелкой 22"/>
          <p:cNvCxnSpPr/>
          <p:nvPr/>
        </p:nvCxnSpPr>
        <p:spPr>
          <a:xfrm>
            <a:off x="5786280" y="3071880"/>
            <a:ext cx="2152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6" name="Прямая со стрелкой 23"/>
          <p:cNvCxnSpPr/>
          <p:nvPr/>
        </p:nvCxnSpPr>
        <p:spPr>
          <a:xfrm>
            <a:off x="1642680" y="3499920"/>
            <a:ext cx="21492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7" name="Прямая со стрелкой 24"/>
          <p:cNvCxnSpPr/>
          <p:nvPr/>
        </p:nvCxnSpPr>
        <p:spPr>
          <a:xfrm>
            <a:off x="1785600" y="257184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8" name="Прямая со стрелкой 25"/>
          <p:cNvCxnSpPr/>
          <p:nvPr/>
        </p:nvCxnSpPr>
        <p:spPr>
          <a:xfrm>
            <a:off x="4643280" y="4285800"/>
            <a:ext cx="21528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9" name="Прямая со стрелкой 26"/>
          <p:cNvCxnSpPr/>
          <p:nvPr/>
        </p:nvCxnSpPr>
        <p:spPr>
          <a:xfrm>
            <a:off x="3000240" y="3429000"/>
            <a:ext cx="2152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0" name="Прямая со стрелкой 27"/>
          <p:cNvCxnSpPr/>
          <p:nvPr/>
        </p:nvCxnSpPr>
        <p:spPr>
          <a:xfrm>
            <a:off x="3143160" y="3071880"/>
            <a:ext cx="2152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1" name="Прямая со стрелкой 28"/>
          <p:cNvCxnSpPr/>
          <p:nvPr/>
        </p:nvCxnSpPr>
        <p:spPr>
          <a:xfrm>
            <a:off x="3571560" y="3499920"/>
            <a:ext cx="21492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2" name="Прямая со стрелкой 29"/>
          <p:cNvCxnSpPr/>
          <p:nvPr/>
        </p:nvCxnSpPr>
        <p:spPr>
          <a:xfrm>
            <a:off x="5500440" y="392904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3" name="Прямая со стрелкой 30"/>
          <p:cNvCxnSpPr/>
          <p:nvPr/>
        </p:nvCxnSpPr>
        <p:spPr>
          <a:xfrm>
            <a:off x="5214600" y="4285800"/>
            <a:ext cx="21492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4" name="Прямая со стрелкой 32"/>
          <p:cNvCxnSpPr/>
          <p:nvPr/>
        </p:nvCxnSpPr>
        <p:spPr>
          <a:xfrm>
            <a:off x="4929120" y="4714920"/>
            <a:ext cx="2152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5" name="Прямая со стрелкой 33"/>
          <p:cNvCxnSpPr/>
          <p:nvPr/>
        </p:nvCxnSpPr>
        <p:spPr>
          <a:xfrm>
            <a:off x="3643200" y="5072040"/>
            <a:ext cx="2152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САМОСТОЯТЕЛЬНАЯ РАБОТ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аны векторы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 {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-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{-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}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 {-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-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}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) найти координаты вектора а = 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+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) записать разложение вектор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координатным векторам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i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j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8" name="Прямая со стрелкой 4"/>
          <p:cNvCxnSpPr/>
          <p:nvPr/>
        </p:nvCxnSpPr>
        <p:spPr>
          <a:xfrm>
            <a:off x="3214800" y="171468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9" name="Прямая со стрелкой 6"/>
          <p:cNvCxnSpPr/>
          <p:nvPr/>
        </p:nvCxnSpPr>
        <p:spPr>
          <a:xfrm>
            <a:off x="4429080" y="171468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0" name="Прямая со стрелкой 7"/>
          <p:cNvCxnSpPr/>
          <p:nvPr/>
        </p:nvCxnSpPr>
        <p:spPr>
          <a:xfrm>
            <a:off x="5715000" y="164304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1" name="Прямая со стрелкой 8"/>
          <p:cNvCxnSpPr/>
          <p:nvPr/>
        </p:nvCxnSpPr>
        <p:spPr>
          <a:xfrm>
            <a:off x="4857840" y="214272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2" name="Прямая со стрелкой 9"/>
          <p:cNvCxnSpPr/>
          <p:nvPr/>
        </p:nvCxnSpPr>
        <p:spPr>
          <a:xfrm>
            <a:off x="5643720" y="214272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3" name="Прямая со стрелкой 10"/>
          <p:cNvCxnSpPr/>
          <p:nvPr/>
        </p:nvCxnSpPr>
        <p:spPr>
          <a:xfrm>
            <a:off x="6286680" y="214272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4" name="Прямая со стрелкой 11"/>
          <p:cNvCxnSpPr/>
          <p:nvPr/>
        </p:nvCxnSpPr>
        <p:spPr>
          <a:xfrm>
            <a:off x="6786720" y="214272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5" name="Прямая со стрелкой 12"/>
          <p:cNvCxnSpPr/>
          <p:nvPr/>
        </p:nvCxnSpPr>
        <p:spPr>
          <a:xfrm>
            <a:off x="4785840" y="3357720"/>
            <a:ext cx="35820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6" name="Прямая со стрелкой 17"/>
          <p:cNvCxnSpPr/>
          <p:nvPr/>
        </p:nvCxnSpPr>
        <p:spPr>
          <a:xfrm>
            <a:off x="5572080" y="335772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7" name="Прямая со стрелкой 19"/>
          <p:cNvCxnSpPr/>
          <p:nvPr/>
        </p:nvCxnSpPr>
        <p:spPr>
          <a:xfrm>
            <a:off x="5357880" y="307188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СВЯЗЬ МЕЖДУ КООРДИНАТАМИ ВЕКТОРА И КООРДИНАТАМИ   ЕГО   НАЧАЛА   И  КОНЦ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1.  Вектор ОМ –радиус-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ектор точки 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2. Координаты точки 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вны соответствующи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ординатам радиус-вектора  ОМ {х;у}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90" name="Прямая со стрелкой 4"/>
          <p:cNvCxnSpPr/>
          <p:nvPr/>
        </p:nvCxnSpPr>
        <p:spPr>
          <a:xfrm>
            <a:off x="785520" y="3571920"/>
            <a:ext cx="22150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1" name="Прямая со стрелкой 7"/>
          <p:cNvCxnSpPr/>
          <p:nvPr/>
        </p:nvCxnSpPr>
        <p:spPr>
          <a:xfrm flipV="1">
            <a:off x="1428840" y="2642400"/>
            <a:ext cx="2160" cy="1500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2" name="Прямая со стрелкой 12"/>
          <p:cNvCxnSpPr/>
          <p:nvPr/>
        </p:nvCxnSpPr>
        <p:spPr>
          <a:xfrm flipV="1">
            <a:off x="1428480" y="3214440"/>
            <a:ext cx="857880" cy="357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93" name="TextBox 17"/>
          <p:cNvSpPr/>
          <p:nvPr/>
        </p:nvSpPr>
        <p:spPr>
          <a:xfrm>
            <a:off x="2268720" y="314316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х;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1"/>
          <p:cNvSpPr/>
          <p:nvPr/>
        </p:nvSpPr>
        <p:spPr>
          <a:xfrm flipH="1">
            <a:off x="1071000" y="36432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3"/>
          <p:cNvSpPr/>
          <p:nvPr/>
        </p:nvSpPr>
        <p:spPr>
          <a:xfrm flipV="1">
            <a:off x="2714760" y="36446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5"/>
          <p:cNvSpPr/>
          <p:nvPr/>
        </p:nvSpPr>
        <p:spPr>
          <a:xfrm>
            <a:off x="1071720" y="2643120"/>
            <a:ext cx="2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Прямая со стрелкой 30"/>
          <p:cNvCxnSpPr/>
          <p:nvPr/>
        </p:nvCxnSpPr>
        <p:spPr>
          <a:xfrm>
            <a:off x="3642840" y="4572000"/>
            <a:ext cx="50076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8" name="Прямая со стрелкой 31"/>
          <p:cNvCxnSpPr/>
          <p:nvPr/>
        </p:nvCxnSpPr>
        <p:spPr>
          <a:xfrm>
            <a:off x="5500440" y="2071800"/>
            <a:ext cx="50076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.</a:t>
            </a:r>
            <a:br>
              <a:rPr sz="2700"/>
            </a:br>
            <a:br>
              <a:rPr sz="27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КАЖДАЯ   КООРДИНАТА   ВЕКТОРА  РАВНА   РАЗНОСТИ СООТВЕТСТВУЮЩИХ КООРДИНАТ  ЕГО КОНЦА И НАЧАЛА.</a:t>
            </a:r>
            <a:br>
              <a:rPr sz="20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= ОВ – О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В и ОА – радиус-                                               векторы точек В и 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В {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; У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}                   ОА {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; У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 {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 ¯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;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 ¯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01" name="Прямая со стрелкой 4"/>
          <p:cNvCxnSpPr/>
          <p:nvPr/>
        </p:nvCxnSpPr>
        <p:spPr>
          <a:xfrm>
            <a:off x="928800" y="2857680"/>
            <a:ext cx="20008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2" name="Прямая со стрелкой 6"/>
          <p:cNvCxnSpPr/>
          <p:nvPr/>
        </p:nvCxnSpPr>
        <p:spPr>
          <a:xfrm flipV="1">
            <a:off x="1641960" y="1856880"/>
            <a:ext cx="1080" cy="1501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3" name="Прямая со стрелкой 11"/>
          <p:cNvCxnSpPr/>
          <p:nvPr/>
        </p:nvCxnSpPr>
        <p:spPr>
          <a:xfrm flipH="1" flipV="1">
            <a:off x="2714040" y="2214360"/>
            <a:ext cx="572040" cy="357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4" name="Прямая со стрелкой 14"/>
          <p:cNvCxnSpPr/>
          <p:nvPr/>
        </p:nvCxnSpPr>
        <p:spPr>
          <a:xfrm flipV="1">
            <a:off x="1643040" y="2214720"/>
            <a:ext cx="1215360" cy="643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5" name="Прямая со стрелкой 16"/>
          <p:cNvCxnSpPr/>
          <p:nvPr/>
        </p:nvCxnSpPr>
        <p:spPr>
          <a:xfrm flipV="1">
            <a:off x="1571760" y="2571480"/>
            <a:ext cx="1715040" cy="2865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06" name="TextBox 22"/>
          <p:cNvSpPr/>
          <p:nvPr/>
        </p:nvSpPr>
        <p:spPr>
          <a:xfrm>
            <a:off x="2714760" y="2928960"/>
            <a:ext cx="3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4"/>
          <p:cNvSpPr/>
          <p:nvPr/>
        </p:nvSpPr>
        <p:spPr>
          <a:xfrm>
            <a:off x="1357200" y="29289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9"/>
          <p:cNvSpPr/>
          <p:nvPr/>
        </p:nvSpPr>
        <p:spPr>
          <a:xfrm>
            <a:off x="1357200" y="185724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2"/>
          <p:cNvSpPr/>
          <p:nvPr/>
        </p:nvSpPr>
        <p:spPr>
          <a:xfrm>
            <a:off x="3286080" y="2428920"/>
            <a:ext cx="12859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(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; У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34"/>
          <p:cNvSpPr/>
          <p:nvPr/>
        </p:nvSpPr>
        <p:spPr>
          <a:xfrm>
            <a:off x="2714760" y="1928880"/>
            <a:ext cx="128592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Х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; У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Прямая со стрелкой 42"/>
          <p:cNvCxnSpPr/>
          <p:nvPr/>
        </p:nvCxnSpPr>
        <p:spPr>
          <a:xfrm>
            <a:off x="4857840" y="207180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2" name="Прямая со стрелкой 43"/>
          <p:cNvCxnSpPr/>
          <p:nvPr/>
        </p:nvCxnSpPr>
        <p:spPr>
          <a:xfrm>
            <a:off x="5572080" y="207180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3" name="Прямая со стрелкой 44"/>
          <p:cNvCxnSpPr/>
          <p:nvPr/>
        </p:nvCxnSpPr>
        <p:spPr>
          <a:xfrm>
            <a:off x="6357960" y="207180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4" name="Прямая со стрелкой 45"/>
          <p:cNvCxnSpPr/>
          <p:nvPr/>
        </p:nvCxnSpPr>
        <p:spPr>
          <a:xfrm>
            <a:off x="6786720" y="249984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5" name="Прямая со стрелкой 46"/>
          <p:cNvCxnSpPr/>
          <p:nvPr/>
        </p:nvCxnSpPr>
        <p:spPr>
          <a:xfrm>
            <a:off x="5928840" y="2499840"/>
            <a:ext cx="35820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6" name="Прямая со стрелкой 48"/>
          <p:cNvCxnSpPr/>
          <p:nvPr/>
        </p:nvCxnSpPr>
        <p:spPr>
          <a:xfrm>
            <a:off x="2214720" y="378576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7" name="Прямая со стрелкой 49"/>
          <p:cNvCxnSpPr/>
          <p:nvPr/>
        </p:nvCxnSpPr>
        <p:spPr>
          <a:xfrm>
            <a:off x="5285880" y="3785760"/>
            <a:ext cx="35820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8" name="Прямая со стрелкой 50"/>
          <p:cNvCxnSpPr/>
          <p:nvPr/>
        </p:nvCxnSpPr>
        <p:spPr>
          <a:xfrm>
            <a:off x="3071880" y="464292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КООРДИНАТЫ СЕРЕДИНЫ ОТРЕЗ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(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; 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   , В (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; 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 (х;у) – координаты середины отрезка А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 { Х ; У }  -  радиус –вектор точки 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=(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+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):2                  У= (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+ 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) :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ина вектора :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= √ х² + у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21" name="Прямая со стрелкой 7"/>
          <p:cNvCxnSpPr/>
          <p:nvPr/>
        </p:nvCxnSpPr>
        <p:spPr>
          <a:xfrm>
            <a:off x="857160" y="249984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2" name="Прямая со стрелкой 21"/>
          <p:cNvCxnSpPr/>
          <p:nvPr/>
        </p:nvCxnSpPr>
        <p:spPr>
          <a:xfrm>
            <a:off x="3642840" y="4285800"/>
            <a:ext cx="35820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23" name="Прямая соединительная линия 23"/>
          <p:cNvSpPr/>
          <p:nvPr/>
        </p:nvSpPr>
        <p:spPr>
          <a:xfrm>
            <a:off x="3143160" y="5357880"/>
            <a:ext cx="114300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25"/>
          <p:cNvSpPr/>
          <p:nvPr/>
        </p:nvSpPr>
        <p:spPr>
          <a:xfrm>
            <a:off x="4714920" y="4286160"/>
            <a:ext cx="1143000" cy="18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8:54:44Z</dcterms:created>
  <dc:creator>Admin</dc:creator>
  <dc:description/>
  <dc:language>en-US</dc:language>
  <cp:lastModifiedBy>Галина Владимировна</cp:lastModifiedBy>
  <dcterms:modified xsi:type="dcterms:W3CDTF">2011-12-23T11:27:08Z</dcterms:modified>
  <cp:revision>21</cp:revision>
  <dc:subject/>
  <dc:title>Простейшие задачи в координатах</dc:title>
</cp:coreProperties>
</file>