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CE1-9AC4-436F-8A77-CFF35CA2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AAE-4D3B-4F4B-90A5-D013E7F7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DE6-07EC-400E-A233-0FD447F8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70E-8BBD-49AA-A095-B0236141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866-E4CD-4A2E-B3F8-4BC70F02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3A2-E9EA-4F87-BEC6-F4CADE84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1CF-39EF-4696-A2DB-DEC07647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80F-0B30-43D4-8C81-A8DA373B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CB8-289A-4030-9799-9C26E819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882-EDE0-4705-9A0D-95215705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074-7013-47C6-8645-0BF36366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FC6-6FC6-4BE0-89AB-9F0EFD93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4F0A-9E6A-46D3-9E84-FA4CFF04BB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MP900177743.JPG"/>
          <p:cNvPicPr/>
          <p:nvPr/>
        </p:nvPicPr>
        <p:blipFill>
          <a:blip r:embed="rId1"/>
          <a:stretch/>
        </p:blipFill>
        <p:spPr>
          <a:xfrm>
            <a:off x="1600200" y="393228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1"/>
          <p:cNvSpPr/>
          <p:nvPr/>
        </p:nvSpPr>
        <p:spPr>
          <a:xfrm>
            <a:off x="404640" y="183528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а физической 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8317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7.10.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437000" y="838836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6858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Прыжок в высоту способом «перешагива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0280" y="1476360"/>
            <a:ext cx="2448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дзаголовок 2"/>
          <p:cNvSpPr/>
          <p:nvPr/>
        </p:nvSpPr>
        <p:spPr>
          <a:xfrm>
            <a:off x="260280" y="2195640"/>
            <a:ext cx="6264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технике маховых движений ног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согласованию разбега с отталкиванием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усвоению знаний учащихся о ритме разбега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ствовать воспитанию смелости и реши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260280" y="4500720"/>
            <a:ext cx="244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сто проведе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2681280" y="5292720"/>
            <a:ext cx="41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часов 00 минут – 9 часов 40 мин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2708280" y="4500720"/>
            <a:ext cx="1944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з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260280" y="529272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ремя провед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2492280" y="6227640"/>
            <a:ext cx="46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 матов, 2 резиновых эспандера, м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260280" y="6300720"/>
            <a:ext cx="2421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нвентар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одзаголовок 2"/>
          <p:cNvSpPr/>
          <p:nvPr/>
        </p:nvSpPr>
        <p:spPr>
          <a:xfrm>
            <a:off x="189000" y="7524720"/>
            <a:ext cx="4800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рок проводит: Башнин Н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ительная част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Program Files (x86)\Microsoft Office\MEDIA\CAGCAT10\j0234131.wmf"/>
          <p:cNvPicPr/>
          <p:nvPr/>
        </p:nvPicPr>
        <p:blipFill>
          <a:blip r:embed="rId1"/>
          <a:stretch/>
        </p:blipFill>
        <p:spPr>
          <a:xfrm>
            <a:off x="765000" y="3419640"/>
            <a:ext cx="243684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789360" y="4572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2 мину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4280" y="-360"/>
            <a:ext cx="6172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тельная часть урока 12 ми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33000" y="1186920"/>
            <a:ext cx="2303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е зада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одержимое 2"/>
          <p:cNvSpPr/>
          <p:nvPr/>
        </p:nvSpPr>
        <p:spPr>
          <a:xfrm>
            <a:off x="333360" y="255600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тери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260280" y="529272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зиро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260280" y="6875640"/>
            <a:ext cx="2737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етодически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каз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2997360" y="118728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ть начальную организацию и психологическую готовность учащихся к уро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68640" y="2627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роение класса в одну шеренгу. Обмен приветств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284640" y="543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-2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2997360" y="68756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от учащихся согласованности действий, быстроты построения и четкости выполнения кома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2997360" y="1116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целевую установку на формирование конкретных результатов предстоящей в уроке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3068640" y="2700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ение задач урока учащим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3284640" y="543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-2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2997360" y="680400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ть предельную конкретность задач урока, доступность понимания их формулиров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2997360" y="1116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активизации внимания и организованности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3068640" y="2627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на 1-4 с последующим выполнением 4,3,2 шагов впер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8"/>
          <p:cNvSpPr/>
          <p:nvPr/>
        </p:nvSpPr>
        <p:spPr>
          <a:xfrm>
            <a:off x="3284640" y="5435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-4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2997360" y="11872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общему разогреванию и постепенному втягиванию организма в рабо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1"/>
          <p:cNvSpPr/>
          <p:nvPr/>
        </p:nvSpPr>
        <p:spPr>
          <a:xfrm>
            <a:off x="3068640" y="262728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– основная сто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руки вверх в замок над гол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встать на нос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потяну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3284640" y="5435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-5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2997360" y="6875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яется под счет по команде учителя. Счет можно заменить словами «выше», «потянутьс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2924280" y="1116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увеличению эластичности мышечной ткани, подвижности в сустав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3068640" y="2627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временное вращение руками наз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3213000" y="543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-20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2924280" y="6804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тить внимание на прямые, расслабленные руки. Прямое положение тулов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2997360" y="2627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Руки подняты вверх. Разноименные вращения ру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9"/>
          <p:cNvSpPr/>
          <p:nvPr/>
        </p:nvSpPr>
        <p:spPr>
          <a:xfrm>
            <a:off x="3213000" y="5435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10 раз в каждую стор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1"/>
          <p:cNvSpPr/>
          <p:nvPr/>
        </p:nvSpPr>
        <p:spPr>
          <a:xfrm>
            <a:off x="3041640" y="2627280"/>
            <a:ext cx="341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Основная стой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упор прис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упор ле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упор прис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3284640" y="5435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-8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3"/>
          <p:cNvSpPr/>
          <p:nvPr/>
        </p:nvSpPr>
        <p:spPr>
          <a:xfrm>
            <a:off x="2924280" y="6804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точность соответствия движений счету учителя. Постоянно увеличивать темп сч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4"/>
          <p:cNvSpPr/>
          <p:nvPr/>
        </p:nvSpPr>
        <p:spPr>
          <a:xfrm>
            <a:off x="3068640" y="262728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Сидя на полу. Стопы на ширине пле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наклон к правой ног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наклон между ног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наклон к левой н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5"/>
          <p:cNvSpPr/>
          <p:nvPr/>
        </p:nvSpPr>
        <p:spPr>
          <a:xfrm>
            <a:off x="3213000" y="5435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-10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6"/>
          <p:cNvSpPr/>
          <p:nvPr/>
        </p:nvSpPr>
        <p:spPr>
          <a:xfrm>
            <a:off x="2997360" y="6804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допускать сгибания ног в коленном суста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7"/>
          <p:cNvSpPr/>
          <p:nvPr/>
        </p:nvSpPr>
        <p:spPr>
          <a:xfrm>
            <a:off x="3068640" y="262728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основная стой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2,3 –  прыжки на ме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прыжок с поворотом на 3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8"/>
          <p:cNvSpPr/>
          <p:nvPr/>
        </p:nvSpPr>
        <p:spPr>
          <a:xfrm>
            <a:off x="3284640" y="5435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-10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9"/>
          <p:cNvSpPr/>
          <p:nvPr/>
        </p:nvSpPr>
        <p:spPr>
          <a:xfrm>
            <a:off x="2997360" y="6804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выполнения поворота на 360 в разном направле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0"/>
          <p:cNvSpPr/>
          <p:nvPr/>
        </p:nvSpPr>
        <p:spPr>
          <a:xfrm>
            <a:off x="3068640" y="2627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строение в шеренгу, выполняя 4,3,2 шага наз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2"/>
          <p:cNvSpPr/>
          <p:nvPr/>
        </p:nvSpPr>
        <p:spPr>
          <a:xfrm>
            <a:off x="3068640" y="270036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шеренгу по одному на нос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3"/>
          <p:cNvSpPr/>
          <p:nvPr/>
        </p:nvSpPr>
        <p:spPr>
          <a:xfrm>
            <a:off x="3284640" y="5435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-6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4"/>
          <p:cNvSpPr/>
          <p:nvPr/>
        </p:nvSpPr>
        <p:spPr>
          <a:xfrm>
            <a:off x="2997360" y="687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жать руки на поя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5"/>
          <p:cNvSpPr/>
          <p:nvPr/>
        </p:nvSpPr>
        <p:spPr>
          <a:xfrm>
            <a:off x="2997360" y="2627280"/>
            <a:ext cx="36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колонну по одному на внутренней стороне сто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6"/>
          <p:cNvSpPr/>
          <p:nvPr/>
        </p:nvSpPr>
        <p:spPr>
          <a:xfrm>
            <a:off x="3068640" y="2700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колонну по одному на внешней стороне сто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7"/>
          <p:cNvSpPr/>
          <p:nvPr/>
        </p:nvSpPr>
        <p:spPr>
          <a:xfrm>
            <a:off x="3141720" y="2700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колонну по одному в глубоком се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8"/>
          <p:cNvSpPr/>
          <p:nvPr/>
        </p:nvSpPr>
        <p:spPr>
          <a:xfrm>
            <a:off x="3284640" y="5435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-10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9"/>
          <p:cNvSpPr/>
          <p:nvPr/>
        </p:nvSpPr>
        <p:spPr>
          <a:xfrm>
            <a:off x="3068640" y="6875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жать руки за гол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0"/>
          <p:cNvSpPr/>
          <p:nvPr/>
        </p:nvSpPr>
        <p:spPr>
          <a:xfrm>
            <a:off x="3068640" y="2700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ыжки на левой ноге с захватом рукой голеностопа правой н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авой с захватом рукой голеностопа левой н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1"/>
          <p:cNvSpPr/>
          <p:nvPr/>
        </p:nvSpPr>
        <p:spPr>
          <a:xfrm>
            <a:off x="3213000" y="5364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8-10 прыжков на каждой н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2"/>
          <p:cNvSpPr/>
          <p:nvPr/>
        </p:nvSpPr>
        <p:spPr>
          <a:xfrm>
            <a:off x="2997360" y="6804000"/>
            <a:ext cx="27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держать туловище прямым, не сгибать ногу, захваченную за голеностоп в тазобедренном суста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3"/>
          <p:cNvSpPr/>
          <p:nvPr/>
        </p:nvSpPr>
        <p:spPr>
          <a:xfrm>
            <a:off x="3141720" y="270036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г переставными шагами (правое, левое плечо впере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4"/>
          <p:cNvSpPr/>
          <p:nvPr/>
        </p:nvSpPr>
        <p:spPr>
          <a:xfrm>
            <a:off x="3284640" y="5435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55"/>
          <p:cNvSpPr/>
          <p:nvPr/>
        </p:nvSpPr>
        <p:spPr>
          <a:xfrm>
            <a:off x="2997360" y="687564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анды поворота плеча даются через каждые два переставных ша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56"/>
          <p:cNvSpPr/>
          <p:nvPr/>
        </p:nvSpPr>
        <p:spPr>
          <a:xfrm>
            <a:off x="3068640" y="2627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г спиной впер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7"/>
          <p:cNvSpPr/>
          <p:nvPr/>
        </p:nvSpPr>
        <p:spPr>
          <a:xfrm>
            <a:off x="3284640" y="5435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8"/>
          <p:cNvSpPr/>
          <p:nvPr/>
        </p:nvSpPr>
        <p:spPr>
          <a:xfrm>
            <a:off x="2997360" y="6875640"/>
            <a:ext cx="27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центировать внимание учащихся на дистанции. Повернуть голову налево или направо, вытянуть руки впер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9"/>
          <p:cNvSpPr/>
          <p:nvPr/>
        </p:nvSpPr>
        <p:spPr>
          <a:xfrm>
            <a:off x="3068640" y="2627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г трусц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0"/>
          <p:cNvSpPr/>
          <p:nvPr/>
        </p:nvSpPr>
        <p:spPr>
          <a:xfrm>
            <a:off x="3284640" y="5435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1"/>
          <p:cNvSpPr/>
          <p:nvPr/>
        </p:nvSpPr>
        <p:spPr>
          <a:xfrm>
            <a:off x="2924280" y="104292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восстановлению ритма дыхания до равномерного. Организовать учащихся для выполнения основной част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2"/>
          <p:cNvSpPr/>
          <p:nvPr/>
        </p:nvSpPr>
        <p:spPr>
          <a:xfrm>
            <a:off x="3068640" y="2700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на ме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3"/>
          <p:cNvSpPr/>
          <p:nvPr/>
        </p:nvSpPr>
        <p:spPr>
          <a:xfrm>
            <a:off x="3284640" y="5435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4"/>
          <p:cNvSpPr/>
          <p:nvPr/>
        </p:nvSpPr>
        <p:spPr>
          <a:xfrm>
            <a:off x="2997360" y="687564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выполнения учащимися шага в ногу. Помогать голос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част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Program Files (x86)\Microsoft Office\MEDIA\CAGCAT10\j0234131.wmf"/>
          <p:cNvPicPr/>
          <p:nvPr/>
        </p:nvPicPr>
        <p:blipFill>
          <a:blip r:embed="rId1"/>
          <a:stretch/>
        </p:blipFill>
        <p:spPr>
          <a:xfrm>
            <a:off x="692280" y="3492360"/>
            <a:ext cx="2506680" cy="2664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3645000" y="4643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0 мину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3000" y="250560"/>
            <a:ext cx="6172200" cy="3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часть урока (20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33000" y="1042560"/>
            <a:ext cx="2303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е зада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одержимое 2"/>
          <p:cNvSpPr/>
          <p:nvPr/>
        </p:nvSpPr>
        <p:spPr>
          <a:xfrm>
            <a:off x="333360" y="262728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тери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одержимое 2"/>
          <p:cNvSpPr/>
          <p:nvPr/>
        </p:nvSpPr>
        <p:spPr>
          <a:xfrm>
            <a:off x="260280" y="507672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зиро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одержимое 2"/>
          <p:cNvSpPr/>
          <p:nvPr/>
        </p:nvSpPr>
        <p:spPr>
          <a:xfrm>
            <a:off x="260280" y="6443640"/>
            <a:ext cx="2737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етодически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каз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2565360" y="104292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редставление о существующих способах прыжков в высоту, используемых в мировой практи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565360" y="313200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одится в форме бес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2492280" y="104292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отталкиванию синхронным движением маховой ноги и рук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2610000" y="248436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Выпад левой ногой вперед. Руки согнуты в локтевом суста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» предварительная коман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мах правой ногой вверх с синхронным толчком ле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приземление на левую толчковую ногу. (Для левши зеркальное отображ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708280" y="5076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-8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2637000" y="5940360"/>
            <a:ext cx="39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центировать внимание на подъеме стопы маховой ноги до уровня плечевого пояса, с одновременным вытягиванием кистей рук к стопе маховой ноги. Требовать приземления на толчковую ногу в тоже место, с которого произошло отталкивание. Обратить внимание на работу стопы (перекат с пятки на носо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2565360" y="1042920"/>
            <a:ext cx="32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маху левой толчковой ногой с приземлением на правую маховую но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2708280" y="2484360"/>
            <a:ext cx="414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Выпад левой ногой вперед. Руки согнуты в локтевых сустав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» предварительная коман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мах правой ногой ввер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мах левой ногой вверх в безопорной фа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приземление на правую маховую но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708280" y="5076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-8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2708280" y="6012000"/>
            <a:ext cx="386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центировать внимание на подъеме стопы левой толчковой ноги до уровня плечевого пояса. Требовать тянуться кистями рук к стопам ног при мах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2492280" y="1042920"/>
            <a:ext cx="386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согласованию разбега с отталкиванием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2708280" y="2843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чные прыжки через резиновый эспандер с двух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2708280" y="6372360"/>
            <a:ext cx="414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 делятся на две группы (мальчики и девочки). Прыжок осуществляется по команде учителя по одному человеку из каждой группы учащихся. Высота препятствия для девочек 50-60 см, мальчиков – 60-70 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708280" y="2843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чные прыжки через резиновый эспандер с трех-четырех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2637000" y="6012000"/>
            <a:ext cx="422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мелом на полу отмечает оптимальное место отталкивания. Показывает методику отсчета шагов и предлагает это повторить учащимся. Учащимся предлагается при выполнении прыжка вслух считать свои шаги, ускоряя при этом темп сч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ительная част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Program Files (x86)\Microsoft Office\MEDIA\CAGCAT10\j0234131.wmf"/>
          <p:cNvPicPr/>
          <p:nvPr/>
        </p:nvPicPr>
        <p:blipFill>
          <a:blip r:embed="rId1"/>
          <a:stretch/>
        </p:blipFill>
        <p:spPr>
          <a:xfrm>
            <a:off x="692280" y="3564000"/>
            <a:ext cx="2376360" cy="2527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3645000" y="45720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 мину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лючительная часть урока (8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3000" y="1042560"/>
            <a:ext cx="2303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е зада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333360" y="262728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тери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одержимое 2"/>
          <p:cNvSpPr/>
          <p:nvPr/>
        </p:nvSpPr>
        <p:spPr>
          <a:xfrm>
            <a:off x="260280" y="507672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зиро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одержимое 2"/>
          <p:cNvSpPr/>
          <p:nvPr/>
        </p:nvSpPr>
        <p:spPr>
          <a:xfrm>
            <a:off x="260280" y="6443640"/>
            <a:ext cx="2737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етодически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каз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2276640" y="1116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овать внимание учащихся и настроить их на предстоящую учебную рабо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2492280" y="3059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а «третий лишни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2781360" y="6588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ть тактические приемы иг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2276640" y="10429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ть осмысление учащимися результативности собственной учебно-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492280" y="270036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едение итогов урока. Оценка степени решения задач. Выделение лучших и выставление оценок за у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2781360" y="6227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ть учащихся к самоанализу результативности собственной деятельности на уро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MP900424433.JPG"/>
          <p:cNvPicPr/>
          <p:nvPr/>
        </p:nvPicPr>
        <p:blipFill>
          <a:blip r:embed="rId1"/>
          <a:stretch/>
        </p:blipFill>
        <p:spPr>
          <a:xfrm>
            <a:off x="333360" y="1619280"/>
            <a:ext cx="6039000" cy="6033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5:58:30Z</dcterms:created>
  <dc:creator>Коля и Оля</dc:creator>
  <dc:description/>
  <dc:language>en-US</dc:language>
  <cp:lastModifiedBy>Коля и Оля</cp:lastModifiedBy>
  <dcterms:modified xsi:type="dcterms:W3CDTF">2011-11-08T16:23:13Z</dcterms:modified>
  <cp:revision>32</cp:revision>
  <dc:subject/>
  <dc:title>Научить технике маховых движений ног при прыжке в высоту способом «перешагивание»</dc:title>
</cp:coreProperties>
</file>