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A5C-7B76-496E-B0AA-5FC05CEA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EEA-2CDA-4E86-A60A-E195DF4A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6F3-E19A-4097-AECB-3278AC2C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779-5CA4-428D-8BA7-988A62CC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BA5-7785-4287-BF92-E4760A9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0B5-ABCE-455F-A6D5-3AE998B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C7D-095B-4CC0-B551-AD1F1D51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74E-EBED-4B18-AB1D-44ECCE4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A4C-59E3-4D01-96D1-9FF933A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802-91BB-4143-A83A-29E5A63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6C6-F8AE-4F5C-8B2C-9AE7265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201-D857-4FA7-B952-0DEAF819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D50-6468-4B02-AF6C-E5231EAAE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MP900177743.JPG"/>
          <p:cNvPicPr/>
          <p:nvPr/>
        </p:nvPicPr>
        <p:blipFill>
          <a:blip r:embed="rId1"/>
          <a:stretch/>
        </p:blipFill>
        <p:spPr>
          <a:xfrm>
            <a:off x="1600200" y="393228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Заголовок 1"/>
          <p:cNvSpPr/>
          <p:nvPr/>
        </p:nvSpPr>
        <p:spPr>
          <a:xfrm>
            <a:off x="404640" y="183528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а физической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8317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7.10.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437000" y="838836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685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Прыжок в высоту способом «перешагиван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0280" y="1476360"/>
            <a:ext cx="2448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260280" y="2195640"/>
            <a:ext cx="626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технике маховых движений ног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своению знаний учащихся о ритме разбега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овать воспитанию смелости и реши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60280" y="4500720"/>
            <a:ext cx="244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сто проведени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681280" y="5292720"/>
            <a:ext cx="41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часов 00 минут – 9 часов 40 мин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2708280" y="4500720"/>
            <a:ext cx="1944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з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260280" y="529272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ремя провед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2492280" y="6227640"/>
            <a:ext cx="46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матов, 2 резиновых эспандера, м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260280" y="6300720"/>
            <a:ext cx="242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вентар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189000" y="7524720"/>
            <a:ext cx="480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рок проводит: Башнин Н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765000" y="341964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789360" y="4572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2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61722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тельная часть урока 12 мин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3000" y="118692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одержимое 2"/>
          <p:cNvSpPr/>
          <p:nvPr/>
        </p:nvSpPr>
        <p:spPr>
          <a:xfrm>
            <a:off x="333360" y="255600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260280" y="5292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одержимое 2"/>
          <p:cNvSpPr/>
          <p:nvPr/>
        </p:nvSpPr>
        <p:spPr>
          <a:xfrm>
            <a:off x="260280" y="6875640"/>
            <a:ext cx="2737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997360" y="118728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начальную организацию и психологическую готовность учащихся к у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68640" y="2627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ение класса в одну шеренгу. Обмен приветств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997360" y="68756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от учащихся согласованности действий, быстроты построения и четкости выполнения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2997360" y="1116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целевую установку на формирование конкретных результатов предстоящей в уроке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3068640" y="2700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бщение задач урока учащим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328464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-2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2997360" y="680400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предельную конкретность задач урока, доступность понимания их формулиров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2997360" y="111600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активизации внимания и организованности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306864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чет на 1-4 с последующим выполнением 4,3,2 шагов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3284640" y="5435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-4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2997360" y="118728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общему разогреванию и постепенному втягиванию организма в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3068640" y="262728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– основная сто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руки вверх в замок над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встать на нос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отяну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284640" y="5435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-5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2997360" y="6875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ется под счет по команде учителя. Счет можно заменить словами «выше», «потянутьс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2924280" y="1116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увеличению эластичности мышечной ткани, подвижности в сустав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3068640" y="2627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временное вращение руками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3213000" y="543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-2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2924280" y="6804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тить внимание на прямые, расслабленные руки. Прямое положение тулов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2997360" y="2627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Руки подняты вверх. Разноименные вращения ру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3213000" y="5435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10 раз в каждую стор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3041640" y="2627280"/>
            <a:ext cx="341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упор 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упор прис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3284640" y="5435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2924280" y="68040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точность соответствия движений счету учителя. Постоянно увеличивать темп сч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3068640" y="26272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Сидя на полу. Стопы на ширине пле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наклон к правой но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наклон между ног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наклон к лев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И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3213000" y="5435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2997360" y="6804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пускать сгибания ног в кол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7"/>
          <p:cNvSpPr/>
          <p:nvPr/>
        </p:nvSpPr>
        <p:spPr>
          <a:xfrm>
            <a:off x="3068640" y="262728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основная сто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2,3 –  прыжки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– прыжок с поворотом на 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8"/>
          <p:cNvSpPr/>
          <p:nvPr/>
        </p:nvSpPr>
        <p:spPr>
          <a:xfrm>
            <a:off x="3284640" y="5435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9"/>
          <p:cNvSpPr/>
          <p:nvPr/>
        </p:nvSpPr>
        <p:spPr>
          <a:xfrm>
            <a:off x="2997360" y="6804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поворота на 360 в разном направл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0"/>
          <p:cNvSpPr/>
          <p:nvPr/>
        </p:nvSpPr>
        <p:spPr>
          <a:xfrm>
            <a:off x="3068640" y="2627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строение в шеренгу, выполняя 4,3,2 шага 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2"/>
          <p:cNvSpPr/>
          <p:nvPr/>
        </p:nvSpPr>
        <p:spPr>
          <a:xfrm>
            <a:off x="3068640" y="270036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шеренгу по одному на нос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3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-6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4"/>
          <p:cNvSpPr/>
          <p:nvPr/>
        </p:nvSpPr>
        <p:spPr>
          <a:xfrm>
            <a:off x="2997360" y="6875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на поя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5"/>
          <p:cNvSpPr/>
          <p:nvPr/>
        </p:nvSpPr>
        <p:spPr>
          <a:xfrm>
            <a:off x="2997360" y="2627280"/>
            <a:ext cx="36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утрен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6"/>
          <p:cNvSpPr/>
          <p:nvPr/>
        </p:nvSpPr>
        <p:spPr>
          <a:xfrm>
            <a:off x="3068640" y="2700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на внешней стороне стоп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7"/>
          <p:cNvSpPr/>
          <p:nvPr/>
        </p:nvSpPr>
        <p:spPr>
          <a:xfrm>
            <a:off x="3141720" y="2700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в обход зала в колонну по одному в глубоком с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8"/>
          <p:cNvSpPr/>
          <p:nvPr/>
        </p:nvSpPr>
        <p:spPr>
          <a:xfrm>
            <a:off x="3284640" y="5435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-10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9"/>
          <p:cNvSpPr/>
          <p:nvPr/>
        </p:nvSpPr>
        <p:spPr>
          <a:xfrm>
            <a:off x="3068640" y="6875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ржать руки за гол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0"/>
          <p:cNvSpPr/>
          <p:nvPr/>
        </p:nvSpPr>
        <p:spPr>
          <a:xfrm>
            <a:off x="3068640" y="2700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ыжки на левой ноге с захватом рукой голеностопа пра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авой с захватом рукой голеностопа левой н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1"/>
          <p:cNvSpPr/>
          <p:nvPr/>
        </p:nvSpPr>
        <p:spPr>
          <a:xfrm>
            <a:off x="3213000" y="5364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8-10 прыжков на каждой н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2"/>
          <p:cNvSpPr/>
          <p:nvPr/>
        </p:nvSpPr>
        <p:spPr>
          <a:xfrm>
            <a:off x="2997360" y="6804000"/>
            <a:ext cx="27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держать туловище прямым, не сгибать ногу, захваченную за голеностоп в тазобедренном суста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3141720" y="2700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переставными шагами (правое, левое плечо впере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5"/>
          <p:cNvSpPr/>
          <p:nvPr/>
        </p:nvSpPr>
        <p:spPr>
          <a:xfrm>
            <a:off x="2997360" y="687564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анды поворота плеча даются через каждые два переставных ша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3068640" y="2627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спиной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8"/>
          <p:cNvSpPr/>
          <p:nvPr/>
        </p:nvSpPr>
        <p:spPr>
          <a:xfrm>
            <a:off x="2997360" y="6875640"/>
            <a:ext cx="273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учащихся на дистанции. Повернуть голову налево или направо, вытянуть руки впере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9"/>
          <p:cNvSpPr/>
          <p:nvPr/>
        </p:nvSpPr>
        <p:spPr>
          <a:xfrm>
            <a:off x="3068640" y="2627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г трусц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0"/>
          <p:cNvSpPr/>
          <p:nvPr/>
        </p:nvSpPr>
        <p:spPr>
          <a:xfrm>
            <a:off x="3284640" y="5435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1"/>
          <p:cNvSpPr/>
          <p:nvPr/>
        </p:nvSpPr>
        <p:spPr>
          <a:xfrm>
            <a:off x="2924280" y="104292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овать восстановлению ритма дыхания до равномерного. Организовать учащихся для выполнения основной част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2"/>
          <p:cNvSpPr/>
          <p:nvPr/>
        </p:nvSpPr>
        <p:spPr>
          <a:xfrm>
            <a:off x="3068640" y="2700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ьба на мес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3"/>
          <p:cNvSpPr/>
          <p:nvPr/>
        </p:nvSpPr>
        <p:spPr>
          <a:xfrm>
            <a:off x="3284640" y="5435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 секу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4"/>
          <p:cNvSpPr/>
          <p:nvPr/>
        </p:nvSpPr>
        <p:spPr>
          <a:xfrm>
            <a:off x="2997360" y="687564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овать выполнения учащимися шага в ногу. Помогать голос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492360"/>
            <a:ext cx="2506680" cy="2664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645000" y="4643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мину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3000" y="250560"/>
            <a:ext cx="61722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я часть урока (2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565360" y="104292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редставление о существующих способах прыжков в высоту, используемых в мировой прак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565360" y="3132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ится в форме бес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2492280" y="104292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отталкиванию синхронным движением маховой ноги и рук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2610000" y="248436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ом суста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 с синхронным толчком лев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приземление на левую толчковую ногу. (Для левши зеркальное отображен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708280" y="5076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637000" y="5940360"/>
            <a:ext cx="39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маховой ноги до уровня плечевого пояса, с одновременным вытягиванием кистей рук к стопе маховой ноги. Требовать приземления на толчковую ногу в тоже место, с которого произошло отталкивание. Обратить внимание на работу стопы (перекат с пятки на носо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2565360" y="1042920"/>
            <a:ext cx="32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маху левой толчковой ногой с приземлением на правую маховую н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708280" y="2484360"/>
            <a:ext cx="414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П. Выпад левой ногой вперед. Руки согнуты в локтевых суста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и» предварительная кома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мах правой ногой ввер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мах левой ногой вверх в безопорной ф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– приземление на правую маховую н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708280" y="5076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-8 ра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708280" y="6012000"/>
            <a:ext cx="386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центировать внимание на подъеме стопы левой толчковой ноги до уровня плечевого пояса. Требовать тянуться кистями рук к стопам ног при мах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492280" y="1042920"/>
            <a:ext cx="386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 согласованию разбега с отталкиванием при прыжке в высоту способом «перешагивани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708280" y="2843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дву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2708280" y="6372360"/>
            <a:ext cx="41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еся делятся на две группы (мальчики и девочки). Прыжок осуществляется по команде учителя по одному человеку из каждой группы учащихся. Высота препятствия для девочек 50-60 см, мальчиков – 60-70 с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708280" y="2843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очные прыжки через резиновый эспандер с трех-четырех ша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2637000" y="6012000"/>
            <a:ext cx="422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мелом на полу отмечает оптимальное место отталкивания. Показывает методику отсчета шагов и предлагает это повторить учащимся. Учащимся предлагается при выполнении прыжка вслух считать свои шаги, ускоряя при этом темп с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ительная част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Program Files (x86)\Microsoft Office\MEDIA\CAGCAT10\j0234131.wmf"/>
          <p:cNvPicPr/>
          <p:nvPr/>
        </p:nvPicPr>
        <p:blipFill>
          <a:blip r:embed="rId1"/>
          <a:stretch/>
        </p:blipFill>
        <p:spPr>
          <a:xfrm>
            <a:off x="692280" y="3564000"/>
            <a:ext cx="2376360" cy="2527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645000" y="4572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мину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лючительная часть урока 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3000" y="1042560"/>
            <a:ext cx="2303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е задач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Содержимое 2"/>
          <p:cNvSpPr/>
          <p:nvPr/>
        </p:nvSpPr>
        <p:spPr>
          <a:xfrm>
            <a:off x="333360" y="2627280"/>
            <a:ext cx="2374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б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тери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одержимое 2"/>
          <p:cNvSpPr/>
          <p:nvPr/>
        </p:nvSpPr>
        <p:spPr>
          <a:xfrm>
            <a:off x="260280" y="507672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зиро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одержимое 2"/>
          <p:cNvSpPr/>
          <p:nvPr/>
        </p:nvSpPr>
        <p:spPr>
          <a:xfrm>
            <a:off x="260280" y="6443640"/>
            <a:ext cx="273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рганизацион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етодически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аз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2276640" y="1116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ть внимание учащихся и настроить их на предстоящую учебную рабо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492280" y="3059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«третий лишн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781360" y="6588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тактические приемы иг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2276640" y="10429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осмысление учащимися результативности собственной учебно-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492280" y="2700360"/>
            <a:ext cx="30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ведение итогов урока. Оценка степени решения задач. Выделение лучших и выставление оценок за ур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781360" y="6227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имулировать учащихся к самоанализу результативности собственной 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MP900424433.JPG"/>
          <p:cNvPicPr/>
          <p:nvPr/>
        </p:nvPicPr>
        <p:blipFill>
          <a:blip r:embed="rId1"/>
          <a:stretch/>
        </p:blipFill>
        <p:spPr>
          <a:xfrm>
            <a:off x="333360" y="1619280"/>
            <a:ext cx="6039000" cy="6033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5:58:30Z</dcterms:created>
  <dc:creator>Коля и Оля</dc:creator>
  <dc:description/>
  <dc:language>en-US</dc:language>
  <cp:lastModifiedBy>Коля и Оля</cp:lastModifiedBy>
  <dcterms:modified xsi:type="dcterms:W3CDTF">2011-11-08T16:23:13Z</dcterms:modified>
  <cp:revision>32</cp:revision>
  <dc:subject/>
  <dc:title>Научить технике маховых движений ног при прыжке в высоту способом «перешагивание»</dc:title>
</cp:coreProperties>
</file>