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564-37A2-4384-8BAF-D2E34DA5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11A-0BF6-4FE7-A092-84E07FDF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DBB-6F4D-4C85-A22B-D0EDDEE2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6EC-5803-4044-9C58-23781045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675-BFF9-45D8-80AE-47198076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F11-4D06-4D8A-B378-EB17C27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1F5-9A63-4DC3-A9AC-F71AF3A3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FCA-5231-400B-BF58-A85F9B1B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D06-8026-4D77-B919-F5717CEB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298-B7DE-469B-A401-E76F4D8B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73F-F22E-43D4-B248-FA52178E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632-02D2-4D89-B916-B40AF203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514-8208-4E92-AE14-A78BA7D69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MP900177743.JPG"/>
          <p:cNvPicPr/>
          <p:nvPr/>
        </p:nvPicPr>
        <p:blipFill>
          <a:blip r:embed="rId1"/>
          <a:stretch/>
        </p:blipFill>
        <p:spPr>
          <a:xfrm>
            <a:off x="1600200" y="393228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404640" y="183528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а физической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8317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7.10.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437000" y="838836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6858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Прыжок в высоту способом «перешагива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0280" y="1476360"/>
            <a:ext cx="2448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260280" y="2195640"/>
            <a:ext cx="626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технике маховых движений ног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согласованию разбега с отталкиванием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усвоению знаний учащихся о ритме разбега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овать воспитанию смелости и реши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60280" y="4500720"/>
            <a:ext cx="244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сто провед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681280" y="5292720"/>
            <a:ext cx="41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часов 00 минут – 9 часов 40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2708280" y="4500720"/>
            <a:ext cx="1944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з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260280" y="529272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ремя прове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2492280" y="6227640"/>
            <a:ext cx="46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матов, 2 резиновых эспандера, м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260280" y="6300720"/>
            <a:ext cx="242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вентар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189000" y="7524720"/>
            <a:ext cx="4800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рок проводит: Башнин Н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765000" y="3419640"/>
            <a:ext cx="243684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789360" y="4572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2 мин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-360"/>
            <a:ext cx="6172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тельная часть урока 12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3000" y="118692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333360" y="255600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260280" y="5292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260280" y="6875640"/>
            <a:ext cx="2737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997360" y="118728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начальную организацию и психологическую готовность учащихся к у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68640" y="2627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ение класса в одну шеренгу. Обмен приветств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28464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997360" y="68756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от учащихся согласованности действий, быстроты построения и четкости выполнения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2997360" y="1116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целевую установку на формирование конкретных результатов предстоящей в урок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068640" y="2700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ение задач урока учащим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328464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2997360" y="680400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предельную конкретность задач урока, доступность понимания их формулиров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2997360" y="1116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активизации внимания и организованности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3068640" y="2627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на 1-4 с последующим выполнением 4,3,2 шагов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3284640" y="5435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-4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2997360" y="1187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общему разогреванию и постепенному втягиванию организма в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3068640" y="262728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– основная сто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руки вверх в замок над гол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встать на нос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отяну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284640" y="5435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-5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2997360" y="6875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яется под счет по команде учителя. Счет можно заменить словами «выше», «потянутьс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2924280" y="1116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увеличению эластичности мышечной ткани, подвижности в сустав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3068640" y="2627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временное вращение руками 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321300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-2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2924280" y="6804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тить внимание на прямые, расслабленные руки. Прямое положение тулов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2997360" y="2627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Руки подняты вверх. Разноименные вращения ру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9"/>
          <p:cNvSpPr/>
          <p:nvPr/>
        </p:nvSpPr>
        <p:spPr>
          <a:xfrm>
            <a:off x="3213000" y="5435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10 раз в каждую стор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1"/>
          <p:cNvSpPr/>
          <p:nvPr/>
        </p:nvSpPr>
        <p:spPr>
          <a:xfrm>
            <a:off x="3041640" y="2627280"/>
            <a:ext cx="341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Основная сто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упор прис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упор л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упор прис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3284640" y="5435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3"/>
          <p:cNvSpPr/>
          <p:nvPr/>
        </p:nvSpPr>
        <p:spPr>
          <a:xfrm>
            <a:off x="2924280" y="6804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точность соответствия движений счету учителя. Постоянно увеличивать темп сч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3068640" y="262728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Сидя на полу. Стопы на ширине пле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наклон к правой ног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наклон между но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наклон к левой н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3213000" y="5435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2997360" y="6804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опускать сгибания ног в коленном суста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7"/>
          <p:cNvSpPr/>
          <p:nvPr/>
        </p:nvSpPr>
        <p:spPr>
          <a:xfrm>
            <a:off x="3068640" y="2627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основная сто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2,3 –  прыжки на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прыжок с поворотом на 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8"/>
          <p:cNvSpPr/>
          <p:nvPr/>
        </p:nvSpPr>
        <p:spPr>
          <a:xfrm>
            <a:off x="3284640" y="5435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9"/>
          <p:cNvSpPr/>
          <p:nvPr/>
        </p:nvSpPr>
        <p:spPr>
          <a:xfrm>
            <a:off x="2997360" y="6804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выполнения поворота на 360 в разном направле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0"/>
          <p:cNvSpPr/>
          <p:nvPr/>
        </p:nvSpPr>
        <p:spPr>
          <a:xfrm>
            <a:off x="3068640" y="2627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роение в шеренгу, выполняя 4,3,2 шага 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2"/>
          <p:cNvSpPr/>
          <p:nvPr/>
        </p:nvSpPr>
        <p:spPr>
          <a:xfrm>
            <a:off x="3068640" y="270036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шеренгу по одному на нос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3"/>
          <p:cNvSpPr/>
          <p:nvPr/>
        </p:nvSpPr>
        <p:spPr>
          <a:xfrm>
            <a:off x="3284640" y="5435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-6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4"/>
          <p:cNvSpPr/>
          <p:nvPr/>
        </p:nvSpPr>
        <p:spPr>
          <a:xfrm>
            <a:off x="2997360" y="687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ь руки на поя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5"/>
          <p:cNvSpPr/>
          <p:nvPr/>
        </p:nvSpPr>
        <p:spPr>
          <a:xfrm>
            <a:off x="2997360" y="2627280"/>
            <a:ext cx="36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на внутренней стороне сто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6"/>
          <p:cNvSpPr/>
          <p:nvPr/>
        </p:nvSpPr>
        <p:spPr>
          <a:xfrm>
            <a:off x="3068640" y="2700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на внешней стороне сто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7"/>
          <p:cNvSpPr/>
          <p:nvPr/>
        </p:nvSpPr>
        <p:spPr>
          <a:xfrm>
            <a:off x="3141720" y="2700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в глубоком с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8"/>
          <p:cNvSpPr/>
          <p:nvPr/>
        </p:nvSpPr>
        <p:spPr>
          <a:xfrm>
            <a:off x="3284640" y="5435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9"/>
          <p:cNvSpPr/>
          <p:nvPr/>
        </p:nvSpPr>
        <p:spPr>
          <a:xfrm>
            <a:off x="3068640" y="6875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ь руки за гол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0"/>
          <p:cNvSpPr/>
          <p:nvPr/>
        </p:nvSpPr>
        <p:spPr>
          <a:xfrm>
            <a:off x="3068640" y="2700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ыжки на левой ноге с захватом рукой голеностопа правой н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авой с захватом рукой голеностопа левой н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1"/>
          <p:cNvSpPr/>
          <p:nvPr/>
        </p:nvSpPr>
        <p:spPr>
          <a:xfrm>
            <a:off x="3213000" y="5364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8-10 прыжков на каждой н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2"/>
          <p:cNvSpPr/>
          <p:nvPr/>
        </p:nvSpPr>
        <p:spPr>
          <a:xfrm>
            <a:off x="2997360" y="680400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держать туловище прямым, не сгибать ногу, захваченную за голеностоп в тазобедренном суста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3"/>
          <p:cNvSpPr/>
          <p:nvPr/>
        </p:nvSpPr>
        <p:spPr>
          <a:xfrm>
            <a:off x="3141720" y="2700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переставными шагами (правое, левое плечо впере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4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5"/>
          <p:cNvSpPr/>
          <p:nvPr/>
        </p:nvSpPr>
        <p:spPr>
          <a:xfrm>
            <a:off x="2997360" y="687564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анды поворота плеча даются через каждые два переставных ша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6"/>
          <p:cNvSpPr/>
          <p:nvPr/>
        </p:nvSpPr>
        <p:spPr>
          <a:xfrm>
            <a:off x="3068640" y="2627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спиной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7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8"/>
          <p:cNvSpPr/>
          <p:nvPr/>
        </p:nvSpPr>
        <p:spPr>
          <a:xfrm>
            <a:off x="2997360" y="6875640"/>
            <a:ext cx="27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учащихся на дистанции. Повернуть голову налево или направо, вытянуть руки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9"/>
          <p:cNvSpPr/>
          <p:nvPr/>
        </p:nvSpPr>
        <p:spPr>
          <a:xfrm>
            <a:off x="3068640" y="2627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трусц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0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1"/>
          <p:cNvSpPr/>
          <p:nvPr/>
        </p:nvSpPr>
        <p:spPr>
          <a:xfrm>
            <a:off x="2924280" y="104292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восстановлению ритма дыхания до равномерного. Организовать учащихся для выполнения основной част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2"/>
          <p:cNvSpPr/>
          <p:nvPr/>
        </p:nvSpPr>
        <p:spPr>
          <a:xfrm>
            <a:off x="3068640" y="2700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на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3"/>
          <p:cNvSpPr/>
          <p:nvPr/>
        </p:nvSpPr>
        <p:spPr>
          <a:xfrm>
            <a:off x="3284640" y="5435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4"/>
          <p:cNvSpPr/>
          <p:nvPr/>
        </p:nvSpPr>
        <p:spPr>
          <a:xfrm>
            <a:off x="2997360" y="6875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выполнения учащимися шага в ногу. Помогать голос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692280" y="3492360"/>
            <a:ext cx="2506680" cy="2664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3645000" y="4643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 мин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000" y="250560"/>
            <a:ext cx="61722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урока (20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33000" y="104256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333360" y="262728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260280" y="5076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260280" y="6443640"/>
            <a:ext cx="273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565360" y="10429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редставление о существующих способах прыжков в высоту, используемых в мировой практ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565360" y="313200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одится в форме бес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2492280" y="104292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отталкиванию синхронным движением маховой ноги и рук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610000" y="248436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Выпад левой ногой вперед. Руки согнуты в локтевом суста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» предварительная кома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мах правой ногой вверх с синхронным толчком ле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приземление на левую толчковую ногу. (Для левши зеркальное отобра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708280" y="5076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637000" y="594036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на подъеме стопы маховой ноги до уровня плечевого пояса, с одновременным вытягиванием кистей рук к стопе маховой ноги. Требовать приземления на толчковую ногу в тоже место, с которого произошло отталкивание. Обратить внимание на работу стопы (перекат с пятки на носо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2565360" y="1042920"/>
            <a:ext cx="32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маху левой толчковой ногой с приземлением на правую маховую н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708280" y="2484360"/>
            <a:ext cx="414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Выпад левой ногой вперед. Руки согнуты в локтевых суста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» предварительная кома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мах правой ногой ввер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мах левой ногой вверх в безопорной ф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риземление на правую маховую но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708280" y="5076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708280" y="6012000"/>
            <a:ext cx="386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на подъеме стопы левой толчковой ноги до уровня плечевого пояса. Требовать тянуться кистями рук к стопам ног при мах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492280" y="1042920"/>
            <a:ext cx="386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согласованию разбега с отталкиванием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2708280" y="2843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чные прыжки через резиновый эспандер с двух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2708280" y="6372360"/>
            <a:ext cx="414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 делятся на две группы (мальчики и девочки). Прыжок осуществляется по команде учителя по одному человеку из каждой группы учащихся. Высота препятствия для девочек 50-60 см, мальчиков – 60-70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708280" y="2843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чные прыжки через резиновый эспандер с трех-четырех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2637000" y="6012000"/>
            <a:ext cx="422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мелом на полу отмечает оптимальное место отталкивания. Показывает методику отсчета шагов и предлагает это повторить учащимся. Учащимся предлагается при выполнении прыжка вслух считать свои шаги, ускоряя при этом темп сч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итель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692280" y="3564000"/>
            <a:ext cx="2376360" cy="2527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645000" y="4572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лючительная часть урока (8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3000" y="104256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333360" y="262728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60280" y="5076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60280" y="6443640"/>
            <a:ext cx="273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2276640" y="1116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овать внимание учащихся и настроить их на предстоящую учебную рабо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492280" y="3059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 «третий лишн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781360" y="6588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тактические приемы иг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2276640" y="10429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осмысление учащимися результативности собственной учебно-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492280" y="270036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едение итогов урока. Оценка степени решения задач. Выделение лучших и выставление оценок за у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781360" y="6227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учащихся к самоанализу результативности собственной деятельности на уро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MP900424433.JPG"/>
          <p:cNvPicPr/>
          <p:nvPr/>
        </p:nvPicPr>
        <p:blipFill>
          <a:blip r:embed="rId1"/>
          <a:stretch/>
        </p:blipFill>
        <p:spPr>
          <a:xfrm>
            <a:off x="333360" y="1619280"/>
            <a:ext cx="6039000" cy="6033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58:30Z</dcterms:created>
  <dc:creator>Коля и Оля</dc:creator>
  <dc:description/>
  <dc:language>en-US</dc:language>
  <cp:lastModifiedBy>Коля и Оля</cp:lastModifiedBy>
  <dcterms:modified xsi:type="dcterms:W3CDTF">2011-11-08T16:23:13Z</dcterms:modified>
  <cp:revision>32</cp:revision>
  <dc:subject/>
  <dc:title>Научить технике маховых движений ног при прыжке в высоту способом «перешагивание»</dc:title>
</cp:coreProperties>
</file>