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8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A02-E5DD-40F1-8C3F-4A5CB49C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3C6-21CE-43C0-B1CC-8FAC36A6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E4B-7EC4-4830-A6DE-87EE8AD1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F61-DE65-435A-B9DF-5850CE4B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7BBFA-7BC3-46C1-873B-4CCBA400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6EC5D-5557-4849-9C4B-78ECF20A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A8AAB-E1D7-438F-B909-6167F60E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89C1B-65C7-4FCD-B7DA-F5D10F67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98061-AE37-4330-B72C-C8221A06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C636B-C138-485F-8691-2A1B90A4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92A73-E955-4353-B9BE-5A621E87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4F5-9AAB-4712-B136-5236484C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6C563-4DB3-42D8-A8B4-D408CB20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B1320-EEA7-4173-8AAF-B4D6D0A5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B4B72-B6EE-4388-B792-3134FD15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71FD9-C963-4FE9-ABA2-44506197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E1957-5F5E-4A0A-BA75-859A53E8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F40-DC31-43C8-A271-CD71A347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167-1495-4858-B3D6-4CC5DF4A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963-2736-4BA6-81AE-AFCB3AB1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752-C6D4-4C2E-A8BE-67EF1FBE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BE6-F341-4D62-B24E-2C71D07B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331-4DC7-4FF2-9D92-1ED1B49E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133-D431-42E5-874C-4AD56F9A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62F2-A231-425E-B35A-9949EB6EF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858B-80D5-448C-AFD8-0D6DAE749F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image" Target="../media/image14.wmf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5.xml"/><Relationship Id="rId3" Type="http://schemas.openxmlformats.org/officeDocument/2006/relationships/image" Target="../media/image15.wmf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9.xml"/><Relationship Id="rId3" Type="http://schemas.openxmlformats.org/officeDocument/2006/relationships/image" Target="../media/image15.wmf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2.xml"/><Relationship Id="rId3" Type="http://schemas.openxmlformats.org/officeDocument/2006/relationships/image" Target="../media/image15.wmf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2.xml"/><Relationship Id="rId3" Type="http://schemas.openxmlformats.org/officeDocument/2006/relationships/image" Target="../media/image14.wmf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5.xml"/><Relationship Id="rId3" Type="http://schemas.openxmlformats.org/officeDocument/2006/relationships/image" Target="../media/image15.wmf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5.xml"/><Relationship Id="rId3" Type="http://schemas.openxmlformats.org/officeDocument/2006/relationships/image" Target="../media/image14.wmf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8.xml"/><Relationship Id="rId3" Type="http://schemas.openxmlformats.org/officeDocument/2006/relationships/image" Target="../media/image15.wmf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2" descr="{91A2DD02-0019-46F9-93EC-7EFE2A72ABA4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380880" y="1143000"/>
            <a:ext cx="8153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Haettenschweiler"/>
              </a:rPr>
              <a:t>П Л А В А Н И 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Haettenschweiler"/>
              </a:rPr>
              <a:t>Т Е Л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72680" y="4572000"/>
            <a:ext cx="40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льчикова Людмила Михайл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МБОУ «Верхне Кубин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мёртвое море"/>
          <p:cNvPicPr/>
          <p:nvPr/>
        </p:nvPicPr>
        <p:blipFill>
          <a:blip r:embed="rId1"/>
          <a:stretch/>
        </p:blipFill>
        <p:spPr>
          <a:xfrm>
            <a:off x="0" y="0"/>
            <a:ext cx="9372600" cy="7018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3"/>
                </a:solidFill>
                <a:latin typeface="Tahoma"/>
              </a:rPr>
              <a:t>Мёртвое мо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838080" y="685800"/>
            <a:ext cx="7772400" cy="571500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3581280" cy="45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TextBox 3"/>
          <p:cNvSpPr/>
          <p:nvPr/>
        </p:nvSpPr>
        <p:spPr>
          <a:xfrm>
            <a:off x="5867280" y="1828800"/>
            <a:ext cx="2210040" cy="520560"/>
          </a:xfrm>
          <a:prstGeom prst="rect">
            <a:avLst/>
          </a:prstGeom>
          <a:gradFill rotWithShape="0">
            <a:gsLst>
              <a:gs pos="0">
                <a:srgbClr val="009800"/>
              </a:gs>
              <a:gs pos="100000">
                <a:srgbClr val="00cd00"/>
              </a:gs>
            </a:gsLst>
            <a:lin ang="16200000"/>
          </a:gradFill>
          <a:ln w="9360">
            <a:solidFill>
              <a:srgbClr val="00b3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нзи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867280" y="3276720"/>
            <a:ext cx="2210040" cy="947160"/>
          </a:xfrm>
          <a:prstGeom prst="rect">
            <a:avLst/>
          </a:prstGeom>
          <a:gradFill rotWithShape="0">
            <a:gsLst>
              <a:gs pos="0">
                <a:srgbClr val="009800"/>
              </a:gs>
              <a:gs pos="100000">
                <a:srgbClr val="00cd00"/>
              </a:gs>
            </a:gsLst>
            <a:lin ang="16200000"/>
          </a:gradFill>
          <a:ln w="9360">
            <a:solidFill>
              <a:srgbClr val="00b3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ло машин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791320" y="4952880"/>
            <a:ext cx="2209680" cy="520560"/>
          </a:xfrm>
          <a:prstGeom prst="rect">
            <a:avLst/>
          </a:prstGeom>
          <a:gradFill rotWithShape="0">
            <a:gsLst>
              <a:gs pos="0">
                <a:srgbClr val="009800"/>
              </a:gs>
              <a:gs pos="100000">
                <a:srgbClr val="00cd00"/>
              </a:gs>
            </a:gsLst>
            <a:lin ang="16200000"/>
          </a:gradFill>
          <a:ln w="9360">
            <a:solidFill>
              <a:srgbClr val="00b3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ё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6" descr="Green Sea Tur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верьте, хорошо ли усвоили новый материа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2bfe"/>
                </a:solidFill>
                <a:latin typeface="Tahoma"/>
              </a:rPr>
              <a:t>1.На какой шар, находящийся в жидкости, действует наибольшая Архимедова сил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 силы одинако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на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на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на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Рисунок 2" descr=""/>
          <p:cNvPicPr/>
          <p:nvPr/>
        </p:nvPicPr>
        <p:blipFill>
          <a:blip r:embed="rId6"/>
          <a:stretch/>
        </p:blipFill>
        <p:spPr>
          <a:xfrm>
            <a:off x="685800" y="144792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11240" y="123840"/>
            <a:ext cx="6913440" cy="6657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88000"/>
            <a:ext cx="822960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Ответ неверный, ещё  подума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800240"/>
            <a:ext cx="8229600" cy="18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2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4419720" cy="23796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685800" y="380880"/>
            <a:ext cx="8001000" cy="63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2. Один и тот же шарик поместили сначала в воду, потом в керосин. В какой жидкости на шарик будет действовать наибольшая выталкивающая сила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1)в керосине вообще не действует выталкивающая сила!</a:t>
            </a:r>
            <a:br>
              <a:rPr sz="24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2) силы одинаковые</a:t>
            </a:r>
            <a:br>
              <a:rPr sz="24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3) в воде</a:t>
            </a:r>
            <a:br>
              <a:rPr sz="24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4)в керосине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_x000b_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011240" y="0"/>
            <a:ext cx="6724800" cy="64771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>
            <a:off x="457200" y="5334120"/>
            <a:ext cx="8077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5105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088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3. В жидкости находятся три одинаковые по объёму тела. Сравните Архимедовы силы, действующие на эти т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 на 3 тело действует наибольшая выталкивающая с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 на 2 тело не действует Архимедова с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 на 1 тело действует наибольшая Архимедова с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 на все три тела действуют одинаковые Архимедовы си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Рисунок 2" descr=""/>
          <p:cNvPicPr/>
          <p:nvPr/>
        </p:nvPicPr>
        <p:blipFill>
          <a:blip r:embed="rId6"/>
          <a:stretch/>
        </p:blipFill>
        <p:spPr>
          <a:xfrm>
            <a:off x="838080" y="1523880"/>
            <a:ext cx="3886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айсберг"/>
          <p:cNvPicPr/>
          <p:nvPr/>
        </p:nvPicPr>
        <p:blipFill>
          <a:blip r:embed="rId1"/>
          <a:stretch/>
        </p:blipFill>
        <p:spPr>
          <a:xfrm>
            <a:off x="1981080" y="152280"/>
            <a:ext cx="5000760" cy="6705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198440" y="228600"/>
            <a:ext cx="6645240" cy="64008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2"/>
          <p:cNvSpPr/>
          <p:nvPr/>
        </p:nvSpPr>
        <p:spPr>
          <a:xfrm>
            <a:off x="472320" y="5562720"/>
            <a:ext cx="83584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822960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4. Какие силы действуют на погруженное в жидкость тел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 сила трения и сила упруг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 сила тяжести и выталкивающая с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 сила упругости и выталкивающая с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 сила тяжести и сила т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127080"/>
            <a:ext cx="6593040" cy="6350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Ответ неверный, ещё подума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0"/>
            <a:ext cx="64105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8229600" cy="19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2860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5. В каком море на Земле невозможно утону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в Средиземн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 В Азовск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 в Мёртв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 в Чёрн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11240" y="0"/>
            <a:ext cx="6883560" cy="66294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472320" y="5562720"/>
            <a:ext cx="83584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55640" y="152280"/>
            <a:ext cx="5964480" cy="6701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609480" y="304920"/>
            <a:ext cx="83059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2bfe"/>
                </a:solidFill>
                <a:latin typeface="Tahoma"/>
              </a:rPr>
              <a:t>6. В какой  из следующих жидкостей будет плавать лёд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2bfe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масло  подсолнечно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неф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бенз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)керос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Program Files\Microsoft Office\MEDIA\CAGCAT10\j0216588.wmf"/>
          <p:cNvPicPr/>
          <p:nvPr/>
        </p:nvPicPr>
        <p:blipFill>
          <a:blip r:embed="rId2"/>
          <a:stretch/>
        </p:blipFill>
        <p:spPr>
          <a:xfrm>
            <a:off x="1523880" y="0"/>
            <a:ext cx="6400800" cy="67676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архимед"/>
          <p:cNvPicPr/>
          <p:nvPr/>
        </p:nvPicPr>
        <p:blipFill>
          <a:blip r:embed="rId1"/>
          <a:stretch/>
        </p:blipFill>
        <p:spPr>
          <a:xfrm>
            <a:off x="2286000" y="685800"/>
            <a:ext cx="39355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066680" y="52560"/>
            <a:ext cx="6748560" cy="650052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3"/>
          <p:cNvSpPr/>
          <p:nvPr/>
        </p:nvSpPr>
        <p:spPr>
          <a:xfrm>
            <a:off x="548640" y="5562720"/>
            <a:ext cx="835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7. Почему, находясь под водой, человек может легко поднять предмет, который с трудом удерживает в воздух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в воде не действует атмосферное д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тело станет легче, потому что станет чищ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вода держит предм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на предмет действует выталкивающая с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143000" y="228600"/>
            <a:ext cx="6645240" cy="6400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вет неверный, ещё подума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C:\Program Files\Microsoft Office\MEDIA\CAGCAT10\j0216588.wmf"/>
          <p:cNvPicPr/>
          <p:nvPr/>
        </p:nvPicPr>
        <p:blipFill>
          <a:blip r:embed="rId2"/>
          <a:stretch/>
        </p:blipFill>
        <p:spPr>
          <a:xfrm>
            <a:off x="1066680" y="0"/>
            <a:ext cx="723924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05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86200" y="1295280"/>
            <a:ext cx="50292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ьте на вопро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3733920" y="3512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Доволен ли я своими успех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В чем я разобрал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Что еще хочу узна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Что мне понравилось сегодня на уро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2" descr="C:\Program Files\Microsoft Office\MEDIA\CAGCAT10\j0292152.wmf"/>
          <p:cNvPicPr/>
          <p:nvPr/>
        </p:nvPicPr>
        <p:blipFill>
          <a:blip r:embed="rId1"/>
          <a:stretch/>
        </p:blipFill>
        <p:spPr>
          <a:xfrm>
            <a:off x="0" y="0"/>
            <a:ext cx="337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123\Pictures\картиночки-ВСЕ\плаваем..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743200" y="152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Если тело в воду бросить,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или просто опустить, будет сила Архимеда снизу на него давить!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Если вес воды в объеме погруженной части знать,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                                   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можно силу Архимеда очень просто вычисля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2" descr="{126834C0-3349-47BB-8CDC-CD11ADAF278C}"/>
          <p:cNvPicPr/>
          <p:nvPr/>
        </p:nvPicPr>
        <p:blipFill>
          <a:blip r:embed="rId1"/>
          <a:stretch/>
        </p:blipFill>
        <p:spPr>
          <a:xfrm>
            <a:off x="762120" y="679320"/>
            <a:ext cx="76197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8"/>
          <p:cNvSpPr/>
          <p:nvPr/>
        </p:nvSpPr>
        <p:spPr>
          <a:xfrm>
            <a:off x="304920" y="2514600"/>
            <a:ext cx="4038480" cy="3429000"/>
          </a:xfrm>
          <a:custGeom>
            <a:avLst/>
            <a:gdLst>
              <a:gd name="textAreaLeft" fmla="*/ 841320 w 4038480"/>
              <a:gd name="textAreaRight" fmla="*/ 3197160 w 4038480"/>
              <a:gd name="textAreaTop" fmla="*/ 714240 h 3429000"/>
              <a:gd name="textAreaBottom" fmla="*/ 27147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676520" y="373392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5181480" y="2514600"/>
            <a:ext cx="3962520" cy="3429000"/>
          </a:xfrm>
          <a:custGeom>
            <a:avLst/>
            <a:gdLst>
              <a:gd name="textAreaLeft" fmla="*/ 825480 w 3962520"/>
              <a:gd name="textAreaRight" fmla="*/ 3137040 w 3962520"/>
              <a:gd name="textAreaTop" fmla="*/ 714240 h 3429000"/>
              <a:gd name="textAreaBottom" fmla="*/ 27147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553080" y="365760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2362320" y="3047760"/>
            <a:ext cx="0" cy="106668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7238880" y="2590560"/>
            <a:ext cx="0" cy="152388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2362320" y="4191120"/>
            <a:ext cx="0" cy="1676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7238880" y="4114800"/>
            <a:ext cx="0" cy="76212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3"/>
              <p:cNvSpPr txBox="1"/>
              <p:nvPr/>
            </p:nvSpPr>
            <p:spPr>
              <a:xfrm>
                <a:off x="5867280" y="2743200"/>
                <a:ext cx="7621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914400" y="2590920"/>
                <a:ext cx="977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4"/>
              <p:cNvSpPr txBox="1"/>
              <p:nvPr/>
            </p:nvSpPr>
            <p:spPr>
              <a:xfrm>
                <a:off x="1219320" y="4724280"/>
                <a:ext cx="846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6"/>
              <p:cNvSpPr txBox="1"/>
              <p:nvPr/>
            </p:nvSpPr>
            <p:spPr>
              <a:xfrm>
                <a:off x="6172200" y="4724280"/>
                <a:ext cx="846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4" name="Oval 28"/>
          <p:cNvSpPr/>
          <p:nvPr/>
        </p:nvSpPr>
        <p:spPr>
          <a:xfrm>
            <a:off x="2286000" y="4114800"/>
            <a:ext cx="152280" cy="152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29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751680" y="1523880"/>
            <a:ext cx="8211960" cy="520560"/>
          </a:xfrm>
          <a:prstGeom prst="rect">
            <a:avLst/>
          </a:prstGeom>
          <a:solidFill>
            <a:srgbClr val="940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лезный брусок         Деревянный брусо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6"/>
          <p:cNvSpPr/>
          <p:nvPr/>
        </p:nvSpPr>
        <p:spPr>
          <a:xfrm>
            <a:off x="45720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3"/>
          <p:cNvSpPr/>
          <p:nvPr/>
        </p:nvSpPr>
        <p:spPr>
          <a:xfrm>
            <a:off x="45720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67"/>
          <p:cNvSpPr/>
          <p:nvPr/>
        </p:nvSpPr>
        <p:spPr>
          <a:xfrm>
            <a:off x="617220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8"/>
          <p:cNvSpPr/>
          <p:nvPr/>
        </p:nvSpPr>
        <p:spPr>
          <a:xfrm>
            <a:off x="327672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5"/>
          <p:cNvSpPr/>
          <p:nvPr/>
        </p:nvSpPr>
        <p:spPr>
          <a:xfrm>
            <a:off x="327672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4"/>
          <p:cNvSpPr/>
          <p:nvPr/>
        </p:nvSpPr>
        <p:spPr>
          <a:xfrm>
            <a:off x="617220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9406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словия плавания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7"/>
              <p:cNvSpPr txBox="1"/>
              <p:nvPr/>
            </p:nvSpPr>
            <p:spPr>
              <a:xfrm>
                <a:off x="685800" y="3581280"/>
                <a:ext cx="2133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Rectangle 42"/>
          <p:cNvSpPr/>
          <p:nvPr/>
        </p:nvSpPr>
        <p:spPr>
          <a:xfrm>
            <a:off x="45720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пла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идк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327672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пла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нут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идк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24852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то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45"/>
          <p:cNvSpPr/>
          <p:nvPr/>
        </p:nvSpPr>
        <p:spPr>
          <a:xfrm>
            <a:off x="160020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46"/>
          <p:cNvSpPr/>
          <p:nvPr/>
        </p:nvSpPr>
        <p:spPr>
          <a:xfrm>
            <a:off x="739152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449568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59"/>
              <p:cNvSpPr txBox="1"/>
              <p:nvPr/>
            </p:nvSpPr>
            <p:spPr>
              <a:xfrm>
                <a:off x="6324480" y="3657600"/>
                <a:ext cx="2032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60"/>
              <p:cNvSpPr txBox="1"/>
              <p:nvPr/>
            </p:nvSpPr>
            <p:spPr>
              <a:xfrm>
                <a:off x="3429000" y="5410080"/>
                <a:ext cx="2133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61"/>
              <p:cNvSpPr txBox="1"/>
              <p:nvPr/>
            </p:nvSpPr>
            <p:spPr>
              <a:xfrm>
                <a:off x="533520" y="5410080"/>
                <a:ext cx="2209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2"/>
              <p:cNvSpPr txBox="1"/>
              <p:nvPr/>
            </p:nvSpPr>
            <p:spPr>
              <a:xfrm>
                <a:off x="6248520" y="5410080"/>
                <a:ext cx="2286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Line 69"/>
          <p:cNvSpPr/>
          <p:nvPr/>
        </p:nvSpPr>
        <p:spPr>
          <a:xfrm>
            <a:off x="746748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70"/>
          <p:cNvSpPr/>
          <p:nvPr/>
        </p:nvSpPr>
        <p:spPr>
          <a:xfrm>
            <a:off x="449568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71"/>
          <p:cNvSpPr/>
          <p:nvPr/>
        </p:nvSpPr>
        <p:spPr>
          <a:xfrm>
            <a:off x="167652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72"/>
          <p:cNvSpPr/>
          <p:nvPr/>
        </p:nvSpPr>
        <p:spPr>
          <a:xfrm>
            <a:off x="228600" y="5181480"/>
            <a:ext cx="876312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73"/>
              <p:cNvSpPr txBox="1"/>
              <p:nvPr/>
            </p:nvSpPr>
            <p:spPr>
              <a:xfrm>
                <a:off x="304920" y="5486400"/>
                <a:ext cx="3720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74"/>
              <p:cNvSpPr txBox="1"/>
              <p:nvPr/>
            </p:nvSpPr>
            <p:spPr>
              <a:xfrm>
                <a:off x="4419720" y="5486400"/>
                <a:ext cx="45082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5"/>
              <p:cNvSpPr txBox="1"/>
              <p:nvPr/>
            </p:nvSpPr>
            <p:spPr>
              <a:xfrm>
                <a:off x="3505320" y="3657600"/>
                <a:ext cx="2133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люди в мёртвом море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</dc:creator>
  <dc:description/>
  <dc:language>en-US</dc:language>
  <cp:lastModifiedBy>Олег</cp:lastModifiedBy>
  <dcterms:modified xsi:type="dcterms:W3CDTF">2011-11-08T16:46:23Z</dcterms:modified>
  <cp:revision>80</cp:revision>
  <dc:subject/>
  <dc:title>плавание те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