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BA7-0DEE-4D08-9EE3-90B5F7F2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D98-868F-410A-9ED8-432CBE85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FB1-060E-4CC4-BAA3-2A8DDE73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80D-52A0-4204-8E0A-3C6AAA25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AF6E7-4838-4C77-9458-C51AA96A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915E5-4FA4-45F1-93B4-CA8819B9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F5F4D-26E1-473A-8D42-DE2548C9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9E73A-8935-49BC-9D8B-10F9136D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C8B53-0AA1-48B3-9311-E053BF1D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3FF01-6898-4DB0-B243-B74ABED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BE991-6588-4ECC-89AB-4706ACD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12-50EA-4D92-805D-793A81E1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96BA-0EA2-48C7-A247-E449FFD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64A88-075A-418E-870D-A1419FF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728A8-3E39-466B-A93C-C8686CA1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A723E-668B-48A1-A397-57007974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EE184-D1E5-4EFF-80DD-B98A24C2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2BE-F1B9-4A6E-B10C-32363484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F82-5F6E-4000-9464-1D2845B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3E2-FF33-4408-B0C9-23D98D0B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CD6-1BC2-45FB-B6E0-BA30E1F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E63-F147-4D73-BA4E-7741E18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577-A0F7-4192-9855-47A7D631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A16-3D1C-4D34-9E9F-F82F9F6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74DB-5574-460B-91F2-B4C922A3D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419D-8177-4367-B5D8-63417E1E2A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image" Target="../media/image14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5.xml"/><Relationship Id="rId3" Type="http://schemas.openxmlformats.org/officeDocument/2006/relationships/image" Target="../media/image15.wmf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9.xml"/><Relationship Id="rId3" Type="http://schemas.openxmlformats.org/officeDocument/2006/relationships/image" Target="../media/image15.wmf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2.xml"/><Relationship Id="rId3" Type="http://schemas.openxmlformats.org/officeDocument/2006/relationships/image" Target="../media/image15.wmf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2.xml"/><Relationship Id="rId3" Type="http://schemas.openxmlformats.org/officeDocument/2006/relationships/image" Target="../media/image14.wmf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image" Target="../media/image15.wmf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image" Target="../media/image14.wmf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8.xml"/><Relationship Id="rId3" Type="http://schemas.openxmlformats.org/officeDocument/2006/relationships/image" Target="../media/image15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2" descr="{91A2DD02-0019-46F9-93EC-7EFE2A72ABA4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380880" y="114300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Haettenschweiler"/>
              </a:rPr>
              <a:t>П Л А В А Н И 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Haettenschweiler"/>
              </a:rPr>
              <a:t>Т Е Л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2680" y="457200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льчикова Людмила Михай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МБОУ «Верхне Кубин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мёртвое море"/>
          <p:cNvPicPr/>
          <p:nvPr/>
        </p:nvPicPr>
        <p:blipFill>
          <a:blip r:embed="rId1"/>
          <a:stretch/>
        </p:blipFill>
        <p:spPr>
          <a:xfrm>
            <a:off x="0" y="0"/>
            <a:ext cx="9372600" cy="7018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3"/>
                </a:solidFill>
                <a:latin typeface="Tahoma"/>
              </a:rPr>
              <a:t>Мёртвое 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838080" y="685800"/>
            <a:ext cx="7772400" cy="57150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358128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Box 3"/>
          <p:cNvSpPr/>
          <p:nvPr/>
        </p:nvSpPr>
        <p:spPr>
          <a:xfrm>
            <a:off x="5867280" y="1828800"/>
            <a:ext cx="2210040" cy="5205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нз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867280" y="3276720"/>
            <a:ext cx="2210040" cy="9471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ло машин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791320" y="4952880"/>
            <a:ext cx="2209680" cy="5205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ё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6" descr="Green Sea Tur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ьте, хорошо ли усвоили новый материа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Tahoma"/>
              </a:rPr>
              <a:t>1.На какой шар, находящийся в жидкости, действует наибольшая Архимедова сил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силы одинако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на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на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на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6"/>
          <a:stretch/>
        </p:blipFill>
        <p:spPr>
          <a:xfrm>
            <a:off x="685800" y="144792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11240" y="123840"/>
            <a:ext cx="6913440" cy="6657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88000"/>
            <a:ext cx="822960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Ответ неверный, ещё  подума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80024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4419720" cy="23796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685800" y="380880"/>
            <a:ext cx="8001000" cy="63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2. Один и тот же шарик поместили сначала в воду, потом в керосин. В какой жидкости на шарик будет действовать наибольшая выталкивающая сила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1)в керосине вообще не действует выталкивающая сила!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2) силы одинаковые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3) в воде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4)в керосине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_x000b_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011240" y="0"/>
            <a:ext cx="6724800" cy="64771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457200" y="5334120"/>
            <a:ext cx="8077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3. В жидкости находятся три одинаковые по объёму тела. Сравните Архимедовы силы, действующие на эти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на 3 тело действует наибольшая выталкивающая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на 2 тело не действует Архимедова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на 1 тело действует наибольшая Архимедова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на все три тела действуют одинаковые Архимедовы си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6"/>
          <a:stretch/>
        </p:blipFill>
        <p:spPr>
          <a:xfrm>
            <a:off x="838080" y="1523880"/>
            <a:ext cx="3886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айсберг"/>
          <p:cNvPicPr/>
          <p:nvPr/>
        </p:nvPicPr>
        <p:blipFill>
          <a:blip r:embed="rId1"/>
          <a:stretch/>
        </p:blipFill>
        <p:spPr>
          <a:xfrm>
            <a:off x="1981080" y="152280"/>
            <a:ext cx="5000760" cy="6705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198440" y="228600"/>
            <a:ext cx="6645240" cy="6400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472320" y="5562720"/>
            <a:ext cx="8358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4. Какие силы действуют на погруженное в жидкость те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сила трения и сила упруг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сила тяжести и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сила упругости и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сила тяжести и сила т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127080"/>
            <a:ext cx="6593040" cy="6350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Ответ неверный, ещё подума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0"/>
            <a:ext cx="64105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9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2860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5. В каком море на Земле невозможно утону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в Средиземн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В Азовск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в Мёртв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в Чёрн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11240" y="0"/>
            <a:ext cx="6883560" cy="6629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472320" y="5562720"/>
            <a:ext cx="8358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55640" y="152280"/>
            <a:ext cx="5964480" cy="6701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609480" y="304920"/>
            <a:ext cx="83059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bfe"/>
                </a:solidFill>
                <a:latin typeface="Tahoma"/>
              </a:rPr>
              <a:t>6. В какой  из следующих жидкостей будет плавать лёд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bfe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масло  подсолнеч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неф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бенз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)керос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Program Files\Microsoft Office\MEDIA\CAGCAT10\j0216588.wmf"/>
          <p:cNvPicPr/>
          <p:nvPr/>
        </p:nvPicPr>
        <p:blipFill>
          <a:blip r:embed="rId2"/>
          <a:stretch/>
        </p:blipFill>
        <p:spPr>
          <a:xfrm>
            <a:off x="1523880" y="0"/>
            <a:ext cx="6400800" cy="6767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архимед"/>
          <p:cNvPicPr/>
          <p:nvPr/>
        </p:nvPicPr>
        <p:blipFill>
          <a:blip r:embed="rId1"/>
          <a:stretch/>
        </p:blipFill>
        <p:spPr>
          <a:xfrm>
            <a:off x="2286000" y="685800"/>
            <a:ext cx="39355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066680" y="52560"/>
            <a:ext cx="6748560" cy="65005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3"/>
          <p:cNvSpPr/>
          <p:nvPr/>
        </p:nvSpPr>
        <p:spPr>
          <a:xfrm>
            <a:off x="548640" y="5562720"/>
            <a:ext cx="83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7. Почему, находясь под водой, человек может легко поднять предмет, который с трудом удерживает в воздух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в воде не действует атмосферное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тело станет легче, потому что станет чи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вода держит предм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на предмет действует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143000" y="228600"/>
            <a:ext cx="6645240" cy="6400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 неверный, ещё подума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Program Files\Microsoft Office\MEDIA\CAGCAT10\j0216588.wmf"/>
          <p:cNvPicPr/>
          <p:nvPr/>
        </p:nvPicPr>
        <p:blipFill>
          <a:blip r:embed="rId2"/>
          <a:stretch/>
        </p:blipFill>
        <p:spPr>
          <a:xfrm>
            <a:off x="10666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0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86200" y="1295280"/>
            <a:ext cx="50292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ьте на вопр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733920" y="3512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Доволен ли я своими успех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В чем я разобра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Что еще хочу узна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Что мне понравилось сегодня на уро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C:\Program Files\Microsoft Office\MEDIA\CAGCAT10\j0292152.wmf"/>
          <p:cNvPicPr/>
          <p:nvPr/>
        </p:nvPicPr>
        <p:blipFill>
          <a:blip r:embed="rId1"/>
          <a:stretch/>
        </p:blipFill>
        <p:spPr>
          <a:xfrm>
            <a:off x="0" y="0"/>
            <a:ext cx="337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23\Pictures\картиночки-ВСЕ\плаваем..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743200" y="152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Если тело в воду бросить,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или просто опустить, будет сила Архимеда снизу на него давить!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Если вес воды в объеме погруженной части знать,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 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можно силу Архимеда очень просто вычисля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2" descr="{126834C0-3349-47BB-8CDC-CD11ADAF278C}"/>
          <p:cNvPicPr/>
          <p:nvPr/>
        </p:nvPicPr>
        <p:blipFill>
          <a:blip r:embed="rId1"/>
          <a:stretch/>
        </p:blipFill>
        <p:spPr>
          <a:xfrm>
            <a:off x="762120" y="679320"/>
            <a:ext cx="7619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>
            <a:off x="304920" y="2514600"/>
            <a:ext cx="4038480" cy="3429000"/>
          </a:xfrm>
          <a:custGeom>
            <a:avLst/>
            <a:gdLst>
              <a:gd name="textAreaLeft" fmla="*/ 841320 w 4038480"/>
              <a:gd name="textAreaRight" fmla="*/ 3197160 w 4038480"/>
              <a:gd name="textAreaTop" fmla="*/ 714240 h 3429000"/>
              <a:gd name="textAreaBottom" fmla="*/ 27147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76520" y="373392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5181480" y="2514600"/>
            <a:ext cx="3962520" cy="3429000"/>
          </a:xfrm>
          <a:custGeom>
            <a:avLst/>
            <a:gdLst>
              <a:gd name="textAreaLeft" fmla="*/ 825480 w 3962520"/>
              <a:gd name="textAreaRight" fmla="*/ 3137040 w 3962520"/>
              <a:gd name="textAreaTop" fmla="*/ 714240 h 3429000"/>
              <a:gd name="textAreaBottom" fmla="*/ 27147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553080" y="36576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362320" y="3047760"/>
            <a:ext cx="0" cy="10666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7238880" y="2590560"/>
            <a:ext cx="0" cy="15238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2362320" y="4191120"/>
            <a:ext cx="0" cy="1676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7238880" y="4114800"/>
            <a:ext cx="0" cy="76212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3"/>
              <p:cNvSpPr txBox="1"/>
              <p:nvPr/>
            </p:nvSpPr>
            <p:spPr>
              <a:xfrm>
                <a:off x="5867280" y="2743200"/>
                <a:ext cx="762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914400" y="2590920"/>
                <a:ext cx="977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4"/>
              <p:cNvSpPr txBox="1"/>
              <p:nvPr/>
            </p:nvSpPr>
            <p:spPr>
              <a:xfrm>
                <a:off x="1219320" y="4724280"/>
                <a:ext cx="846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6"/>
              <p:cNvSpPr txBox="1"/>
              <p:nvPr/>
            </p:nvSpPr>
            <p:spPr>
              <a:xfrm>
                <a:off x="6172200" y="4724280"/>
                <a:ext cx="846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4" name="Oval 28"/>
          <p:cNvSpPr/>
          <p:nvPr/>
        </p:nvSpPr>
        <p:spPr>
          <a:xfrm>
            <a:off x="2286000" y="4114800"/>
            <a:ext cx="152280" cy="152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29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751680" y="1523880"/>
            <a:ext cx="8211960" cy="520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лезный брусок         Деревянный брусо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6"/>
          <p:cNvSpPr/>
          <p:nvPr/>
        </p:nvSpPr>
        <p:spPr>
          <a:xfrm>
            <a:off x="457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3"/>
          <p:cNvSpPr/>
          <p:nvPr/>
        </p:nvSpPr>
        <p:spPr>
          <a:xfrm>
            <a:off x="457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7"/>
          <p:cNvSpPr/>
          <p:nvPr/>
        </p:nvSpPr>
        <p:spPr>
          <a:xfrm>
            <a:off x="6172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8"/>
          <p:cNvSpPr/>
          <p:nvPr/>
        </p:nvSpPr>
        <p:spPr>
          <a:xfrm>
            <a:off x="327672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327672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4"/>
          <p:cNvSpPr/>
          <p:nvPr/>
        </p:nvSpPr>
        <p:spPr>
          <a:xfrm>
            <a:off x="6172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7"/>
              <p:cNvSpPr txBox="1"/>
              <p:nvPr/>
            </p:nvSpPr>
            <p:spPr>
              <a:xfrm>
                <a:off x="685800" y="3581280"/>
                <a:ext cx="2133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Rectangle 42"/>
          <p:cNvSpPr/>
          <p:nvPr/>
        </p:nvSpPr>
        <p:spPr>
          <a:xfrm>
            <a:off x="45720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32767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нут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2485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то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45"/>
          <p:cNvSpPr/>
          <p:nvPr/>
        </p:nvSpPr>
        <p:spPr>
          <a:xfrm>
            <a:off x="160020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46"/>
          <p:cNvSpPr/>
          <p:nvPr/>
        </p:nvSpPr>
        <p:spPr>
          <a:xfrm>
            <a:off x="739152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9"/>
              <p:cNvSpPr txBox="1"/>
              <p:nvPr/>
            </p:nvSpPr>
            <p:spPr>
              <a:xfrm>
                <a:off x="6324480" y="3657600"/>
                <a:ext cx="2032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0"/>
              <p:cNvSpPr txBox="1"/>
              <p:nvPr/>
            </p:nvSpPr>
            <p:spPr>
              <a:xfrm>
                <a:off x="3429000" y="5410080"/>
                <a:ext cx="2133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1"/>
              <p:cNvSpPr txBox="1"/>
              <p:nvPr/>
            </p:nvSpPr>
            <p:spPr>
              <a:xfrm>
                <a:off x="533520" y="5410080"/>
                <a:ext cx="2209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2"/>
              <p:cNvSpPr txBox="1"/>
              <p:nvPr/>
            </p:nvSpPr>
            <p:spPr>
              <a:xfrm>
                <a:off x="6248520" y="5410080"/>
                <a:ext cx="2286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Line 69"/>
          <p:cNvSpPr/>
          <p:nvPr/>
        </p:nvSpPr>
        <p:spPr>
          <a:xfrm>
            <a:off x="74674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70"/>
          <p:cNvSpPr/>
          <p:nvPr/>
        </p:nvSpPr>
        <p:spPr>
          <a:xfrm>
            <a:off x="44956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71"/>
          <p:cNvSpPr/>
          <p:nvPr/>
        </p:nvSpPr>
        <p:spPr>
          <a:xfrm>
            <a:off x="167652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228600" y="5181480"/>
            <a:ext cx="876312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3"/>
              <p:cNvSpPr txBox="1"/>
              <p:nvPr/>
            </p:nvSpPr>
            <p:spPr>
              <a:xfrm>
                <a:off x="304920" y="5486400"/>
                <a:ext cx="3720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4"/>
              <p:cNvSpPr txBox="1"/>
              <p:nvPr/>
            </p:nvSpPr>
            <p:spPr>
              <a:xfrm>
                <a:off x="4419720" y="5486400"/>
                <a:ext cx="4508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5"/>
              <p:cNvSpPr txBox="1"/>
              <p:nvPr/>
            </p:nvSpPr>
            <p:spPr>
              <a:xfrm>
                <a:off x="3505320" y="3657600"/>
                <a:ext cx="2133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люди в мёртвом море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Олег</cp:lastModifiedBy>
  <dcterms:modified xsi:type="dcterms:W3CDTF">2011-11-08T16:46:23Z</dcterms:modified>
  <cp:revision>80</cp:revision>
  <dc:subject/>
  <dc:title>плавание т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