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8.wmf" ContentType="image/x-wmf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D23-FDF3-4BAD-9DDB-D3669FD8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94F-843D-4377-83F3-DDDAF03F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0C0-C45B-440E-9F71-B78AA36A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A26-D425-47F0-ADCE-D28F433B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8694A-D55A-493B-8514-C2B2C428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4EE41-25BE-40AB-BD15-36FD7BE8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04349-D88A-4E77-A6EB-8350A5AE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21D2A-A110-43BE-AEFC-189CAF23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6E192-5874-49D5-B336-4D3AEC27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B2875-8FB7-4DBE-8107-015AAA17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15968-FE6D-4E3F-A196-39B7FF3E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F0C-7D76-4000-8C16-2989D3F8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7263F-F985-44BA-AF73-44940646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0E84D-837B-449D-BC88-B0933E1F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F1AEF-540E-41BD-BD1B-02BA2F52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CD0F5-0524-4EF8-BFAC-4B2DB650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26579-A5A3-435F-BC0C-4AC47BAA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98B-7B6D-47CF-98F9-1292B107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5EA-6A5F-4C7F-BBA1-7AEE8DD4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CE9-EC58-4E38-9063-003FD260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5EF-2BBF-4577-9AAA-57FC97BE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EA2-C2AE-4A32-A8F7-869CB31A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33AA-7886-4B4A-A471-75570329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373-D243-4F4E-A0EF-86646052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22B3-10B0-49C0-A01A-5CC8694547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9590-3CAA-4BD2-8586-7FC765E6E4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3.xml"/><Relationship Id="rId3" Type="http://schemas.openxmlformats.org/officeDocument/2006/relationships/image" Target="../media/image14.wmf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5.xml"/><Relationship Id="rId3" Type="http://schemas.openxmlformats.org/officeDocument/2006/relationships/image" Target="../media/image15.wmf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png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9.xml"/><Relationship Id="rId3" Type="http://schemas.openxmlformats.org/officeDocument/2006/relationships/image" Target="../media/image15.wmf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2.xml"/><Relationship Id="rId3" Type="http://schemas.openxmlformats.org/officeDocument/2006/relationships/image" Target="../media/image15.wmf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2.xml"/><Relationship Id="rId3" Type="http://schemas.openxmlformats.org/officeDocument/2006/relationships/image" Target="../media/image14.wmf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5.xml"/><Relationship Id="rId3" Type="http://schemas.openxmlformats.org/officeDocument/2006/relationships/image" Target="../media/image15.wmf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6.xm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5.xml"/><Relationship Id="rId3" Type="http://schemas.openxmlformats.org/officeDocument/2006/relationships/image" Target="../media/image14.wmf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8.xml"/><Relationship Id="rId3" Type="http://schemas.openxmlformats.org/officeDocument/2006/relationships/image" Target="../media/image15.wmf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2" descr="{91A2DD02-0019-46F9-93EC-7EFE2A72ABA4}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4"/>
          <p:cNvSpPr txBox="1"/>
          <p:nvPr/>
        </p:nvSpPr>
        <p:spPr>
          <a:xfrm>
            <a:off x="380880" y="1143000"/>
            <a:ext cx="81536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2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Haettenschweiler"/>
              </a:rPr>
              <a:t>П Л А В А Н И 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Haettenschweiler"/>
              <a:ea typeface="Haettenschwei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Haettenschweiler"/>
              </a:rPr>
              <a:t>Т Е Л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72680" y="4572000"/>
            <a:ext cx="40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Ольчикова Людмила Михайл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Tahoma"/>
              </a:rPr>
              <a:t>МБОУ «Верхне Кубин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мёртвое море"/>
          <p:cNvPicPr/>
          <p:nvPr/>
        </p:nvPicPr>
        <p:blipFill>
          <a:blip r:embed="rId1"/>
          <a:stretch/>
        </p:blipFill>
        <p:spPr>
          <a:xfrm>
            <a:off x="0" y="0"/>
            <a:ext cx="9372600" cy="70182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3"/>
                </a:solidFill>
                <a:latin typeface="Tahoma"/>
              </a:rPr>
              <a:t>Мёртвое мо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838080" y="685800"/>
            <a:ext cx="7772400" cy="571500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3581280" cy="457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7" name="TextBox 3"/>
          <p:cNvSpPr/>
          <p:nvPr/>
        </p:nvSpPr>
        <p:spPr>
          <a:xfrm>
            <a:off x="5867280" y="1828800"/>
            <a:ext cx="2210040" cy="520560"/>
          </a:xfrm>
          <a:prstGeom prst="rect">
            <a:avLst/>
          </a:prstGeom>
          <a:gradFill rotWithShape="0">
            <a:gsLst>
              <a:gs pos="0">
                <a:srgbClr val="009800"/>
              </a:gs>
              <a:gs pos="100000">
                <a:srgbClr val="00cd00"/>
              </a:gs>
            </a:gsLst>
            <a:lin ang="16200000"/>
          </a:gradFill>
          <a:ln w="9360">
            <a:solidFill>
              <a:srgbClr val="00b3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нзи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5867280" y="3276720"/>
            <a:ext cx="2210040" cy="947160"/>
          </a:xfrm>
          <a:prstGeom prst="rect">
            <a:avLst/>
          </a:prstGeom>
          <a:gradFill rotWithShape="0">
            <a:gsLst>
              <a:gs pos="0">
                <a:srgbClr val="009800"/>
              </a:gs>
              <a:gs pos="100000">
                <a:srgbClr val="00cd00"/>
              </a:gs>
            </a:gsLst>
            <a:lin ang="16200000"/>
          </a:gradFill>
          <a:ln w="9360">
            <a:solidFill>
              <a:srgbClr val="00b3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ло машин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5791320" y="4952880"/>
            <a:ext cx="2209680" cy="520560"/>
          </a:xfrm>
          <a:prstGeom prst="rect">
            <a:avLst/>
          </a:prstGeom>
          <a:gradFill rotWithShape="0">
            <a:gsLst>
              <a:gs pos="0">
                <a:srgbClr val="009800"/>
              </a:gs>
              <a:gs pos="100000">
                <a:srgbClr val="00cd00"/>
              </a:gs>
            </a:gsLst>
            <a:lin ang="16200000"/>
          </a:gradFill>
          <a:ln w="9360">
            <a:solidFill>
              <a:srgbClr val="00b3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ё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6" descr="Green Sea Tur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верьте, хорошо ли усвоили новый материа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2bfe"/>
                </a:solidFill>
                <a:latin typeface="Tahoma"/>
              </a:rPr>
              <a:t>1.На какой шар, находящийся в жидкости, действует наибольшая Архимедова сил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1) силы одинако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2)на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)на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4)на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Рисунок 2" descr=""/>
          <p:cNvPicPr/>
          <p:nvPr/>
        </p:nvPicPr>
        <p:blipFill>
          <a:blip r:embed="rId6"/>
          <a:stretch/>
        </p:blipFill>
        <p:spPr>
          <a:xfrm>
            <a:off x="685800" y="144792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C:\Program Files\Microsoft Office\MEDIA\CAGCAT10\j0286034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11240" y="123840"/>
            <a:ext cx="6913440" cy="66578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788000"/>
            <a:ext cx="822960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Ответ неверный, ещё  подума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C:\Program Files\Microsoft Office\MEDIA\CAGCAT10\j0216588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800240"/>
            <a:ext cx="8229600" cy="18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2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4419720" cy="23796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"/>
          <p:cNvSpPr/>
          <p:nvPr/>
        </p:nvSpPr>
        <p:spPr>
          <a:xfrm>
            <a:off x="685800" y="380880"/>
            <a:ext cx="8001000" cy="63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fe"/>
                </a:solidFill>
                <a:latin typeface="Tahoma"/>
              </a:rPr>
              <a:t>2. Один и тот же шарик поместили сначала в воду, потом в керосин. В какой жидкости на шарик будет действовать наибольшая выталкивающая сила?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1)в керосине вообще не действует выталкивающая сила!</a:t>
            </a:r>
            <a:br>
              <a:rPr sz="2400"/>
            </a:b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2) силы одинаковые</a:t>
            </a:r>
            <a:br>
              <a:rPr sz="2400"/>
            </a:b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3) в воде</a:t>
            </a:r>
            <a:br>
              <a:rPr sz="2400"/>
            </a:b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4)в керосине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7" action="ppaction://hlinksldjump"/>
              </a:rPr>
              <a:t>_x000b_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1011240" y="0"/>
            <a:ext cx="6724800" cy="64771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2"/>
          <p:cNvSpPr/>
          <p:nvPr/>
        </p:nvSpPr>
        <p:spPr>
          <a:xfrm>
            <a:off x="457200" y="5334120"/>
            <a:ext cx="8077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Не верно, ещё подума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C:\Program Files\Microsoft Office\MEDIA\CAGCAT10\j0216588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5105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088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bfe"/>
                </a:solidFill>
                <a:latin typeface="Tahoma"/>
              </a:rPr>
              <a:t>3. В жидкости находятся три одинаковые по объёму тела. Сравните Архимедовы силы, действующие на эти те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1) на 3 тело действует наибольшая выталкивающая си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2) на 2 тело не действует Архимедова си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) на 1 тело действует наибольшая Архимедова си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4) на все три тела действуют одинаковые Архимедовы си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Рисунок 2" descr=""/>
          <p:cNvPicPr/>
          <p:nvPr/>
        </p:nvPicPr>
        <p:blipFill>
          <a:blip r:embed="rId6"/>
          <a:stretch/>
        </p:blipFill>
        <p:spPr>
          <a:xfrm>
            <a:off x="838080" y="1523880"/>
            <a:ext cx="3886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айсберг"/>
          <p:cNvPicPr/>
          <p:nvPr/>
        </p:nvPicPr>
        <p:blipFill>
          <a:blip r:embed="rId1"/>
          <a:stretch/>
        </p:blipFill>
        <p:spPr>
          <a:xfrm>
            <a:off x="1981080" y="152280"/>
            <a:ext cx="5000760" cy="6705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1198440" y="228600"/>
            <a:ext cx="6645240" cy="64008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2"/>
          <p:cNvSpPr/>
          <p:nvPr/>
        </p:nvSpPr>
        <p:spPr>
          <a:xfrm>
            <a:off x="472320" y="5562720"/>
            <a:ext cx="83584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Не верно, ещё подума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C:\Program Files\Microsoft Office\MEDIA\CAGCAT10\j0216588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4800240"/>
            <a:ext cx="822960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Tahoma"/>
              </a:rPr>
              <a:t>4. Какие силы действуют на погруженное в жидкость тел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1) сила трения и сила упруг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2) сила тяжести и выталкивающая с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) сила упругости и выталкивающая с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4) сила тяжести и сила т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C:\Program Files\Microsoft Office\MEDIA\CAGCAT10\j0286034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3000" y="127080"/>
            <a:ext cx="6593040" cy="63500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Ответ неверный, ещё подума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Program Files\Microsoft Office\MEDIA\CAGCAT10\j0216588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0"/>
            <a:ext cx="64105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4723920"/>
            <a:ext cx="8229600" cy="19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228600"/>
            <a:ext cx="82296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Tahoma"/>
              </a:rPr>
              <a:t>5. В каком море на Земле невозможно утону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1)в Средиземном 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2) В Азовском 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) в Мёртвом 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4) в Чёрном мо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C:\Program Files\Microsoft Office\MEDIA\CAGCAT10\j0286034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11240" y="0"/>
            <a:ext cx="6883560" cy="66294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3"/>
          <p:cNvSpPr/>
          <p:nvPr/>
        </p:nvSpPr>
        <p:spPr>
          <a:xfrm>
            <a:off x="472320" y="5562720"/>
            <a:ext cx="83584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Не верно, ещё подума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C:\Program Files\Microsoft Office\MEDIA\CAGCAT10\j0216588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55640" y="152280"/>
            <a:ext cx="5964480" cy="67010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2"/>
          <p:cNvSpPr/>
          <p:nvPr/>
        </p:nvSpPr>
        <p:spPr>
          <a:xfrm>
            <a:off x="609480" y="304920"/>
            <a:ext cx="8305920" cy="52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2bfe"/>
                </a:solidFill>
                <a:latin typeface="Tahoma"/>
              </a:rPr>
              <a:t>6. В какой  из следующих жидкостей будет плавать лёд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2bfe"/>
                </a:solidFill>
                <a:latin typeface="Tahoma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1)масло  подсолнечно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2)неф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)бенз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)керос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Program Files\Microsoft Office\MEDIA\CAGCAT10\j0216588.wmf"/>
          <p:cNvPicPr/>
          <p:nvPr/>
        </p:nvPicPr>
        <p:blipFill>
          <a:blip r:embed="rId2"/>
          <a:stretch/>
        </p:blipFill>
        <p:spPr>
          <a:xfrm>
            <a:off x="1523880" y="0"/>
            <a:ext cx="6400800" cy="67676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архимед"/>
          <p:cNvPicPr/>
          <p:nvPr/>
        </p:nvPicPr>
        <p:blipFill>
          <a:blip r:embed="rId1"/>
          <a:stretch/>
        </p:blipFill>
        <p:spPr>
          <a:xfrm>
            <a:off x="2286000" y="685800"/>
            <a:ext cx="39355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1066680" y="52560"/>
            <a:ext cx="6748560" cy="650052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3"/>
          <p:cNvSpPr/>
          <p:nvPr/>
        </p:nvSpPr>
        <p:spPr>
          <a:xfrm>
            <a:off x="548640" y="5562720"/>
            <a:ext cx="835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Не верно, ещё подума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fe"/>
                </a:solidFill>
                <a:latin typeface="Tahoma"/>
              </a:rPr>
              <a:t>7. Почему, находясь под водой, человек может легко поднять предмет, который с трудом удерживает в воздух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в воде не действует атмосферное д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тело станет легче, потому что станет чищ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вода держит предм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на предмет действует выталкивающая си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1143000" y="228600"/>
            <a:ext cx="6645240" cy="6400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твет неверный, ещё подума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C:\Program Files\Microsoft Office\MEDIA\CAGCAT10\j0216588.wmf"/>
          <p:cNvPicPr/>
          <p:nvPr/>
        </p:nvPicPr>
        <p:blipFill>
          <a:blip r:embed="rId2"/>
          <a:stretch/>
        </p:blipFill>
        <p:spPr>
          <a:xfrm>
            <a:off x="1066680" y="0"/>
            <a:ext cx="723924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5105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лодец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86200" y="1295280"/>
            <a:ext cx="50292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ветьте на вопро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3733920" y="35128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Arial"/>
                <a:ea typeface="Times New Roman"/>
              </a:rPr>
              <a:t>Доволен ли я своими успех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Arial"/>
                <a:ea typeface="Times New Roman"/>
              </a:rPr>
              <a:t>В чем я разобралс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Arial"/>
                <a:ea typeface="Times New Roman"/>
              </a:rPr>
              <a:t>Что еще хочу узнат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2f2f2"/>
                </a:solidFill>
                <a:latin typeface="Arial"/>
                <a:ea typeface="Times New Roman"/>
              </a:rPr>
              <a:t>Что мне понравилось сегодня на уро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2" descr="C:\Program Files\Microsoft Office\MEDIA\CAGCAT10\j0292152.wmf"/>
          <p:cNvPicPr/>
          <p:nvPr/>
        </p:nvPicPr>
        <p:blipFill>
          <a:blip r:embed="rId1"/>
          <a:stretch/>
        </p:blipFill>
        <p:spPr>
          <a:xfrm>
            <a:off x="0" y="0"/>
            <a:ext cx="337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7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123\Pictures\картиночки-ВСЕ\плаваем..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743200" y="1522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Если тело в воду бросить,</a:t>
            </a:r>
            <a:r>
              <a:rPr b="0" lang="ru-RU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               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или просто опустить, будет сила Архимеда снизу на него давить!</a:t>
            </a:r>
            <a:r>
              <a:rPr b="0" lang="ru-RU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Если вес воды в объеме погруженной части знать,</a:t>
            </a:r>
            <a:r>
              <a:rPr b="0" lang="ru-RU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                                   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можно силу Архимеда очень просто вычислять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2" descr="{126834C0-3349-47BB-8CDC-CD11ADAF278C}"/>
          <p:cNvPicPr/>
          <p:nvPr/>
        </p:nvPicPr>
        <p:blipFill>
          <a:blip r:embed="rId1"/>
          <a:stretch/>
        </p:blipFill>
        <p:spPr>
          <a:xfrm>
            <a:off x="762120" y="679320"/>
            <a:ext cx="76197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8"/>
          <p:cNvSpPr/>
          <p:nvPr/>
        </p:nvSpPr>
        <p:spPr>
          <a:xfrm>
            <a:off x="304920" y="2514600"/>
            <a:ext cx="4038480" cy="3429000"/>
          </a:xfrm>
          <a:custGeom>
            <a:avLst/>
            <a:gdLst>
              <a:gd name="textAreaLeft" fmla="*/ 841320 w 4038480"/>
              <a:gd name="textAreaRight" fmla="*/ 3197160 w 4038480"/>
              <a:gd name="textAreaTop" fmla="*/ 714240 h 3429000"/>
              <a:gd name="textAreaBottom" fmla="*/ 271476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676520" y="3733920"/>
            <a:ext cx="1371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5181480" y="2514600"/>
            <a:ext cx="3962520" cy="3429000"/>
          </a:xfrm>
          <a:custGeom>
            <a:avLst/>
            <a:gdLst>
              <a:gd name="textAreaLeft" fmla="*/ 825480 w 3962520"/>
              <a:gd name="textAreaRight" fmla="*/ 3137040 w 3962520"/>
              <a:gd name="textAreaTop" fmla="*/ 714240 h 3429000"/>
              <a:gd name="textAreaBottom" fmla="*/ 271476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553080" y="3657600"/>
            <a:ext cx="1371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2362320" y="3047760"/>
            <a:ext cx="0" cy="106668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7238880" y="2590560"/>
            <a:ext cx="0" cy="1523880"/>
          </a:xfrm>
          <a:prstGeom prst="line">
            <a:avLst/>
          </a:prstGeom>
          <a:ln w="572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2362320" y="4191120"/>
            <a:ext cx="0" cy="167616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7238880" y="4114800"/>
            <a:ext cx="0" cy="76212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3"/>
              <p:cNvSpPr txBox="1"/>
              <p:nvPr/>
            </p:nvSpPr>
            <p:spPr>
              <a:xfrm>
                <a:off x="5867280" y="2743200"/>
                <a:ext cx="7621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914400" y="2590920"/>
                <a:ext cx="9777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4"/>
              <p:cNvSpPr txBox="1"/>
              <p:nvPr/>
            </p:nvSpPr>
            <p:spPr>
              <a:xfrm>
                <a:off x="1219320" y="4724280"/>
                <a:ext cx="846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26"/>
              <p:cNvSpPr txBox="1"/>
              <p:nvPr/>
            </p:nvSpPr>
            <p:spPr>
              <a:xfrm>
                <a:off x="6172200" y="4724280"/>
                <a:ext cx="8460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4" name="Oval 28"/>
          <p:cNvSpPr/>
          <p:nvPr/>
        </p:nvSpPr>
        <p:spPr>
          <a:xfrm>
            <a:off x="2286000" y="4114800"/>
            <a:ext cx="152280" cy="15228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29"/>
          <p:cNvSpPr/>
          <p:nvPr/>
        </p:nvSpPr>
        <p:spPr>
          <a:xfrm>
            <a:off x="7162920" y="4038480"/>
            <a:ext cx="152280" cy="15264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751680" y="1523880"/>
            <a:ext cx="8211960" cy="520560"/>
          </a:xfrm>
          <a:prstGeom prst="rect">
            <a:avLst/>
          </a:prstGeom>
          <a:solidFill>
            <a:srgbClr val="9406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елезный брусок         Деревянный брусо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6"/>
          <p:cNvSpPr/>
          <p:nvPr/>
        </p:nvSpPr>
        <p:spPr>
          <a:xfrm>
            <a:off x="457200" y="525780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63"/>
          <p:cNvSpPr/>
          <p:nvPr/>
        </p:nvSpPr>
        <p:spPr>
          <a:xfrm>
            <a:off x="457200" y="350532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67"/>
          <p:cNvSpPr/>
          <p:nvPr/>
        </p:nvSpPr>
        <p:spPr>
          <a:xfrm>
            <a:off x="6172200" y="350532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68"/>
          <p:cNvSpPr/>
          <p:nvPr/>
        </p:nvSpPr>
        <p:spPr>
          <a:xfrm>
            <a:off x="3276720" y="350532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65"/>
          <p:cNvSpPr/>
          <p:nvPr/>
        </p:nvSpPr>
        <p:spPr>
          <a:xfrm>
            <a:off x="3276720" y="525780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64"/>
          <p:cNvSpPr/>
          <p:nvPr/>
        </p:nvSpPr>
        <p:spPr>
          <a:xfrm>
            <a:off x="6172200" y="5257800"/>
            <a:ext cx="243828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94062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словия плавания т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7"/>
              <p:cNvSpPr txBox="1"/>
              <p:nvPr/>
            </p:nvSpPr>
            <p:spPr>
              <a:xfrm>
                <a:off x="685800" y="3581280"/>
                <a:ext cx="21337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Rectangle 42"/>
          <p:cNvSpPr/>
          <p:nvPr/>
        </p:nvSpPr>
        <p:spPr>
          <a:xfrm>
            <a:off x="457200" y="1905120"/>
            <a:ext cx="2438280" cy="1218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ло пла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 поверх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жидк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3276720" y="1905120"/>
            <a:ext cx="2438280" cy="1218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ло плава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нут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жидк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6248520" y="1905120"/>
            <a:ext cx="2438280" cy="1218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ло тон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45"/>
          <p:cNvSpPr/>
          <p:nvPr/>
        </p:nvSpPr>
        <p:spPr>
          <a:xfrm>
            <a:off x="1600200" y="3124080"/>
            <a:ext cx="0" cy="38124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46"/>
          <p:cNvSpPr/>
          <p:nvPr/>
        </p:nvSpPr>
        <p:spPr>
          <a:xfrm>
            <a:off x="7391520" y="3124080"/>
            <a:ext cx="0" cy="38124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47"/>
          <p:cNvSpPr/>
          <p:nvPr/>
        </p:nvSpPr>
        <p:spPr>
          <a:xfrm>
            <a:off x="4495680" y="3124080"/>
            <a:ext cx="0" cy="38124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59"/>
              <p:cNvSpPr txBox="1"/>
              <p:nvPr/>
            </p:nvSpPr>
            <p:spPr>
              <a:xfrm>
                <a:off x="6324480" y="3657600"/>
                <a:ext cx="2032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60"/>
              <p:cNvSpPr txBox="1"/>
              <p:nvPr/>
            </p:nvSpPr>
            <p:spPr>
              <a:xfrm>
                <a:off x="3429000" y="5410080"/>
                <a:ext cx="2133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61"/>
              <p:cNvSpPr txBox="1"/>
              <p:nvPr/>
            </p:nvSpPr>
            <p:spPr>
              <a:xfrm>
                <a:off x="533520" y="5410080"/>
                <a:ext cx="22096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2"/>
              <p:cNvSpPr txBox="1"/>
              <p:nvPr/>
            </p:nvSpPr>
            <p:spPr>
              <a:xfrm>
                <a:off x="6248520" y="5410080"/>
                <a:ext cx="2286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Line 69"/>
          <p:cNvSpPr/>
          <p:nvPr/>
        </p:nvSpPr>
        <p:spPr>
          <a:xfrm>
            <a:off x="7467480" y="4648320"/>
            <a:ext cx="0" cy="53316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70"/>
          <p:cNvSpPr/>
          <p:nvPr/>
        </p:nvSpPr>
        <p:spPr>
          <a:xfrm>
            <a:off x="4495680" y="4648320"/>
            <a:ext cx="0" cy="53316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71"/>
          <p:cNvSpPr/>
          <p:nvPr/>
        </p:nvSpPr>
        <p:spPr>
          <a:xfrm>
            <a:off x="1676520" y="4648320"/>
            <a:ext cx="0" cy="533160"/>
          </a:xfrm>
          <a:prstGeom prst="line">
            <a:avLst/>
          </a:prstGeom>
          <a:ln w="57240">
            <a:solidFill>
              <a:srgbClr val="9406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72"/>
          <p:cNvSpPr/>
          <p:nvPr/>
        </p:nvSpPr>
        <p:spPr>
          <a:xfrm>
            <a:off x="228600" y="5181480"/>
            <a:ext cx="8763120" cy="1447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73"/>
              <p:cNvSpPr txBox="1"/>
              <p:nvPr/>
            </p:nvSpPr>
            <p:spPr>
              <a:xfrm>
                <a:off x="304920" y="5486400"/>
                <a:ext cx="3720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ж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74"/>
              <p:cNvSpPr txBox="1"/>
              <p:nvPr/>
            </p:nvSpPr>
            <p:spPr>
              <a:xfrm>
                <a:off x="4419720" y="5486400"/>
                <a:ext cx="45082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п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55"/>
              <p:cNvSpPr txBox="1"/>
              <p:nvPr/>
            </p:nvSpPr>
            <p:spPr>
              <a:xfrm>
                <a:off x="3505320" y="3657600"/>
                <a:ext cx="21333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люди в мёртвом море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дмила</dc:creator>
  <dc:description/>
  <dc:language>en-US</dc:language>
  <cp:lastModifiedBy>Олег</cp:lastModifiedBy>
  <dcterms:modified xsi:type="dcterms:W3CDTF">2011-11-08T16:46:23Z</dcterms:modified>
  <cp:revision>80</cp:revision>
  <dc:subject/>
  <dc:title>плавание те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