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D1A-21E3-4B9D-89BD-04479A2E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6E0-8AF8-49D1-A00D-A03236A5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837-D13B-4357-9586-76905B56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E9D-023D-40A4-BA0E-9251128B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06C-A9C8-4651-ACDC-FAA260CC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CAB-926A-411E-9FF1-EE964D50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E9C-A08D-47CB-9E56-B8B33549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C1E-3A8D-483F-8804-1AAB4C49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A02-ECE2-4214-BC1C-929F9243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4E9-AB7C-4797-840A-E87A2EC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7CC-A1DD-44FB-BF4E-BCFDDF6F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38D-B5AB-466F-9D22-5468FF24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3326-6F6D-4040-9298-7B538A2DA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2280" y="-2819520"/>
            <a:ext cx="859176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: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равила поведения во время игры".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picture"/>
          <p:cNvPicPr/>
          <p:nvPr/>
        </p:nvPicPr>
        <p:blipFill>
          <a:blip r:embed="rId1"/>
          <a:stretch/>
        </p:blipFill>
        <p:spPr>
          <a:xfrm>
            <a:off x="2362320" y="3733920"/>
            <a:ext cx="4495680" cy="2895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я - хороший лыжник. Он выиграл в районных соревнованиях. От радости мальчик ходил «королём». Вася без конца твердил о том, что он самый быстрый, самый выносливый, самый сильный. Ну самый, сам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icture"/>
          <p:cNvPicPr/>
          <p:nvPr/>
        </p:nvPicPr>
        <p:blipFill>
          <a:blip r:embed="rId1"/>
          <a:stretch/>
        </p:blipFill>
        <p:spPr>
          <a:xfrm>
            <a:off x="4724280" y="3429000"/>
            <a:ext cx="3657600" cy="2895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7" name="Text Box 5"/>
          <p:cNvSpPr/>
          <p:nvPr/>
        </p:nvSpPr>
        <p:spPr>
          <a:xfrm>
            <a:off x="457200" y="4343400"/>
            <a:ext cx="3886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ой бы совет вы дали Ва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523880" y="281952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играл- не зазнавайся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4 «в» проигрывала. То мяч ускользал из рук, то эстафетная палочка падала на пол. У Тани, как назло, соскочил с ноги тапок. Команда проиграла, Танюша даже заплакала. Тут подошла учительница и что-то шепн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icture"/>
          <p:cNvPicPr/>
          <p:nvPr/>
        </p:nvPicPr>
        <p:blipFill>
          <a:blip r:embed="rId1"/>
          <a:stretch/>
        </p:blipFill>
        <p:spPr>
          <a:xfrm>
            <a:off x="457200" y="3276720"/>
            <a:ext cx="2971800" cy="3047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4" name="Text Box 5"/>
          <p:cNvSpPr/>
          <p:nvPr/>
        </p:nvSpPr>
        <p:spPr>
          <a:xfrm>
            <a:off x="3733920" y="3505320"/>
            <a:ext cx="50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 вы думаете, что учительница сказала Т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ой совет на будущее она дала ребя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914400" y="1143000"/>
            <a:ext cx="7372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грал- не плачь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 настойчивым,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в следующий раз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язательно победишь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Играй честно, по правил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Поддерживай игроков своей коман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Не унижай сопер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Отстаивай свои права не кулаками и криком, а спокойно, терпели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ыиграл – не зазнавай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Проиграл – не плачь. Будь настойчивым, и в следующий раз обязательно победиш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914400" y="60948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тори и запомни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летней площадке дети играли в футб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а очень хотел помочь своей коман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Саша, игрок команды соперн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бегал с мячом к воротам, Миша незаметно подставил ему подножку. Саша упал и ушиб ногу. Судья назначил Мишиной команде штраф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 что судья наказал коман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icture"/>
          <p:cNvPicPr/>
          <p:nvPr/>
        </p:nvPicPr>
        <p:blipFill>
          <a:blip r:embed="rId1"/>
          <a:stretch/>
        </p:blipFill>
        <p:spPr>
          <a:xfrm>
            <a:off x="5562720" y="3657600"/>
            <a:ext cx="3200400" cy="2481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457200" y="1600200"/>
            <a:ext cx="811548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ай честно, по правилам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 играли в «Перестрелку». Одна команда начала проигрывать. Но тут на помощь пришёл капитан. Он крикнул: «А ну собрались! Надо выиграть! Не унывать!» В результате команда победила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 помогло побе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icture"/>
          <p:cNvPicPr/>
          <p:nvPr/>
        </p:nvPicPr>
        <p:blipFill>
          <a:blip r:embed="rId1"/>
          <a:stretch/>
        </p:blipFill>
        <p:spPr>
          <a:xfrm>
            <a:off x="228600" y="3352680"/>
            <a:ext cx="3352680" cy="2971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619200" y="2133720"/>
            <a:ext cx="79056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держивай игрок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ей команды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2 «б» класса играли против мальчиков 2 «в» класса в футбол. Счёт был 3:0. И тут Коля разошёлся: «Играть то не умеете! Слабаки! Ну и тихони! Да они же неумех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авильно ли делал Ко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ак надо вести себя по отношению к соперник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icture"/>
          <p:cNvPicPr/>
          <p:nvPr/>
        </p:nvPicPr>
        <p:blipFill>
          <a:blip r:embed="rId1"/>
          <a:stretch/>
        </p:blipFill>
        <p:spPr>
          <a:xfrm>
            <a:off x="5715000" y="1752480"/>
            <a:ext cx="3429000" cy="43434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1523880" y="2438280"/>
            <a:ext cx="60962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унижай соперников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на и Валя играли в шашки. Валя проиграла и очень расстроилась. Она стала разбрасывать шашки, размахивать доской, кричать на подругу. Лена не стала ругаться в ответ, а спокойно предложила Вале сыграть ещё одну пар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icture"/>
          <p:cNvPicPr/>
          <p:nvPr/>
        </p:nvPicPr>
        <p:blipFill>
          <a:blip r:embed="rId1"/>
          <a:stretch/>
        </p:blipFill>
        <p:spPr>
          <a:xfrm>
            <a:off x="685800" y="3733920"/>
            <a:ext cx="3352680" cy="25905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2" name="Text Box 5"/>
          <p:cNvSpPr/>
          <p:nvPr/>
        </p:nvSpPr>
        <p:spPr>
          <a:xfrm>
            <a:off x="4495680" y="3809880"/>
            <a:ext cx="4038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ьи действия вам не понравились?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533520" y="685800"/>
            <a:ext cx="80769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стаивай свои пра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кулаками и криком,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спокойно, терпеливо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3-08-24T19:53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