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D95-C013-4381-B729-9FE48E78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D77-8E5D-4C34-9F4A-860D28B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F3D-E8C2-48CD-A61E-A5C12003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654-0B57-4C1B-B177-BD8E8AB0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77CE-1A84-4CA1-BE1A-253AAB92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362-3B08-4CAC-A58E-9093C4E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44AE-351B-4C55-80EB-15724D9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4EB4-5BC7-411A-AB56-C5D51C0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FF6-E4D2-4AD1-98CC-4320144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E56B-543D-4357-8404-A89539F7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D9EC-0381-477A-9050-1EA4CE8D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A90-B9A4-4CD4-9955-A4AAF80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33E3-2F7A-4D32-94D9-E99C02D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B9BB-1B3B-499C-B3CA-2317BE1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1319-2C17-4BFB-B427-83D07A1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73C0-9D56-452B-A166-24752045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0DB-74FA-416A-BE58-DD5AA38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6B2-F937-40C4-908A-5D1D7E20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75E-FC62-4A5B-A916-C48DC4C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A2A-36DF-43DC-95A9-7F317AF2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FDC-9C75-4236-B6EA-385D594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69F-0B71-46D1-BA39-6DA1A15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9C9-D687-4488-B97B-8A2D5A3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4B3-115D-4A4B-A35D-796CC0C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F31-2405-420B-866F-DC381A54F89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184F-2F61-45C9-876D-B67D90BFA0F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87640" y="3914640"/>
            <a:ext cx="57261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ff"/>
              </a:solidFill>
              <a:latin typeface="Constanti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24000" y="213336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Теория и методика физического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340000" y="4437000"/>
            <a:ext cx="623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84360" y="712800"/>
            <a:ext cx="748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92360" y="76500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ка (ФП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546200" y="2060640"/>
            <a:ext cx="66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воспитания физических кач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владение жизненно важными дви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35600" y="4221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 и СПЕ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468360" y="6714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ностороннее развитие физических качеств, функциональных возможностей систем организма спортсменов в процессе мыше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681120" y="32112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ециальн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характеризуется уровнем развития физических способностей непосредственно опеределяющих достижения в избранном виде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79280" y="1340640"/>
            <a:ext cx="84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ленность (ФПть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1280" y="2781360"/>
            <a:ext cx="756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плексный результат ФП, который характеризуется повышенной работоспособ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сформированостью двигательных навыков, необходимых в определе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79280" y="6696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ОРТ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собственно соревновательная деятельность, специальная подготовка к ней, а так же межличностные отношения и норм, присуще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2160" y="393372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, спортивные трен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50920" y="1468440"/>
            <a:ext cx="84628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культурное движение (ФД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многообразие социального течения, в котором осуществляется совместная деятельность людей, по использованию и развитию ФК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19152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рекреация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вид физической культуры, в которой используется в виде активного отдыха людей, в упрощенных формах – спортивных упражн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9640" y="1052640"/>
            <a:ext cx="52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лагодарю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MCj03433110000[1]"/>
          <p:cNvPicPr/>
          <p:nvPr/>
        </p:nvPicPr>
        <p:blipFill>
          <a:blip r:embed="rId1"/>
          <a:stretch/>
        </p:blipFill>
        <p:spPr>
          <a:xfrm>
            <a:off x="5572080" y="3714840"/>
            <a:ext cx="3071880" cy="29192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4"/>
          <p:cNvSpPr txBox="1"/>
          <p:nvPr/>
        </p:nvSpPr>
        <p:spPr>
          <a:xfrm rot="20952600">
            <a:off x="512280" y="2844360"/>
            <a:ext cx="82249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cc0000"/>
                    </a:gs>
                  </a:gsLst>
                  <a:lin ang="70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 в работе!!!</a:t>
            </a:r>
            <a:endParaRPr b="0" lang="en-US" sz="1800" spc="1" strike="noStrike">
              <a:ln w="284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cc0000"/>
                  </a:gs>
                </a:gsLst>
                <a:lin ang="70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842840"/>
            <a:ext cx="87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ухова Н.Н., Рыжкова Л.А.,Борисова М.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методика физического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дошкольного возраста.- М.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физического воспитания и развития ребенка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Н. Кожухова, Л.А. Рыжкова, М.М. Борисова. - М.: Академия, 2008. – 35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аненкова Э.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 методика физического воспитания и развития детей. - М.: Академия, 2006. – 36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воспитание  и развитие дошкольников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О. Филиппова, Т.В. Волосникова,  - М.: Академия, 2007. –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5280" y="691560"/>
            <a:ext cx="84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Основны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1052640"/>
            <a:ext cx="25891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ТИМФК-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Text Box 81"/>
          <p:cNvSpPr/>
          <p:nvPr/>
        </p:nvSpPr>
        <p:spPr>
          <a:xfrm>
            <a:off x="3400560" y="1360440"/>
            <a:ext cx="549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енная система знаний о сущности и закономерностях использования физической культуры для физического совершенствовани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116000" y="22294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вид культуры содержанием которой является активная двигательная деятельность, построенная на основе материальных и духовных ценностей, специально созданных в обществе для физического совершенствова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7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ая культура ФК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755640" y="1953360"/>
            <a:ext cx="8064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ятель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обязательное выполнение физического упраж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Цен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материальные  и 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и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приобретение двигательных навыков, получение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33300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Структура Ф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(3 основных компонен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116000" y="15674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специфическим содержанием которого являетс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вижениям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физических качеств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вла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ециальными физкультурными знаниями 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формиров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й потребности в физкультурных зан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68360" y="61992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ое воспитан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11280" y="218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бучение движ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спитание физических качеств: сила, выносливость, гибкость, быстрота, ловк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оружение занимающихся спец. физк. зн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формирование у человека осознанной потребности в систематических занятиях физическими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Специфические 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ое развитие (ФР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095480" y="2060640"/>
            <a:ext cx="772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менения биологических форм и функций организма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нутый под влиянием наследственности, окружающей ср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68360" y="915120"/>
            <a:ext cx="84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ы, влия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ФР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71640" y="2637000"/>
            <a:ext cx="765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следственность (главенствующ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а (питание, мед.обслуживание, вредные привы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3:37:19Z</dcterms:created>
  <dc:creator>User</dc:creator>
  <dc:description/>
  <dc:language>en-US</dc:language>
  <cp:lastModifiedBy>Пользователь</cp:lastModifiedBy>
  <dcterms:modified xsi:type="dcterms:W3CDTF">2014-01-21T13:07:50Z</dcterms:modified>
  <cp:revision>34</cp:revision>
  <dc:subject/>
  <dc:title>Департамент образования администрации города Томска Муниципальное образовательное учреждение для детей дошкольного и младшего школьного возраста  прогимназия «Кристина» г. Томска Косарева ул., д. 27, Томск, 634034, тел.: (3822) 55-40-68, факс: (3822) 55-40-68, e-mail: rdkristina@mail.tomsknet.ru </dc:title>
</cp:coreProperties>
</file>