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E23-BD1E-41AB-9C3B-62EA20D1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FE9-E8DC-450A-8CEB-6CAF54DE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1CF-5324-4B34-8799-E31D7F12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DED-7E3C-4897-AF78-EF8525EF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D1DC-3C2E-405D-83A0-9FFFE9DA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3BDE-5740-499A-8E98-DD428FCA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492-2A14-4A0A-A083-C8D570D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49D6-A0FB-4B42-A3BD-E03A18D0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FE06-3D66-4AC2-BE27-1803FDAB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C0D3-FDC6-4A4C-B4AE-8B482834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B7FF-2106-4FE0-8C57-6E27CB2B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4AF-097B-4DAD-9030-5D4832D9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5163-D71C-4488-9BEF-4F58817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6D9E-BB69-42E8-B361-56A35280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A9A3-CC39-418A-9009-A588D926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A32B-6E90-4688-A207-2900CEFC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EC87-C55B-4AB6-877E-0BBDDCEA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B13-87D7-4650-8D69-3CDA3836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A27-EB1B-469D-A9E5-5341D815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F52-FFE4-4FBB-BD27-C58FEAE7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5FE-BA89-472F-93D0-116A7198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5F0-8A51-4CC0-B4B2-13004EB1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24B-6709-4D7A-8371-8DC01DD2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D38-A997-48BB-8855-AB69617E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E309-D2FF-4FEC-BC72-9A50D0FBB1A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32B1-86E4-4915-A0C4-C6B0D27D60B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987640" y="3914640"/>
            <a:ext cx="572616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ff"/>
              </a:solidFill>
              <a:latin typeface="Constantia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24000" y="213336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Теория и методика физического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340000" y="4437000"/>
            <a:ext cx="623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84360" y="712800"/>
            <a:ext cx="7488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92360" y="76500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ая подготовка (ФП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546200" y="2060640"/>
            <a:ext cx="66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воспитания физических кач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владение жизненно важными движ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135600" y="42210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 и СПЕ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468360" y="671400"/>
            <a:ext cx="8462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ая ФП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азностороннее развитие физических качеств, функциональных возможностей систем организма спортсменов в процессе мыше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681120" y="3211200"/>
            <a:ext cx="8462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пециальная ФП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характеризуется уровнем развития физических способностей непосредственно опеределяющих достижения в избранном виде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79280" y="1340640"/>
            <a:ext cx="84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ая подготовленность (ФПть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11280" y="2781360"/>
            <a:ext cx="756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мплексный результат ФП, который характеризуется повышенной работоспособ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сформированостью двигательных навыков, необходимых в определен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179280" y="669600"/>
            <a:ext cx="8463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ПОРТ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собственно соревновательная деятельность, специальная подготовка к ней, а так же межличностные отношения и норм, присуще эт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42160" y="393372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одготовка, спортивные трен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50920" y="1468440"/>
            <a:ext cx="84628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культурное движение (ФД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это многообразие социального течения, в котором осуществляется совместная деятельность людей, по использованию и развитию ФК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79280" y="1915200"/>
            <a:ext cx="8463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ая рекреация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это вид физической культуры, в которой используется в виде активного отдыха людей, в упрощенных формах – спортивных упражн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9640" y="1052640"/>
            <a:ext cx="52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Благодарю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MCj03433110000[1]"/>
          <p:cNvPicPr/>
          <p:nvPr/>
        </p:nvPicPr>
        <p:blipFill>
          <a:blip r:embed="rId1"/>
          <a:stretch/>
        </p:blipFill>
        <p:spPr>
          <a:xfrm>
            <a:off x="5572080" y="3714840"/>
            <a:ext cx="3071880" cy="29192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4"/>
          <p:cNvSpPr txBox="1"/>
          <p:nvPr/>
        </p:nvSpPr>
        <p:spPr>
          <a:xfrm rot="20952600">
            <a:off x="512280" y="2844360"/>
            <a:ext cx="82249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cc0000"/>
                    </a:gs>
                  </a:gsLst>
                  <a:lin ang="706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пехов в работе!!!</a:t>
            </a:r>
            <a:endParaRPr b="0" lang="en-US" sz="1800" spc="1" strike="noStrike">
              <a:ln w="284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cc0000"/>
                  </a:gs>
                </a:gsLst>
                <a:lin ang="706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79280" y="1842840"/>
            <a:ext cx="871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ухова Н.Н., Рыжкова Л.А.,Борисова М.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и методика физического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дошкольного возраста.- М.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ка физического воспитания и развития ребенка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Н. Кожухова, Л.А. Рыжкова, М.М. Борисова. - М.: Академия, 2008. – 35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аненкова Э.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и  методика физического воспитания и развития детей. - М.: Академия, 2006. – 36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воспитание  и развитие дошкольников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О. Филиппова, Т.В. Волосникова,  - М.: Академия, 2007. – 22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95280" y="691560"/>
            <a:ext cx="84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Основные 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8880" y="1052640"/>
            <a:ext cx="25891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ТИМФК-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Text Box 81"/>
          <p:cNvSpPr/>
          <p:nvPr/>
        </p:nvSpPr>
        <p:spPr>
          <a:xfrm>
            <a:off x="3400560" y="1360440"/>
            <a:ext cx="549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бщенная система знаний о сущности и закономерностях использования физической культуры для физического совершенствовани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116000" y="22294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вид культуры содержанием которой является активная двигательная деятельность, построенная на основе материальных и духовных ценностей, специально созданных в обществе для физического совершенствовани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712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Физическая культура ФК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755640" y="1953360"/>
            <a:ext cx="80643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Деятельнос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обязательное выполнение физического упражн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Ценнос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материальные  и духо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Результатив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приобретение двигательных навыков, получение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5280" y="33300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Структура Ф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(3 основных компонен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116000" y="156744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специфическим содержанием которого являетс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о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движениям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воспит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физических качеств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овлад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пециальными физкультурными знаниями и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формирова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ознанной потребности в физкультурных занят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68360" y="61992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Физическое воспитание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11280" y="2187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обучение движен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воспитание физических качеств: сила, выносливость, гибкость, быстрота, ловк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вооружение занимающихся спец. физк. зна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формирование у человека осознанной потребности в систематических занятиях физическими упраж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Специфические особе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ое развитие (ФР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095480" y="2060640"/>
            <a:ext cx="772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це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менения биологических форм и функций организма 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гнутый под влиянием наследственности, окружающей ср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я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68360" y="915120"/>
            <a:ext cx="84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акторы, влия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на ФР челове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71640" y="2637000"/>
            <a:ext cx="765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следственность (главенствующ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а (питание, мед.обслуживание, вредные привы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3:37:19Z</dcterms:created>
  <dc:creator>User</dc:creator>
  <dc:description/>
  <dc:language>en-US</dc:language>
  <cp:lastModifiedBy>Пользователь</cp:lastModifiedBy>
  <dcterms:modified xsi:type="dcterms:W3CDTF">2014-01-21T13:07:50Z</dcterms:modified>
  <cp:revision>34</cp:revision>
  <dc:subject/>
  <dc:title>Департамент образования администрации города Томска Муниципальное образовательное учреждение для детей дошкольного и младшего школьного возраста  прогимназия «Кристина» г. Томска Косарева ул., д. 27, Томск, 634034, тел.: (3822) 55-40-68, факс: (3822) 55-40-68, e-mail: rdkristina@mail.tomsknet.ru </dc:title>
</cp:coreProperties>
</file>