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CAF-8622-40A9-B8CC-39571CA6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E66-3B27-4059-A1F4-5612AB5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A6D-60E7-4B59-A334-95C0CEE6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1BF-3A19-4E33-9DF4-108A40BA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ECFC-8284-4864-A072-855811A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F24F-F9A9-4B18-93E2-866887DA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8D90-3132-4221-B98D-C7329337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3E0B-A8A2-46E4-AC9A-EFBBE07F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E6CD-D284-42DE-9359-BC730095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94AE-AF53-4B86-B1DB-0CC1D91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590F-C499-4FE2-8846-3D1F3C0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6CF-4FE9-419F-8B56-AAB7EE54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D7C9-38C7-460D-8528-17B6327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FC3D-AA62-4DE8-93B7-06869B86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39E-DE6B-4EF7-8E46-3168DE80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7371-F7B2-418E-87C9-EE8B62AC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BC42-B16B-45CA-897E-69A47C5C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68C-D54F-44CB-9F05-68DB0E7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E3E-370E-4686-9B3B-4FAAFEB0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F753-269D-410E-B556-26B69E4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08A-0568-4D8B-A651-9AB7F572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A0B-7668-44A3-B1E1-5EA348E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80C-4A1C-424D-B224-1A4CFC85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2F7-30B9-4636-9217-70406E8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F0DC-A586-4381-96E6-0D033D47C20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C7D7-180A-42CC-A4EC-2C41D0604BC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987640" y="3914640"/>
            <a:ext cx="57261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ff"/>
              </a:solidFill>
              <a:latin typeface="Constantia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324000" y="213336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Теория и методика физического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340000" y="4437000"/>
            <a:ext cx="6232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84360" y="712800"/>
            <a:ext cx="7488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692360" y="76500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подготовка (ФП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546200" y="2060640"/>
            <a:ext cx="66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воспитания физических кач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владение жизненно важными движ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35600" y="4221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 и СПЕ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468360" y="671400"/>
            <a:ext cx="846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я ФП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зностороннее развитие физических качеств, функциональных возможностей систем организма спортсменов в процессе мыше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681120" y="3211200"/>
            <a:ext cx="8462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ециальная ФП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характеризуется уровнем развития физических способностей непосредственно опеределяющих достижения в избранном виде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179280" y="1340640"/>
            <a:ext cx="84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подготовленность (ФПть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11280" y="2781360"/>
            <a:ext cx="756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мплексный результат ФП, который характеризуется повышенной работоспособ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сформированостью двигательных навыков, необходимых в определен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179280" y="669600"/>
            <a:ext cx="8463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ПОРТ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собственно соревновательная деятельность, специальная подготовка к ней, а так же межличностные отношения и норм, присуще эт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42160" y="393372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подготовка, спортивные трен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50920" y="1468440"/>
            <a:ext cx="84628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культурное движение (ФД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многообразие социального течения, в котором осуществляется совместная деятельность людей, по использованию и развитию ФК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179280" y="1915200"/>
            <a:ext cx="8463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ая рекреация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это вид физической культуры, в которой используется в виде активного отдыха людей, в упрощенных формах – спортивных упражн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9640" y="1052640"/>
            <a:ext cx="52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лагодарю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MCj03433110000[1]"/>
          <p:cNvPicPr/>
          <p:nvPr/>
        </p:nvPicPr>
        <p:blipFill>
          <a:blip r:embed="rId1"/>
          <a:stretch/>
        </p:blipFill>
        <p:spPr>
          <a:xfrm>
            <a:off x="5572080" y="3714840"/>
            <a:ext cx="3071880" cy="29192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4"/>
          <p:cNvSpPr txBox="1"/>
          <p:nvPr/>
        </p:nvSpPr>
        <p:spPr>
          <a:xfrm rot="20952600">
            <a:off x="512280" y="2844360"/>
            <a:ext cx="822492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cc0000"/>
                    </a:gs>
                  </a:gsLst>
                  <a:lin ang="706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пехов в работе!!!</a:t>
            </a:r>
            <a:endParaRPr b="0" lang="en-US" sz="1800" spc="1" strike="noStrike">
              <a:ln w="284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cc0000"/>
                  </a:gs>
                </a:gsLst>
                <a:lin ang="706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79280" y="1842840"/>
            <a:ext cx="8713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жухова Н.Н., Рыжкова Л.А.,Борисова М.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и методика физического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дошкольного возраста.- М.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ка физического воспитания и развития ребенка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Н. Кожухова, Л.А. Рыжкова, М.М. Борисова. - М.: Академия, 2008. – 352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аненкова Э.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и  методика физического воспитания и развития детей. - М.: Академия, 2006. – 36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воспитание  и развитие дошкольников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О. Филиппова, Т.В. Волосникова,  - М.: Академия, 2007. –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95280" y="691560"/>
            <a:ext cx="84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Основные 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8880" y="1052640"/>
            <a:ext cx="25891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ТИМФК-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Text Box 81"/>
          <p:cNvSpPr/>
          <p:nvPr/>
        </p:nvSpPr>
        <p:spPr>
          <a:xfrm>
            <a:off x="3400560" y="1360440"/>
            <a:ext cx="549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енная система знаний о сущности и закономерностях использования физической культуры для физического совершенствовани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116000" y="22294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вид культуры содержанием которой является активная двигательная деятельность, построенная на основе материальных и духовных ценностей, специально созданных в обществе для физического совершенствовани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52712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Физическая культура ФК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755640" y="1953360"/>
            <a:ext cx="806436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Деятель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обязательное выполнение физического упражн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Ценнос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материальные  и духо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Результатив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(приобретение двигательных навыков, получение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95280" y="333000"/>
            <a:ext cx="846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Структура Ф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(3 основных компонен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116000" y="15674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ий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специфическим содержанием которого является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обу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вижениям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воспи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физических качеств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овла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специальными физкультурными знаниями и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формиров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ознанной потребности в физкультурных зан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68360" y="61992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Физическое воспитание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611280" y="218700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бучение движен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оспитание физических качеств: сила, выносливость, гибкость, быстрота, ловк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ооружение занимающихся спец. физк. зн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формирование у человека осознанной потребности в систематических занятиях физическими упраж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Arial"/>
              <a:buChar char="•"/>
              <a:tabLst>
                <a:tab algn="l" pos="121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Calibri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Calibri"/>
              </a:rPr>
              <a:t>Специфические особе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468360" y="122004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изическое развитие (ФР)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095480" y="2060640"/>
            <a:ext cx="772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менения биологических форм и функций организма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нутый под влиянием наследственности, окружающей ср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68360" y="915120"/>
            <a:ext cx="846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Факторы, влияющ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ФР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71640" y="2637000"/>
            <a:ext cx="765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следственность (главенствующ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а (питание, мед.обслуживание, вредные привы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3:37:19Z</dcterms:created>
  <dc:creator>User</dc:creator>
  <dc:description/>
  <dc:language>en-US</dc:language>
  <cp:lastModifiedBy>Пользователь</cp:lastModifiedBy>
  <dcterms:modified xsi:type="dcterms:W3CDTF">2014-01-21T13:07:50Z</dcterms:modified>
  <cp:revision>34</cp:revision>
  <dc:subject/>
  <dc:title>Департамент образования администрации города Томска Муниципальное образовательное учреждение для детей дошкольного и младшего школьного возраста  прогимназия «Кристина» г. Томска Косарева ул., д. 27, Томск, 634034, тел.: (3822) 55-40-68, факс: (3822) 55-40-68, e-mail: rdkristina@mail.tomsknet.ru </dc:title>
</cp:coreProperties>
</file>