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C0E-02F3-4781-AA9A-25506F1C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50E-6EDE-4CC5-9295-06F9929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B12-319E-405A-AACF-98AA6876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B0B-F66A-4375-94B7-C5D5DD2C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AF1B-E437-4E2F-9DB3-00955431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9BAE-F7BE-4AA5-A111-F249452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97DC-97C9-427A-B1BB-80E9BD4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9D7C-2564-4DAE-B6EF-3A3BDFE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EFE-50E7-40FD-95EE-7FD4848E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CCF-B453-4A7A-8DED-E085CE6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D4D0-520C-4E9E-9A39-64B4A7E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3AD-A6AC-4104-8FE8-3BF38EF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6F1C-4511-43FF-AB97-668556B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735A-D0FD-431F-BBDE-245CFF9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3629-F27B-4EA1-9E98-A3C542D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E59E-55F8-489C-9FDE-6183C108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F46-3D21-499A-BCE7-A5227B62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AA7-8712-429B-B2D1-7F576D9B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8F1-D498-44B8-91AD-25E1759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25B-3182-43B2-B0F4-07BC4A8E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C78-0ABB-47F6-9C00-4E6E48C0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5C9-E6BB-4746-9970-D2D0221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5CE-101D-459C-891B-939ED175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9C4-6903-4683-B360-A8D3E58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E13-1399-4D1E-B1DB-86D01DB5B7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04D3-8FA5-4D35-A72A-323E4C28597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етолог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дела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помощью разных источников информации выяснили, что такое диета, диетология, трополог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ли рекомендуемые среднесуточные наборы продуктов для питания детей школьного возраста 7-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одноклассникам знаком «+» отметить продукты, которые они наиболее часто используют  в течение нед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учащимся написать 3 продукта, которые они считают «любимыми» и «нелюбимыми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анализировали полученные результ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делали выво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выяснили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логия – наука о пита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ология (Диетика) – раздел медицины, занимающийся  изучением и обоснованием принципов питания больных при различных заболева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а – определенный режим п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екомендуемые среднесуточные наборы продуктов для питания детей школьного возраста 7-11 лет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(на одного ребенка, г/брутто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ржаной (ржано-пшеничный) -80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пшеничный -15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ука пшеничная -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рупы, бобовые – 4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каронные изделия -15 г.Картофель -2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Овощи свежие, зелень -35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вежие -200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ухие, в т.ч. шиповник – 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ки плодоовощные, напитки витаминизированные -20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ясо 1 кат.- 9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тица 1 кат п/п - 4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Рыба – 6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лбасные изделия -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олоко (м.д.ж. 3,2%) – 30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исломолочные продукты (м.д.ж. 3,2%) – 15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Творог -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ыр -1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метана  -1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сливочн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растительное –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Яйцо диетическ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ахар – 4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ндитерские изделия – 1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Чай - 0,4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акао, напиток кофейный злаковый – 1,2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Дрожжи хлебопекарные -1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ль- 5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снили, что учащиеся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е употребляют продукты пит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ого происхождения -  70%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м продукты растительного происхождения - 3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раститель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кароны -  50%, картофель -  30%, другие - 2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живот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басные изделия -  60%,  кисломолочные -  20%, яйца -  10%, другие - 1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ладости» - 70%, «Чипсы» - 80%, газированные напитки - 90%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Не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ши - 60%, супы - 56%, овощи лук, свеклу, морковь - 6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иеся класса  гораздо чаще используют  продукты питания, которые не соответствуют продуктам питания,   рекомендованным Министерством здравоохранения для их 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оследствии это может сказаться на состоянии их здоров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ько врач может оказать помощь таким учащимся, предложив соответствующие ди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53:33Z</dcterms:created>
  <dc:creator>Lanser Client</dc:creator>
  <dc:description/>
  <dc:language>en-US</dc:language>
  <cp:lastModifiedBy>ZooM</cp:lastModifiedBy>
  <dcterms:modified xsi:type="dcterms:W3CDTF">2013-12-03T20:41:37Z</dcterms:modified>
  <cp:revision>14</cp:revision>
  <dc:subject/>
  <dc:title>Продукты пит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20000000000010243000207f6000400038000</vt:lpwstr>
  </property>
</Properties>
</file>