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3D4-8829-49F3-9728-9BF721C1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D5E-E721-4F4B-A870-ADEE49E0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1EA-4910-4B4D-9B82-9DE9E3B3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2D6-CBD9-40F6-8DE8-EA74B649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209-FDD9-420A-B347-E478D3F9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E7AB-B057-4392-8B7D-E4F6C9AC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DB3D-30CC-4C06-8277-546D92A6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58D0-3CF3-4432-91CB-2B57DEDD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C451-5768-412D-8176-3CA2FA95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44F2-89C3-4A2C-A5AC-7040912D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D9FA-67F0-492E-88CD-07BB5044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439-E63F-4367-8691-4A1246EE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33A3-3CDB-40A9-A4AA-EB71932E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B09D-DF41-428A-B1D6-A0662175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76FD-D8FD-49CD-A576-9D31A165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0C9E-17AA-42E7-AA45-1715A53E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C407-C0FA-4134-8B77-4C420AF8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BA8-A7AE-4D10-9FF5-510AA37E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3DA-E82E-42B5-AC4C-EFF04DA1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A66-FC83-427D-85F3-838F72F1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4E1-3DF4-4008-8A38-E299DAE2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5AB-98A7-474A-885D-7E506013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D67-0A15-4539-8435-02BAB419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6BB-D613-48B9-85A4-02BFE2EE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18D3-4A88-4D69-B7E2-DB0C6797C2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5812-98A8-4FEA-B4D4-9A528CE624C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иетолог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дела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помощью разных источников информации выяснили, что такое диета, диетология, трополог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шли рекомендуемые среднесуточные наборы продуктов для питания детей школьного возраста 7-11 ле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или одноклассникам знаком «+» отметить продукты, которые они наиболее часто используют  в течение нед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или учащимся написать 3 продукта, которые они считают «любимыми» и «нелюбимыми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анализировали полученные результ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делали выво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выяснили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опология – наука о пита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етология (Диетика) – раздел медицины, занимающийся  изучением и обоснованием принципов питания больных при различных заболева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ета – определенный режим пит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екомендуемые среднесуточные наборы продуктов для питания детей школьного возраста 7-11 лет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(на одного ребенка, г/брутто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Хлеб ржаной (ржано-пшеничный) -80г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Хлеб пшеничный -150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ука пшеничная -15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рупы, бобовые – 45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акаронные изделия -15 г.Картофель -25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Овощи свежие, зелень -350 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Фрукты (плоды) свежие -200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Фрукты (плоды) сухие, в т.ч. шиповник – 15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оки плодоовощные, напитки витаминизированные -20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ясо 1 кат.- 95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Птица 1 кат п/п - 40 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Рыба – 6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олбасные изделия - 15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олоко (м.д.ж. 3,2%) – 300мл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исломолочные продукты (м.д.ж. 3,2%) – 150мл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Творог -5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ыр -10 г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метана  -1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асло сливочное – 3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Масло растительное – 15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Яйцо диетическое – 3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ахар – 40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ондитерские изделия – 10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Чай - 0,4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Какао, напиток кофейный злаковый – 1,2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Дрожжи хлебопекарные -1 г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Соль- 5г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яснили, что учащиеся клас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е употребляют продукты пит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вотного происхождения -  70%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ем продукты растительного происхождения - 3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иболее часто  учащееся употребля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продуктов растительного происхожден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кароны -  50%, картофель -  30%, другие - 20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иболее часто  учащееся употребля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продуктов животного происхожден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лбасные изделия -  60%,  кисломолочные -  20%, яйца -  10%, другие - 10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Любимыми» продуктами учащиеся называют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ладости» - 70%, «Чипсы» - 80%, газированные напитки - 90%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Нелюбимыми» продуктами учащиеся называют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ши - 60%, супы - 56%, овощи лук, свеклу, морковь - 6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щиеся класса  гораздо чаще используют  продукты питания, которые не соответствуют продуктам питания,   рекомендованным Министерством здравоохранения для их 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оследствии это может сказаться на состоянии их здоровь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ько врач может оказать помощь таким учащимся, предложив соответствующие ди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4:53:33Z</dcterms:created>
  <dc:creator>Lanser Client</dc:creator>
  <dc:description/>
  <dc:language>en-US</dc:language>
  <cp:lastModifiedBy>ZooM</cp:lastModifiedBy>
  <dcterms:modified xsi:type="dcterms:W3CDTF">2013-12-03T20:41:37Z</dcterms:modified>
  <cp:revision>14</cp:revision>
  <dc:subject/>
  <dc:title>Продукты пит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20000000000010243000207f6000400038000</vt:lpwstr>
  </property>
</Properties>
</file>