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6CA-3C5C-42F8-A4EE-915B6EA8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FFA-7C5E-40F9-9EA6-CF80F567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B0F-A4F7-4DED-8834-602B71D3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5D6-62FC-4B4A-920C-39A1A823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7867-6FB4-454B-8CE5-EC04A4EE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1B38-7E04-493D-9889-AE5F18AC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C91B-7423-4175-B8CB-449A9D2B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A36E-9AB1-434B-9559-71894001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5254-324B-4C60-BD25-176F0036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B351-79B4-44C0-BC32-8A41393D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776D-DFE4-4E30-93AB-2014EB5A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F0D-5445-41FE-AC99-9C7669F8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87EF-AC11-4C21-AD7E-A319A7AA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E923-D1B1-47B2-A5A2-B590869B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CAFF-67E7-457C-B594-40950701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C974-09CA-4D92-BBB4-3F54883C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3835-D3C7-41F0-ACD9-2A0CF602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EA0-3A60-423E-940A-D75B1F37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9C35-FB41-44D0-AA17-0D32521B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34A3-694D-488C-9AC5-904BAAF8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C22-27ED-4125-B53D-5177B94F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72E4-4DF5-4C9D-BD82-A7A597A3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FCE-354E-49B5-9736-1BC14DAB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A84-3307-4D34-8761-D4DDE370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CFD2-A0FC-488F-94F1-4D17CA493F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C5AA-5A72-4BD3-B711-EA2BEDE87270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иетолог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Что делал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помощью разных источников информации выяснили, что такое диета, диетология, тропология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шли рекомендуемые среднесуточные наборы продуктов для питания детей школьного возраста 7-11 ле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ложили одноклассникам знаком «+» отметить продукты, которые они наиболее часто используют  в течение неде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ложили учащимся написать 3 продукта, которые они считают «любимыми» и «нелюбимыми»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анализировали полученные результа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делали вывод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Что выяснили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опология – наука о питан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етология (Диетика) – раздел медицины, занимающийся  изучением и обоснованием принципов питания больных при различных заболевания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ета – определенный режим пита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екомендуемые среднесуточные наборы продуктов для питания детей школьного возраста 7-11 лет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(на одного ребенка, г/брутто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Хлеб ржаной (ржано-пшеничный) -80г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Хлеб пшеничный -150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Мука пшеничная -15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Крупы, бобовые – 45г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Макаронные изделия -15 г.Картофель -25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Овощи свежие, зелень -350 г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Фрукты (плоды) свежие -200г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Фрукты (плоды) сухие, в т.ч. шиповник – 15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Соки плодоовощные, напитки витаминизированные -20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Мясо 1 кат.- 95г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Птица 1 кат п/п - 40 г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Рыба – 6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Колбасные изделия - 15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Молоко (м.д.ж. 3,2%) – 300мл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Кисломолочные продукты (м.д.ж. 3,2%) – 150мл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Творог -5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Сыр -10 г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Сметана  -1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Масло сливочное – 3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Масло растительное – 15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Яйцо диетическое – 3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Сахар – 4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Кондитерские изделия – 10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Чай - 0,4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Какао, напиток кофейный злаковый – 1,2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Дрожжи хлебопекарные -1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Соль- 5г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зульта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яснили, что учащиеся клас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ольше употребляют продукты пит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вотного происхождения -  70%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ем продукты растительного происхождения - 30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зульта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иболее часто  учащееся употребляю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 продуктов растительного происхожден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кароны -  50%, картофель -  30%, другие - 20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иболее часто  учащееся употребляю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 продуктов животного происхожден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басные изделия -  60%,  кисломолочные -  20%, яйца -  10%, другие - 10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зульта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Любимыми» продуктами учащиеся называют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ладости» - 70%, «Чипсы» - 80%, газированные напитки - 90%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Нелюбимыми» продуктами учащиеся называют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ши - 60%, супы - 56%, овощи лук, свеклу, морковь - 67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ащиеся класса  гораздо чаще используют  продукты питания, которые не соответствуют продуктам питания,   рекомендованным Министерством здравоохранения для их возрас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последствии это может сказаться на состоянии их здоровь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лько врач может оказать помощь таким учащимся, предложив соответствующие дие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4:53:33Z</dcterms:created>
  <dc:creator>Lanser Client</dc:creator>
  <dc:description/>
  <dc:language>en-US</dc:language>
  <cp:lastModifiedBy>ZooM</cp:lastModifiedBy>
  <dcterms:modified xsi:type="dcterms:W3CDTF">2013-12-03T20:41:37Z</dcterms:modified>
  <cp:revision>14</cp:revision>
  <dc:subject/>
  <dc:title>Продукты пит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20000000000010243000207f6000400038000</vt:lpwstr>
  </property>
</Properties>
</file>