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751-8327-4253-89BF-C28BFBA0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B57-E736-4BF3-B374-9FE4C4D0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02A-3E8B-427A-8603-AAAE9157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D9B-EFE5-408A-9019-B9F2B1F9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7D15-4E0F-4E23-8DF5-4DFDAFEF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E438-8A96-488F-80FA-68AE1FB6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3E84-3F2D-42FA-A345-70FFBBE3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4295-EBD7-4CB4-90A6-CA921482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9A28-BA81-4D1B-BA18-DFCFE471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94D8-7097-46ED-9BCF-D9F5946F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638A-77B3-456E-9023-E19F999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08E-AC5A-472D-AC82-560CABAA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D74B-23AA-4D14-9478-6123A4DA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63C9-9C4A-4C44-B57B-7F235ED2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0B16-5F7E-4468-B474-44C52491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06EF-1D0D-4604-9816-1240DEC1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A2AE-ED08-4FC4-B1D4-6D07BB97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94F-79F5-47CF-95CD-7DF273F9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33E-1E0F-4B93-AFE3-A8286947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D7E-23B8-4859-AE4E-2F3E4D74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D54-5181-4D71-BF81-699C3A9B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1A0-C7BD-4683-A608-58E281F8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AC0-756A-406A-8B7C-FD97FA57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128-CC16-4F38-8351-B94805E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A560-1602-42EB-A821-AD4734EF5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BBA5-07D8-4D5B-AD5D-D87F2949C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Международная интеграц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следствия интеграции и глобализ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тернизация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епление неравноправного положения стран в экономической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индустриализация национальных эконом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тический диктат развиты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щерб национальному суверенит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ождение новы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ждународные организ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группа – с. 227-228 – 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группа – с. 228-229 – Совет Ев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группа – с. 229-231 – 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ить ответ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ние и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ководящие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овое правительство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информационного аналитического агентства при Управлении делами президента РФ Александр Игна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лючевым фактором, влияющим на современные глобализационные процессы, является деятельность Мирового правительства... Эта надгосударственная структура эффективно исполняет роль штаба «нового мирового порядка». В своей работе эта организация ориентируется на интересы малочисленной элиты, объединенной этническим родством и инициацией (т. е. посвящением) в ложах деструктивной направленности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Независимая газета» от 7 сентября 2000 г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1280" y="5097600"/>
            <a:ext cx="30168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11280" y="2376360"/>
            <a:ext cx="301680" cy="249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11280" y="1204920"/>
            <a:ext cx="311040" cy="735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2411280" y="5099040"/>
            <a:ext cx="3803760" cy="149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5"/>
          <a:stretch/>
        </p:blipFill>
        <p:spPr>
          <a:xfrm>
            <a:off x="2987640" y="4443480"/>
            <a:ext cx="2639880" cy="64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6"/>
          <a:stretch/>
        </p:blipFill>
        <p:spPr>
          <a:xfrm>
            <a:off x="3203640" y="3295800"/>
            <a:ext cx="2211480" cy="1141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7"/>
          <a:stretch/>
        </p:blipFill>
        <p:spPr>
          <a:xfrm>
            <a:off x="3995640" y="1268280"/>
            <a:ext cx="567000" cy="72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8"/>
          <a:stretch/>
        </p:blipFill>
        <p:spPr>
          <a:xfrm>
            <a:off x="971640" y="3295800"/>
            <a:ext cx="2211120" cy="1141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9"/>
          <a:stretch/>
        </p:blipFill>
        <p:spPr>
          <a:xfrm>
            <a:off x="5364000" y="3224160"/>
            <a:ext cx="2354400" cy="1212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10"/>
          <a:stretch/>
        </p:blipFill>
        <p:spPr>
          <a:xfrm>
            <a:off x="5651640" y="4400640"/>
            <a:ext cx="1712880" cy="75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11"/>
          <a:stretch/>
        </p:blipFill>
        <p:spPr>
          <a:xfrm>
            <a:off x="4932360" y="2273400"/>
            <a:ext cx="2782800" cy="101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12"/>
          <a:stretch/>
        </p:blipFill>
        <p:spPr>
          <a:xfrm>
            <a:off x="4643280" y="1125360"/>
            <a:ext cx="2926080" cy="992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6"/>
          <p:cNvSpPr/>
          <p:nvPr/>
        </p:nvSpPr>
        <p:spPr>
          <a:xfrm>
            <a:off x="684360" y="260280"/>
            <a:ext cx="7704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 о ц и а л ь н а я     с т р а т и ф и к а ц и 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   р е г и о н а л ь н о й    ц и в и л и з а ц и и    з а п а д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692360" y="1197000"/>
            <a:ext cx="20746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хар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13"/>
          <a:stretch/>
        </p:blipFill>
        <p:spPr>
          <a:xfrm>
            <a:off x="3635280" y="2349360"/>
            <a:ext cx="13683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43200000">
                                      <p:cBhvr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92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92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192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192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лобалисты и антиглобалист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79640" y="1557360"/>
            <a:ext cx="67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обалис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торонники глоб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иглобали́з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олитическое движение, направленное против определённых аспектов процесса глобализации в её современ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глобалисты регулярно проводят в разных странах мира социальные форумы, различные акции про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i?id=82520514-03"/>
          <p:cNvPicPr/>
          <p:nvPr/>
        </p:nvPicPr>
        <p:blipFill>
          <a:blip r:embed="rId1"/>
          <a:stretch/>
        </p:blipFill>
        <p:spPr>
          <a:xfrm>
            <a:off x="468360" y="1413000"/>
            <a:ext cx="117792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ртинка 56 из 3870"/>
          <p:cNvPicPr/>
          <p:nvPr/>
        </p:nvPicPr>
        <p:blipFill>
          <a:blip r:embed="rId2"/>
          <a:stretch/>
        </p:blipFill>
        <p:spPr>
          <a:xfrm>
            <a:off x="250920" y="3141720"/>
            <a:ext cx="1547640" cy="153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964261_1181310725"/>
          <p:cNvPicPr/>
          <p:nvPr/>
        </p:nvPicPr>
        <p:blipFill>
          <a:blip r:embed="rId3"/>
          <a:stretch/>
        </p:blipFill>
        <p:spPr>
          <a:xfrm>
            <a:off x="179280" y="5157720"/>
            <a:ext cx="2028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 М. Шумил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е последствия глобализации // www.credonew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имирова И.Г. Глобализация мировой экономики: проблемы и последствия //Менеджмент в России и за рубежом/№3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 Медведева, Т. Шишова. Что такое глобализация и ее последствия для России//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Православные вести», 29 марта 200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культуры мира в контексте глобализации// www.nasledie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о в условиях глобализации //ww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f.b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 Кузнецов. Концепция глобалистов// www.patriotic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28, конспект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иться к пресс-вонференции «Последствия глобализации для мира и для России» по групп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уппа – Глобали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уппа – Антиглоб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уппа – Представители пр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лобализац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образования наднациональных структур в сфере экономики, политики, культуры, которые оказывают влияние на мировые проце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складывания единого мирового сообщества, миров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заключается в построении единого всемирного государства с единым правительством, единым пространством, единой валютой, единым народом, культурой и про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нтеграц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устойчивых экономических, политических, социальных и культурных связей между государствами, процесс их сближения, объ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чины интеграци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развитых стр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ход на новые рынк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уп к более дешевым факторам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ие издержек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ление мирового госп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чины интеграци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стальных стра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влечение инвести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общение к экономическому и технологическому опыту развиты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ощь в решении экономически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своих внутриполитически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во внешней поли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ровни экономической интегр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1583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ишите из учебника Салыгина – с. 226-2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рговые соглашения на 2-х или многосторонне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а свободной торговли (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A, NAFTA, E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оженный сою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й рынок (Совет сотрудничества арабских стран Персидского залива, Андский общий рын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номический союз (ЕС, Бенилюкс, СНГ, Магри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правления  и проявления интегр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ая интеграция – ТНК, МВФ, МБРР, ЕС, В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тическая интеграция – ООН, Совет Европы, Н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ая интеграция – миграция, смешанные бр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ховная интеграция – интернационализация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10_2"/>
          <p:cNvPicPr/>
          <p:nvPr/>
        </p:nvPicPr>
        <p:blipFill>
          <a:blip r:embed="rId1"/>
          <a:stretch/>
        </p:blipFill>
        <p:spPr>
          <a:xfrm>
            <a:off x="1370160" y="0"/>
            <a:ext cx="656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следствия интеграции и глобализ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т производства, торгового оборота, развитие инфраструктуры, распространение новейши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ствуют решению глобальны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рует целостность мира и его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выгодное сотрудничество разных стран и на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02:14Z</dcterms:created>
  <dc:creator>user</dc:creator>
  <dc:description/>
  <dc:language>en-US</dc:language>
  <cp:lastModifiedBy>Admin</cp:lastModifiedBy>
  <dcterms:modified xsi:type="dcterms:W3CDTF">2011-10-21T13:50:35Z</dcterms:modified>
  <cp:revision>6</cp:revision>
  <dc:subject/>
  <dc:title>Международная интеграция</dc:title>
</cp:coreProperties>
</file>