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FC5-CA28-4A89-A396-2EE94932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6B1-1DB9-4A78-B4E9-B0F1E2A1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271-04B3-465D-9ACC-36F7F4E8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5F5-1B09-4E5D-B1F7-6AD56A9B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F5B4-6731-44F6-931F-9A6559B7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A9B-4102-41B2-9439-CB4BDF1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ADFB-1210-4D3C-A54E-E4264ADC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293A-AC79-4BBB-B5E5-5E53111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4F0-A004-4DCA-B4AF-AB14CD6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35B5-3EA3-4F74-829E-2581B861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EC24-C383-4A37-ADAB-644C385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D4B-9E9D-4B0F-931A-97F4AA2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E75-880E-44AA-981A-F255874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75FB-1DDC-403B-86EF-03D7338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6B09-590C-42BF-A285-DE6F862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008E-967B-4F73-B058-C94B2FD9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FC16-63EA-415A-B138-7FC8B0F3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A40-E704-4243-97A5-19894F05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CFE-FF87-4BC3-B1D2-BB3E8F3A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C2C-676D-474A-AED0-A5F7C209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031-A220-4315-BCCA-26DF0C1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0C9-97CD-4758-83F0-A5DBD29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EFA-64D6-4565-A57C-3705CB3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272-B390-4DA5-B475-9CB4398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5795-4F5C-414F-B12E-85DC7BBC5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FE0-7B85-42AD-A7BC-83DAED8F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Международная интегр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ствия интеграции и глобал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тернизация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епление неравноправного положения стран в экономическ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индустриализация национальных эконом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тический диктат развиты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щерб национальному суверенит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ождение нов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ждународные орган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уппа – с. 227-228 – 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группа – с. 228-229 – Совет Ев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группа – с. 229-231 –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 ответ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ние и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оводящие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овое правительство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информационного аналитического агентства при Управлении делами президента РФ Александр Игна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лючевым фактором, влияющим на современные глобализационные процессы, является деятельность Мирового правительства... Эта надгосударственная структура эффективно исполняет роль штаба «нового мирового порядка». В своей работе эта организация ориентируется на интересы малочисленной элиты, объединенной этническим родством и инициацией (т. е. посвящением) в ложах деструктивной направленности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Независимая газета» от 7 сентября 2000 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1280" y="5097600"/>
            <a:ext cx="30168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11280" y="2376360"/>
            <a:ext cx="301680" cy="249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1280" y="1204920"/>
            <a:ext cx="311040" cy="735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2411280" y="5099040"/>
            <a:ext cx="3803760" cy="149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2987640" y="4443480"/>
            <a:ext cx="2639880" cy="64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6"/>
          <a:stretch/>
        </p:blipFill>
        <p:spPr>
          <a:xfrm>
            <a:off x="3203640" y="3295800"/>
            <a:ext cx="2211480" cy="114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7"/>
          <a:stretch/>
        </p:blipFill>
        <p:spPr>
          <a:xfrm>
            <a:off x="3995640" y="1268280"/>
            <a:ext cx="567000" cy="72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8"/>
          <a:stretch/>
        </p:blipFill>
        <p:spPr>
          <a:xfrm>
            <a:off x="971640" y="3295800"/>
            <a:ext cx="2211120" cy="114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9"/>
          <a:stretch/>
        </p:blipFill>
        <p:spPr>
          <a:xfrm>
            <a:off x="5364000" y="3224160"/>
            <a:ext cx="2354400" cy="121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10"/>
          <a:stretch/>
        </p:blipFill>
        <p:spPr>
          <a:xfrm>
            <a:off x="5651640" y="4400640"/>
            <a:ext cx="1712880" cy="75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11"/>
          <a:stretch/>
        </p:blipFill>
        <p:spPr>
          <a:xfrm>
            <a:off x="4932360" y="2273400"/>
            <a:ext cx="2782800" cy="101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12"/>
          <a:stretch/>
        </p:blipFill>
        <p:spPr>
          <a:xfrm>
            <a:off x="4643280" y="1125360"/>
            <a:ext cx="2926080" cy="992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684360" y="260280"/>
            <a:ext cx="770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 о ц и а л ь н а я     с т р а т и ф и к а ц и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  р е г и о н а л ь н о й    ц и в и л и з а ц и и    з а п а д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692360" y="1197000"/>
            <a:ext cx="2074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хар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3"/>
          <a:stretch/>
        </p:blipFill>
        <p:spPr>
          <a:xfrm>
            <a:off x="3635280" y="2349360"/>
            <a:ext cx="13683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43200000">
                                      <p:cBhvr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92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92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лобалисты и антиглобалист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7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обали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торонники глоб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глобали́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олитическое движение, направленное против определённых аспектов процесса глобализации в её современ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глобалисты регулярно проводят в разных странах мира социальные форумы, различные акции про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?id=82520514-03"/>
          <p:cNvPicPr/>
          <p:nvPr/>
        </p:nvPicPr>
        <p:blipFill>
          <a:blip r:embed="rId1"/>
          <a:stretch/>
        </p:blipFill>
        <p:spPr>
          <a:xfrm>
            <a:off x="468360" y="1413000"/>
            <a:ext cx="117792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56 из 3870"/>
          <p:cNvPicPr/>
          <p:nvPr/>
        </p:nvPicPr>
        <p:blipFill>
          <a:blip r:embed="rId2"/>
          <a:stretch/>
        </p:blipFill>
        <p:spPr>
          <a:xfrm>
            <a:off x="250920" y="3141720"/>
            <a:ext cx="1547640" cy="153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964261_1181310725"/>
          <p:cNvPicPr/>
          <p:nvPr/>
        </p:nvPicPr>
        <p:blipFill>
          <a:blip r:embed="rId3"/>
          <a:stretch/>
        </p:blipFill>
        <p:spPr>
          <a:xfrm>
            <a:off x="179280" y="5157720"/>
            <a:ext cx="2028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 М. Шуми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последствия глобализации // www.credonew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имирова И.Г. Глобализация мировой экономики: проблемы и последствия //Менеджмент в России и за рубежом/№3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 Медведева, Т. Шишова. Что такое глобализация и ее последствия для России/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Православные вести», 29 марта 200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культуры мира в контексте глобализации// www.nasledie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в условиях глобализации //ww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f.b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 Кузнецов. Концепция глобалистов// www.patriotic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8, конспект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ся к пресс-вонференции «Последствия глобализации для мира и для России» по групп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уппа – Глоба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уппа – Антиглоб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уппа – Представители пр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лобализ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образования наднациональных структур в сфере экономики, политики, культуры, которые оказывают влияние на миров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складывания единого мирового сообщества, миров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заключается в построении единого всемирного государства с единым правительством, единым пространством, единой валютой, единым народом, культурой и про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устойчивых экономических, политических, социальных и культурных связей между государствами, процесс их сближения, объ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интеграци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развитых стр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ход на новые рынк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уп к более дешевым факторам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ие издержек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ие мирового госп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интеграци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стальных стр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лечение инвести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бщение к экономическому и технологическому опыту развит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щь в решении экономически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своих внутриполитически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во внешней поли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ровни экономической интегр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158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ишите из учебника Салыгина – с. 226-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рговые соглашения на 2-х или многосторонне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а свободной торговли (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A, NAFTA, E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оженный сою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й рынок (Совет сотрудничества арабских стран Персидского залива, Андский общий рын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номический союз (ЕС, Бенилюкс, СНГ, Магри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правления  и проявления интегр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ая интеграция – ТНК, МВФ, МБРР, ЕС, В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тическая интеграция – ООН, Совет Европы, Н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интеграция – миграция, смешанные бр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ая интеграция – интернационализация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0_2"/>
          <p:cNvPicPr/>
          <p:nvPr/>
        </p:nvPicPr>
        <p:blipFill>
          <a:blip r:embed="rId1"/>
          <a:stretch/>
        </p:blipFill>
        <p:spPr>
          <a:xfrm>
            <a:off x="1370160" y="0"/>
            <a:ext cx="656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ствия интеграции и глобал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т производства, торгового оборота, развитие инфраструктуры, распространение новейши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ствуют решению глобальн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рует целостность мира и его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выгодное сотрудничество разных стран и 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02:14Z</dcterms:created>
  <dc:creator>user</dc:creator>
  <dc:description/>
  <dc:language>en-US</dc:language>
  <cp:lastModifiedBy>Admin</cp:lastModifiedBy>
  <dcterms:modified xsi:type="dcterms:W3CDTF">2011-10-21T13:50:35Z</dcterms:modified>
  <cp:revision>6</cp:revision>
  <dc:subject/>
  <dc:title>Международная интеграция</dc:title>
</cp:coreProperties>
</file>