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777-8E10-476C-919E-BA64198D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47D-F7CD-44A0-93F3-71483FC9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1FB-6721-4ADF-BA7A-E2FAF8D7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6A8-90D7-4078-A800-E2A54C16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C63D-2683-4FFC-AA1D-4B5F4178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B838-8D34-4C7E-B301-FB369AE9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E7D2-3E7C-4FDF-8D3A-F611C74D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81ED-F3E6-40F6-A9F5-8BCEB3DA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0F35-590F-4F50-946A-58D634CA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27E9-BB24-4C9C-88B9-CEDD01B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0D6A-5E38-484E-96EC-20E9114D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5AF-47BA-4308-9299-4F088BFC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F499-5FB0-473D-B9F0-FB8EC34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DE37-7220-48DE-92AA-716C0B1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7A90-35CB-4BCC-AE6C-069047DE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5EC3-AB18-4935-8EA0-B26B6936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00C0-B8DA-40B5-B45A-A51D19DC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8C0-17C3-4CA0-B0AF-19205E5E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6FB-FF89-4271-A5D0-BD729317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9D3-3250-4757-8A04-91BDA2E8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1F5-BE25-4614-8E58-D08D01DD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5BC-34EC-4E0F-83A5-61B881F1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BD6-CECD-4A5C-9827-1B87B724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B87-81A7-48DE-BC6E-7320522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F0E0-2CA1-49FA-8E65-81EB3E67A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D7AE-AE31-4E56-A71B-136BD54A6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Международная интеграц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следствия интеграции и глобализ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тернизация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епление неравноправного положения стран в экономической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индустриализация национальных эконом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тический диктат развиты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щерб национальному суверенит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ождение новы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ждународные организ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группа – с. 227-228 – 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группа – с. 228-229 – Совет Евр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группа – с. 229-231 – 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ить ответ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ние и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ководящие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овое правительство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информационного аналитического агентства при Управлении делами президента РФ Александр Игна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лючевым фактором, влияющим на современные глобализационные процессы, является деятельность Мирового правительства... Эта надгосударственная структура эффективно исполняет роль штаба «нового мирового порядка». В своей работе эта организация ориентируется на интересы малочисленной элиты, объединенной этническим родством и инициацией (т. е. посвящением) в ложах деструктивной направленности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Независимая газета» от 7 сентября 2000 г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1280" y="5097600"/>
            <a:ext cx="30168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11280" y="2376360"/>
            <a:ext cx="301680" cy="2495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11280" y="1204920"/>
            <a:ext cx="311040" cy="735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4"/>
          <a:stretch/>
        </p:blipFill>
        <p:spPr>
          <a:xfrm>
            <a:off x="2411280" y="5099040"/>
            <a:ext cx="3803760" cy="149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5"/>
          <a:stretch/>
        </p:blipFill>
        <p:spPr>
          <a:xfrm>
            <a:off x="2987640" y="4443480"/>
            <a:ext cx="2639880" cy="64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6"/>
          <a:stretch/>
        </p:blipFill>
        <p:spPr>
          <a:xfrm>
            <a:off x="3203640" y="3295800"/>
            <a:ext cx="2211480" cy="1141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7"/>
          <a:stretch/>
        </p:blipFill>
        <p:spPr>
          <a:xfrm>
            <a:off x="3995640" y="1268280"/>
            <a:ext cx="567000" cy="72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8"/>
          <a:stretch/>
        </p:blipFill>
        <p:spPr>
          <a:xfrm>
            <a:off x="971640" y="3295800"/>
            <a:ext cx="2211120" cy="1141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9"/>
          <a:stretch/>
        </p:blipFill>
        <p:spPr>
          <a:xfrm>
            <a:off x="5364000" y="3224160"/>
            <a:ext cx="2354400" cy="1212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10"/>
          <a:stretch/>
        </p:blipFill>
        <p:spPr>
          <a:xfrm>
            <a:off x="5651640" y="4400640"/>
            <a:ext cx="1712880" cy="75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11"/>
          <a:stretch/>
        </p:blipFill>
        <p:spPr>
          <a:xfrm>
            <a:off x="4932360" y="2273400"/>
            <a:ext cx="2782800" cy="101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12"/>
          <a:stretch/>
        </p:blipFill>
        <p:spPr>
          <a:xfrm>
            <a:off x="4643280" y="1125360"/>
            <a:ext cx="2926080" cy="992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6"/>
          <p:cNvSpPr/>
          <p:nvPr/>
        </p:nvSpPr>
        <p:spPr>
          <a:xfrm>
            <a:off x="684360" y="260280"/>
            <a:ext cx="7704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 о ц и а л ь н а я     с т р а т и ф и к а ц и 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   р е г и о н а л ь н о й    ц и в и л и з а ц и и    з а п а д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692360" y="1197000"/>
            <a:ext cx="20746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хар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13"/>
          <a:stretch/>
        </p:blipFill>
        <p:spPr>
          <a:xfrm>
            <a:off x="3635280" y="2349360"/>
            <a:ext cx="136836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43200000">
                                      <p:cBhvr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92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92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192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192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лобалисты и антиглобалисты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79640" y="1557360"/>
            <a:ext cx="67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обалис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торонники глоб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иглобали́з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олитическое движение, направленное против определённых аспектов процесса глобализации в её современ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глобалисты регулярно проводят в разных странах мира социальные форумы, различные акции про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i?id=82520514-03"/>
          <p:cNvPicPr/>
          <p:nvPr/>
        </p:nvPicPr>
        <p:blipFill>
          <a:blip r:embed="rId1"/>
          <a:stretch/>
        </p:blipFill>
        <p:spPr>
          <a:xfrm>
            <a:off x="468360" y="1413000"/>
            <a:ext cx="117792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ртинка 56 из 3870"/>
          <p:cNvPicPr/>
          <p:nvPr/>
        </p:nvPicPr>
        <p:blipFill>
          <a:blip r:embed="rId2"/>
          <a:stretch/>
        </p:blipFill>
        <p:spPr>
          <a:xfrm>
            <a:off x="250920" y="3141720"/>
            <a:ext cx="1547640" cy="153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964261_1181310725"/>
          <p:cNvPicPr/>
          <p:nvPr/>
        </p:nvPicPr>
        <p:blipFill>
          <a:blip r:embed="rId3"/>
          <a:stretch/>
        </p:blipFill>
        <p:spPr>
          <a:xfrm>
            <a:off x="179280" y="5157720"/>
            <a:ext cx="2028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 М. Шумил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е последствия глобализации // www.credonew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имирова И.Г. Глобализация мировой экономики: проблемы и последствия //Менеджмент в России и за рубежом/№3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 Медведева, Т. Шишова. Что такое глобализация и ее последствия для России//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Православные вести», 29 марта 200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культуры мира в контексте глобализации// www.nasledie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о в условиях глобализации //ww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f.b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 Кузнецов. Концепция глобалистов// www.patriotic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28, конспект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иться к пресс-вонференции «Последствия глобализации для мира и для России» по групп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уппа – Глобали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уппа – Антиглоб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уппа – Представители пр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лобализац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образования наднациональных структур в сфере экономики, политики, культуры, которые оказывают влияние на мировые проце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складывания единого мирового сообщества, миров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заключается в построении единого всемирного государства с единым правительством, единым пространством, единой валютой, единым народом, культурой и про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нтеграц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устойчивых экономических, политических, социальных и культурных связей между государствами, процесс их сближения, объ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чины интеграци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развитых стр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ход на новые рынк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ступ к более дешевым факторам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ие издержек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ление мирового госп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чины интеграци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стальных стра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влечение инвести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общение к экономическому и технологическому опыту развиты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ощь в решении экономически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своих внутриполитически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во внешней поли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ровни экономической интегр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1583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ишите из учебника Салыгина – с. 226-2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рговые соглашения на 2-х или многосторонне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а свободной торговли (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A, NAFTA, E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оженный сою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й рынок (Совет сотрудничества арабских стран Персидского залива, Андский общий рын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номический союз (ЕС, Бенилюкс, СНГ, Магри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правления  и проявления интегр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ая интеграция – ТНК, МВФ, МБРР, ЕС, В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тическая интеграция – ООН, Совет Европы, Н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ая интеграция – миграция, смешанные бр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ховная интеграция – интернационализация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10_2"/>
          <p:cNvPicPr/>
          <p:nvPr/>
        </p:nvPicPr>
        <p:blipFill>
          <a:blip r:embed="rId1"/>
          <a:stretch/>
        </p:blipFill>
        <p:spPr>
          <a:xfrm>
            <a:off x="1370160" y="0"/>
            <a:ext cx="656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следствия интеграции и глобализаци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т производства, торгового оборота, развитие инфраструктуры, распространение новейши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ствуют решению глобальны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рует целостность мира и его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выгодное сотрудничество разных стран и на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02:14Z</dcterms:created>
  <dc:creator>user</dc:creator>
  <dc:description/>
  <dc:language>en-US</dc:language>
  <cp:lastModifiedBy>Admin</cp:lastModifiedBy>
  <dcterms:modified xsi:type="dcterms:W3CDTF">2011-10-21T13:50:35Z</dcterms:modified>
  <cp:revision>6</cp:revision>
  <dc:subject/>
  <dc:title>Международная интеграция</dc:title>
</cp:coreProperties>
</file>