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4F9-CE76-4E66-9AC2-CA2382C1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430-4C7E-4019-97EE-1256EB3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EB9-F444-4648-8477-DD3CB4D7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478-082B-4A18-B1CD-6FDF30D0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18315-079A-49C9-89CC-F6645196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6A615-9773-4092-88A1-DE724382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312E-8959-4C99-8681-82EBBDFA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D0E9-EF82-421B-BBED-F854760C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E15E-2872-4AB9-A9B4-2BE35B33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DB1F-671F-4DF6-AD95-47ED47BA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480F8-3543-4732-B587-D7EB78D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B05-EC88-4067-B099-0800506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90E77-A623-410E-B818-B12277A0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D552B-5E25-4590-B63D-9176225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0EC1-331C-41B0-AFEE-6039958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BAC3A-A2C4-4637-AC3B-2A498698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FA7FC-3E7B-4821-A346-5FDD3C2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9E82-90D8-40C7-9A4A-2FD9EBD9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DE1B-B878-48FA-8085-925AFFC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E0EE-5221-4EAD-8535-E79BCB2F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86B0-D160-48FB-8D0F-D7DDA4CB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C35D-A3D2-425D-BC6F-56562D3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21A-9B8D-4AEC-98FB-1CAB5C6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33BC-97C8-4099-8FFD-155C4FC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184A-5C6A-4C06-A530-0EAA3FFF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13FA-F19A-48A1-B2DF-3A62248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1F91-C0C0-46C7-B1E8-DD5B888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E459-8DCB-444E-BB2B-74EE8338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FA14-58EC-4D52-AD2F-9D2A4B8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8E82-34BC-439B-B44B-CD55DFAD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81B0B-E438-48BA-AA9E-C9E13CC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8459D-6533-4946-A872-6591458A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37265-A3D0-4DE5-9E03-9EFEE4F4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3E6-7881-445C-A6CF-18331FC1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3D8EF-4F32-42FC-BE6B-C92D4C6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BE528-EAC7-4465-A577-FFC32329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70140-EFAA-4AB2-A6BC-CE86CA13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415CE-9C51-4FE6-A4CF-AC21A4D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2C6C2-2404-4450-97EA-89F11E07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0F03E-E4B7-4644-81D6-B91B0AB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B221A-B91E-4DA1-9DE3-97CF83CE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4650C-C4E8-4101-B094-EC5A0B84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F4AC4-EE8C-41B2-B77E-F748E329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DB6-1D03-4946-A200-0B075BF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BB4-D36A-4E28-BC7F-E038CA16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1CA-36E3-4C4F-B2E1-141F1DE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259-7D60-4AF2-8CDD-426B196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C98-7EB6-4018-92CC-32DB22B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FAAA-7955-4237-A64D-9991852D49A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C99-1AA1-43D4-BE40-0651A7FEB80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F3B-8AF5-490B-8DD1-AF32AB0E900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43E7-F96E-4ABE-9D00-D46F7C50838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tler-and-co.ucoz.ru/forum/24-80-1" TargetMode="External"/><Relationship Id="rId3" Type="http://schemas.openxmlformats.org/officeDocument/2006/relationships/hyperlink" Target="http://rt-forever.ya.ru/replies.xml?item_no=1269" TargetMode="External"/><Relationship Id="rId4" Type="http://schemas.openxmlformats.org/officeDocument/2006/relationships/hyperlink" Target="http://www.ensinar.ee/publ/velikobritanija/kto_takie_bifitery/2-1-0-22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950840" cy="230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79640" y="2924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 Black"/>
              </a:rPr>
              <a:t>Великобр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59280" y="4221000"/>
            <a:ext cx="58338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английского языка              НОУ СОШ «Лада»                                  п. Приморский Самарской области                                   Ильмендерова Светлана Анатоль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539640" y="260280"/>
            <a:ext cx="77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лаг Великобритании ведёт свою историю с 1603 года, когда король Шотландии Яков VI унаследовал престол Англии и стал английским королём под именем Якова I. 12 апреля 1606 года был утверждён флаг союза государств: на шотландский флаг святого Андрея (белый косой крест на синем фоне) был наложен английский флаг святого Георга (красный крест на белом фон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1944720" cy="129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516720" y="3645000"/>
            <a:ext cx="2160720" cy="1454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203640" y="5084640"/>
            <a:ext cx="2585880" cy="155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11280" y="4076640"/>
            <a:ext cx="2016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572000" y="4076640"/>
            <a:ext cx="194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220500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281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801 году с принятием Акта об объединении Великобритании и Ирландии было образовано Соединённое королевство Великобритании и Ирландии. К флагу, существовавшему прежде, был добавлен символ Ирландии — крест святого Патрика. При этом белый шотландский и красный ирландский крест пересек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пределённым образом. В таком виде флаг Великобритании и дошёл до наших д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330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1042920" y="119700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остопримеча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Лондо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Ильмендерова старое\Лондон\Биг Бен +\Биг Бен 1.bmp"/>
          <p:cNvPicPr/>
          <p:nvPr/>
        </p:nvPicPr>
        <p:blipFill>
          <a:blip r:embed="rId2"/>
          <a:stretch/>
        </p:blipFill>
        <p:spPr>
          <a:xfrm>
            <a:off x="1571760" y="428760"/>
            <a:ext cx="5943600" cy="44593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3643200" y="5357880"/>
            <a:ext cx="28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иг Б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6"/>
          <p:cNvSpPr/>
          <p:nvPr/>
        </p:nvSpPr>
        <p:spPr>
          <a:xfrm>
            <a:off x="2268360" y="5516640"/>
            <a:ext cx="51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ританский муз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214280" y="785880"/>
            <a:ext cx="6751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6"/>
          <p:cNvSpPr/>
          <p:nvPr/>
        </p:nvSpPr>
        <p:spPr>
          <a:xfrm>
            <a:off x="1835280" y="55166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Букингемский дв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214280" y="642960"/>
            <a:ext cx="697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763640" y="501336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стминстерское  Аббатство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916360" y="260280"/>
            <a:ext cx="3340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195640" y="530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индзорский зам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912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567480" cy="4932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3419640" y="558972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Парла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1428840" y="428760"/>
            <a:ext cx="6248160" cy="42796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1908000" y="5013360"/>
            <a:ext cx="557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Трафальгарская площад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1280" y="404640"/>
            <a:ext cx="81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единённое королевство Великобритании                         и Северной Ирланд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32720" y="414972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42920" y="2421000"/>
            <a:ext cx="14414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2421000"/>
            <a:ext cx="1297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059280" y="2421000"/>
            <a:ext cx="57600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2421000"/>
            <a:ext cx="4334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4360" y="558972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ауэрский мо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43040" y="714240"/>
            <a:ext cx="6073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3708360" y="53006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уэ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7640" y="333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ифи́теры — популярное прозвище церемониальн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ажей лондонского Тауэра. Слово «бифитер» " в дословном переводе означает "мясоед".    Они служили при дворе лишь с одной целью – пробовать мясо, подаваемое к столу монархов, чтобы своей жизнью определить - отравлено оно или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4894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1832040" cy="3198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7561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перь бифитер – почетное звание, красивые одежды (один из символов Лондона) и известный многим джин. Дворцовые стражи охраняют Тауэр и по сей день. Сегодня в их обязанности также входит проведение экскурсий для многочисленных посетителей. В особо торжественных случаях они облачаются в роскошные костюмы времен династии Тюдоров: алые камзолы, отделанные золотом и увенчанные белоснежными плоеными ворот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2"/>
          <p:cNvSpPr/>
          <p:nvPr/>
        </p:nvSpPr>
        <p:spPr>
          <a:xfrm>
            <a:off x="250920" y="620640"/>
            <a:ext cx="54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обычные же дни они одеты в темно - синие с красной отделкой мунди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икторианской эпох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отрители королевской сокровищницы охран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наменитые драгоценности Британской имп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я посетителей сокровищница открыта с XVII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796000" y="2349360"/>
            <a:ext cx="29242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067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f9f9"/>
                </a:solidFill>
                <a:latin typeface="Arial"/>
              </a:rPr>
              <a:t>Используемые источники</a:t>
            </a:r>
            <a:r>
              <a:rPr b="0" lang="en-US" sz="4000" spc="-1" strike="noStrike">
                <a:solidFill>
                  <a:srgbClr val="f9f9f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341360"/>
            <a:ext cx="8280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татья о символах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http://butler-and-co.ucoz.ru/forum/24-80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стория возникновения флага Великобрит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3"/>
              </a:rPr>
              <a:t>http://rt-forever.ya.ru/replies.xml?item_no=12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Статья о бифите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e58b6"/>
                </a:solidFill>
                <a:uFillTx/>
                <a:latin typeface="Arial"/>
                <a:hlinkClick r:id="rId4"/>
              </a:rPr>
              <a:t>http://www.ensinar.ee/publ/velikobritanija/kto_takie_bifitery/2-1-0-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200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40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15 веке в Англии роза стала символом политической вражды двух непримиримых партий. Белая роза была знаком Йорка, а красная – Ланкастера. Так и вошел этот период в историю под названием «Война алой и белой розы». С тех пор красная роза стала символом Анг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835280" y="53006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Англии – Лонд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4140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755640" y="907920"/>
            <a:ext cx="43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уществует легенда, согласно которой спящее шотландское войско было разбужено воплями наступающего противника, наступившего на колючий чертополох босой ногой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2454120" cy="3527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11600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Шотландии - Эдинбу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54936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елтый нарцисс является национальным цветком валлийцев. Его прикрепляют к одежде в день Св. Дэвида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-го марта. Возможно, нарцисс стал символом Уэльса в результате путаницы в переводе, так как на уэлше лук-порей и нарцисс обозначаются одним словом – CENHI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525840" cy="2644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835280" y="494172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Уэльса – Карди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9280" y="33336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Трилистник - символ Ирландии и символ триединства. Древние кельты считали его лучшей защитой от зла и колдовства. Традиционно трилистник связывают с именем Св. Патрика. Согласно легенде, Св. Патрик использовал трилистник в своих проповедях и при первых крещ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349800" cy="2511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39640" y="479736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толица Северной Ирландии - Белфа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611280" y="206064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nstantia"/>
              </a:rPr>
              <a:t>История флага Великобрит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11280" y="40464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лаг Великобритании – символ еди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ждый человек из любой страны мира узнает этот флаг, но далеко не все знают историю флага Великобритании так же хорошо, как изображение. Флаг Великобритании имеет огромную историческую значимость и символизирует объединение трех стран: Англии, Шотландии и Ирландии.  Англичане называют свой флаг Юнион Джек (Union Jack), что обозначает «объединение флаг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684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09:26:00Z</dcterms:created>
  <dc:creator>Teacher</dc:creator>
  <dc:description/>
  <dc:language>en-US</dc:language>
  <cp:lastModifiedBy>Мама</cp:lastModifiedBy>
  <dcterms:modified xsi:type="dcterms:W3CDTF">2014-04-05T10:07:58Z</dcterms:modified>
  <cp:revision>13</cp:revision>
  <dc:subject/>
  <dc:title>Слайд 1</dc:title>
</cp:coreProperties>
</file>