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ED1-44D2-461F-B39F-E6AED2E1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3CE-C67F-4613-A2C3-299776B3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AAA-ED48-4DE6-9FED-04835E5F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858-8569-4930-A640-AAA28DD4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FB8DE-E2CF-4537-897A-49AA5AAD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65448-8FCB-467A-ACA6-E1DF8102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F09B9-93FB-4F13-80CC-8E43D55D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94287-5B93-4F37-B544-7FB3AC21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1CE58-9B1E-498D-BAEE-2E53AF56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03F51-BC82-40C9-BA2B-CA7C98BD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F96AB-FF6A-446C-8CC1-19A5FA73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92B-65B5-4FC0-BCBD-9F5E6E31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320C7-F129-4522-B60F-AA207ED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00733-DD9F-4302-982C-3EF95A42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7D58B-903A-4C96-AA36-079987D9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00574-3890-4611-AE29-5A05E084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F840C-0891-4125-943E-ECC96288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F114-B122-488C-896F-DDACD676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740E-7235-44A2-94F1-D9338ACC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1A26-C807-469A-8487-A48B2621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4956-B51D-4AEA-AE47-C2967484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F67D-EAAD-4910-80BE-4C8919DE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A53-3BDB-4361-B15E-E1287F71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55F9-9BDD-45D1-BF33-6830B978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7B45-703E-4F1B-BF22-4C398569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8D8B-6A3E-415B-A62E-0F9A3D6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955C-2525-4420-9E49-8375E082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3DFB-65C0-4388-BAF5-0D90F420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6180-7907-47C1-B3A3-57F62FAE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B068-AC32-49B1-8A3A-9409D5F6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2D451-E20D-4A37-BED1-81E671C8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2596E-283D-449D-97C2-17B0239E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A219F-341D-41FF-BADD-EBCAA092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067-B9AA-402A-ACD5-8F3C3CF3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933E6-B9D9-4EA4-A199-4192E013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FA377B-F64E-4FD3-B600-8B024AA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C7A80-E285-4913-8383-446919B1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F2129-1034-4E3B-8570-1BF02BBA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AC39B-FE08-4E7E-B108-55F7E6F5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8B8B7-C9A9-4ECA-8D6F-6E9499A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6FDFF-A4CE-47CE-A12D-FABAB69E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31AC1-72CC-4FE8-AE69-CC8E8D34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61A49-2EDA-48E6-9437-18A8573C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E05-5300-4CBA-B7CC-54364663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0CA-BE5E-4030-A7A3-38458F7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93F-93F6-40B1-A0E4-34D33B1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351-86FE-4884-8617-B38322A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3EE-F704-451C-A379-5B8670B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4086-5E34-4064-9F56-E30E3AFD053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BFEC-8671-4C64-B551-F9C90D577DA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9959-003F-4D60-9E00-E8251B9B4C1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2D2-A840-4A95-AAC8-E714A527FAF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utler-and-co.ucoz.ru/forum/24-80-1" TargetMode="External"/><Relationship Id="rId3" Type="http://schemas.openxmlformats.org/officeDocument/2006/relationships/hyperlink" Target="http://rt-forever.ya.ru/replies.xml?item_no=1269" TargetMode="External"/><Relationship Id="rId4" Type="http://schemas.openxmlformats.org/officeDocument/2006/relationships/hyperlink" Target="http://www.ensinar.ee/publ/velikobritanija/kto_takie_bifitery/2-1-0-22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950840" cy="2303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79640" y="2924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Великобр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2233800" cy="2233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59280" y="4221000"/>
            <a:ext cx="58338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английского языка              НОУ СОШ «Лада»                                  п. Приморский Самарской области                                   Ильмендерова Светлана Анатолье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539640" y="260280"/>
            <a:ext cx="77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лаг Великобритании ведёт свою историю с 1603 года, когда король Шотландии Яков VI унаследовал престол Англии и стал английским королём под именем Якова I. 12 апреля 1606 года был утверждён флаг союза государств: на шотландский флаг святого Андрея (белый косой крест на синем фоне) был наложен английский флаг святого Георга (красный крест на белом фон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1944720" cy="1296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516720" y="3645000"/>
            <a:ext cx="2160720" cy="1454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203640" y="5084640"/>
            <a:ext cx="2585880" cy="1552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411280" y="4076640"/>
            <a:ext cx="2016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572000" y="4076640"/>
            <a:ext cx="194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1280" y="220500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04640"/>
            <a:ext cx="82818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1801 году с принятием Акта об объединении Великобритании и Ирландии было образовано Соединённое королевство Великобритании и Ирландии. К флагу, существовавшему прежде, был добавлен символ Ирландии — крест святого Патрика. При этом белый шотландский и красный ирландский крест пересек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пределённым образом. В таком виде флаг Великобритании и дошёл до наших д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843280" y="4005360"/>
            <a:ext cx="3330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1042920" y="1197000"/>
            <a:ext cx="72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остопримеча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Лондо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E:\Ильмендерова старое\Лондон\Биг Бен +\Биг Бен 1.bmp"/>
          <p:cNvPicPr/>
          <p:nvPr/>
        </p:nvPicPr>
        <p:blipFill>
          <a:blip r:embed="rId2"/>
          <a:stretch/>
        </p:blipFill>
        <p:spPr>
          <a:xfrm>
            <a:off x="1571760" y="428760"/>
            <a:ext cx="5943600" cy="44593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3643200" y="5357880"/>
            <a:ext cx="28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иг Б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6"/>
          <p:cNvSpPr/>
          <p:nvPr/>
        </p:nvSpPr>
        <p:spPr>
          <a:xfrm>
            <a:off x="2268360" y="5516640"/>
            <a:ext cx="516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ританский муз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214280" y="785880"/>
            <a:ext cx="6751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6"/>
          <p:cNvSpPr/>
          <p:nvPr/>
        </p:nvSpPr>
        <p:spPr>
          <a:xfrm>
            <a:off x="1835280" y="551664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Букингемский двор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214280" y="642960"/>
            <a:ext cx="697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763640" y="501336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естминстерское  Аббатство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916360" y="260280"/>
            <a:ext cx="3340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2195640" y="530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индзорский зам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6912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567480" cy="4932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3419640" y="558972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Парла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1428840" y="428760"/>
            <a:ext cx="6248160" cy="42796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1908000" y="5013360"/>
            <a:ext cx="557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Трафальгарская площад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11280" y="40464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единённое королевство Великобритании                         и Северной Ирланд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29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отла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414972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верная Ирла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42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эль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042920" y="2421000"/>
            <a:ext cx="144144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242100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059280" y="2421000"/>
            <a:ext cx="57600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2421000"/>
            <a:ext cx="43344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484360" y="5589720"/>
            <a:ext cx="48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ауэрский мо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643040" y="714240"/>
            <a:ext cx="6073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5904000" cy="44276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3708360" y="53006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уэ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647640" y="333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ифи́теры — популярное прозвище церемониальны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ажей лондонского Тауэра. Слово «бифитер» " в дословном переводе означает "мясоед".    Они служили при дворе лишь с одной целью – пробовать мясо, подаваемое к столу монархов, чтобы своей жизнью определить - отравлено оно или н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492360" y="2997360"/>
            <a:ext cx="24894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1832040" cy="3198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7561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перь бифитер – почетное звание, красивые одежды (один из символов Лондона) и известный многим джин. Дворцовые стражи охраняют Тауэр и по сей день. Сегодня в их обязанности также входит проведение экскурсий для многочисленных посетителей. В особо торжественных случаях они облачаются в роскошные костюмы времен династии Тюдоров: алые камзолы, отделанные золотом и увенчанные белоснежными плоеными ворот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2"/>
          <p:cNvSpPr/>
          <p:nvPr/>
        </p:nvSpPr>
        <p:spPr>
          <a:xfrm>
            <a:off x="250920" y="620640"/>
            <a:ext cx="54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обычные же дни они одеты в темно - синие с красной отделкой мунди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икторианской эпохи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мотрители королевской сокровищницы охраня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наменитые драгоценности Британской имп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я посетителей сокровищница открыта с XVII 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796000" y="2349360"/>
            <a:ext cx="29242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06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9f9f9"/>
                </a:solidFill>
                <a:latin typeface="Arial"/>
              </a:rPr>
              <a:t>Используемые источники</a:t>
            </a:r>
            <a:r>
              <a:rPr b="0" lang="en-US" sz="4000" spc="-1" strike="noStrike">
                <a:solidFill>
                  <a:srgbClr val="f9f9f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341360"/>
            <a:ext cx="8280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Статья о символах Великобрит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http://butler-and-co.ucoz.ru/forum/24-80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История возникновения флага Великобрит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http://rt-forever.ya.ru/replies.xml?item_no=12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Статья о бифите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http://www.ensinar.ee/publ/velikobritanija/kto_takie_bifitery/2-1-0-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5200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11280" y="404640"/>
            <a:ext cx="388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15 веке в Англии роза стала символом политической вражды двух непримиримых партий. Белая роза была знаком Йорка, а красная – Ланкастера. Так и вошел этот период в историю под названием «Война алой и белой розы». С тех пор красная роза стала символом Анг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835280" y="53006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Англии – Лонд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755640" y="907920"/>
            <a:ext cx="43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уществует легенда, согласно которой спящее шотландское войско было разбужено воплями наступающего противника, наступившего на колючий чертополох босой ногой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5796000" y="765000"/>
            <a:ext cx="2454120" cy="3527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116000" y="4797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Шотландии - Эдинбур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549360"/>
            <a:ext cx="48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Желтый нарцисс является национальным цветком валлийцев. Его прикрепляют к одежде в день Св. Дэвида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-го марта. Возможно, нарцисс стал символом Уэльса в результате путаницы в переводе, так как на уэлше лук-порей и нарцисс обозначаются одним словом – CENHI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525840" cy="2644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835280" y="494172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Уэльса – Карди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79280" y="33336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рилистник - символ Ирландии и символ триединства. Древние кельты считали его лучшей защитой от зла и колдовства. Традиционно трилистник связывают с именем Св. Патрика. Согласно легенде, Св. Патрик использовал трилистник в своих проповедях и при первых крещ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3349800" cy="2511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539640" y="4797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Северной Ирландии - Белфа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611280" y="206064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История флага Великобрит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611280" y="40464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лаг Великобритании – символ един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ждый человек из любой страны мира узнает этот флаг, но далеко не все знают историю флага Великобритании так же хорошо, как изображение. Флаг Великобритании имеет огромную историческую значимость и символизирует объединение трех стран: Англии, Шотландии и Ирландии.  Англичане называют свой флаг Юнион Джек (Union Jack), что обозначает «объединение флаг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3684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09:26:00Z</dcterms:created>
  <dc:creator>Teacher</dc:creator>
  <dc:description/>
  <dc:language>en-US</dc:language>
  <cp:lastModifiedBy>Мама</cp:lastModifiedBy>
  <dcterms:modified xsi:type="dcterms:W3CDTF">2014-04-05T10:07:58Z</dcterms:modified>
  <cp:revision>13</cp:revision>
  <dc:subject/>
  <dc:title>Слайд 1</dc:title>
</cp:coreProperties>
</file>