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317-7086-4C91-9655-90EB8987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7F5-9E53-4F7D-813E-6290880A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0B8-C18E-46E1-80D1-13F67737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A83-83AA-4F0F-B989-EA9B2FB1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AE115-EEBC-4689-AD64-763F7C5C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6608-34FC-4D55-9E95-07D5603F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5E463-CCFC-4097-B733-DFA9ED2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4E8B4-27EE-4DA6-800B-FB2BEB6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8F841-4A94-4508-BAE1-69D106FA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9C7CC-C6F0-4593-B005-4DB269DD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B936D-C1B1-498C-9DE9-4EA8F2F8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B66-219A-4098-9B90-46C9144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B53B-E1A8-44EA-8B30-3E0D88F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15EE6-FE0C-43C3-AE7F-1E202F5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9E3FF-6BBD-4187-8033-41F41186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CB7F-BFC8-4A42-B6A4-8D9C0676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4AE8B-85BD-42A2-9AE3-B809717B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B886-EFA3-4159-B931-AA664665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E7DD-BAA9-49AE-83B8-DE49DF7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7B9F-1302-46A6-886A-B3AF991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49B8-154B-4CD0-8E6B-20BC199F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7FA0-FF2E-46B5-B574-4CA40A0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45F-8E7D-43DB-BDDF-EDB3E6F8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B99E-B2E8-42D9-AA21-3E3394CB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8253-92C1-41A6-B0B5-FE104E1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671A-573D-43F8-B82E-D3BC275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A198-D363-4798-B555-6197EF8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ECFA-CDCA-4618-8C0B-1A45B2C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E721-CEF9-4A1D-94B5-3AB95FD4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2607-E53E-4D89-950B-8909822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4B60A-95F4-41EA-BEF0-A9A07D6F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E0361-D592-4E81-9470-15EDE82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61705-754F-4416-8252-2458265C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03E-B2BE-4DA2-BD79-8A6373C0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B4269-AE52-4AF5-9037-242DC3E5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257CB-4F64-47E9-9988-64C13065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3D15B-798A-42A5-9E2C-955CE778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7A04C-3FC4-4C3C-9431-2E2BDA6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F8FA3-D4FF-49DD-A22D-0FF2564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05938-1A37-4D90-8ACE-4663B0D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25030-57F5-43A4-8E10-FF1D13FA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81901-DEF8-4ADC-801C-0F4FDBB0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55864-D6CB-42EC-ABE6-057BEB5D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AD9-09B0-40C1-8331-74C0D60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D6F-CD3C-430B-A8E7-FA91E22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AA5-9A9E-41E2-928A-FC7CCA4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443-255A-4B40-B9EE-27ED1C07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B06-3E6A-4084-88FD-0D8E84B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5C3-949F-4B37-AEC5-7A7FB17E835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DE4-7BB8-4463-B6FC-905A85DFA5B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6752-F5A4-41C7-A127-4A70FE92153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AEC-1026-4C81-BF79-D5D62263ECF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utler-and-co.ucoz.ru/forum/24-80-1" TargetMode="External"/><Relationship Id="rId3" Type="http://schemas.openxmlformats.org/officeDocument/2006/relationships/hyperlink" Target="http://rt-forever.ya.ru/replies.xml?item_no=1269" TargetMode="External"/><Relationship Id="rId4" Type="http://schemas.openxmlformats.org/officeDocument/2006/relationships/hyperlink" Target="http://www.ensinar.ee/publ/velikobritanija/kto_takie_bifitery/2-1-0-22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950840" cy="230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79640" y="2924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Великобр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59280" y="4221000"/>
            <a:ext cx="58338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английского языка              НОУ СОШ «Лада»                                  п. Приморский Самарской области                                   Ильмендерова Светлана Анатолье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539640" y="260280"/>
            <a:ext cx="77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лаг Великобритании ведёт свою историю с 1603 года, когда король Шотландии Яков VI унаследовал престол Англии и стал английским королём под именем Якова I. 12 апреля 1606 года был утверждён флаг союза государств: на шотландский флаг святого Андрея (белый косой крест на синем фоне) был наложен английский флаг святого Георга (красный крест на белом фон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1944720" cy="129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516720" y="3645000"/>
            <a:ext cx="2160720" cy="1454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203640" y="5084640"/>
            <a:ext cx="2585880" cy="155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411280" y="4076640"/>
            <a:ext cx="2016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572000" y="40766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220500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8281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1801 году с принятием Акта об объединении Великобритании и Ирландии было образовано Соединённое королевство Великобритании и Ирландии. К флагу, существовавшему прежде, был добавлен символ Ирландии — крест святого Патрика. При этом белый шотландский и красный ирландский крест пересек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пределённым образом. В таком виде флаг Великобритании и дошёл до наших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330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042920" y="119700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остопримеча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Лондо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:\Ильмендерова старое\Лондон\Биг Бен +\Биг Бен 1.bmp"/>
          <p:cNvPicPr/>
          <p:nvPr/>
        </p:nvPicPr>
        <p:blipFill>
          <a:blip r:embed="rId2"/>
          <a:stretch/>
        </p:blipFill>
        <p:spPr>
          <a:xfrm>
            <a:off x="1571760" y="428760"/>
            <a:ext cx="5943600" cy="44593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3643200" y="5357880"/>
            <a:ext cx="28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иг Б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6"/>
          <p:cNvSpPr/>
          <p:nvPr/>
        </p:nvSpPr>
        <p:spPr>
          <a:xfrm>
            <a:off x="2268360" y="5516640"/>
            <a:ext cx="51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ританский муз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214280" y="785880"/>
            <a:ext cx="6751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6"/>
          <p:cNvSpPr/>
          <p:nvPr/>
        </p:nvSpPr>
        <p:spPr>
          <a:xfrm>
            <a:off x="1835280" y="55166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Букингемский дв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214280" y="642960"/>
            <a:ext cx="697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763640" y="501336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стминстерское  Аббатство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916360" y="260280"/>
            <a:ext cx="3340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195640" y="530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индзорский зам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912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567480" cy="4932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3419640" y="558972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Парла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1428840" y="428760"/>
            <a:ext cx="6248160" cy="42796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1908000" y="5013360"/>
            <a:ext cx="557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Трафальгарская площад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1280" y="40464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единённое королевство Великобритании                         и Северной Ирланд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от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414972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верная Ир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эль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42920" y="2421000"/>
            <a:ext cx="14414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242100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059280" y="2421000"/>
            <a:ext cx="57600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421000"/>
            <a:ext cx="43344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484360" y="558972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ауэрский мо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643040" y="714240"/>
            <a:ext cx="6073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3708360" y="53006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уэ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47640" y="333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ифи́теры — популярное прозвище церемониальн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ажей лондонского Тауэра. Слово «бифитер» " в дословном переводе означает "мясоед".    Они служили при дворе лишь с одной целью – пробовать мясо, подаваемое к столу монархов, чтобы своей жизнью определить - отравлено оно или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492360" y="2997360"/>
            <a:ext cx="24894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1832040" cy="3198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7561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перь бифитер – почетное звание, красивые одежды (один из символов Лондона) и известный многим джин. Дворцовые стражи охраняют Тауэр и по сей день. Сегодня в их обязанности также входит проведение экскурсий для многочисленных посетителей. В особо торжественных случаях они облачаются в роскошные костюмы времен династии Тюдоров: алые камзолы, отделанные золотом и увенчанные белоснежными плоеными ворот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250920" y="620640"/>
            <a:ext cx="54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обычные же дни они одеты в темно - синие с красной отделкой мунди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икторианской эпох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отрители королевской сокровищницы охран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наменитые драгоценности Британской имп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посетителей сокровищница открыта с XVII 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9242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06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f9f9"/>
                </a:solidFill>
                <a:latin typeface="Arial"/>
              </a:rPr>
              <a:t>Используемые источники</a:t>
            </a:r>
            <a:r>
              <a:rPr b="0" lang="en-US" sz="4000" spc="-1" strike="noStrike">
                <a:solidFill>
                  <a:srgbClr val="f9f9f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341360"/>
            <a:ext cx="8280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татья о символах Великобрит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http://butler-and-co.ucoz.ru/forum/24-80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стория возникновения флага Великобрит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http://rt-forever.ya.ru/replies.xml?item_no=12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Статья о бифите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http://www.ensinar.ee/publ/velikobritanija/kto_takie_bifitery/2-1-0-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200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11280" y="40464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15 веке в Англии роза стала символом политической вражды двух непримиримых партий. Белая роза была знаком Йорка, а красная – Ланкастера. Так и вошел этот период в историю под названием «Война алой и белой розы». С тех пор красная роза стала символом Анг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835280" y="5300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Англии – Лонд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755640" y="907920"/>
            <a:ext cx="43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уществует легенда, согласно которой спящее шотландское войско было разбужено воплями наступающего противника, наступившего на колючий чертополох босой ногой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2454120" cy="3527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116000" y="4797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Шотландии - Эдинбур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54936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елтый нарцисс является национальным цветком валлийцев. Его прикрепляют к одежде в день Св. Дэвида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-го марта. Возможно, нарцисс стал символом Уэльса в результате путаницы в переводе, так как на уэлше лук-порей и нарцисс обозначаются одним словом – CENHI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525840" cy="2644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835280" y="494172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Уэльса – Карди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9280" y="33336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рилистник - символ Ирландии и символ триединства. Древние кельты считали его лучшей защитой от зла и колдовства. Традиционно трилистник связывают с именем Св. Патрика. Согласно легенде, Св. Патрик использовал трилистник в своих проповедях и при первых крещ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349800" cy="2511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539640" y="4797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Северной Ирландии - Белфа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611280" y="206064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История флага Великобрит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11280" y="40464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лаг Великобритании – символ еди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ждый человек из любой страны мира узнает этот флаг, но далеко не все знают историю флага Великобритании так же хорошо, как изображение. Флаг Великобритании имеет огромную историческую значимость и символизирует объединение трех стран: Англии, Шотландии и Ирландии.  Англичане называют свой флаг Юнион Джек (Union Jack), что обозначает «объединение флаг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684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9:26:00Z</dcterms:created>
  <dc:creator>Teacher</dc:creator>
  <dc:description/>
  <dc:language>en-US</dc:language>
  <cp:lastModifiedBy>Мама</cp:lastModifiedBy>
  <dcterms:modified xsi:type="dcterms:W3CDTF">2014-04-05T10:07:58Z</dcterms:modified>
  <cp:revision>13</cp:revision>
  <dc:subject/>
  <dc:title>Слайд 1</dc:title>
</cp:coreProperties>
</file>