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C13-6485-4C56-9104-4CB00C1D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24C-A854-4B9A-96AD-8997088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7F6-FD56-4433-8196-399E4F71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32E-D532-4838-AA92-AC19D7EC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B16-DDE1-42CF-ADD2-E629448B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9D1-9D7F-46A0-BF8A-3271F80E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1F9-5610-49B3-99D7-9E66735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EAD-6104-4D92-8527-1C3FA424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475-C0F8-4388-A2D7-2D499192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E3D-C29D-45AB-8EA8-B335DEF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F4D-7154-42E5-9B17-E530B49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3F3-D5D3-4E4A-A6AC-2FF8518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31D-64DE-4721-B2AA-4D8348841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Китай в конце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XX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-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в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начале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XXI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 вв.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360" y="5445000"/>
            <a:ext cx="373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 класса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akty-kitay_6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453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3678_1"/>
          <p:cNvPicPr/>
          <p:nvPr/>
        </p:nvPicPr>
        <p:blipFill>
          <a:blip r:embed="rId2"/>
          <a:stretch/>
        </p:blipFill>
        <p:spPr>
          <a:xfrm>
            <a:off x="179280" y="836640"/>
            <a:ext cx="4195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990099"/>
                </a:solidFill>
                <a:uFillTx/>
                <a:latin typeface="Arial"/>
              </a:rPr>
              <a:t>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1977 года Дэн Сяопин возглавил фракцию умеренных и начал работу по программе «четырех модернизаций», которой предстояло укрепить промышленность, сельское хозяйство, науку и оборону. С 1994 года национальная валюта Китая, юань, приобрела твердый курс. В настоящее же время Китай — огромная страна с большими экономическими, социальными и политическими перспективам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2_2"/>
          <p:cNvPicPr/>
          <p:nvPr/>
        </p:nvPicPr>
        <p:blipFill>
          <a:blip r:embed="rId1"/>
          <a:stretch/>
        </p:blipFill>
        <p:spPr>
          <a:xfrm>
            <a:off x="179280" y="3429000"/>
            <a:ext cx="4248360" cy="3218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485211"/>
          <p:cNvPicPr/>
          <p:nvPr/>
        </p:nvPicPr>
        <p:blipFill>
          <a:blip r:embed="rId2"/>
          <a:stretch/>
        </p:blipFill>
        <p:spPr>
          <a:xfrm>
            <a:off x="4500720" y="3429000"/>
            <a:ext cx="44146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99"/>
                </a:solidFill>
                <a:uFillTx/>
                <a:latin typeface="Arial"/>
              </a:rPr>
              <a:t>Содерж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СР и Китай: от союза к противостоя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я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тай на пути ре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яя политика Ки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16"/>
          <p:cNvPicPr/>
          <p:nvPr/>
        </p:nvPicPr>
        <p:blipFill>
          <a:blip r:embed="rId1"/>
          <a:stretch/>
        </p:blipFill>
        <p:spPr>
          <a:xfrm>
            <a:off x="108000" y="3284640"/>
            <a:ext cx="4537080" cy="340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59073_286600"/>
          <p:cNvPicPr/>
          <p:nvPr/>
        </p:nvPicPr>
        <p:blipFill>
          <a:blip r:embed="rId2"/>
          <a:stretch/>
        </p:blipFill>
        <p:spPr>
          <a:xfrm>
            <a:off x="4788000" y="3213000"/>
            <a:ext cx="424800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9810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99"/>
                </a:solidFill>
                <a:uFillTx/>
                <a:latin typeface="Arial"/>
              </a:rPr>
              <a:t>Вводная часть</a:t>
            </a:r>
            <a:r>
              <a:rPr b="1" i="1" lang="ru-RU" sz="36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4356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 — страна древнейшей цивилизации, сохраняющей преемственность на протяжении более 3 тыс. лет. Его население составляет около 1/5 всех жителей Земли. Войдя в XX в. полуколонией ведущих держав, к исходу столетия Китай стал одной из самых влиятельных и динамично развивающихся стран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98147014_31"/>
          <p:cNvPicPr/>
          <p:nvPr/>
        </p:nvPicPr>
        <p:blipFill>
          <a:blip r:embed="rId1"/>
          <a:stretch/>
        </p:blipFill>
        <p:spPr>
          <a:xfrm>
            <a:off x="4284720" y="115920"/>
            <a:ext cx="4716360" cy="333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472999-507800"/>
          <p:cNvPicPr/>
          <p:nvPr/>
        </p:nvPicPr>
        <p:blipFill>
          <a:blip r:embed="rId2"/>
          <a:stretch/>
        </p:blipFill>
        <p:spPr>
          <a:xfrm>
            <a:off x="179280" y="3735360"/>
            <a:ext cx="4032360" cy="30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a016e9a614157dc0c40d8da2a774a92"/>
          <p:cNvPicPr/>
          <p:nvPr/>
        </p:nvPicPr>
        <p:blipFill>
          <a:blip r:embed="rId3"/>
          <a:stretch/>
        </p:blipFill>
        <p:spPr>
          <a:xfrm>
            <a:off x="4284720" y="3500280"/>
            <a:ext cx="4680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99"/>
                </a:solidFill>
                <a:uFillTx/>
                <a:latin typeface="Arial"/>
              </a:rPr>
              <a:t>СССР и Китай: от союза к противостоя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жданская война в Китае завершилась победой коммунистов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октября 194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Была провозглаше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итайская Народная Республи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КНР). Остатки войск гоминьдана отступили под прикрытием американского флота на остров Тайв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тельство КНР возглави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о Цзэдун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итический режим, утвердившийся в Китае, стал называться «демократической диктатурой народа». В стране началась аграрная реформа. Земли помещиков, монастырей, собственников, не обрабатывающих их самостоятельно, а также принадлежавший им скот и инвентарь были распределены между крестьянами. Земля, леса и т.д. стали собственностью государства. Особое внимание уделялось развитию системы образования, строительству железных дорог, предприятий тяжелой промыш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тем руководство КНР взяло курс на строительство социализма по примеру СССР и вступило на путь создания коллективных хозяйств в деревне. Осуществлялась национализация промышленных предприятий и банков, экономика почти полностью перешла под контроль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262767007_1-16"/>
          <p:cNvPicPr/>
          <p:nvPr/>
        </p:nvPicPr>
        <p:blipFill>
          <a:blip r:embed="rId1"/>
          <a:stretch/>
        </p:blipFill>
        <p:spPr>
          <a:xfrm>
            <a:off x="900000" y="4379760"/>
            <a:ext cx="3241800" cy="2478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tatic1089"/>
          <p:cNvPicPr/>
          <p:nvPr/>
        </p:nvPicPr>
        <p:blipFill>
          <a:blip r:embed="rId2"/>
          <a:stretch/>
        </p:blipFill>
        <p:spPr>
          <a:xfrm>
            <a:off x="5364000" y="4365720"/>
            <a:ext cx="3384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50 г. между Китаем и СССР был подписан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говор о дружбе, союзе и взаим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торой половине 1950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г. отношения между СССР и Китаем постепенно начали ухудшаться. Отчасти это было связано с развенчанием культа личности И.В. Стал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ъездом КПСС(1956). Мао Цзэдун считал, что КПСС не имела права единолично оценивать деятельность Сталина – лидера всего коммунистического движения. Недовольство вызвал также отказ СССР передать Китаю технологию производства ядерного оружия. Визит Н.С. Хрущева в США (1959) был воспринят как предательство интересов КНР. Мао Цзэдун видел в Соединеных  Штатах главного врага Китая, так как американцы не признавали КНР и продолжали считать гоминьдановский режим на Тайване единственным законным представителем китайского на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71 г. КНР нормализовала отношения с США, которые признали Тайвань ее неотъемлемой частью. Представитель Китая занял свое место в Совете Безопасности ООН, которое ранее принадлежало Тайва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укрепить свое влияние на международной арене, Китай стал поддерживать коммунистическое движение в других странах Азии и Африки, подталкивая их к выбору в пользу китайской модели социализ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58x0_china,_sua"/>
          <p:cNvPicPr/>
          <p:nvPr/>
        </p:nvPicPr>
        <p:blipFill>
          <a:blip r:embed="rId1"/>
          <a:stretch/>
        </p:blipFill>
        <p:spPr>
          <a:xfrm>
            <a:off x="4716360" y="443700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268801682_1259341644_83254"/>
          <p:cNvPicPr/>
          <p:nvPr/>
        </p:nvPicPr>
        <p:blipFill>
          <a:blip r:embed="rId2"/>
          <a:stretch/>
        </p:blipFill>
        <p:spPr>
          <a:xfrm>
            <a:off x="395280" y="4437000"/>
            <a:ext cx="374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0099"/>
                </a:solidFill>
                <a:uFillTx/>
                <a:latin typeface="Arial"/>
              </a:rPr>
              <a:t>Внутренняя полит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07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азе обобществления всей крестьянской собственности создавались аграрные коммуны, вводилось уравнительное распределение произведенной продукции. Под страхом наказания трудящиеся были обязаны работать с полной отдачей сил при минимальном обеспечением продовольствием, что означало перевод страны на казарменное положение. От коммун требовали выпускать не только аграрную, но и промышленную продукцию. По всему Китаю создавались примитивные печи для выплавки железа. Правда, низкое качество исключало возможность его дальнейше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такого ритма Китай столкнулся с проблемой голода, от которого погибли миллионы человек. Голод и спад промышленного производства сопровождались милитаризаци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_6b87_644915c_XL"/>
          <p:cNvPicPr/>
          <p:nvPr/>
        </p:nvPicPr>
        <p:blipFill>
          <a:blip r:embed="rId1"/>
          <a:stretch/>
        </p:blipFill>
        <p:spPr>
          <a:xfrm>
            <a:off x="5003640" y="836640"/>
            <a:ext cx="39830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Китай на пути реф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48592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981 г. В Китае началось осуществление рыночных реформ. Их идейным вдохновителем был Дэн Сяоп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формы были ориентированы на получение конкретного результата в ближайшем будущем. Именно поэтому их назвали «прагматическими». Были ликвидированы коммуны. Крестьянство получило возможность реализовывать произведенные излишки продукции на свободном рынке. Сократилась численность вооруженных сил, а главной задачей стало производство потребительских товаров. К модернизации был привлечен иностранный капитал. Создавались свободные экономические зоны, на территории которых снижались налоги и таможенные тарифы. Предприятиям предоставлялась значительная хозяйственная самостоятельность. Разрешалось развитие кооперативного и частного сектора в сфере производства, торговли и обслуживания. В то же время Компартия Китая сохранила за собой руководящую роль в политическ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t-10-2012-kxvyeh17"/>
          <p:cNvPicPr/>
          <p:nvPr/>
        </p:nvPicPr>
        <p:blipFill>
          <a:blip r:embed="rId1"/>
          <a:stretch/>
        </p:blipFill>
        <p:spPr>
          <a:xfrm>
            <a:off x="4788000" y="1125360"/>
            <a:ext cx="4190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4427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стабильность в сочетании с экономикой, открытой для зарубежных инвесторов, сделала Китай одной из наиболее динамично развивающихся стран мира. Среднегодовые темпы роста производства ВВП на душу населения в Китае в 1980 – 2000-е гг. были самыми устойчивыми и высокими в мире – около 10%. Китай полностью обеспечивает свои потребности в продовольств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ай освоил производство продукции на основе информационных технологий. Он стал третьей после России и США космической державой, самостоятельно осуществив в 2003 г. запуск космического аппарата с человеком на борту. Планируется строительство китайской орбитальной станции и базы на Луне. По многим оценкам, Китай в середин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. Сможет на равных конкурировать с Соединенными Шта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69185"/>
          <p:cNvPicPr/>
          <p:nvPr/>
        </p:nvPicPr>
        <p:blipFill>
          <a:blip r:embed="rId1"/>
          <a:stretch/>
        </p:blipFill>
        <p:spPr>
          <a:xfrm>
            <a:off x="4427640" y="189000"/>
            <a:ext cx="4668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Внешняя политика Ки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4932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началом реформ Китай начал проводить сбалансированную внешнюю политику, то есть избегать конфликтов с соседями, поддерживать торгово – экономические отношения со всеми странами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ледние годы КНР быстрыми темпами развивает торгово – экономическое сотрудничество со странами Африки и Латинской Америки. Особое значение предается сближению с Венесуэлой, руководство которой заявляет о своей приверженности социали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01 г. был подписан российско – китайский Договор о добрососедстве, дружестве и сотрудничестве. Стороны отказались от применения силы друг против друга, обязавшись консультироваться в случае возникновения угрозы миру. В 2004 г. Россия и КНР достигли компромисса по спорным вопросам о линии прохождения границ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ай стал одним из ведущих покупателей российской военной технике и технологий. Многие китайские предприниматели ведут активную экономическую деятельность на территории стран СНГ, особенно 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37883_image_large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291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Рисунок1"/>
          <p:cNvPicPr/>
          <p:nvPr/>
        </p:nvPicPr>
        <p:blipFill>
          <a:blip r:embed="rId2"/>
          <a:stretch/>
        </p:blipFill>
        <p:spPr>
          <a:xfrm>
            <a:off x="5003640" y="3573360"/>
            <a:ext cx="4140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0:06:08Z</dcterms:created>
  <dc:creator>комп</dc:creator>
  <dc:description/>
  <dc:language>en-US</dc:language>
  <cp:lastModifiedBy>Acer</cp:lastModifiedBy>
  <dcterms:modified xsi:type="dcterms:W3CDTF">2013-12-14T08:54:32Z</dcterms:modified>
  <cp:revision>5</cp:revision>
  <dc:subject/>
  <dc:title>Слайд 1</dc:title>
</cp:coreProperties>
</file>