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5940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03280" y="5690160"/>
            <a:ext cx="5940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4744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03280" y="56901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47440" y="56901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2080" y="50133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20520" y="50133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03280" y="56901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212080" y="56901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220520" y="56901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03280" y="5013360"/>
            <a:ext cx="59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5940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289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47440" y="5013360"/>
            <a:ext cx="289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32000" y="475920"/>
            <a:ext cx="60120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47440" y="5013360"/>
            <a:ext cx="289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03280" y="56901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203280" y="5013360"/>
            <a:ext cx="59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289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4744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7440" y="56901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4744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03280" y="5690160"/>
            <a:ext cx="5940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5940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03280" y="5690160"/>
            <a:ext cx="5940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4744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03280" y="56901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47440" y="56901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12080" y="50133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220520" y="50133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03280" y="56901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5212080" y="56901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220520" y="5690160"/>
            <a:ext cx="19126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5940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289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47440" y="5013360"/>
            <a:ext cx="289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32000" y="475920"/>
            <a:ext cx="60120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47440" y="5013360"/>
            <a:ext cx="289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203280" y="56901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289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4744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47440" y="56901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0328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47440" y="5013360"/>
            <a:ext cx="2898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03280" y="5690160"/>
            <a:ext cx="5940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58920" y="1628640"/>
            <a:ext cx="7634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lassic.chubrik.ru/Vivaldi/" TargetMode="External"/><Relationship Id="rId2" Type="http://schemas.openxmlformats.org/officeDocument/2006/relationships/hyperlink" Target="http://www.maykapar.ru/articles/vremena.shtml" TargetMode="External"/><Relationship Id="rId3" Type="http://schemas.openxmlformats.org/officeDocument/2006/relationships/hyperlink" Target="http://ru.wikipedia.org/wiki/&#1042;&#1077;&#1083;&#1080;&#1082;&#1086;&#1083;&#1077;&#1087;&#1085;&#1099;&#1081;_&#1095;&#1072;&#1089;&#1086;&#1089;&#1083;&#1086;&#1074;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451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Инструментальный </a:t>
            </a:r>
            <a:br>
              <a:rPr sz="4800"/>
            </a:b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конце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555640" y="5157360"/>
            <a:ext cx="594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тонио Виваль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«Времена г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слушай концерт «Весна».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кие чувства выражает эта музы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к звучит главная мелодия 1-й части концер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к ее можно назв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 композитор изобразил в эпизод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кими средствами музыки передал пение птиц, журчание ручейков, вспышки мол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какой форме написана 1 часть (рондо, вариации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6000" y="115920"/>
            <a:ext cx="3200400" cy="2266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4653000"/>
            <a:ext cx="373392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659640" y="2492280"/>
            <a:ext cx="152856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32000" y="475920"/>
            <a:ext cx="601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03640" y="2204640"/>
            <a:ext cx="4897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Подбери визуальный ряд к части «Весна». Оформи в виде презентации или букле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6156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Спасибо </a:t>
            </a:r>
            <a:br>
              <a:rPr sz="4800"/>
            </a:b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за</a:t>
            </a:r>
            <a:br>
              <a:rPr sz="4800"/>
            </a:b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42560" y="4797000"/>
            <a:ext cx="594036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зентацию 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орова А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сош № 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и народного учителя ССС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Д.Лавр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ий Таг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87280" y="0"/>
            <a:ext cx="6156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Список используемых источн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58920" y="2421000"/>
            <a:ext cx="59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ева Г.П., Критская Е.Д. Учебник «Музыка» 6 класс (стр.108-111). Москва, «Просвещение»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геева Г.П., Критская Е.Д. Методические рекомендации к учебнику «Музыка» 6 класс. Москва, «Прсвещение»,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ic.chubrik.ru/Vivald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ykapar.ru/articles/vremena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Великолепный_часо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489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нио Вивальди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ипач-виртуоз, дирижер и педагог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величайших композитор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л и творил в эпоху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ок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создателем жанра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струментального концер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748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Инструментальный концер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концерт для   одних только музыкальных инструментов, без п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43640" y="907920"/>
            <a:ext cx="25592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8920" y="115560"/>
            <a:ext cx="7367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 около 450 концертов Вивальд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ма в музыке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аст между хором и солистом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сами и инструмента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ажали публику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ыщенность сменялась спокойствием, нежность – мощью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о прерывалось оркестром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мпозициях концертов Вивальди чередовались сольные и оркестровые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58920" y="6524640"/>
            <a:ext cx="7634160" cy="1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40360" y="4581360"/>
            <a:ext cx="2982960" cy="19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69343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99"/>
                </a:solidFill>
                <a:latin typeface="Arial"/>
              </a:rPr>
              <a:t>Принцип контрас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определял трехчастную форму концер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76360" y="2636640"/>
            <a:ext cx="741672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-я ча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ыстрая, энергичная, обычно без медленного всту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-я ча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ирическая, певучая, более скромная по разме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3-я ча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финал, подвижный, блест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«Времена год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6341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шина творчества Вивальди.  Этот цикл объединил </a:t>
            </a:r>
            <a:r>
              <a:rPr b="0" i="1" lang="ru-RU" sz="3200" spc="-1" strike="noStrike">
                <a:solidFill>
                  <a:srgbClr val="009999"/>
                </a:solidFill>
                <a:latin typeface="Arial"/>
              </a:rPr>
              <a:t>четыре концер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солирующей скрипки и струнного оркестра.                            В них развитие музыкального образа основано на сопоставлении звучания                                              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* скрип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* оркест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t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еводе с итальянского значит </a:t>
            </a:r>
            <a:r>
              <a:rPr b="0" i="1" lang="ru-RU" sz="2800" spc="-1" strike="noStrike">
                <a:solidFill>
                  <a:srgbClr val="009999"/>
                </a:solidFill>
                <a:latin typeface="Arial"/>
              </a:rPr>
              <a:t>вс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-127080"/>
            <a:ext cx="765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640" y="115920"/>
            <a:ext cx="734544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 времен года всегда была популярна в искусстве.                                                  Объясняется это несколькими фактор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во-перв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она давала возможность средствами данного конкретного искусства запечатлеть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события и д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аиболее характерные для того или иного времени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во-втор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она всегда наделялась определенным </a:t>
            </a: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философским смысл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       смена времен года рассматривалась в аспекте смены периодов человеческой жизни         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* вес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то есть пробуждение природных сил, олицетворяла начало и символизировала юность                  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* з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конец пути - ста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920" y="-401760"/>
            <a:ext cx="765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8920" y="18900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 изобразительном искусстве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точнее труды,                главным образом сельскохозяйственные, изображались в самых разных жанрах -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т скульптуры до граф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228600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227640" y="2565360"/>
            <a:ext cx="2814840" cy="4078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419640" y="1413000"/>
            <a:ext cx="3035160" cy="5079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332000" y="404640"/>
            <a:ext cx="738504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756108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кл концертов «Времена года» -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программное сочин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 основе которого лежат стихотворные сонеты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помощью которых, композитор раскрывает содержание каждого из концертов цик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920" y="2781360"/>
            <a:ext cx="76341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«Вес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«Ле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«Осен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«Зим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тся, что сонеты написаны самим компози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504036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есна грядет! И радостною песней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олна природа. Солнце и тепло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Журчат ручьи. И праздничные вести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Зефир разносит, Точно волшебство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друг набегают бархатные тучи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ак благовест звучит небесный гром.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Но быстро иссякает вихрь могучий, 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 щебет вновь плывет в пространстве голубом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Цветов дыханье, шелест трав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олна природа грез.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пит пастушок, за день устав,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 тявкает чуть слышно пес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астушеской волынки звук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Разносится гудящий над лугами, 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И нимф танцующих волшебный круг</a:t>
            </a:r>
            <a:br>
              <a:rPr sz="2000"/>
            </a:b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Весны расцвечен дивными луч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6920" y="6669000"/>
            <a:ext cx="7634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1263600" cy="2039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667640" y="2565360"/>
            <a:ext cx="1298520" cy="2076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732720" y="4869000"/>
            <a:ext cx="1187280" cy="1881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102880" y="134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4520" y="37886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6160" y="6020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0:38:04Z</dcterms:created>
  <dc:creator>HOME</dc:creator>
  <dc:description/>
  <dc:language>en-US</dc:language>
  <cp:lastModifiedBy>Катенок</cp:lastModifiedBy>
  <dcterms:modified xsi:type="dcterms:W3CDTF">2010-08-18T14:36:28Z</dcterms:modified>
  <cp:revision>5</cp:revision>
  <dc:subject/>
  <dc:title>Инструментальный  концерт</dc:title>
</cp:coreProperties>
</file>