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150-66B9-4BE2-A5E4-458D8B3D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91C-7054-4386-98DA-16A9A4D9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9B8-775D-4ECE-BE33-273F60AB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1E8-FCB6-4726-9A19-2F9727CE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7778-234F-4BC0-9A1A-86B08FF8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F4EB-3D3A-4DA2-A0D7-003E839A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60A4-96D9-4F48-BFBB-6BF7F06D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8278-7374-4BCC-8A0E-DA603A52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20F7-D896-4D06-BD49-8586A7A9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1AE1-AB09-4284-AE3D-0578F9E6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6C24-5466-4967-B017-0789A2B9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436-FD01-40F6-B68A-A0744B8F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C049-6EF0-4483-8C2B-EDD0FADE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2327-1361-4198-8CDC-68BCEC22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F77E-EA98-4552-893D-80A5147B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6D4A-0EF5-4B87-9B37-5D73C8BA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E7FD-E415-45EC-BDC4-EA917266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A58C-AC43-4BC8-B59E-81B92EFB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8E222-CBFD-4BDA-9796-E31E9D06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F754-D16A-48DC-873D-FC68B0B1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1BB41-385C-44B9-8D14-8B0D6EDB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F6871-3950-4C2A-A1D9-AF72152B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AD7A-349C-4A79-B39C-A78CD66D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8F286-DC78-4E4F-90D0-C49E937F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7A2E7-463B-434B-B415-68440A58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E299D-9278-4869-BE31-6F501703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37B2F-2370-4795-9AA8-62A2615D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0EF4-B7C8-4DCA-9890-20C8C158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2356A-A7F3-469E-8563-012218F4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A6B4-150F-49BC-96AE-2D02F0BF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0B0AE-D6EE-46AC-AB16-14B83776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27756-C422-492D-BC99-AF1F5D60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9B7FC-0143-484B-9525-67B143B0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446-25D9-4AF9-8906-D1F675EA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346D8-5334-4031-AD7A-4A84BE5D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D32A7-05E1-43CD-A708-667BE1BC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B7A62-B2AA-4C36-B9F3-DD3A225E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1221C-5C4D-429E-A32B-C15128D6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D42B1-5936-4D7F-A2F9-9C650563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D1666-8FB1-4231-A343-8E990BF0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BD753-3050-4263-8AD5-48F1367E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02F72-F940-4F24-A883-11B47A7C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BBB38-8950-4898-9D9B-175FA50E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95B-BF97-4AAB-AD18-619FAC31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360-83D2-444D-8BCC-748823DE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9896-AA08-4B01-AB27-27C49501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3C5-F3B4-4931-A401-4D45CF28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C9A-9AE3-4379-A987-86986FD3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1ADC-E5BD-4699-B9AD-07A7C8D7AD04}" type="slidenum"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F2C2-5D8C-466D-AAC0-C61463A3D49E}" type="slidenum"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0304-CF07-40F8-88F2-4367DA640489}" type="slidenum"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159C-1297-4535-9C5E-EAD712AE0289}" type="slidenum"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2"/>
          <a:stretch/>
        </p:blipFill>
        <p:spPr>
          <a:xfrm>
            <a:off x="353880" y="633240"/>
            <a:ext cx="8813880" cy="2573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Comic Sans MS"/>
              </a:rPr>
              <a:t>Выполнил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Comic Sans MS"/>
              </a:rPr>
              <a:t>Николаев А.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Comic Sans MS"/>
              </a:rPr>
              <a:t>учитель физической культур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Comic Sans MS"/>
              </a:rPr>
              <a:t>МОУ Меленковской СОШ № 1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Comic Sans MS"/>
              </a:rPr>
              <a:t>Владимирской област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Рисунок 4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a6378"/>
                </a:solidFill>
                <a:latin typeface="Calibri"/>
              </a:rPr>
              <a:t>               </a:t>
            </a:r>
            <a:r>
              <a:rPr b="1" i="1" lang="en-US" sz="4500" spc="-1" strike="noStrike" u="sng">
                <a:solidFill>
                  <a:srgbClr val="ff3399"/>
                </a:solidFill>
                <a:uFillTx/>
                <a:latin typeface="Comic Sans MS"/>
              </a:rPr>
              <a:t>Дальние  цели:</a:t>
            </a:r>
            <a:br>
              <a:rPr sz="4500"/>
            </a:b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mic Sans MS"/>
              </a:rPr>
              <a:t>Формирование  личности  каждого ученика, обладающего  хорошим физическим здоровьем, способного адаптироваться к любым жизненным ситуациям, стремящемуся к постоянному самосовершенствованию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a6378"/>
                </a:solidFill>
                <a:latin typeface="Arial"/>
              </a:rPr>
              <a:t>             </a:t>
            </a:r>
            <a:r>
              <a:rPr b="1" i="1" lang="en-US" sz="4500" spc="-1" strike="noStrike" u="sng">
                <a:solidFill>
                  <a:srgbClr val="ff3399"/>
                </a:solidFill>
                <a:uFillTx/>
                <a:latin typeface="Comic Sans MS"/>
              </a:rPr>
              <a:t>Ближние цели:</a:t>
            </a:r>
            <a:br>
              <a:rPr sz="4500"/>
            </a:b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mic Sans MS"/>
              </a:rPr>
              <a:t>Совершенствование процесса преподавания физической культуры на основе формирования потребности каждого школьника в двигательной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Рисунок 13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i="1" lang="en-US" sz="4400" spc="-1" strike="noStrike" u="sng">
                <a:solidFill>
                  <a:srgbClr val="ff3399"/>
                </a:solidFill>
                <a:uFillTx/>
                <a:latin typeface="Comic Sans MS"/>
              </a:rPr>
              <a:t>Педагогические задачи: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Формирование ценностного отношения к своему здоровь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Укрепление здоровь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Обучение жизненно-важным навыкам и умения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Развитие двигательных способност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Приобретение необходимых знаний в области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Воспитание потребности и умения самостоятельно заниматься физическими упражнения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Содействие воспитанию нравственных и волевых качеств, развитие психических процессов и свойств лич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a6378"/>
                </a:solidFill>
                <a:latin typeface="Arial"/>
              </a:rPr>
              <a:t>        </a:t>
            </a:r>
            <a:r>
              <a:rPr b="1" i="1" lang="en-US" sz="4500" spc="-1" strike="noStrike" u="sng">
                <a:solidFill>
                  <a:srgbClr val="ff3399"/>
                </a:solidFill>
                <a:uFillTx/>
                <a:latin typeface="Comic Sans MS"/>
              </a:rPr>
              <a:t>Трудности и решения:</a:t>
            </a:r>
            <a:br>
              <a:rPr sz="4500"/>
            </a:b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Низкий уровень здоровья ученик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Снижение интереса к занятия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Недостаточная материально-техническая баз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Совершенствование материально-технической баз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Проведение родительских собраний по физическому развитию дет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Создание совета коллектива физкультур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Пропаганда успехов учащихся по физической культур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99"/>
                </a:solidFill>
                <a:uFillTx/>
                <a:latin typeface="Comic Sans MS"/>
              </a:rPr>
              <a:t>Организация педагогического процесса в школе по развитию двигательных способностей: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3635280" y="3429000"/>
            <a:ext cx="1944720" cy="1728720"/>
          </a:xfrm>
          <a:prstGeom prst="ellipse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игательна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ст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3357720"/>
            <a:ext cx="1800360" cy="360360"/>
          </a:xfrm>
          <a:prstGeom prst="wedgeRectCallout">
            <a:avLst>
              <a:gd name="adj1" fmla="val -46824"/>
              <a:gd name="adj2" fmla="val 172907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4292640"/>
            <a:ext cx="1942920" cy="649080"/>
          </a:xfrm>
          <a:prstGeom prst="wedgeRectCallout">
            <a:avLst>
              <a:gd name="adj1" fmla="val -47629"/>
              <a:gd name="adj2" fmla="val 85208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культурны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утк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4211640" y="5589360"/>
            <a:ext cx="1944720" cy="718920"/>
          </a:xfrm>
          <a:prstGeom prst="wedgeRectCallout">
            <a:avLst>
              <a:gd name="adj1" fmla="val 1342"/>
              <a:gd name="adj2" fmla="val 110925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овы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мен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2195640" y="5373720"/>
            <a:ext cx="1800000" cy="719280"/>
          </a:xfrm>
          <a:prstGeom prst="wedgeRectCallout">
            <a:avLst>
              <a:gd name="adj1" fmla="val -59527"/>
              <a:gd name="adj2" fmla="val 97018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овые час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ГП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4788000" y="2565360"/>
            <a:ext cx="1224000" cy="609480"/>
          </a:xfrm>
          <a:prstGeom prst="wedgeRectCallout">
            <a:avLst>
              <a:gd name="adj1" fmla="val -108106"/>
              <a:gd name="adj2" fmla="val 78907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оровь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1835280" y="4436640"/>
            <a:ext cx="1706400" cy="647640"/>
          </a:xfrm>
          <a:prstGeom prst="wedgeRectCallout">
            <a:avLst>
              <a:gd name="adj1" fmla="val -50282"/>
              <a:gd name="adj2" fmla="val 82351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вижны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1834920" y="3500280"/>
            <a:ext cx="1779480" cy="609840"/>
          </a:xfrm>
          <a:prstGeom prst="wedgeRectCallout">
            <a:avLst>
              <a:gd name="adj1" fmla="val -46791"/>
              <a:gd name="adj2" fmla="val 70050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ртивны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ревнова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/>
          <p:nvPr/>
        </p:nvSpPr>
        <p:spPr>
          <a:xfrm>
            <a:off x="1908000" y="2492280"/>
            <a:ext cx="1922760" cy="609840"/>
          </a:xfrm>
          <a:prstGeom prst="wedgeRectCallout">
            <a:avLst>
              <a:gd name="adj1" fmla="val 60652"/>
              <a:gd name="adj2" fmla="val 109634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мнастика д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99"/>
                </a:solidFill>
                <a:latin typeface="Comic Sans MS"/>
              </a:rPr>
              <a:t>           </a:t>
            </a:r>
            <a:r>
              <a:rPr b="1" i="1" lang="en-US" sz="4400" spc="-1" strike="noStrike" u="sng">
                <a:solidFill>
                  <a:srgbClr val="ff3399"/>
                </a:solidFill>
                <a:uFillTx/>
                <a:latin typeface="Comic Sans MS"/>
              </a:rPr>
              <a:t>Ресурсы: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99"/>
                </a:solidFill>
                <a:latin typeface="Comic Sans MS"/>
              </a:rPr>
              <a:t>Физическая культура. 5-7 классы; учебник для общеобразовательных учреждений/ М.Я.Виленский, И.М.Туревский и д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99"/>
                </a:solidFill>
                <a:latin typeface="Comic Sans MS"/>
              </a:rPr>
              <a:t>Физическая культура. 8-9 классы; учебник для общеобразовательных учреждений/В.И.Лях, А.А.Зданеви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99"/>
                </a:solidFill>
                <a:latin typeface="Comic Sans MS"/>
              </a:rPr>
              <a:t>Журнал «Физкультура в школе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99"/>
                </a:solidFill>
                <a:latin typeface="Comic Sans MS"/>
              </a:rPr>
              <a:t>Сообщество учителей физкультуры на </a:t>
            </a:r>
            <a:r>
              <a:rPr b="1" lang="en-US" sz="2600" spc="-1" strike="noStrike">
                <a:solidFill>
                  <a:srgbClr val="ff3399"/>
                </a:solidFill>
                <a:latin typeface="Comic Sans MS"/>
              </a:rPr>
              <a:t>wiki</a:t>
            </a:r>
            <a:r>
              <a:rPr b="1" lang="ru-RU" sz="2600" spc="-1" strike="noStrike">
                <a:solidFill>
                  <a:srgbClr val="ff3399"/>
                </a:solidFill>
                <a:latin typeface="Comic Sans MS"/>
              </a:rPr>
              <a:t>- Владими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99"/>
                </a:solidFill>
                <a:latin typeface="Comic Sans MS"/>
              </a:rPr>
              <a:t>       </a:t>
            </a:r>
            <a:r>
              <a:rPr b="1" i="1" lang="en-US" sz="4400" spc="-1" strike="noStrike" u="sng">
                <a:solidFill>
                  <a:srgbClr val="ff3399"/>
                </a:solidFill>
                <a:uFillTx/>
                <a:latin typeface="Comic Sans MS"/>
              </a:rPr>
              <a:t>План-график: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935000"/>
          <a:ext cx="8229600" cy="4389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22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Меся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22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Мероприят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6:36:31Z</dcterms:created>
  <dc:creator>User</dc:creator>
  <dc:description/>
  <dc:language>en-US</dc:language>
  <cp:lastModifiedBy>User</cp:lastModifiedBy>
  <dcterms:modified xsi:type="dcterms:W3CDTF">2011-05-02T19:36:45Z</dcterms:modified>
  <cp:revision>9</cp:revision>
  <dc:subject/>
  <dc:title>Формирование двигательной активности  </dc:title>
</cp:coreProperties>
</file>