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923-7927-476D-B53F-DCDCCA2C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16E-E3B8-41A6-9CC1-47A50E4F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095-CDD9-482E-9383-125A56D2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C97-8CFC-471C-9E77-9A2598A2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770C-8102-4845-B4A8-82FAB8F0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74E1-EDCB-4A71-8D6D-5E4A7A47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4905-D922-47E5-AF6A-CF949641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B556-1F03-400B-9A38-95FA330C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226D-C275-481C-8073-89B806A1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7B7E-F1C8-4477-BD95-79B0D9B1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AC3B-0AB4-4303-914D-360448DA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778-CFCA-48E3-B4D1-5903AC3C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FD10-17F3-4ADB-AF9D-952630E6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EADF-8D78-4AEC-B12A-DA955BB0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1B65-80ED-4925-BAF2-198ED6B7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BD3D-6695-43AB-B35C-EFE8AEA5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56EA-E4BF-40BC-8911-8561DAD4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4EA1-5941-4E9B-A6B9-8B4CB560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C1626-16A0-46AF-9B34-19B39734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8A30-39A3-415A-9712-D3D39EC1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5B41-E849-411E-A235-2214590A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14E6C-78B6-4734-AB47-4A0777B1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D25-5CFB-4788-AFD0-1F8BF95B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4432-4340-412E-9FA2-96E2E338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DC3B6-FD23-47C2-A45A-928F9BAC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AC1F0-F21F-404B-9ED5-6538E389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93B75-A744-47F8-8B6A-4D9CE019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2241-EDBA-4756-B754-8E851685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3C0BA-CAFE-4D67-BFC8-8955E756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00CEA-C7AD-4BCB-BD1D-709C6818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D1120-95F5-4581-A934-0EFBF0B2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A6CFB-4C35-4325-B91A-33B4E8DA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4EA83-9A7D-4DA2-810A-D5FA9F83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6E9-CA66-42DA-9099-0149E044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C18BE-21E9-4596-97EE-D709B010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BF1A1-B1F6-44C7-A9C4-01AF1484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319DB-B608-41FC-97C2-F06D59B7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1E3A4-4251-4C2C-A851-91B6ADDF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89064-4CBB-438E-8F59-CD11B79B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22E9E-4E98-4200-8597-C563C630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58E1E-987D-4B66-A961-404A8BF6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A063F-E1F4-473B-A40A-6E5E54DC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B26AF-E49D-4AA6-A524-E04BA6C9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E43-1211-4DF7-9E8A-5AB3C39F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375-5FA0-45F3-9168-E3A88087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846-A0EF-42A2-B3B3-A335353E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459-80C9-44DD-838C-C60E0D49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048-8EB4-4546-857E-1B78E18B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9FA6-E775-43D3-A0A8-FE2B8D798318}" type="slidenum"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0DA8-37D9-4110-B9CA-ACAA02A4AC85}" type="slidenum"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ABB5-8228-4BFE-9E9F-A7CB22165A5F}" type="slidenum"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799A-79FB-485A-9E96-7725FA78B227}" type="slidenum"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2"/>
          <a:stretch/>
        </p:blipFill>
        <p:spPr>
          <a:xfrm>
            <a:off x="353880" y="633240"/>
            <a:ext cx="8813880" cy="2573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Comic Sans MS"/>
              </a:rPr>
              <a:t>Выполнил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Comic Sans MS"/>
              </a:rPr>
              <a:t>Николаев А.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Comic Sans MS"/>
              </a:rPr>
              <a:t>учитель физической культу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Comic Sans MS"/>
              </a:rPr>
              <a:t>МОУ Меленковской СОШ № 1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Comic Sans MS"/>
              </a:rPr>
              <a:t>Владимирской област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Рисунок 4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a6378"/>
                </a:solidFill>
                <a:latin typeface="Calibri"/>
              </a:rPr>
              <a:t>               </a:t>
            </a:r>
            <a:r>
              <a:rPr b="1" i="1" lang="en-US" sz="4500" spc="-1" strike="noStrike" u="sng">
                <a:solidFill>
                  <a:srgbClr val="ff3399"/>
                </a:solidFill>
                <a:uFillTx/>
                <a:latin typeface="Comic Sans MS"/>
              </a:rPr>
              <a:t>Дальние  цели:</a:t>
            </a:r>
            <a:br>
              <a:rPr sz="4500"/>
            </a:b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mic Sans MS"/>
              </a:rPr>
              <a:t>Формирование  личности  каждого ученика, обладающего  хорошим физическим здоровьем, способного адаптироваться к любым жизненным ситуациям, стремящемуся к постоянному самосовершенствованию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a6378"/>
                </a:solidFill>
                <a:latin typeface="Arial"/>
              </a:rPr>
              <a:t>             </a:t>
            </a:r>
            <a:r>
              <a:rPr b="1" i="1" lang="en-US" sz="4500" spc="-1" strike="noStrike" u="sng">
                <a:solidFill>
                  <a:srgbClr val="ff3399"/>
                </a:solidFill>
                <a:uFillTx/>
                <a:latin typeface="Comic Sans MS"/>
              </a:rPr>
              <a:t>Ближние цели:</a:t>
            </a:r>
            <a:br>
              <a:rPr sz="4500"/>
            </a:b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mic Sans MS"/>
              </a:rPr>
              <a:t>Совершенствование процесса преподавания физической культуры на основе формирования потребности каждого школьника в двигательной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Рисунок 13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i="1" lang="en-US" sz="4400" spc="-1" strike="noStrike" u="sng">
                <a:solidFill>
                  <a:srgbClr val="ff3399"/>
                </a:solidFill>
                <a:uFillTx/>
                <a:latin typeface="Comic Sans MS"/>
              </a:rPr>
              <a:t>Педагогические задачи: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Формирование ценностного отношения к своему здоровь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Укрепление здоровь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Обучение жизненно-важным навыкам и умения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Развитие двигательных способност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Приобретение необходимых знаний в области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Воспитание потребности и умения самостоятельно заниматься физическими упражнения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Содействие воспитанию нравственных и волевых качеств, развитие психических процессов и свойств лич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a6378"/>
                </a:solidFill>
                <a:latin typeface="Arial"/>
              </a:rPr>
              <a:t>        </a:t>
            </a:r>
            <a:r>
              <a:rPr b="1" i="1" lang="en-US" sz="4500" spc="-1" strike="noStrike" u="sng">
                <a:solidFill>
                  <a:srgbClr val="ff3399"/>
                </a:solidFill>
                <a:uFillTx/>
                <a:latin typeface="Comic Sans MS"/>
              </a:rPr>
              <a:t>Трудности и решения:</a:t>
            </a:r>
            <a:br>
              <a:rPr sz="4500"/>
            </a:b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Низкий уровень здоровья ученик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Снижение интереса к занятия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Недостаточная материально-техническая баз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Совершенствование материально-технической баз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Проведение родительских собраний по физическому развитию дет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Создание совета коллектива физкультур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Пропаганда успехов учащихся по физической культур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99"/>
                </a:solidFill>
                <a:uFillTx/>
                <a:latin typeface="Comic Sans MS"/>
              </a:rPr>
              <a:t>Организация педагогического процесса в школе по развитию двигательных способностей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3635280" y="3429000"/>
            <a:ext cx="1944720" cy="1728720"/>
          </a:xfrm>
          <a:prstGeom prst="ellipse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игательна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ст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3357720"/>
            <a:ext cx="1800360" cy="360360"/>
          </a:xfrm>
          <a:prstGeom prst="wedgeRectCallout">
            <a:avLst>
              <a:gd name="adj1" fmla="val -46824"/>
              <a:gd name="adj2" fmla="val 172907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4292640"/>
            <a:ext cx="1942920" cy="649080"/>
          </a:xfrm>
          <a:prstGeom prst="wedgeRectCallout">
            <a:avLst>
              <a:gd name="adj1" fmla="val -47629"/>
              <a:gd name="adj2" fmla="val 85208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культурн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утк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4211640" y="5589360"/>
            <a:ext cx="1944720" cy="718920"/>
          </a:xfrm>
          <a:prstGeom prst="wedgeRectCallout">
            <a:avLst>
              <a:gd name="adj1" fmla="val 1342"/>
              <a:gd name="adj2" fmla="val 110925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ов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мен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2195640" y="5373720"/>
            <a:ext cx="1800000" cy="719280"/>
          </a:xfrm>
          <a:prstGeom prst="wedgeRectCallout">
            <a:avLst>
              <a:gd name="adj1" fmla="val -59527"/>
              <a:gd name="adj2" fmla="val 97018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овые час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ГП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4788000" y="2565360"/>
            <a:ext cx="1224000" cy="609480"/>
          </a:xfrm>
          <a:prstGeom prst="wedgeRectCallout">
            <a:avLst>
              <a:gd name="adj1" fmla="val -108106"/>
              <a:gd name="adj2" fmla="val 78907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оровь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1835280" y="4436640"/>
            <a:ext cx="1706400" cy="647640"/>
          </a:xfrm>
          <a:prstGeom prst="wedgeRectCallout">
            <a:avLst>
              <a:gd name="adj1" fmla="val -50282"/>
              <a:gd name="adj2" fmla="val 82351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вижн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1834920" y="3500280"/>
            <a:ext cx="1779480" cy="609840"/>
          </a:xfrm>
          <a:prstGeom prst="wedgeRectCallout">
            <a:avLst>
              <a:gd name="adj1" fmla="val -46791"/>
              <a:gd name="adj2" fmla="val 70050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ртивн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ревнов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/>
          <p:nvPr/>
        </p:nvSpPr>
        <p:spPr>
          <a:xfrm>
            <a:off x="1908000" y="2492280"/>
            <a:ext cx="1922760" cy="609840"/>
          </a:xfrm>
          <a:prstGeom prst="wedgeRectCallout">
            <a:avLst>
              <a:gd name="adj1" fmla="val 60652"/>
              <a:gd name="adj2" fmla="val 109634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мнастика д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99"/>
                </a:solidFill>
                <a:latin typeface="Comic Sans MS"/>
              </a:rPr>
              <a:t>           </a:t>
            </a:r>
            <a:r>
              <a:rPr b="1" i="1" lang="en-US" sz="4400" spc="-1" strike="noStrike" u="sng">
                <a:solidFill>
                  <a:srgbClr val="ff3399"/>
                </a:solidFill>
                <a:uFillTx/>
                <a:latin typeface="Comic Sans MS"/>
              </a:rPr>
              <a:t>Ресурсы: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99"/>
                </a:solidFill>
                <a:latin typeface="Comic Sans MS"/>
              </a:rPr>
              <a:t>Физическая культура. 5-7 классы; учебник для общеобразовательных учреждений/ М.Я.Виленский, И.М.Туревский и д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99"/>
                </a:solidFill>
                <a:latin typeface="Comic Sans MS"/>
              </a:rPr>
              <a:t>Физическая культура. 8-9 классы; учебник для общеобразовательных учреждений/В.И.Лях, А.А.Зданеви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99"/>
                </a:solidFill>
                <a:latin typeface="Comic Sans MS"/>
              </a:rPr>
              <a:t>Журнал «Физкультура в школе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99"/>
                </a:solidFill>
                <a:latin typeface="Comic Sans MS"/>
              </a:rPr>
              <a:t>Сообщество учителей физкультуры на </a:t>
            </a:r>
            <a:r>
              <a:rPr b="1" lang="en-US" sz="2600" spc="-1" strike="noStrike">
                <a:solidFill>
                  <a:srgbClr val="ff3399"/>
                </a:solidFill>
                <a:latin typeface="Comic Sans MS"/>
              </a:rPr>
              <a:t>wiki</a:t>
            </a:r>
            <a:r>
              <a:rPr b="1" lang="ru-RU" sz="2600" spc="-1" strike="noStrike">
                <a:solidFill>
                  <a:srgbClr val="ff3399"/>
                </a:solidFill>
                <a:latin typeface="Comic Sans MS"/>
              </a:rPr>
              <a:t>- Владими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99"/>
                </a:solidFill>
                <a:latin typeface="Comic Sans MS"/>
              </a:rPr>
              <a:t>       </a:t>
            </a:r>
            <a:r>
              <a:rPr b="1" i="1" lang="en-US" sz="4400" spc="-1" strike="noStrike" u="sng">
                <a:solidFill>
                  <a:srgbClr val="ff3399"/>
                </a:solidFill>
                <a:uFillTx/>
                <a:latin typeface="Comic Sans MS"/>
              </a:rPr>
              <a:t>План-график: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935000"/>
          <a:ext cx="8229600" cy="4389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22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Меся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22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Мероприят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6:36:31Z</dcterms:created>
  <dc:creator>User</dc:creator>
  <dc:description/>
  <dc:language>en-US</dc:language>
  <cp:lastModifiedBy>User</cp:lastModifiedBy>
  <dcterms:modified xsi:type="dcterms:W3CDTF">2011-05-02T19:36:45Z</dcterms:modified>
  <cp:revision>9</cp:revision>
  <dc:subject/>
  <dc:title>Формирование двигательной активности  </dc:title>
</cp:coreProperties>
</file>