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3357-7AB0-49DC-BB76-B54CDA163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7A84-FC0E-4240-9B12-B1EE155C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13E8-341C-4454-A054-1C66BE822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A6DB-2376-4D8D-9A1D-AFFF28584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D1611-5654-4D2F-BE36-1EB1BB0C9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84628-01B5-4E61-A192-2BBD52EE0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AFC04-C7CA-4728-8A2B-7F4E96ED9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9E225-26CF-4E4B-A738-6887FE9C6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68B48-2647-4093-A98B-B2AAAE3A5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5F55E-549C-4D01-B74E-3190159B9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BF249-CE34-4FE9-9330-D9B44268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DD46-D1F5-4B89-B721-A36E7F934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ECB4E-5540-467C-8E9F-AB6C7F52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45E61-32A4-4914-BAA2-CD929CA2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46D1C-1BDE-4AE6-B0EE-FE33D50E7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2A23D-5B73-4929-AF0D-3F5DA275E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C7102-C72E-473F-83FD-C41B72C00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85B00-0B01-498A-91D3-BE11F3FB3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DF6E6-7835-4374-B779-01481794B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46FA2-74D5-4071-BAA9-DDDF9E400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899FF-36A8-40C6-BB55-9F8277A4D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B7FF0-429F-40DC-9DEC-ECC63E9A6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4ED3-CEF6-45B3-9656-F79E5B59D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D908B-07E1-4E82-90AE-2CA082ED3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4506F-D90A-4E00-BF64-15E9A9D6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9FF75-2F35-45BC-AE76-FAEBC3BF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640BE-3A3A-4867-B4F8-E3B488A3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CA4C5-F257-4C49-80BC-28E0824A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8802C-87FF-48D1-9A61-62714440C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7F617-3E06-41C8-99F1-C32910C58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3B017-82CD-4C07-994E-BED73CC75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1D383-8AE7-49BC-96B1-04D92D683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34CEB-A8F1-443F-AA09-7BDF114FF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C467-331E-42C9-AE3B-1F0451AB8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B389A-50FC-403E-83B4-E5F134101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9EC46-2E8C-4565-A6EF-6ACEA0269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51293-EABE-4D5A-B1CB-D9CE9CC94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9C5A3-AE53-4CA8-9CB4-8DD3443A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0292C-9FF0-4D3C-8136-0965C370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3E01F-6DBB-4913-A9BA-108D7CC0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56835-8794-4414-AA7E-BABE4DA7D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1B243-2443-4210-A39F-64482FCCA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96F09-E3CF-4B19-846C-0FDF9B71C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95A9-D986-44A3-A704-2A8A39B00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E815-4DEF-45F1-8528-2B0684DDE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CEAA-02FC-4758-946C-DC634FD3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CA92-CDF2-4470-96D4-F61C5F81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CD20-A407-4FD6-B9BB-3DFCA270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5e7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6D0C3-B1D3-4C6B-81AF-64C2B1653294}" type="slidenum">
              <a:rPr b="0" lang="ru-RU" sz="1200" spc="-1" strike="noStrike">
                <a:solidFill>
                  <a:srgbClr val="565e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acac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81B04-20B6-4D55-AE04-B3CFD124B2F7}" type="slidenum">
              <a:rPr b="0" lang="ru-RU" sz="1200" spc="-1" strike="noStrike">
                <a:solidFill>
                  <a:srgbClr val="caca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acac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D765C-3E03-4E06-A88E-24DA40619917}" type="slidenum">
              <a:rPr b="0" lang="ru-RU" sz="1200" spc="-1" strike="noStrike">
                <a:solidFill>
                  <a:srgbClr val="caca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5e7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77541-A19C-4815-9E88-365C3D05E40A}" type="slidenum">
              <a:rPr b="0" lang="ru-RU" sz="1200" spc="-1" strike="noStrike">
                <a:solidFill>
                  <a:srgbClr val="565e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1" descr=""/>
          <p:cNvPicPr/>
          <p:nvPr/>
        </p:nvPicPr>
        <p:blipFill>
          <a:blip r:embed="rId2"/>
          <a:stretch/>
        </p:blipFill>
        <p:spPr>
          <a:xfrm>
            <a:off x="353880" y="633240"/>
            <a:ext cx="8813880" cy="25736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Comic Sans MS"/>
              </a:rPr>
              <a:t>Выполнил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Comic Sans MS"/>
              </a:rPr>
              <a:t>Николаев А.Ю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Comic Sans MS"/>
              </a:rPr>
              <a:t>учитель физической культуры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Comic Sans MS"/>
              </a:rPr>
              <a:t>МОУ Меленковской СОШ № 1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Comic Sans MS"/>
              </a:rPr>
              <a:t>Владимирской области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6" name="Рисунок 4" descr=""/>
          <p:cNvPicPr/>
          <p:nvPr/>
        </p:nvPicPr>
        <p:blipFill>
          <a:blip r:embed="rId3"/>
          <a:stretch/>
        </p:blipFill>
        <p:spPr>
          <a:xfrm>
            <a:off x="684360" y="4076640"/>
            <a:ext cx="2232000" cy="1800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3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2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2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2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20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20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5a6378"/>
                </a:solidFill>
                <a:latin typeface="Calibri"/>
              </a:rPr>
              <a:t>               </a:t>
            </a:r>
            <a:r>
              <a:rPr b="1" i="1" lang="en-US" sz="4500" spc="-1" strike="noStrike" u="sng">
                <a:solidFill>
                  <a:srgbClr val="ff3399"/>
                </a:solidFill>
                <a:uFillTx/>
                <a:latin typeface="Comic Sans MS"/>
              </a:rPr>
              <a:t>Дальние  цели:</a:t>
            </a:r>
            <a:br>
              <a:rPr sz="4500"/>
            </a:br>
            <a:endParaRPr b="0" lang="en-US" sz="45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99"/>
                </a:solidFill>
                <a:latin typeface="Comic Sans MS"/>
              </a:rPr>
              <a:t>Формирование  личности  каждого ученика, обладающего  хорошим физическим здоровьем, способного адаптироваться к любым жизненным ситуациям, стремящемуся к постоянному самосовершенствованию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5a6378"/>
                </a:solidFill>
                <a:latin typeface="Arial"/>
              </a:rPr>
              <a:t>             </a:t>
            </a:r>
            <a:r>
              <a:rPr b="1" i="1" lang="en-US" sz="4500" spc="-1" strike="noStrike" u="sng">
                <a:solidFill>
                  <a:srgbClr val="ff3399"/>
                </a:solidFill>
                <a:uFillTx/>
                <a:latin typeface="Comic Sans MS"/>
              </a:rPr>
              <a:t>Ближние цели:</a:t>
            </a:r>
            <a:br>
              <a:rPr sz="4500"/>
            </a:br>
            <a:endParaRPr b="0" lang="en-US" sz="45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99"/>
                </a:solidFill>
                <a:latin typeface="Comic Sans MS"/>
              </a:rPr>
              <a:t>Совершенствование процесса преподавания физической культуры на основе формирования потребности каждого школьника в двигательной активност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Рисунок 13" descr=""/>
          <p:cNvPicPr/>
          <p:nvPr/>
        </p:nvPicPr>
        <p:blipFill>
          <a:blip r:embed="rId2"/>
          <a:stretch/>
        </p:blipFill>
        <p:spPr>
          <a:xfrm>
            <a:off x="5867280" y="414972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3399"/>
                </a:solidFill>
                <a:latin typeface="Arial"/>
              </a:rPr>
              <a:t>    </a:t>
            </a:r>
            <a:r>
              <a:rPr b="1" i="1" lang="en-US" sz="4400" spc="-1" strike="noStrike" u="sng">
                <a:solidFill>
                  <a:srgbClr val="ff3399"/>
                </a:solidFill>
                <a:uFillTx/>
                <a:latin typeface="Comic Sans MS"/>
              </a:rPr>
              <a:t>Педагогические задачи:</a:t>
            </a:r>
            <a:endParaRPr b="0" lang="en-US" sz="44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Comic Sans MS"/>
              </a:rPr>
              <a:t>Формирование ценностного отношения к своему здоровью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Comic Sans MS"/>
              </a:rPr>
              <a:t>Укрепление здоровь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Comic Sans MS"/>
              </a:rPr>
              <a:t>Обучение жизненно-важным навыкам и умения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Comic Sans MS"/>
              </a:rPr>
              <a:t>Развитие двигательных способностей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Comic Sans MS"/>
              </a:rPr>
              <a:t>Приобретение необходимых знаний в области физической культур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Comic Sans MS"/>
              </a:rPr>
              <a:t>Воспитание потребности и умения самостоятельно заниматься физическими упражнениям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Comic Sans MS"/>
              </a:rPr>
              <a:t>Содействие воспитанию нравственных и волевых качеств, развитие психических процессов и свойств личност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5a6378"/>
                </a:solidFill>
                <a:latin typeface="Arial"/>
              </a:rPr>
              <a:t>        </a:t>
            </a:r>
            <a:r>
              <a:rPr b="1" i="1" lang="en-US" sz="4500" spc="-1" strike="noStrike" u="sng">
                <a:solidFill>
                  <a:srgbClr val="ff3399"/>
                </a:solidFill>
                <a:uFillTx/>
                <a:latin typeface="Comic Sans MS"/>
              </a:rPr>
              <a:t>Трудности и решения:</a:t>
            </a:r>
            <a:br>
              <a:rPr sz="4500"/>
            </a:br>
            <a:endParaRPr b="0" lang="en-US" sz="45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Низкий уровень здоровья ученико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Снижение интереса к занятиям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Недостаточная материально-техническая баз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64832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Совершенствование материально-технической базы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Проведение родительских собраний по физическому развитию детей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Создание совета коллектива физкультуры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Пропаганда успехов учащихся по физической культур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63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3399"/>
                </a:solidFill>
                <a:uFillTx/>
                <a:latin typeface="Comic Sans MS"/>
              </a:rPr>
              <a:t>Организация педагогического процесса в школе по развитию двигательных способностей:</a:t>
            </a:r>
            <a:endParaRPr b="0" lang="en-US" sz="4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18" name=""/>
          <p:cNvSpPr/>
          <p:nvPr/>
        </p:nvSpPr>
        <p:spPr>
          <a:xfrm>
            <a:off x="3635280" y="3429000"/>
            <a:ext cx="1944720" cy="1728720"/>
          </a:xfrm>
          <a:prstGeom prst="ellipse">
            <a:avLst/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вигательная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ктивность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ащихся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"/>
          <p:cNvSpPr/>
          <p:nvPr/>
        </p:nvSpPr>
        <p:spPr>
          <a:xfrm>
            <a:off x="5580000" y="3357720"/>
            <a:ext cx="1800360" cy="360360"/>
          </a:xfrm>
          <a:prstGeom prst="wedgeRectCallout">
            <a:avLst>
              <a:gd name="adj1" fmla="val -46824"/>
              <a:gd name="adj2" fmla="val 172907"/>
            </a:avLst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рок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"/>
          <p:cNvSpPr/>
          <p:nvPr/>
        </p:nvSpPr>
        <p:spPr>
          <a:xfrm>
            <a:off x="5651640" y="4292640"/>
            <a:ext cx="1942920" cy="649080"/>
          </a:xfrm>
          <a:prstGeom prst="wedgeRectCallout">
            <a:avLst>
              <a:gd name="adj1" fmla="val -47629"/>
              <a:gd name="adj2" fmla="val 85208"/>
            </a:avLst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изкультурны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инутк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"/>
          <p:cNvSpPr/>
          <p:nvPr/>
        </p:nvSpPr>
        <p:spPr>
          <a:xfrm rot="10800000">
            <a:off x="4211640" y="5589360"/>
            <a:ext cx="1944720" cy="718920"/>
          </a:xfrm>
          <a:prstGeom prst="wedgeRectCallout">
            <a:avLst>
              <a:gd name="adj1" fmla="val 1342"/>
              <a:gd name="adj2" fmla="val 110925"/>
            </a:avLst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гровы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емены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"/>
          <p:cNvSpPr/>
          <p:nvPr/>
        </p:nvSpPr>
        <p:spPr>
          <a:xfrm rot="10800000">
            <a:off x="2195640" y="5373720"/>
            <a:ext cx="1800000" cy="719280"/>
          </a:xfrm>
          <a:prstGeom prst="wedgeRectCallout">
            <a:avLst>
              <a:gd name="adj1" fmla="val -59527"/>
              <a:gd name="adj2" fmla="val 97018"/>
            </a:avLst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гровые часы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ГПД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"/>
          <p:cNvSpPr/>
          <p:nvPr/>
        </p:nvSpPr>
        <p:spPr>
          <a:xfrm>
            <a:off x="4788000" y="2565360"/>
            <a:ext cx="1224000" cy="609480"/>
          </a:xfrm>
          <a:prstGeom prst="wedgeRectCallout">
            <a:avLst>
              <a:gd name="adj1" fmla="val -108106"/>
              <a:gd name="adj2" fmla="val 78907"/>
            </a:avLst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н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доровья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"/>
          <p:cNvSpPr/>
          <p:nvPr/>
        </p:nvSpPr>
        <p:spPr>
          <a:xfrm rot="10800000">
            <a:off x="1835280" y="4436640"/>
            <a:ext cx="1706400" cy="647640"/>
          </a:xfrm>
          <a:prstGeom prst="wedgeRectCallout">
            <a:avLst>
              <a:gd name="adj1" fmla="val -50282"/>
              <a:gd name="adj2" fmla="val 82351"/>
            </a:avLst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вижны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гры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"/>
          <p:cNvSpPr/>
          <p:nvPr/>
        </p:nvSpPr>
        <p:spPr>
          <a:xfrm rot="10800000">
            <a:off x="1834920" y="3500280"/>
            <a:ext cx="1779480" cy="609840"/>
          </a:xfrm>
          <a:prstGeom prst="wedgeRectCallout">
            <a:avLst>
              <a:gd name="adj1" fmla="val -46791"/>
              <a:gd name="adj2" fmla="val 70050"/>
            </a:avLst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ортивны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ревнования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"/>
          <p:cNvSpPr/>
          <p:nvPr/>
        </p:nvSpPr>
        <p:spPr>
          <a:xfrm>
            <a:off x="1908000" y="2492280"/>
            <a:ext cx="1922760" cy="609840"/>
          </a:xfrm>
          <a:prstGeom prst="wedgeRectCallout">
            <a:avLst>
              <a:gd name="adj1" fmla="val 60652"/>
              <a:gd name="adj2" fmla="val 109634"/>
            </a:avLst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имнастика до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няти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99"/>
                </a:solidFill>
                <a:latin typeface="Comic Sans MS"/>
              </a:rPr>
              <a:t>           </a:t>
            </a:r>
            <a:r>
              <a:rPr b="1" i="1" lang="en-US" sz="4400" spc="-1" strike="noStrike" u="sng">
                <a:solidFill>
                  <a:srgbClr val="ff3399"/>
                </a:solidFill>
                <a:uFillTx/>
                <a:latin typeface="Comic Sans MS"/>
              </a:rPr>
              <a:t>Ресурсы:</a:t>
            </a:r>
            <a:endParaRPr b="0" lang="en-US" sz="44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399"/>
                </a:solidFill>
                <a:latin typeface="Comic Sans MS"/>
              </a:rPr>
              <a:t>Физическая культура. 5-7 классы; учебник для общеобразовательных учреждений/ М.Я.Виленский, И.М.Туревский и д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399"/>
                </a:solidFill>
                <a:latin typeface="Comic Sans MS"/>
              </a:rPr>
              <a:t>Физическая культура. 8-9 классы; учебник для общеобразовательных учреждений/В.И.Лях, А.А.Зданевич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399"/>
                </a:solidFill>
                <a:latin typeface="Comic Sans MS"/>
              </a:rPr>
              <a:t>Журнал «Физкультура в школе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399"/>
                </a:solidFill>
                <a:latin typeface="Comic Sans MS"/>
              </a:rPr>
              <a:t>Сообщество учителей физкультуры на </a:t>
            </a:r>
            <a:r>
              <a:rPr b="1" lang="en-US" sz="2600" spc="-1" strike="noStrike">
                <a:solidFill>
                  <a:srgbClr val="ff3399"/>
                </a:solidFill>
                <a:latin typeface="Comic Sans MS"/>
              </a:rPr>
              <a:t>wiki</a:t>
            </a:r>
            <a:r>
              <a:rPr b="1" lang="ru-RU" sz="2600" spc="-1" strike="noStrike">
                <a:solidFill>
                  <a:srgbClr val="ff3399"/>
                </a:solidFill>
                <a:latin typeface="Comic Sans MS"/>
              </a:rPr>
              <a:t>- Владимир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99"/>
                </a:solidFill>
                <a:latin typeface="Comic Sans MS"/>
              </a:rPr>
              <a:t>       </a:t>
            </a:r>
            <a:r>
              <a:rPr b="1" i="1" lang="en-US" sz="4400" spc="-1" strike="noStrike" u="sng">
                <a:solidFill>
                  <a:srgbClr val="ff3399"/>
                </a:solidFill>
                <a:uFillTx/>
                <a:latin typeface="Comic Sans MS"/>
              </a:rPr>
              <a:t>План-график:</a:t>
            </a:r>
            <a:endParaRPr b="0" lang="en-US" sz="4400" spc="-1" strike="noStrike">
              <a:solidFill>
                <a:srgbClr val="5a6378"/>
              </a:solidFill>
              <a:latin typeface="Calibri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457200" y="1935000"/>
          <a:ext cx="8229600" cy="43894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800080"/>
                          </a:solidFill>
                          <a:latin typeface="Comic Sans MS"/>
                        </a:rPr>
                        <a:t>                </a:t>
                      </a:r>
                      <a:r>
                        <a:rPr b="0" lang="en-US" sz="2200" spc="-1" strike="noStrike">
                          <a:solidFill>
                            <a:srgbClr val="800080"/>
                          </a:solidFill>
                          <a:latin typeface="Comic Sans MS"/>
                        </a:rPr>
                        <a:t>Месяц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800080"/>
                          </a:solidFill>
                          <a:latin typeface="Comic Sans MS"/>
                        </a:rPr>
                        <a:t>            </a:t>
                      </a:r>
                      <a:r>
                        <a:rPr b="0" lang="en-US" sz="2200" spc="-1" strike="noStrike">
                          <a:solidFill>
                            <a:srgbClr val="800080"/>
                          </a:solidFill>
                          <a:latin typeface="Comic Sans MS"/>
                        </a:rPr>
                        <a:t>Мероприят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1T16:36:31Z</dcterms:created>
  <dc:creator>User</dc:creator>
  <dc:description/>
  <dc:language>en-US</dc:language>
  <cp:lastModifiedBy>User</cp:lastModifiedBy>
  <dcterms:modified xsi:type="dcterms:W3CDTF">2011-05-02T19:36:45Z</dcterms:modified>
  <cp:revision>9</cp:revision>
  <dc:subject/>
  <dc:title>Формирование двигательной активности  </dc:title>
</cp:coreProperties>
</file>