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3.png" ContentType="image/png"/>
  <Override PartName="/ppt/media/image4.gif" ContentType="image/gif"/>
  <Override PartName="/ppt/media/image34.gif" ContentType="image/gif"/>
  <Override PartName="/ppt/media/image9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5.gif" ContentType="image/gif"/>
  <Override PartName="/ppt/media/image35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1.gif" ContentType="image/gif"/>
  <Override PartName="/ppt/media/image24.gif" ContentType="image/gif"/>
  <Override PartName="/ppt/media/image31.jpeg" ContentType="image/jpeg"/>
  <Override PartName="/ppt/media/image14.gif" ContentType="image/gif"/>
  <Override PartName="/ppt/media/image15.gif" ContentType="image/gif"/>
  <Override PartName="/ppt/media/image27.gif" ContentType="image/gif"/>
  <Override PartName="/ppt/media/image28.jpeg" ContentType="image/jpeg"/>
  <Override PartName="/ppt/media/image16.gif" ContentType="image/gif"/>
  <Override PartName="/ppt/media/image17.gif" ContentType="image/gif"/>
  <Override PartName="/ppt/media/image1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E81-43E5-4CEE-8B24-E627F834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784-B4D4-4528-BF8B-FB1E7C20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BA2-354F-4495-83C3-63B78126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837-7AAC-4C8E-9602-8CBA4FEA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1A2-0BA1-4A33-9E16-4BF209DB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FFD-137F-4AC6-875B-C120C0AF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437-BA5B-4520-BE1D-F592AAC6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2D4-B178-44D0-B712-D816F2ED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F6F-3F74-4E68-8EF6-FD1A9EE7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1B3-4652-4CA2-A92E-9379C9F4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F2F-B051-458B-B6E8-2FF60296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E87-2BC1-46DC-8AF5-E7E45A9A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41CA-3401-4739-B049-F0F4439B5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6.gif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0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43640" y="476280"/>
            <a:ext cx="2246400" cy="224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048120" cy="1619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cc"/>
                </a:solidFill>
                <a:latin typeface="Monotype Corsiva"/>
              </a:rPr>
              <a:t>МУЗЫ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651640" y="4869000"/>
            <a:ext cx="304776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2303280" cy="230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0000" y="3357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музыкальная виктор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349360"/>
            <a:ext cx="84358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cc"/>
                </a:solidFill>
                <a:latin typeface="Monotype Corsiva"/>
              </a:rPr>
              <a:t>Кто является автором музыкального фрагмента </a:t>
            </a:r>
            <a:br>
              <a:rPr sz="4800"/>
            </a:br>
            <a:r>
              <a:rPr b="0" i="1" lang="en-US" sz="4800" spc="-1" strike="noStrike">
                <a:solidFill>
                  <a:srgbClr val="cc00cc"/>
                </a:solidFill>
                <a:latin typeface="Monotype Corsiva"/>
              </a:rPr>
              <a:t>«Три чуда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73988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173988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236000" y="4653000"/>
            <a:ext cx="1368360" cy="172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13683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5660640"/>
            <a:ext cx="756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Monotype Corsiva"/>
              </a:rPr>
              <a:t>Николай Андреевич </a:t>
            </a:r>
            <a:br>
              <a:rPr sz="3600"/>
            </a:br>
            <a:r>
              <a:rPr b="0" i="1" lang="en-US" sz="3600" spc="-1" strike="noStrike">
                <a:solidFill>
                  <a:srgbClr val="cc00cc"/>
                </a:solidFill>
                <a:latin typeface="Monotype Corsiva"/>
              </a:rPr>
              <a:t> Римский-Корсаков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622520" cy="208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308720" y="4869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020000" y="476280"/>
            <a:ext cx="1622520" cy="208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4941720"/>
            <a:ext cx="727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843280" y="836640"/>
            <a:ext cx="3155760" cy="4183200"/>
          </a:xfrm>
          <a:prstGeom prst="rect">
            <a:avLst/>
          </a:prstGeom>
          <a:ln w="381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5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Кто сочинил музыку к стихам</a:t>
            </a:r>
            <a:br>
              <a:rPr sz="4000"/>
            </a:b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«Кто там? Кто там летит в вышине»? Какому герою посвящена песня?</a:t>
            </a:r>
            <a:r>
              <a:rPr b="0" i="1" lang="en-US" sz="4800" spc="-1" strike="noStrike">
                <a:solidFill>
                  <a:srgbClr val="cc00c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74720" cy="167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667640" y="4005360"/>
            <a:ext cx="120960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1675080" cy="1675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209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7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Максим Дунае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3057480" cy="4537080"/>
          </a:xfrm>
          <a:prstGeom prst="rect">
            <a:avLst/>
          </a:prstGeom>
          <a:ln w="381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cc"/>
                </a:solidFill>
                <a:latin typeface="Monotype Corsiva"/>
              </a:rPr>
              <a:t>Молодцы!</a:t>
            </a: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 </a:t>
            </a:r>
            <a:br>
              <a:rPr sz="5400"/>
            </a:br>
            <a:br>
              <a:rPr sz="5400"/>
            </a:b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Желаю всем хорошего отдых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48360" y="5084640"/>
            <a:ext cx="1656000" cy="136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508464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11280" y="5489640"/>
            <a:ext cx="1656000" cy="136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716360" y="5546880"/>
            <a:ext cx="1586160" cy="1311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610320" y="333360"/>
            <a:ext cx="253368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79280" y="1197000"/>
            <a:ext cx="1981440" cy="2581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84360" y="404640"/>
            <a:ext cx="7704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89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Что такое</a:t>
            </a:r>
            <a:r>
              <a:rPr b="1" i="1" lang="en-US" sz="6000" spc="-1" strike="noStrike">
                <a:solidFill>
                  <a:srgbClr val="cc00cc"/>
                </a:solidFill>
                <a:latin typeface="Monotype Corsiva"/>
              </a:rPr>
              <a:t> ОПЕР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381040" cy="222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381400" cy="222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flipH="1">
            <a:off x="6973920" y="4292640"/>
            <a:ext cx="1774800" cy="202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79280" y="476280"/>
            <a:ext cx="16099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Музыкальный спектакль, </a:t>
            </a:r>
            <a:r>
              <a:rPr b="0" i="1" lang="en-US" sz="4400" spc="-1" strike="noStrike">
                <a:solidFill>
                  <a:srgbClr val="cc00cc"/>
                </a:solidFill>
                <a:latin typeface="Monotype Corsiva"/>
              </a:rPr>
              <a:t>в котором все действующие лица</a:t>
            </a: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 </a:t>
            </a:r>
            <a:br>
              <a:rPr sz="4400"/>
            </a:br>
            <a:r>
              <a:rPr b="1" i="1" lang="en-US" sz="4400" spc="-1" strike="noStrike" u="sng">
                <a:solidFill>
                  <a:srgbClr val="cc00cc"/>
                </a:solidFill>
                <a:uFillTx/>
                <a:latin typeface="Monotype Corsiva"/>
              </a:rPr>
              <a:t>по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900080" cy="200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13040" cy="201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700360" y="51577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356000" y="51577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5940360" y="5157720"/>
            <a:ext cx="100008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Что такое</a:t>
            </a:r>
            <a:r>
              <a:rPr b="1" i="1" lang="en-US" sz="6000" spc="-1" strike="noStrike">
                <a:solidFill>
                  <a:srgbClr val="cc00cc"/>
                </a:solidFill>
                <a:latin typeface="Monotype Corsiva"/>
              </a:rPr>
              <a:t> БАЛЕТ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797360"/>
            <a:ext cx="2016360" cy="1515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588000" y="620640"/>
            <a:ext cx="1916280" cy="144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887480" cy="188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348000" y="765000"/>
            <a:ext cx="2322720" cy="1446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564000" y="4941720"/>
            <a:ext cx="23223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362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Monotype Corsiva"/>
              </a:rPr>
              <a:t>Музыкальный спектакль, </a:t>
            </a: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в котором все действующие лица</a:t>
            </a:r>
            <a:r>
              <a:rPr b="1" i="1" lang="en-US" sz="4000" spc="-1" strike="noStrike">
                <a:solidFill>
                  <a:srgbClr val="cc00cc"/>
                </a:solidFill>
                <a:latin typeface="Monotype Corsiva"/>
              </a:rPr>
              <a:t> </a:t>
            </a:r>
            <a:br>
              <a:rPr sz="4000"/>
            </a:br>
            <a:r>
              <a:rPr b="1" i="1" lang="en-US" sz="4000" spc="-1" strike="noStrike" u="sng">
                <a:solidFill>
                  <a:srgbClr val="cc00cc"/>
                </a:solidFill>
                <a:uFillTx/>
                <a:latin typeface="Monotype Corsiva"/>
              </a:rPr>
              <a:t>танцу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1306440" cy="194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708360" y="189000"/>
            <a:ext cx="1631880" cy="234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093080" y="549360"/>
            <a:ext cx="130644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117880" y="5157720"/>
            <a:ext cx="1312560" cy="136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924360" y="5157720"/>
            <a:ext cx="1260360" cy="131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508720" y="5157720"/>
            <a:ext cx="1260360" cy="131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7039080" y="443700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395280" y="4365720"/>
            <a:ext cx="15382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Что такое</a:t>
            </a:r>
            <a:r>
              <a:rPr b="1" i="1" lang="en-US" sz="6000" spc="-1" strike="noStrike">
                <a:solidFill>
                  <a:srgbClr val="cc00cc"/>
                </a:solidFill>
                <a:latin typeface="Monotype Corsiva"/>
              </a:rPr>
              <a:t> ОРКЕСТР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1280" y="4199040"/>
            <a:ext cx="2089080" cy="197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516720" y="620640"/>
            <a:ext cx="196992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Группа людей, играющих</a:t>
            </a:r>
            <a:r>
              <a:rPr b="0" i="1" lang="en-US" sz="4400" spc="-1" strike="noStrike">
                <a:solidFill>
                  <a:srgbClr val="cc00cc"/>
                </a:solidFill>
                <a:latin typeface="Monotype Corsiva"/>
              </a:rPr>
              <a:t> на разных музыкальных</a:t>
            </a: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 инструмент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2152440" cy="216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854360" cy="1989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2025720" cy="23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659640" y="620640"/>
            <a:ext cx="1730160" cy="180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780000" y="549360"/>
            <a:ext cx="152388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465300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7740720" y="299736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24000" y="3141720"/>
            <a:ext cx="1133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218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Кто из композиторов сочинил «Детский альбом»?</a:t>
            </a:r>
            <a:br>
              <a:rPr sz="5400"/>
            </a:b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Назовите его произвед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4581360"/>
            <a:ext cx="1379520" cy="198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016000" cy="1515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516720" y="4869000"/>
            <a:ext cx="2016000" cy="1515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3795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9413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Петр Ильич Чайковс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692280"/>
            <a:ext cx="2541600" cy="4105080"/>
          </a:xfrm>
          <a:prstGeom prst="rect">
            <a:avLst/>
          </a:prstGeom>
          <a:ln w="381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50:31Z</dcterms:created>
  <dc:creator>User</dc:creator>
  <dc:description/>
  <dc:language>en-US</dc:language>
  <cp:lastModifiedBy>xronos</cp:lastModifiedBy>
  <dcterms:modified xsi:type="dcterms:W3CDTF">2008-12-10T14:01:15Z</dcterms:modified>
  <cp:revision>5</cp:revision>
  <dc:subject/>
  <dc:title>Музыка</dc:title>
</cp:coreProperties>
</file>