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3.png" ContentType="image/png"/>
  <Override PartName="/ppt/media/image4.gif" ContentType="image/gif"/>
  <Override PartName="/ppt/media/image34.gif" ContentType="image/gif"/>
  <Override PartName="/ppt/media/image9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5.gif" ContentType="image/gif"/>
  <Override PartName="/ppt/media/image35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1.gif" ContentType="image/gif"/>
  <Override PartName="/ppt/media/image24.gif" ContentType="image/gif"/>
  <Override PartName="/ppt/media/image31.jpeg" ContentType="image/jpeg"/>
  <Override PartName="/ppt/media/image14.gif" ContentType="image/gif"/>
  <Override PartName="/ppt/media/image15.gif" ContentType="image/gif"/>
  <Override PartName="/ppt/media/image27.gif" ContentType="image/gif"/>
  <Override PartName="/ppt/media/image28.jpeg" ContentType="image/jpeg"/>
  <Override PartName="/ppt/media/image16.gif" ContentType="image/gif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68B-E376-4084-A96E-25BEE27B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22C-B81A-44B8-B223-35050F5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12A-94D8-445E-AE05-7CFB9839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C9C-76FE-4270-A790-7AB456A3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E84-775D-492B-B31E-45EDD2B0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F35-B872-4071-8DE9-57749CBF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735-2869-43E4-82B0-22973A8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2A0-B0D3-407C-88E1-06761EA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4B6-E8BC-4770-806A-BDE37D6B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31B-1945-4FAD-8916-40F7668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BE0-4A4F-43BD-93E1-BB292846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002-132A-49FF-B314-BFC3E3A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0FA-F019-47C5-8E57-65FD34353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6.gif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2246400" cy="2246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48120" cy="1619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cc"/>
                </a:solidFill>
                <a:latin typeface="Monotype Corsiva"/>
              </a:rPr>
              <a:t>МУЗЫ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4869000"/>
            <a:ext cx="304776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230328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0000" y="3357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музыкальная виктор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349360"/>
            <a:ext cx="84358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Кто является автором музыкального фрагмента </a:t>
            </a:r>
            <a:br>
              <a:rPr sz="4800"/>
            </a:b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«Три чуда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173988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368360" cy="172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13683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566064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Николай Андреевич </a:t>
            </a:r>
            <a:br>
              <a:rPr sz="3600"/>
            </a:br>
            <a:r>
              <a:rPr b="0" i="1" lang="en-US" sz="3600" spc="-1" strike="noStrike">
                <a:solidFill>
                  <a:srgbClr val="cc00cc"/>
                </a:solidFill>
                <a:latin typeface="Monotype Corsiva"/>
              </a:rPr>
              <a:t> Римский-Корсако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622520" cy="208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08720" y="486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020000" y="476280"/>
            <a:ext cx="1622520" cy="208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4941720"/>
            <a:ext cx="727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43280" y="836640"/>
            <a:ext cx="3155760" cy="418320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5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Кто сочинил музыку к стихам</a:t>
            </a:r>
            <a:br>
              <a:rPr sz="4000"/>
            </a:b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«Кто там? Кто там летит в вышине»? Какому герою посвящена песня?</a:t>
            </a:r>
            <a:r>
              <a:rPr b="0" i="1" lang="en-US" sz="4800" spc="-1" strike="noStrike">
                <a:solidFill>
                  <a:srgbClr val="cc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74720" cy="167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67640" y="4005360"/>
            <a:ext cx="120960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1675080" cy="1675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24000" y="260280"/>
            <a:ext cx="1209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Максим Дунае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48000" y="765000"/>
            <a:ext cx="3057480" cy="4537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onotype Corsiva"/>
              </a:rPr>
              <a:t>Молодцы!</a:t>
            </a: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5400"/>
            </a:b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Желаю всем хорошего отды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5084640"/>
            <a:ext cx="1656000" cy="136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08464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11280" y="5489640"/>
            <a:ext cx="165600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16360" y="5546880"/>
            <a:ext cx="158616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610320" y="33336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79280" y="1197000"/>
            <a:ext cx="1981440" cy="2581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684360" y="404640"/>
            <a:ext cx="770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89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ПЕР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81400" cy="222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flipH="1">
            <a:off x="6973920" y="4292640"/>
            <a:ext cx="1774800" cy="20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1609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400"/>
            </a:br>
            <a:r>
              <a:rPr b="1" i="1" lang="en-US" sz="4400" spc="-1" strike="noStrike" u="sng">
                <a:solidFill>
                  <a:srgbClr val="cc00cc"/>
                </a:solidFill>
                <a:uFillTx/>
                <a:latin typeface="Monotype Corsiva"/>
              </a:rPr>
              <a:t>по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900080" cy="200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91304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70036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356000" y="51577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940360" y="515772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БАЛЕТ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4797360"/>
            <a:ext cx="2016360" cy="151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88000" y="620640"/>
            <a:ext cx="1916280" cy="144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765000"/>
            <a:ext cx="2322720" cy="144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4000" y="4941720"/>
            <a:ext cx="2322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362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Музыкальный спектакль, </a:t>
            </a:r>
            <a:r>
              <a:rPr b="0" i="1" lang="en-US" sz="4000" spc="-1" strike="noStrike">
                <a:solidFill>
                  <a:srgbClr val="cc00cc"/>
                </a:solidFill>
                <a:latin typeface="Monotype Corsiva"/>
              </a:rPr>
              <a:t>в котором все действующие лица</a:t>
            </a:r>
            <a:r>
              <a:rPr b="1" i="1" lang="en-US" sz="4000" spc="-1" strike="noStrike">
                <a:solidFill>
                  <a:srgbClr val="cc00cc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Monotype Corsiva"/>
              </a:rPr>
              <a:t>танц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306440" cy="1943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08360" y="189000"/>
            <a:ext cx="163188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30644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117880" y="5157720"/>
            <a:ext cx="1312560" cy="136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92436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126036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039080" y="443700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395280" y="4365720"/>
            <a:ext cx="15382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Что такое</a:t>
            </a:r>
            <a:r>
              <a:rPr b="1" i="1" lang="en-US" sz="6000" spc="-1" strike="noStrike">
                <a:solidFill>
                  <a:srgbClr val="cc00cc"/>
                </a:solidFill>
                <a:latin typeface="Monotype Corsiva"/>
              </a:rPr>
              <a:t> ОРКЕСТР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11280" y="4199040"/>
            <a:ext cx="2089080" cy="19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16720" y="620640"/>
            <a:ext cx="196992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Группа людей, играющих</a:t>
            </a:r>
            <a:r>
              <a:rPr b="0" i="1" lang="en-US" sz="4400" spc="-1" strike="noStrike">
                <a:solidFill>
                  <a:srgbClr val="cc00cc"/>
                </a:solidFill>
                <a:latin typeface="Monotype Corsiva"/>
              </a:rPr>
              <a:t> на разных музыкальных</a:t>
            </a:r>
            <a:r>
              <a:rPr b="1" i="1" lang="en-US" sz="4400" spc="-1" strike="noStrike">
                <a:solidFill>
                  <a:srgbClr val="cc00cc"/>
                </a:solidFill>
                <a:latin typeface="Monotype Corsiva"/>
              </a:rPr>
              <a:t> инструмент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215244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854360" cy="1989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025720" cy="23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659640" y="620640"/>
            <a:ext cx="173016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780000" y="549360"/>
            <a:ext cx="15238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465300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740720" y="2997360"/>
            <a:ext cx="11332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324000" y="3141720"/>
            <a:ext cx="113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218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Кто из композиторов сочинил «Детский альбом»?</a:t>
            </a:r>
            <a:br>
              <a:rPr sz="5400"/>
            </a:br>
            <a:r>
              <a:rPr b="0" i="1" lang="en-US" sz="5400" spc="-1" strike="noStrike">
                <a:solidFill>
                  <a:srgbClr val="cc00cc"/>
                </a:solidFill>
                <a:latin typeface="Monotype Corsiva"/>
              </a:rPr>
              <a:t>Назовите его произвед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1379520" cy="198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3795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9413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00cc"/>
                </a:solidFill>
                <a:latin typeface="Monotype Corsiva"/>
              </a:rPr>
              <a:t>Петр Ильич Чайковс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2541600" cy="4105080"/>
          </a:xfrm>
          <a:prstGeom prst="rect">
            <a:avLst/>
          </a:prstGeom>
          <a:ln w="381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50:31Z</dcterms:created>
  <dc:creator>User</dc:creator>
  <dc:description/>
  <dc:language>en-US</dc:language>
  <cp:lastModifiedBy>xronos</cp:lastModifiedBy>
  <dcterms:modified xsi:type="dcterms:W3CDTF">2008-12-10T14:01:15Z</dcterms:modified>
  <cp:revision>5</cp:revision>
  <dc:subject/>
  <dc:title>Музыка</dc:title>
</cp:coreProperties>
</file>