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A4F-3B2F-4BB9-8D5B-75F266B1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65F-2688-46B1-8736-019F6B85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26D-356B-4901-8021-6FA6805E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177-FC15-49D4-8D67-CEE8272E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541-A41E-4C8A-B141-3048BD99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944-2C9F-42D2-8E2D-ACFD0106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E45-7580-45C8-AE1F-DD0B5412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B41-39DF-4FBE-BC8F-2A4A2ADC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5A1-6260-4AC9-AEF6-370E81B8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668-F425-403F-85E8-2E02A5A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012-2775-4F02-96B3-F0451BC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9C9-BEA4-419D-BD2E-811D6E9E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F709-36EE-46C8-95D7-6EF4404E52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FF23-BC67-43D1-8019-9BA100A2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%D4%E0%F0%E0%E4%E5%E9,_%CC%E0%E9%EA%EB" TargetMode="External"/><Relationship Id="rId3" Type="http://schemas.openxmlformats.org/officeDocument/2006/relationships/hyperlink" Target="http://ru.wikipedia.org/wiki/%D4%E0%F0%E0%E4%E5%E9,_%CC%E0%E9%EA%EB" TargetMode="External"/><Relationship Id="rId4" Type="http://schemas.openxmlformats.org/officeDocument/2006/relationships/hyperlink" Target="http://ru.wikipedia.org/wiki/%D4%E0%F0%E0%E4%E5%E9,_%CC%E0%E9%EA%EB" TargetMode="External"/><Relationship Id="rId5" Type="http://schemas.openxmlformats.org/officeDocument/2006/relationships/hyperlink" Target="http://ru.wikipedia.org/wiki/%D4%E0%F0%E0%E4%E5%E9,_%CC%E0%E9%EA%EB" TargetMode="External"/><Relationship Id="rId6" Type="http://schemas.openxmlformats.org/officeDocument/2006/relationships/hyperlink" Target="http://ru.wikipedia.org/wiki/%D4%E0%F0%E0%E4%E5%E9,_%CC%E0%E9%EA%EB" TargetMode="External"/><Relationship Id="rId7" Type="http://schemas.openxmlformats.org/officeDocument/2006/relationships/hyperlink" Target="http://ru.wikipedia.org/wiki/%D4%E0%F0%E0%E4%E5%E9,_%CC%E0%E9%EA%EB" TargetMode="External"/><Relationship Id="rId8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9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0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1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2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3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4" Type="http://schemas.openxmlformats.org/officeDocument/2006/relationships/hyperlink" Target="http://ru.wikipedia.org/wiki/&#1048;&#1083;&#1100;&#1103;_&#1048;&#1083;&#1100;&#1080;&#1095;_&#1052;&#1077;&#1095;&#1085;&#1080;&#1082;&#1086;&#1074;" TargetMode="External"/><Relationship Id="rId15" Type="http://schemas.openxmlformats.org/officeDocument/2006/relationships/hyperlink" Target="http://ru.wikipedia.org/wiki/&#1056;&#1086;&#1073;&#1077;&#1088;&#1090;_&#1050;&#1086;&#1093;" TargetMode="External"/><Relationship Id="rId16" Type="http://schemas.openxmlformats.org/officeDocument/2006/relationships/hyperlink" Target="http://ru.wikipedia.org/wiki/%D1%F2%E5%F2%EE%F1%EA%EE%EF" TargetMode="External"/><Relationship Id="rId17" Type="http://schemas.openxmlformats.org/officeDocument/2006/relationships/hyperlink" Target="http://nova.rambler.ru/search?query=&#1040;&#1085;&#1088;&#1080;+&#1041;&#1077;&#1082;&#1082;&#1077;&#1088;&#1077;&#1083;&#1100;" TargetMode="External"/><Relationship Id="rId18" Type="http://schemas.openxmlformats.org/officeDocument/2006/relationships/hyperlink" Target="http://nova.rambler.ru/search?query=&#1040;&#1085;&#1088;&#1080;+&#1041;&#1077;&#1082;&#1082;&#1077;&#1088;&#1077;&#1083;&#1100;" TargetMode="External"/><Relationship Id="rId19" Type="http://schemas.openxmlformats.org/officeDocument/2006/relationships/hyperlink" Target="http://nova.rambler.ru/search?query=&#1040;&#1085;&#1088;&#1080;+&#1041;&#1077;&#1082;&#1082;&#1077;&#1088;&#1077;&#1083;&#1100;" TargetMode="External"/><Relationship Id="rId20" Type="http://schemas.openxmlformats.org/officeDocument/2006/relationships/hyperlink" Target="http://nova.rambler.ru/search?query=&#1040;&#1085;&#1088;&#1080;+&#1041;&#1077;&#1082;&#1082;&#1077;&#1088;&#1077;&#1083;&#1100;" TargetMode="External"/><Relationship Id="rId21" Type="http://schemas.openxmlformats.org/officeDocument/2006/relationships/hyperlink" Target="http://nova.rambler.ru/search?query=&#1040;&#1085;&#1088;&#1080;+&#1041;&#1077;&#1082;&#1082;&#1077;&#1088;&#1077;&#1083;&#1100;" TargetMode="External"/><Relationship Id="rId2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« Наука: создание научной картины ми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solidFill>
            <a:srgbClr val="d5b2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ая история 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190760" y="15238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83 году немецкий инженер Генрих герц подтвердил существование электромагнитный волн и доказал, что никакой материальный предмет не может помещать их распростран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Heinrich Hertz.jpg"/>
          <p:cNvPicPr/>
          <p:nvPr/>
        </p:nvPicPr>
        <p:blipFill>
          <a:blip r:embed="rId2"/>
          <a:stretch/>
        </p:blipFill>
        <p:spPr>
          <a:xfrm>
            <a:off x="304920" y="1447920"/>
            <a:ext cx="3703680" cy="4790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6095880"/>
            <a:ext cx="38098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рих Рудольф Гер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836-5A3A-47C5-8EA6-D174F7F0F3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C4429-8A39-456F-B0AF-1BE035A43E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ц установил, что электромагнитные волны распространяются со скоростью 300 тыс. км/с. Эти волны стали называться волнами Гер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Файл:Hertz schematic0.PNG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29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10080"/>
            <a:ext cx="4648320" cy="12193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спериментальный 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ца 188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D25-E2BB-4524-9F8E-8E2143A5FBC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91CAA-111D-4C97-A843-2D787DD1FA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ландский физик попытался объяснить электромагнитную теорию Максвелла с точки зрения атомного строения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Hendrik lorentz.jpg"/>
          <p:cNvPicPr/>
          <p:nvPr/>
        </p:nvPicPr>
        <p:blipFill>
          <a:blip r:embed="rId2"/>
          <a:stretch/>
        </p:blipFill>
        <p:spPr>
          <a:xfrm>
            <a:off x="380880" y="1447920"/>
            <a:ext cx="3657600" cy="487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6095880"/>
            <a:ext cx="38098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ндрик Антон Лоре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BC8-FE32-45BD-B72A-6F09EEEA90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9C347-E03D-4F92-B2F7-58A947C916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9040" y="18288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вершался переворот в естественно – научных представлениях человечества, формировалась новая картина мира, которая существует и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CA9-5D5B-47FF-AD74-E06E6FD50B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3EB6E-568E-4BC4-8DD4-BCD548AD7E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онце 1895 года в Германии физик Вильгельм Конрад Рентген, исходя из теории Максвелла об электромагнитных волнах,  открыл невидимые лучи, названные им Х – луч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Roentgen2.jpg"/>
          <p:cNvPicPr/>
          <p:nvPr/>
        </p:nvPicPr>
        <p:blipFill>
          <a:blip r:embed="rId2"/>
          <a:stretch/>
        </p:blipFill>
        <p:spPr>
          <a:xfrm>
            <a:off x="380880" y="1447920"/>
            <a:ext cx="3470400" cy="487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F47-785D-4D5A-B25C-07C67AB4AB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0CC33-C412-445E-9733-43994463DF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аваясь невидимыми, лучи пронизывают различные предметы в разной степени. Полученное изображение можно запечатлеть на фотоплёнке. Это открытие нашло широкое применение в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808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File:X-ray by Wilhelm Röntgen of Albert von Kölliker's hand - 18960123-02.jpg"/>
          <p:cNvPicPr/>
          <p:nvPr/>
        </p:nvPicPr>
        <p:blipFill>
          <a:blip r:embed="rId2"/>
          <a:stretch/>
        </p:blipFill>
        <p:spPr>
          <a:xfrm>
            <a:off x="152280" y="1523880"/>
            <a:ext cx="1785960" cy="279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2971800" cy="2235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5943600"/>
            <a:ext cx="434340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нтгеновские сни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577-D0E0-402C-8630-DEAAC177DE7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174D8-15A3-49F7-8561-1DD028291C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Henri Becquerel.jpg"/>
          <p:cNvPicPr/>
          <p:nvPr/>
        </p:nvPicPr>
        <p:blipFill>
          <a:blip r:embed="rId2"/>
          <a:stretch/>
        </p:blipFill>
        <p:spPr>
          <a:xfrm>
            <a:off x="304920" y="1523880"/>
            <a:ext cx="1904760" cy="216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3581280"/>
            <a:ext cx="220968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уан Ан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ккер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Pierrecurie.jpg"/>
          <p:cNvPicPr/>
          <p:nvPr/>
        </p:nvPicPr>
        <p:blipFill>
          <a:blip r:embed="rId3"/>
          <a:stretch/>
        </p:blipFill>
        <p:spPr>
          <a:xfrm>
            <a:off x="3772080" y="1523880"/>
            <a:ext cx="1600200" cy="221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8120" y="3733920"/>
            <a:ext cx="25146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ьер Кю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Curie-nobel-portrait-2-600.jpg"/>
          <p:cNvPicPr/>
          <p:nvPr/>
        </p:nvPicPr>
        <p:blipFill>
          <a:blip r:embed="rId4"/>
          <a:stretch/>
        </p:blipFill>
        <p:spPr>
          <a:xfrm>
            <a:off x="6248520" y="1447920"/>
            <a:ext cx="204624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19920" y="4038480"/>
            <a:ext cx="2971800" cy="83844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лодовска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ю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08080" y="207720"/>
            <a:ext cx="86515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File:Ernest Rutherford.jpg"/>
          <p:cNvPicPr/>
          <p:nvPr/>
        </p:nvPicPr>
        <p:blipFill>
          <a:blip r:embed="rId5"/>
          <a:stretch/>
        </p:blipFill>
        <p:spPr>
          <a:xfrm>
            <a:off x="533520" y="4419720"/>
            <a:ext cx="147960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280" y="6400800"/>
            <a:ext cx="27432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рнест Резерфо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File:Niels Bohr.jpg"/>
          <p:cNvPicPr/>
          <p:nvPr/>
        </p:nvPicPr>
        <p:blipFill>
          <a:blip r:embed="rId6"/>
          <a:stretch/>
        </p:blipFill>
        <p:spPr>
          <a:xfrm>
            <a:off x="3581280" y="4267080"/>
            <a:ext cx="1495440" cy="211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00400" y="6400800"/>
            <a:ext cx="2514600" cy="4572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льс 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4952880"/>
            <a:ext cx="3581640" cy="190512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ёные, изуч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о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0D2-A77D-4CFA-BF1C-9C07FB4C96B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01477-9DE8-4CEE-AA16-37736FFE2C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 1903 году Мария и Пьер Кюри вместе с Анри Беккерелем получили Нобелевскую премию по физике «за выдающиеся заслуги в совместных исследованиях явлений радиации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File:Marie et Pierre Curie .jpg"/>
          <p:cNvPicPr/>
          <p:nvPr/>
        </p:nvPicPr>
        <p:blipFill>
          <a:blip r:embed="rId2"/>
          <a:stretch/>
        </p:blipFill>
        <p:spPr>
          <a:xfrm>
            <a:off x="228600" y="1447920"/>
            <a:ext cx="414180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5943600"/>
            <a:ext cx="403848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ьер и Мария Кю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7FE-214B-4849-A749-B0069ED084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AE0BD-1AE9-4E94-83C6-8FA399DE4B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ворот в естествознании произвела книга великого учёного – натуралиста              Ч. Дарвина                                « Происхождение ви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File:Charles Darwin 1880.jpg"/>
          <p:cNvPicPr/>
          <p:nvPr/>
        </p:nvPicPr>
        <p:blipFill>
          <a:blip r:embed="rId2"/>
          <a:stretch/>
        </p:blipFill>
        <p:spPr>
          <a:xfrm>
            <a:off x="533520" y="1523880"/>
            <a:ext cx="3608280" cy="4953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5943600"/>
            <a:ext cx="403848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рлз Дар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5280" y="63000"/>
            <a:ext cx="8637120" cy="1169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Революция в естествознан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698-A447-47B1-9157-392B308A922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86D28-3775-463E-B593-15DA814065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7960" y="1523880"/>
            <a:ext cx="42670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85 году учёный спас жизнь юноше, которого 14 раз укусила бешеная собака. Он работал над получением сыворотки от бешенства. Подарил миру новую науку - микробиолог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4120" y="204120"/>
            <a:ext cx="873576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File:Louis Pasteur.jpg"/>
          <p:cNvPicPr/>
          <p:nvPr/>
        </p:nvPicPr>
        <p:blipFill>
          <a:blip r:embed="rId2"/>
          <a:stretch/>
        </p:blipFill>
        <p:spPr>
          <a:xfrm>
            <a:off x="228600" y="1523880"/>
            <a:ext cx="4159080" cy="495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5943600"/>
            <a:ext cx="411480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8F1-E350-436C-8E70-F0793D6FBD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58944-4220-4DD3-AC4B-B78384E1C2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ие изменения произошли в развитии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ие причины способствовали развитию науки и научных зна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Как эти исследования повлияли на жизнь людей Нового врем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280"/>
            <a:ext cx="8763120" cy="1067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годня вы узнае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BC8-E7A5-4084-B4C2-5F3E46500D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20DB3-09B7-4C40-99A7-CB12BFC4E2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7960" y="1523520"/>
            <a:ext cx="4343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л с процессом брожения, создал метод стерилизации и пастеризации различных продуктов. Разработал несколько прививок против заразных болезней. Объяснял хирургам необходимость дезинфицировать руки и инструменты перед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File:Tableau Louis Pasteur.jpg"/>
          <p:cNvPicPr/>
          <p:nvPr/>
        </p:nvPicPr>
        <p:blipFill>
          <a:blip r:embed="rId2"/>
          <a:stretch/>
        </p:blipFill>
        <p:spPr>
          <a:xfrm>
            <a:off x="228600" y="1523880"/>
            <a:ext cx="411948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08080" y="207720"/>
            <a:ext cx="86515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5A9-C410-4DD3-8D04-C846EFAB51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A38DF-AAE5-45C1-A7DB-1B837EFD6D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глийский врач, разработал первую вакцину — против оспы. Дженнер придумал вводить в организм человека как бы неопасный вирус коровьей оспы.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File:Edward Jenner2.jpg"/>
          <p:cNvPicPr/>
          <p:nvPr/>
        </p:nvPicPr>
        <p:blipFill>
          <a:blip r:embed="rId2"/>
          <a:stretch/>
        </p:blipFill>
        <p:spPr>
          <a:xfrm>
            <a:off x="457200" y="144792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5943600"/>
            <a:ext cx="3733920" cy="7621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дуард Джен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ECF-64BA-49C1-8AC7-D0FD722C1B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DEB01-9E50-46BB-B8D0-78970233C8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не Лаэннек  установил, что твёрдые тела по-разному  производят звуки. Он сконструировал трубку из буковой древесины – стетоскоп. Один конец прикладывался к груди больного, а другой – к уху вр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File:Hörrohr Stethoskop Meyers 1890.jpg"/>
          <p:cNvPicPr/>
          <p:nvPr/>
        </p:nvPicPr>
        <p:blipFill>
          <a:blip r:embed="rId2"/>
          <a:stretch/>
        </p:blipFill>
        <p:spPr>
          <a:xfrm>
            <a:off x="380880" y="1523880"/>
            <a:ext cx="3178440" cy="4724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943600"/>
            <a:ext cx="3200400" cy="68580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етоск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BBE-1E34-4082-A5FE-5FC6EAB307E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2E28D-A26E-4E78-94B4-514AF67A16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9880" y="159984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ецкий микробиолог, открыл бациллу сибирской язвы, холерный вибрион и туберкулёзную палочку. За исследования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уберкулёза награждён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белевской премией по физиологии и медицине в 1905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File:RobertKoch cropped.jpg"/>
          <p:cNvPicPr/>
          <p:nvPr/>
        </p:nvPicPr>
        <p:blipFill>
          <a:blip r:embed="rId2"/>
          <a:stretch/>
        </p:blipFill>
        <p:spPr>
          <a:xfrm>
            <a:off x="304920" y="1523880"/>
            <a:ext cx="3456000" cy="4714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4920" y="5943600"/>
            <a:ext cx="3504960" cy="9144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нрих Гер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берт Ко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2A9-8419-4B3C-860F-AF5F321ABC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90EE8-0D60-4604-B509-E779450031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343400" y="1447560"/>
            <a:ext cx="46483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 и французский биолог (зоолог, эмбриолог, иммунолог, физиолог и патоло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из основоположников эволюционно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бриологии,фагоцитоза и внутриклеточного пищеварения, создатель сравнительной патологии воспа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уреат Нобелевской премии в области физиологии и медицины (190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еволюция в медиц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File:Mechnikov II.jpg"/>
          <p:cNvPicPr/>
          <p:nvPr/>
        </p:nvPicPr>
        <p:blipFill>
          <a:blip r:embed="rId2"/>
          <a:stretch/>
        </p:blipFill>
        <p:spPr>
          <a:xfrm>
            <a:off x="0" y="1523880"/>
            <a:ext cx="4240080" cy="4837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8080" y="6083280"/>
            <a:ext cx="2514600" cy="77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14A-D3D8-4FC3-9C0A-4F008207A8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F5217-4E47-4A39-9D90-B24B68A602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Развитие образов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самостоятельно пункт «Развитие образования» на стр. 44-45 и ответьте на во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Как в разных государствах происходило развитие образова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014-E491-4EA0-9A8A-5FC4498018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043B1-177D-4C6A-9323-CA83FC27E0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284040" y="207720"/>
            <a:ext cx="84229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Соотнесите учёного и его изобрет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EC2-6172-4038-8667-C63038E7AE2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5B1DD-4362-4B47-B659-F8E0433433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84040" y="207720"/>
            <a:ext cx="842292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Параграф 5, вопросы, записи в тетрад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5E7-E33D-4008-9D42-031D86CA41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016CA-F077-4792-A3C5-B40CD3FC78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.wikipedia.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%D4%E0%F0%E0%E4%E5%E9,_%CC%E0%E9%EA%E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ru.wikipedia.or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iki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%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D0%98%D0%BB%D1%8C%D1%8F_%D0%98%D0%BB%D1%8C%D0%B8%D1%87_%D0%9C%D0%B5%D1%87%D0%BD%D0%B8%D0%BA%D0%BE%D0%B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ru.wikipedia.org/wiki/%D0%A0%D0%BE%D0%B1%D0%B5%D1%80%D1%82_%D0%9A%D0%BE%D1%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ru.wikipedia.org/wiki/%D1%F2%E5%F2%EE%F1%EA%EE%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nova.rambler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earch?query=%D0%90%D0%BD%D1%80%D0%B8+%D0%91%D0%B5%D0%BA%D0%BA%D0%B5%D1%80%D0%B5%D0%BB%D1%8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90920" y="5257800"/>
            <a:ext cx="6324480" cy="1371600"/>
          </a:xfrm>
          <a:prstGeom prst="roundRect">
            <a:avLst>
              <a:gd name="adj" fmla="val 16667"/>
            </a:avLst>
          </a:prstGeom>
          <a:solidFill>
            <a:srgbClr val="e898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612-7690-4D8B-BDE3-EAD72160AF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6A215-5259-4A89-B5D8-45F597BB99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ричины быстрого развития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« Повелитель молни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Сенсации продолж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Революция в естество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Новая наука – микробиолог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Успех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Развитие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400" y="207720"/>
            <a:ext cx="81180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915-4729-4C18-8D8E-28CC477ABE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3DFEA-6B55-4147-967A-CCA0C309D0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52280"/>
            <a:ext cx="8763120" cy="1067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ем с таб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981080"/>
          <a:ext cx="8839440" cy="3476880"/>
        </p:xfrm>
        <a:graphic>
          <a:graphicData uri="http://schemas.openxmlformats.org/drawingml/2006/table">
            <a:tbl>
              <a:tblPr/>
              <a:tblGrid>
                <a:gridCol w="2724120"/>
                <a:gridCol w="2038680"/>
                <a:gridCol w="2038320"/>
                <a:gridCol w="20383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откры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учё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и значение от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531-2D27-4661-B4AA-FBBB7C19395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DE6A9-E717-4067-B879-15A440725A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04120" y="204120"/>
            <a:ext cx="873576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быстрого развития на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1898640" cy="2438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09680" y="1447920"/>
            <a:ext cx="6782040" cy="3352680"/>
          </a:xfrm>
          <a:prstGeom prst="cloudCallout">
            <a:avLst>
              <a:gd name="adj1" fmla="val -41291"/>
              <a:gd name="adj2" fmla="val 35462"/>
            </a:avLst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же в  XIX – начале XX века так активно начинают развива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ичные нау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4800600"/>
            <a:ext cx="5334120" cy="175248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 на вопрос найдё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в пункт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тр. 3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D61-01CC-46F1-9E00-F68F0E719D9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241FC-C409-46D9-9558-5154D1C164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08080" y="207720"/>
            <a:ext cx="872784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быстрого развития на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ма жизнь требовала познать законы и использовать их в производ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Коренные изменения в сознании и мышлении людей Ново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0B6-BB1D-421A-AC75-826B7A77A83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F8F70-238D-46A1-A72E-9C00527EDF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343400" y="144756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831 году Майкл Фарадей открыл явление электромагнитной индукции, что позволило приступить к созданию электродвигателя. Он стал членом Королев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4400" y="207720"/>
            <a:ext cx="8575200" cy="1031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Повелитель мол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M Faraday Th Phillips oil 1842.jpg"/>
          <p:cNvPicPr/>
          <p:nvPr/>
        </p:nvPicPr>
        <p:blipFill>
          <a:blip r:embed="rId2"/>
          <a:stretch/>
        </p:blipFill>
        <p:spPr>
          <a:xfrm>
            <a:off x="228600" y="1447920"/>
            <a:ext cx="3941640" cy="5105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йкл Фар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E0D-8B78-431D-99C9-04A09B058A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C6C54-F246-435B-95F7-8B128CC87A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60-х годах он разработал электромагнитную теорию света, обобщившую результаты опытов и теоретических построений многих физиков различных стран в области электромагнит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File:James Clerk Maxwell.png"/>
          <p:cNvPicPr/>
          <p:nvPr/>
        </p:nvPicPr>
        <p:blipFill>
          <a:blip r:embed="rId2"/>
          <a:stretch/>
        </p:blipFill>
        <p:spPr>
          <a:xfrm>
            <a:off x="270000" y="1447920"/>
            <a:ext cx="4302000" cy="517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172200"/>
            <a:ext cx="4267080" cy="6858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жеймс Карл Максве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B70-FEBC-40EC-9518-1007891E98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61089-5450-47DC-ABE0-8B02894156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гласно его теории, в природе существуют  невидимые волны, которые передают электричество в пространстве. Свет – разновидность электромагнитных колеб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15944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6172200"/>
            <a:ext cx="4038480" cy="6858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свелл с цвето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чком в 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4120" y="204120"/>
            <a:ext cx="8583120" cy="9633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 Сенсации продолжаю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нтоненкова А.В. МОУ Будинская ООШ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DA6-37E5-4EA3-9B28-857D68E6911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17DC3-FD63-4850-B5FC-C798C20E08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9-16T09:40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