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DD6-6D99-4C52-85C4-3356C23E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6F97-19A0-4A7D-8871-888D80F7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E9A5-B0ED-44EC-B94E-518B4B66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54C5-341B-41B2-8932-D6B35B0E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41C-DAFB-4AA2-A789-E0664BC3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3F30-E643-4B4F-9493-7B4374B5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131E-942B-492A-88FF-581BAB79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B1C1-317D-4E8D-9727-1F398FEF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C173-215A-475D-8471-FAE79547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3A42-A905-4CCE-8BE3-AF639D0B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31E-D980-49E3-9F8D-FE7B07A3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1FC7-E91D-4FD2-BE18-6A506879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8DA2-7A53-44DE-8E27-0ACDBBDAE5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C817-0443-4F42-B347-E3AC3DF7C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%D4%E0%F0%E0%E4%E5%E9,_%CC%E0%E9%EA%EB" TargetMode="External"/><Relationship Id="rId3" Type="http://schemas.openxmlformats.org/officeDocument/2006/relationships/hyperlink" Target="http://ru.wikipedia.org/wiki/%D4%E0%F0%E0%E4%E5%E9,_%CC%E0%E9%EA%EB" TargetMode="External"/><Relationship Id="rId4" Type="http://schemas.openxmlformats.org/officeDocument/2006/relationships/hyperlink" Target="http://ru.wikipedia.org/wiki/%D4%E0%F0%E0%E4%E5%E9,_%CC%E0%E9%EA%EB" TargetMode="External"/><Relationship Id="rId5" Type="http://schemas.openxmlformats.org/officeDocument/2006/relationships/hyperlink" Target="http://ru.wikipedia.org/wiki/%D4%E0%F0%E0%E4%E5%E9,_%CC%E0%E9%EA%EB" TargetMode="External"/><Relationship Id="rId6" Type="http://schemas.openxmlformats.org/officeDocument/2006/relationships/hyperlink" Target="http://ru.wikipedia.org/wiki/%D4%E0%F0%E0%E4%E5%E9,_%CC%E0%E9%EA%EB" TargetMode="External"/><Relationship Id="rId7" Type="http://schemas.openxmlformats.org/officeDocument/2006/relationships/hyperlink" Target="http://ru.wikipedia.org/wiki/%D4%E0%F0%E0%E4%E5%E9,_%CC%E0%E9%EA%EB" TargetMode="External"/><Relationship Id="rId8" Type="http://schemas.openxmlformats.org/officeDocument/2006/relationships/hyperlink" Target="http://ru.wikipedia.org/wiki/&#1048;&#1083;&#1100;&#1103;_&#1048;&#1083;&#1100;&#1080;&#1095;_&#1052;&#1077;&#1095;&#1085;&#1080;&#1082;&#1086;&#1074;" TargetMode="External"/><Relationship Id="rId9" Type="http://schemas.openxmlformats.org/officeDocument/2006/relationships/hyperlink" Target="http://ru.wikipedia.org/wiki/&#1048;&#1083;&#1100;&#1103;_&#1048;&#1083;&#1100;&#1080;&#1095;_&#1052;&#1077;&#1095;&#1085;&#1080;&#1082;&#1086;&#1074;" TargetMode="External"/><Relationship Id="rId10" Type="http://schemas.openxmlformats.org/officeDocument/2006/relationships/hyperlink" Target="http://ru.wikipedia.org/wiki/&#1048;&#1083;&#1100;&#1103;_&#1048;&#1083;&#1100;&#1080;&#1095;_&#1052;&#1077;&#1095;&#1085;&#1080;&#1082;&#1086;&#1074;" TargetMode="External"/><Relationship Id="rId11" Type="http://schemas.openxmlformats.org/officeDocument/2006/relationships/hyperlink" Target="http://ru.wikipedia.org/wiki/&#1048;&#1083;&#1100;&#1103;_&#1048;&#1083;&#1100;&#1080;&#1095;_&#1052;&#1077;&#1095;&#1085;&#1080;&#1082;&#1086;&#1074;" TargetMode="External"/><Relationship Id="rId12" Type="http://schemas.openxmlformats.org/officeDocument/2006/relationships/hyperlink" Target="http://ru.wikipedia.org/wiki/&#1048;&#1083;&#1100;&#1103;_&#1048;&#1083;&#1100;&#1080;&#1095;_&#1052;&#1077;&#1095;&#1085;&#1080;&#1082;&#1086;&#1074;" TargetMode="External"/><Relationship Id="rId13" Type="http://schemas.openxmlformats.org/officeDocument/2006/relationships/hyperlink" Target="http://ru.wikipedia.org/wiki/&#1048;&#1083;&#1100;&#1103;_&#1048;&#1083;&#1100;&#1080;&#1095;_&#1052;&#1077;&#1095;&#1085;&#1080;&#1082;&#1086;&#1074;" TargetMode="External"/><Relationship Id="rId14" Type="http://schemas.openxmlformats.org/officeDocument/2006/relationships/hyperlink" Target="http://ru.wikipedia.org/wiki/&#1048;&#1083;&#1100;&#1103;_&#1048;&#1083;&#1100;&#1080;&#1095;_&#1052;&#1077;&#1095;&#1085;&#1080;&#1082;&#1086;&#1074;" TargetMode="External"/><Relationship Id="rId15" Type="http://schemas.openxmlformats.org/officeDocument/2006/relationships/hyperlink" Target="http://ru.wikipedia.org/wiki/&#1056;&#1086;&#1073;&#1077;&#1088;&#1090;_&#1050;&#1086;&#1093;" TargetMode="External"/><Relationship Id="rId16" Type="http://schemas.openxmlformats.org/officeDocument/2006/relationships/hyperlink" Target="http://ru.wikipedia.org/wiki/%D1%F2%E5%F2%EE%F1%EA%EE%EF" TargetMode="External"/><Relationship Id="rId17" Type="http://schemas.openxmlformats.org/officeDocument/2006/relationships/hyperlink" Target="http://nova.rambler.ru/search?query=&#1040;&#1085;&#1088;&#1080;+&#1041;&#1077;&#1082;&#1082;&#1077;&#1088;&#1077;&#1083;&#1100;" TargetMode="External"/><Relationship Id="rId18" Type="http://schemas.openxmlformats.org/officeDocument/2006/relationships/hyperlink" Target="http://nova.rambler.ru/search?query=&#1040;&#1085;&#1088;&#1080;+&#1041;&#1077;&#1082;&#1082;&#1077;&#1088;&#1077;&#1083;&#1100;" TargetMode="External"/><Relationship Id="rId19" Type="http://schemas.openxmlformats.org/officeDocument/2006/relationships/hyperlink" Target="http://nova.rambler.ru/search?query=&#1040;&#1085;&#1088;&#1080;+&#1041;&#1077;&#1082;&#1082;&#1077;&#1088;&#1077;&#1083;&#1100;" TargetMode="External"/><Relationship Id="rId20" Type="http://schemas.openxmlformats.org/officeDocument/2006/relationships/hyperlink" Target="http://nova.rambler.ru/search?query=&#1040;&#1085;&#1088;&#1080;+&#1041;&#1077;&#1082;&#1082;&#1077;&#1088;&#1077;&#1083;&#1100;" TargetMode="External"/><Relationship Id="rId21" Type="http://schemas.openxmlformats.org/officeDocument/2006/relationships/hyperlink" Target="http://nova.rambler.ru/search?query=&#1040;&#1085;&#1088;&#1080;+&#1041;&#1077;&#1082;&#1082;&#1077;&#1088;&#1077;&#1083;&#1100;" TargetMode="External"/><Relationship Id="rId2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30481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« Наука: создание научной картины мир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28600"/>
            <a:ext cx="8534160" cy="838080"/>
          </a:xfrm>
          <a:prstGeom prst="rect">
            <a:avLst/>
          </a:prstGeom>
          <a:solidFill>
            <a:srgbClr val="d5b2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овая история 8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190760" y="152388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883 году немецкий инженер Генрих герц подтвердил существование электромагнитный волн и доказал, что никакой материальный предмет не может помещать их распростран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04120" y="204120"/>
            <a:ext cx="8583120" cy="963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File:Heinrich Hertz.jpg"/>
          <p:cNvPicPr/>
          <p:nvPr/>
        </p:nvPicPr>
        <p:blipFill>
          <a:blip r:embed="rId2"/>
          <a:stretch/>
        </p:blipFill>
        <p:spPr>
          <a:xfrm>
            <a:off x="304920" y="1447920"/>
            <a:ext cx="3703680" cy="4790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8600" y="6095880"/>
            <a:ext cx="3809880" cy="762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нрих Рудольф Гер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5DDC-99FF-4844-86B8-BDB50E71C0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9B800-C79B-4EF0-A94C-3CE484C952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рц установил, что электромагнитные волны распространяются со скоростью 300 тыс. км/с. Эти волны стали называться волнами Гер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Файл:Hertz schematic0.PNG"/>
          <p:cNvPicPr/>
          <p:nvPr/>
        </p:nvPicPr>
        <p:blipFill>
          <a:blip r:embed="rId2"/>
          <a:stretch/>
        </p:blipFill>
        <p:spPr>
          <a:xfrm>
            <a:off x="228600" y="2133720"/>
            <a:ext cx="4572000" cy="29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08080" y="207720"/>
            <a:ext cx="857520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410080"/>
            <a:ext cx="4648320" cy="12193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спериментальный аппа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рца 1887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98AC-C991-4BD0-A096-A8250083333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F8C1D-9CFD-4F3D-98BF-95DE2C62C8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67080" y="160020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лландский физик попытался объяснить электромагнитную теорию Максвелла с точки зрения атомного строения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08080" y="207720"/>
            <a:ext cx="857520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File:Hendrik lorentz.jpg"/>
          <p:cNvPicPr/>
          <p:nvPr/>
        </p:nvPicPr>
        <p:blipFill>
          <a:blip r:embed="rId2"/>
          <a:stretch/>
        </p:blipFill>
        <p:spPr>
          <a:xfrm>
            <a:off x="380880" y="1447920"/>
            <a:ext cx="3657600" cy="4876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6095880"/>
            <a:ext cx="3809880" cy="762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ендрик Антон Лорен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6AD-88F1-454C-A93D-A7955236155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5CD5B-B8DE-462B-9411-2AEF3BA076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04120" y="204120"/>
            <a:ext cx="8583120" cy="963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19040" y="18288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вершался переворот в естественно – научных представлениях человечества, формировалась новая картина мира, которая существует и сег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536-36E4-4D17-B5FC-F2ABD71FAC0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74C05-8646-4FDE-965D-E9BE17A4E2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конце 1895 года в Германии физик Вильгельм Конрад Рентген, исходя из теории Максвелла об электромагнитных волнах,  открыл невидимые лучи, названные им Х – луч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Roentgen2.jpg"/>
          <p:cNvPicPr/>
          <p:nvPr/>
        </p:nvPicPr>
        <p:blipFill>
          <a:blip r:embed="rId2"/>
          <a:stretch/>
        </p:blipFill>
        <p:spPr>
          <a:xfrm>
            <a:off x="380880" y="1447920"/>
            <a:ext cx="3470400" cy="4876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08080" y="207720"/>
            <a:ext cx="857520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427F-5D42-40BF-B668-4491C1FCC83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AC9DF-3B82-46C1-A8AA-1BB645DF98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аваясь невидимыми, лучи пронизывают различные предметы в разной степени. Полученное изображение можно запечатлеть на фотоплёнке. Это открытие нашло широкое применение в медиц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8080" y="207720"/>
            <a:ext cx="857520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File:X-ray by Wilhelm Röntgen of Albert von Kölliker's hand - 18960123-02.jpg"/>
          <p:cNvPicPr/>
          <p:nvPr/>
        </p:nvPicPr>
        <p:blipFill>
          <a:blip r:embed="rId2"/>
          <a:stretch/>
        </p:blipFill>
        <p:spPr>
          <a:xfrm>
            <a:off x="152280" y="1523880"/>
            <a:ext cx="1785960" cy="2799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981080" y="3429000"/>
            <a:ext cx="2971800" cy="2235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8600" y="5943600"/>
            <a:ext cx="4343400" cy="762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нтгеновские сним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2FA-FCD3-432D-9020-22EC44A9E38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D06FC-A615-47FE-9F3E-203A55F096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Henri Becquerel.jpg"/>
          <p:cNvPicPr/>
          <p:nvPr/>
        </p:nvPicPr>
        <p:blipFill>
          <a:blip r:embed="rId2"/>
          <a:stretch/>
        </p:blipFill>
        <p:spPr>
          <a:xfrm>
            <a:off x="304920" y="1523880"/>
            <a:ext cx="1904760" cy="2162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3581280"/>
            <a:ext cx="2209680" cy="762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уан Ан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еккер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Pierrecurie.jpg"/>
          <p:cNvPicPr/>
          <p:nvPr/>
        </p:nvPicPr>
        <p:blipFill>
          <a:blip r:embed="rId3"/>
          <a:stretch/>
        </p:blipFill>
        <p:spPr>
          <a:xfrm>
            <a:off x="3772080" y="1523880"/>
            <a:ext cx="1600200" cy="2210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8120" y="3733920"/>
            <a:ext cx="2514600" cy="4572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ьер Кю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Curie-nobel-portrait-2-600.jpg"/>
          <p:cNvPicPr/>
          <p:nvPr/>
        </p:nvPicPr>
        <p:blipFill>
          <a:blip r:embed="rId4"/>
          <a:stretch/>
        </p:blipFill>
        <p:spPr>
          <a:xfrm>
            <a:off x="6248520" y="1447920"/>
            <a:ext cx="2046240" cy="2971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19920" y="4038480"/>
            <a:ext cx="2971800" cy="83844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р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клодовска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ю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08080" y="207720"/>
            <a:ext cx="865152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File:Ernest Rutherford.jpg"/>
          <p:cNvPicPr/>
          <p:nvPr/>
        </p:nvPicPr>
        <p:blipFill>
          <a:blip r:embed="rId5"/>
          <a:stretch/>
        </p:blipFill>
        <p:spPr>
          <a:xfrm>
            <a:off x="533520" y="4419720"/>
            <a:ext cx="1479600" cy="2162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2280" y="6400800"/>
            <a:ext cx="2743200" cy="4572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рнест Резерфо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File:Niels Bohr.jpg"/>
          <p:cNvPicPr/>
          <p:nvPr/>
        </p:nvPicPr>
        <p:blipFill>
          <a:blip r:embed="rId6"/>
          <a:stretch/>
        </p:blipFill>
        <p:spPr>
          <a:xfrm>
            <a:off x="3581280" y="4267080"/>
            <a:ext cx="1495440" cy="2114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00400" y="6400800"/>
            <a:ext cx="2514600" cy="4572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льс 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4952880"/>
            <a:ext cx="3581640" cy="1905120"/>
          </a:xfrm>
          <a:prstGeom prst="ellipse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ёные, изуч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ио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F2B-0B86-4DE3-8986-6379502661B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05DF1-0CC8-4C77-8496-3C395F54E1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 1903 году Мария и Пьер Кюри вместе с Анри Беккерелем получили Нобелевскую премию по физике «за выдающиеся заслуги в совместных исследованиях явлений радиации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File:Marie et Pierre Curie .jpg"/>
          <p:cNvPicPr/>
          <p:nvPr/>
        </p:nvPicPr>
        <p:blipFill>
          <a:blip r:embed="rId2"/>
          <a:stretch/>
        </p:blipFill>
        <p:spPr>
          <a:xfrm>
            <a:off x="228600" y="1447920"/>
            <a:ext cx="4141800" cy="4724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5943600"/>
            <a:ext cx="4038480" cy="9144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ьер и Мария Кю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08080" y="207720"/>
            <a:ext cx="872784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E79B-12A8-4985-A9CF-7B35D04EEC0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EBED0-81D7-4859-9934-83D6CA0F57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ворот в естествознании произвела книга великого учёного – натуралиста              Ч. Дарвина                                « Происхождение вид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File:Charles Darwin 1880.jpg"/>
          <p:cNvPicPr/>
          <p:nvPr/>
        </p:nvPicPr>
        <p:blipFill>
          <a:blip r:embed="rId2"/>
          <a:stretch/>
        </p:blipFill>
        <p:spPr>
          <a:xfrm>
            <a:off x="533520" y="1523880"/>
            <a:ext cx="3608280" cy="4953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920" y="5943600"/>
            <a:ext cx="4038480" cy="9144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рлз Дарв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5280" y="63000"/>
            <a:ext cx="8637120" cy="11692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Революция в естествознан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6ED-A625-4AF6-A76D-722E5DE27B6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DAB01-F352-4C61-951E-F3ED39F2FB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47960" y="1523880"/>
            <a:ext cx="4267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885 году учёный спас жизнь юноше, которого 14 раз укусила бешеная собака. Он работал над получением сыворотки от бешенства. Подарил миру новую науку - микробиолог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04120" y="204120"/>
            <a:ext cx="8735760" cy="963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Революция в медици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File:Louis Pasteur.jpg"/>
          <p:cNvPicPr/>
          <p:nvPr/>
        </p:nvPicPr>
        <p:blipFill>
          <a:blip r:embed="rId2"/>
          <a:stretch/>
        </p:blipFill>
        <p:spPr>
          <a:xfrm>
            <a:off x="228600" y="1523880"/>
            <a:ext cx="4159080" cy="4953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8600" y="5943600"/>
            <a:ext cx="4114800" cy="685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уи Па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16C-5F51-4ED8-AAA0-F81FF11CE35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D4A4E-006D-4B66-841A-1FBFBE0231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Какие изменения произошли в развитии нау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Какие причины способствовали развитию науки и научных знан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Как эти исследования повлияли на жизнь людей Нового време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280"/>
            <a:ext cx="8763120" cy="10670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годня вы узнае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4ED-68BD-478A-9404-E83AF82FA81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7066F-8827-4742-B9C8-F2168698B6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47960" y="15235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ал с процессом брожения, создал метод стерилизации и пастеризации различных продуктов. Разработал несколько прививок против заразных болезней. Объяснял хирургам необходимость дезинфицировать руки и инструменты перед раб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File:Tableau Louis Pasteur.jpg"/>
          <p:cNvPicPr/>
          <p:nvPr/>
        </p:nvPicPr>
        <p:blipFill>
          <a:blip r:embed="rId2"/>
          <a:stretch/>
        </p:blipFill>
        <p:spPr>
          <a:xfrm>
            <a:off x="228600" y="1523880"/>
            <a:ext cx="4119480" cy="4876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208080" y="207720"/>
            <a:ext cx="865152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Революция в медици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8BE-C23C-4672-A8F1-EC981BB034E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932EA-6E3C-44F9-9EEF-2EE62B7471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глийский врач, разработал первую вакцину — против оспы. Дженнер придумал вводить в организм человека как бы неопасный вирус коровьей оспы.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08080" y="207720"/>
            <a:ext cx="872784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Революция в медици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File:Edward Jenner2.jpg"/>
          <p:cNvPicPr/>
          <p:nvPr/>
        </p:nvPicPr>
        <p:blipFill>
          <a:blip r:embed="rId2"/>
          <a:stretch/>
        </p:blipFill>
        <p:spPr>
          <a:xfrm>
            <a:off x="457200" y="144792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5943600"/>
            <a:ext cx="3733920" cy="762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дуард Джен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CEE0-6CD1-4FB4-B176-AB1BA044CA4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F10AF-7FD5-4122-BF1E-BDEBF9473D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не Лаэннек  установил, что твёрдые тела по-разному  производят звуки. Он сконструировал трубку из буковой древесины – стетоскоп. Один конец прикладывался к груди больного, а другой – к уху вр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08080" y="207720"/>
            <a:ext cx="872784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Революция в медици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File:Hörrohr Stethoskop Meyers 1890.jpg"/>
          <p:cNvPicPr/>
          <p:nvPr/>
        </p:nvPicPr>
        <p:blipFill>
          <a:blip r:embed="rId2"/>
          <a:stretch/>
        </p:blipFill>
        <p:spPr>
          <a:xfrm>
            <a:off x="380880" y="1523880"/>
            <a:ext cx="3178440" cy="4724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880" y="5943600"/>
            <a:ext cx="3200400" cy="68580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етоск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5B5-CE03-46A7-8D5E-74BE3B16C75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BCB8B-A532-4DBE-8021-B9C6562647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809880" y="1599840"/>
            <a:ext cx="5181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мецкий микробиолог, открыл бациллу сибирской язвы, холерный вибрион и туберкулёзную палочку. За исследования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уберкулёза награждён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белевской премией по физиологии и медицине в 1905 г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08080" y="207720"/>
            <a:ext cx="872784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Революция в медици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File:RobertKoch cropped.jpg"/>
          <p:cNvPicPr/>
          <p:nvPr/>
        </p:nvPicPr>
        <p:blipFill>
          <a:blip r:embed="rId2"/>
          <a:stretch/>
        </p:blipFill>
        <p:spPr>
          <a:xfrm>
            <a:off x="304920" y="1523880"/>
            <a:ext cx="3456000" cy="4714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04920" y="5943600"/>
            <a:ext cx="3504960" cy="9144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нрих Герм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берт Ко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389-09EA-40A9-B857-07D1F9D054E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8F4E8-0087-4286-BCCE-4CC3E18121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343400" y="1447560"/>
            <a:ext cx="46483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йский и французский биолог (зоолог, эмбриолог, иммунолог, физиолог и патоло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 из основоположников эволюционной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мбриологии,фагоцитоза и внутриклеточного пищеварения, создатель сравнительной патологии воспа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уреат Нобелевской премии в области физиологии и медицины (190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08080" y="207720"/>
            <a:ext cx="872784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Революция в медици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File:Mechnikov II.jpg"/>
          <p:cNvPicPr/>
          <p:nvPr/>
        </p:nvPicPr>
        <p:blipFill>
          <a:blip r:embed="rId2"/>
          <a:stretch/>
        </p:blipFill>
        <p:spPr>
          <a:xfrm>
            <a:off x="0" y="1523880"/>
            <a:ext cx="4240080" cy="4837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38080" y="6083280"/>
            <a:ext cx="2514600" cy="77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08DF-E860-4761-B3D1-AFBB5A32175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0B9FD-7266-4738-B2C1-4FF7011E64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204120" y="204120"/>
            <a:ext cx="8583120" cy="963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Развитие образова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самостоятельно пункт «Развитие образования» на стр. 44-45 и ответьте на вопро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Как в разных государствах происходило развитие образовани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792-EF34-404A-91C9-2A73EEBB4E5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735A7-8A81-4925-BBE3-25388AFA27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284040" y="207720"/>
            <a:ext cx="842292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Соотнесите учёного и его изобрет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8825-E305-46BD-8B00-D8956AA8C3C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06CBE-055B-4E12-8231-0882CC599A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284040" y="207720"/>
            <a:ext cx="842292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Параграф 5, вопросы, записи в тетрад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722-6496-4EF4-92AB-3B96E6A52D3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94F7F-643A-4071-882E-1B7E4D2AC9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u.wikipedia.or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k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%D4%E0%F0%E0%E4%E5%E9,_%CC%E0%E9%EA%E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ru.wikipedia.or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ik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%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D0%98%D0%BB%D1%8C%D1%8F_%D0%98%D0%BB%D1%8C%D0%B8%D1%87_%D0%9C%D0%B5%D1%87%D0%BD%D0%B8%D0%BA%D0%BE%D0%B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ru.wikipedia.org/wiki/%D0%A0%D0%BE%D0%B1%D0%B5%D1%80%D1%82_%D0%9A%D0%BE%D1%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ru.wikipedia.org/wiki/%D1%F2%E5%F2%EE%F1%EA%EE%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nova.rambler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search?query=%D0%90%D0%BD%D1%80%D0%B8+%D0%91%D0%B5%D0%BA%D0%BA%D0%B5%D1%80%D0%B5%D0%BB%D1%8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90920" y="5257800"/>
            <a:ext cx="6324480" cy="1371600"/>
          </a:xfrm>
          <a:prstGeom prst="roundRect">
            <a:avLst>
              <a:gd name="adj" fmla="val 16667"/>
            </a:avLst>
          </a:prstGeom>
          <a:solidFill>
            <a:srgbClr val="e898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99CC-F467-4D82-8BE9-0917EC99EFB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B27F1-0437-4D8C-BD6F-499CF497F1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Причины быстрого развития на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« Повелитель молни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Сенсации продолж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Революция в естествозн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Новая наука – микробиолог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Успехи медиц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Развитие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4400" y="207720"/>
            <a:ext cx="811800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F9A-6736-4314-8A17-F094FFB8171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756C9-0EB6-4A9F-9451-252B8AADDE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152280"/>
            <a:ext cx="8763120" cy="10670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ботаем с таб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1981080"/>
          <a:ext cx="8839440" cy="3476880"/>
        </p:xfrm>
        <a:graphic>
          <a:graphicData uri="http://schemas.openxmlformats.org/drawingml/2006/table">
            <a:tbl>
              <a:tblPr/>
              <a:tblGrid>
                <a:gridCol w="2724120"/>
                <a:gridCol w="2038680"/>
                <a:gridCol w="2038320"/>
                <a:gridCol w="20383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чная обл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откры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 учён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и значение от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42E6-EE85-457A-8F17-83AED3D55DB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18020-0953-4D6B-AE30-2811003095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04120" y="204120"/>
            <a:ext cx="8735760" cy="963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чины быстрого развития на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1898640" cy="2438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09680" y="1447920"/>
            <a:ext cx="6782040" cy="3352680"/>
          </a:xfrm>
          <a:prstGeom prst="cloudCallout">
            <a:avLst>
              <a:gd name="adj1" fmla="val -41291"/>
              <a:gd name="adj2" fmla="val 35462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же в  XIX – начале XX века так активно начинают развива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личные нау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4800600"/>
            <a:ext cx="5334120" cy="175248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 на вопрос найдё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читав пункт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стр. 3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C47-1EBF-4EF3-9170-9E38C2BA27B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FB46E-883E-4AA1-A215-F492CAA609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08080" y="207720"/>
            <a:ext cx="872784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чины быстрого развития на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ма жизнь требовала познать законы и использовать их в производ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Коренные изменения в сознании и мышлении людей Нового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84EE-4A37-4C87-8CD9-9C26CC7021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69B4C-4C54-4781-A7B4-2F5D71FD3E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343400" y="144756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831 году Майкл Фарадей открыл явление электромагнитной индукции, что позволило приступить к созданию электродвигателя. Он стал членом Королевского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84400" y="207720"/>
            <a:ext cx="857520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 Повелитель молн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M Faraday Th Phillips oil 1842.jpg"/>
          <p:cNvPicPr/>
          <p:nvPr/>
        </p:nvPicPr>
        <p:blipFill>
          <a:blip r:embed="rId2"/>
          <a:stretch/>
        </p:blipFill>
        <p:spPr>
          <a:xfrm>
            <a:off x="228600" y="1447920"/>
            <a:ext cx="3941640" cy="5105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280" y="6248520"/>
            <a:ext cx="3962520" cy="6094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йкл Фар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63BD-393D-4E14-90CE-14F523FD660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374D3-604C-4CCA-BC10-AE0B528B5D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47960" y="13712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860-х годах он разработал электромагнитную теорию света, обобщившую результаты опытов и теоретических построений многих физиков различных стран в области электромагнит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04120" y="204120"/>
            <a:ext cx="8583120" cy="963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File:James Clerk Maxwell.png"/>
          <p:cNvPicPr/>
          <p:nvPr/>
        </p:nvPicPr>
        <p:blipFill>
          <a:blip r:embed="rId2"/>
          <a:stretch/>
        </p:blipFill>
        <p:spPr>
          <a:xfrm>
            <a:off x="270000" y="1447920"/>
            <a:ext cx="4302000" cy="5172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6172200"/>
            <a:ext cx="4267080" cy="685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жеймс Карл Максве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8618-CD61-40D7-B815-CB372222277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B9E7C-F83A-4E4B-8B75-D950F54845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0" y="14475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гласно его теории, в природе существуют  невидимые волны, которые передают электричество в пространстве. Свет – разновидность электромагнитных колеб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4159440" cy="5029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6172200"/>
            <a:ext cx="4038480" cy="6858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ксвелл с цветов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лчком в р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04120" y="204120"/>
            <a:ext cx="8583120" cy="963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9C1-2A72-4962-8D1D-3966F557260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BB472-1362-4FBE-8BE5-5715D05DC5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9-16T09:40:2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