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402-F82D-40CA-BDD3-A8B2BE10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6CC-E181-492E-8CBD-793333A0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8D1-8388-4E08-9E75-2E100C26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A058-7012-4AF1-A50B-EE6157B7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B1DA-F7CE-45DF-B436-701C480A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9449-BF88-4806-A5E9-1A3AAEE8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D758-673A-4C95-8F89-66A9A3FE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8B17-2853-4359-BE3A-C1D08A4A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BE1-7E4A-46E7-B4B8-D0165E24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C28C-519F-4E82-8684-E5231AA8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F7D-5613-4243-B737-355E6526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4EC-AC79-4E15-938B-A0E7730E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85B6-7400-4006-97DC-6AEBCDD6A4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E127-982E-4E28-A8E6-AD40CCE39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%D4%E0%F0%E0%E4%E5%E9,_%CC%E0%E9%EA%EB" TargetMode="External"/><Relationship Id="rId3" Type="http://schemas.openxmlformats.org/officeDocument/2006/relationships/hyperlink" Target="http://ru.wikipedia.org/wiki/%D4%E0%F0%E0%E4%E5%E9,_%CC%E0%E9%EA%EB" TargetMode="External"/><Relationship Id="rId4" Type="http://schemas.openxmlformats.org/officeDocument/2006/relationships/hyperlink" Target="http://ru.wikipedia.org/wiki/%D4%E0%F0%E0%E4%E5%E9,_%CC%E0%E9%EA%EB" TargetMode="External"/><Relationship Id="rId5" Type="http://schemas.openxmlformats.org/officeDocument/2006/relationships/hyperlink" Target="http://ru.wikipedia.org/wiki/%D4%E0%F0%E0%E4%E5%E9,_%CC%E0%E9%EA%EB" TargetMode="External"/><Relationship Id="rId6" Type="http://schemas.openxmlformats.org/officeDocument/2006/relationships/hyperlink" Target="http://ru.wikipedia.org/wiki/%D4%E0%F0%E0%E4%E5%E9,_%CC%E0%E9%EA%EB" TargetMode="External"/><Relationship Id="rId7" Type="http://schemas.openxmlformats.org/officeDocument/2006/relationships/hyperlink" Target="http://ru.wikipedia.org/wiki/%D4%E0%F0%E0%E4%E5%E9,_%CC%E0%E9%EA%EB" TargetMode="External"/><Relationship Id="rId8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9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10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11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12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13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14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15" Type="http://schemas.openxmlformats.org/officeDocument/2006/relationships/hyperlink" Target="http://ru.wikipedia.org/wiki/&#1056;&#1086;&#1073;&#1077;&#1088;&#1090;_&#1050;&#1086;&#1093;" TargetMode="External"/><Relationship Id="rId16" Type="http://schemas.openxmlformats.org/officeDocument/2006/relationships/hyperlink" Target="http://ru.wikipedia.org/wiki/%D1%F2%E5%F2%EE%F1%EA%EE%EF" TargetMode="External"/><Relationship Id="rId17" Type="http://schemas.openxmlformats.org/officeDocument/2006/relationships/hyperlink" Target="http://nova.rambler.ru/search?query=&#1040;&#1085;&#1088;&#1080;+&#1041;&#1077;&#1082;&#1082;&#1077;&#1088;&#1077;&#1083;&#1100;" TargetMode="External"/><Relationship Id="rId18" Type="http://schemas.openxmlformats.org/officeDocument/2006/relationships/hyperlink" Target="http://nova.rambler.ru/search?query=&#1040;&#1085;&#1088;&#1080;+&#1041;&#1077;&#1082;&#1082;&#1077;&#1088;&#1077;&#1083;&#1100;" TargetMode="External"/><Relationship Id="rId19" Type="http://schemas.openxmlformats.org/officeDocument/2006/relationships/hyperlink" Target="http://nova.rambler.ru/search?query=&#1040;&#1085;&#1088;&#1080;+&#1041;&#1077;&#1082;&#1082;&#1077;&#1088;&#1077;&#1083;&#1100;" TargetMode="External"/><Relationship Id="rId20" Type="http://schemas.openxmlformats.org/officeDocument/2006/relationships/hyperlink" Target="http://nova.rambler.ru/search?query=&#1040;&#1085;&#1088;&#1080;+&#1041;&#1077;&#1082;&#1082;&#1077;&#1088;&#1077;&#1083;&#1100;" TargetMode="External"/><Relationship Id="rId21" Type="http://schemas.openxmlformats.org/officeDocument/2006/relationships/hyperlink" Target="http://nova.rambler.ru/search?query=&#1040;&#1085;&#1088;&#1080;+&#1041;&#1077;&#1082;&#1082;&#1077;&#1088;&#1077;&#1083;&#1100;" TargetMode="External"/><Relationship Id="rId2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30481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« Наука: создание научной картины мир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28600"/>
            <a:ext cx="8534160" cy="838080"/>
          </a:xfrm>
          <a:prstGeom prst="rect">
            <a:avLst/>
          </a:prstGeom>
          <a:solidFill>
            <a:srgbClr val="d5b2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овая история 8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190760" y="152388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883 году немецкий инженер Генрих герц подтвердил существование электромагнитный волн и доказал, что никакой материальный предмет не может помещать их распростран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04120" y="204120"/>
            <a:ext cx="858312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File:Heinrich Hertz.jpg"/>
          <p:cNvPicPr/>
          <p:nvPr/>
        </p:nvPicPr>
        <p:blipFill>
          <a:blip r:embed="rId2"/>
          <a:stretch/>
        </p:blipFill>
        <p:spPr>
          <a:xfrm>
            <a:off x="304920" y="1447920"/>
            <a:ext cx="3703680" cy="4790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6095880"/>
            <a:ext cx="3809880" cy="762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нрих Рудольф Гер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795-CA1D-4E5F-9355-3F73F8B1331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3E5B6-02D0-4269-8852-39C23FA088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рц установил, что электромагнитные волны распространяются со скоростью 300 тыс. км/с. Эти волны стали называться волнами Гер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Файл:Hertz schematic0.PNG"/>
          <p:cNvPicPr/>
          <p:nvPr/>
        </p:nvPicPr>
        <p:blipFill>
          <a:blip r:embed="rId2"/>
          <a:stretch/>
        </p:blipFill>
        <p:spPr>
          <a:xfrm>
            <a:off x="228600" y="2133720"/>
            <a:ext cx="4572000" cy="29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08080" y="207720"/>
            <a:ext cx="857520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410080"/>
            <a:ext cx="4648320" cy="12193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спериментальный аппа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рца 1887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B4B-3C0F-4B3E-B174-A01D13AECDC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7B768-3527-4150-B5CF-42EA00AB5C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67080" y="160020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лландский физик попытался объяснить электромагнитную теорию Максвелла с точки зрения атомного строения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08080" y="207720"/>
            <a:ext cx="857520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File:Hendrik lorentz.jpg"/>
          <p:cNvPicPr/>
          <p:nvPr/>
        </p:nvPicPr>
        <p:blipFill>
          <a:blip r:embed="rId2"/>
          <a:stretch/>
        </p:blipFill>
        <p:spPr>
          <a:xfrm>
            <a:off x="380880" y="1447920"/>
            <a:ext cx="3657600" cy="4876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6095880"/>
            <a:ext cx="3809880" cy="762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ендрик Антон Лорен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F1C0-C9E0-426E-A99A-46F4E98D360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AB21F-65E8-4922-80B0-ED170340E0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04120" y="204120"/>
            <a:ext cx="858312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19040" y="18288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вершался переворот в естественно – научных представлениях человечества, формировалась новая картина мира, которая существует и сег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058-8386-43D4-95BE-A006D32E142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AAA3F-99B5-4157-BF59-4017D87828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конце 1895 года в Германии физик Вильгельм Конрад Рентген, исходя из теории Максвелла об электромагнитных волнах,  открыл невидимые лучи, названные им Х – луч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Roentgen2.jpg"/>
          <p:cNvPicPr/>
          <p:nvPr/>
        </p:nvPicPr>
        <p:blipFill>
          <a:blip r:embed="rId2"/>
          <a:stretch/>
        </p:blipFill>
        <p:spPr>
          <a:xfrm>
            <a:off x="380880" y="1447920"/>
            <a:ext cx="3470400" cy="4876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08080" y="207720"/>
            <a:ext cx="857520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124-A37B-437C-A185-EF37790A40C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1768F-321D-4864-A52F-BA8924E22B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аваясь невидимыми, лучи пронизывают различные предметы в разной степени. Полученное изображение можно запечатлеть на фотоплёнке. Это открытие нашло широкое применение в медиц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8080" y="207720"/>
            <a:ext cx="857520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File:X-ray by Wilhelm Röntgen of Albert von Kölliker's hand - 18960123-02.jpg"/>
          <p:cNvPicPr/>
          <p:nvPr/>
        </p:nvPicPr>
        <p:blipFill>
          <a:blip r:embed="rId2"/>
          <a:stretch/>
        </p:blipFill>
        <p:spPr>
          <a:xfrm>
            <a:off x="152280" y="1523880"/>
            <a:ext cx="1785960" cy="2799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981080" y="3429000"/>
            <a:ext cx="2971800" cy="2235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8600" y="5943600"/>
            <a:ext cx="4343400" cy="762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нтгеновские сним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181-6777-40F6-B058-66C9BF837B5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EE946-62FB-4DB0-A976-990E1D0AA0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Henri Becquerel.jpg"/>
          <p:cNvPicPr/>
          <p:nvPr/>
        </p:nvPicPr>
        <p:blipFill>
          <a:blip r:embed="rId2"/>
          <a:stretch/>
        </p:blipFill>
        <p:spPr>
          <a:xfrm>
            <a:off x="304920" y="1523880"/>
            <a:ext cx="1904760" cy="2162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3581280"/>
            <a:ext cx="2209680" cy="762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уан Ан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ккер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Pierrecurie.jpg"/>
          <p:cNvPicPr/>
          <p:nvPr/>
        </p:nvPicPr>
        <p:blipFill>
          <a:blip r:embed="rId3"/>
          <a:stretch/>
        </p:blipFill>
        <p:spPr>
          <a:xfrm>
            <a:off x="3772080" y="1523880"/>
            <a:ext cx="1600200" cy="2210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8120" y="3733920"/>
            <a:ext cx="2514600" cy="4572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ьер Кю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Curie-nobel-portrait-2-600.jpg"/>
          <p:cNvPicPr/>
          <p:nvPr/>
        </p:nvPicPr>
        <p:blipFill>
          <a:blip r:embed="rId4"/>
          <a:stretch/>
        </p:blipFill>
        <p:spPr>
          <a:xfrm>
            <a:off x="6248520" y="1447920"/>
            <a:ext cx="2046240" cy="2971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19920" y="4038480"/>
            <a:ext cx="2971800" cy="83844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р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клодовска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ю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08080" y="207720"/>
            <a:ext cx="865152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File:Ernest Rutherford.jpg"/>
          <p:cNvPicPr/>
          <p:nvPr/>
        </p:nvPicPr>
        <p:blipFill>
          <a:blip r:embed="rId5"/>
          <a:stretch/>
        </p:blipFill>
        <p:spPr>
          <a:xfrm>
            <a:off x="533520" y="4419720"/>
            <a:ext cx="1479600" cy="2162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2280" y="6400800"/>
            <a:ext cx="2743200" cy="4572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рнест Резерфо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File:Niels Bohr.jpg"/>
          <p:cNvPicPr/>
          <p:nvPr/>
        </p:nvPicPr>
        <p:blipFill>
          <a:blip r:embed="rId6"/>
          <a:stretch/>
        </p:blipFill>
        <p:spPr>
          <a:xfrm>
            <a:off x="3581280" y="4267080"/>
            <a:ext cx="1495440" cy="2114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00400" y="6400800"/>
            <a:ext cx="2514600" cy="4572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льс 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4952880"/>
            <a:ext cx="3581640" cy="190512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ёные, изуч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о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FAD-B745-4804-8088-12C33F1C447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63F4D-6799-4601-8DCA-426EC4746A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 1903 году Мария и Пьер Кюри вместе с Анри Беккерелем получили Нобелевскую премию по физике «за выдающиеся заслуги в совместных исследованиях явлений радиации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File:Marie et Pierre Curie .jpg"/>
          <p:cNvPicPr/>
          <p:nvPr/>
        </p:nvPicPr>
        <p:blipFill>
          <a:blip r:embed="rId2"/>
          <a:stretch/>
        </p:blipFill>
        <p:spPr>
          <a:xfrm>
            <a:off x="228600" y="1447920"/>
            <a:ext cx="4141800" cy="4724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5943600"/>
            <a:ext cx="4038480" cy="9144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ьер и Мария Кю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08080" y="207720"/>
            <a:ext cx="872784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E46-52D1-48F3-BB0C-89A7A7CEEE6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584ED-4CB9-4B4A-B1E1-909538C20C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ворот в естествознании произвела книга великого учёного – натуралиста              Ч. Дарвина                                « Происхождение вид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File:Charles Darwin 1880.jpg"/>
          <p:cNvPicPr/>
          <p:nvPr/>
        </p:nvPicPr>
        <p:blipFill>
          <a:blip r:embed="rId2"/>
          <a:stretch/>
        </p:blipFill>
        <p:spPr>
          <a:xfrm>
            <a:off x="533520" y="1523880"/>
            <a:ext cx="3608280" cy="4953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5943600"/>
            <a:ext cx="4038480" cy="9144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рлз Дар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5280" y="63000"/>
            <a:ext cx="8637120" cy="11692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Революция в естествознан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E32-B1D2-40EB-A1C5-A1AB8EB7E62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0E3CD-E115-416A-8CB8-9106A65C47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47960" y="1523880"/>
            <a:ext cx="4267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885 году учёный спас жизнь юноше, которого 14 раз укусила бешеная собака. Он работал над получением сыворотки от бешенства. Подарил миру новую науку - микробиолог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04120" y="204120"/>
            <a:ext cx="873576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еволюция в медици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File:Louis Pasteur.jpg"/>
          <p:cNvPicPr/>
          <p:nvPr/>
        </p:nvPicPr>
        <p:blipFill>
          <a:blip r:embed="rId2"/>
          <a:stretch/>
        </p:blipFill>
        <p:spPr>
          <a:xfrm>
            <a:off x="228600" y="1523880"/>
            <a:ext cx="4159080" cy="4953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8600" y="5943600"/>
            <a:ext cx="4114800" cy="685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уи Па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CD5-3EEC-45B3-AAE9-2E7E82F78CE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42182-A452-4441-B493-05AD8FCE82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Какие изменения произошли в развитии на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Какие причины способствовали развитию науки и научных знан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Как эти исследования повлияли на жизнь людей Нового време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280"/>
            <a:ext cx="8763120" cy="10670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годня вы узнае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2B6-2F03-46CA-82E5-03B3710E49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BA75C-36EB-47DF-B01C-060CFAAE43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47960" y="15235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ал с процессом брожения, создал метод стерилизации и пастеризации различных продуктов. Разработал несколько прививок против заразных болезней. Объяснял хирургам необходимость дезинфицировать руки и инструменты перед раб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File:Tableau Louis Pasteur.jpg"/>
          <p:cNvPicPr/>
          <p:nvPr/>
        </p:nvPicPr>
        <p:blipFill>
          <a:blip r:embed="rId2"/>
          <a:stretch/>
        </p:blipFill>
        <p:spPr>
          <a:xfrm>
            <a:off x="228600" y="1523880"/>
            <a:ext cx="4119480" cy="4876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208080" y="207720"/>
            <a:ext cx="865152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еволюция в медици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9FE-0B1C-45F3-B1BC-3F3C1BC182D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B9940-D2A3-4C03-A827-8EF6EB3E2C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глийский врач, разработал первую вакцину — против оспы. Дженнер придумал вводить в организм человека как бы неопасный вирус коровьей оспы.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08080" y="207720"/>
            <a:ext cx="872784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еволюция в медици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File:Edward Jenner2.jpg"/>
          <p:cNvPicPr/>
          <p:nvPr/>
        </p:nvPicPr>
        <p:blipFill>
          <a:blip r:embed="rId2"/>
          <a:stretch/>
        </p:blipFill>
        <p:spPr>
          <a:xfrm>
            <a:off x="457200" y="144792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5943600"/>
            <a:ext cx="3733920" cy="762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дуард Джен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DB9-B7C7-4C80-A0D4-0850ED3484C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A2084-7FBE-40CA-83DE-95B563795E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не Лаэннек  установил, что твёрдые тела по-разному  производят звуки. Он сконструировал трубку из буковой древесины – стетоскоп. Один конец прикладывался к груди больного, а другой – к уху вр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08080" y="207720"/>
            <a:ext cx="872784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еволюция в медици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File:Hörrohr Stethoskop Meyers 1890.jpg"/>
          <p:cNvPicPr/>
          <p:nvPr/>
        </p:nvPicPr>
        <p:blipFill>
          <a:blip r:embed="rId2"/>
          <a:stretch/>
        </p:blipFill>
        <p:spPr>
          <a:xfrm>
            <a:off x="380880" y="1523880"/>
            <a:ext cx="3178440" cy="4724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880" y="5943600"/>
            <a:ext cx="3200400" cy="68580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етоск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BEC3-94B8-4001-8255-0CB5139E02D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0BF8A-99F9-41B6-864F-D24EC0289A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09880" y="1599840"/>
            <a:ext cx="5181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мецкий микробиолог, открыл бациллу сибирской язвы, холерный вибрион и туберкулёзную палочку. За исследования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уберкулёза награждён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белевской премией по физиологии и медицине в 1905 г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08080" y="207720"/>
            <a:ext cx="872784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еволюция в медици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File:RobertKoch cropped.jpg"/>
          <p:cNvPicPr/>
          <p:nvPr/>
        </p:nvPicPr>
        <p:blipFill>
          <a:blip r:embed="rId2"/>
          <a:stretch/>
        </p:blipFill>
        <p:spPr>
          <a:xfrm>
            <a:off x="304920" y="1523880"/>
            <a:ext cx="3456000" cy="4714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04920" y="5943600"/>
            <a:ext cx="3504960" cy="9144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нрих Герм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берт Ко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5B6-20AB-40D5-A9BA-13E18D1A076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F6722-CCDD-442E-82AF-C77E24EC85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343400" y="1447560"/>
            <a:ext cx="46483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ий и французский биолог (зоолог, эмбриолог, иммунолог, физиолог и патоло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из основоположников эволюционной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бриологии,фагоцитоза и внутриклеточного пищеварения, создатель сравнительной патологии воспа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уреат Нобелевской премии в области физиологии и медицины (190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08080" y="207720"/>
            <a:ext cx="872784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еволюция в медици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File:Mechnikov II.jpg"/>
          <p:cNvPicPr/>
          <p:nvPr/>
        </p:nvPicPr>
        <p:blipFill>
          <a:blip r:embed="rId2"/>
          <a:stretch/>
        </p:blipFill>
        <p:spPr>
          <a:xfrm>
            <a:off x="0" y="1523880"/>
            <a:ext cx="4240080" cy="4837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38080" y="6083280"/>
            <a:ext cx="2514600" cy="77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5ED-A818-4109-8C14-6993BD1CE60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F4CC8-6D09-4858-B10B-3483E30F37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204120" y="204120"/>
            <a:ext cx="858312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азвитие образова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самостоятельно пункт «Развитие образования» на стр. 44-45 и ответьте на вопро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Как в разных государствах происходило развитие образовани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980-69A5-4FA2-8540-54F2C7F5287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4067B-1B74-418B-A164-E7099A692E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284040" y="207720"/>
            <a:ext cx="842292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Соотнесите учёного и его изобрет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D6A-FE8E-4451-A0B2-0179E64A263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0C753-135C-4B9B-BF5B-498884B862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84040" y="207720"/>
            <a:ext cx="842292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Параграф 5, вопросы, записи в тетрад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E19-4CDB-4167-9681-D5B46A9900B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DDB14-07B9-49DD-8CC5-BE6B2E07BB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u.wikipedia.or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%D4%E0%F0%E0%E4%E5%E9,_%CC%E0%E9%EA%E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ru.wikipedia.or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ik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%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D0%98%D0%BB%D1%8C%D1%8F_%D0%98%D0%BB%D1%8C%D0%B8%D1%87_%D0%9C%D0%B5%D1%87%D0%BD%D0%B8%D0%BA%D0%BE%D0%B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ru.wikipedia.org/wiki/%D0%A0%D0%BE%D0%B1%D0%B5%D1%80%D1%82_%D0%9A%D0%BE%D1%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ru.wikipedia.org/wiki/%D1%F2%E5%F2%EE%F1%EA%EE%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nova.rambler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search?query=%D0%90%D0%BD%D1%80%D0%B8+%D0%91%D0%B5%D0%BA%D0%BA%D0%B5%D1%80%D0%B5%D0%BB%D1%8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90920" y="5257800"/>
            <a:ext cx="6324480" cy="1371600"/>
          </a:xfrm>
          <a:prstGeom prst="roundRect">
            <a:avLst>
              <a:gd name="adj" fmla="val 16667"/>
            </a:avLst>
          </a:prstGeom>
          <a:solidFill>
            <a:srgbClr val="e898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3547-DAF0-4E72-919F-CC24D1B38D4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61544-DA01-4E2E-8E64-C4E76F07B3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Причины быстрого развития на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« Повелитель молни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Сенсации продолж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Революция в естествозн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Новая наука – микробиолог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Успехи медиц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Развитие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4400" y="207720"/>
            <a:ext cx="811800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2595-A6D2-458B-A85D-72703CF5CC9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F902F-4F6F-477B-9F35-5CA2735F06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152280"/>
            <a:ext cx="8763120" cy="10670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ботаем с таб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1981080"/>
          <a:ext cx="8839440" cy="3476880"/>
        </p:xfrm>
        <a:graphic>
          <a:graphicData uri="http://schemas.openxmlformats.org/drawingml/2006/table">
            <a:tbl>
              <a:tblPr/>
              <a:tblGrid>
                <a:gridCol w="2724120"/>
                <a:gridCol w="2038680"/>
                <a:gridCol w="2038320"/>
                <a:gridCol w="20383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чная обл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откры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 учён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и значение от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8B1-EF12-4E4D-9763-7BF957BD611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35D12-B64F-4A7E-9014-2239692A86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04120" y="204120"/>
            <a:ext cx="873576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чины быстрого развития на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1898640" cy="2438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09680" y="1447920"/>
            <a:ext cx="6782040" cy="3352680"/>
          </a:xfrm>
          <a:prstGeom prst="cloudCallout">
            <a:avLst>
              <a:gd name="adj1" fmla="val -41291"/>
              <a:gd name="adj2" fmla="val 35462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же в  XIX – начале XX века так активно начинают развива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личные нау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4800600"/>
            <a:ext cx="5334120" cy="175248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 на вопрос найдё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тав пункт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стр. 3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4A7-C665-4E6E-8E5F-BEA6450C5F9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EF14F-3D2F-438D-BAA6-1F5B63E985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08080" y="207720"/>
            <a:ext cx="872784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чины быстрого развития на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ма жизнь требовала познать законы и использовать их в производ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Коренные изменения в сознании и мышлении людей Нового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70F-441A-4EB2-9A19-413613B3C0C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6F1A0-0ECE-4DC2-82C5-EA4F8AC0D6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343400" y="144756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831 году Майкл Фарадей открыл явление электромагнитной индукции, что позволило приступить к созданию электродвигателя. Он стал членом Королевского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84400" y="207720"/>
            <a:ext cx="857520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 Повелитель молн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M Faraday Th Phillips oil 1842.jpg"/>
          <p:cNvPicPr/>
          <p:nvPr/>
        </p:nvPicPr>
        <p:blipFill>
          <a:blip r:embed="rId2"/>
          <a:stretch/>
        </p:blipFill>
        <p:spPr>
          <a:xfrm>
            <a:off x="228600" y="1447920"/>
            <a:ext cx="3941640" cy="5105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280" y="6248520"/>
            <a:ext cx="3962520" cy="6094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йкл Фар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8AF-A845-48A2-A97B-B3CFA376659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F70B0-00A3-493B-AF3E-64E07C93D2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47960" y="13712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860-х годах он разработал электромагнитную теорию света, обобщившую результаты опытов и теоретических построений многих физиков различных стран в области электромагнит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04120" y="204120"/>
            <a:ext cx="858312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File:James Clerk Maxwell.png"/>
          <p:cNvPicPr/>
          <p:nvPr/>
        </p:nvPicPr>
        <p:blipFill>
          <a:blip r:embed="rId2"/>
          <a:stretch/>
        </p:blipFill>
        <p:spPr>
          <a:xfrm>
            <a:off x="270000" y="1447920"/>
            <a:ext cx="4302000" cy="5172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6172200"/>
            <a:ext cx="4267080" cy="685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жеймс Карл Максве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5041-6D9E-4494-9713-8870AECB2A5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E566B-29E9-401D-88AF-C122C38175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гласно его теории, в природе существуют  невидимые волны, которые передают электричество в пространстве. Свет – разновидность электромагнитных колеб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4159440" cy="5029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6172200"/>
            <a:ext cx="4038480" cy="6858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ксвелл с цветов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лчком в р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04120" y="204120"/>
            <a:ext cx="858312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D05-34B5-4FD5-8837-956B5323138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EC4DE-A97B-4F2E-BFC9-04C81FEA11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9-16T09:40:2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