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55E-BECF-4455-BFC4-3E5BCB45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F86-6522-45C8-AEAC-F9EF1888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38B-1602-49F5-B0BB-2797C1ED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1E3-EECA-41B5-8A02-97FD7B22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C0F-2F91-40BD-92A3-05ECA353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2A3-BC46-4A42-9AAD-1F9E0407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57B-9B19-4F2A-9058-64A5330F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D2E-5127-4FE5-BD12-3966D459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7E4-C77F-40B1-9559-87B8A677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08E-5C16-44AF-98B7-314E1DC8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A9E-CADC-4D58-9720-2C3CD44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3A7-44DB-458B-BA99-28C2497E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F13B-1FC7-437E-8137-D57F254EC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457200"/>
            <a:ext cx="883944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рядок аттест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агогических работник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сударственных и муниципальны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189000"/>
            <a:ext cx="784836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ВА вида аттестаци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280" y="620640"/>
          <a:ext cx="8839440" cy="6151680"/>
        </p:xfrm>
        <a:graphic>
          <a:graphicData uri="http://schemas.openxmlformats.org/drawingml/2006/table">
            <a:tbl>
              <a:tblPr/>
              <a:tblGrid>
                <a:gridCol w="4953240"/>
                <a:gridCol w="38862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ОВО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КОГО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тех, кто не объявил о своем желании пройти аттестацию на квалификационную категорию. Руководитель обязан ПРЕДСТАВИТЬ таких работников на аттестацию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на соответствие долж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КОГ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всех, желающих пройти аттестацию, педагогических работников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ПРЕДСТАВЛЕНИЮ  на соответствие должности м.б. аттестован работник, проработавший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2 лет на данной долж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огут быть включены в аттестацию «по представлению»  беременные женщин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нщины, находящиеся в отпуске по беременности и родам;  педагогические работники, находящиеся в отпуске по уходу за ребенком до достижения им возраста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первую категорию – нет ограничени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высшую категорию можно подавать только в случае, если на первой категории работник  проработал не менее 2 ле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истек срок действия предыдущей «добровольной аттестации» – можно подавать заявление только на аттестацию по первой категори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и ПОСЛЕД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лучае неуспешного прохождения аттестации работник  может быть уволен, как несоответствующий по своей квалификации занимаемой должности ( ст. 81 ТК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и ПОСЛЕД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лучае неуспешного прохождения аттестации  на первую категорию работник должен быть аттестован  по «ПРЕДСТАВЛЕНИЮ»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340000" y="33336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304920"/>
            <a:ext cx="486000" cy="576000"/>
          </a:xfrm>
          <a:prstGeom prst="downArrow">
            <a:avLst>
              <a:gd name="adj1" fmla="val 50000"/>
              <a:gd name="adj2" fmla="val 296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53352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9072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педагогические работники, включая проработавших в занимаемой должности менее 2 лет, беременных женщин, женщин, находящиеся в отпусках по беременности и родам, по уходу за ребенком до достижения им возраста 3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828800"/>
            <a:ext cx="434340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79132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¹ форма заявления прилагаетс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³ форма портфолио профессиональных достижений педагогического работника прилаг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айде №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51460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необходим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81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ать заявление¹ в аттестационную комиссию Комитета по образованию² по адре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3048120"/>
            <a:ext cx="1600200" cy="41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рассмотрения заявления 1 меся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657600"/>
            <a:ext cx="6324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едоставить портфолио профессиональных достижений педагогического работника³ в аттестационную комиссию Комитета по образованию (ул. Ломоносова, д.11-13, каб. № 426) в день подачи заявления либо в месячный срок после подачи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3657600"/>
            <a:ext cx="182880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прохождения аттестации не должен превышать 2 меся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80060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экспертизы портфолио профессиональных достижений педагогического работника³ для установления соответствия уровня его квалификации требованиям, предъявляемым к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5410080"/>
            <a:ext cx="7620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192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743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209680" y="2590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28600"/>
            <a:ext cx="4572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е 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 на 01.01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2380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2362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работавшие в занимаемой должности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мене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914400"/>
            <a:ext cx="6095880" cy="93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еременные женщ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женщины, находящиеся в отпуске по беременности и род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, находящиеся в отпуске по уходу за ребенком до достижения им возраста 3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ранее, чем через 2 года после их выхода из указанных отпу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2057400"/>
            <a:ext cx="632484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представлению работодателя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БЯЗА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дин раз в 5 лет пройти аттестацию с целью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дтверждения соответствия занимаемой долж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78160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¹ форма представления прилагаетс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³ демоверсия вопросов для компьютерного тестирования прилагаетс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слайде №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0968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666880"/>
            <a:ext cx="5181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работодатель оформляет представление на педагогического работ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2971800"/>
            <a:ext cx="259092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 позднее чем за 1 месяц до дня проведения аттес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1911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ботодатель доводит до сведения педагогического работника информацию о дате, месте и времени проведения его аттес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4114800"/>
            <a:ext cx="1828800" cy="45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 позднее чем за 1 месяц до начала проведения аттес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800600"/>
            <a:ext cx="9144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компьютерного тестирования³ осуществляется по адресу: ул. 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5334120"/>
            <a:ext cx="4419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52280"/>
            <a:ext cx="85341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е 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 на 01.01.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и не изъявивших желание проходить (или не прошедших) аттестацию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для установления уровня их квалификации требованиям, предъявляемым к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990720"/>
            <a:ext cx="23623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295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048120"/>
            <a:ext cx="5715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работодатель знакомит педагогического работника с представлением под роспи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429000"/>
            <a:ext cx="66294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ботодатель направляет представление в аттестационную комиссию Комитета по образованию² (ул. Ломоносова, д.11-13, каб. № 426), где получает информацию о дате, месте и времени проведения аттестации педагогического работн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3623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2096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51920" y="2286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286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819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5486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609480"/>
            <a:ext cx="44197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, которы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вперв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свое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1981080"/>
            <a:ext cx="281952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8160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¹ форма заявления прилагаетс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³ форма портфолио профессиональных достижений педагогического работника прилаг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айде №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81952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необходим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2767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ать заявление¹ в аттестационную комиссию Комитета по образованию² по адре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3200400"/>
            <a:ext cx="1600200" cy="41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рассмотрения заявления 1 меся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9880"/>
            <a:ext cx="6324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едоставить портфолио профессиональных достижений педагогического работника³ в аттестационную комиссию Комитета по образованию (ул. Ломоносова, д.11-13, каб. № 426) в день подачи заявления либо в месячный срок после подачи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3886200"/>
            <a:ext cx="182880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прохождения аттестации не должен превышать 2 меся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79124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экспертизы портфолио профессиональных достижений педагогического работника³ для установления соответствия уровня его квалификации требованиям, предъявляемым к заявленн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400720"/>
            <a:ext cx="7620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5192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5248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28600"/>
            <a:ext cx="4572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первую квалификационную категорию на 01.01.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09480"/>
            <a:ext cx="1600200" cy="9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е менее 2 лет назад, но не более 5 л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азад (или более 5 лет назад при условии непрерывн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1143000"/>
            <a:ext cx="16002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нее 2 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1828800"/>
            <a:ext cx="1600200" cy="60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заявление на высшую категорию  подава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могут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371600"/>
            <a:ext cx="16002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981080"/>
            <a:ext cx="327636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СШ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680" y="2971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219320"/>
            <a:ext cx="2971800" cy="586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позднее чем за 3 месяца до оконч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рока действия имеющейся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864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81480" y="1523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057400" y="838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609480"/>
            <a:ext cx="44197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, которы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США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последний ра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рисвое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1219320"/>
            <a:ext cx="281952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78160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¹ форма заявления прилагаетс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³ форма портфолио профессиональных достижений педагогического работника прилаг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айде №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81952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необходим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2767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ать заявление¹ в аттестационную комиссию Комитета по образованию² по адре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. Антоненко, д.8, каб. № 39 или ул. 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200400"/>
            <a:ext cx="1600200" cy="41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рассмотрения заявления 1 меся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809880"/>
            <a:ext cx="6324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едоставить портфолио профессиональных достижений педагогического работника³ в аттестационную комиссию Комитета по образованию (ул. Ломоносова, д.11-13, каб. № 426) в день подачи заявления либо в месячный срок после подачи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886200"/>
            <a:ext cx="182880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прохождения аттестации не должен превышать 2 меся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79124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экспертизы портфолио профессиональных достижений педагогического работника³ для установления соответствия уровня его квалификации требованиям, предъявляемым к заявленн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400720"/>
            <a:ext cx="7620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5192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248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228600"/>
            <a:ext cx="4952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высшую квалификационную категорию на 01.01.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143000"/>
            <a:ext cx="1600200" cy="22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 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1143000"/>
            <a:ext cx="16002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более 5  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1828800"/>
            <a:ext cx="1600200" cy="60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явление на 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высшую категори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подавать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могут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2057400"/>
            <a:ext cx="327636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СШ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990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752480"/>
            <a:ext cx="2971800" cy="586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позднее чем за 3 месяца до оконч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рока действия имеющейся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1523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09320" y="2895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514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5440" y="2590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00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134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38280" y="228600"/>
            <a:ext cx="38894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ешения аттестационной комисси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609480"/>
            <a:ext cx="33530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подтверждении соответствия занимаемой долж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609480"/>
            <a:ext cx="4114800" cy="58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установлении соответствия уровня квалификации требованиям, предъявляемым к первой или высшей квалификационным категор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295280"/>
            <a:ext cx="1295280" cy="8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ответствует занимаемой должности (указывается должность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295280"/>
            <a:ext cx="1752480" cy="8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Е СООТВЕТСТВУЕ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занимаемой должности (указывается должность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447920"/>
            <a:ext cx="1524240" cy="173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овень квалификации (указывается должность) СООТВЕТСТВУЕТ требованиям, предъявляемым к первой (высшей)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1447920"/>
            <a:ext cx="1676520" cy="173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овень квалификации (указывается должность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Е СООТВЕТСТВУЕ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требованиям, предъявляемым к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514600"/>
            <a:ext cx="1676520" cy="241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жет быть расторгнут трудовой договор с работником (п.3 ч.1 ст.81 ТК  РФ). Увольнение допускается если невозможен перевод работника с его письменного согласия (с учетом состояния его здоровья) на др. имеющуюся у работодателя работ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ч.3 ст.81 ТК  РФ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5029200"/>
            <a:ext cx="1295640" cy="1243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храняется первая квалификационная категория до завершения срока ее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191120"/>
            <a:ext cx="144792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сутствии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4952880"/>
            <a:ext cx="175248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тестация на первую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505320"/>
            <a:ext cx="175248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тверждение соответствия занимаемой долж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00200" y="380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80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38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38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1447920"/>
            <a:ext cx="1676160" cy="173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овень квалификации (указывается должность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Е СООТВЕТСТВУЕ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требованиям, предъявляемым к 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582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345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4191120"/>
            <a:ext cx="144792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личие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11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200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495320" y="914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06:37:54Z</dcterms:created>
  <dc:creator>тест</dc:creator>
  <dc:description/>
  <dc:language>en-US</dc:language>
  <cp:lastModifiedBy>тест</cp:lastModifiedBy>
  <dcterms:modified xsi:type="dcterms:W3CDTF">2011-01-15T06:53:45Z</dcterms:modified>
  <cp:revision>23</cp:revision>
  <dc:subject/>
  <dc:title>Презентация PowerPoint</dc:title>
</cp:coreProperties>
</file>