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891C7-A0C4-42A7-983C-B83702053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79F26-D8D2-4B8C-9970-AED686F63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DD403-3E16-48EB-B822-6C26FC284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7E5AC-9EF3-4FB1-9CCD-532C886A7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336B0-0C2E-4A5C-9D05-51E05B6AC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7B733-65FF-4F17-80A2-7AAF43BB5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35A9E-E40C-47EE-9FBD-133A8035F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842C9-62FE-4816-A1BF-C5BC7FEDB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996E8-307F-43CA-8B0F-42A4C4874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83986-C52D-43C2-8D4F-64585D5FD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6D0A9-516D-420D-A26C-C0F491B3E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E79BE-A7CF-4DA2-937D-61FE8BD70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B0517-ADDA-4308-AB28-EB9297F3AF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2280" y="457200"/>
            <a:ext cx="8839440" cy="49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Порядок аттестации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педагогических работников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государственных и муниципальных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образовательных учреждени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84360" y="189000"/>
            <a:ext cx="7848360" cy="4316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ДВА вида аттестации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152280" y="620640"/>
          <a:ext cx="8839440" cy="6151680"/>
        </p:xfrm>
        <a:graphic>
          <a:graphicData uri="http://schemas.openxmlformats.org/drawingml/2006/table">
            <a:tbl>
              <a:tblPr/>
              <a:tblGrid>
                <a:gridCol w="4953240"/>
                <a:gridCol w="3886200"/>
              </a:tblGrid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ЯЗАТЕЛЬН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БРОВОЛЬН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0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ЛЯ КОГО?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ля тех, кто не объявил о своем желании пройти аттестацию на квалификационную категорию. Руководитель обязан ПРЕДСТАВИТЬ таких работников на аттестацию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«на соответствие должности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ЛЯ КОГО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ля всех, желающих пройти аттестацию, педагогических работников 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1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ГРАНИЧЕНИЯ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 ПРЕДСТАВЛЕНИЮ  на соответствие должности м.б. аттестован работник, проработавший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 менее 2 лет на данной должности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 могут быть включены в аттестацию «по представлению»  беременные женщины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женщины, находящиеся в отпуске по беременности и родам;  педагогические работники, находящиеся в отпуске по уходу за ребенком до достижения им возраста 3 л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ГРАНИЧЕНИЯ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 первую категорию – нет ограничений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 высшую категорию можно подавать только в случае, если на первой категории работник  проработал не менее 2 лет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сли истек срок действия предыдущей «добровольной аттестации» – можно подавать заявление только на аттестацию по первой категории.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6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ЕЗУЛЬТАТЫ и ПОСЛЕДСТВИЯ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 случае неуспешного прохождения аттестации работник  может быть уволен, как несоответствующий по своей квалификации занимаемой должности ( ст. 81 ТК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ЕЗУЛЬТАТЫ и ПОСЛЕДСТВИЯ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 случае неуспешного прохождения аттестации  на первую категорию работник должен быть аттестован  по «ПРЕДСТАВЛЕНИЮ».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" name=""/>
          <p:cNvSpPr/>
          <p:nvPr/>
        </p:nvSpPr>
        <p:spPr>
          <a:xfrm>
            <a:off x="2340000" y="333360"/>
            <a:ext cx="485640" cy="576360"/>
          </a:xfrm>
          <a:prstGeom prst="downArrow">
            <a:avLst>
              <a:gd name="adj1" fmla="val 50000"/>
              <a:gd name="adj2" fmla="val 2967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781680" y="304920"/>
            <a:ext cx="486000" cy="576000"/>
          </a:xfrm>
          <a:prstGeom prst="downArrow">
            <a:avLst>
              <a:gd name="adj1" fmla="val 50000"/>
              <a:gd name="adj2" fmla="val 2963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52280"/>
            <a:ext cx="9144000" cy="67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590920" y="53352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152280"/>
            <a:ext cx="9144000" cy="67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04920" y="990720"/>
            <a:ext cx="8610480" cy="45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Все педагогические работники, включая проработавших в занимаемой должности менее 2 лет, беременных женщин, женщин, находящиеся в отпусках по беременности и родам, по уходу за ребенком до достижения им возраста 3 ле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14600" y="1828800"/>
            <a:ext cx="4343400" cy="459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по собственному желанию могут подать заявление¹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на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ПЕРВУЮ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квалификационную категорию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5791320"/>
            <a:ext cx="9144000" cy="10674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¹ форма заявления прилагается.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² для аттестации педагогических работников государственных образовательных учреждений формируется единая аттестационная комиссия Комитета по образованию.Создание иных комиссий (образовательного учреждения, района) не допускаетс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³ форма портфолио профессиональных достижений педагогического работника прилагаетс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* варианты решений аттестационной комиссии см. на </a:t>
            </a: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слайде № 6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2514600"/>
            <a:ext cx="175248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для  этого необходимо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4920" y="3048120"/>
            <a:ext cx="6324480" cy="45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 подать заявление¹ в аттестационную комиссию Комитета по образованию² по адресу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Ломоносова, д.11-13, каб. № 42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238880" y="3048120"/>
            <a:ext cx="1600200" cy="41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срок рассмотрения заявления 1 месяц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04920" y="3657600"/>
            <a:ext cx="6324480" cy="641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 предоставить портфолио профессиональных достижений педагогического работника³ в аттестационную комиссию Комитета по образованию (ул. Ломоносова, д.11-13, каб. № 426) в день подачи заявления либо в месячный срок после подачи заявл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010280" y="3657600"/>
            <a:ext cx="1828800" cy="641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срок прохождения аттестации не должен превышать 2 месяц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04920" y="4800600"/>
            <a:ext cx="8610480" cy="45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валификационное испытание в форме экспертизы портфолио профессиональных достижений педагогического работника³ для установления соответствия уровня его квалификации требованиям, предъявляемым к первой квалификационной категор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914400" y="5410080"/>
            <a:ext cx="762012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Решение аттестационной комиссии Комитета по образованию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151920" y="27432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52280" y="274320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52280" y="327672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2280" y="419112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629400" y="32767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629400" y="3962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4495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724280" y="52578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495680" y="1447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495680" y="22860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2209680" y="259092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057400" y="228600"/>
            <a:ext cx="457200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4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Блок-схема аттестации педагогических работников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Times New Roman"/>
              </a:rPr>
              <a:t>не имеющих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квалификационную категорию на 01.01.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8229600" y="0"/>
            <a:ext cx="91440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Слайд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0" y="142920"/>
            <a:ext cx="9144000" cy="67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0920" y="52380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0" y="152280"/>
            <a:ext cx="9144000" cy="67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28600" y="1523880"/>
            <a:ext cx="2362320" cy="45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проработавшие в занимаемой должности </a:t>
            </a:r>
            <a:r>
              <a:rPr b="0" lang="en-US" sz="1200" spc="-1" strike="noStrike">
                <a:solidFill>
                  <a:srgbClr val="cc3300"/>
                </a:solidFill>
                <a:latin typeface="Times New Roman"/>
              </a:rPr>
              <a:t>не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cc3300"/>
                </a:solidFill>
                <a:latin typeface="Times New Roman"/>
              </a:rPr>
              <a:t>менее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2 ле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743200" y="914400"/>
            <a:ext cx="6095880" cy="933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беременные женщины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женщины, находящиеся в отпуске по беременности и родам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педагогические работники, находящиеся в отпуске по уходу за ребенком до достижения им возраста 3 ле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3300"/>
                </a:solidFill>
                <a:latin typeface="Times New Roman"/>
              </a:rPr>
              <a:t>Не ранее, чем через 2 года после их выхода из указанных отпуск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666880" y="2057400"/>
            <a:ext cx="6324840" cy="459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по представлению работодателя¹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ОБЯЗАНЫ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один раз в 5 лет пройти аттестацию с целью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подтверждения соответствия занимаемой должн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0" y="5781600"/>
            <a:ext cx="9144000" cy="10674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¹ форма представления прилагается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² для аттестации педагогических работников государственных образовательных учреждений формируется единая аттестационная комиссия Комитета по образованию.Создание иных комиссий (образовательного учреждения, района) не допускаетс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³ демоверсия вопросов для компьютерного тестирования прилагается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 варианты решений аттестационной комиссии см. на </a:t>
            </a: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слайде №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57200" y="2209680"/>
            <a:ext cx="175248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для  этого 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2666880"/>
            <a:ext cx="518148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работодатель оформляет представление на педагогического работни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24480" y="2971800"/>
            <a:ext cx="2590920" cy="34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не позднее чем за 1 месяц до дня проведения аттеста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28600" y="4191120"/>
            <a:ext cx="6324480" cy="45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работодатель доводит до сведения педагогического работника информацию о дате, месте и времени проведения его аттеста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010280" y="4114800"/>
            <a:ext cx="1828800" cy="458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не позднее чем за 1 месяц до начала проведения аттеста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4800600"/>
            <a:ext cx="914400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валификационное испытание в форме компьютерного тестирования³ осуществляется по адресу: ул. Ломоносова, д.11-13, каб. № 42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724280" y="5334120"/>
            <a:ext cx="441972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Решение аттестационной комиссии Комитета по образованию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04920" y="152280"/>
            <a:ext cx="853416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Блок-схема аттестации педагогических работников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3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Times New Roman"/>
              </a:rPr>
              <a:t>не имеющих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квалификационную категорию на 01.01.2011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Times New Roman"/>
              </a:rPr>
              <a:t>и не изъявивших желание проходить (или не прошедших) аттестацию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для установления уровня их квалификации требованиям, предъявляемым к первой квалификационной категор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52280" y="990720"/>
            <a:ext cx="236232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педагогические работни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514600" y="11430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447920" y="12952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3048120"/>
            <a:ext cx="571500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работодатель знакомит педагогического работника с представлением под роспис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3429000"/>
            <a:ext cx="6629400" cy="641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. работодатель направляет представление в аттестационную комиссию Комитета по образованию² (ул. Ломоносова, д.11-13, каб. № 426), где получает информацию о дате, месте и времени проведения аттестации педагогического работника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715000" y="18288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362320" y="2133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2362320" y="1981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22096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151920" y="22860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2280" y="228600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2280" y="281952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52280" y="320040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52280" y="373392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52280" y="457200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943600" y="32004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55308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590920" y="4648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124080" y="548640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3124080" y="51055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229600" y="0"/>
            <a:ext cx="91440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Слайд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142920"/>
            <a:ext cx="9144000" cy="67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142920"/>
            <a:ext cx="9144000" cy="67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514600" y="609480"/>
            <a:ext cx="4419720" cy="45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педагогические работники, которым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ПЕРВАЯ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квалификационная категория </a:t>
            </a:r>
            <a:r>
              <a:rPr b="0" lang="en-US" sz="1200" spc="-1" strike="noStrike">
                <a:solidFill>
                  <a:srgbClr val="cc3300"/>
                </a:solidFill>
                <a:latin typeface="Times New Roman"/>
              </a:rPr>
              <a:t>впервые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присвоена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038480" y="1981080"/>
            <a:ext cx="2819520" cy="641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по собственному желанию могут подать заявление¹ на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ПЕРВУЮ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квалификационную категорию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5781600"/>
            <a:ext cx="9144000" cy="10674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¹ форма заявления прилагается.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² для аттестации педагогических работников государственных образовательных учреждений формируется единая аттестационная комиссия Комитета по образованию.Создание иных комиссий (образовательного учреждения, района) не допускаетс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³ форма портфолио профессиональных достижений педагогического работника прилагаетс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* варианты решений аттестационной комиссии см. на </a:t>
            </a: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слайде № 6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" y="2819520"/>
            <a:ext cx="175248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для  этого необходимо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04920" y="3276720"/>
            <a:ext cx="6324480" cy="45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 подать заявление¹ в аттестационную комиссию Комитета по образованию² по адресу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. Ломоносова, д.11-13, каб. № 42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238880" y="3200400"/>
            <a:ext cx="1600200" cy="41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срок рассмотрения заявления 1 месяц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4920" y="3809880"/>
            <a:ext cx="6324480" cy="641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 предоставить портфолио профессиональных достижений педагогического работника³ в аттестационную комиссию Комитета по образованию (ул. Ломоносова, д.11-13, каб. № 426) в день подачи заявления либо в месячный срок после подачи заявл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010280" y="3886200"/>
            <a:ext cx="1828800" cy="641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срок прохождения аттестации не должен превышать 2 месяц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04920" y="4791240"/>
            <a:ext cx="8610480" cy="45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валификационное испытание в форме экспертизы портфолио профессиональных достижений педагогического работника³ для установления соответствия уровня его квалификации требованиям, предъявляемым к заявленной квалификационной категор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14400" y="5400720"/>
            <a:ext cx="762012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Решение аттестационной комиссии Комитета по образованию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151920" y="2971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2280" y="297180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52280" y="350532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52280" y="441972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629400" y="34290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629400" y="41911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724280" y="52484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057400" y="228600"/>
            <a:ext cx="457200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4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Блок-схема аттестации педагогических работников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Times New Roman"/>
              </a:rPr>
              <a:t>имеющих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первую квалификационную категорию на 01.01.2011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57200" y="609480"/>
            <a:ext cx="1600200" cy="923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Times New Roman"/>
              </a:rPr>
              <a:t>Не менее 2 лет назад, но не более 5 лет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cc3300"/>
                </a:solidFill>
                <a:latin typeface="Times New Roman"/>
              </a:rPr>
              <a:t>назад (или более 5 лет назад при условии непрерывности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238880" y="1143000"/>
            <a:ext cx="1600200" cy="239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менее 2 лет наза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077320" y="13716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238880" y="1828800"/>
            <a:ext cx="1600200" cy="604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Times New Roman"/>
              </a:rPr>
              <a:t>заявление на высшую категорию  подавать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cc3300"/>
                </a:solidFill>
                <a:latin typeface="Times New Roman"/>
              </a:rPr>
              <a:t>не могут</a:t>
            </a:r>
            <a:r>
              <a:rPr b="0" lang="en-US" sz="1800" spc="-1" strike="noStrike">
                <a:solidFill>
                  <a:srgbClr val="cc33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934320" y="9144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077320" y="9144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334120" y="1371600"/>
            <a:ext cx="1600200" cy="239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Times New Roman"/>
              </a:rPr>
              <a:t>5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лет наза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04920" y="1981080"/>
            <a:ext cx="3276360" cy="6411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по собственному желанию могут подать заявление¹ на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ВЫСШУЮ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квалификационную категорию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2209680" y="297180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971800" y="2666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09680" y="1219320"/>
            <a:ext cx="2971800" cy="58644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3300"/>
                </a:solidFill>
                <a:latin typeface="Times New Roman"/>
              </a:rPr>
              <a:t>не позднее чем за 3 месяца до окончания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срока действия имеющейся квалификационной категор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5486400" y="2590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8229600" y="0"/>
            <a:ext cx="91440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Слайд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095880" y="1600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181480" y="152388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819520" y="18288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057400" y="8380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95880" y="1066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19320" y="1523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724280" y="44197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0" y="142920"/>
            <a:ext cx="9144000" cy="67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152280"/>
            <a:ext cx="9144000" cy="67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14600" y="609480"/>
            <a:ext cx="4419720" cy="45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педагогические работники, которым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ВЫСШАЯ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квалификационная категория </a:t>
            </a:r>
            <a:r>
              <a:rPr b="0" lang="en-US" sz="1200" spc="-1" strike="noStrike">
                <a:solidFill>
                  <a:srgbClr val="cc3300"/>
                </a:solidFill>
                <a:latin typeface="Times New Roman"/>
              </a:rPr>
              <a:t>последний ра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присвоена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114800" y="1219320"/>
            <a:ext cx="2819520" cy="641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по собственному желанию могут подать заявление¹ на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ПЕРВУЮ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квалификационную категорию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5781600"/>
            <a:ext cx="9144000" cy="10674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¹ форма заявления прилагается.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² для аттестации педагогических работников государственных образовательных учреждений формируется единая аттестационная комиссия Комитета по образованию.Создание иных комиссий (образовательного учреждения, района) не допускаетс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³ форма портфолио профессиональных достижений педагогического работника прилагаетс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* варианты решений аттестационной комиссии см. на </a:t>
            </a: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слайде № 6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57200" y="2819520"/>
            <a:ext cx="175248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для  этого необходимо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276720"/>
            <a:ext cx="6324480" cy="45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 подать заявление¹ в аттестационную комиссию Комитета по образованию² по адресу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ер. Антоненко, д.8, каб. № 39 или ул. Ломоносова, д.11-13, каб. № 42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238880" y="3200400"/>
            <a:ext cx="1600200" cy="41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срок рассмотрения заявления 1 месяц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04920" y="3809880"/>
            <a:ext cx="6324480" cy="641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 предоставить портфолио профессиональных достижений педагогического работника³ в аттестационную комиссию Комитета по образованию (ул. Ломоносова, д.11-13, каб. № 426) в день подачи заявления либо в месячный срок после подачи заявл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3886200"/>
            <a:ext cx="1828800" cy="641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срок прохождения аттестации не должен превышать 2 месяц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04920" y="4791240"/>
            <a:ext cx="8610480" cy="45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валификационное испытание в форме экспертизы портфолио профессиональных достижений педагогического работника³ для установления соответствия уровня его квалификации требованиям, предъявляемым к заявленной квалификационной категор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914400" y="5400720"/>
            <a:ext cx="762012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Решение аттестационной комиссии Комитета по образованию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151920" y="2971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52280" y="297180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52280" y="350532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52280" y="441972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629400" y="34290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629400" y="41911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724280" y="52484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057400" y="228600"/>
            <a:ext cx="495288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4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Блок-схема аттестации педагогических работников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Times New Roman"/>
              </a:rPr>
              <a:t>имеющих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высшую квалификационную категорию на 01.01.2011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57200" y="1143000"/>
            <a:ext cx="1600200" cy="22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Times New Roman"/>
              </a:rPr>
              <a:t>5 лет наза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238880" y="1143000"/>
            <a:ext cx="1600200" cy="239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Times New Roman"/>
              </a:rPr>
              <a:t>  </a:t>
            </a:r>
            <a:r>
              <a:rPr b="1" lang="en-US" sz="1200" spc="-1" strike="noStrike">
                <a:solidFill>
                  <a:srgbClr val="cc3300"/>
                </a:solidFill>
                <a:latin typeface="Times New Roman"/>
              </a:rPr>
              <a:t>более 5  лет наза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8077320" y="13716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238880" y="1828800"/>
            <a:ext cx="1600200" cy="604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заявление на </a:t>
            </a:r>
            <a:r>
              <a:rPr b="1" lang="en-US" sz="1200" spc="-1" strike="noStrike">
                <a:solidFill>
                  <a:srgbClr val="cc3300"/>
                </a:solidFill>
                <a:latin typeface="Times New Roman"/>
              </a:rPr>
              <a:t>высшую категорию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подавать </a:t>
            </a:r>
            <a:r>
              <a:rPr b="0" lang="en-US" sz="1200" spc="-1" strike="noStrike">
                <a:solidFill>
                  <a:srgbClr val="cc3300"/>
                </a:solidFill>
                <a:latin typeface="Times New Roman"/>
              </a:rPr>
              <a:t>не могут</a:t>
            </a:r>
            <a:r>
              <a:rPr b="0" lang="en-US" sz="1800" spc="-1" strike="noStrike">
                <a:solidFill>
                  <a:srgbClr val="cc33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934320" y="9144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8077320" y="9144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276720" y="2057400"/>
            <a:ext cx="3276360" cy="6411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по собственному желанию могут подать заявление¹ на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ВЫСШУЮ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квалификационную категорию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219320" y="9907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219320" y="99072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52280" y="1752480"/>
            <a:ext cx="2971800" cy="58644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3300"/>
                </a:solidFill>
                <a:latin typeface="Times New Roman"/>
              </a:rPr>
              <a:t>не позднее чем за 3 месяца до окончания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срока действия имеющейся квалификационной категор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934320" y="1523880"/>
            <a:ext cx="7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010280" y="152388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2209320" y="2895480"/>
            <a:ext cx="4800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143000" y="1447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143000" y="2362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143000" y="2514600"/>
            <a:ext cx="2133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685440" y="2590920"/>
            <a:ext cx="2590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85800" y="2590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229600" y="0"/>
            <a:ext cx="91440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Слайд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4495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2700360" y="134136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700360" y="134136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2438280" y="228600"/>
            <a:ext cx="3889440" cy="231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решения аттестационной комиссии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52280" y="609480"/>
            <a:ext cx="3353040" cy="45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при подтверждении соответствия занимаемой должности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876920" y="609480"/>
            <a:ext cx="4114800" cy="58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при установлении соответствия уровня квалификации требованиям, предъявляемым к первой или высшей квалификационным категория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133720" y="1295280"/>
            <a:ext cx="1295280" cy="871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соответствует занимаемой должности (указывается должность)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28600" y="1295280"/>
            <a:ext cx="1752480" cy="871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НЕ СООТВЕТСТВУЕТ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занимаемой должности (указывается должность)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467480" y="1447920"/>
            <a:ext cx="1524240" cy="173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уровень квалификации (указывается должность) СООТВЕТСТВУЕТ требованиям, предъявляемым к первой (высшей) квалификационной категор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657600" y="1447920"/>
            <a:ext cx="1676520" cy="173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уровень квалификации (указывается должность)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НЕ СООТВЕТСТВУЕТ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требованиям, предъявляемым к первой квалификационной категор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28600" y="2514600"/>
            <a:ext cx="1676520" cy="241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может быть расторгнут трудовой договор с работником (п.3 ч.1 ст.81 ТК  РФ). Увольнение допускается если невозможен перевод работника с его письменного согласия (с учетом состояния его здоровья) на др. имеющуюся у работодателя работу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 ч.3 ст.81 ТК  РФ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696080" y="5029200"/>
            <a:ext cx="1295640" cy="12430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сохраняется первая квалификационная категория до завершения срока ее действ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867280" y="4191120"/>
            <a:ext cx="1447920" cy="5864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отсутствии первой квалификационной категор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733920" y="4952880"/>
            <a:ext cx="1752480" cy="5864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аттестация на первую квалификационную категорию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990720" y="10666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733920" y="3505320"/>
            <a:ext cx="1752480" cy="5864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подтверждение соответствия занимаемой должности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8229600" y="0"/>
            <a:ext cx="91440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Слайд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666880" y="10666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990720" y="2209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1600200" y="3808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324480" y="380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380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238880" y="380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562720" y="1447920"/>
            <a:ext cx="1676160" cy="173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уровень квалификации (указывается должность)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НЕ СООТВЕТСТВУЕТ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требованиям, предъявляемым к высшей квалификационной категор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477120" y="365760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8458200" y="36576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534520" y="4800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543800" y="4191120"/>
            <a:ext cx="1447920" cy="5864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наличие первой квалификационной категор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72000" y="4572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72000" y="45720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4572000" y="4114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72000" y="441972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H="1">
            <a:off x="3200400" y="2819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200400" y="28195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971800" y="2514600"/>
            <a:ext cx="0" cy="2819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200400" y="38098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305920" y="1219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400800" y="1219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4495320" y="9144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495680" y="9144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477120" y="36576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781680" y="3200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971800" y="25146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971800" y="53341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26T06:37:54Z</dcterms:created>
  <dc:creator>тест</dc:creator>
  <dc:description/>
  <dc:language>en-US</dc:language>
  <cp:lastModifiedBy>тест</cp:lastModifiedBy>
  <dcterms:modified xsi:type="dcterms:W3CDTF">2011-01-15T06:53:45Z</dcterms:modified>
  <cp:revision>23</cp:revision>
  <dc:subject/>
  <dc:title>Презентация PowerPoint</dc:title>
</cp:coreProperties>
</file>