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D3AC-9963-4958-89A6-4265858FE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DD79-DDF9-4EB4-9F00-21C436D14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6814-4E3E-489A-A724-9F0E8210A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0B6E-1AA6-4C15-B475-566C44508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D4A18-EF9D-476F-8993-27134CA7C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C73B3-038C-469D-A4AA-478AFCFBC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75D63-8B28-46B4-9C8C-6457980F2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BA73C-0A43-482D-9E1B-A8EDCCFC8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866F4-7778-4FB1-9CB9-5F1FE7CD8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87157-1CD7-49C8-8537-4994CA1F0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D19E7-C134-4D98-A895-888C1F73A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606C-C583-4428-9C11-F83410171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4E369-D7B7-49EA-B554-E9BFF3A7B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A8498-4DDD-4138-833D-1534F0E89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6A9D6-2B3D-4C66-942B-930E119AF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AAABF-0308-4668-B39D-12B7B98A6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B77A7-9C87-4C2A-8431-B0BD8092E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4A74-EDC2-4F0B-B1EE-38E304904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3B03-3318-4691-8FD6-8EB835664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8E4D-73E6-44A9-88E5-533295F47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C5B7-6A64-4DD4-BA1F-E4E55D455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E032-8F08-4B2A-82D0-A96B8176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8912-EB56-4D8D-B116-A6488292D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CAFF-2660-4687-8F7E-D5A202AED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097A5-830A-439A-82DA-278F6F8D804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AD85C-7408-4EAE-9D15-58534B8F87B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floranimal.ru/" TargetMode="External"/><Relationship Id="rId2" Type="http://schemas.openxmlformats.org/officeDocument/2006/relationships/hyperlink" Target="http://www.tana.ucoz.ru/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Презентация к уроку биологии «Размножение, развитие и происхождение земноводных»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7 класс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33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66"/>
                </a:solidFill>
                <a:latin typeface="Arial"/>
              </a:rPr>
              <a:t>Подготовил Коровин С. И. учитель биологии и химии </a:t>
            </a: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I </a:t>
            </a:r>
            <a:r>
              <a:rPr b="0" lang="ru-RU" sz="1600" spc="-1" strike="noStrike">
                <a:solidFill>
                  <a:srgbClr val="006666"/>
                </a:solidFill>
                <a:latin typeface="Arial"/>
              </a:rPr>
              <a:t>категории.</a:t>
            </a: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ос. Чёбаково</a:t>
            </a:r>
            <a:endParaRPr b="0" lang="en-US" sz="12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009 г.</a:t>
            </a:r>
            <a:endParaRPr b="0" lang="en-US" sz="1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43280" y="26028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МОУ Чёбаковская СОШ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История происхождения земноводных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500720" y="3284640"/>
            <a:ext cx="4512960" cy="2889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971640" y="2698920"/>
            <a:ext cx="324000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Самые ранние земноводные жили около 370-350млн.лет назад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Произошли от одной из групп кистеперых рыб в середине девон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35640" y="262584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Древняя кистепёрая рыб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1E30-BADE-4016-8C98-214FC27A2CC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Древние земноводны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826920" y="2421000"/>
            <a:ext cx="4608720" cy="41893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867280" y="2997360"/>
            <a:ext cx="2592360" cy="16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Лабиринтодонты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жили в трясинных болотах, где не могли жить ни рыбы, ни другие животны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11ED-3AA5-4E50-BE27-595E4DA48C7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55640" y="0"/>
            <a:ext cx="4071960" cy="67420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292720" y="609480"/>
            <a:ext cx="32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Эволюция земноводных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35640" y="2492280"/>
            <a:ext cx="309708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Ихтиостегалии быстро вымерл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Лепоспондилии дали начало современным хвостатым и безногим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т батрахозавров произошли пресмыкающиес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8B8E-9700-4252-8A8C-E77716C39A7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одведём итог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35120" y="2349360"/>
            <a:ext cx="2805120" cy="43642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140360" y="2421000"/>
            <a:ext cx="4572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Назовите стадии развития лягушк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В чем сходство развития лягушки и рыбы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Чем схожи головастики и рыбы? О чем это говорит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Сделайте вывод о происхождении земноводных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0E28-59E0-4DC5-A321-A67332261EE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Вывод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87280" y="2349360"/>
            <a:ext cx="691380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Земноводные – раздельнополые животны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Яйца лишены защитных оболоче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Размножение и развитие возможно только в условиях избытка влаг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Оплодотворение наружно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Развитие с метаморфозом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Сходство головастика с рыбой – доказательство их происхождения от рыб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Произошли от древних кистеперых рыб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B715-6FEF-4DA7-AB58-46C2FA8314C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пасибо за активную работу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!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                    На дом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.Б. Захаров, Н.И.Сонин «Биология» 7 класс стр. 191 – 195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www.floranimal.r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http://www.tana.ucoz.r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FCB2-7A7F-473B-8ED2-DE6A5C85AA6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Мы собрались для того, чтоб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Выяснить особенности размножения и развития земноводных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Выяснить историю происхождения земноводных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8EC5-5498-4105-B659-9DF2518390D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Как мы будем работать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Мы будем находить ответы на вопросы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Как влияют сезонные изменения на жизнь земноводных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Как происходит размножение у земноводных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Как развиваются земноводные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Как на нашей планете появились земноводные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Результаты нашей работы мы будем заносить в тетрадь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5985-6F76-490D-A651-522F6015984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Влияние сезонных изменений на жизнь земноводных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Весна – размножение и развити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Лето – активный период, усиленное питани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Осень – поиск мест зимовк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Зима - спячк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659640" y="4365720"/>
            <a:ext cx="2233440" cy="16128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500720" y="4365720"/>
            <a:ext cx="2038320" cy="16304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4500720" y="2349360"/>
            <a:ext cx="2016000" cy="19432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6588000" y="2349360"/>
            <a:ext cx="2376720" cy="1900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57F5-4505-431E-B44F-94314844C51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Система органов размножения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187280" y="2320920"/>
            <a:ext cx="7272360" cy="4481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124C-39FA-4D09-AEE2-2082849ABFC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Размножение земноводных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. Стратегия первая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много икринок, много сперматозоидов, нет заботы о потомств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. Стратегия вторая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мало икринок, мало сперматозоидов, родители охраняют потомство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580000" y="4508640"/>
            <a:ext cx="2930760" cy="2205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580000" y="2276640"/>
            <a:ext cx="2952720" cy="2187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2606-0C76-45A8-8332-2BB34627935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Брачный период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55640" y="2276640"/>
            <a:ext cx="4530600" cy="30207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692600" y="3559320"/>
            <a:ext cx="4451400" cy="3298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083E-1B91-4E8A-9B9F-F2C1441BCD0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25480" y="324000"/>
            <a:ext cx="7797240" cy="8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Развитие земноводных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500720" y="2276640"/>
            <a:ext cx="4464000" cy="4464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826920" y="2781360"/>
            <a:ext cx="3600720" cy="27082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708360" y="5013360"/>
            <a:ext cx="1511280" cy="6476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4140000" y="3500280"/>
            <a:ext cx="1871640" cy="730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C7BB-A308-4E17-BC13-576D249758E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57520" y="500040"/>
            <a:ext cx="7733160" cy="13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Головастик очень похож на рыбу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826920" y="2349360"/>
            <a:ext cx="2725920" cy="37436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780000" y="2349360"/>
            <a:ext cx="5257800" cy="3743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BF24-5F18-4CBC-BDDF-586C1EEFEBC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9T07:11:28Z</dcterms:created>
  <dc:creator>Домашний</dc:creator>
  <dc:description/>
  <dc:language>en-US</dc:language>
  <cp:lastModifiedBy>Домашний</cp:lastModifiedBy>
  <dcterms:modified xsi:type="dcterms:W3CDTF">2009-04-11T13:22:34Z</dcterms:modified>
  <cp:revision>6</cp:revision>
  <dc:subject/>
  <dc:title>Презентация к уроку биологии «Размножение, развитие и происхождение земноводных» 7 класс</dc:title>
</cp:coreProperties>
</file>