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3CA-BFF7-4FA6-AF15-CEBCDA08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465-545D-4A42-B6A6-4D0CCA2D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FA5-D423-49E0-B61D-EAE2BD34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FB8-5925-4943-B31A-FC4DA146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84EF-3B7E-4E96-AED2-EF08F42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D92-CFF4-4080-8163-7FDF4E5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561-CBB4-4813-84E6-8EEDBA5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AA43-6BE3-4883-BE79-1D74BF2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23DB-E634-4D0C-A22C-DA0C4C0E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6EA0-C005-44DE-AC56-71C511E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FC37-D98A-448B-8922-78222DE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7AA-17EE-4ED1-802F-CAFC097C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3A08-BF1C-41CF-B5B8-F25C378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D872-0AE0-44EF-8FA4-79A6F8F5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1D3-95FA-4662-9DFF-29613834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5A07-87DE-493F-BD46-BC520FF8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CA34-B9CC-4C88-801F-8E3D2076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A10-59DF-4E38-AAA4-7052270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9D6-8BC4-4C3E-A44B-1343EB5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BC0-FA2D-441D-BF87-A10507F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C7A-8EA4-4FDF-9179-3F7C3EC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2D0-2AC6-4C64-A7BF-E8B742D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D39-61A3-4B0E-9137-11580E3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E4A-2B86-4B30-A22A-A718614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AE0-00DB-4E83-A0D8-18B6269801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674C-420B-44E6-9A20-71B334C56B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loranimal.ru/" TargetMode="External"/><Relationship Id="rId2" Type="http://schemas.openxmlformats.org/officeDocument/2006/relationships/hyperlink" Target="http://www.tana.ucoz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езентация к уроку биологии «Размножение, развитие и происхождение земноводных»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 клас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33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Подготовил Коровин С. И. учитель биологии и химии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категории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. Чёбаково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09 г.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У Чёбаковская СОШ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тория происхождения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4512960" cy="28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71640" y="2698920"/>
            <a:ext cx="3240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амые ранние земноводные жили около 370-350млн.лет наза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изошли от одной из групп кистеперых рыб в середине дев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2625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ревняя кистепёрая рыб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BD3-60A1-4817-973B-63F4902CC1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евние земновод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4608720" cy="418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2997360"/>
            <a:ext cx="2592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абиринтодон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ли в трясинных болотах, где не могли жить ни рыбы, ни друг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8A5-0C85-4B11-9965-4D3F70B57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071960" cy="6742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92720" y="60948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Эволюция земноводн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2492280"/>
            <a:ext cx="3097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хтиостегалии быстро вымерл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поспондилии дали начало современным хвостатым и безног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 батрахозавров произошли пресмыкающие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175-ABA1-4F6D-BE14-4C2D5293F1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ведём ит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5120" y="2349360"/>
            <a:ext cx="2805120" cy="436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40360" y="2421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зовите стадии развития лягуш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чем сходство развития лягушки и рыб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м схожи головастики и рыбы? О чем это говори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йте вывод о происхождении земново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A90-6DB8-4E83-A850-939A2BFAA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2349360"/>
            <a:ext cx="6913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Земноводные – раздельнополы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Яйца лишены защитных оболоче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множение и развитие возможно только в условиях избытка влаг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Оплодотворение наружно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Развитие с метаморфоз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Сходство головастика с рыбой – доказательство их происхождения от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Произошли от древних кистеперых ры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4E9-E8F2-4EE2-8839-56D1926DD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асибо за активную работ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!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На д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.Б. Захаров, Н.И.Сонин «Биология» 7 класс стр. 191 – 195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floranimal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tana.ucoz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ABA-458B-4724-9C00-F51F402DDC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ы собрались для того, чтоб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особенности размножения и развит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яснить историю происхождения земновод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0DF-9BE5-4BD7-8E7C-212793D67B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мы будем работат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ы будем находить ответы на вопрос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влияют сезонные изменения на жизнь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происходит размножение у земноводны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развиваются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 на нашей планете появились земноводны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зультаты нашей работы мы будем заносить в тетрадь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21E-6737-48E2-9977-CE7F112DA6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лияние сезонных изменений на жизнь земноводны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сна – размножение и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ето – активный период, усиленное пит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ень – поиск мест зимов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има - спяч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223344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00720" y="4365720"/>
            <a:ext cx="2038320" cy="1630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201600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588000" y="2349360"/>
            <a:ext cx="2376720" cy="19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AB0-25E0-4543-9B26-98751813F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стема органов размнож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320920"/>
            <a:ext cx="7272360" cy="44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240-4DAE-402B-9BA7-C8760B1FF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множен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Стратегия перв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ного икринок, много сперматозоидов, нет заботы о потомств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Стратегия втор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ало икринок, мало сперматозоидов, родители охраняют потом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93076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952720" cy="218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BC1-F770-4CA9-B3A7-59C502788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рачный пери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4530600" cy="302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92600" y="3559320"/>
            <a:ext cx="4451400" cy="32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D0E-C3F5-452F-B3CC-F2DB53C9AB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5480" y="324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азвитие земноводны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46400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60072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08360" y="5013360"/>
            <a:ext cx="1511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40000" y="3500280"/>
            <a:ext cx="187164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36C-D57B-4CB3-B412-11DDBB03D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57520" y="500040"/>
            <a:ext cx="7733160" cy="13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оловастик очень похож на рыб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725920" cy="374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257800" cy="37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BE0-5F0B-4847-8298-1141E5195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11:28Z</dcterms:created>
  <dc:creator>Домашний</dc:creator>
  <dc:description/>
  <dc:language>en-US</dc:language>
  <cp:lastModifiedBy>Домашний</cp:lastModifiedBy>
  <dcterms:modified xsi:type="dcterms:W3CDTF">2009-04-11T13:22:34Z</dcterms:modified>
  <cp:revision>6</cp:revision>
  <dc:subject/>
  <dc:title>Презентация к уроку биологии «Размножение, развитие и происхождение земноводных» 7 класс</dc:title>
</cp:coreProperties>
</file>