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FFF-2F4E-4441-B563-5658335F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3AF0-F8A3-46FB-BF96-32F01B67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7517-35F9-460E-BE1F-D9DD0B4C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7C4-C357-470A-9E65-211268A5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DE73-A97A-4A64-814D-830C7CDE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B9A6-7D0D-44B3-B695-14028B92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5CD5-575F-4B66-B248-833D6481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8EDA-704C-4A70-B60A-5FB6B616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3EE1-B936-4549-AE31-21AEA4B9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2618-4120-48C7-9D67-A67BAD80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3DBC-995E-46BA-AD70-3489F591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62A-F25A-4ACE-8D13-763B461C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1D03-4B60-4F81-8863-8DD0849A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935D-084A-46AB-8AEC-47367D5A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7D1A-98BB-4D0A-9CC6-456F1825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B653-0898-4AEA-819A-150AE2DA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8A87-6B0C-4468-A8E5-E853F04B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C13-76B3-40AB-A31F-6EA836CE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643-D051-411E-A9E2-9D96DFC6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D68F-45F2-4942-AA4D-1BE9D3B8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692-E2A1-4463-8F5D-C00F9545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399-89B1-46BC-95DD-FF1CE1BC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E1BE-1B29-4547-BFB1-7AA20EAB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6582-F6ED-4461-923A-9E152886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6DCB-CF1E-4DF3-ADC3-AC7EC715389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AD4D-E59F-4C26-889F-A22F00F45E3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floranimal.ru/" TargetMode="External"/><Relationship Id="rId2" Type="http://schemas.openxmlformats.org/officeDocument/2006/relationships/hyperlink" Target="http://www.tana.ucoz.ru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резентация к уроку биологии «Размножение, развитие и происхождение земноводных»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7 класс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Подготовил Коровин С. И. учитель биологии и химии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I </a:t>
            </a: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категории.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с. Чёбаково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009 г.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260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У Чёбаковская СОШ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стория происхождения земноводны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00720" y="3284640"/>
            <a:ext cx="4512960" cy="2889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71640" y="2698920"/>
            <a:ext cx="3240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амые ранние земноводные жили около 370-350млн.лет наза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оизошли от одной из групп кистеперых рыб в середине дево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35640" y="26258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ревняя кистепёрая рыб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B84-E361-41D8-A12A-C073F76BC6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ревние земноводны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4608720" cy="4189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867280" y="2997360"/>
            <a:ext cx="259236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Лабиринтодонт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жили в трясинных болотах, где не могли жить ни рыбы, ни другие живот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E69-411B-4B29-A6A8-2952A40B8B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4071960" cy="6742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92720" y="60948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Эволюция земноводных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2492280"/>
            <a:ext cx="30970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хтиостегалии быстро вымерл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Лепоспондилии дали начало современным хвостатым и безноги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 батрахозавров произошли пресмыкающиес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1A1-5BC0-483D-8F0B-BDC9784EC4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ведём ито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5120" y="2349360"/>
            <a:ext cx="2805120" cy="4364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140360" y="24210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зовите стадии развития лягушк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чем сходство развития лягушки и рыбы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ем схожи головастики и рыбы? О чем это говорит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делайте вывод о происхождении земноводн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5249-CC1F-4DC6-88B1-F0ABEEB9D4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вод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2349360"/>
            <a:ext cx="69138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Земноводные – раздельнополые живот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Яйца лишены защитных оболоче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Размножение и развитие возможно только в условиях избытка влаг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Оплодотворение наружно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Развитие с метаморфозо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Сходство головастика с рыбой – доказательство их происхождения от ры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Произошли от древних кистеперых ры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A02-F9A9-4FDB-908D-DC25E1D999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асибо за активную работу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!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На до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.Б. Захаров, Н.И.Сонин «Биология» 7 класс стр. 191 – 195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floranimal.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tana.ucoz.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A5F-62A3-4C01-AF9A-2F0D1FBB58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ы собрались для того, чтоб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ыяснить особенности размножения и развития земноводны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ыяснить историю происхождения земноводны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345-8911-4FC9-BD5C-9D7D2CB164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к мы будем работать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ы будем находить ответы на вопрос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влияют сезонные изменения на жизнь земноводных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происходит размножение у земноводных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развиваются земноводные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на нашей планете появились земноводные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езультаты нашей работы мы будем заносить в тетрадь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7C1B-CA73-42D1-930A-679BC0D4AD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лияние сезонных изменений на жизнь земноводны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есна – размножение и развит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ето – активный период, усиленное пит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сень – поиск мест зимов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има - спяч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659640" y="4365720"/>
            <a:ext cx="2233440" cy="1612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00720" y="4365720"/>
            <a:ext cx="2038320" cy="1630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500720" y="2349360"/>
            <a:ext cx="2016000" cy="1943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588000" y="2349360"/>
            <a:ext cx="2376720" cy="190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F55E-5FE8-410F-9BA3-FA08591DB3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истема органов размнож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2320920"/>
            <a:ext cx="7272360" cy="44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C82-158C-4E07-84D7-A25A1098A2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азмножение земноводны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Стратегия перва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ного икринок, много сперматозоидов, нет заботы о потомств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Стратегия втора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ало икринок, мало сперматозоидов, родители охраняют потомств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580000" y="4508640"/>
            <a:ext cx="2930760" cy="220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80000" y="2276640"/>
            <a:ext cx="2952720" cy="218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552-8965-4069-AEBF-081A8BD683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рачный перио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4530600" cy="3020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92600" y="3559320"/>
            <a:ext cx="4451400" cy="329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D01-0F15-442E-BD62-F0F5B819B2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25480" y="32400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азвитие земноводны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4464000" cy="446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3600720" cy="2708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708360" y="5013360"/>
            <a:ext cx="1511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140000" y="3500280"/>
            <a:ext cx="1871640" cy="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C1C-0C32-45A7-9B7F-78B6399DE6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57520" y="500040"/>
            <a:ext cx="7733160" cy="13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Головастик очень похож на рыб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2725920" cy="3743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5257800" cy="374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4392-758D-403B-AF19-C39529C959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7:11:28Z</dcterms:created>
  <dc:creator>Домашний</dc:creator>
  <dc:description/>
  <dc:language>en-US</dc:language>
  <cp:lastModifiedBy>Домашний</cp:lastModifiedBy>
  <dcterms:modified xsi:type="dcterms:W3CDTF">2009-04-11T13:22:34Z</dcterms:modified>
  <cp:revision>6</cp:revision>
  <dc:subject/>
  <dc:title>Презентация к уроку биологии «Размножение, развитие и происхождение земноводных» 7 класс</dc:title>
</cp:coreProperties>
</file>