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5AB-BC8D-43AE-B3AE-936A5E43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9B0-F7F1-4D33-9F50-DC6784A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B38-7639-4ECC-8180-655EAC18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43B-1199-4A05-AE30-361C3B07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BA3-0FAF-487A-BC16-149FCB1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261-BED3-4100-8947-641D5500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636-D07B-4C48-8C52-9835A04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871-A57E-44FB-8B7C-83971A7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97B-0B3A-416C-B4B4-7A6E3C31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78F-D250-44DE-A7BE-BC64F596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B45-2AA9-4CF9-AD6F-B850290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63D-97B0-4EB2-AB1E-D78E759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F238-6C4A-4F50-A14E-89C24D01F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530280" y="701640"/>
            <a:ext cx="8089920" cy="4241880"/>
            <a:chOff x="530280" y="701640"/>
            <a:chExt cx="8089920" cy="424188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30280" y="701640"/>
              <a:ext cx="8089920" cy="42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" y="857160"/>
              <a:ext cx="777240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31859c"/>
                  </a:solidFill>
                  <a:latin typeface="Calibri"/>
                </a:rPr>
                <a:t>5 класс. Природоведение  </a:t>
              </a:r>
              <a:br>
                <a:rPr sz="4400"/>
              </a:br>
              <a:r>
                <a:rPr b="1" lang="ru-RU" sz="4400" spc="-1" strike="noStrike">
                  <a:solidFill>
                    <a:srgbClr val="31859c"/>
                  </a:solidFill>
                  <a:latin typeface="Calibri"/>
                </a:rPr>
                <a:t>Тема: Природные явления. Землетрясения и вулканы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Calibri"/>
              </a:rPr>
              <a:t>Посмотрите на картины. Какие явления природы изображены на картинках и фотография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1933560" cy="146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1819080" cy="15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571760" y="4214880"/>
            <a:ext cx="1619280" cy="156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5572080" y="1857240"/>
            <a:ext cx="188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023840" y="-85680"/>
            <a:ext cx="81565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57280" y="214200"/>
            <a:ext cx="3210120" cy="21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1876320" cy="213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429080" y="2857680"/>
            <a:ext cx="174312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6786720" y="3000240"/>
            <a:ext cx="174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что на этих картинах изображе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14760" y="2214720"/>
            <a:ext cx="30668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643720" y="1143000"/>
            <a:ext cx="304776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00040" y="1285920"/>
            <a:ext cx="2181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В ЧЕМ ОТЛИЧИЕ ВУЛКАНА ОТ ЗЕМЛЕТРЯС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85840" y="1534680"/>
            <a:ext cx="8400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00800" y="1500120"/>
            <a:ext cx="3286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Что называют вулкан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Какое строение имеет вулка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Что служит причиной извержения вулка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Какие бывают вулк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5467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Почему землетрясения и вулканы случаются в одних и тех же районах Земли?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Calibri"/>
              </a:rPr>
              <a:t>Почему землетрясения особенно опасны в горах и крупных городах?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очему на Камчатке и Курильских островах много вулкан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17:23Z</dcterms:created>
  <dc:creator>Ванек</dc:creator>
  <dc:description/>
  <dc:language>en-US</dc:language>
  <cp:lastModifiedBy>Ванек</cp:lastModifiedBy>
  <dcterms:modified xsi:type="dcterms:W3CDTF">2008-12-17T14:19:05Z</dcterms:modified>
  <cp:revision>6</cp:revision>
  <dc:subject/>
  <dc:title>5 класс. Природоведение   Тема: Природные явления. Землетрясения и вулканы</dc:title>
</cp:coreProperties>
</file>