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1CA3-B509-4791-AC43-92E50BBA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AD5-D669-4691-9242-57333714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873D-449B-48B4-8D09-FBE4D121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CC35-8CB4-4896-895F-D5DB4675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DBD-1026-4CEB-A4F1-364D5E7D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A867-4B1E-44D5-91CF-52D0BC69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D4C-101F-4471-9280-6344CAB3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971-A6AA-4AAF-B191-5FE1B353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5F89-15EB-4D5C-B98C-C89FAD5A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9A4-CBBB-450A-9BB8-F1EE17E0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25C-589F-4F35-8B32-CE2E106B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CD6-C857-4C92-926E-63A6BDD4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C019-A39D-43E8-99D9-6B92CC80E5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530280" y="701640"/>
            <a:ext cx="8089920" cy="4241880"/>
            <a:chOff x="530280" y="701640"/>
            <a:chExt cx="8089920" cy="4241880"/>
          </a:xfrm>
        </p:grpSpPr>
        <p:pic>
          <p:nvPicPr>
            <p:cNvPr id="4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30280" y="701640"/>
              <a:ext cx="8089920" cy="42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" y="857160"/>
              <a:ext cx="777240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31859c"/>
                  </a:solidFill>
                  <a:latin typeface="Calibri"/>
                </a:rPr>
                <a:t>5 класс. Природоведение  </a:t>
              </a:r>
              <a:br>
                <a:rPr sz="4400"/>
              </a:br>
              <a:r>
                <a:rPr b="1" lang="ru-RU" sz="4400" spc="-1" strike="noStrike">
                  <a:solidFill>
                    <a:srgbClr val="31859c"/>
                  </a:solidFill>
                  <a:latin typeface="Calibri"/>
                </a:rPr>
                <a:t>Тема: Природные явления. Землетрясения и вулканы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541800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Посмотрите на картины. Какие явления природы изображены на картинках и фотографиях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28760" y="2428920"/>
            <a:ext cx="1933560" cy="146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3214800" y="2428920"/>
            <a:ext cx="1819080" cy="1514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1571760" y="4214880"/>
            <a:ext cx="1619280" cy="1562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5572080" y="1857240"/>
            <a:ext cx="18860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1023840" y="-85680"/>
            <a:ext cx="815652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357280" y="214200"/>
            <a:ext cx="3210120" cy="2152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285920" y="2928960"/>
            <a:ext cx="1876320" cy="2133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4429080" y="2857680"/>
            <a:ext cx="1743120" cy="193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tretch/>
        </p:blipFill>
        <p:spPr>
          <a:xfrm>
            <a:off x="6786720" y="3000240"/>
            <a:ext cx="17427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что на этих картинах изображен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14760" y="2214720"/>
            <a:ext cx="3066840" cy="1733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5643720" y="1143000"/>
            <a:ext cx="3047760" cy="360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500040" y="1285920"/>
            <a:ext cx="21812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В ЧЕМ ОТЛИЧИЕ ВУЛКАНА ОТ ЗЕМЛЕТРЯС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2174760"/>
            <a:ext cx="40402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85840" y="1534680"/>
            <a:ext cx="84009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500800" y="1500120"/>
            <a:ext cx="3286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Что называют вулкано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Какое строение имеет вулкан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Что служит причиной извержения вулкан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Какие бывают вулкан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54673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81bd"/>
                </a:solidFill>
                <a:latin typeface="Calibri"/>
              </a:rPr>
              <a:t>Почему землетрясения и вулканы случаются в одних и тех же районах Земли?</a:t>
            </a:r>
            <a:br>
              <a:rPr sz="4000"/>
            </a:b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Почему землетрясения особенно опасны в горах и крупных городах?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Почему на Камчатке и Курильских островах много вулканов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6:17:23Z</dcterms:created>
  <dc:creator>Ванек</dc:creator>
  <dc:description/>
  <dc:language>en-US</dc:language>
  <cp:lastModifiedBy>Ванек</cp:lastModifiedBy>
  <dcterms:modified xsi:type="dcterms:W3CDTF">2008-12-17T14:19:05Z</dcterms:modified>
  <cp:revision>6</cp:revision>
  <dc:subject/>
  <dc:title>5 класс. Природоведение   Тема: Природные явления. Землетрясения и вулканы</dc:title>
</cp:coreProperties>
</file>