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gif" ContentType="image/gif"/>
  <Override PartName="/ppt/media/image11.jpeg" ContentType="image/jpeg"/>
  <Override PartName="/ppt/media/image6.jpeg" ContentType="image/jpeg"/>
  <Override PartName="/ppt/media/image9.png" ContentType="image/png"/>
  <Override PartName="/ppt/media/image5.gif" ContentType="image/gif"/>
  <Override PartName="/ppt/media/image4.jpeg" ContentType="image/jpeg"/>
  <Override PartName="/ppt/media/image3.gif" ContentType="image/gif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A54-C7B5-4AFD-A10A-F9B633BD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60E-FB1A-466F-AA15-B15DD6CA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3DD8-8331-4928-8B1D-F91D8F8E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9E21-D25B-4314-B75F-64D34AAE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308C-9E26-4400-84EA-B7D7D991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E479-D81E-40D3-AC15-1A7FB06D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BFD6-8E4A-4E3F-979F-9EA5932D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6820-7EFC-4353-8CC7-7E61FA60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A19A-25B5-4CF0-A2D8-CDC0478E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F9C0-4387-45E8-8602-A2A5039D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BAD4-1FA7-4EC8-9671-FED6AC73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B4D-1B45-44F6-9888-AC835EF0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1381-CA83-4CAA-989A-27EACE61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6422-0AA4-42DF-8C32-835A628A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B001-39FB-4C05-AD85-C6C8651E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5F69-17E6-4DB7-8BEB-D368C2DA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735C-BF46-48A7-AF8B-3DF5DAC9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324-9584-43E7-8477-CBB455B4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8DB-D4B0-46B8-8AD5-7A596B35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87D-D62A-44B5-AC13-7C60D4D5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22F-B834-478B-9E23-8D29270B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C9A-5D30-4914-A66D-7B6A7525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E08-087C-4E6F-BA5F-0273293E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C54-507E-46DA-9EF8-127904E0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B435-7493-479B-81AE-CE0BB1E1A481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7300-D5A2-4141-AE70-F872BC48362D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918200" cy="34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9933"/>
                </a:solidFill>
                <a:latin typeface="Times New Roman"/>
              </a:rPr>
              <a:t>У кого на голове дерево растёт?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5751720"/>
          </a:xfrm>
          <a:prstGeom prst="rect">
            <a:avLst/>
          </a:prstGeom>
          <a:ln w="57240">
            <a:solidFill>
              <a:srgbClr val="99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602400" cy="5413320"/>
          </a:xfrm>
          <a:prstGeom prst="rect">
            <a:avLst/>
          </a:prstGeom>
          <a:ln w="76320">
            <a:solidFill>
              <a:srgbClr val="99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889680" cy="4995720"/>
          </a:xfrm>
          <a:prstGeom prst="rect">
            <a:avLst/>
          </a:prstGeom>
          <a:ln w="7632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545080" cy="4062600"/>
          </a:xfrm>
          <a:prstGeom prst="rect">
            <a:avLst/>
          </a:prstGeom>
          <a:ln w="57240">
            <a:solidFill>
              <a:srgbClr val="999933"/>
            </a:solidFill>
            <a:miter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276720" y="3357720"/>
            <a:ext cx="4392360" cy="3255840"/>
          </a:xfrm>
          <a:prstGeom prst="rect">
            <a:avLst/>
          </a:prstGeom>
          <a:ln w="57240">
            <a:solidFill>
              <a:srgbClr val="999933"/>
            </a:solidFill>
            <a:miter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364000" y="620640"/>
            <a:ext cx="3203640" cy="2403720"/>
          </a:xfrm>
          <a:prstGeom prst="rect">
            <a:avLst/>
          </a:prstGeom>
          <a:ln w="57240">
            <a:solidFill>
              <a:srgbClr val="99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rcRect l="0" t="0" r="69" b="-45"/>
          <a:stretch/>
        </p:blipFill>
        <p:spPr>
          <a:xfrm>
            <a:off x="250920" y="404640"/>
            <a:ext cx="3960720" cy="5257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2"/>
          <a:srcRect l="0" t="0" r="0" b="-78"/>
          <a:stretch/>
        </p:blipFill>
        <p:spPr>
          <a:xfrm>
            <a:off x="4788000" y="404640"/>
            <a:ext cx="3743280" cy="532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3995640" y="5013360"/>
            <a:ext cx="1162080" cy="1676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 flipH="1" flipV="1">
            <a:off x="1692360" y="549360"/>
            <a:ext cx="576000" cy="71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443600">
            <a:off x="6084360" y="3860640"/>
            <a:ext cx="12564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443600">
            <a:off x="6372000" y="3933360"/>
            <a:ext cx="12528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443600">
            <a:off x="6156000" y="4076280"/>
            <a:ext cx="12528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443600">
            <a:off x="6516360" y="4149360"/>
            <a:ext cx="12528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443600">
            <a:off x="5795640" y="4076280"/>
            <a:ext cx="12528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1880" y="4797360"/>
            <a:ext cx="3048120" cy="911160"/>
          </a:xfrm>
          <a:custGeom>
            <a:avLst/>
            <a:gdLst/>
            <a:ahLst/>
            <a:rect l="l" t="t" r="r" b="b"/>
            <a:pathLst>
              <a:path w="1920" h="574">
                <a:moveTo>
                  <a:pt x="1920" y="408"/>
                </a:moveTo>
                <a:cubicBezTo>
                  <a:pt x="1905" y="204"/>
                  <a:pt x="1890" y="0"/>
                  <a:pt x="1875" y="0"/>
                </a:cubicBezTo>
                <a:cubicBezTo>
                  <a:pt x="1860" y="0"/>
                  <a:pt x="1844" y="363"/>
                  <a:pt x="1829" y="408"/>
                </a:cubicBezTo>
                <a:cubicBezTo>
                  <a:pt x="1814" y="453"/>
                  <a:pt x="1799" y="265"/>
                  <a:pt x="1784" y="272"/>
                </a:cubicBezTo>
                <a:cubicBezTo>
                  <a:pt x="1769" y="279"/>
                  <a:pt x="1754" y="460"/>
                  <a:pt x="1739" y="453"/>
                </a:cubicBezTo>
                <a:cubicBezTo>
                  <a:pt x="1724" y="446"/>
                  <a:pt x="1708" y="227"/>
                  <a:pt x="1693" y="227"/>
                </a:cubicBezTo>
                <a:cubicBezTo>
                  <a:pt x="1678" y="227"/>
                  <a:pt x="1671" y="423"/>
                  <a:pt x="1648" y="453"/>
                </a:cubicBezTo>
                <a:cubicBezTo>
                  <a:pt x="1625" y="483"/>
                  <a:pt x="1580" y="445"/>
                  <a:pt x="1557" y="408"/>
                </a:cubicBezTo>
                <a:cubicBezTo>
                  <a:pt x="1534" y="371"/>
                  <a:pt x="1519" y="212"/>
                  <a:pt x="1512" y="227"/>
                </a:cubicBezTo>
                <a:cubicBezTo>
                  <a:pt x="1505" y="242"/>
                  <a:pt x="1550" y="461"/>
                  <a:pt x="1512" y="499"/>
                </a:cubicBezTo>
                <a:cubicBezTo>
                  <a:pt x="1474" y="537"/>
                  <a:pt x="1323" y="498"/>
                  <a:pt x="1285" y="453"/>
                </a:cubicBezTo>
                <a:cubicBezTo>
                  <a:pt x="1247" y="408"/>
                  <a:pt x="1300" y="219"/>
                  <a:pt x="1285" y="227"/>
                </a:cubicBezTo>
                <a:cubicBezTo>
                  <a:pt x="1270" y="235"/>
                  <a:pt x="1217" y="492"/>
                  <a:pt x="1194" y="499"/>
                </a:cubicBezTo>
                <a:cubicBezTo>
                  <a:pt x="1171" y="506"/>
                  <a:pt x="1156" y="272"/>
                  <a:pt x="1149" y="272"/>
                </a:cubicBezTo>
                <a:cubicBezTo>
                  <a:pt x="1142" y="272"/>
                  <a:pt x="1179" y="461"/>
                  <a:pt x="1149" y="499"/>
                </a:cubicBezTo>
                <a:cubicBezTo>
                  <a:pt x="1119" y="537"/>
                  <a:pt x="1074" y="499"/>
                  <a:pt x="968" y="499"/>
                </a:cubicBezTo>
                <a:cubicBezTo>
                  <a:pt x="862" y="499"/>
                  <a:pt x="589" y="552"/>
                  <a:pt x="514" y="499"/>
                </a:cubicBezTo>
                <a:cubicBezTo>
                  <a:pt x="439" y="446"/>
                  <a:pt x="537" y="181"/>
                  <a:pt x="514" y="181"/>
                </a:cubicBezTo>
                <a:cubicBezTo>
                  <a:pt x="491" y="181"/>
                  <a:pt x="423" y="476"/>
                  <a:pt x="378" y="499"/>
                </a:cubicBezTo>
                <a:cubicBezTo>
                  <a:pt x="333" y="522"/>
                  <a:pt x="265" y="325"/>
                  <a:pt x="242" y="317"/>
                </a:cubicBezTo>
                <a:cubicBezTo>
                  <a:pt x="219" y="309"/>
                  <a:pt x="250" y="476"/>
                  <a:pt x="242" y="453"/>
                </a:cubicBezTo>
                <a:cubicBezTo>
                  <a:pt x="234" y="430"/>
                  <a:pt x="211" y="166"/>
                  <a:pt x="196" y="181"/>
                </a:cubicBezTo>
                <a:cubicBezTo>
                  <a:pt x="181" y="196"/>
                  <a:pt x="166" y="514"/>
                  <a:pt x="151" y="544"/>
                </a:cubicBezTo>
                <a:cubicBezTo>
                  <a:pt x="136" y="574"/>
                  <a:pt x="129" y="363"/>
                  <a:pt x="106" y="363"/>
                </a:cubicBezTo>
                <a:cubicBezTo>
                  <a:pt x="83" y="363"/>
                  <a:pt x="30" y="521"/>
                  <a:pt x="15" y="544"/>
                </a:cubicBezTo>
                <a:cubicBezTo>
                  <a:pt x="0" y="567"/>
                  <a:pt x="7" y="533"/>
                  <a:pt x="15" y="49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76720" y="4869000"/>
            <a:ext cx="3048120" cy="911160"/>
          </a:xfrm>
          <a:custGeom>
            <a:avLst/>
            <a:gdLst/>
            <a:ahLst/>
            <a:rect l="l" t="t" r="r" b="b"/>
            <a:pathLst>
              <a:path w="1920" h="574">
                <a:moveTo>
                  <a:pt x="1920" y="408"/>
                </a:moveTo>
                <a:cubicBezTo>
                  <a:pt x="1905" y="204"/>
                  <a:pt x="1890" y="0"/>
                  <a:pt x="1875" y="0"/>
                </a:cubicBezTo>
                <a:cubicBezTo>
                  <a:pt x="1860" y="0"/>
                  <a:pt x="1844" y="363"/>
                  <a:pt x="1829" y="408"/>
                </a:cubicBezTo>
                <a:cubicBezTo>
                  <a:pt x="1814" y="453"/>
                  <a:pt x="1799" y="265"/>
                  <a:pt x="1784" y="272"/>
                </a:cubicBezTo>
                <a:cubicBezTo>
                  <a:pt x="1769" y="279"/>
                  <a:pt x="1754" y="460"/>
                  <a:pt x="1739" y="453"/>
                </a:cubicBezTo>
                <a:cubicBezTo>
                  <a:pt x="1724" y="446"/>
                  <a:pt x="1708" y="227"/>
                  <a:pt x="1693" y="227"/>
                </a:cubicBezTo>
                <a:cubicBezTo>
                  <a:pt x="1678" y="227"/>
                  <a:pt x="1671" y="423"/>
                  <a:pt x="1648" y="453"/>
                </a:cubicBezTo>
                <a:cubicBezTo>
                  <a:pt x="1625" y="483"/>
                  <a:pt x="1580" y="445"/>
                  <a:pt x="1557" y="408"/>
                </a:cubicBezTo>
                <a:cubicBezTo>
                  <a:pt x="1534" y="371"/>
                  <a:pt x="1519" y="212"/>
                  <a:pt x="1512" y="227"/>
                </a:cubicBezTo>
                <a:cubicBezTo>
                  <a:pt x="1505" y="242"/>
                  <a:pt x="1550" y="461"/>
                  <a:pt x="1512" y="499"/>
                </a:cubicBezTo>
                <a:cubicBezTo>
                  <a:pt x="1474" y="537"/>
                  <a:pt x="1323" y="498"/>
                  <a:pt x="1285" y="453"/>
                </a:cubicBezTo>
                <a:cubicBezTo>
                  <a:pt x="1247" y="408"/>
                  <a:pt x="1300" y="219"/>
                  <a:pt x="1285" y="227"/>
                </a:cubicBezTo>
                <a:cubicBezTo>
                  <a:pt x="1270" y="235"/>
                  <a:pt x="1217" y="492"/>
                  <a:pt x="1194" y="499"/>
                </a:cubicBezTo>
                <a:cubicBezTo>
                  <a:pt x="1171" y="506"/>
                  <a:pt x="1156" y="272"/>
                  <a:pt x="1149" y="272"/>
                </a:cubicBezTo>
                <a:cubicBezTo>
                  <a:pt x="1142" y="272"/>
                  <a:pt x="1179" y="461"/>
                  <a:pt x="1149" y="499"/>
                </a:cubicBezTo>
                <a:cubicBezTo>
                  <a:pt x="1119" y="537"/>
                  <a:pt x="1074" y="499"/>
                  <a:pt x="968" y="499"/>
                </a:cubicBezTo>
                <a:cubicBezTo>
                  <a:pt x="862" y="499"/>
                  <a:pt x="589" y="552"/>
                  <a:pt x="514" y="499"/>
                </a:cubicBezTo>
                <a:cubicBezTo>
                  <a:pt x="439" y="446"/>
                  <a:pt x="537" y="181"/>
                  <a:pt x="514" y="181"/>
                </a:cubicBezTo>
                <a:cubicBezTo>
                  <a:pt x="491" y="181"/>
                  <a:pt x="423" y="476"/>
                  <a:pt x="378" y="499"/>
                </a:cubicBezTo>
                <a:cubicBezTo>
                  <a:pt x="333" y="522"/>
                  <a:pt x="265" y="325"/>
                  <a:pt x="242" y="317"/>
                </a:cubicBezTo>
                <a:cubicBezTo>
                  <a:pt x="219" y="309"/>
                  <a:pt x="250" y="476"/>
                  <a:pt x="242" y="453"/>
                </a:cubicBezTo>
                <a:cubicBezTo>
                  <a:pt x="234" y="430"/>
                  <a:pt x="211" y="166"/>
                  <a:pt x="196" y="181"/>
                </a:cubicBezTo>
                <a:cubicBezTo>
                  <a:pt x="181" y="196"/>
                  <a:pt x="166" y="514"/>
                  <a:pt x="151" y="544"/>
                </a:cubicBezTo>
                <a:cubicBezTo>
                  <a:pt x="136" y="574"/>
                  <a:pt x="129" y="363"/>
                  <a:pt x="106" y="363"/>
                </a:cubicBezTo>
                <a:cubicBezTo>
                  <a:pt x="83" y="363"/>
                  <a:pt x="30" y="521"/>
                  <a:pt x="15" y="544"/>
                </a:cubicBezTo>
                <a:cubicBezTo>
                  <a:pt x="0" y="567"/>
                  <a:pt x="7" y="533"/>
                  <a:pt x="15" y="499"/>
                </a:cubicBezTo>
              </a:path>
            </a:pathLst>
          </a:custGeom>
          <a:noFill/>
          <a:ln w="28440">
            <a:solidFill>
              <a:srgbClr val="587d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342" name=""/>
          <p:cNvCxnSpPr>
            <a:stCxn id="332" idx="2"/>
          </p:cNvCxnSpPr>
          <p:nvPr/>
        </p:nvCxnSpPr>
        <p:spPr>
          <a:xfrm flipH="1" rot="16200000">
            <a:off x="6659280" y="5770080"/>
            <a:ext cx="2520" cy="2160"/>
          </a:xfrm>
          <a:prstGeom prst="curvedConnector5">
            <a:avLst>
              <a:gd name="adj1" fmla="val -1200000"/>
              <a:gd name="adj2" fmla="val 40000"/>
              <a:gd name="adj3" fmla="val -1200000"/>
            </a:avLst>
          </a:prstGeom>
          <a:ln w="9360">
            <a:solidFill>
              <a:srgbClr val="336699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457200" y="3789360"/>
            <a:ext cx="801720" cy="1800360"/>
          </a:xfrm>
          <a:custGeom>
            <a:avLst/>
            <a:gdLst/>
            <a:ahLst/>
            <a:rect l="l" t="t" r="r" b="b"/>
            <a:pathLst>
              <a:path w="430" h="1050">
                <a:moveTo>
                  <a:pt x="143" y="1050"/>
                </a:moveTo>
                <a:cubicBezTo>
                  <a:pt x="124" y="951"/>
                  <a:pt x="105" y="853"/>
                  <a:pt x="143" y="732"/>
                </a:cubicBezTo>
                <a:cubicBezTo>
                  <a:pt x="181" y="611"/>
                  <a:pt x="324" y="445"/>
                  <a:pt x="369" y="324"/>
                </a:cubicBezTo>
                <a:cubicBezTo>
                  <a:pt x="414" y="203"/>
                  <a:pt x="430" y="0"/>
                  <a:pt x="415" y="7"/>
                </a:cubicBezTo>
                <a:cubicBezTo>
                  <a:pt x="400" y="14"/>
                  <a:pt x="340" y="263"/>
                  <a:pt x="279" y="369"/>
                </a:cubicBezTo>
                <a:cubicBezTo>
                  <a:pt x="218" y="475"/>
                  <a:pt x="97" y="559"/>
                  <a:pt x="52" y="642"/>
                </a:cubicBezTo>
                <a:cubicBezTo>
                  <a:pt x="7" y="725"/>
                  <a:pt x="14" y="808"/>
                  <a:pt x="7" y="868"/>
                </a:cubicBezTo>
                <a:cubicBezTo>
                  <a:pt x="0" y="928"/>
                  <a:pt x="7" y="981"/>
                  <a:pt x="7" y="1004"/>
                </a:cubicBezTo>
              </a:path>
            </a:pathLst>
          </a:custGeom>
          <a:noFill/>
          <a:ln w="889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4221000"/>
            <a:ext cx="946440" cy="517680"/>
          </a:xfrm>
          <a:custGeom>
            <a:avLst/>
            <a:gdLst/>
            <a:ahLst/>
            <a:rect l="l" t="t" r="r" b="b"/>
            <a:pathLst>
              <a:path w="642" h="326">
                <a:moveTo>
                  <a:pt x="136" y="235"/>
                </a:moveTo>
                <a:cubicBezTo>
                  <a:pt x="253" y="231"/>
                  <a:pt x="370" y="227"/>
                  <a:pt x="453" y="189"/>
                </a:cubicBezTo>
                <a:cubicBezTo>
                  <a:pt x="536" y="151"/>
                  <a:pt x="642" y="0"/>
                  <a:pt x="635" y="8"/>
                </a:cubicBezTo>
                <a:cubicBezTo>
                  <a:pt x="628" y="16"/>
                  <a:pt x="514" y="182"/>
                  <a:pt x="408" y="235"/>
                </a:cubicBezTo>
                <a:cubicBezTo>
                  <a:pt x="302" y="288"/>
                  <a:pt x="68" y="311"/>
                  <a:pt x="0" y="326"/>
                </a:cubicBezTo>
              </a:path>
            </a:pathLst>
          </a:custGeom>
          <a:noFill/>
          <a:ln w="63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4292640"/>
            <a:ext cx="360360" cy="288720"/>
          </a:xfrm>
          <a:custGeom>
            <a:avLst/>
            <a:gdLst/>
            <a:ahLst/>
            <a:rect l="l" t="t" r="r" b="b"/>
            <a:pathLst>
              <a:path w="227" h="182">
                <a:moveTo>
                  <a:pt x="0" y="182"/>
                </a:moveTo>
                <a:cubicBezTo>
                  <a:pt x="3" y="151"/>
                  <a:pt x="7" y="121"/>
                  <a:pt x="45" y="91"/>
                </a:cubicBezTo>
                <a:cubicBezTo>
                  <a:pt x="83" y="61"/>
                  <a:pt x="197" y="15"/>
                  <a:pt x="227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4653000"/>
            <a:ext cx="360360" cy="168120"/>
          </a:xfrm>
          <a:custGeom>
            <a:avLst/>
            <a:gdLst/>
            <a:ahLst/>
            <a:rect l="l" t="t" r="r" b="b"/>
            <a:pathLst>
              <a:path w="227" h="106">
                <a:moveTo>
                  <a:pt x="0" y="0"/>
                </a:moveTo>
                <a:cubicBezTo>
                  <a:pt x="30" y="38"/>
                  <a:pt x="61" y="76"/>
                  <a:pt x="91" y="91"/>
                </a:cubicBezTo>
                <a:cubicBezTo>
                  <a:pt x="121" y="106"/>
                  <a:pt x="159" y="99"/>
                  <a:pt x="182" y="91"/>
                </a:cubicBezTo>
                <a:cubicBezTo>
                  <a:pt x="205" y="83"/>
                  <a:pt x="216" y="64"/>
                  <a:pt x="227" y="45"/>
                </a:cubicBezTo>
              </a:path>
            </a:pathLst>
          </a:custGeom>
          <a:noFill/>
          <a:ln w="475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4581360"/>
            <a:ext cx="21600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5592600">
            <a:off x="1259640" y="4221720"/>
            <a:ext cx="21600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2643000">
            <a:off x="1692000" y="4869000"/>
            <a:ext cx="21564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2643000">
            <a:off x="1258560" y="4436640"/>
            <a:ext cx="21600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254400">
            <a:off x="1692000" y="4723920"/>
            <a:ext cx="21564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5847800">
            <a:off x="1330920" y="4797720"/>
            <a:ext cx="21564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858920" y="1700280"/>
            <a:ext cx="403380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Вот этот случай очень редкий -</a:t>
            </a:r>
            <a:br>
              <a:rPr sz="2000"/>
            </a:b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На голове растут две ветки.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Боится зверь ветвей моих,</a:t>
            </a:r>
            <a:br>
              <a:rPr sz="2000"/>
            </a:b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Гнезд не строит птица в них,</a:t>
            </a:r>
            <a:br>
              <a:rPr sz="2000"/>
            </a:b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В ветвях краса и мощь моя,</a:t>
            </a:r>
            <a:br>
              <a:rPr sz="2000"/>
            </a:b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Скажите быстро - кто же я?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4062240" cy="514980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588000" y="3500280"/>
            <a:ext cx="16797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rcRect l="0" t="0" r="-9" b="102"/>
          <a:stretch/>
        </p:blipFill>
        <p:spPr>
          <a:xfrm>
            <a:off x="3489480" y="184320"/>
            <a:ext cx="5445000" cy="488448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4464000" cy="3203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987640" y="515772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f0f"/>
                </a:solidFill>
                <a:latin typeface="Arial"/>
              </a:rPr>
              <a:t>Хоть верь, хоть не верь:</a:t>
            </a:r>
            <a:br>
              <a:rPr sz="1800"/>
            </a:br>
            <a:r>
              <a:rPr b="0" lang="en-US" sz="1800" spc="-1" strike="noStrike">
                <a:solidFill>
                  <a:srgbClr val="302f0f"/>
                </a:solidFill>
                <a:latin typeface="Arial"/>
              </a:rPr>
              <a:t>Пробегал по лесу зверь.</a:t>
            </a:r>
            <a:br>
              <a:rPr sz="1800"/>
            </a:br>
            <a:r>
              <a:rPr b="0" lang="en-US" sz="1800" spc="-1" strike="noStrike">
                <a:solidFill>
                  <a:srgbClr val="302f0f"/>
                </a:solidFill>
                <a:latin typeface="Arial"/>
              </a:rPr>
              <a:t>Нес на лбу он неспроста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f0f"/>
                </a:solidFill>
                <a:latin typeface="Arial"/>
              </a:rPr>
              <a:t>Два развесистых куста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0" t="0" r="-79" b="0"/>
          <a:stretch/>
        </p:blipFill>
        <p:spPr>
          <a:xfrm>
            <a:off x="1403280" y="189000"/>
            <a:ext cx="4537080" cy="571500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724360" y="4076640"/>
            <a:ext cx="1471680" cy="1471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084720" y="476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f0f"/>
                </a:solidFill>
                <a:latin typeface="Arial"/>
              </a:rPr>
              <a:t>Стройный, быстрый,</a:t>
            </a:r>
            <a:br>
              <a:rPr sz="1800"/>
            </a:br>
            <a:r>
              <a:rPr b="0" lang="ru-RU" sz="1800" spc="-1" strike="noStrike">
                <a:solidFill>
                  <a:srgbClr val="302f0f"/>
                </a:solidFill>
                <a:latin typeface="Arial"/>
              </a:rPr>
              <a:t>Рога ветвисты.</a:t>
            </a:r>
            <a:br>
              <a:rPr sz="1800"/>
            </a:br>
            <a:r>
              <a:rPr b="0" lang="ru-RU" sz="1800" spc="-1" strike="noStrike">
                <a:solidFill>
                  <a:srgbClr val="302f0f"/>
                </a:solidFill>
                <a:latin typeface="Arial"/>
              </a:rPr>
              <a:t>Скачет по лесу весь день,</a:t>
            </a:r>
            <a:br>
              <a:rPr sz="1800"/>
            </a:br>
            <a:r>
              <a:rPr b="0" lang="ru-RU" sz="1800" spc="-1" strike="noStrike">
                <a:solidFill>
                  <a:srgbClr val="302f0f"/>
                </a:solidFill>
                <a:latin typeface="Arial"/>
              </a:rPr>
              <a:t>Называется …. </a:t>
            </a:r>
            <a:r>
              <a:rPr b="0" lang="en-US" sz="1800" spc="-1" strike="noStrike">
                <a:solidFill>
                  <a:srgbClr val="302f0f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302f0f"/>
                </a:solidFill>
                <a:latin typeface="Arial"/>
              </a:rPr>
              <a:t>Олень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f0f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244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f0f"/>
                </a:solidFill>
                <a:latin typeface="Arial"/>
              </a:rPr>
              <a:t>Трав копытами касаясь,</a:t>
            </a:r>
            <a:br>
              <a:rPr sz="2400"/>
            </a:br>
            <a:r>
              <a:rPr b="0" lang="en-US" sz="2400" spc="-1" strike="noStrike">
                <a:solidFill>
                  <a:srgbClr val="302f0f"/>
                </a:solidFill>
                <a:latin typeface="Arial"/>
              </a:rPr>
              <a:t>Ходит по лесу красавец,</a:t>
            </a:r>
            <a:br>
              <a:rPr sz="2400"/>
            </a:br>
            <a:r>
              <a:rPr b="0" lang="en-US" sz="2400" spc="-1" strike="noStrike">
                <a:solidFill>
                  <a:srgbClr val="302f0f"/>
                </a:solidFill>
                <a:latin typeface="Arial"/>
              </a:rPr>
              <a:t>Ходит смело и легко,</a:t>
            </a:r>
            <a:br>
              <a:rPr sz="2400"/>
            </a:br>
            <a:r>
              <a:rPr b="0" lang="en-US" sz="2400" spc="-1" strike="noStrike">
                <a:solidFill>
                  <a:srgbClr val="302f0f"/>
                </a:solidFill>
                <a:latin typeface="Arial"/>
              </a:rPr>
              <a:t>Рога раскинув широко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f0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484360" y="534960"/>
            <a:ext cx="6418440" cy="4518000"/>
          </a:xfrm>
          <a:prstGeom prst="rect">
            <a:avLst/>
          </a:prstGeom>
          <a:ln w="76320">
            <a:solidFill>
              <a:srgbClr val="999933"/>
            </a:solidFill>
            <a:miter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1547640" y="2995560"/>
            <a:ext cx="2305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rcRect l="0" t="0" r="64" b="70"/>
          <a:stretch/>
        </p:blipFill>
        <p:spPr>
          <a:xfrm>
            <a:off x="250920" y="476280"/>
            <a:ext cx="5796000" cy="434808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372360" y="2492280"/>
            <a:ext cx="2367000" cy="343224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355640" y="1341000"/>
            <a:ext cx="468180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Словно царскую корону, </a:t>
            </a:r>
            <a:br>
              <a:rPr sz="2800"/>
            </a:b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Носит он свои рога. </a:t>
            </a:r>
            <a:br>
              <a:rPr sz="2800"/>
            </a:b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Ест лишайник, мох зеленый. </a:t>
            </a:r>
            <a:br>
              <a:rPr sz="2800"/>
            </a:b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Любит снежные луга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3672000" cy="571500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000680" cy="581976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6516720" y="4941720"/>
            <a:ext cx="12859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916000" y="4723920"/>
            <a:ext cx="360036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Кто на своей голове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Лес носит?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737080" cy="381636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5329080" cy="440712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1:46:07Z</dcterms:created>
  <dc:creator>Пользователь</dc:creator>
  <dc:description/>
  <dc:language>en-US</dc:language>
  <cp:lastModifiedBy>Пользователь</cp:lastModifiedBy>
  <dcterms:modified xsi:type="dcterms:W3CDTF">2011-04-18T03:38:25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160000000000010250300207f7000400038000</vt:lpwstr>
  </property>
  <property fmtid="{D5CDD505-2E9C-101B-9397-08002B2CF9AE}" pid="3" name="Version">
    <vt:r8>1</vt:r8>
  </property>
</Properties>
</file>