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gif" ContentType="image/gif"/>
  <Override PartName="/ppt/media/image11.jpeg" ContentType="image/jpeg"/>
  <Override PartName="/ppt/media/image6.jpeg" ContentType="image/jpeg"/>
  <Override PartName="/ppt/media/image9.png" ContentType="image/png"/>
  <Override PartName="/ppt/media/image5.gif" ContentType="image/gif"/>
  <Override PartName="/ppt/media/image4.jpeg" ContentType="image/jpeg"/>
  <Override PartName="/ppt/media/image3.gif" ContentType="image/gif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CFB-A066-4A04-84D5-7C72AA1D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AA8-6DF0-45E4-8BD4-B4E7ABDF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34A-3ACB-4647-A42C-6C656771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002-20D0-4616-9954-D49A534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8171-1D63-4942-91B0-AD0DEC5A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0B8F-03FD-4BA6-9CF9-431D111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23F9-16C3-4A4A-8E1A-D0A02613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8CD0-5D87-4850-B887-F2A42ED6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C6FA-EE1D-4115-9B86-55F3B01D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A3C9-E1A7-4D82-AA3B-25F5647A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FC6C-8F57-4DF9-811F-2F419D6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C47-5B02-4C71-94E9-E96F1CC6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70F7-B8A7-4241-ADAF-63CE2FD8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9B1B-8814-4AF9-BA5B-A2C0230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0E0-6DF8-42C9-8AA5-A0BADA59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0631-B31D-4A68-9F4F-652E63D0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DE44-64FA-4312-8299-49FA5E51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ECF-6332-47DD-83E4-FAD8017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758-E68B-443E-831D-78E32E8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27A-F702-45F1-A3B4-6A1BF62D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F3F-FBB1-4A68-A99B-FEE9051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A7D-0F06-4FD1-9573-720EFBC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273-6D4B-4798-867B-94298F6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E78-1394-41E3-A93E-89FEDC0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0E2B-DA32-4585-AD0C-E6672A521C2E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5E67-1703-4B40-82C7-1DF57AE5F644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918200" cy="34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9933"/>
                </a:solidFill>
                <a:latin typeface="Times New Roman"/>
              </a:rPr>
              <a:t>У кого на голове дерево растёт?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75172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02400" cy="5413320"/>
          </a:xfrm>
          <a:prstGeom prst="rect">
            <a:avLst/>
          </a:prstGeom>
          <a:ln w="7632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889680" cy="499572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45080" cy="406260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4392360" cy="325584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64000" y="620640"/>
            <a:ext cx="3203640" cy="2403720"/>
          </a:xfrm>
          <a:prstGeom prst="rect">
            <a:avLst/>
          </a:prstGeom>
          <a:ln w="572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rcRect l="0" t="0" r="69" b="-45"/>
          <a:stretch/>
        </p:blipFill>
        <p:spPr>
          <a:xfrm>
            <a:off x="250920" y="404640"/>
            <a:ext cx="3960720" cy="525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2"/>
          <a:srcRect l="0" t="0" r="0" b="-78"/>
          <a:stretch/>
        </p:blipFill>
        <p:spPr>
          <a:xfrm>
            <a:off x="4788000" y="404640"/>
            <a:ext cx="3743280" cy="532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3995640" y="5013360"/>
            <a:ext cx="1162080" cy="1676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flipH="1" flipV="1">
            <a:off x="1692360" y="549360"/>
            <a:ext cx="576000" cy="71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443600">
            <a:off x="6084360" y="3860640"/>
            <a:ext cx="12564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443600">
            <a:off x="6372000" y="393336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443600">
            <a:off x="6156000" y="407628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443600">
            <a:off x="6516360" y="414936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443600">
            <a:off x="5795640" y="4076280"/>
            <a:ext cx="12528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1880" y="4797360"/>
            <a:ext cx="3048120" cy="911160"/>
          </a:xfrm>
          <a:custGeom>
            <a:avLst/>
            <a:gdLst/>
            <a:ahLst/>
            <a:rect l="l" t="t" r="r" b="b"/>
            <a:pathLst>
              <a:path w="1920" h="574">
                <a:moveTo>
                  <a:pt x="1920" y="408"/>
                </a:moveTo>
                <a:cubicBezTo>
                  <a:pt x="1905" y="204"/>
                  <a:pt x="1890" y="0"/>
                  <a:pt x="1875" y="0"/>
                </a:cubicBezTo>
                <a:cubicBezTo>
                  <a:pt x="1860" y="0"/>
                  <a:pt x="1844" y="363"/>
                  <a:pt x="1829" y="408"/>
                </a:cubicBezTo>
                <a:cubicBezTo>
                  <a:pt x="1814" y="453"/>
                  <a:pt x="1799" y="265"/>
                  <a:pt x="1784" y="272"/>
                </a:cubicBezTo>
                <a:cubicBezTo>
                  <a:pt x="1769" y="279"/>
                  <a:pt x="1754" y="460"/>
                  <a:pt x="1739" y="453"/>
                </a:cubicBezTo>
                <a:cubicBezTo>
                  <a:pt x="1724" y="446"/>
                  <a:pt x="1708" y="227"/>
                  <a:pt x="1693" y="227"/>
                </a:cubicBezTo>
                <a:cubicBezTo>
                  <a:pt x="1678" y="227"/>
                  <a:pt x="1671" y="423"/>
                  <a:pt x="1648" y="453"/>
                </a:cubicBezTo>
                <a:cubicBezTo>
                  <a:pt x="1625" y="483"/>
                  <a:pt x="1580" y="445"/>
                  <a:pt x="1557" y="408"/>
                </a:cubicBezTo>
                <a:cubicBezTo>
                  <a:pt x="1534" y="371"/>
                  <a:pt x="1519" y="212"/>
                  <a:pt x="1512" y="227"/>
                </a:cubicBezTo>
                <a:cubicBezTo>
                  <a:pt x="1505" y="242"/>
                  <a:pt x="1550" y="461"/>
                  <a:pt x="1512" y="499"/>
                </a:cubicBezTo>
                <a:cubicBezTo>
                  <a:pt x="1474" y="537"/>
                  <a:pt x="1323" y="498"/>
                  <a:pt x="1285" y="453"/>
                </a:cubicBezTo>
                <a:cubicBezTo>
                  <a:pt x="1247" y="408"/>
                  <a:pt x="1300" y="219"/>
                  <a:pt x="1285" y="227"/>
                </a:cubicBezTo>
                <a:cubicBezTo>
                  <a:pt x="1270" y="235"/>
                  <a:pt x="1217" y="492"/>
                  <a:pt x="1194" y="499"/>
                </a:cubicBezTo>
                <a:cubicBezTo>
                  <a:pt x="1171" y="506"/>
                  <a:pt x="1156" y="272"/>
                  <a:pt x="1149" y="272"/>
                </a:cubicBezTo>
                <a:cubicBezTo>
                  <a:pt x="1142" y="272"/>
                  <a:pt x="1179" y="461"/>
                  <a:pt x="1149" y="499"/>
                </a:cubicBezTo>
                <a:cubicBezTo>
                  <a:pt x="1119" y="537"/>
                  <a:pt x="1074" y="499"/>
                  <a:pt x="968" y="499"/>
                </a:cubicBezTo>
                <a:cubicBezTo>
                  <a:pt x="862" y="499"/>
                  <a:pt x="589" y="552"/>
                  <a:pt x="514" y="499"/>
                </a:cubicBezTo>
                <a:cubicBezTo>
                  <a:pt x="439" y="446"/>
                  <a:pt x="537" y="181"/>
                  <a:pt x="514" y="181"/>
                </a:cubicBezTo>
                <a:cubicBezTo>
                  <a:pt x="491" y="181"/>
                  <a:pt x="423" y="476"/>
                  <a:pt x="378" y="499"/>
                </a:cubicBezTo>
                <a:cubicBezTo>
                  <a:pt x="333" y="522"/>
                  <a:pt x="265" y="325"/>
                  <a:pt x="242" y="317"/>
                </a:cubicBezTo>
                <a:cubicBezTo>
                  <a:pt x="219" y="309"/>
                  <a:pt x="250" y="476"/>
                  <a:pt x="242" y="453"/>
                </a:cubicBezTo>
                <a:cubicBezTo>
                  <a:pt x="234" y="430"/>
                  <a:pt x="211" y="166"/>
                  <a:pt x="196" y="181"/>
                </a:cubicBezTo>
                <a:cubicBezTo>
                  <a:pt x="181" y="196"/>
                  <a:pt x="166" y="514"/>
                  <a:pt x="151" y="544"/>
                </a:cubicBezTo>
                <a:cubicBezTo>
                  <a:pt x="136" y="574"/>
                  <a:pt x="129" y="363"/>
                  <a:pt x="106" y="363"/>
                </a:cubicBezTo>
                <a:cubicBezTo>
                  <a:pt x="83" y="363"/>
                  <a:pt x="30" y="521"/>
                  <a:pt x="15" y="544"/>
                </a:cubicBezTo>
                <a:cubicBezTo>
                  <a:pt x="0" y="567"/>
                  <a:pt x="7" y="533"/>
                  <a:pt x="15" y="49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76720" y="4869000"/>
            <a:ext cx="3048120" cy="911160"/>
          </a:xfrm>
          <a:custGeom>
            <a:avLst/>
            <a:gdLst/>
            <a:ahLst/>
            <a:rect l="l" t="t" r="r" b="b"/>
            <a:pathLst>
              <a:path w="1920" h="574">
                <a:moveTo>
                  <a:pt x="1920" y="408"/>
                </a:moveTo>
                <a:cubicBezTo>
                  <a:pt x="1905" y="204"/>
                  <a:pt x="1890" y="0"/>
                  <a:pt x="1875" y="0"/>
                </a:cubicBezTo>
                <a:cubicBezTo>
                  <a:pt x="1860" y="0"/>
                  <a:pt x="1844" y="363"/>
                  <a:pt x="1829" y="408"/>
                </a:cubicBezTo>
                <a:cubicBezTo>
                  <a:pt x="1814" y="453"/>
                  <a:pt x="1799" y="265"/>
                  <a:pt x="1784" y="272"/>
                </a:cubicBezTo>
                <a:cubicBezTo>
                  <a:pt x="1769" y="279"/>
                  <a:pt x="1754" y="460"/>
                  <a:pt x="1739" y="453"/>
                </a:cubicBezTo>
                <a:cubicBezTo>
                  <a:pt x="1724" y="446"/>
                  <a:pt x="1708" y="227"/>
                  <a:pt x="1693" y="227"/>
                </a:cubicBezTo>
                <a:cubicBezTo>
                  <a:pt x="1678" y="227"/>
                  <a:pt x="1671" y="423"/>
                  <a:pt x="1648" y="453"/>
                </a:cubicBezTo>
                <a:cubicBezTo>
                  <a:pt x="1625" y="483"/>
                  <a:pt x="1580" y="445"/>
                  <a:pt x="1557" y="408"/>
                </a:cubicBezTo>
                <a:cubicBezTo>
                  <a:pt x="1534" y="371"/>
                  <a:pt x="1519" y="212"/>
                  <a:pt x="1512" y="227"/>
                </a:cubicBezTo>
                <a:cubicBezTo>
                  <a:pt x="1505" y="242"/>
                  <a:pt x="1550" y="461"/>
                  <a:pt x="1512" y="499"/>
                </a:cubicBezTo>
                <a:cubicBezTo>
                  <a:pt x="1474" y="537"/>
                  <a:pt x="1323" y="498"/>
                  <a:pt x="1285" y="453"/>
                </a:cubicBezTo>
                <a:cubicBezTo>
                  <a:pt x="1247" y="408"/>
                  <a:pt x="1300" y="219"/>
                  <a:pt x="1285" y="227"/>
                </a:cubicBezTo>
                <a:cubicBezTo>
                  <a:pt x="1270" y="235"/>
                  <a:pt x="1217" y="492"/>
                  <a:pt x="1194" y="499"/>
                </a:cubicBezTo>
                <a:cubicBezTo>
                  <a:pt x="1171" y="506"/>
                  <a:pt x="1156" y="272"/>
                  <a:pt x="1149" y="272"/>
                </a:cubicBezTo>
                <a:cubicBezTo>
                  <a:pt x="1142" y="272"/>
                  <a:pt x="1179" y="461"/>
                  <a:pt x="1149" y="499"/>
                </a:cubicBezTo>
                <a:cubicBezTo>
                  <a:pt x="1119" y="537"/>
                  <a:pt x="1074" y="499"/>
                  <a:pt x="968" y="499"/>
                </a:cubicBezTo>
                <a:cubicBezTo>
                  <a:pt x="862" y="499"/>
                  <a:pt x="589" y="552"/>
                  <a:pt x="514" y="499"/>
                </a:cubicBezTo>
                <a:cubicBezTo>
                  <a:pt x="439" y="446"/>
                  <a:pt x="537" y="181"/>
                  <a:pt x="514" y="181"/>
                </a:cubicBezTo>
                <a:cubicBezTo>
                  <a:pt x="491" y="181"/>
                  <a:pt x="423" y="476"/>
                  <a:pt x="378" y="499"/>
                </a:cubicBezTo>
                <a:cubicBezTo>
                  <a:pt x="333" y="522"/>
                  <a:pt x="265" y="325"/>
                  <a:pt x="242" y="317"/>
                </a:cubicBezTo>
                <a:cubicBezTo>
                  <a:pt x="219" y="309"/>
                  <a:pt x="250" y="476"/>
                  <a:pt x="242" y="453"/>
                </a:cubicBezTo>
                <a:cubicBezTo>
                  <a:pt x="234" y="430"/>
                  <a:pt x="211" y="166"/>
                  <a:pt x="196" y="181"/>
                </a:cubicBezTo>
                <a:cubicBezTo>
                  <a:pt x="181" y="196"/>
                  <a:pt x="166" y="514"/>
                  <a:pt x="151" y="544"/>
                </a:cubicBezTo>
                <a:cubicBezTo>
                  <a:pt x="136" y="574"/>
                  <a:pt x="129" y="363"/>
                  <a:pt x="106" y="363"/>
                </a:cubicBezTo>
                <a:cubicBezTo>
                  <a:pt x="83" y="363"/>
                  <a:pt x="30" y="521"/>
                  <a:pt x="15" y="544"/>
                </a:cubicBezTo>
                <a:cubicBezTo>
                  <a:pt x="0" y="567"/>
                  <a:pt x="7" y="533"/>
                  <a:pt x="15" y="499"/>
                </a:cubicBezTo>
              </a:path>
            </a:pathLst>
          </a:custGeom>
          <a:noFill/>
          <a:ln w="28440">
            <a:solidFill>
              <a:srgbClr val="587d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32" idx="2"/>
          </p:cNvCxnSpPr>
          <p:nvPr/>
        </p:nvCxnSpPr>
        <p:spPr>
          <a:xfrm flipH="1" rot="16200000">
            <a:off x="6659280" y="5770080"/>
            <a:ext cx="2520" cy="2160"/>
          </a:xfrm>
          <a:prstGeom prst="curvedConnector5">
            <a:avLst>
              <a:gd name="adj1" fmla="val -1200000"/>
              <a:gd name="adj2" fmla="val 40000"/>
              <a:gd name="adj3" fmla="val -1200000"/>
            </a:avLst>
          </a:prstGeom>
          <a:ln w="9360">
            <a:solidFill>
              <a:srgbClr val="336699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457200" y="3789360"/>
            <a:ext cx="801720" cy="1800360"/>
          </a:xfrm>
          <a:custGeom>
            <a:avLst/>
            <a:gdLst/>
            <a:ahLst/>
            <a:rect l="l" t="t" r="r" b="b"/>
            <a:pathLst>
              <a:path w="430" h="1050">
                <a:moveTo>
                  <a:pt x="143" y="1050"/>
                </a:moveTo>
                <a:cubicBezTo>
                  <a:pt x="124" y="951"/>
                  <a:pt x="105" y="853"/>
                  <a:pt x="143" y="732"/>
                </a:cubicBezTo>
                <a:cubicBezTo>
                  <a:pt x="181" y="611"/>
                  <a:pt x="324" y="445"/>
                  <a:pt x="369" y="324"/>
                </a:cubicBezTo>
                <a:cubicBezTo>
                  <a:pt x="414" y="203"/>
                  <a:pt x="430" y="0"/>
                  <a:pt x="415" y="7"/>
                </a:cubicBezTo>
                <a:cubicBezTo>
                  <a:pt x="400" y="14"/>
                  <a:pt x="340" y="263"/>
                  <a:pt x="279" y="369"/>
                </a:cubicBezTo>
                <a:cubicBezTo>
                  <a:pt x="218" y="475"/>
                  <a:pt x="97" y="559"/>
                  <a:pt x="52" y="642"/>
                </a:cubicBezTo>
                <a:cubicBezTo>
                  <a:pt x="7" y="725"/>
                  <a:pt x="14" y="808"/>
                  <a:pt x="7" y="868"/>
                </a:cubicBezTo>
                <a:cubicBezTo>
                  <a:pt x="0" y="928"/>
                  <a:pt x="7" y="981"/>
                  <a:pt x="7" y="1004"/>
                </a:cubicBezTo>
              </a:path>
            </a:pathLst>
          </a:custGeom>
          <a:noFill/>
          <a:ln w="889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4221000"/>
            <a:ext cx="946440" cy="517680"/>
          </a:xfrm>
          <a:custGeom>
            <a:avLst/>
            <a:gdLst/>
            <a:ahLst/>
            <a:rect l="l" t="t" r="r" b="b"/>
            <a:pathLst>
              <a:path w="642" h="326">
                <a:moveTo>
                  <a:pt x="136" y="235"/>
                </a:moveTo>
                <a:cubicBezTo>
                  <a:pt x="253" y="231"/>
                  <a:pt x="370" y="227"/>
                  <a:pt x="453" y="189"/>
                </a:cubicBezTo>
                <a:cubicBezTo>
                  <a:pt x="536" y="151"/>
                  <a:pt x="642" y="0"/>
                  <a:pt x="635" y="8"/>
                </a:cubicBezTo>
                <a:cubicBezTo>
                  <a:pt x="628" y="16"/>
                  <a:pt x="514" y="182"/>
                  <a:pt x="408" y="235"/>
                </a:cubicBezTo>
                <a:cubicBezTo>
                  <a:pt x="302" y="288"/>
                  <a:pt x="68" y="311"/>
                  <a:pt x="0" y="326"/>
                </a:cubicBezTo>
              </a:path>
            </a:pathLst>
          </a:custGeom>
          <a:noFill/>
          <a:ln w="63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4292640"/>
            <a:ext cx="360360" cy="28872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182"/>
                </a:moveTo>
                <a:cubicBezTo>
                  <a:pt x="3" y="151"/>
                  <a:pt x="7" y="121"/>
                  <a:pt x="45" y="91"/>
                </a:cubicBezTo>
                <a:cubicBezTo>
                  <a:pt x="83" y="61"/>
                  <a:pt x="197" y="15"/>
                  <a:pt x="227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4653000"/>
            <a:ext cx="360360" cy="168120"/>
          </a:xfrm>
          <a:custGeom>
            <a:avLst/>
            <a:gdLst/>
            <a:ahLst/>
            <a:rect l="l" t="t" r="r" b="b"/>
            <a:pathLst>
              <a:path w="227" h="106">
                <a:moveTo>
                  <a:pt x="0" y="0"/>
                </a:moveTo>
                <a:cubicBezTo>
                  <a:pt x="30" y="38"/>
                  <a:pt x="61" y="76"/>
                  <a:pt x="91" y="91"/>
                </a:cubicBezTo>
                <a:cubicBezTo>
                  <a:pt x="121" y="106"/>
                  <a:pt x="159" y="99"/>
                  <a:pt x="182" y="91"/>
                </a:cubicBezTo>
                <a:cubicBezTo>
                  <a:pt x="205" y="83"/>
                  <a:pt x="216" y="64"/>
                  <a:pt x="227" y="45"/>
                </a:cubicBezTo>
              </a:path>
            </a:pathLst>
          </a:custGeom>
          <a:noFill/>
          <a:ln w="4752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4581360"/>
            <a:ext cx="21600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5592600">
            <a:off x="1259640" y="4221720"/>
            <a:ext cx="21600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643000">
            <a:off x="1692000" y="4869000"/>
            <a:ext cx="21564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643000">
            <a:off x="1258560" y="4436640"/>
            <a:ext cx="21600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54400">
            <a:off x="1692000" y="4723920"/>
            <a:ext cx="21564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5847800">
            <a:off x="1330920" y="4797720"/>
            <a:ext cx="21564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858920" y="1700280"/>
            <a:ext cx="40338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Вот этот случай очень редкий -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На голове растут две ветки.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Боится зверь ветвей моих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Гнезд не строит птица в них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В ветвях краса и мощь моя,</a:t>
            </a:r>
            <a:br>
              <a:rPr sz="2000"/>
            </a:br>
            <a:r>
              <a:rPr b="0" lang="en-US" sz="2000" spc="-1" strike="noStrike">
                <a:solidFill>
                  <a:srgbClr val="302f0f"/>
                </a:solidFill>
                <a:latin typeface="Arial"/>
              </a:rPr>
              <a:t>Скажите быстро - кто же я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062240" cy="5149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1679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rcRect l="0" t="0" r="-9" b="102"/>
          <a:stretch/>
        </p:blipFill>
        <p:spPr>
          <a:xfrm>
            <a:off x="3489480" y="184320"/>
            <a:ext cx="5445000" cy="488448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464000" cy="320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987640" y="515772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Хоть верь, хоть не верь:</a:t>
            </a:r>
            <a:br>
              <a:rPr sz="1800"/>
            </a:b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Пробегал по лесу зверь.</a:t>
            </a:r>
            <a:br>
              <a:rPr sz="1800"/>
            </a:b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Нес на лбу он неспроста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Два развесистых куста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0" r="-79" b="0"/>
          <a:stretch/>
        </p:blipFill>
        <p:spPr>
          <a:xfrm>
            <a:off x="1403280" y="189000"/>
            <a:ext cx="4537080" cy="571500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084720" y="476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Стройный, быстрый,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Рога ветвисты.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Скачет по лесу весь день,</a:t>
            </a:r>
            <a:br>
              <a:rPr sz="1800"/>
            </a:b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Называется …. </a:t>
            </a:r>
            <a:r>
              <a:rPr b="0" lang="en-US" sz="1800" spc="-1" strike="noStrike">
                <a:solidFill>
                  <a:srgbClr val="302f0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302f0f"/>
                </a:solidFill>
                <a:latin typeface="Arial"/>
              </a:rPr>
              <a:t>Олень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f0f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Трав копытами касаясь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Ходит по лесу красавец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Ходит смело и легко,</a:t>
            </a:r>
            <a:br>
              <a:rPr sz="2400"/>
            </a:b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Рога раскинув широко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2f0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484360" y="534960"/>
            <a:ext cx="6418440" cy="4518000"/>
          </a:xfrm>
          <a:prstGeom prst="rect">
            <a:avLst/>
          </a:prstGeom>
          <a:ln w="76320">
            <a:solidFill>
              <a:srgbClr val="999933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47640" y="2995560"/>
            <a:ext cx="2305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rcRect l="0" t="0" r="64" b="70"/>
          <a:stretch/>
        </p:blipFill>
        <p:spPr>
          <a:xfrm>
            <a:off x="250920" y="476280"/>
            <a:ext cx="5796000" cy="434808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372360" y="2492280"/>
            <a:ext cx="2367000" cy="343224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355640" y="1341000"/>
            <a:ext cx="46818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Словно царскую корону,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Носит он свои рога.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Ест лишайник, мох зеленый. </a:t>
            </a:r>
            <a:br>
              <a:rPr sz="2800"/>
            </a:b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Любит снежные луга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672000" cy="57150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000680" cy="58197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128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916000" y="4723920"/>
            <a:ext cx="360036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Кто на своей голове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f0f"/>
                </a:solidFill>
                <a:latin typeface="Arial"/>
              </a:rPr>
              <a:t>Лес носит?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38163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329080" cy="44071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1:46:07Z</dcterms:created>
  <dc:creator>Пользователь</dc:creator>
  <dc:description/>
  <dc:language>en-US</dc:language>
  <cp:lastModifiedBy>Пользователь</cp:lastModifiedBy>
  <dcterms:modified xsi:type="dcterms:W3CDTF">2011-04-18T03:38:2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160000000000010250300207f7000400038000</vt:lpwstr>
  </property>
  <property fmtid="{D5CDD505-2E9C-101B-9397-08002B2CF9AE}" pid="3" name="Version">
    <vt:r8>1</vt:r8>
  </property>
</Properties>
</file>