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png" ContentType="image/png"/>
  <Override PartName="/ppt/media/image3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7F4-6202-495D-88F9-2DE46F8D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BFA-3F6C-463F-84D1-A0ED323A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A50-3F19-4062-A90C-47C2BBD2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1FD-9605-49F5-941A-478E597F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EF22-49CE-4AEE-B1C8-59E42DED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637D-05BB-46B1-AE57-CA05B4FA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0918-9D03-4370-A322-13DEF962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8379-0FF9-42A6-8C49-D76B593E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AA95-B71F-4FFE-805F-F81578DD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296-51A1-4E00-B95B-50E9EB98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686B-2DD0-4F30-98EC-6C51AB82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A3A-F166-4D50-A02A-6A2FF0F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B79-C0C9-4E32-9DD6-E6C81DC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73ED-8D8C-405F-8842-013699D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7ED6-BF64-4F58-AD33-B9B4B8A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4DA4-8374-4898-9EA7-9F534D1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22AA-EAF0-441E-9415-A22E1460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4258-ECAF-4435-A36E-7CF9FA70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68DA-2BAF-40F4-A0B0-DFAB6E2A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FF9A-066F-466F-A0BC-AB409067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7688-55BA-4AFA-8C01-CA3C121B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B2F5-8EFC-40EE-8578-37CCD5AA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992-ECB6-41A8-905A-F42DA1EE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EDBD-A4E5-40E1-A373-2AEB27B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AD8D-19B9-402B-80FC-F089DBF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EB57-9994-4149-819E-95FA6D0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4571-D435-42B9-9EF7-0108B934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107A-1F5E-47A4-8236-E44C4832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DB92-A645-481E-BB13-C73C3D35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38EB-778C-4992-9D2B-A1ED07CA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FDF8-C96A-43A7-9895-21AB0621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72E6-58E2-4323-AFD0-B114DDD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5EBC-CC45-4A59-9EAE-2F7EAF36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4C5-DA76-4F0B-BCC6-1A72DE76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BA10-A7EA-446F-80A6-7D94A50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13E6-BB41-4483-89BC-257D897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E245-F03F-44D6-AB81-1218DDD6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6691-0A1F-4A9E-A8E4-5B40868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0D27-0863-44A4-B10F-20ACD949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229A-A459-4ABD-9616-6ACD8D24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9549-62EF-4E4D-B932-AC578D5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A695-45E7-421A-8CE9-A7F791B2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E7F4-0D55-4199-AEDF-CF48A0E5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420A-BFA3-4942-AB5C-3666F56A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B6F-9AA5-4CBA-84C0-55B76AB7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2314-7D4F-4ECD-8B89-4903F0C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8EFA6-4FD4-4744-81EC-1B904451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D64D-2650-445F-A6EA-33CFAD85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3106E-2FAA-4EA8-A46B-BA4F2C9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01EF-C0A0-4984-BFA1-EA8F152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9080C-AE82-487C-B5FA-F6D27E1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64542-6B00-410E-AF19-7F6F5830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FD2F-0875-4515-A67F-4B32A8F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9F83-9A77-43A4-8A64-89B23B22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F7F1-7602-4AD5-BA68-E826B566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0BB-5B09-446F-A5F5-ECDBEAB8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0DF36-2DC4-4C38-BA2E-96EB7155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86F-6F7C-456E-B377-0BBEEA4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636-3710-4751-AE52-2ECE874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BC4-48DC-4790-8874-77C255C6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1D07-63AF-4538-BE9D-373E957FB1C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0CE-A358-4794-A23E-CC5E7CAA21E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A242-2C5F-4CD1-95F4-BD057653A3C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8A7-3B6C-4F9A-8960-CA07B2D8146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E9E-BAEC-4DED-B770-48339469CFA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6560" y="530280"/>
            <a:ext cx="54194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rebuchet MS"/>
              </a:rPr>
              <a:t>Воспитатель Иванова Елена Александ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692000" y="4723920"/>
            <a:ext cx="6777000" cy="17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роводится игра «Дети и медведь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Дети подходят к медведю, останавливаются, прикладывают указательны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алец к губам и говорят: «Тс-с-с»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1\Desktop\лето 2014\104CANON\IMG_0023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450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1\Desktop\лето 2014\104CANON\IMG_0025.JPG"/>
          <p:cNvPicPr/>
          <p:nvPr/>
        </p:nvPicPr>
        <p:blipFill>
          <a:blip r:embed="rId1"/>
          <a:stretch/>
        </p:blipFill>
        <p:spPr>
          <a:xfrm>
            <a:off x="0" y="333360"/>
            <a:ext cx="4968720" cy="479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Users\1\Desktop\лето 2014\104CANON\IMG_0024.JPG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89200" y="1142640"/>
            <a:ext cx="3429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89200" y="6021000"/>
            <a:ext cx="3429000" cy="576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rebuchet MS"/>
              </a:rPr>
              <a:t>Едем дальше!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60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61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" descr="C:\Users\1\Desktop\лето 2014\104CANON\IMG_0027.JPG"/>
          <p:cNvPicPr/>
          <p:nvPr/>
        </p:nvPicPr>
        <p:blipFill>
          <a:blip r:embed="rId2"/>
          <a:stretch/>
        </p:blipFill>
        <p:spPr>
          <a:xfrm>
            <a:off x="468360" y="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354480" y="4149720"/>
            <a:ext cx="5114880" cy="201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Ярко солнышко нам светит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И поют нам дружно дет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вайте споём песенку, чтобы в дороге было веселей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C:\Users\1\Desktop\работа\H30XFz.jpg"/>
          <p:cNvPicPr/>
          <p:nvPr/>
        </p:nvPicPr>
        <p:blipFill>
          <a:blip r:embed="rId1"/>
          <a:stretch/>
        </p:blipFill>
        <p:spPr>
          <a:xfrm>
            <a:off x="179280" y="4005360"/>
            <a:ext cx="3024360" cy="1722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1\Desktop\DCIM\104CANON\IMG_0031.JPG"/>
          <p:cNvPicPr/>
          <p:nvPr/>
        </p:nvPicPr>
        <p:blipFill>
          <a:blip r:embed="rId2"/>
          <a:stretch/>
        </p:blipFill>
        <p:spPr>
          <a:xfrm>
            <a:off x="2771640" y="-316080"/>
            <a:ext cx="5981760" cy="40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139760" y="5297400"/>
            <a:ext cx="73278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69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7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" descr="C:\Users\1\Desktop\лето 2014\104CANON\IMG_0020.JPG"/>
          <p:cNvPicPr/>
          <p:nvPr/>
        </p:nvPicPr>
        <p:blipFill>
          <a:blip r:embed="rId3"/>
          <a:stretch/>
        </p:blipFill>
        <p:spPr>
          <a:xfrm>
            <a:off x="611280" y="549360"/>
            <a:ext cx="6516720" cy="504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076720" y="3933720"/>
            <a:ext cx="3392640" cy="172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На пути у нас лужайка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rebuchet MS"/>
              </a:rPr>
              <a:t>На лужайке скачет зайка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C:\Users\1\Desktop\работа\H30XFz.jpg"/>
          <p:cNvPicPr/>
          <p:nvPr/>
        </p:nvPicPr>
        <p:blipFill>
          <a:blip r:embed="rId1"/>
          <a:stretch/>
        </p:blipFill>
        <p:spPr>
          <a:xfrm>
            <a:off x="0" y="4076640"/>
            <a:ext cx="4697280" cy="244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C:\Users\1\Desktop\DCIM\104CANON\IMG_0028.JPG"/>
          <p:cNvPicPr/>
          <p:nvPr/>
        </p:nvPicPr>
        <p:blipFill>
          <a:blip r:embed="rId2"/>
          <a:stretch/>
        </p:blipFill>
        <p:spPr>
          <a:xfrm>
            <a:off x="3132000" y="189000"/>
            <a:ext cx="5400720" cy="36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5291280" y="0"/>
            <a:ext cx="35352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78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79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Picture 2" descr="C:\Users\1\Desktop\DCIM\104CANON\IMG_0041.JPG"/>
          <p:cNvPicPr/>
          <p:nvPr/>
        </p:nvPicPr>
        <p:blipFill>
          <a:blip r:embed="rId3"/>
          <a:stretch/>
        </p:blipFill>
        <p:spPr>
          <a:xfrm>
            <a:off x="6516720" y="314172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1\Desktop\DCIM\104CANON\IMG_0042.JPG"/>
          <p:cNvPicPr/>
          <p:nvPr/>
        </p:nvPicPr>
        <p:blipFill>
          <a:blip r:embed="rId4"/>
          <a:stretch/>
        </p:blipFill>
        <p:spPr>
          <a:xfrm>
            <a:off x="250920" y="189000"/>
            <a:ext cx="4752720" cy="36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1\Desktop\DCIM\104CANON\IMG_0043.JPG"/>
          <p:cNvPicPr/>
          <p:nvPr/>
        </p:nvPicPr>
        <p:blipFill>
          <a:blip r:embed="rId5"/>
          <a:stretch/>
        </p:blipFill>
        <p:spPr>
          <a:xfrm>
            <a:off x="539640" y="3860640"/>
            <a:ext cx="409104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Picture 2" descr="C:\Users\1\Desktop\DCIM\104CANON\IMG_0044.JPG"/>
          <p:cNvPicPr/>
          <p:nvPr/>
        </p:nvPicPr>
        <p:blipFill>
          <a:blip r:embed="rId1"/>
          <a:stretch/>
        </p:blipFill>
        <p:spPr>
          <a:xfrm>
            <a:off x="2568600" y="0"/>
            <a:ext cx="6575400" cy="59500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8"/>
          <p:cNvSpPr/>
          <p:nvPr/>
        </p:nvSpPr>
        <p:spPr>
          <a:xfrm>
            <a:off x="324000" y="342900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йка прыгал и скак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На лужайке танцевал. (Дети прыгают, как зайчики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0" name="Picture 2" descr="C:\Users\1\Desktop\DCIM\104CANON\IMG_0045.JPG"/>
          <p:cNvPicPr/>
          <p:nvPr/>
        </p:nvPicPr>
        <p:blipFill>
          <a:blip r:embed="rId1"/>
          <a:stretch/>
        </p:blipFill>
        <p:spPr>
          <a:xfrm>
            <a:off x="1979640" y="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2286000" y="54910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Ведущий: Устал прыгать и скак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Сел на травку отдыхать. (Дети присаживаются на корточки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97480" cy="4310280"/>
          </a:xfrm>
          <a:prstGeom prst="rect">
            <a:avLst/>
          </a:prstGeom>
          <a:ln w="0">
            <a:noFill/>
          </a:ln>
        </p:spPr>
      </p:pic>
      <p:grpSp>
        <p:nvGrpSpPr>
          <p:cNvPr id="293" name="Рисунок 5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94" name="Рисунок 5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Picture 2" descr="C:\Users\1\Desktop\работа\H30XFz.jpg"/>
          <p:cNvPicPr/>
          <p:nvPr/>
        </p:nvPicPr>
        <p:blipFill>
          <a:blip r:embed="rId3"/>
          <a:stretch/>
        </p:blipFill>
        <p:spPr>
          <a:xfrm>
            <a:off x="179280" y="1197000"/>
            <a:ext cx="4500720" cy="317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359160" y="1865160"/>
            <a:ext cx="5303880" cy="3445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354480" y="333360"/>
            <a:ext cx="511488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Цель: создать детям праздничное настроение, условия для проявл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положительных эмоц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3413160" y="530280"/>
            <a:ext cx="3762360" cy="15364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Picture 2" descr="C:\Users\1\Desktop\работа\H30XFz.jpg"/>
          <p:cNvPicPr/>
          <p:nvPr/>
        </p:nvPicPr>
        <p:blipFill>
          <a:blip r:embed="rId2"/>
          <a:stretch/>
        </p:blipFill>
        <p:spPr>
          <a:xfrm>
            <a:off x="2700360" y="2781360"/>
            <a:ext cx="607212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50920" y="5516640"/>
            <a:ext cx="8137440" cy="13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Ребята, посмотрите, как здесь красиво, как в лесу! Какие красивы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цветы здесь цветут. Хотите прокатиться по лесу? Посмотрите, нас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ждёт маленький паровозик. Давайте отправимся на нём в путешеств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0000"/>
                </a:solidFill>
                <a:latin typeface="Trebuchet MS"/>
              </a:rPr>
              <a:t>н.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Users\1\Desktop\лето 2014\104CANON\IMG_0008.JPG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501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544500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Воспитатель превращается , дети становятся сзади друг за другом, «вагончики прицепляются» и паровозик с детьми отправляется в путь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Users\1\Desktop\лето 2014\104CANON\IMG_0029.JPG"/>
          <p:cNvPicPr/>
          <p:nvPr/>
        </p:nvPicPr>
        <p:blipFill>
          <a:blip r:embed="rId1"/>
          <a:stretch/>
        </p:blipFill>
        <p:spPr>
          <a:xfrm>
            <a:off x="2627280" y="0"/>
            <a:ext cx="6192720" cy="522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995280" y="4869000"/>
            <a:ext cx="4473720" cy="172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Паровозик, чу-чу-чу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Далеко вас укачу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Все к друг дружке прицепил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И колёса покатилис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C:\Users\1\Desktop\лето 2014\104CANON\IMG_0030.JPG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494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300360" y="2060280"/>
            <a:ext cx="2592360" cy="3600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Машинист затормозил,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аровоз остановил.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На полянку выходите. 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Ну-ка, что здесь? Посмотрите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4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35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2" descr="C:\Users\1\Desktop\лето 2014\104CANON\IMG_0013.JPG"/>
          <p:cNvPicPr/>
          <p:nvPr/>
        </p:nvPicPr>
        <p:blipFill>
          <a:blip r:embed="rId2"/>
          <a:stretch/>
        </p:blipFill>
        <p:spPr>
          <a:xfrm>
            <a:off x="395280" y="404640"/>
            <a:ext cx="5905440" cy="518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5754600" y="1139760"/>
            <a:ext cx="3181320" cy="1573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51280" y="3282480"/>
            <a:ext cx="3166920" cy="2954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осмотрите, какие красивые цветы здесь выросли! Давайте будем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собирать их в букеты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Проводится игра «Собери букет»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0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41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" descr="C:\Users\1\Desktop\лето 2014\104CANON\IMG_0011.JPG"/>
          <p:cNvPicPr/>
          <p:nvPr/>
        </p:nvPicPr>
        <p:blipFill>
          <a:blip r:embed="rId3"/>
          <a:stretch/>
        </p:blipFill>
        <p:spPr>
          <a:xfrm>
            <a:off x="0" y="476280"/>
            <a:ext cx="5580000" cy="561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712800" y="4608360"/>
            <a:ext cx="8113680" cy="1920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1\Desktop\работа\H30XFz.jpg"/>
          <p:cNvPicPr/>
          <p:nvPr/>
        </p:nvPicPr>
        <p:blipFill>
          <a:blip r:embed="rId2"/>
          <a:stretch/>
        </p:blipFill>
        <p:spPr>
          <a:xfrm>
            <a:off x="324000" y="40464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1\Desktop\DCIM\104CANON\IMG_0028.JPG"/>
          <p:cNvPicPr/>
          <p:nvPr/>
        </p:nvPicPr>
        <p:blipFill>
          <a:blip r:embed="rId3"/>
          <a:stretch/>
        </p:blipFill>
        <p:spPr>
          <a:xfrm>
            <a:off x="5076720" y="115920"/>
            <a:ext cx="3888000" cy="381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48160" cy="20671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Кто же спит тут под дубком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Богатырским крепким сном?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Тише, дети, не шуметь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Trebuchet MS"/>
              </a:rPr>
              <a:t>Это спит в лесу медведь!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9" name="Рисунок 3"/>
          <p:cNvGrpSpPr/>
          <p:nvPr/>
        </p:nvGrpSpPr>
        <p:grpSpPr>
          <a:xfrm>
            <a:off x="549360" y="927000"/>
            <a:ext cx="4430520" cy="4437000"/>
            <a:chOff x="549360" y="927000"/>
            <a:chExt cx="4430520" cy="4437000"/>
          </a:xfrm>
        </p:grpSpPr>
        <p:pic>
          <p:nvPicPr>
            <p:cNvPr id="25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549360" y="927000"/>
              <a:ext cx="4430520" cy="44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C:\Users\1\Desktop\лето 2014\104CANON\IMG_0022.JPG"/>
          <p:cNvPicPr/>
          <p:nvPr/>
        </p:nvPicPr>
        <p:blipFill>
          <a:blip r:embed="rId3"/>
          <a:stretch/>
        </p:blipFill>
        <p:spPr>
          <a:xfrm>
            <a:off x="611280" y="1125360"/>
            <a:ext cx="4032000" cy="475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4:18:08Z</dcterms:created>
  <dc:creator>1</dc:creator>
  <dc:description/>
  <dc:language>en-US</dc:language>
  <cp:lastModifiedBy>1</cp:lastModifiedBy>
  <dcterms:modified xsi:type="dcterms:W3CDTF">2014-07-25T07:16:44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2b0000000000010250300207f7000400038000</vt:lpwstr>
  </property>
</Properties>
</file>