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0AA-5E69-4583-AC2D-EE4A03F7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9F3-B937-4282-94B1-8AE8394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AB1-36F2-477B-A41A-F1A68A79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024-AA54-4A04-B4D3-79B7469B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66B-330A-48A9-9157-22D2C3D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653-CED6-44C3-A61F-9F2517A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4853-12B9-41A7-AAC5-646F0FFA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8BF-7BB9-4442-8F52-29AA0E1C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B66-C0B7-47C2-8722-3683FDC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4665-BA57-47DB-88E1-05C3C63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227-7EA6-416C-B59F-B9FCEF2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CE8-4EE3-4999-9CC6-7C42587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FAA-62D8-43E4-AD97-0FFA6D2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DE0-E1AA-4064-9D7B-F913620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A528-18D8-466A-8613-0C89C1DB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1A1-188E-46D5-B016-07152B3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BF14-F785-417B-9C79-D800BA2F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7759-3850-46E2-B493-4A845E4C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A2C0-C911-4068-8C5B-E85201AC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6177-1D10-413C-BD2F-18D7801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FA8F-70F7-4FA8-BDEB-15D144D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7666-3B59-451A-B200-310D60FB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819-4AE7-4057-A8B4-C982C77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1A15-99BD-479C-835E-8FE97A0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57F5-9635-4D94-A67F-E469FD0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5B32-5083-4050-A2E3-00D5D8C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61B1-C48D-445E-B6B2-496D717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9DAC-03BF-4348-AFD6-B255E40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89C8-B0C5-4EFD-A641-E3B80BB6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43A9-CBDB-4D8A-9CEA-5A9B386A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3C35-F740-4207-BF86-A5C667FF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1BEE-95DF-458B-B2C7-9AF6F76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D60C-9A42-4F14-BDDA-350F6F0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D6C-C257-4409-A53B-68D370F5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F462-5249-4015-94FA-A1874BCD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27E4-C9CB-4E51-A256-F054974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98C3-66A6-4FC9-B867-2641817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2A73-4EA0-4DFC-B208-76071B08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DFE0-0EF7-45A6-8837-264A27E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6B2C-7CE4-4821-B788-2B14C90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856A-127C-4B88-9B08-79F8F79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C0E1-7EAE-40C8-8C52-0E9D3D30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D4EB-D602-4D2F-AB0B-242472DC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66C3-228E-4EFE-8C58-BC95624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FDB-BCE4-4CC7-9D78-D2B6162C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6807C-519C-412E-BFB4-B266A8C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1F26-08D0-4335-9930-BE955D4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95EE-1268-4C25-93B8-E716691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DD69-B952-4A7B-9B35-C66F297E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C3E9-B620-44CF-8B77-90A6007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C328-E6EF-48D9-9D95-A65C730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41E4-A6D6-4487-8CDE-D2339C4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315F-D4F0-49A1-8E51-0F21237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9D2B-1FAD-4141-BB29-EED0F900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492E-757F-4D26-8C5C-A1D5DF98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3B7-F622-4148-B7CB-65793B7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C712-569E-47DC-8C14-17C44FE4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809-F735-4150-AC58-C023161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EBB-4277-4196-81DF-AA8F94A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A29-7A02-43D3-B601-CB3ACC5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33D-20EA-4BF2-AA70-6DB902D12A0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FD91-3DC7-4077-8080-4927C56024E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704-5E5F-4FBF-ABD9-8465EB1BEEE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82D2-BB19-4192-8A3D-D0039099A50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EEE-8849-44F5-ADAD-2C6B1D94AC9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6560" y="530280"/>
            <a:ext cx="54194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Воспитатель Иванова Елена Александ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000" y="4723920"/>
            <a:ext cx="677700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роводится игра «Дети и медведь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ети подходят к медведю, останавливаются, прикладывают указательны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лец к губам и говорят: «Тс-с-с»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1\Desktop\лето 2014\104CANON\IMG_0023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45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1\Desktop\лето 2014\104CANON\IMG_0025.JPG"/>
          <p:cNvPicPr/>
          <p:nvPr/>
        </p:nvPicPr>
        <p:blipFill>
          <a:blip r:embed="rId1"/>
          <a:stretch/>
        </p:blipFill>
        <p:spPr>
          <a:xfrm>
            <a:off x="0" y="333360"/>
            <a:ext cx="4968720" cy="479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1\Desktop\лето 2014\104CANON\IMG_0024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89200" y="6021000"/>
            <a:ext cx="3429000" cy="576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rebuchet MS"/>
              </a:rPr>
              <a:t>Едем дальше!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61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C:\Users\1\Desktop\лето 2014\104CANON\IMG_0027.JPG"/>
          <p:cNvPicPr/>
          <p:nvPr/>
        </p:nvPicPr>
        <p:blipFill>
          <a:blip r:embed="rId2"/>
          <a:stretch/>
        </p:blipFill>
        <p:spPr>
          <a:xfrm>
            <a:off x="468360" y="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354480" y="4149720"/>
            <a:ext cx="511488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Ярко солнышко нам светит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И поют нам дружно дет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вайте споём песенку, чтобы в дороге было веселей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179280" y="4005360"/>
            <a:ext cx="3024360" cy="1722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1\Desktop\DCIM\104CANON\IMG_0031.JPG"/>
          <p:cNvPicPr/>
          <p:nvPr/>
        </p:nvPicPr>
        <p:blipFill>
          <a:blip r:embed="rId2"/>
          <a:stretch/>
        </p:blipFill>
        <p:spPr>
          <a:xfrm>
            <a:off x="2771640" y="-316080"/>
            <a:ext cx="598176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139760" y="5297400"/>
            <a:ext cx="73278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6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" descr="C:\Users\1\Desktop\лето 2014\104CANON\IMG_0020.JPG"/>
          <p:cNvPicPr/>
          <p:nvPr/>
        </p:nvPicPr>
        <p:blipFill>
          <a:blip r:embed="rId3"/>
          <a:stretch/>
        </p:blipFill>
        <p:spPr>
          <a:xfrm>
            <a:off x="611280" y="549360"/>
            <a:ext cx="651672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076720" y="3933720"/>
            <a:ext cx="33926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пути у нас лужайк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лужайке скачет зайка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0" y="4076640"/>
            <a:ext cx="4697280" cy="244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1\Desktop\DCIM\104CANON\IMG_0028.JPG"/>
          <p:cNvPicPr/>
          <p:nvPr/>
        </p:nvPicPr>
        <p:blipFill>
          <a:blip r:embed="rId2"/>
          <a:stretch/>
        </p:blipFill>
        <p:spPr>
          <a:xfrm>
            <a:off x="3132000" y="189000"/>
            <a:ext cx="5400720" cy="36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291280" y="0"/>
            <a:ext cx="35352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78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9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2" descr="C:\Users\1\Desktop\DCIM\104CANON\IMG_0041.JPG"/>
          <p:cNvPicPr/>
          <p:nvPr/>
        </p:nvPicPr>
        <p:blipFill>
          <a:blip r:embed="rId3"/>
          <a:stretch/>
        </p:blipFill>
        <p:spPr>
          <a:xfrm>
            <a:off x="6516720" y="314172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1\Desktop\DCIM\104CANON\IMG_0042.JPG"/>
          <p:cNvPicPr/>
          <p:nvPr/>
        </p:nvPicPr>
        <p:blipFill>
          <a:blip r:embed="rId4"/>
          <a:stretch/>
        </p:blipFill>
        <p:spPr>
          <a:xfrm>
            <a:off x="250920" y="189000"/>
            <a:ext cx="4752720" cy="36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1\Desktop\DCIM\104CANON\IMG_0043.JPG"/>
          <p:cNvPicPr/>
          <p:nvPr/>
        </p:nvPicPr>
        <p:blipFill>
          <a:blip r:embed="rId5"/>
          <a:stretch/>
        </p:blipFill>
        <p:spPr>
          <a:xfrm>
            <a:off x="539640" y="3860640"/>
            <a:ext cx="409104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Picture 2" descr="C:\Users\1\Desktop\DCIM\104CANON\IMG_0044.JPG"/>
          <p:cNvPicPr/>
          <p:nvPr/>
        </p:nvPicPr>
        <p:blipFill>
          <a:blip r:embed="rId1"/>
          <a:stretch/>
        </p:blipFill>
        <p:spPr>
          <a:xfrm>
            <a:off x="2568600" y="0"/>
            <a:ext cx="6575400" cy="59500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8"/>
          <p:cNvSpPr/>
          <p:nvPr/>
        </p:nvSpPr>
        <p:spPr>
          <a:xfrm>
            <a:off x="324000" y="342900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йка прыгал и скак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 лужайке танцевал. (Дети прыгают, как зайчи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0" name="Picture 2" descr="C:\Users\1\Desktop\DCIM\104CANON\IMG_0045.JPG"/>
          <p:cNvPicPr/>
          <p:nvPr/>
        </p:nvPicPr>
        <p:blipFill>
          <a:blip r:embed="rId1"/>
          <a:stretch/>
        </p:blipFill>
        <p:spPr>
          <a:xfrm>
            <a:off x="1979640" y="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2286000" y="54910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едущий: Устал прыгать и скак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ел на травку отдыхать. (Дети присаживаются на корточ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97480" cy="4310280"/>
          </a:xfrm>
          <a:prstGeom prst="rect">
            <a:avLst/>
          </a:prstGeom>
          <a:ln w="0">
            <a:noFill/>
          </a:ln>
        </p:spPr>
      </p:pic>
      <p:grpSp>
        <p:nvGrpSpPr>
          <p:cNvPr id="293" name="Рисунок 5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94" name="Рисунок 5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Picture 2" descr="C:\Users\1\Desktop\работа\H30XFz.jpg"/>
          <p:cNvPicPr/>
          <p:nvPr/>
        </p:nvPicPr>
        <p:blipFill>
          <a:blip r:embed="rId3"/>
          <a:stretch/>
        </p:blipFill>
        <p:spPr>
          <a:xfrm>
            <a:off x="179280" y="1197000"/>
            <a:ext cx="4500720" cy="317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359160" y="1865160"/>
            <a:ext cx="5303880" cy="3445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354480" y="333360"/>
            <a:ext cx="51148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Цель: создать детям праздничное настроение, условия для проявл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положительных эмоц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3413160" y="530280"/>
            <a:ext cx="3762360" cy="15364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2700360" y="2781360"/>
            <a:ext cx="607212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0920" y="5516640"/>
            <a:ext cx="8137440" cy="13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Ребята, посмотрите, как здесь красиво, как в лесу! Какие красивы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цветы здесь цветут. Хотите прокатиться по лесу? Посмотрите, нас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ждёт маленький паровозик. Давайте отправимся на нём в путешеств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rebuchet MS"/>
              </a:rPr>
              <a:t>н.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Users\1\Desktop\лето 2014\104CANON\IMG_0008.JPG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544500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оспитатель превращается , дети становятся сзади друг за другом, «вагончики прицепляются» и паровозик с детьми отправляется в путь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1\Desktop\лето 2014\104CANON\IMG_0029.JPG"/>
          <p:cNvPicPr/>
          <p:nvPr/>
        </p:nvPicPr>
        <p:blipFill>
          <a:blip r:embed="rId1"/>
          <a:stretch/>
        </p:blipFill>
        <p:spPr>
          <a:xfrm>
            <a:off x="2627280" y="0"/>
            <a:ext cx="6192720" cy="522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995280" y="4869000"/>
            <a:ext cx="4473720" cy="172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Все к друг дружке прицеп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И колёса покат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C:\Users\1\Desktop\лето 2014\104CANON\IMG_0030.JPG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49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300360" y="2060280"/>
            <a:ext cx="2592360" cy="3600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Машинист затормозил,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аровоз остановил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а полянку выходите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у-ка, что здесь? Посмотрите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4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5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" descr="C:\Users\1\Desktop\лето 2014\104CANON\IMG_0013.JPG"/>
          <p:cNvPicPr/>
          <p:nvPr/>
        </p:nvPicPr>
        <p:blipFill>
          <a:blip r:embed="rId2"/>
          <a:stretch/>
        </p:blipFill>
        <p:spPr>
          <a:xfrm>
            <a:off x="395280" y="404640"/>
            <a:ext cx="5905440" cy="518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5754600" y="1139760"/>
            <a:ext cx="3181320" cy="1573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51280" y="3282480"/>
            <a:ext cx="3166920" cy="2954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смотрите, какие красивые цветы здесь выросли! Давайте будем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собирать их в букеты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роводится игра «Собери букет»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4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" descr="C:\Users\1\Desktop\лето 2014\104CANON\IMG_0011.JPG"/>
          <p:cNvPicPr/>
          <p:nvPr/>
        </p:nvPicPr>
        <p:blipFill>
          <a:blip r:embed="rId3"/>
          <a:stretch/>
        </p:blipFill>
        <p:spPr>
          <a:xfrm>
            <a:off x="0" y="476280"/>
            <a:ext cx="5580000" cy="561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712800" y="4608360"/>
            <a:ext cx="8113680" cy="1920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324000" y="40464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1\Desktop\DCIM\104CANON\IMG_0028.JPG"/>
          <p:cNvPicPr/>
          <p:nvPr/>
        </p:nvPicPr>
        <p:blipFill>
          <a:blip r:embed="rId3"/>
          <a:stretch/>
        </p:blipFill>
        <p:spPr>
          <a:xfrm>
            <a:off x="5076720" y="115920"/>
            <a:ext cx="3888000" cy="381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48160" cy="20671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Кто же спит тут под дубком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Богатырским крепким сном?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Тише, дети, не шумет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Это спит в лесу медвед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5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C:\Users\1\Desktop\лето 2014\104CANON\IMG_0022.JPG"/>
          <p:cNvPicPr/>
          <p:nvPr/>
        </p:nvPicPr>
        <p:blipFill>
          <a:blip r:embed="rId3"/>
          <a:stretch/>
        </p:blipFill>
        <p:spPr>
          <a:xfrm>
            <a:off x="611280" y="1125360"/>
            <a:ext cx="4032000" cy="475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18:08Z</dcterms:created>
  <dc:creator>1</dc:creator>
  <dc:description/>
  <dc:language>en-US</dc:language>
  <cp:lastModifiedBy>1</cp:lastModifiedBy>
  <dcterms:modified xsi:type="dcterms:W3CDTF">2014-07-25T07:16:44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2b0000000000010250300207f7000400038000</vt:lpwstr>
  </property>
</Properties>
</file>