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8BA-0476-4D11-892C-9EA02C81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7D4-B6DE-4F3E-B92C-0167A8F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B85-5304-4A5C-BEF7-36133200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DB1-6281-40B3-8A7B-7411D845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99DA-4105-4AFD-85D8-684A81FB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482-2E00-48F2-A4F9-C1FFFDCF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C35-3AB5-4CFE-B875-324B4CB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F1C-47C0-4283-9AB0-028E06D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C068-6DD3-420C-A87A-8CF9D825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9C5-4E9F-4D8C-9409-D20D127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080-248C-483B-BCE4-D643A130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59F-3532-4A64-B83D-773EF50E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BDA-7B25-456D-870B-217A652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8809-441D-4AC3-8FE4-0AD951A9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A546-84D9-4EFB-8A1F-773208E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B73-66CA-4FA4-8328-F7477CF1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490C-2D7B-4A58-B26A-A1FCAFDA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F833-EEDC-4CD4-A5A3-C31CA775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676D-FB37-425A-8B98-8FA6828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F9ED-328E-46E3-A7FC-39347013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AD49-8781-4B79-8444-AEA6AD2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C216-F332-4BF7-A50F-F857A62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441-FF4C-4525-ABED-4CBE61A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6E21-3755-49A5-B30C-0E4EE2EE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4248-D95B-4178-B958-9FA54A28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6CA3-E334-4F72-A8B7-CA720CE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C57F-B992-487B-ABBA-1869274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D172-D574-4EF0-98EC-90794A2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DC5B-D000-4995-98C6-CA37D982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0299-2053-49B6-87E2-4EFBB558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94C6-873E-46AB-BBA7-7FF9389A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1370-004C-4133-962E-83F1944C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BD77-5AFF-4B4F-92FD-A0CC3099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CC4-AF97-4AC4-B306-91929A4B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A47C-7DA4-48FE-B24B-A0DCC05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3965-AA5A-460A-A1FD-C1EC118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FA32-EE10-4B03-8536-611CC6E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9D6D-5922-4D09-9E80-FD2AAF5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A9B3-C7CA-4E3B-B922-AA72E81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0929-CD55-4E5C-B503-BDB7FAF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38A4-6FE4-4F1C-85C4-087177A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68FA-F9BC-498E-A9D1-5A5AE2E4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DA83-045F-4574-900A-F3587F8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4D12-9266-402D-812B-58AF844F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0B7-D5E6-46EF-A89D-633095A4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E7B5-6FD8-4EB4-833B-C3B559CE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44AD-B361-44A1-8ADD-5565CD7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BDF4-DB2E-4F5A-A478-4DF8CA1A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EF9D-5BF2-4CA3-8D92-48EDADB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17C0-AD46-4574-869C-05CDF0E3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95414-F33A-43A4-9458-31E0681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8598-067C-4E58-9AB9-9088BC19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A9CB-BEFA-4E19-85C9-1FFF0739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7FBF-2291-4F49-AE26-9D18BD9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6A63-A786-4AF3-AFAD-05827D84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ABE-28F2-4818-8D45-435D08A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510F-4C10-4B7A-B5EE-1FD84E8B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922-727E-4DD1-930A-661F014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017-E075-4642-A041-E92FF3A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001-F70C-4A80-B110-FA87534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C2B-0F5C-4AA6-B33F-314416DDDEE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55B-A5FE-4180-9BB7-37F90EA12E1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221-3AC6-4CC6-8156-18715880CE5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6ED3-A405-4FE4-8F9A-BA6424F52EE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638C-6BD4-4F4B-9C81-14612AB92B0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6560" y="530280"/>
            <a:ext cx="54194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Воспитатель Иванова Елена Александ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000" y="4723920"/>
            <a:ext cx="677700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роводится игра «Дети и медведь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ети подходят к медведю, останавливаются, прикладывают указательны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лец к губам и говорят: «Тс-с-с»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1\Desktop\лето 2014\104CANON\IMG_0023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45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1\Desktop\лето 2014\104CANON\IMG_0025.JPG"/>
          <p:cNvPicPr/>
          <p:nvPr/>
        </p:nvPicPr>
        <p:blipFill>
          <a:blip r:embed="rId1"/>
          <a:stretch/>
        </p:blipFill>
        <p:spPr>
          <a:xfrm>
            <a:off x="0" y="333360"/>
            <a:ext cx="4968720" cy="479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1\Desktop\лето 2014\104CANON\IMG_0024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89200" y="6021000"/>
            <a:ext cx="3429000" cy="576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rebuchet MS"/>
              </a:rPr>
              <a:t>Едем дальше!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61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C:\Users\1\Desktop\лето 2014\104CANON\IMG_0027.JPG"/>
          <p:cNvPicPr/>
          <p:nvPr/>
        </p:nvPicPr>
        <p:blipFill>
          <a:blip r:embed="rId2"/>
          <a:stretch/>
        </p:blipFill>
        <p:spPr>
          <a:xfrm>
            <a:off x="468360" y="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354480" y="4149720"/>
            <a:ext cx="511488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Ярко солнышко нам светит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И поют нам дружно дет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вайте споём песенку, чтобы в дороге было веселей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179280" y="4005360"/>
            <a:ext cx="3024360" cy="1722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1\Desktop\DCIM\104CANON\IMG_0031.JPG"/>
          <p:cNvPicPr/>
          <p:nvPr/>
        </p:nvPicPr>
        <p:blipFill>
          <a:blip r:embed="rId2"/>
          <a:stretch/>
        </p:blipFill>
        <p:spPr>
          <a:xfrm>
            <a:off x="2771640" y="-316080"/>
            <a:ext cx="598176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139760" y="5297400"/>
            <a:ext cx="73278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6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" descr="C:\Users\1\Desktop\лето 2014\104CANON\IMG_0020.JPG"/>
          <p:cNvPicPr/>
          <p:nvPr/>
        </p:nvPicPr>
        <p:blipFill>
          <a:blip r:embed="rId3"/>
          <a:stretch/>
        </p:blipFill>
        <p:spPr>
          <a:xfrm>
            <a:off x="611280" y="549360"/>
            <a:ext cx="651672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076720" y="3933720"/>
            <a:ext cx="33926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пути у нас лужайк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лужайке скачет зайка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0" y="4076640"/>
            <a:ext cx="4697280" cy="244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1\Desktop\DCIM\104CANON\IMG_0028.JPG"/>
          <p:cNvPicPr/>
          <p:nvPr/>
        </p:nvPicPr>
        <p:blipFill>
          <a:blip r:embed="rId2"/>
          <a:stretch/>
        </p:blipFill>
        <p:spPr>
          <a:xfrm>
            <a:off x="3132000" y="189000"/>
            <a:ext cx="5400720" cy="36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291280" y="0"/>
            <a:ext cx="35352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78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9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2" descr="C:\Users\1\Desktop\DCIM\104CANON\IMG_0041.JPG"/>
          <p:cNvPicPr/>
          <p:nvPr/>
        </p:nvPicPr>
        <p:blipFill>
          <a:blip r:embed="rId3"/>
          <a:stretch/>
        </p:blipFill>
        <p:spPr>
          <a:xfrm>
            <a:off x="6516720" y="314172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1\Desktop\DCIM\104CANON\IMG_0042.JPG"/>
          <p:cNvPicPr/>
          <p:nvPr/>
        </p:nvPicPr>
        <p:blipFill>
          <a:blip r:embed="rId4"/>
          <a:stretch/>
        </p:blipFill>
        <p:spPr>
          <a:xfrm>
            <a:off x="250920" y="189000"/>
            <a:ext cx="4752720" cy="36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1\Desktop\DCIM\104CANON\IMG_0043.JPG"/>
          <p:cNvPicPr/>
          <p:nvPr/>
        </p:nvPicPr>
        <p:blipFill>
          <a:blip r:embed="rId5"/>
          <a:stretch/>
        </p:blipFill>
        <p:spPr>
          <a:xfrm>
            <a:off x="539640" y="3860640"/>
            <a:ext cx="409104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Picture 2" descr="C:\Users\1\Desktop\DCIM\104CANON\IMG_0044.JPG"/>
          <p:cNvPicPr/>
          <p:nvPr/>
        </p:nvPicPr>
        <p:blipFill>
          <a:blip r:embed="rId1"/>
          <a:stretch/>
        </p:blipFill>
        <p:spPr>
          <a:xfrm>
            <a:off x="2568600" y="0"/>
            <a:ext cx="6575400" cy="59500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8"/>
          <p:cNvSpPr/>
          <p:nvPr/>
        </p:nvSpPr>
        <p:spPr>
          <a:xfrm>
            <a:off x="324000" y="342900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йка прыгал и скак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 лужайке танцевал. (Дети прыгают, как зайчи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0" name="Picture 2" descr="C:\Users\1\Desktop\DCIM\104CANON\IMG_0045.JPG"/>
          <p:cNvPicPr/>
          <p:nvPr/>
        </p:nvPicPr>
        <p:blipFill>
          <a:blip r:embed="rId1"/>
          <a:stretch/>
        </p:blipFill>
        <p:spPr>
          <a:xfrm>
            <a:off x="1979640" y="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2286000" y="54910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едущий: Устал прыгать и скак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ел на травку отдыхать. (Дети присаживаются на корточ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97480" cy="4310280"/>
          </a:xfrm>
          <a:prstGeom prst="rect">
            <a:avLst/>
          </a:prstGeom>
          <a:ln w="0">
            <a:noFill/>
          </a:ln>
        </p:spPr>
      </p:pic>
      <p:grpSp>
        <p:nvGrpSpPr>
          <p:cNvPr id="293" name="Рисунок 5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94" name="Рисунок 5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Picture 2" descr="C:\Users\1\Desktop\работа\H30XFz.jpg"/>
          <p:cNvPicPr/>
          <p:nvPr/>
        </p:nvPicPr>
        <p:blipFill>
          <a:blip r:embed="rId3"/>
          <a:stretch/>
        </p:blipFill>
        <p:spPr>
          <a:xfrm>
            <a:off x="179280" y="1197000"/>
            <a:ext cx="4500720" cy="317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359160" y="1865160"/>
            <a:ext cx="5303880" cy="3445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354480" y="333360"/>
            <a:ext cx="51148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Цель: создать детям праздничное настроение, условия для проявл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положительных эмоц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3413160" y="530280"/>
            <a:ext cx="3762360" cy="15364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2700360" y="2781360"/>
            <a:ext cx="607212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0920" y="5516640"/>
            <a:ext cx="8137440" cy="13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Ребята, посмотрите, как здесь красиво, как в лесу! Какие красивы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цветы здесь цветут. Хотите прокатиться по лесу? Посмотрите, нас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ждёт маленький паровозик. Давайте отправимся на нём в путешеств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rebuchet MS"/>
              </a:rPr>
              <a:t>н.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Users\1\Desktop\лето 2014\104CANON\IMG_0008.JPG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544500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оспитатель превращается , дети становятся сзади друг за другом, «вагончики прицепляются» и паровозик с детьми отправляется в путь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1\Desktop\лето 2014\104CANON\IMG_0029.JPG"/>
          <p:cNvPicPr/>
          <p:nvPr/>
        </p:nvPicPr>
        <p:blipFill>
          <a:blip r:embed="rId1"/>
          <a:stretch/>
        </p:blipFill>
        <p:spPr>
          <a:xfrm>
            <a:off x="2627280" y="0"/>
            <a:ext cx="6192720" cy="522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995280" y="4869000"/>
            <a:ext cx="4473720" cy="172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Все к друг дружке прицеп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И колёса покат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C:\Users\1\Desktop\лето 2014\104CANON\IMG_0030.JPG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49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300360" y="2060280"/>
            <a:ext cx="2592360" cy="3600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Машинист затормозил,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аровоз остановил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а полянку выходите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у-ка, что здесь? Посмотрите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4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5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" descr="C:\Users\1\Desktop\лето 2014\104CANON\IMG_0013.JPG"/>
          <p:cNvPicPr/>
          <p:nvPr/>
        </p:nvPicPr>
        <p:blipFill>
          <a:blip r:embed="rId2"/>
          <a:stretch/>
        </p:blipFill>
        <p:spPr>
          <a:xfrm>
            <a:off x="395280" y="404640"/>
            <a:ext cx="5905440" cy="518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5754600" y="1139760"/>
            <a:ext cx="3181320" cy="1573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51280" y="3282480"/>
            <a:ext cx="3166920" cy="2954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смотрите, какие красивые цветы здесь выросли! Давайте будем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собирать их в букеты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роводится игра «Собери букет»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4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" descr="C:\Users\1\Desktop\лето 2014\104CANON\IMG_0011.JPG"/>
          <p:cNvPicPr/>
          <p:nvPr/>
        </p:nvPicPr>
        <p:blipFill>
          <a:blip r:embed="rId3"/>
          <a:stretch/>
        </p:blipFill>
        <p:spPr>
          <a:xfrm>
            <a:off x="0" y="476280"/>
            <a:ext cx="5580000" cy="561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712800" y="4608360"/>
            <a:ext cx="8113680" cy="1920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324000" y="40464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1\Desktop\DCIM\104CANON\IMG_0028.JPG"/>
          <p:cNvPicPr/>
          <p:nvPr/>
        </p:nvPicPr>
        <p:blipFill>
          <a:blip r:embed="rId3"/>
          <a:stretch/>
        </p:blipFill>
        <p:spPr>
          <a:xfrm>
            <a:off x="5076720" y="115920"/>
            <a:ext cx="3888000" cy="381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48160" cy="20671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Кто же спит тут под дубком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Богатырским крепким сном?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Тише, дети, не шумет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Это спит в лесу медвед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5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C:\Users\1\Desktop\лето 2014\104CANON\IMG_0022.JPG"/>
          <p:cNvPicPr/>
          <p:nvPr/>
        </p:nvPicPr>
        <p:blipFill>
          <a:blip r:embed="rId3"/>
          <a:stretch/>
        </p:blipFill>
        <p:spPr>
          <a:xfrm>
            <a:off x="611280" y="1125360"/>
            <a:ext cx="4032000" cy="475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18:08Z</dcterms:created>
  <dc:creator>1</dc:creator>
  <dc:description/>
  <dc:language>en-US</dc:language>
  <cp:lastModifiedBy>1</cp:lastModifiedBy>
  <dcterms:modified xsi:type="dcterms:W3CDTF">2014-07-25T07:16:44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2b0000000000010250300207f7000400038000</vt:lpwstr>
  </property>
</Properties>
</file>