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CD01-4F5A-475E-8D64-0C0C493704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EB24-A9FA-44F2-B899-52B018C0DC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3259-5CF8-4A1E-BA72-357DC77061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E7CE-C4D0-4B32-A101-8DD8B9B5D2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7A13-3CD1-47F3-9BD2-EE92BB03FE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F767-B21D-4109-80D1-BBABB3DD33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22E8-2B73-4EE0-86DD-A061047D3D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B6F-A23C-407A-B575-6CCBC7AD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FA1-D0D9-4A0D-8842-D35933F2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2FF-E67E-4E9A-BE04-C99A8F78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D74-D3D1-4C11-BBF9-CC13D03D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2E2-DD9E-42E6-8B9D-2F0AC6B3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FAC-85DA-4720-B689-909AB343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3257-147A-4391-93AD-E92EB9E3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D56-241E-4007-986F-1ACA4815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268A-8845-4140-BAF4-E24B2CDE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625-AE44-4700-857F-0F520B58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9F0-988B-43FF-A39B-1F02FCA5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9B3-4351-4E3E-95A0-646AA390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9163-699B-4735-AA4F-E72F3FBF6A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Calibri"/>
                <a:ea typeface="Times New Roman"/>
              </a:rPr>
              <a:t>МУНИЦИПАЛЬНОЕ ДОШКОЛЬНОЕ ОБРАЗОВАТЕЛЬНОЕ УЧРЕЖДЕНИЕ </a:t>
            </a:r>
            <a:br>
              <a:rPr sz="1400"/>
            </a:br>
            <a:r>
              <a:rPr b="1" lang="ru-RU" sz="1400" spc="-1" strike="noStrike">
                <a:solidFill>
                  <a:srgbClr val="000066"/>
                </a:solidFill>
                <a:latin typeface="Calibri"/>
                <a:ea typeface="Times New Roman"/>
              </a:rPr>
              <a:t>«ДЕТСКИЙ САД № 60 «РОДНИЧОК»</a:t>
            </a:r>
            <a:br>
              <a:rPr sz="1400"/>
            </a:br>
            <a:r>
              <a:rPr b="1" lang="ru-RU" sz="1400" spc="-1" strike="noStrike">
                <a:solidFill>
                  <a:srgbClr val="000066"/>
                </a:solidFill>
                <a:latin typeface="Calibri"/>
                <a:ea typeface="Times New Roman"/>
              </a:rPr>
              <a:t>    </a:t>
            </a:r>
            <a:br>
              <a:rPr sz="1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87280" y="981000"/>
            <a:ext cx="7056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ru-RU" sz="3100" spc="-1" strike="noStrike">
                <a:solidFill>
                  <a:srgbClr val="ff0000"/>
                </a:solidFill>
                <a:latin typeface="Calibri"/>
              </a:rPr>
              <a:t>Мальчики и девочки-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0" lang="ru-RU" sz="3100" spc="-1" strike="noStrike">
                <a:solidFill>
                  <a:srgbClr val="ff0000"/>
                </a:solidFill>
                <a:latin typeface="Calibri"/>
              </a:rPr>
              <a:t>такие разные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1403280" y="5013360"/>
            <a:ext cx="7489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а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ушкова Юлия  Александров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C:\Users\486B~1\AppData\Local\Temp\Rar$DI03.562\01.png"/>
          <p:cNvPicPr/>
          <p:nvPr/>
        </p:nvPicPr>
        <p:blipFill>
          <a:blip r:embed="rId1"/>
          <a:stretch/>
        </p:blipFill>
        <p:spPr>
          <a:xfrm>
            <a:off x="250920" y="1989000"/>
            <a:ext cx="2016000" cy="378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C:\Users\486B~1\AppData\Local\Temp\Rar$DI07.707\1-1.png"/>
          <p:cNvPicPr/>
          <p:nvPr/>
        </p:nvPicPr>
        <p:blipFill>
          <a:blip r:embed="rId2"/>
          <a:stretch/>
        </p:blipFill>
        <p:spPr>
          <a:xfrm>
            <a:off x="6875640" y="1700280"/>
            <a:ext cx="19969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3008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рамма игровых занятий с детьми «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звитие полоролевой идентичности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о А.М.Щетининой, О.И. Ивановой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5280" y="1773360"/>
          <a:ext cx="8424720" cy="4608360"/>
        </p:xfrm>
        <a:graphic>
          <a:graphicData uri="http://schemas.openxmlformats.org/drawingml/2006/table">
            <a:tbl>
              <a:tblPr/>
              <a:tblGrid>
                <a:gridCol w="3887640"/>
                <a:gridCol w="4537080"/>
              </a:tblGrid>
              <a:tr h="1838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лок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Кто я: мальчик, девочка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: развитие представление ребенка о своем поле и формирование позитивного принятия своего по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4 занят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лок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Какой я мальчик? Какая я девочка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: Формирование у детей знаний о мужских и женских качеств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7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лок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Мужчина и женщина в семье и обществ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: развитие у детей представлений о социальных функциях мужчин и женщин и желание подражать позитивным формам мужественного или женственного повед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7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лок  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 Я сегодня и в будуще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: обогащение представлений о социальных ролях в обществе и в семье, формирование положительного к ним отношения и развитие потребности вести себя адекватно социально принятым полоролевым функция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2 занят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родительское собр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чему детей желательно воспитывать с учетом гендерных особенностей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папок-передвижек «Гендерное воспитание в семье», «Советы по воспитанию мальчиков», «Советы по воспитанию девочек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тематических выставках: «Сын и папа делают вместе», «Сумочка для дочки», «Папа может всё», «Мамы руки золоты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создании предметно-развивающей ср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ные разговор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Феей Вежлив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55736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екретные разговор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воч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356000" y="1557360"/>
            <a:ext cx="47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екретные разговор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ьч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F:\Фото\SDC12890.JPG"/>
          <p:cNvPicPr/>
          <p:nvPr/>
        </p:nvPicPr>
        <p:blipFill>
          <a:blip r:embed="rId1"/>
          <a:stretch/>
        </p:blipFill>
        <p:spPr>
          <a:xfrm>
            <a:off x="2968560" y="3048120"/>
            <a:ext cx="2841840" cy="218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http://dutsadok.com.ua/clipart/ljudi/3n.png"/>
          <p:cNvPicPr/>
          <p:nvPr/>
        </p:nvPicPr>
        <p:blipFill>
          <a:blip r:embed="rId2"/>
          <a:srcRect l="51315" t="0" r="0" b="8414"/>
          <a:stretch/>
        </p:blipFill>
        <p:spPr>
          <a:xfrm>
            <a:off x="7164360" y="2205000"/>
            <a:ext cx="1533600" cy="1628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http://dutsadok.com.ua/clipart/ljudi/3n.png"/>
          <p:cNvPicPr/>
          <p:nvPr/>
        </p:nvPicPr>
        <p:blipFill>
          <a:blip r:embed="rId3"/>
          <a:srcRect l="0" t="0" r="57114" b="-114"/>
          <a:stretch/>
        </p:blipFill>
        <p:spPr>
          <a:xfrm>
            <a:off x="0" y="242100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843280" y="2565360"/>
            <a:ext cx="388944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ркеры  с акц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гендерную иденти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G:\DCIM\100SSCAM\SDC12896 - копия (3).JPG"/>
          <p:cNvPicPr/>
          <p:nvPr/>
        </p:nvPicPr>
        <p:blipFill>
          <a:blip r:embed="rId1"/>
          <a:srcRect l="0" t="3577" r="0" b="3577"/>
          <a:stretch/>
        </p:blipFill>
        <p:spPr>
          <a:xfrm>
            <a:off x="3203640" y="4941720"/>
            <a:ext cx="2663640" cy="172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2" name="Picture 6" descr="G:\DCIM\100SSCAM\SDC12904 - копия.JPG"/>
          <p:cNvPicPr/>
          <p:nvPr/>
        </p:nvPicPr>
        <p:blipFill>
          <a:blip r:embed="rId2"/>
          <a:srcRect l="22867" t="19058" r="14292" b="4759"/>
          <a:stretch/>
        </p:blipFill>
        <p:spPr>
          <a:xfrm>
            <a:off x="1547640" y="1125360"/>
            <a:ext cx="1881360" cy="1365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3" name="Picture 9" descr="G:\DCIM\100SSCAM\SDC12892 - копия (3).JPG"/>
          <p:cNvPicPr/>
          <p:nvPr/>
        </p:nvPicPr>
        <p:blipFill>
          <a:blip r:embed="rId3"/>
          <a:srcRect l="0" t="0" r="-111" b="276"/>
          <a:stretch/>
        </p:blipFill>
        <p:spPr>
          <a:xfrm>
            <a:off x="4932360" y="476280"/>
            <a:ext cx="1835280" cy="1224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http://dutsadok.com.ua/clipart/ljudi/3n.png"/>
          <p:cNvPicPr/>
          <p:nvPr/>
        </p:nvPicPr>
        <p:blipFill>
          <a:blip r:embed="rId4"/>
          <a:srcRect l="0" t="0" r="57114" b="-114"/>
          <a:stretch/>
        </p:blipFill>
        <p:spPr>
          <a:xfrm>
            <a:off x="2268360" y="2060640"/>
            <a:ext cx="1295640" cy="167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http://dutsadok.com.ua/clipart/ljudi/3n.png"/>
          <p:cNvPicPr/>
          <p:nvPr/>
        </p:nvPicPr>
        <p:blipFill>
          <a:blip r:embed="rId5"/>
          <a:srcRect l="51315" t="0" r="0" b="8414"/>
          <a:stretch/>
        </p:blipFill>
        <p:spPr>
          <a:xfrm>
            <a:off x="6300720" y="1413000"/>
            <a:ext cx="15336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зультат раб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28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ознание собственного «Я»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мальчика (девочки), развитие ребенка как личности в социуме и семье и пробуждение чувства мужественности (женственности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рез игровую деятельность у детей определяется гендерная позиция по отношению к окружающему миру и людя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явление заботливости, благодарности и внимания по отношению к родителям, повышение значимости семьи в своей жизн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4" descr="Новый рисунок (2).png"/>
          <p:cNvPicPr/>
          <p:nvPr/>
        </p:nvPicPr>
        <p:blipFill>
          <a:blip r:embed="rId1"/>
          <a:stretch/>
        </p:blipFill>
        <p:spPr>
          <a:xfrm>
            <a:off x="0" y="5229360"/>
            <a:ext cx="1274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7772400" cy="78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спективы раб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395280" y="2170080"/>
            <a:ext cx="84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боту по развитию гендерных представлений у детей и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боту по развитию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-развивающей  сред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полнению методического осна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79280" y="476280"/>
            <a:ext cx="8640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нде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(от лат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us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») – социальный пол, определяющий поведение человека в обществе  и то, как это поведение воспринима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(от латинского «secare» – разделять, делиться) – первоначально относится ни к чему иному, как к разделению человеческой расы на две группы: мужчин и женщи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ю гендерного подхода в педагогик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является воспитание детей разного пола, одинаково способных к самореализации и раскрытию своих потенциалов и возможностей в современном обществе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рмирование гендерной устойчивости обусловлено социокультурным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рмами и зависит о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2276280"/>
            <a:ext cx="86421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отношения родителей  к ребенк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характера родительских установок и привязанности как матери к  ребенку, так и ребенка к матер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воспитания его в ДО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C:\Users\Данил\Юля\detki 8\3.png"/>
          <p:cNvPicPr/>
          <p:nvPr/>
        </p:nvPicPr>
        <p:blipFill>
          <a:blip r:embed="rId1"/>
          <a:srcRect l="42529" t="-14278" r="0" b="0"/>
          <a:stretch/>
        </p:blipFill>
        <p:spPr>
          <a:xfrm>
            <a:off x="6443640" y="4537080"/>
            <a:ext cx="2544840" cy="2205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Данил\Юля\detki 8\3.png"/>
          <p:cNvPicPr/>
          <p:nvPr/>
        </p:nvPicPr>
        <p:blipFill>
          <a:blip r:embed="rId2"/>
          <a:srcRect l="0" t="0" r="45667" b="0"/>
          <a:stretch/>
        </p:blipFill>
        <p:spPr>
          <a:xfrm>
            <a:off x="142920" y="4941720"/>
            <a:ext cx="1908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ендерное воспитание в Росси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18…19 веках и в настоящее врем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via-midgard.info/uploads/posts/2012-05/1336667762_otec-i-syn.jpg"/>
          <p:cNvPicPr/>
          <p:nvPr/>
        </p:nvPicPr>
        <p:blipFill>
          <a:blip r:embed="rId1"/>
          <a:stretch/>
        </p:blipFill>
        <p:spPr>
          <a:xfrm>
            <a:off x="201600" y="1719360"/>
            <a:ext cx="3071880" cy="473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http://www.stihi.ru/pics/2012/09/26/3359.jpg"/>
          <p:cNvPicPr/>
          <p:nvPr/>
        </p:nvPicPr>
        <p:blipFill>
          <a:blip r:embed="rId2"/>
          <a:stretch/>
        </p:blipFill>
        <p:spPr>
          <a:xfrm>
            <a:off x="5803920" y="1792440"/>
            <a:ext cx="3144960" cy="477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funforkids.ru/pictures/parents/parents009.gif"/>
          <p:cNvPicPr/>
          <p:nvPr/>
        </p:nvPicPr>
        <p:blipFill>
          <a:blip r:embed="rId3"/>
          <a:stretch/>
        </p:blipFill>
        <p:spPr>
          <a:xfrm>
            <a:off x="3333600" y="3517920"/>
            <a:ext cx="2401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684360" y="1268280"/>
            <a:ext cx="331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ари, тари, тар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лю Маше янта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нутся день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лю Маше серь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нутся пята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лю Маше башм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нутся грош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лю Маше лож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нутся пол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лю Маше под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5364000" y="765000"/>
            <a:ext cx="35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, Ваню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, род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, Ваню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, ус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здымай голов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 да лю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т по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разбудим т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, спи, ус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шь больш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шь рыбку лов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ерку лов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шь лес руб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ятеньку, мамку корм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Users\Данил\Юля\detki 8\11.png"/>
          <p:cNvPicPr/>
          <p:nvPr/>
        </p:nvPicPr>
        <p:blipFill>
          <a:blip r:embed="rId1"/>
          <a:srcRect l="0" t="0" r="51" b="116"/>
          <a:stretch/>
        </p:blipFill>
        <p:spPr>
          <a:xfrm>
            <a:off x="2627280" y="4896000"/>
            <a:ext cx="2665440" cy="1746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льклор с акцентом на генд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туальность  гендерног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спит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2133360"/>
            <a:ext cx="84960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изменения условий жизн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психологических установок обществ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образовательного процесса без учета гендерной социализации мальчиков и девочек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дифференцированного подхода к мальчикам и девочка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5" descr="Новый рисунок.png"/>
          <p:cNvPicPr/>
          <p:nvPr/>
        </p:nvPicPr>
        <p:blipFill>
          <a:blip r:embed="rId1"/>
          <a:srcRect l="0" t="0" r="0" b="-123"/>
          <a:stretch/>
        </p:blipFill>
        <p:spPr>
          <a:xfrm>
            <a:off x="309600" y="260280"/>
            <a:ext cx="13604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560" y="1555560"/>
            <a:ext cx="856908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строение образовательного процесса с учетом дифференцированного подхода к мальчикам и девочк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C:\Users\Данил\Юля\detki 8\detki 8 - копия.gif"/>
          <p:cNvPicPr/>
          <p:nvPr/>
        </p:nvPicPr>
        <p:blipFill>
          <a:blip r:embed="rId1"/>
          <a:srcRect l="0" t="-7218" r="81" b="0"/>
          <a:stretch/>
        </p:blipFill>
        <p:spPr>
          <a:xfrm>
            <a:off x="6875640" y="4791240"/>
            <a:ext cx="1674720" cy="18064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Новый рисунок (1).png"/>
          <p:cNvPicPr/>
          <p:nvPr/>
        </p:nvPicPr>
        <p:blipFill>
          <a:blip r:embed="rId2"/>
          <a:stretch/>
        </p:blipFill>
        <p:spPr>
          <a:xfrm>
            <a:off x="611280" y="4567320"/>
            <a:ext cx="1377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здание условий для естественного развития ребенка в детском саду с учетом гендерной идентичнос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ктивизировать представление детей о различиях полов посредством  сюжетно-ролевых игр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витие у детей старшего дошкольного возраста представлений о себе, как о представителе определенного пол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спитание форм поведения, соответствующих пол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50560" y="11592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учение уровня развития гендерных представл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 детей и родителей старшей групп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трелка вправо 4"/>
          <p:cNvSpPr/>
          <p:nvPr/>
        </p:nvSpPr>
        <p:spPr>
          <a:xfrm rot="2008800">
            <a:off x="6553080" y="4346280"/>
            <a:ext cx="631800" cy="582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4"/>
          <p:cNvSpPr/>
          <p:nvPr/>
        </p:nvSpPr>
        <p:spPr>
          <a:xfrm>
            <a:off x="3635280" y="1413000"/>
            <a:ext cx="2376720" cy="11523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блюдение за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15"/>
          <p:cNvSpPr/>
          <p:nvPr/>
        </p:nvSpPr>
        <p:spPr>
          <a:xfrm>
            <a:off x="7236000" y="2133720"/>
            <a:ext cx="1800000" cy="158256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ес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6"/>
          <p:cNvSpPr/>
          <p:nvPr/>
        </p:nvSpPr>
        <p:spPr>
          <a:xfrm>
            <a:off x="2627280" y="5661000"/>
            <a:ext cx="3529080" cy="108108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Тест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«Девочки и мальч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7"/>
          <p:cNvSpPr/>
          <p:nvPr/>
        </p:nvSpPr>
        <p:spPr>
          <a:xfrm>
            <a:off x="6372360" y="4797360"/>
            <a:ext cx="2592360" cy="187164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Анкетирование «Какие качества воспитываем у сына или доче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9"/>
          <p:cNvSpPr/>
          <p:nvPr/>
        </p:nvSpPr>
        <p:spPr>
          <a:xfrm>
            <a:off x="5468040" y="351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оо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20"/>
          <p:cNvSpPr/>
          <p:nvPr/>
        </p:nvSpPr>
        <p:spPr>
          <a:xfrm>
            <a:off x="3203640" y="3141720"/>
            <a:ext cx="3384360" cy="201600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ДИАГНОС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29"/>
          <p:cNvSpPr/>
          <p:nvPr/>
        </p:nvSpPr>
        <p:spPr>
          <a:xfrm rot="5668800">
            <a:off x="4530600" y="5094360"/>
            <a:ext cx="377640" cy="70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31"/>
          <p:cNvSpPr/>
          <p:nvPr/>
        </p:nvSpPr>
        <p:spPr>
          <a:xfrm rot="9448800">
            <a:off x="2452320" y="4292280"/>
            <a:ext cx="774720" cy="701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38"/>
          <p:cNvSpPr/>
          <p:nvPr/>
        </p:nvSpPr>
        <p:spPr>
          <a:xfrm>
            <a:off x="324000" y="4365720"/>
            <a:ext cx="2233440" cy="208764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Бес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21"/>
          <p:cNvSpPr/>
          <p:nvPr/>
        </p:nvSpPr>
        <p:spPr>
          <a:xfrm rot="11765400">
            <a:off x="2414160" y="3555720"/>
            <a:ext cx="866880" cy="13968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22"/>
          <p:cNvSpPr/>
          <p:nvPr/>
        </p:nvSpPr>
        <p:spPr>
          <a:xfrm>
            <a:off x="250920" y="2492280"/>
            <a:ext cx="2160360" cy="1513080"/>
          </a:xfrm>
          <a:prstGeom prst="ellips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ешение проблемных ситу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 деть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право 24"/>
          <p:cNvSpPr/>
          <p:nvPr/>
        </p:nvSpPr>
        <p:spPr>
          <a:xfrm rot="16200000">
            <a:off x="4644360" y="2780280"/>
            <a:ext cx="431640" cy="1443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право 25"/>
          <p:cNvSpPr/>
          <p:nvPr/>
        </p:nvSpPr>
        <p:spPr>
          <a:xfrm flipV="1" rot="20698800">
            <a:off x="6559560" y="3573000"/>
            <a:ext cx="936720" cy="176760"/>
          </a:xfrm>
          <a:prstGeom prst="rightArrow">
            <a:avLst>
              <a:gd name="adj1" fmla="val 50000"/>
              <a:gd name="adj2" fmla="val 4985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4:36:46Z</dcterms:created>
  <dc:creator>Данил</dc:creator>
  <dc:description/>
  <dc:language>en-US</dc:language>
  <cp:lastModifiedBy>Роман Шушков</cp:lastModifiedBy>
  <dcterms:modified xsi:type="dcterms:W3CDTF">2015-04-20T17:16:59Z</dcterms:modified>
  <cp:revision>2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2f0000000000010250300207f7000400038000</vt:lpwstr>
  </property>
</Properties>
</file>