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536D-C433-49FE-835A-7A8EDF3931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6E06-5872-45EC-9F03-AD5DA55222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D0EE-B9D8-407B-9051-368D3B1560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124D-6C61-44CA-86A7-8D2EEAEAEC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2226-9BF9-4DB4-A153-CE153E6B8C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DF69-80A0-4F0B-8DFB-BD0387AD5E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9522-AC23-4DF4-B772-23F9DF541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E35-DAFF-4C0F-B51A-4AFD5CAC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8C0-FFD3-4C2D-A17F-6A77D3E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A41-78C0-47DE-9D3F-E76090FD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69F-986F-40B1-8B60-20305921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E9C-7118-4CB8-94CD-F4680B6E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802-687B-428A-A6F9-1766183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919-CFE0-4503-98F4-6985C1B6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295-AFCF-4223-8C1C-A3580D22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2B9-C1DB-4C0C-AEF7-26A7E319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340-9634-415F-9E64-6ABCD4E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ECC-18D3-4336-8038-4534E8E0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46D-B307-44FA-9EFF-87730154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3F20-8649-4ED3-9D64-D295B4E49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МУНИЦИПАЛЬНОЕ ДОШКОЛЬНОЕ ОБРАЗОВАТЕЛЬНОЕ УЧРЕЖДЕНИЕ 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«ДЕТСКИЙ САД № 60 «РОДНИЧОК»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    </a:t>
            </a:r>
            <a:br>
              <a:rPr sz="1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87280" y="981000"/>
            <a:ext cx="7056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Мальчики и девочки-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такие разные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403280" y="5013360"/>
            <a:ext cx="7489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шкова Юлия  Александров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:\Users\486B~1\AppData\Local\Temp\Rar$DI03.562\01.png"/>
          <p:cNvPicPr/>
          <p:nvPr/>
        </p:nvPicPr>
        <p:blipFill>
          <a:blip r:embed="rId1"/>
          <a:stretch/>
        </p:blipFill>
        <p:spPr>
          <a:xfrm>
            <a:off x="250920" y="1989000"/>
            <a:ext cx="2016000" cy="378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486B~1\AppData\Local\Temp\Rar$DI07.707\1-1.png"/>
          <p:cNvPicPr/>
          <p:nvPr/>
        </p:nvPicPr>
        <p:blipFill>
          <a:blip r:embed="rId2"/>
          <a:stretch/>
        </p:blipFill>
        <p:spPr>
          <a:xfrm>
            <a:off x="6875640" y="1700280"/>
            <a:ext cx="19969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008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игровых занятий с детьми «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витие полоролевой идентичности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 А.М.Щетининой, О.И. Ивановой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773360"/>
          <a:ext cx="8424720" cy="4608360"/>
        </p:xfrm>
        <a:graphic>
          <a:graphicData uri="http://schemas.openxmlformats.org/drawingml/2006/table">
            <a:tbl>
              <a:tblPr/>
              <a:tblGrid>
                <a:gridCol w="3887640"/>
                <a:gridCol w="4537080"/>
              </a:tblGrid>
              <a:tr h="183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то я: мальчик, девочк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развитие представление ребенка о своем поле и формирование позитивного принятия своего по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4 заня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акой я мальчик? Какая я девочк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Формирование у детей знаний о мужских и женских качеств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7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ужчина и женщина в семье и обществ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развитие у детей представлений о социальных функциях мужчин и женщин и желание подражать позитивным формам мужественного или женственного по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7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 Я сегодня и в будуще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обогащение представлений о социальных ролях в обществе и в семье, формирование положительного к ним отношения и развитие потребности вести себя адекватно социально принятым полоролевым функц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заня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одительское собр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детей желательно воспитывать с учетом гендерных особенностей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папок-передвижек «Гендерное воспитание в семье», «Советы по воспитанию мальчиков», «Советы по воспитанию девочек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тематических выставках: «Сын и папа делают вместе», «Сумочка для дочки», «Папа может всё», «Мамы руки золоты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здании предметно-развивающе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ные разговор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еей Веж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5736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екретные разгово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во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56000" y="155736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екретные разгово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ч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F:\Фото\SDC12890.JPG"/>
          <p:cNvPicPr/>
          <p:nvPr/>
        </p:nvPicPr>
        <p:blipFill>
          <a:blip r:embed="rId1"/>
          <a:stretch/>
        </p:blipFill>
        <p:spPr>
          <a:xfrm>
            <a:off x="2968560" y="3048120"/>
            <a:ext cx="2841840" cy="21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http://dutsadok.com.ua/clipart/ljudi/3n.png"/>
          <p:cNvPicPr/>
          <p:nvPr/>
        </p:nvPicPr>
        <p:blipFill>
          <a:blip r:embed="rId2"/>
          <a:srcRect l="51315" t="0" r="0" b="8414"/>
          <a:stretch/>
        </p:blipFill>
        <p:spPr>
          <a:xfrm>
            <a:off x="7164360" y="2205000"/>
            <a:ext cx="1533600" cy="162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dutsadok.com.ua/clipart/ljudi/3n.png"/>
          <p:cNvPicPr/>
          <p:nvPr/>
        </p:nvPicPr>
        <p:blipFill>
          <a:blip r:embed="rId3"/>
          <a:srcRect l="0" t="0" r="57114" b="-114"/>
          <a:stretch/>
        </p:blipFill>
        <p:spPr>
          <a:xfrm>
            <a:off x="0" y="242100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3280" y="2565360"/>
            <a:ext cx="388944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ркеры  с акц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гендерную идент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G:\DCIM\100SSCAM\SDC12896 - копия (3).JPG"/>
          <p:cNvPicPr/>
          <p:nvPr/>
        </p:nvPicPr>
        <p:blipFill>
          <a:blip r:embed="rId1"/>
          <a:srcRect l="0" t="3577" r="0" b="3577"/>
          <a:stretch/>
        </p:blipFill>
        <p:spPr>
          <a:xfrm>
            <a:off x="3203640" y="4941720"/>
            <a:ext cx="2663640" cy="17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6" descr="G:\DCIM\100SSCAM\SDC12904 - копия.JPG"/>
          <p:cNvPicPr/>
          <p:nvPr/>
        </p:nvPicPr>
        <p:blipFill>
          <a:blip r:embed="rId2"/>
          <a:srcRect l="22867" t="19058" r="14292" b="4759"/>
          <a:stretch/>
        </p:blipFill>
        <p:spPr>
          <a:xfrm>
            <a:off x="1547640" y="1125360"/>
            <a:ext cx="1881360" cy="136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3" name="Picture 9" descr="G:\DCIM\100SSCAM\SDC12892 - копия (3).JPG"/>
          <p:cNvPicPr/>
          <p:nvPr/>
        </p:nvPicPr>
        <p:blipFill>
          <a:blip r:embed="rId3"/>
          <a:srcRect l="0" t="0" r="-111" b="276"/>
          <a:stretch/>
        </p:blipFill>
        <p:spPr>
          <a:xfrm>
            <a:off x="4932360" y="47628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dutsadok.com.ua/clipart/ljudi/3n.png"/>
          <p:cNvPicPr/>
          <p:nvPr/>
        </p:nvPicPr>
        <p:blipFill>
          <a:blip r:embed="rId4"/>
          <a:srcRect l="0" t="0" r="57114" b="-114"/>
          <a:stretch/>
        </p:blipFill>
        <p:spPr>
          <a:xfrm>
            <a:off x="2268360" y="2060640"/>
            <a:ext cx="1295640" cy="167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dutsadok.com.ua/clipart/ljudi/3n.png"/>
          <p:cNvPicPr/>
          <p:nvPr/>
        </p:nvPicPr>
        <p:blipFill>
          <a:blip r:embed="rId5"/>
          <a:srcRect l="51315" t="0" r="0" b="8414"/>
          <a:stretch/>
        </p:blipFill>
        <p:spPr>
          <a:xfrm>
            <a:off x="6300720" y="1413000"/>
            <a:ext cx="1533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ознание собственного «Я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альчика (девочки), развитие ребенка как личности в социуме и семье и пробуждение чувства мужественности (женственности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рез игровую деятельность у детей определяется гендерная позиция по отношению к окружающему миру и людя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явление заботливости, благодарности и внимания по отношению к родителям, повышение значимости семьи в своей жизн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Новый рисунок (2).png"/>
          <p:cNvPicPr/>
          <p:nvPr/>
        </p:nvPicPr>
        <p:blipFill>
          <a:blip r:embed="rId1"/>
          <a:stretch/>
        </p:blipFill>
        <p:spPr>
          <a:xfrm>
            <a:off x="0" y="5229360"/>
            <a:ext cx="127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спективы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95280" y="217008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по развитию гендерных представлений у детей и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по развити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развивающей  сред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полнению методического осн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476280"/>
            <a:ext cx="86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нд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(от лат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us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») – социальный пол, определяющий поведение человека в обществе  и то, как это поведение восприним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(от латинского «secare» – разделять, делиться) – первоначально относится ни к чему иному, как к разделению человеческой расы на две группы: мужчин и женщ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ю гендерного подхода в педагоги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воспитание детей разного пола, одинаково способных к самореализации и раскрытию своих потенциалов и возможностей в современном обществе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рмирование гендерной устойчивости обусловлено социокультурным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рмами и зависит о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2276280"/>
            <a:ext cx="86421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отношения родителей  к ребенк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характера родительских установок и привязанности как матери к  ребенку, так и ребенка к матер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воспитания его в ДО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Данил\Юля\detki 8\3.png"/>
          <p:cNvPicPr/>
          <p:nvPr/>
        </p:nvPicPr>
        <p:blipFill>
          <a:blip r:embed="rId1"/>
          <a:srcRect l="42529" t="-14278" r="0" b="0"/>
          <a:stretch/>
        </p:blipFill>
        <p:spPr>
          <a:xfrm>
            <a:off x="6443640" y="4537080"/>
            <a:ext cx="254484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Данил\Юля\detki 8\3.png"/>
          <p:cNvPicPr/>
          <p:nvPr/>
        </p:nvPicPr>
        <p:blipFill>
          <a:blip r:embed="rId2"/>
          <a:srcRect l="0" t="0" r="45667" b="0"/>
          <a:stretch/>
        </p:blipFill>
        <p:spPr>
          <a:xfrm>
            <a:off x="142920" y="4941720"/>
            <a:ext cx="1908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ендерное воспитание в Росс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8…19 веках и в настоящее врем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via-midgard.info/uploads/posts/2012-05/1336667762_otec-i-syn.jpg"/>
          <p:cNvPicPr/>
          <p:nvPr/>
        </p:nvPicPr>
        <p:blipFill>
          <a:blip r:embed="rId1"/>
          <a:stretch/>
        </p:blipFill>
        <p:spPr>
          <a:xfrm>
            <a:off x="201600" y="1719360"/>
            <a:ext cx="3071880" cy="473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www.stihi.ru/pics/2012/09/26/3359.jpg"/>
          <p:cNvPicPr/>
          <p:nvPr/>
        </p:nvPicPr>
        <p:blipFill>
          <a:blip r:embed="rId2"/>
          <a:stretch/>
        </p:blipFill>
        <p:spPr>
          <a:xfrm>
            <a:off x="5803920" y="1792440"/>
            <a:ext cx="3144960" cy="477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funforkids.ru/pictures/parents/parents009.gif"/>
          <p:cNvPicPr/>
          <p:nvPr/>
        </p:nvPicPr>
        <p:blipFill>
          <a:blip r:embed="rId3"/>
          <a:stretch/>
        </p:blipFill>
        <p:spPr>
          <a:xfrm>
            <a:off x="3333600" y="3517920"/>
            <a:ext cx="2401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684360" y="126828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ри, тари, тар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янта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ден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сер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пята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башм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грош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лож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пол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по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5364000" y="765000"/>
            <a:ext cx="35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Ваню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р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Ваню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ус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здымай голо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 да лю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по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разбудим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спи, ус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больш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рыбку ло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ерку ло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лес руб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теньку, мамку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Данил\Юля\detki 8\11.png"/>
          <p:cNvPicPr/>
          <p:nvPr/>
        </p:nvPicPr>
        <p:blipFill>
          <a:blip r:embed="rId1"/>
          <a:srcRect l="0" t="0" r="51" b="116"/>
          <a:stretch/>
        </p:blipFill>
        <p:spPr>
          <a:xfrm>
            <a:off x="2627280" y="4896000"/>
            <a:ext cx="2665440" cy="174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льклор с акцентом на генд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уальность  гендерног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2133360"/>
            <a:ext cx="8496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изменения условий жизн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психологических установок обществ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го процесса без учета гендерной социализации мальчиков и девоче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ифференцированного подхода к мальчикам и девоч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5" descr="Новый рисунок.png"/>
          <p:cNvPicPr/>
          <p:nvPr/>
        </p:nvPicPr>
        <p:blipFill>
          <a:blip r:embed="rId1"/>
          <a:srcRect l="0" t="0" r="0" b="-123"/>
          <a:stretch/>
        </p:blipFill>
        <p:spPr>
          <a:xfrm>
            <a:off x="309600" y="260280"/>
            <a:ext cx="13604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1555560"/>
            <a:ext cx="856908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троение образовательного процесса с учетом дифференцированного подхода к мальчикам и девочк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Users\Данил\Юля\detki 8\detki 8 - копия.gif"/>
          <p:cNvPicPr/>
          <p:nvPr/>
        </p:nvPicPr>
        <p:blipFill>
          <a:blip r:embed="rId1"/>
          <a:srcRect l="0" t="-7218" r="81" b="0"/>
          <a:stretch/>
        </p:blipFill>
        <p:spPr>
          <a:xfrm>
            <a:off x="6875640" y="4791240"/>
            <a:ext cx="1674720" cy="1806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Новый рисунок (1).png"/>
          <p:cNvPicPr/>
          <p:nvPr/>
        </p:nvPicPr>
        <p:blipFill>
          <a:blip r:embed="rId2"/>
          <a:stretch/>
        </p:blipFill>
        <p:spPr>
          <a:xfrm>
            <a:off x="611280" y="4567320"/>
            <a:ext cx="1377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условий для естественного развития ребенка в детском саду с учетом гендерной идентич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ивизировать представление детей о различиях полов посредством  сюжетно-ролевых иг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у детей старшего дошкольного возраста представлений о себе, как о представителе определенного по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спитание форм поведения, соответствующих по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560" y="11592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уровня развития гендер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 детей и родителей старше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право 4"/>
          <p:cNvSpPr/>
          <p:nvPr/>
        </p:nvSpPr>
        <p:spPr>
          <a:xfrm rot="2008800">
            <a:off x="6553080" y="4346280"/>
            <a:ext cx="631800" cy="582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4"/>
          <p:cNvSpPr/>
          <p:nvPr/>
        </p:nvSpPr>
        <p:spPr>
          <a:xfrm>
            <a:off x="3635280" y="1413000"/>
            <a:ext cx="2376720" cy="11523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блюдение за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7236000" y="2133720"/>
            <a:ext cx="1800000" cy="15825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2627280" y="5661000"/>
            <a:ext cx="3529080" cy="108108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ест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Девочки и мальч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6372360" y="4797360"/>
            <a:ext cx="2592360" cy="18716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Анкетирование «Какие качества воспитываем у сына или доч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9"/>
          <p:cNvSpPr/>
          <p:nvPr/>
        </p:nvSpPr>
        <p:spPr>
          <a:xfrm>
            <a:off x="5468040" y="351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о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0"/>
          <p:cNvSpPr/>
          <p:nvPr/>
        </p:nvSpPr>
        <p:spPr>
          <a:xfrm>
            <a:off x="3203640" y="3141720"/>
            <a:ext cx="3384360" cy="20160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29"/>
          <p:cNvSpPr/>
          <p:nvPr/>
        </p:nvSpPr>
        <p:spPr>
          <a:xfrm rot="5668800">
            <a:off x="4530600" y="5094360"/>
            <a:ext cx="377640" cy="70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31"/>
          <p:cNvSpPr/>
          <p:nvPr/>
        </p:nvSpPr>
        <p:spPr>
          <a:xfrm rot="9448800">
            <a:off x="2452320" y="4292280"/>
            <a:ext cx="774720" cy="701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8"/>
          <p:cNvSpPr/>
          <p:nvPr/>
        </p:nvSpPr>
        <p:spPr>
          <a:xfrm>
            <a:off x="324000" y="4365720"/>
            <a:ext cx="2233440" cy="20876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21"/>
          <p:cNvSpPr/>
          <p:nvPr/>
        </p:nvSpPr>
        <p:spPr>
          <a:xfrm rot="11765400">
            <a:off x="2414160" y="3555720"/>
            <a:ext cx="866880" cy="1396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2"/>
          <p:cNvSpPr/>
          <p:nvPr/>
        </p:nvSpPr>
        <p:spPr>
          <a:xfrm>
            <a:off x="250920" y="2492280"/>
            <a:ext cx="2160360" cy="151308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шение проблемных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24"/>
          <p:cNvSpPr/>
          <p:nvPr/>
        </p:nvSpPr>
        <p:spPr>
          <a:xfrm rot="16200000">
            <a:off x="4644360" y="2780280"/>
            <a:ext cx="431640" cy="1443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25"/>
          <p:cNvSpPr/>
          <p:nvPr/>
        </p:nvSpPr>
        <p:spPr>
          <a:xfrm flipV="1" rot="20698800">
            <a:off x="6559560" y="3573000"/>
            <a:ext cx="936720" cy="17676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4:36:46Z</dcterms:created>
  <dc:creator>Данил</dc:creator>
  <dc:description/>
  <dc:language>en-US</dc:language>
  <cp:lastModifiedBy>Роман Шушков</cp:lastModifiedBy>
  <dcterms:modified xsi:type="dcterms:W3CDTF">2015-04-20T17:16:59Z</dcterms:modified>
  <cp:revision>2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2f0000000000010250300207f7000400038000</vt:lpwstr>
  </property>
</Properties>
</file>