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20.jpeg" ContentType="image/jpeg"/>
  <Override PartName="/ppt/media/image18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CAD-CE85-498F-8506-1428BD90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9E9-E588-4F47-8ADD-CC1237E8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CFB-C627-4DF7-AF07-FA16EE2A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EA5-EC7E-42C0-8B2F-03C7687E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6EE3-493A-4D29-9113-3042464E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4010-FEA2-4CBC-AF7A-31FECD3E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D00E-8102-41C7-A476-AC2314A8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61A9-D527-4B76-A92B-17DD8E85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7671-1B33-4FEF-88EF-25CC1A3C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C5E1-F2D4-48D3-AED5-5E665396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6A85-867D-42DA-9F7D-22F0902E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C7E-CA52-4BC3-B06D-019AE6EC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261C-26FD-4639-9C7C-F2FBD3DB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1114-45EF-4480-8BE9-919AAB23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26E7-0AA5-4715-8E6B-800B9DF7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F6DB-DD92-453D-9D67-BDC8D8EE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477B-07EC-464A-861A-A012CA02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FB5-2592-4A32-98AA-60C29F1D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775-9878-4CE0-B96A-312BDECB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045E-8685-46C1-81E4-4020E658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052-FFE5-4A29-BF7C-712F219B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173-8791-4349-AE08-11060AEF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5A5-A628-4055-A013-032B1D4F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0EE-A29C-4AAD-B37B-FB9216DB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Freeform 3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>
                <a:gd name="textAreaLeft" fmla="*/ 0 w 5564160"/>
                <a:gd name="textAreaRight" fmla="*/ 5564520 w 5564160"/>
                <a:gd name="textAreaTop" fmla="*/ 0 h 2332080"/>
                <a:gd name="textAreaBottom" fmla="*/ 2332440 h 2332080"/>
              </a:gdLst>
              <a:ahLst/>
              <a:rect l="textAreaLeft" t="textAreaTop" r="textAreaRight" b="textAreaBottom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e7dec9"/>
                </a:gs>
                <a:gs pos="100000">
                  <a:srgbClr val="8dc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>
                <a:gd name="textAreaLeft" fmla="*/ 0 w 1392120"/>
                <a:gd name="textAreaRight" fmla="*/ 1392480 w 139212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e7d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>
                <a:gd name="textAreaLeft" fmla="*/ 0 w 4573440"/>
                <a:gd name="textAreaRight" fmla="*/ 4573800 w 4573440"/>
                <a:gd name="textAreaTop" fmla="*/ 0 h 3402000"/>
                <a:gd name="textAreaBottom" fmla="*/ 3402360 h 3402000"/>
              </a:gdLst>
              <a:ahLst/>
              <a:rect l="textAreaLeft" t="textAreaTop" r="textAreaRight" b="textAreaBottom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8dc765"/>
                </a:gs>
                <a:gs pos="100000">
                  <a:srgbClr val="e7de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>
                  <a:gd name="textAreaLeft" fmla="*/ 0 w 3164040"/>
                  <a:gd name="textAreaRight" fmla="*/ 3164400 w 316404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>
                  <a:gd name="textAreaLeft" fmla="*/ 0 w 3865680"/>
                  <a:gd name="textAreaRight" fmla="*/ 3865680 w 3865680"/>
                  <a:gd name="textAreaTop" fmla="*/ 0 h 1782720"/>
                  <a:gd name="textAreaBottom" fmla="*/ 1783080 h 1782720"/>
                </a:gdLst>
                <a:ahLst/>
                <a:rect l="textAreaLeft" t="textAreaTop" r="textAreaRight" b="textAreaBottom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>
                  <a:gd name="textAreaLeft" fmla="*/ 0 w 4395960"/>
                  <a:gd name="textAreaRight" fmla="*/ 4396320 w 4395960"/>
                  <a:gd name="textAreaTop" fmla="*/ 0 h 1915920"/>
                  <a:gd name="textAreaBottom" fmla="*/ 1916280 h 1915920"/>
                </a:gdLst>
                <a:ahLst/>
                <a:rect l="textAreaLeft" t="textAreaTop" r="textAreaRight" b="textAreaBottom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5179-2330-494B-AD7C-57B639D92C16}" type="slidenum"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Freeform 3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>
                <a:gd name="textAreaLeft" fmla="*/ 0 w 5979960"/>
                <a:gd name="textAreaRight" fmla="*/ 5980320 w 5979960"/>
                <a:gd name="textAreaTop" fmla="*/ 0 h 3238560"/>
                <a:gd name="textAreaBottom" fmla="*/ 3238920 h 3238560"/>
              </a:gdLst>
              <a:ahLst/>
              <a:rect l="textAreaLeft" t="textAreaTop" r="textAreaRight" b="textAreaBottom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e7dec9"/>
                </a:gs>
                <a:gs pos="100000">
                  <a:srgbClr val="8dc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>
                <a:gd name="textAreaLeft" fmla="*/ 0 w 1616400"/>
                <a:gd name="textAreaRight" fmla="*/ 1616760 w 1616400"/>
                <a:gd name="textAreaTop" fmla="*/ 0 h 1084320"/>
                <a:gd name="textAreaBottom" fmla="*/ 1084680 h 1084320"/>
              </a:gdLst>
              <a:ahLst/>
              <a:rect l="textAreaLeft" t="textAreaTop" r="textAreaRight" b="textAreaBottom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e7d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>
                <a:gd name="textAreaLeft" fmla="*/ 0 w 5310360"/>
                <a:gd name="textAreaRight" fmla="*/ 5310720 w 5310360"/>
                <a:gd name="textAreaTop" fmla="*/ 0 h 4726080"/>
                <a:gd name="textAreaBottom" fmla="*/ 4726440 h 4726080"/>
              </a:gdLst>
              <a:ahLst/>
              <a:rect l="textAreaLeft" t="textAreaTop" r="textAreaRight" b="textAreaBottom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8dc765"/>
                </a:gs>
                <a:gs pos="100000">
                  <a:srgbClr val="e7de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6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Freeform 7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>
                  <a:gd name="textAreaLeft" fmla="*/ 0 w 3675240"/>
                  <a:gd name="textAreaRight" fmla="*/ 3675600 w 3675240"/>
                  <a:gd name="textAreaTop" fmla="*/ 0 h 1378080"/>
                  <a:gd name="textAreaBottom" fmla="*/ 1378440 h 1378080"/>
                </a:gdLst>
                <a:ahLst/>
                <a:rect l="textAreaLeft" t="textAreaTop" r="textAreaRight" b="textAreaBottom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>
                  <a:gd name="textAreaLeft" fmla="*/ 0 w 4487760"/>
                  <a:gd name="textAreaRight" fmla="*/ 4487760 w 4487760"/>
                  <a:gd name="textAreaTop" fmla="*/ 0 h 2476440"/>
                  <a:gd name="textAreaBottom" fmla="*/ 2476800 h 2476440"/>
                </a:gdLst>
                <a:ahLst/>
                <a:rect l="textAreaLeft" t="textAreaTop" r="textAreaRight" b="textAreaBottom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>
                  <a:gd name="textAreaLeft" fmla="*/ 0 w 5105520"/>
                  <a:gd name="textAreaRight" fmla="*/ 5105880 w 5105520"/>
                  <a:gd name="textAreaTop" fmla="*/ 0 h 2662200"/>
                  <a:gd name="textAreaBottom" fmla="*/ 2662560 h 2662200"/>
                </a:gdLst>
                <a:ahLst/>
                <a:rect l="textAreaLeft" t="textAreaTop" r="textAreaRight" b="textAreaBottom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BC91-8BC2-4E38-B893-69D804866E39}" type="slidenum"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omic Sans MS"/>
              </a:rPr>
              <a:t>Что такое календарь?</a:t>
            </a: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99" name="Picture 5" descr="Upcoming Events"/>
          <p:cNvPicPr/>
          <p:nvPr/>
        </p:nvPicPr>
        <p:blipFill>
          <a:blip r:embed="rId1"/>
          <a:stretch/>
        </p:blipFill>
        <p:spPr>
          <a:xfrm>
            <a:off x="1295280" y="2819520"/>
            <a:ext cx="3764160" cy="3733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IDRD"/>
          <p:cNvPicPr/>
          <p:nvPr/>
        </p:nvPicPr>
        <p:blipFill>
          <a:blip r:embed="rId2"/>
          <a:stretch/>
        </p:blipFill>
        <p:spPr>
          <a:xfrm>
            <a:off x="5638680" y="3429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начала месяцы не имели названий. Затем первый месяц года (год начинался с марта) стали называть «Мартиус», в честь бога войны Марса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704_Mars-god Астро Вежа"/>
          <p:cNvPicPr/>
          <p:nvPr/>
        </p:nvPicPr>
        <p:blipFill>
          <a:blip r:embed="rId2"/>
          <a:stretch/>
        </p:blipFill>
        <p:spPr>
          <a:xfrm>
            <a:off x="4648320" y="1752480"/>
            <a:ext cx="373356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торой месяц «априлиус», что означало раскрытие почек на деревьях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Апрель особый месяц у Весны! - Литпричал - литературный портал"/>
          <p:cNvPicPr/>
          <p:nvPr/>
        </p:nvPicPr>
        <p:blipFill>
          <a:blip r:embed="rId1"/>
          <a:stretch/>
        </p:blipFill>
        <p:spPr>
          <a:xfrm>
            <a:off x="609480" y="3581280"/>
            <a:ext cx="3770280" cy="2511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Серия турниров. Апрель."/>
          <p:cNvPicPr/>
          <p:nvPr/>
        </p:nvPicPr>
        <p:blipFill>
          <a:blip r:embed="rId2"/>
          <a:stretch/>
        </p:blipFill>
        <p:spPr>
          <a:xfrm>
            <a:off x="4876920" y="3505320"/>
            <a:ext cx="3733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3316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ретий месяц был посвящён богине «Майе» (май)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16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твёртый – богине Юноне (июнь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Богиня Майя и ее месяц май"/>
          <p:cNvPicPr/>
          <p:nvPr/>
        </p:nvPicPr>
        <p:blipFill>
          <a:blip r:embed="rId1"/>
          <a:stretch/>
        </p:blipFill>
        <p:spPr>
          <a:xfrm>
            <a:off x="533520" y="3048120"/>
            <a:ext cx="366228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Римский календарь"/>
          <p:cNvPicPr/>
          <p:nvPr/>
        </p:nvPicPr>
        <p:blipFill>
          <a:blip r:embed="rId2"/>
          <a:stretch/>
        </p:blipFill>
        <p:spPr>
          <a:xfrm>
            <a:off x="6400800" y="2286000"/>
            <a:ext cx="19051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-360" y="304920"/>
            <a:ext cx="449748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I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 до н.э. была проведена реформа римского календаря, в году стало 12 месяцев, первый из них был январь – в честь двуликого бога Януса, который мог одновременно созерцать прошедшее и предвидеть будущее. Число дней в месяцах колебалось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 28 до 31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Janus - Illuminati God Of Chaos And Deception &quot; David Icke"/>
          <p:cNvPicPr/>
          <p:nvPr/>
        </p:nvPicPr>
        <p:blipFill>
          <a:blip r:embed="rId1"/>
          <a:stretch/>
        </p:blipFill>
        <p:spPr>
          <a:xfrm>
            <a:off x="4800600" y="1752480"/>
            <a:ext cx="39290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ена дня и ночи – вращение Земли вокруг своей оси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Дом и семья &quot; Страница 13"/>
          <p:cNvPicPr/>
          <p:nvPr/>
        </p:nvPicPr>
        <p:blipFill>
          <a:blip r:embed="rId1"/>
          <a:stretch/>
        </p:blipFill>
        <p:spPr>
          <a:xfrm>
            <a:off x="1523880" y="240048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ена времен года – вращение Земли вокруг Солнца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Циклы времени в науке Divine Harmony"/>
          <p:cNvPicPr/>
          <p:nvPr/>
        </p:nvPicPr>
        <p:blipFill>
          <a:blip r:embed="rId1"/>
          <a:stretch/>
        </p:blipFill>
        <p:spPr>
          <a:xfrm>
            <a:off x="1600200" y="205740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д – это время полного оборота Земли вокруг Солнца, которое равно 365 суткам и 6 часам. Началом года принято считать 0 часов 0 минут 0 секунд 1 января. За четыре года составляются лишние сутки, их относят на 29 февраля в так называемые високосные годы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Орбита Земли вокруг Солнца: ее характеристики"/>
          <p:cNvPicPr/>
          <p:nvPr/>
        </p:nvPicPr>
        <p:blipFill>
          <a:blip r:embed="rId1"/>
          <a:stretch/>
        </p:blipFill>
        <p:spPr>
          <a:xfrm>
            <a:off x="228600" y="1295280"/>
            <a:ext cx="8578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380880" y="17524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году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365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уток (в високосном –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366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уток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380880" y="27432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исокосные годы:…, 2000, 2004, 2008, 2012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304920" y="6019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утках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24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304920" y="396252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году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меся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месяце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30 – 31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тки, в феврале -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28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ток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 в високосный год в феврале –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29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у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0" y="22860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то означают эти выраж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228600" y="12193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нь и ночь – сутки пр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з году нед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од на год не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года в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ещанного три года жд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ода – что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095880" y="1371600"/>
            <a:ext cx="2460600" cy="27432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457200" y="4724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пословицы и поговорки об этих мерах времени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905120" y="30492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алендарь – эт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914400" y="152388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особ счисления дней в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блица или книжка с перечнем всех дней в году (с различными справочными сведения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пределение по времени (дням, месяцам) отдельных видов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3886200" y="5562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 словаря С.И.Ожег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http://i.livelib.ru/boocover/1000230451/l/2bde/S._I._Ozhegov__Slovar_russkogo_yazyka.jpg"/>
          <p:cNvPicPr/>
          <p:nvPr/>
        </p:nvPicPr>
        <p:blipFill>
          <a:blip r:embed="rId1"/>
          <a:stretch/>
        </p:blipFill>
        <p:spPr>
          <a:xfrm>
            <a:off x="6858000" y="2286000"/>
            <a:ext cx="19051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533520" y="22860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агадк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52280" y="1143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 ног и без крыльев о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стро лет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догонишь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1447920" y="2209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228600" y="266688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 новый год пришёл он в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аким румяным толстя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каждый день терял он ве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, наконец, совсем исч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1066680" y="4114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календ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228600" y="464832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первую ступень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тал парень молод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двенадцатой ступень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шёл старик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129528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г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4648320" y="114300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от год живёт всех дольш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часов и дней в нём бол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е мы ждём его при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овно раз в четыре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5867280" y="2666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сокосный г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4572000" y="46483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руг за дружкой че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ирно ходят брат с сест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ратец будит весь нар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сестра – наобор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5867280" y="6172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день и ноч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http://yarfotomix.ru/uploads/posts/2014-05/1399273780_6.jpg"/>
          <p:cNvPicPr/>
          <p:nvPr/>
        </p:nvPicPr>
        <p:blipFill>
          <a:blip r:embed="rId1"/>
          <a:stretch/>
        </p:blipFill>
        <p:spPr>
          <a:xfrm>
            <a:off x="380880" y="2743200"/>
            <a:ext cx="1981440" cy="2871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http://i.adverdesign.ru/u/06/6c4b94695a11e385c71c1b206ca371/-/2e303a86f55be886363dd76fcc33a42e.jpg"/>
          <p:cNvPicPr/>
          <p:nvPr/>
        </p:nvPicPr>
        <p:blipFill>
          <a:blip r:embed="rId2"/>
          <a:stretch/>
        </p:blipFill>
        <p:spPr>
          <a:xfrm>
            <a:off x="3200400" y="2514600"/>
            <a:ext cx="2514600" cy="14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http://www.oxp.ru/images/kvartal2014.jpg"/>
          <p:cNvPicPr/>
          <p:nvPr/>
        </p:nvPicPr>
        <p:blipFill>
          <a:blip r:embed="rId3"/>
          <a:stretch/>
        </p:blipFill>
        <p:spPr>
          <a:xfrm>
            <a:off x="6781680" y="228600"/>
            <a:ext cx="1544760" cy="358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http://allgraf.net/uploads/posts/2014-10/1412846740_6ajhw1fx5lqtksm.jpg"/>
          <p:cNvPicPr/>
          <p:nvPr/>
        </p:nvPicPr>
        <p:blipFill>
          <a:blip r:embed="rId4"/>
          <a:stretch/>
        </p:blipFill>
        <p:spPr>
          <a:xfrm>
            <a:off x="3200400" y="4495680"/>
            <a:ext cx="2489040" cy="1762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http://nn.sutochno.ru/files/misc/images/marshruti/kalendar_sobytiy_dlya_turistov.jpg"/>
          <p:cNvPicPr/>
          <p:nvPr/>
        </p:nvPicPr>
        <p:blipFill>
          <a:blip r:embed="rId5"/>
          <a:stretch/>
        </p:blipFill>
        <p:spPr>
          <a:xfrm>
            <a:off x="6629400" y="4419720"/>
            <a:ext cx="2117880" cy="1643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6"/>
          <a:stretch/>
        </p:blipFill>
        <p:spPr>
          <a:xfrm>
            <a:off x="304920" y="380880"/>
            <a:ext cx="2438280" cy="16606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8" descr=""/>
          <p:cNvPicPr/>
          <p:nvPr/>
        </p:nvPicPr>
        <p:blipFill>
          <a:blip r:embed="rId7"/>
          <a:stretch/>
        </p:blipFill>
        <p:spPr>
          <a:xfrm>
            <a:off x="3522600" y="304920"/>
            <a:ext cx="2367000" cy="1676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9"/>
          <p:cNvSpPr/>
          <p:nvPr/>
        </p:nvSpPr>
        <p:spPr>
          <a:xfrm>
            <a:off x="380880" y="21337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ст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609480" y="5791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ст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708660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ры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3505320" y="20574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ки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6781680" y="3962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варта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3657600" y="4038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рм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3809880" y="63244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ка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1066680" y="4572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мерять время людям помогали наблюдения за природой, за Солнцем, Луной и звёз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http://prazdnik-land.ru/media/uploads/10010/images/666666666666666666666666666666666666666666666666666666/sun.jpg"/>
          <p:cNvPicPr/>
          <p:nvPr/>
        </p:nvPicPr>
        <p:blipFill>
          <a:blip r:embed="rId1"/>
          <a:stretch/>
        </p:blipFill>
        <p:spPr>
          <a:xfrm>
            <a:off x="304920" y="1828800"/>
            <a:ext cx="3295440" cy="238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http://planeta.moy.su/_bl/51/45523464.jpg"/>
          <p:cNvPicPr/>
          <p:nvPr/>
        </p:nvPicPr>
        <p:blipFill>
          <a:blip r:embed="rId2"/>
          <a:stretch/>
        </p:blipFill>
        <p:spPr>
          <a:xfrm>
            <a:off x="5029200" y="1828800"/>
            <a:ext cx="3448080" cy="23083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1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3" descr="http://abc-24.info/uploads/posts/2011-08/1312730221_12100_m.jpg"/>
          <p:cNvPicPr/>
          <p:nvPr/>
        </p:nvPicPr>
        <p:blipFill>
          <a:blip r:embed="rId3"/>
          <a:stretch/>
        </p:blipFill>
        <p:spPr>
          <a:xfrm>
            <a:off x="3048120" y="4343400"/>
            <a:ext cx="29383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14400" y="304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идневная неделя возникла в Древнем Вавилоне. Её возникновение было связано с почитанием числа «семь» - по числу видимых небесных тел (Меркурий, Венера, Марс, Юпитер, Сатурн, Луна, Солнце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Вавилон. История города Древнего мира Интересное Журнал RETROBAZAR Портал коллекционеров и любителей старины"/>
          <p:cNvPicPr/>
          <p:nvPr/>
        </p:nvPicPr>
        <p:blipFill>
          <a:blip r:embed="rId1"/>
          <a:stretch/>
        </p:blipFill>
        <p:spPr>
          <a:xfrm>
            <a:off x="26668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52280" y="228600"/>
            <a:ext cx="38102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недельник – день Луны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152280"/>
            <a:ext cx="3581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торник – день Марс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6"/>
          <p:cNvSpPr/>
          <p:nvPr/>
        </p:nvSpPr>
        <p:spPr>
          <a:xfrm>
            <a:off x="380880" y="3581280"/>
            <a:ext cx="3810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еда – день Мерку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7"/>
          <p:cNvSpPr/>
          <p:nvPr/>
        </p:nvSpPr>
        <p:spPr>
          <a:xfrm>
            <a:off x="4876920" y="3429000"/>
            <a:ext cx="358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тверг – день Юпи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Blue Moon Photos"/>
          <p:cNvPicPr/>
          <p:nvPr/>
        </p:nvPicPr>
        <p:blipFill>
          <a:blip r:embed="rId1"/>
          <a:stretch/>
        </p:blipFill>
        <p:spPr>
          <a:xfrm>
            <a:off x="914400" y="1371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NASA разрабатывает новый план исследований Марса - новости космоса, астрономии и космонавтики на ASTRONEWS.ru"/>
          <p:cNvPicPr/>
          <p:nvPr/>
        </p:nvPicPr>
        <p:blipFill>
          <a:blip r:embed="rId2"/>
          <a:stretch/>
        </p:blipFill>
        <p:spPr>
          <a:xfrm>
            <a:off x="5410080" y="1371600"/>
            <a:ext cx="2635200" cy="1978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thenatureofmind: Astronomy"/>
          <p:cNvPicPr/>
          <p:nvPr/>
        </p:nvPicPr>
        <p:blipFill>
          <a:blip r:embed="rId3"/>
          <a:stretch/>
        </p:blipFill>
        <p:spPr>
          <a:xfrm>
            <a:off x="914400" y="4572000"/>
            <a:ext cx="2781360" cy="2085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Jupiter pictures Advanced Images Search"/>
          <p:cNvPicPr/>
          <p:nvPr/>
        </p:nvPicPr>
        <p:blipFill>
          <a:blip r:embed="rId4"/>
          <a:stretch/>
        </p:blipFill>
        <p:spPr>
          <a:xfrm>
            <a:off x="5257800" y="4495680"/>
            <a:ext cx="28735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52280" y="228600"/>
            <a:ext cx="38102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ятница– день Венеры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0" y="152280"/>
            <a:ext cx="3581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ббота – день Сатурн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одержимое 6"/>
          <p:cNvSpPr/>
          <p:nvPr/>
        </p:nvSpPr>
        <p:spPr>
          <a:xfrm>
            <a:off x="2286000" y="3352680"/>
            <a:ext cx="380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скресенье – день Сол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Venus Planet HQ Wallpapers for PC"/>
          <p:cNvPicPr/>
          <p:nvPr/>
        </p:nvPicPr>
        <p:blipFill>
          <a:blip r:embed="rId1"/>
          <a:stretch/>
        </p:blipFill>
        <p:spPr>
          <a:xfrm>
            <a:off x="914400" y="1295280"/>
            <a:ext cx="2616120" cy="196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Saturn Images Planet"/>
          <p:cNvPicPr/>
          <p:nvPr/>
        </p:nvPicPr>
        <p:blipFill>
          <a:blip r:embed="rId2"/>
          <a:stretch/>
        </p:blipFill>
        <p:spPr>
          <a:xfrm>
            <a:off x="5638680" y="114300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ExСhangeNews.ru - Обменная сеть"/>
          <p:cNvPicPr/>
          <p:nvPr/>
        </p:nvPicPr>
        <p:blipFill>
          <a:blip r:embed="rId3"/>
          <a:stretch/>
        </p:blipFill>
        <p:spPr>
          <a:xfrm>
            <a:off x="3276720" y="4267080"/>
            <a:ext cx="24382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10663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Руси еженедельный свободный день назывался «неделей»- днём когда «не делают». </a:t>
            </a:r>
            <a:r>
              <a:rPr b="0" lang="ru-RU" sz="3200" spc="-1" strike="noStrike">
                <a:solidFill>
                  <a:srgbClr val="475a8d"/>
                </a:solidFill>
                <a:latin typeface="Comic Sans MS"/>
              </a:rPr>
              <a:t>Понедельни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день следующий после «недели». </a:t>
            </a:r>
            <a:r>
              <a:rPr b="0" lang="ru-RU" sz="3200" spc="-1" strike="noStrike">
                <a:solidFill>
                  <a:srgbClr val="475a8d"/>
                </a:solidFill>
                <a:latin typeface="Comic Sans MS"/>
              </a:rPr>
              <a:t>Сред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средний день. </a:t>
            </a:r>
            <a:r>
              <a:rPr b="0" lang="ru-RU" sz="3200" spc="-1" strike="noStrike">
                <a:solidFill>
                  <a:srgbClr val="475a8d"/>
                </a:solidFill>
                <a:latin typeface="Comic Sans MS"/>
              </a:rPr>
              <a:t>Вторник четверг,пятниц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порядковые номера этих дней. </a:t>
            </a:r>
            <a:r>
              <a:rPr b="0" lang="ru-RU" sz="3200" spc="-1" strike="noStrike">
                <a:solidFill>
                  <a:srgbClr val="475a8d"/>
                </a:solidFill>
                <a:latin typeface="Comic Sans MS"/>
              </a:rPr>
              <a:t>Суббот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«сабат» – отдых этот день раньше у некоторых народов был выходным. В настоящее время – «неделя» – весь семидневный период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межуток времени между полнолунием и новолунием в древние времена определялся в 30 дней. Отсюда и название – лунный месяц.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Лунный календарь"/>
          <p:cNvPicPr/>
          <p:nvPr/>
        </p:nvPicPr>
        <p:blipFill>
          <a:blip r:embed="rId1"/>
          <a:stretch/>
        </p:blipFill>
        <p:spPr>
          <a:xfrm>
            <a:off x="990720" y="3429000"/>
            <a:ext cx="7277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ма</dc:creator>
  <dc:description/>
  <dc:language>en-US</dc:language>
  <cp:lastModifiedBy>Александр</cp:lastModifiedBy>
  <dcterms:modified xsi:type="dcterms:W3CDTF">2015-02-27T07:28:11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2e0000000000010250300207f7000400038000</vt:lpwstr>
  </property>
  <property fmtid="{D5CDD505-2E9C-101B-9397-08002B2CF9AE}" pid="3" name="Version">
    <vt:r8>1</vt:r8>
  </property>
</Properties>
</file>