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C45-2058-4387-B311-9FF75BA4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E80-63BA-41DA-B237-10BB1D21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60F-8D4D-4734-9F81-3406A524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738-720B-4905-9452-B4B69264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C7B3-8DE2-4633-B878-F66865EC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6B79-2D06-44D7-B463-3DBDCE6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D0CC-1BE5-4DF4-A293-DF7845D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FD8D-347D-4F9F-955A-ED8B73DE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533-C597-49A0-A87A-6DDD1F78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0CF4-29BA-4E34-8DB6-DA321E2A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24A-E2E4-4A26-8A04-3C1C0870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F00-0AC2-4421-AC88-25B240D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43D-A340-457B-AC45-F4EFA8E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CA6-6344-4D7C-AC89-EB0376F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413-E335-4065-96DC-2C604E8E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A430-6F08-4784-BDE1-DAEE28BA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D63D-FDB3-4A70-9B99-D00904C9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817-69B5-458F-9C3D-47158E3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2E-2BAA-4285-96D1-5E6C7E6B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279-B5E3-45D4-B52E-FCEA9547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B78-4013-47A1-9254-052545A9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C94-25CB-4518-9AF4-FC2A23E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366-0200-4008-A3EE-83983F0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D78-2D52-4544-9F26-13573D1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>
                <a:gd name="textAreaLeft" fmla="*/ 0 w 5564160"/>
                <a:gd name="textAreaRight" fmla="*/ 5564520 w 556416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>
                <a:gd name="textAreaLeft" fmla="*/ 0 w 4573440"/>
                <a:gd name="textAreaRight" fmla="*/ 4573800 w 457344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>
                  <a:gd name="textAreaLeft" fmla="*/ 0 w 3164040"/>
                  <a:gd name="textAreaRight" fmla="*/ 3164400 w 316404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>
                  <a:gd name="textAreaLeft" fmla="*/ 0 w 3865680"/>
                  <a:gd name="textAreaRight" fmla="*/ 3865680 w 386568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>
                  <a:gd name="textAreaLeft" fmla="*/ 0 w 4395960"/>
                  <a:gd name="textAreaRight" fmla="*/ 4396320 w 4395960"/>
                  <a:gd name="textAreaTop" fmla="*/ 0 h 1915920"/>
                  <a:gd name="textAreaBottom" fmla="*/ 1916280 h 1915920"/>
                </a:gdLst>
                <a:ahLst/>
                <a:rect l="textAreaLeft" t="textAreaTop" r="textAreaRight" b="textAreaBottom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CB7-E934-47BB-8ACD-C85F370F2B1A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>
                <a:gd name="textAreaLeft" fmla="*/ 0 w 5979960"/>
                <a:gd name="textAreaRight" fmla="*/ 5980320 w 597996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>
                <a:gd name="textAreaLeft" fmla="*/ 0 w 5310360"/>
                <a:gd name="textAreaRight" fmla="*/ 5310720 w 5310360"/>
                <a:gd name="textAreaTop" fmla="*/ 0 h 4726080"/>
                <a:gd name="textAreaBottom" fmla="*/ 4726440 h 4726080"/>
              </a:gdLst>
              <a:ahLst/>
              <a:rect l="textAreaLeft" t="textAreaTop" r="textAreaRight" b="textAreaBottom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>
                  <a:gd name="textAreaLeft" fmla="*/ 0 w 3675240"/>
                  <a:gd name="textAreaRight" fmla="*/ 3675600 w 3675240"/>
                  <a:gd name="textAreaTop" fmla="*/ 0 h 1378080"/>
                  <a:gd name="textAreaBottom" fmla="*/ 1378440 h 1378080"/>
                </a:gdLst>
                <a:ahLst/>
                <a:rect l="textAreaLeft" t="textAreaTop" r="textAreaRight" b="textAreaBottom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>
                  <a:gd name="textAreaLeft" fmla="*/ 0 w 4487760"/>
                  <a:gd name="textAreaRight" fmla="*/ 4487760 w 4487760"/>
                  <a:gd name="textAreaTop" fmla="*/ 0 h 2476440"/>
                  <a:gd name="textAreaBottom" fmla="*/ 2476800 h 2476440"/>
                </a:gdLst>
                <a:ahLst/>
                <a:rect l="textAreaLeft" t="textAreaTop" r="textAreaRight" b="textAreaBottom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>
                  <a:gd name="textAreaLeft" fmla="*/ 0 w 5105520"/>
                  <a:gd name="textAreaRight" fmla="*/ 5105880 w 5105520"/>
                  <a:gd name="textAreaTop" fmla="*/ 0 h 2662200"/>
                  <a:gd name="textAreaBottom" fmla="*/ 2662560 h 2662200"/>
                </a:gdLst>
                <a:ahLst/>
                <a:rect l="textAreaLeft" t="textAreaTop" r="textAreaRight" b="textAreaBottom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5A0-B7EE-4556-8818-92DBDE122BCE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omic Sans MS"/>
              </a:rPr>
              <a:t>Что такое календарь?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99" name="Picture 5" descr="Upcoming Events"/>
          <p:cNvPicPr/>
          <p:nvPr/>
        </p:nvPicPr>
        <p:blipFill>
          <a:blip r:embed="rId1"/>
          <a:stretch/>
        </p:blipFill>
        <p:spPr>
          <a:xfrm>
            <a:off x="1295280" y="2819520"/>
            <a:ext cx="3764160" cy="373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DRD"/>
          <p:cNvPicPr/>
          <p:nvPr/>
        </p:nvPicPr>
        <p:blipFill>
          <a:blip r:embed="rId2"/>
          <a:stretch/>
        </p:blipFill>
        <p:spPr>
          <a:xfrm>
            <a:off x="563868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месяцы не имели названий. Затем первый месяц года (год начинался с марта) стали называть «Мартиус», в честь бога войны Марс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704_Mars-god Астро Вежа"/>
          <p:cNvPicPr/>
          <p:nvPr/>
        </p:nvPicPr>
        <p:blipFill>
          <a:blip r:embed="rId2"/>
          <a:stretch/>
        </p:blipFill>
        <p:spPr>
          <a:xfrm>
            <a:off x="4648320" y="1752480"/>
            <a:ext cx="37335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й месяц «априлиус», что означало раскрытие почек на деревьях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Апрель особый месяц у Весны! - Литпричал - литературный портал"/>
          <p:cNvPicPr/>
          <p:nvPr/>
        </p:nvPicPr>
        <p:blipFill>
          <a:blip r:embed="rId1"/>
          <a:stretch/>
        </p:blipFill>
        <p:spPr>
          <a:xfrm>
            <a:off x="609480" y="3581280"/>
            <a:ext cx="3770280" cy="251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Серия турниров. Апрель."/>
          <p:cNvPicPr/>
          <p:nvPr/>
        </p:nvPicPr>
        <p:blipFill>
          <a:blip r:embed="rId2"/>
          <a:stretch/>
        </p:blipFill>
        <p:spPr>
          <a:xfrm>
            <a:off x="4876920" y="3505320"/>
            <a:ext cx="373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31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етий месяц был посвящён богине «Майе» (май)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ёртый – богине Юноне (июнь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Богиня Майя и ее месяц май"/>
          <p:cNvPicPr/>
          <p:nvPr/>
        </p:nvPicPr>
        <p:blipFill>
          <a:blip r:embed="rId1"/>
          <a:stretch/>
        </p:blipFill>
        <p:spPr>
          <a:xfrm>
            <a:off x="533520" y="304812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Римский календарь"/>
          <p:cNvPicPr/>
          <p:nvPr/>
        </p:nvPicPr>
        <p:blipFill>
          <a:blip r:embed="rId2"/>
          <a:stretch/>
        </p:blipFill>
        <p:spPr>
          <a:xfrm>
            <a:off x="6400800" y="2286000"/>
            <a:ext cx="1905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304920"/>
            <a:ext cx="449748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до н.э. была проведена реформа римского календаря, в году стало 12 месяцев, первый из них был январь – в честь двуликого бога Януса, который мог одновременно созерцать прошедшее и предвидеть будущее. Число дней в месяцах колебалос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 28 до 31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Janus - Illuminati God Of Chaos And Deception &quot; David Icke"/>
          <p:cNvPicPr/>
          <p:nvPr/>
        </p:nvPicPr>
        <p:blipFill>
          <a:blip r:embed="rId1"/>
          <a:stretch/>
        </p:blipFill>
        <p:spPr>
          <a:xfrm>
            <a:off x="4800600" y="1752480"/>
            <a:ext cx="39290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дня и ночи – вращение Земли вокруг своей оси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Дом и семья &quot; Страница 13"/>
          <p:cNvPicPr/>
          <p:nvPr/>
        </p:nvPicPr>
        <p:blipFill>
          <a:blip r:embed="rId1"/>
          <a:stretch/>
        </p:blipFill>
        <p:spPr>
          <a:xfrm>
            <a:off x="152388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времен года – вращение Земли вокруг Солнца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Циклы времени в науке Divine Harmony"/>
          <p:cNvPicPr/>
          <p:nvPr/>
        </p:nvPicPr>
        <p:blipFill>
          <a:blip r:embed="rId1"/>
          <a:stretch/>
        </p:blipFill>
        <p:spPr>
          <a:xfrm>
            <a:off x="1600200" y="205740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д – это время полного оборота Земли вокруг Солнца, которое равно 365 суткам и 6 часам. Началом года принято считать 0 часов 0 минут 0 секунд 1 января. За четыре года составляются лишние сутки, их относят на 29 февраля в так называемые високосные год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Орбита Земли вокруг Солнца: ее характеристики"/>
          <p:cNvPicPr/>
          <p:nvPr/>
        </p:nvPicPr>
        <p:blipFill>
          <a:blip r:embed="rId1"/>
          <a:stretch/>
        </p:blipFill>
        <p:spPr>
          <a:xfrm>
            <a:off x="228600" y="1295280"/>
            <a:ext cx="8578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380880" y="1752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 (в високосном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27432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сокосные годы:…, 2000, 2004, 2008, 2012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304920" y="6019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утках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04920" y="3962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месяц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0 – 31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ки, в феврале -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ок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 в високосный год в феврале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2286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означают эти выра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28600" y="12193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нь и ночь – сутки пр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году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 на год не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года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ещанного три го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а – что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46060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57200" y="4724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пословицы и поговорки об этих мерах времен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051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ендарь – э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914400" y="152388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соб счисления дней в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лица или книжка с перечнем всех дней в году (с различными справочными сведен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пределение по времени (дням, месяцам) отдельных видо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88620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словаря С.И.Ожег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i.livelib.ru/boocover/1000230451/l/2bde/S._I._Ozhegov__Slovar_russkogo_yazyka.jpg"/>
          <p:cNvPicPr/>
          <p:nvPr/>
        </p:nvPicPr>
        <p:blipFill>
          <a:blip r:embed="rId1"/>
          <a:stretch/>
        </p:blipFill>
        <p:spPr>
          <a:xfrm>
            <a:off x="6858000" y="228600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3520" y="228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52280" y="1143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ног и без крыльев о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стро ле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огонишь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447920" y="2209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28600" y="26668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 новый год пришёл он в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им румяным толстя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каждый день терял он ве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, наконец, совсем исч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1066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календ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28600" y="46483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ервую ступен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ал парень молод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двенадцатой ступень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шёл старик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2952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648320" y="114300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т год живёт всех доль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часов и дней в нём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мы ждём его при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вно раз в четыре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58672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сокосный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57200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за дружкой че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ирно ходят брат с се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тец будит весь на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сестра – наобо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58672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день и н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http://yarfotomix.ru/uploads/posts/2014-05/1399273780_6.jpg"/>
          <p:cNvPicPr/>
          <p:nvPr/>
        </p:nvPicPr>
        <p:blipFill>
          <a:blip r:embed="rId1"/>
          <a:stretch/>
        </p:blipFill>
        <p:spPr>
          <a:xfrm>
            <a:off x="380880" y="2743200"/>
            <a:ext cx="1981440" cy="287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i.adverdesign.ru/u/06/6c4b94695a11e385c71c1b206ca371/-/2e303a86f55be886363dd76fcc33a42e.jpg"/>
          <p:cNvPicPr/>
          <p:nvPr/>
        </p:nvPicPr>
        <p:blipFill>
          <a:blip r:embed="rId2"/>
          <a:stretch/>
        </p:blipFill>
        <p:spPr>
          <a:xfrm>
            <a:off x="3200400" y="2514600"/>
            <a:ext cx="2514600" cy="14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http://www.oxp.ru/images/kvartal2014.jpg"/>
          <p:cNvPicPr/>
          <p:nvPr/>
        </p:nvPicPr>
        <p:blipFill>
          <a:blip r:embed="rId3"/>
          <a:stretch/>
        </p:blipFill>
        <p:spPr>
          <a:xfrm>
            <a:off x="6781680" y="228600"/>
            <a:ext cx="154476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allgraf.net/uploads/posts/2014-10/1412846740_6ajhw1fx5lqtksm.jpg"/>
          <p:cNvPicPr/>
          <p:nvPr/>
        </p:nvPicPr>
        <p:blipFill>
          <a:blip r:embed="rId4"/>
          <a:stretch/>
        </p:blipFill>
        <p:spPr>
          <a:xfrm>
            <a:off x="3200400" y="4495680"/>
            <a:ext cx="248904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nn.sutochno.ru/files/misc/images/marshruti/kalendar_sobytiy_dlya_turistov.jpg"/>
          <p:cNvPicPr/>
          <p:nvPr/>
        </p:nvPicPr>
        <p:blipFill>
          <a:blip r:embed="rId5"/>
          <a:stretch/>
        </p:blipFill>
        <p:spPr>
          <a:xfrm>
            <a:off x="6629400" y="4419720"/>
            <a:ext cx="211788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6"/>
          <a:stretch/>
        </p:blipFill>
        <p:spPr>
          <a:xfrm>
            <a:off x="304920" y="380880"/>
            <a:ext cx="2438280" cy="1660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"/>
          <p:cNvPicPr/>
          <p:nvPr/>
        </p:nvPicPr>
        <p:blipFill>
          <a:blip r:embed="rId7"/>
          <a:stretch/>
        </p:blipFill>
        <p:spPr>
          <a:xfrm>
            <a:off x="3522600" y="304920"/>
            <a:ext cx="2367000" cy="1676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380880" y="2133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08660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ы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505320" y="2057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ки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67816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ар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3657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м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3809880" y="6324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к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066680" y="4572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рять время людям помогали наблюдения за природой, за Солнцем, Луной и звёз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prazdnik-land.ru/media/uploads/10010/images/666666666666666666666666666666666666666666666666666666/sun.jpg"/>
          <p:cNvPicPr/>
          <p:nvPr/>
        </p:nvPicPr>
        <p:blipFill>
          <a:blip r:embed="rId1"/>
          <a:stretch/>
        </p:blipFill>
        <p:spPr>
          <a:xfrm>
            <a:off x="304920" y="1828800"/>
            <a:ext cx="3295440" cy="23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planeta.moy.su/_bl/51/45523464.jpg"/>
          <p:cNvPicPr/>
          <p:nvPr/>
        </p:nvPicPr>
        <p:blipFill>
          <a:blip r:embed="rId2"/>
          <a:stretch/>
        </p:blipFill>
        <p:spPr>
          <a:xfrm>
            <a:off x="5029200" y="1828800"/>
            <a:ext cx="3448080" cy="2308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http://abc-24.info/uploads/posts/2011-08/1312730221_12100_m.jpg"/>
          <p:cNvPicPr/>
          <p:nvPr/>
        </p:nvPicPr>
        <p:blipFill>
          <a:blip r:embed="rId3"/>
          <a:stretch/>
        </p:blipFill>
        <p:spPr>
          <a:xfrm>
            <a:off x="3048120" y="4343400"/>
            <a:ext cx="29383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04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дневная неделя возникла в Древнем Вавилоне. Её возникновение было связано с почитанием числа «семь» - по числу видимых небесных тел (Меркурий, Венера, Марс, Юпитер, Сатурн, Луна, Солнце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Вавилон. История города Древнего мира Интересное Журнал RETROBAZAR Портал коллекционеров и любителей старины"/>
          <p:cNvPicPr/>
          <p:nvPr/>
        </p:nvPicPr>
        <p:blipFill>
          <a:blip r:embed="rId1"/>
          <a:stretch/>
        </p:blipFill>
        <p:spPr>
          <a:xfrm>
            <a:off x="26668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едельник – день Лун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ник – день Мар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6"/>
          <p:cNvSpPr/>
          <p:nvPr/>
        </p:nvSpPr>
        <p:spPr>
          <a:xfrm>
            <a:off x="380880" y="3581280"/>
            <a:ext cx="3810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а – день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7"/>
          <p:cNvSpPr/>
          <p:nvPr/>
        </p:nvSpPr>
        <p:spPr>
          <a:xfrm>
            <a:off x="4876920" y="34290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ерг – день Юпи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Blue Moon Photos"/>
          <p:cNvPicPr/>
          <p:nvPr/>
        </p:nvPicPr>
        <p:blipFill>
          <a:blip r:embed="rId1"/>
          <a:stretch/>
        </p:blipFill>
        <p:spPr>
          <a:xfrm>
            <a:off x="914400" y="1371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NASA разрабатывает новый план исследований Марса - новости космоса, астрономии и космонавтики на ASTRONEWS.ru"/>
          <p:cNvPicPr/>
          <p:nvPr/>
        </p:nvPicPr>
        <p:blipFill>
          <a:blip r:embed="rId2"/>
          <a:stretch/>
        </p:blipFill>
        <p:spPr>
          <a:xfrm>
            <a:off x="5410080" y="1371600"/>
            <a:ext cx="2635200" cy="19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thenatureofmind: Astronomy"/>
          <p:cNvPicPr/>
          <p:nvPr/>
        </p:nvPicPr>
        <p:blipFill>
          <a:blip r:embed="rId3"/>
          <a:stretch/>
        </p:blipFill>
        <p:spPr>
          <a:xfrm>
            <a:off x="914400" y="457200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upiter pictures Advanced Images Search"/>
          <p:cNvPicPr/>
          <p:nvPr/>
        </p:nvPicPr>
        <p:blipFill>
          <a:blip r:embed="rId4"/>
          <a:stretch/>
        </p:blipFill>
        <p:spPr>
          <a:xfrm>
            <a:off x="5257800" y="4495680"/>
            <a:ext cx="2873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ница– день Венер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ббота – день Сатурн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6"/>
          <p:cNvSpPr/>
          <p:nvPr/>
        </p:nvSpPr>
        <p:spPr>
          <a:xfrm>
            <a:off x="2286000" y="33526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кресенье – день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Venus Planet HQ Wallpapers for PC"/>
          <p:cNvPicPr/>
          <p:nvPr/>
        </p:nvPicPr>
        <p:blipFill>
          <a:blip r:embed="rId1"/>
          <a:stretch/>
        </p:blipFill>
        <p:spPr>
          <a:xfrm>
            <a:off x="914400" y="129528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Saturn Images Planet"/>
          <p:cNvPicPr/>
          <p:nvPr/>
        </p:nvPicPr>
        <p:blipFill>
          <a:blip r:embed="rId2"/>
          <a:stretch/>
        </p:blipFill>
        <p:spPr>
          <a:xfrm>
            <a:off x="5638680" y="114300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ExСhangeNews.ru - Обменная сеть"/>
          <p:cNvPicPr/>
          <p:nvPr/>
        </p:nvPicPr>
        <p:blipFill>
          <a:blip r:embed="rId3"/>
          <a:stretch/>
        </p:blipFill>
        <p:spPr>
          <a:xfrm>
            <a:off x="3276720" y="4267080"/>
            <a:ext cx="2438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066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уси еженедельный свободный день назывался «неделей»- днём когда «не делают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Понедельн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день следующий после «недели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редний день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Вторник четверг,пятниц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порядковые номера этих дней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уббот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«сабат» – отдых этот день раньше у некоторых народов был выходным. В настоящее время – «неделя» – весь семидневный период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к времени между полнолунием и новолунием в древние времена определялся в 30 дней. Отсюда и название – лунный месяц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Лунный календарь"/>
          <p:cNvPicPr/>
          <p:nvPr/>
        </p:nvPicPr>
        <p:blipFill>
          <a:blip r:embed="rId1"/>
          <a:stretch/>
        </p:blipFill>
        <p:spPr>
          <a:xfrm>
            <a:off x="990720" y="3429000"/>
            <a:ext cx="72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Александр</cp:lastModifiedBy>
  <dcterms:modified xsi:type="dcterms:W3CDTF">2015-02-27T07:28:11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2e0000000000010250300207f7000400038000</vt:lpwstr>
  </property>
  <property fmtid="{D5CDD505-2E9C-101B-9397-08002B2CF9AE}" pid="3" name="Version">
    <vt:r8>1</vt:r8>
  </property>
</Properties>
</file>