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4.png" ContentType="image/png"/>
  <Override PartName="/ppt/media/image20.jpeg" ContentType="image/jpeg"/>
  <Override PartName="/ppt/media/image18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9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8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7.jpeg" ContentType="image/jpeg"/>
  <Override PartName="/ppt/media/image11.png" ContentType="image/png"/>
  <Override PartName="/ppt/media/image9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A449-FE9C-4060-B2D2-9ABBBA9F8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F07B-D587-4EED-827D-429E21FFB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B330-4429-4C4E-A099-84BDD2021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F155-21E7-4E01-821A-E859A84AF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BD948-51CC-4CEC-BCF6-2FE055482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05783-6B46-468A-A0C1-38E9839DC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7B3D2-8798-4A3F-86B3-65930A426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9E5E2-586E-4FF4-BBC7-513E3EEEF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99ADD-E9DF-4E10-BFE1-C33EF4823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F2D18-0812-4F35-8FFD-C80499EF6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13361-AFF5-4D53-9685-C1C784D8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FB5E-DDC2-45D0-A281-E46F70561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66DA3-2082-45E8-B781-7B7D1556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515A4-5ECF-4669-AB60-248A7DC6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4A87A-E4A4-4948-8F4E-1E782A759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E72EF-4E3C-4076-966F-AB52765EC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36486-9B77-4E8B-B2B7-4FA023201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D1D3-3DEE-4F0C-B45C-052D5AD4A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5D76-96B5-42EA-933C-3B345F089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D14B-9703-4A4A-AB89-89E0CF601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FF32-F219-4F31-9FF3-4AD653E34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227F-017C-47B1-BA7D-CA0A0E37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8AF7-2A0F-4CF7-93FA-7B28C982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ABA7-BEE1-45E1-84E7-8CF7A756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288280" cy="3402000"/>
            <a:chOff x="0" y="0"/>
            <a:chExt cx="8288280" cy="3402000"/>
          </a:xfrm>
        </p:grpSpPr>
        <p:sp>
          <p:nvSpPr>
            <p:cNvPr id="1" name="Freeform 3"/>
            <p:cNvSpPr/>
            <p:nvPr/>
          </p:nvSpPr>
          <p:spPr>
            <a:xfrm>
              <a:off x="2724120" y="0"/>
              <a:ext cx="5564160" cy="2332080"/>
            </a:xfrm>
            <a:custGeom>
              <a:avLst/>
              <a:gdLst>
                <a:gd name="textAreaLeft" fmla="*/ 0 w 5564160"/>
                <a:gd name="textAreaRight" fmla="*/ 5564520 w 5564160"/>
                <a:gd name="textAreaTop" fmla="*/ 0 h 2332080"/>
                <a:gd name="textAreaBottom" fmla="*/ 2332440 h 2332080"/>
              </a:gdLst>
              <a:ahLst/>
              <a:rect l="textAreaLeft" t="textAreaTop" r="textAreaRight" b="textAreaBottom"/>
              <a:pathLst>
                <a:path w="3505" h="1469">
                  <a:moveTo>
                    <a:pt x="420" y="932"/>
                  </a:moveTo>
                  <a:lnTo>
                    <a:pt x="390" y="969"/>
                  </a:lnTo>
                  <a:lnTo>
                    <a:pt x="360" y="1014"/>
                  </a:lnTo>
                  <a:lnTo>
                    <a:pt x="342" y="1056"/>
                  </a:lnTo>
                  <a:lnTo>
                    <a:pt x="336" y="1106"/>
                  </a:lnTo>
                  <a:lnTo>
                    <a:pt x="336" y="1155"/>
                  </a:lnTo>
                  <a:lnTo>
                    <a:pt x="348" y="1219"/>
                  </a:lnTo>
                  <a:lnTo>
                    <a:pt x="378" y="1263"/>
                  </a:lnTo>
                  <a:lnTo>
                    <a:pt x="420" y="1311"/>
                  </a:lnTo>
                  <a:lnTo>
                    <a:pt x="504" y="1388"/>
                  </a:lnTo>
                  <a:lnTo>
                    <a:pt x="582" y="1422"/>
                  </a:lnTo>
                  <a:lnTo>
                    <a:pt x="666" y="1445"/>
                  </a:lnTo>
                  <a:lnTo>
                    <a:pt x="735" y="1458"/>
                  </a:lnTo>
                  <a:lnTo>
                    <a:pt x="822" y="1466"/>
                  </a:lnTo>
                  <a:lnTo>
                    <a:pt x="918" y="1468"/>
                  </a:lnTo>
                  <a:lnTo>
                    <a:pt x="1029" y="1465"/>
                  </a:lnTo>
                  <a:lnTo>
                    <a:pt x="1116" y="1455"/>
                  </a:lnTo>
                  <a:lnTo>
                    <a:pt x="1215" y="1435"/>
                  </a:lnTo>
                  <a:lnTo>
                    <a:pt x="1308" y="1404"/>
                  </a:lnTo>
                  <a:lnTo>
                    <a:pt x="1395" y="1366"/>
                  </a:lnTo>
                  <a:lnTo>
                    <a:pt x="1500" y="1301"/>
                  </a:lnTo>
                  <a:lnTo>
                    <a:pt x="1560" y="1260"/>
                  </a:lnTo>
                  <a:lnTo>
                    <a:pt x="1620" y="1219"/>
                  </a:lnTo>
                  <a:lnTo>
                    <a:pt x="1680" y="1164"/>
                  </a:lnTo>
                  <a:lnTo>
                    <a:pt x="1728" y="1117"/>
                  </a:lnTo>
                  <a:lnTo>
                    <a:pt x="1770" y="1065"/>
                  </a:lnTo>
                  <a:lnTo>
                    <a:pt x="1821" y="1014"/>
                  </a:lnTo>
                  <a:lnTo>
                    <a:pt x="1875" y="972"/>
                  </a:lnTo>
                  <a:lnTo>
                    <a:pt x="1932" y="934"/>
                  </a:lnTo>
                  <a:lnTo>
                    <a:pt x="2004" y="894"/>
                  </a:lnTo>
                  <a:lnTo>
                    <a:pt x="2088" y="861"/>
                  </a:lnTo>
                  <a:lnTo>
                    <a:pt x="2181" y="834"/>
                  </a:lnTo>
                  <a:lnTo>
                    <a:pt x="2271" y="812"/>
                  </a:lnTo>
                  <a:lnTo>
                    <a:pt x="2358" y="795"/>
                  </a:lnTo>
                  <a:lnTo>
                    <a:pt x="2463" y="782"/>
                  </a:lnTo>
                  <a:lnTo>
                    <a:pt x="2568" y="780"/>
                  </a:lnTo>
                  <a:lnTo>
                    <a:pt x="2676" y="779"/>
                  </a:lnTo>
                  <a:lnTo>
                    <a:pt x="2952" y="789"/>
                  </a:lnTo>
                  <a:lnTo>
                    <a:pt x="3240" y="820"/>
                  </a:lnTo>
                  <a:lnTo>
                    <a:pt x="3504" y="871"/>
                  </a:lnTo>
                  <a:lnTo>
                    <a:pt x="2460" y="0"/>
                  </a:lnTo>
                  <a:lnTo>
                    <a:pt x="0" y="0"/>
                  </a:lnTo>
                  <a:lnTo>
                    <a:pt x="420" y="932"/>
                  </a:lnTo>
                </a:path>
              </a:pathLst>
            </a:custGeom>
            <a:gradFill rotWithShape="0">
              <a:gsLst>
                <a:gs pos="0">
                  <a:srgbClr val="e7dec9"/>
                </a:gs>
                <a:gs pos="100000">
                  <a:srgbClr val="8dc7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181320" y="1392120"/>
              <a:ext cx="1392120" cy="781200"/>
            </a:xfrm>
            <a:custGeom>
              <a:avLst/>
              <a:gdLst>
                <a:gd name="textAreaLeft" fmla="*/ 0 w 1392120"/>
                <a:gd name="textAreaRight" fmla="*/ 1392480 w 1392120"/>
                <a:gd name="textAreaTop" fmla="*/ 0 h 781200"/>
                <a:gd name="textAreaBottom" fmla="*/ 781560 h 781200"/>
              </a:gdLst>
              <a:ahLst/>
              <a:rect l="textAreaLeft" t="textAreaTop" r="textAreaRight" b="textAreaBottom"/>
              <a:pathLst>
                <a:path w="877" h="492">
                  <a:moveTo>
                    <a:pt x="876" y="159"/>
                  </a:moveTo>
                  <a:lnTo>
                    <a:pt x="864" y="197"/>
                  </a:lnTo>
                  <a:lnTo>
                    <a:pt x="843" y="221"/>
                  </a:lnTo>
                  <a:lnTo>
                    <a:pt x="804" y="237"/>
                  </a:lnTo>
                  <a:lnTo>
                    <a:pt x="759" y="248"/>
                  </a:lnTo>
                  <a:lnTo>
                    <a:pt x="696" y="253"/>
                  </a:lnTo>
                  <a:lnTo>
                    <a:pt x="612" y="251"/>
                  </a:lnTo>
                  <a:lnTo>
                    <a:pt x="513" y="248"/>
                  </a:lnTo>
                  <a:lnTo>
                    <a:pt x="435" y="253"/>
                  </a:lnTo>
                  <a:lnTo>
                    <a:pt x="369" y="260"/>
                  </a:lnTo>
                  <a:lnTo>
                    <a:pt x="318" y="272"/>
                  </a:lnTo>
                  <a:lnTo>
                    <a:pt x="275" y="283"/>
                  </a:lnTo>
                  <a:lnTo>
                    <a:pt x="234" y="305"/>
                  </a:lnTo>
                  <a:lnTo>
                    <a:pt x="207" y="327"/>
                  </a:lnTo>
                  <a:lnTo>
                    <a:pt x="180" y="366"/>
                  </a:lnTo>
                  <a:lnTo>
                    <a:pt x="171" y="401"/>
                  </a:lnTo>
                  <a:lnTo>
                    <a:pt x="174" y="437"/>
                  </a:lnTo>
                  <a:lnTo>
                    <a:pt x="191" y="491"/>
                  </a:lnTo>
                  <a:lnTo>
                    <a:pt x="135" y="440"/>
                  </a:lnTo>
                  <a:lnTo>
                    <a:pt x="93" y="394"/>
                  </a:lnTo>
                  <a:lnTo>
                    <a:pt x="60" y="350"/>
                  </a:lnTo>
                  <a:lnTo>
                    <a:pt x="29" y="288"/>
                  </a:lnTo>
                  <a:lnTo>
                    <a:pt x="15" y="236"/>
                  </a:lnTo>
                  <a:lnTo>
                    <a:pt x="2" y="179"/>
                  </a:lnTo>
                  <a:lnTo>
                    <a:pt x="0" y="125"/>
                  </a:lnTo>
                  <a:lnTo>
                    <a:pt x="3" y="80"/>
                  </a:lnTo>
                  <a:lnTo>
                    <a:pt x="43" y="65"/>
                  </a:lnTo>
                  <a:lnTo>
                    <a:pt x="109" y="48"/>
                  </a:lnTo>
                  <a:lnTo>
                    <a:pt x="189" y="30"/>
                  </a:lnTo>
                  <a:lnTo>
                    <a:pt x="276" y="12"/>
                  </a:lnTo>
                  <a:lnTo>
                    <a:pt x="363" y="0"/>
                  </a:lnTo>
                  <a:lnTo>
                    <a:pt x="462" y="0"/>
                  </a:lnTo>
                  <a:lnTo>
                    <a:pt x="549" y="5"/>
                  </a:lnTo>
                  <a:lnTo>
                    <a:pt x="642" y="20"/>
                  </a:lnTo>
                  <a:lnTo>
                    <a:pt x="717" y="38"/>
                  </a:lnTo>
                  <a:lnTo>
                    <a:pt x="759" y="54"/>
                  </a:lnTo>
                  <a:lnTo>
                    <a:pt x="807" y="86"/>
                  </a:lnTo>
                  <a:lnTo>
                    <a:pt x="846" y="125"/>
                  </a:lnTo>
                  <a:lnTo>
                    <a:pt x="876" y="159"/>
                  </a:lnTo>
                </a:path>
              </a:pathLst>
            </a:custGeom>
            <a:solidFill>
              <a:srgbClr val="e7de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4573440" cy="3402000"/>
            </a:xfrm>
            <a:custGeom>
              <a:avLst/>
              <a:gdLst>
                <a:gd name="textAreaLeft" fmla="*/ 0 w 4573440"/>
                <a:gd name="textAreaRight" fmla="*/ 4573800 w 4573440"/>
                <a:gd name="textAreaTop" fmla="*/ 0 h 3402000"/>
                <a:gd name="textAreaBottom" fmla="*/ 3402360 h 3402000"/>
              </a:gdLst>
              <a:ahLst/>
              <a:rect l="textAreaLeft" t="textAreaTop" r="textAreaRight" b="textAreaBottom"/>
              <a:pathLst>
                <a:path w="2881" h="2143">
                  <a:moveTo>
                    <a:pt x="0" y="2142"/>
                  </a:moveTo>
                  <a:lnTo>
                    <a:pt x="81" y="2032"/>
                  </a:lnTo>
                  <a:lnTo>
                    <a:pt x="183" y="1928"/>
                  </a:lnTo>
                  <a:lnTo>
                    <a:pt x="276" y="1833"/>
                  </a:lnTo>
                  <a:lnTo>
                    <a:pt x="370" y="1736"/>
                  </a:lnTo>
                  <a:lnTo>
                    <a:pt x="468" y="1653"/>
                  </a:lnTo>
                  <a:lnTo>
                    <a:pt x="571" y="1572"/>
                  </a:lnTo>
                  <a:lnTo>
                    <a:pt x="712" y="1480"/>
                  </a:lnTo>
                  <a:lnTo>
                    <a:pt x="824" y="1410"/>
                  </a:lnTo>
                  <a:lnTo>
                    <a:pt x="1064" y="1285"/>
                  </a:lnTo>
                  <a:lnTo>
                    <a:pt x="1303" y="1182"/>
                  </a:lnTo>
                  <a:lnTo>
                    <a:pt x="1536" y="1103"/>
                  </a:lnTo>
                  <a:lnTo>
                    <a:pt x="1757" y="1029"/>
                  </a:lnTo>
                  <a:lnTo>
                    <a:pt x="2001" y="958"/>
                  </a:lnTo>
                  <a:lnTo>
                    <a:pt x="2097" y="930"/>
                  </a:lnTo>
                  <a:lnTo>
                    <a:pt x="2202" y="904"/>
                  </a:lnTo>
                  <a:lnTo>
                    <a:pt x="2289" y="884"/>
                  </a:lnTo>
                  <a:lnTo>
                    <a:pt x="2385" y="876"/>
                  </a:lnTo>
                  <a:lnTo>
                    <a:pt x="2469" y="873"/>
                  </a:lnTo>
                  <a:lnTo>
                    <a:pt x="2559" y="881"/>
                  </a:lnTo>
                  <a:lnTo>
                    <a:pt x="2634" y="893"/>
                  </a:lnTo>
                  <a:lnTo>
                    <a:pt x="2703" y="912"/>
                  </a:lnTo>
                  <a:lnTo>
                    <a:pt x="2769" y="939"/>
                  </a:lnTo>
                  <a:lnTo>
                    <a:pt x="2829" y="979"/>
                  </a:lnTo>
                  <a:lnTo>
                    <a:pt x="2880" y="1035"/>
                  </a:lnTo>
                  <a:lnTo>
                    <a:pt x="2877" y="981"/>
                  </a:lnTo>
                  <a:lnTo>
                    <a:pt x="2868" y="943"/>
                  </a:lnTo>
                  <a:lnTo>
                    <a:pt x="2847" y="894"/>
                  </a:lnTo>
                  <a:lnTo>
                    <a:pt x="2817" y="853"/>
                  </a:lnTo>
                  <a:lnTo>
                    <a:pt x="2781" y="816"/>
                  </a:lnTo>
                  <a:lnTo>
                    <a:pt x="2742" y="779"/>
                  </a:lnTo>
                  <a:lnTo>
                    <a:pt x="1884" y="0"/>
                  </a:lnTo>
                  <a:lnTo>
                    <a:pt x="0" y="0"/>
                  </a:lnTo>
                  <a:lnTo>
                    <a:pt x="0" y="2142"/>
                  </a:lnTo>
                </a:path>
              </a:pathLst>
            </a:custGeom>
            <a:gradFill rotWithShape="0">
              <a:gsLst>
                <a:gs pos="0">
                  <a:srgbClr val="8dc765"/>
                </a:gs>
                <a:gs pos="100000">
                  <a:srgbClr val="e7dec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0" y="0"/>
              <a:ext cx="4395960" cy="2868480"/>
              <a:chOff x="0" y="0"/>
              <a:chExt cx="4395960" cy="286848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0" y="0"/>
                <a:ext cx="3164040" cy="992160"/>
              </a:xfrm>
              <a:custGeom>
                <a:avLst/>
                <a:gdLst>
                  <a:gd name="textAreaLeft" fmla="*/ 0 w 3164040"/>
                  <a:gd name="textAreaRight" fmla="*/ 3164400 w 316404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1993" h="625">
                    <a:moveTo>
                      <a:pt x="0" y="402"/>
                    </a:moveTo>
                    <a:lnTo>
                      <a:pt x="108" y="351"/>
                    </a:lnTo>
                    <a:lnTo>
                      <a:pt x="225" y="298"/>
                    </a:lnTo>
                    <a:lnTo>
                      <a:pt x="367" y="237"/>
                    </a:lnTo>
                    <a:lnTo>
                      <a:pt x="494" y="190"/>
                    </a:lnTo>
                    <a:lnTo>
                      <a:pt x="637" y="144"/>
                    </a:lnTo>
                    <a:lnTo>
                      <a:pt x="765" y="108"/>
                    </a:lnTo>
                    <a:lnTo>
                      <a:pt x="931" y="68"/>
                    </a:lnTo>
                    <a:lnTo>
                      <a:pt x="1057" y="39"/>
                    </a:lnTo>
                    <a:lnTo>
                      <a:pt x="1162" y="21"/>
                    </a:lnTo>
                    <a:lnTo>
                      <a:pt x="1258" y="7"/>
                    </a:lnTo>
                    <a:lnTo>
                      <a:pt x="1390" y="3"/>
                    </a:lnTo>
                    <a:lnTo>
                      <a:pt x="1884" y="0"/>
                    </a:lnTo>
                    <a:lnTo>
                      <a:pt x="1992" y="96"/>
                    </a:lnTo>
                    <a:lnTo>
                      <a:pt x="1846" y="96"/>
                    </a:lnTo>
                    <a:lnTo>
                      <a:pt x="1707" y="102"/>
                    </a:lnTo>
                    <a:lnTo>
                      <a:pt x="1558" y="114"/>
                    </a:lnTo>
                    <a:lnTo>
                      <a:pt x="1437" y="129"/>
                    </a:lnTo>
                    <a:lnTo>
                      <a:pt x="1302" y="152"/>
                    </a:lnTo>
                    <a:lnTo>
                      <a:pt x="1187" y="174"/>
                    </a:lnTo>
                    <a:lnTo>
                      <a:pt x="1065" y="202"/>
                    </a:lnTo>
                    <a:lnTo>
                      <a:pt x="957" y="232"/>
                    </a:lnTo>
                    <a:lnTo>
                      <a:pt x="885" y="252"/>
                    </a:lnTo>
                    <a:lnTo>
                      <a:pt x="731" y="294"/>
                    </a:lnTo>
                    <a:lnTo>
                      <a:pt x="560" y="348"/>
                    </a:lnTo>
                    <a:lnTo>
                      <a:pt x="405" y="408"/>
                    </a:lnTo>
                    <a:lnTo>
                      <a:pt x="229" y="486"/>
                    </a:lnTo>
                    <a:lnTo>
                      <a:pt x="130" y="534"/>
                    </a:lnTo>
                    <a:lnTo>
                      <a:pt x="54" y="582"/>
                    </a:lnTo>
                    <a:lnTo>
                      <a:pt x="0" y="624"/>
                    </a:lnTo>
                    <a:lnTo>
                      <a:pt x="0" y="402"/>
                    </a:lnTo>
                  </a:path>
                </a:pathLst>
              </a:custGeom>
              <a:solidFill>
                <a:srgbClr val="aa8a1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328680"/>
                <a:ext cx="3865680" cy="1782720"/>
              </a:xfrm>
              <a:custGeom>
                <a:avLst/>
                <a:gdLst>
                  <a:gd name="textAreaLeft" fmla="*/ 0 w 3865680"/>
                  <a:gd name="textAreaRight" fmla="*/ 3865680 w 3865680"/>
                  <a:gd name="textAreaTop" fmla="*/ 0 h 1782720"/>
                  <a:gd name="textAreaBottom" fmla="*/ 1783080 h 1782720"/>
                </a:gdLst>
                <a:ahLst/>
                <a:rect l="textAreaLeft" t="textAreaTop" r="textAreaRight" b="textAreaBottom"/>
                <a:pathLst>
                  <a:path w="2435" h="1123">
                    <a:moveTo>
                      <a:pt x="0" y="627"/>
                    </a:moveTo>
                    <a:lnTo>
                      <a:pt x="123" y="540"/>
                    </a:lnTo>
                    <a:lnTo>
                      <a:pt x="267" y="447"/>
                    </a:lnTo>
                    <a:lnTo>
                      <a:pt x="400" y="381"/>
                    </a:lnTo>
                    <a:lnTo>
                      <a:pt x="555" y="315"/>
                    </a:lnTo>
                    <a:lnTo>
                      <a:pt x="709" y="255"/>
                    </a:lnTo>
                    <a:lnTo>
                      <a:pt x="885" y="201"/>
                    </a:lnTo>
                    <a:lnTo>
                      <a:pt x="1061" y="147"/>
                    </a:lnTo>
                    <a:lnTo>
                      <a:pt x="1232" y="105"/>
                    </a:lnTo>
                    <a:lnTo>
                      <a:pt x="1397" y="75"/>
                    </a:lnTo>
                    <a:lnTo>
                      <a:pt x="1552" y="45"/>
                    </a:lnTo>
                    <a:lnTo>
                      <a:pt x="1680" y="21"/>
                    </a:lnTo>
                    <a:lnTo>
                      <a:pt x="1829" y="3"/>
                    </a:lnTo>
                    <a:lnTo>
                      <a:pt x="1949" y="0"/>
                    </a:lnTo>
                    <a:lnTo>
                      <a:pt x="2059" y="1"/>
                    </a:lnTo>
                    <a:lnTo>
                      <a:pt x="2116" y="3"/>
                    </a:lnTo>
                    <a:lnTo>
                      <a:pt x="2434" y="293"/>
                    </a:lnTo>
                    <a:lnTo>
                      <a:pt x="2353" y="280"/>
                    </a:lnTo>
                    <a:lnTo>
                      <a:pt x="2250" y="273"/>
                    </a:lnTo>
                    <a:lnTo>
                      <a:pt x="2155" y="273"/>
                    </a:lnTo>
                    <a:lnTo>
                      <a:pt x="2039" y="282"/>
                    </a:lnTo>
                    <a:lnTo>
                      <a:pt x="1888" y="303"/>
                    </a:lnTo>
                    <a:lnTo>
                      <a:pt x="1792" y="319"/>
                    </a:lnTo>
                    <a:lnTo>
                      <a:pt x="1696" y="339"/>
                    </a:lnTo>
                    <a:lnTo>
                      <a:pt x="1477" y="387"/>
                    </a:lnTo>
                    <a:lnTo>
                      <a:pt x="1258" y="444"/>
                    </a:lnTo>
                    <a:lnTo>
                      <a:pt x="1093" y="498"/>
                    </a:lnTo>
                    <a:lnTo>
                      <a:pt x="937" y="546"/>
                    </a:lnTo>
                    <a:lnTo>
                      <a:pt x="763" y="621"/>
                    </a:lnTo>
                    <a:lnTo>
                      <a:pt x="576" y="705"/>
                    </a:lnTo>
                    <a:lnTo>
                      <a:pt x="411" y="795"/>
                    </a:lnTo>
                    <a:lnTo>
                      <a:pt x="299" y="862"/>
                    </a:lnTo>
                    <a:lnTo>
                      <a:pt x="200" y="934"/>
                    </a:lnTo>
                    <a:lnTo>
                      <a:pt x="115" y="1005"/>
                    </a:lnTo>
                    <a:lnTo>
                      <a:pt x="0" y="1122"/>
                    </a:lnTo>
                    <a:lnTo>
                      <a:pt x="0" y="627"/>
                    </a:lnTo>
                  </a:path>
                </a:pathLst>
              </a:custGeom>
              <a:solidFill>
                <a:srgbClr val="aa8a1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952560"/>
                <a:ext cx="4395960" cy="1915920"/>
              </a:xfrm>
              <a:custGeom>
                <a:avLst/>
                <a:gdLst>
                  <a:gd name="textAreaLeft" fmla="*/ 0 w 4395960"/>
                  <a:gd name="textAreaRight" fmla="*/ 4396320 w 4395960"/>
                  <a:gd name="textAreaTop" fmla="*/ 0 h 1915920"/>
                  <a:gd name="textAreaBottom" fmla="*/ 1916280 h 1915920"/>
                </a:gdLst>
                <a:ahLst/>
                <a:rect l="textAreaLeft" t="textAreaTop" r="textAreaRight" b="textAreaBottom"/>
                <a:pathLst>
                  <a:path w="2769" h="1207">
                    <a:moveTo>
                      <a:pt x="0" y="966"/>
                    </a:moveTo>
                    <a:lnTo>
                      <a:pt x="64" y="900"/>
                    </a:lnTo>
                    <a:lnTo>
                      <a:pt x="171" y="799"/>
                    </a:lnTo>
                    <a:lnTo>
                      <a:pt x="277" y="716"/>
                    </a:lnTo>
                    <a:lnTo>
                      <a:pt x="367" y="649"/>
                    </a:lnTo>
                    <a:lnTo>
                      <a:pt x="432" y="601"/>
                    </a:lnTo>
                    <a:lnTo>
                      <a:pt x="507" y="555"/>
                    </a:lnTo>
                    <a:lnTo>
                      <a:pt x="592" y="504"/>
                    </a:lnTo>
                    <a:lnTo>
                      <a:pt x="725" y="438"/>
                    </a:lnTo>
                    <a:lnTo>
                      <a:pt x="875" y="366"/>
                    </a:lnTo>
                    <a:lnTo>
                      <a:pt x="1056" y="294"/>
                    </a:lnTo>
                    <a:lnTo>
                      <a:pt x="1232" y="228"/>
                    </a:lnTo>
                    <a:lnTo>
                      <a:pt x="1392" y="180"/>
                    </a:lnTo>
                    <a:lnTo>
                      <a:pt x="1568" y="132"/>
                    </a:lnTo>
                    <a:lnTo>
                      <a:pt x="1738" y="90"/>
                    </a:lnTo>
                    <a:lnTo>
                      <a:pt x="1914" y="54"/>
                    </a:lnTo>
                    <a:lnTo>
                      <a:pt x="2090" y="27"/>
                    </a:lnTo>
                    <a:lnTo>
                      <a:pt x="2218" y="12"/>
                    </a:lnTo>
                    <a:lnTo>
                      <a:pt x="2353" y="1"/>
                    </a:lnTo>
                    <a:lnTo>
                      <a:pt x="2458" y="0"/>
                    </a:lnTo>
                    <a:lnTo>
                      <a:pt x="2554" y="7"/>
                    </a:lnTo>
                    <a:lnTo>
                      <a:pt x="2768" y="197"/>
                    </a:lnTo>
                    <a:lnTo>
                      <a:pt x="2677" y="150"/>
                    </a:lnTo>
                    <a:lnTo>
                      <a:pt x="2598" y="126"/>
                    </a:lnTo>
                    <a:lnTo>
                      <a:pt x="2515" y="118"/>
                    </a:lnTo>
                    <a:lnTo>
                      <a:pt x="2442" y="120"/>
                    </a:lnTo>
                    <a:lnTo>
                      <a:pt x="2362" y="124"/>
                    </a:lnTo>
                    <a:lnTo>
                      <a:pt x="2277" y="132"/>
                    </a:lnTo>
                    <a:lnTo>
                      <a:pt x="2175" y="147"/>
                    </a:lnTo>
                    <a:lnTo>
                      <a:pt x="2085" y="162"/>
                    </a:lnTo>
                    <a:lnTo>
                      <a:pt x="1877" y="204"/>
                    </a:lnTo>
                    <a:lnTo>
                      <a:pt x="1642" y="258"/>
                    </a:lnTo>
                    <a:lnTo>
                      <a:pt x="1477" y="306"/>
                    </a:lnTo>
                    <a:lnTo>
                      <a:pt x="1312" y="360"/>
                    </a:lnTo>
                    <a:lnTo>
                      <a:pt x="1120" y="432"/>
                    </a:lnTo>
                    <a:lnTo>
                      <a:pt x="939" y="510"/>
                    </a:lnTo>
                    <a:lnTo>
                      <a:pt x="752" y="600"/>
                    </a:lnTo>
                    <a:lnTo>
                      <a:pt x="658" y="654"/>
                    </a:lnTo>
                    <a:lnTo>
                      <a:pt x="571" y="708"/>
                    </a:lnTo>
                    <a:lnTo>
                      <a:pt x="421" y="810"/>
                    </a:lnTo>
                    <a:lnTo>
                      <a:pt x="309" y="906"/>
                    </a:lnTo>
                    <a:lnTo>
                      <a:pt x="203" y="1002"/>
                    </a:lnTo>
                    <a:lnTo>
                      <a:pt x="93" y="1107"/>
                    </a:lnTo>
                    <a:lnTo>
                      <a:pt x="0" y="1206"/>
                    </a:lnTo>
                    <a:lnTo>
                      <a:pt x="0" y="966"/>
                    </a:lnTo>
                  </a:path>
                </a:pathLst>
              </a:custGeom>
              <a:solidFill>
                <a:srgbClr val="aa8a1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f271c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eb8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891a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B9E3C-0A57-4292-8A35-7B95CDF7A327}" type="slidenum"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0"/>
            <a:ext cx="9144000" cy="4726080"/>
            <a:chOff x="0" y="0"/>
            <a:chExt cx="9144000" cy="4726080"/>
          </a:xfrm>
        </p:grpSpPr>
        <p:sp>
          <p:nvSpPr>
            <p:cNvPr id="50" name="Freeform 3"/>
            <p:cNvSpPr/>
            <p:nvPr/>
          </p:nvSpPr>
          <p:spPr>
            <a:xfrm>
              <a:off x="3164040" y="0"/>
              <a:ext cx="5979960" cy="3238560"/>
            </a:xfrm>
            <a:custGeom>
              <a:avLst/>
              <a:gdLst>
                <a:gd name="textAreaLeft" fmla="*/ 0 w 5979960"/>
                <a:gd name="textAreaRight" fmla="*/ 5980320 w 5979960"/>
                <a:gd name="textAreaTop" fmla="*/ 0 h 3238560"/>
                <a:gd name="textAreaBottom" fmla="*/ 3238920 h 3238560"/>
              </a:gdLst>
              <a:ahLst/>
              <a:rect l="textAreaLeft" t="textAreaTop" r="textAreaRight" b="textAreaBottom"/>
              <a:pathLst>
                <a:path w="3767" h="2040">
                  <a:moveTo>
                    <a:pt x="487" y="1294"/>
                  </a:moveTo>
                  <a:lnTo>
                    <a:pt x="452" y="1345"/>
                  </a:lnTo>
                  <a:lnTo>
                    <a:pt x="418" y="1408"/>
                  </a:lnTo>
                  <a:lnTo>
                    <a:pt x="397" y="1466"/>
                  </a:lnTo>
                  <a:lnTo>
                    <a:pt x="390" y="1536"/>
                  </a:lnTo>
                  <a:lnTo>
                    <a:pt x="390" y="1604"/>
                  </a:lnTo>
                  <a:lnTo>
                    <a:pt x="404" y="1693"/>
                  </a:lnTo>
                  <a:lnTo>
                    <a:pt x="438" y="1754"/>
                  </a:lnTo>
                  <a:lnTo>
                    <a:pt x="487" y="1820"/>
                  </a:lnTo>
                  <a:lnTo>
                    <a:pt x="585" y="1927"/>
                  </a:lnTo>
                  <a:lnTo>
                    <a:pt x="675" y="1975"/>
                  </a:lnTo>
                  <a:lnTo>
                    <a:pt x="773" y="2007"/>
                  </a:lnTo>
                  <a:lnTo>
                    <a:pt x="853" y="2025"/>
                  </a:lnTo>
                  <a:lnTo>
                    <a:pt x="954" y="2036"/>
                  </a:lnTo>
                  <a:lnTo>
                    <a:pt x="1066" y="2039"/>
                  </a:lnTo>
                  <a:lnTo>
                    <a:pt x="1194" y="2034"/>
                  </a:lnTo>
                  <a:lnTo>
                    <a:pt x="1295" y="2020"/>
                  </a:lnTo>
                  <a:lnTo>
                    <a:pt x="1410" y="1993"/>
                  </a:lnTo>
                  <a:lnTo>
                    <a:pt x="1518" y="1950"/>
                  </a:lnTo>
                  <a:lnTo>
                    <a:pt x="1619" y="1897"/>
                  </a:lnTo>
                  <a:lnTo>
                    <a:pt x="1741" y="1807"/>
                  </a:lnTo>
                  <a:lnTo>
                    <a:pt x="1811" y="1750"/>
                  </a:lnTo>
                  <a:lnTo>
                    <a:pt x="1881" y="1693"/>
                  </a:lnTo>
                  <a:lnTo>
                    <a:pt x="1950" y="1616"/>
                  </a:lnTo>
                  <a:lnTo>
                    <a:pt x="2006" y="1551"/>
                  </a:lnTo>
                  <a:lnTo>
                    <a:pt x="2055" y="1479"/>
                  </a:lnTo>
                  <a:lnTo>
                    <a:pt x="2114" y="1408"/>
                  </a:lnTo>
                  <a:lnTo>
                    <a:pt x="2177" y="1350"/>
                  </a:lnTo>
                  <a:lnTo>
                    <a:pt x="2243" y="1297"/>
                  </a:lnTo>
                  <a:lnTo>
                    <a:pt x="2327" y="1241"/>
                  </a:lnTo>
                  <a:lnTo>
                    <a:pt x="2424" y="1195"/>
                  </a:lnTo>
                  <a:lnTo>
                    <a:pt x="2532" y="1158"/>
                  </a:lnTo>
                  <a:lnTo>
                    <a:pt x="2637" y="1127"/>
                  </a:lnTo>
                  <a:lnTo>
                    <a:pt x="2738" y="1104"/>
                  </a:lnTo>
                  <a:lnTo>
                    <a:pt x="2860" y="1086"/>
                  </a:lnTo>
                  <a:lnTo>
                    <a:pt x="2982" y="1083"/>
                  </a:lnTo>
                  <a:lnTo>
                    <a:pt x="3107" y="1082"/>
                  </a:lnTo>
                  <a:lnTo>
                    <a:pt x="3428" y="1095"/>
                  </a:lnTo>
                  <a:lnTo>
                    <a:pt x="3766" y="1151"/>
                  </a:lnTo>
                  <a:lnTo>
                    <a:pt x="3766" y="912"/>
                  </a:lnTo>
                  <a:lnTo>
                    <a:pt x="2856" y="0"/>
                  </a:lnTo>
                  <a:lnTo>
                    <a:pt x="0" y="0"/>
                  </a:lnTo>
                  <a:lnTo>
                    <a:pt x="487" y="1294"/>
                  </a:lnTo>
                </a:path>
              </a:pathLst>
            </a:custGeom>
            <a:gradFill rotWithShape="0">
              <a:gsLst>
                <a:gs pos="0">
                  <a:srgbClr val="e7dec9"/>
                </a:gs>
                <a:gs pos="100000">
                  <a:srgbClr val="8dc7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3693960" y="1935000"/>
              <a:ext cx="1616400" cy="1084320"/>
            </a:xfrm>
            <a:custGeom>
              <a:avLst/>
              <a:gdLst>
                <a:gd name="textAreaLeft" fmla="*/ 0 w 1616400"/>
                <a:gd name="textAreaRight" fmla="*/ 1616760 w 1616400"/>
                <a:gd name="textAreaTop" fmla="*/ 0 h 1084320"/>
                <a:gd name="textAreaBottom" fmla="*/ 1084680 h 1084320"/>
              </a:gdLst>
              <a:ahLst/>
              <a:rect l="textAreaLeft" t="textAreaTop" r="textAreaRight" b="textAreaBottom"/>
              <a:pathLst>
                <a:path w="1018" h="683">
                  <a:moveTo>
                    <a:pt x="1017" y="220"/>
                  </a:moveTo>
                  <a:lnTo>
                    <a:pt x="1003" y="273"/>
                  </a:lnTo>
                  <a:lnTo>
                    <a:pt x="978" y="306"/>
                  </a:lnTo>
                  <a:lnTo>
                    <a:pt x="933" y="329"/>
                  </a:lnTo>
                  <a:lnTo>
                    <a:pt x="881" y="344"/>
                  </a:lnTo>
                  <a:lnTo>
                    <a:pt x="808" y="351"/>
                  </a:lnTo>
                  <a:lnTo>
                    <a:pt x="710" y="348"/>
                  </a:lnTo>
                  <a:lnTo>
                    <a:pt x="595" y="344"/>
                  </a:lnTo>
                  <a:lnTo>
                    <a:pt x="505" y="351"/>
                  </a:lnTo>
                  <a:lnTo>
                    <a:pt x="428" y="361"/>
                  </a:lnTo>
                  <a:lnTo>
                    <a:pt x="369" y="377"/>
                  </a:lnTo>
                  <a:lnTo>
                    <a:pt x="319" y="393"/>
                  </a:lnTo>
                  <a:lnTo>
                    <a:pt x="271" y="423"/>
                  </a:lnTo>
                  <a:lnTo>
                    <a:pt x="240" y="454"/>
                  </a:lnTo>
                  <a:lnTo>
                    <a:pt x="208" y="508"/>
                  </a:lnTo>
                  <a:lnTo>
                    <a:pt x="198" y="556"/>
                  </a:lnTo>
                  <a:lnTo>
                    <a:pt x="202" y="606"/>
                  </a:lnTo>
                  <a:lnTo>
                    <a:pt x="221" y="682"/>
                  </a:lnTo>
                  <a:lnTo>
                    <a:pt x="156" y="611"/>
                  </a:lnTo>
                  <a:lnTo>
                    <a:pt x="107" y="547"/>
                  </a:lnTo>
                  <a:lnTo>
                    <a:pt x="69" y="486"/>
                  </a:lnTo>
                  <a:lnTo>
                    <a:pt x="33" y="400"/>
                  </a:lnTo>
                  <a:lnTo>
                    <a:pt x="17" y="327"/>
                  </a:lnTo>
                  <a:lnTo>
                    <a:pt x="2" y="248"/>
                  </a:lnTo>
                  <a:lnTo>
                    <a:pt x="0" y="173"/>
                  </a:lnTo>
                  <a:lnTo>
                    <a:pt x="3" y="111"/>
                  </a:lnTo>
                  <a:lnTo>
                    <a:pt x="49" y="90"/>
                  </a:lnTo>
                  <a:lnTo>
                    <a:pt x="126" y="66"/>
                  </a:lnTo>
                  <a:lnTo>
                    <a:pt x="219" y="41"/>
                  </a:lnTo>
                  <a:lnTo>
                    <a:pt x="320" y="16"/>
                  </a:lnTo>
                  <a:lnTo>
                    <a:pt x="421" y="0"/>
                  </a:lnTo>
                  <a:lnTo>
                    <a:pt x="536" y="0"/>
                  </a:lnTo>
                  <a:lnTo>
                    <a:pt x="637" y="6"/>
                  </a:lnTo>
                  <a:lnTo>
                    <a:pt x="745" y="27"/>
                  </a:lnTo>
                  <a:lnTo>
                    <a:pt x="832" y="52"/>
                  </a:lnTo>
                  <a:lnTo>
                    <a:pt x="881" y="75"/>
                  </a:lnTo>
                  <a:lnTo>
                    <a:pt x="936" y="119"/>
                  </a:lnTo>
                  <a:lnTo>
                    <a:pt x="982" y="173"/>
                  </a:lnTo>
                  <a:lnTo>
                    <a:pt x="1017" y="220"/>
                  </a:lnTo>
                </a:path>
              </a:pathLst>
            </a:custGeom>
            <a:solidFill>
              <a:srgbClr val="e7de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0"/>
              <a:ext cx="5310360" cy="4726080"/>
            </a:xfrm>
            <a:custGeom>
              <a:avLst/>
              <a:gdLst>
                <a:gd name="textAreaLeft" fmla="*/ 0 w 5310360"/>
                <a:gd name="textAreaRight" fmla="*/ 5310720 w 5310360"/>
                <a:gd name="textAreaTop" fmla="*/ 0 h 4726080"/>
                <a:gd name="textAreaBottom" fmla="*/ 4726440 h 4726080"/>
              </a:gdLst>
              <a:ahLst/>
              <a:rect l="textAreaLeft" t="textAreaTop" r="textAreaRight" b="textAreaBottom"/>
              <a:pathLst>
                <a:path w="3345" h="2977">
                  <a:moveTo>
                    <a:pt x="0" y="2976"/>
                  </a:moveTo>
                  <a:lnTo>
                    <a:pt x="94" y="2823"/>
                  </a:lnTo>
                  <a:lnTo>
                    <a:pt x="212" y="2678"/>
                  </a:lnTo>
                  <a:lnTo>
                    <a:pt x="320" y="2546"/>
                  </a:lnTo>
                  <a:lnTo>
                    <a:pt x="429" y="2411"/>
                  </a:lnTo>
                  <a:lnTo>
                    <a:pt x="543" y="2296"/>
                  </a:lnTo>
                  <a:lnTo>
                    <a:pt x="662" y="2184"/>
                  </a:lnTo>
                  <a:lnTo>
                    <a:pt x="826" y="2056"/>
                  </a:lnTo>
                  <a:lnTo>
                    <a:pt x="956" y="1958"/>
                  </a:lnTo>
                  <a:lnTo>
                    <a:pt x="1235" y="1785"/>
                  </a:lnTo>
                  <a:lnTo>
                    <a:pt x="1512" y="1642"/>
                  </a:lnTo>
                  <a:lnTo>
                    <a:pt x="1783" y="1532"/>
                  </a:lnTo>
                  <a:lnTo>
                    <a:pt x="2040" y="1429"/>
                  </a:lnTo>
                  <a:lnTo>
                    <a:pt x="2323" y="1331"/>
                  </a:lnTo>
                  <a:lnTo>
                    <a:pt x="2434" y="1292"/>
                  </a:lnTo>
                  <a:lnTo>
                    <a:pt x="2556" y="1255"/>
                  </a:lnTo>
                  <a:lnTo>
                    <a:pt x="2657" y="1228"/>
                  </a:lnTo>
                  <a:lnTo>
                    <a:pt x="2769" y="1217"/>
                  </a:lnTo>
                  <a:lnTo>
                    <a:pt x="2866" y="1212"/>
                  </a:lnTo>
                  <a:lnTo>
                    <a:pt x="2971" y="1224"/>
                  </a:lnTo>
                  <a:lnTo>
                    <a:pt x="3058" y="1240"/>
                  </a:lnTo>
                  <a:lnTo>
                    <a:pt x="3138" y="1267"/>
                  </a:lnTo>
                  <a:lnTo>
                    <a:pt x="3215" y="1304"/>
                  </a:lnTo>
                  <a:lnTo>
                    <a:pt x="3284" y="1360"/>
                  </a:lnTo>
                  <a:lnTo>
                    <a:pt x="3344" y="1437"/>
                  </a:lnTo>
                  <a:lnTo>
                    <a:pt x="3340" y="1362"/>
                  </a:lnTo>
                  <a:lnTo>
                    <a:pt x="3330" y="1310"/>
                  </a:lnTo>
                  <a:lnTo>
                    <a:pt x="3305" y="1242"/>
                  </a:lnTo>
                  <a:lnTo>
                    <a:pt x="3270" y="1185"/>
                  </a:lnTo>
                  <a:lnTo>
                    <a:pt x="3229" y="1133"/>
                  </a:lnTo>
                  <a:lnTo>
                    <a:pt x="3183" y="1082"/>
                  </a:lnTo>
                  <a:lnTo>
                    <a:pt x="2187" y="0"/>
                  </a:lnTo>
                  <a:lnTo>
                    <a:pt x="0" y="0"/>
                  </a:lnTo>
                  <a:lnTo>
                    <a:pt x="0" y="2976"/>
                  </a:lnTo>
                </a:path>
              </a:pathLst>
            </a:custGeom>
            <a:gradFill rotWithShape="0">
              <a:gsLst>
                <a:gs pos="0">
                  <a:srgbClr val="8dc765"/>
                </a:gs>
                <a:gs pos="100000">
                  <a:srgbClr val="e7dec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6"/>
            <p:cNvGrpSpPr/>
            <p:nvPr/>
          </p:nvGrpSpPr>
          <p:grpSpPr>
            <a:xfrm>
              <a:off x="0" y="0"/>
              <a:ext cx="5105520" cy="3984480"/>
              <a:chOff x="0" y="0"/>
              <a:chExt cx="5105520" cy="3984480"/>
            </a:xfrm>
          </p:grpSpPr>
          <p:sp>
            <p:nvSpPr>
              <p:cNvPr id="54" name="Freeform 7"/>
              <p:cNvSpPr/>
              <p:nvPr/>
            </p:nvSpPr>
            <p:spPr>
              <a:xfrm>
                <a:off x="0" y="0"/>
                <a:ext cx="3675240" cy="1378080"/>
              </a:xfrm>
              <a:custGeom>
                <a:avLst/>
                <a:gdLst>
                  <a:gd name="textAreaLeft" fmla="*/ 0 w 3675240"/>
                  <a:gd name="textAreaRight" fmla="*/ 3675600 w 3675240"/>
                  <a:gd name="textAreaTop" fmla="*/ 0 h 1378080"/>
                  <a:gd name="textAreaBottom" fmla="*/ 1378440 h 1378080"/>
                </a:gdLst>
                <a:ahLst/>
                <a:rect l="textAreaLeft" t="textAreaTop" r="textAreaRight" b="textAreaBottom"/>
                <a:pathLst>
                  <a:path w="2315" h="868">
                    <a:moveTo>
                      <a:pt x="0" y="558"/>
                    </a:moveTo>
                    <a:lnTo>
                      <a:pt x="125" y="487"/>
                    </a:lnTo>
                    <a:lnTo>
                      <a:pt x="261" y="414"/>
                    </a:lnTo>
                    <a:lnTo>
                      <a:pt x="426" y="329"/>
                    </a:lnTo>
                    <a:lnTo>
                      <a:pt x="573" y="263"/>
                    </a:lnTo>
                    <a:lnTo>
                      <a:pt x="739" y="200"/>
                    </a:lnTo>
                    <a:lnTo>
                      <a:pt x="888" y="150"/>
                    </a:lnTo>
                    <a:lnTo>
                      <a:pt x="1081" y="94"/>
                    </a:lnTo>
                    <a:lnTo>
                      <a:pt x="1227" y="54"/>
                    </a:lnTo>
                    <a:lnTo>
                      <a:pt x="1349" y="29"/>
                    </a:lnTo>
                    <a:lnTo>
                      <a:pt x="1461" y="9"/>
                    </a:lnTo>
                    <a:lnTo>
                      <a:pt x="1614" y="4"/>
                    </a:lnTo>
                    <a:lnTo>
                      <a:pt x="2188" y="0"/>
                    </a:lnTo>
                    <a:lnTo>
                      <a:pt x="2314" y="133"/>
                    </a:lnTo>
                    <a:lnTo>
                      <a:pt x="2144" y="133"/>
                    </a:lnTo>
                    <a:lnTo>
                      <a:pt x="1982" y="141"/>
                    </a:lnTo>
                    <a:lnTo>
                      <a:pt x="1809" y="158"/>
                    </a:lnTo>
                    <a:lnTo>
                      <a:pt x="1669" y="179"/>
                    </a:lnTo>
                    <a:lnTo>
                      <a:pt x="1512" y="211"/>
                    </a:lnTo>
                    <a:lnTo>
                      <a:pt x="1378" y="241"/>
                    </a:lnTo>
                    <a:lnTo>
                      <a:pt x="1237" y="280"/>
                    </a:lnTo>
                    <a:lnTo>
                      <a:pt x="1111" y="322"/>
                    </a:lnTo>
                    <a:lnTo>
                      <a:pt x="1028" y="350"/>
                    </a:lnTo>
                    <a:lnTo>
                      <a:pt x="849" y="408"/>
                    </a:lnTo>
                    <a:lnTo>
                      <a:pt x="650" y="483"/>
                    </a:lnTo>
                    <a:lnTo>
                      <a:pt x="470" y="566"/>
                    </a:lnTo>
                    <a:lnTo>
                      <a:pt x="266" y="675"/>
                    </a:lnTo>
                    <a:lnTo>
                      <a:pt x="151" y="741"/>
                    </a:lnTo>
                    <a:lnTo>
                      <a:pt x="62" y="808"/>
                    </a:lnTo>
                    <a:lnTo>
                      <a:pt x="0" y="867"/>
                    </a:lnTo>
                    <a:lnTo>
                      <a:pt x="0" y="558"/>
                    </a:lnTo>
                  </a:path>
                </a:pathLst>
              </a:custGeom>
              <a:solidFill>
                <a:srgbClr val="aa8a1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8"/>
              <p:cNvSpPr/>
              <p:nvPr/>
            </p:nvSpPr>
            <p:spPr>
              <a:xfrm>
                <a:off x="0" y="455760"/>
                <a:ext cx="4487760" cy="2476440"/>
              </a:xfrm>
              <a:custGeom>
                <a:avLst/>
                <a:gdLst>
                  <a:gd name="textAreaLeft" fmla="*/ 0 w 4487760"/>
                  <a:gd name="textAreaRight" fmla="*/ 4487760 w 4487760"/>
                  <a:gd name="textAreaTop" fmla="*/ 0 h 2476440"/>
                  <a:gd name="textAreaBottom" fmla="*/ 2476800 h 2476440"/>
                </a:gdLst>
                <a:ahLst/>
                <a:rect l="textAreaLeft" t="textAreaTop" r="textAreaRight" b="textAreaBottom"/>
                <a:pathLst>
                  <a:path w="2827" h="1560">
                    <a:moveTo>
                      <a:pt x="0" y="871"/>
                    </a:moveTo>
                    <a:lnTo>
                      <a:pt x="142" y="750"/>
                    </a:lnTo>
                    <a:lnTo>
                      <a:pt x="310" y="621"/>
                    </a:lnTo>
                    <a:lnTo>
                      <a:pt x="464" y="529"/>
                    </a:lnTo>
                    <a:lnTo>
                      <a:pt x="644" y="437"/>
                    </a:lnTo>
                    <a:lnTo>
                      <a:pt x="823" y="354"/>
                    </a:lnTo>
                    <a:lnTo>
                      <a:pt x="1027" y="279"/>
                    </a:lnTo>
                    <a:lnTo>
                      <a:pt x="1231" y="204"/>
                    </a:lnTo>
                    <a:lnTo>
                      <a:pt x="1430" y="145"/>
                    </a:lnTo>
                    <a:lnTo>
                      <a:pt x="1621" y="104"/>
                    </a:lnTo>
                    <a:lnTo>
                      <a:pt x="1801" y="62"/>
                    </a:lnTo>
                    <a:lnTo>
                      <a:pt x="1950" y="29"/>
                    </a:lnTo>
                    <a:lnTo>
                      <a:pt x="2123" y="4"/>
                    </a:lnTo>
                    <a:lnTo>
                      <a:pt x="2262" y="0"/>
                    </a:lnTo>
                    <a:lnTo>
                      <a:pt x="2390" y="1"/>
                    </a:lnTo>
                    <a:lnTo>
                      <a:pt x="2456" y="4"/>
                    </a:lnTo>
                    <a:lnTo>
                      <a:pt x="2826" y="407"/>
                    </a:lnTo>
                    <a:lnTo>
                      <a:pt x="2731" y="389"/>
                    </a:lnTo>
                    <a:lnTo>
                      <a:pt x="2612" y="379"/>
                    </a:lnTo>
                    <a:lnTo>
                      <a:pt x="2502" y="379"/>
                    </a:lnTo>
                    <a:lnTo>
                      <a:pt x="2367" y="391"/>
                    </a:lnTo>
                    <a:lnTo>
                      <a:pt x="2192" y="421"/>
                    </a:lnTo>
                    <a:lnTo>
                      <a:pt x="2080" y="443"/>
                    </a:lnTo>
                    <a:lnTo>
                      <a:pt x="1969" y="471"/>
                    </a:lnTo>
                    <a:lnTo>
                      <a:pt x="1714" y="537"/>
                    </a:lnTo>
                    <a:lnTo>
                      <a:pt x="1460" y="616"/>
                    </a:lnTo>
                    <a:lnTo>
                      <a:pt x="1269" y="691"/>
                    </a:lnTo>
                    <a:lnTo>
                      <a:pt x="1087" y="758"/>
                    </a:lnTo>
                    <a:lnTo>
                      <a:pt x="885" y="862"/>
                    </a:lnTo>
                    <a:lnTo>
                      <a:pt x="668" y="979"/>
                    </a:lnTo>
                    <a:lnTo>
                      <a:pt x="477" y="1104"/>
                    </a:lnTo>
                    <a:lnTo>
                      <a:pt x="347" y="1197"/>
                    </a:lnTo>
                    <a:lnTo>
                      <a:pt x="232" y="1297"/>
                    </a:lnTo>
                    <a:lnTo>
                      <a:pt x="133" y="1396"/>
                    </a:lnTo>
                    <a:lnTo>
                      <a:pt x="0" y="1559"/>
                    </a:lnTo>
                    <a:lnTo>
                      <a:pt x="0" y="871"/>
                    </a:lnTo>
                  </a:path>
                </a:pathLst>
              </a:custGeom>
              <a:solidFill>
                <a:srgbClr val="aa8a1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9"/>
              <p:cNvSpPr/>
              <p:nvPr/>
            </p:nvSpPr>
            <p:spPr>
              <a:xfrm>
                <a:off x="0" y="1322280"/>
                <a:ext cx="5105520" cy="2662200"/>
              </a:xfrm>
              <a:custGeom>
                <a:avLst/>
                <a:gdLst>
                  <a:gd name="textAreaLeft" fmla="*/ 0 w 5105520"/>
                  <a:gd name="textAreaRight" fmla="*/ 5105880 w 5105520"/>
                  <a:gd name="textAreaTop" fmla="*/ 0 h 2662200"/>
                  <a:gd name="textAreaBottom" fmla="*/ 2662560 h 2662200"/>
                </a:gdLst>
                <a:ahLst/>
                <a:rect l="textAreaLeft" t="textAreaTop" r="textAreaRight" b="textAreaBottom"/>
                <a:pathLst>
                  <a:path w="3216" h="1677">
                    <a:moveTo>
                      <a:pt x="0" y="1342"/>
                    </a:moveTo>
                    <a:lnTo>
                      <a:pt x="74" y="1250"/>
                    </a:lnTo>
                    <a:lnTo>
                      <a:pt x="198" y="1110"/>
                    </a:lnTo>
                    <a:lnTo>
                      <a:pt x="321" y="995"/>
                    </a:lnTo>
                    <a:lnTo>
                      <a:pt x="426" y="901"/>
                    </a:lnTo>
                    <a:lnTo>
                      <a:pt x="501" y="835"/>
                    </a:lnTo>
                    <a:lnTo>
                      <a:pt x="588" y="771"/>
                    </a:lnTo>
                    <a:lnTo>
                      <a:pt x="687" y="700"/>
                    </a:lnTo>
                    <a:lnTo>
                      <a:pt x="842" y="608"/>
                    </a:lnTo>
                    <a:lnTo>
                      <a:pt x="1016" y="508"/>
                    </a:lnTo>
                    <a:lnTo>
                      <a:pt x="1226" y="408"/>
                    </a:lnTo>
                    <a:lnTo>
                      <a:pt x="1430" y="316"/>
                    </a:lnTo>
                    <a:lnTo>
                      <a:pt x="1616" y="250"/>
                    </a:lnTo>
                    <a:lnTo>
                      <a:pt x="1821" y="183"/>
                    </a:lnTo>
                    <a:lnTo>
                      <a:pt x="2018" y="125"/>
                    </a:lnTo>
                    <a:lnTo>
                      <a:pt x="2223" y="75"/>
                    </a:lnTo>
                    <a:lnTo>
                      <a:pt x="2427" y="37"/>
                    </a:lnTo>
                    <a:lnTo>
                      <a:pt x="2576" y="16"/>
                    </a:lnTo>
                    <a:lnTo>
                      <a:pt x="2732" y="1"/>
                    </a:lnTo>
                    <a:lnTo>
                      <a:pt x="2854" y="0"/>
                    </a:lnTo>
                    <a:lnTo>
                      <a:pt x="2966" y="9"/>
                    </a:lnTo>
                    <a:lnTo>
                      <a:pt x="3215" y="273"/>
                    </a:lnTo>
                    <a:lnTo>
                      <a:pt x="3109" y="208"/>
                    </a:lnTo>
                    <a:lnTo>
                      <a:pt x="3017" y="175"/>
                    </a:lnTo>
                    <a:lnTo>
                      <a:pt x="2921" y="163"/>
                    </a:lnTo>
                    <a:lnTo>
                      <a:pt x="2836" y="166"/>
                    </a:lnTo>
                    <a:lnTo>
                      <a:pt x="2743" y="172"/>
                    </a:lnTo>
                    <a:lnTo>
                      <a:pt x="2644" y="183"/>
                    </a:lnTo>
                    <a:lnTo>
                      <a:pt x="2526" y="204"/>
                    </a:lnTo>
                    <a:lnTo>
                      <a:pt x="2421" y="225"/>
                    </a:lnTo>
                    <a:lnTo>
                      <a:pt x="2180" y="283"/>
                    </a:lnTo>
                    <a:lnTo>
                      <a:pt x="1907" y="358"/>
                    </a:lnTo>
                    <a:lnTo>
                      <a:pt x="1715" y="425"/>
                    </a:lnTo>
                    <a:lnTo>
                      <a:pt x="1523" y="500"/>
                    </a:lnTo>
                    <a:lnTo>
                      <a:pt x="1300" y="600"/>
                    </a:lnTo>
                    <a:lnTo>
                      <a:pt x="1090" y="708"/>
                    </a:lnTo>
                    <a:lnTo>
                      <a:pt x="873" y="833"/>
                    </a:lnTo>
                    <a:lnTo>
                      <a:pt x="764" y="908"/>
                    </a:lnTo>
                    <a:lnTo>
                      <a:pt x="663" y="983"/>
                    </a:lnTo>
                    <a:lnTo>
                      <a:pt x="488" y="1125"/>
                    </a:lnTo>
                    <a:lnTo>
                      <a:pt x="358" y="1259"/>
                    </a:lnTo>
                    <a:lnTo>
                      <a:pt x="235" y="1392"/>
                    </a:lnTo>
                    <a:lnTo>
                      <a:pt x="108" y="1538"/>
                    </a:lnTo>
                    <a:lnTo>
                      <a:pt x="0" y="1676"/>
                    </a:lnTo>
                    <a:lnTo>
                      <a:pt x="0" y="1342"/>
                    </a:lnTo>
                  </a:path>
                </a:pathLst>
              </a:custGeom>
              <a:solidFill>
                <a:srgbClr val="aa8a1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f271c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eb8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891a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5D931-78F9-4286-9CE2-3347291D8599}" type="slidenum"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271c"/>
                </a:solidFill>
                <a:latin typeface="Comic Sans MS"/>
              </a:rPr>
              <a:t>Что такое календарь?</a:t>
            </a:r>
            <a:endParaRPr b="0" i="1" lang="en-US" sz="4400" spc="-1" strike="noStrike">
              <a:solidFill>
                <a:srgbClr val="4f271c"/>
              </a:solidFill>
              <a:latin typeface="Arial"/>
            </a:endParaRPr>
          </a:p>
        </p:txBody>
      </p:sp>
      <p:pic>
        <p:nvPicPr>
          <p:cNvPr id="99" name="Picture 5" descr="Upcoming Events"/>
          <p:cNvPicPr/>
          <p:nvPr/>
        </p:nvPicPr>
        <p:blipFill>
          <a:blip r:embed="rId1"/>
          <a:stretch/>
        </p:blipFill>
        <p:spPr>
          <a:xfrm>
            <a:off x="1295280" y="2819520"/>
            <a:ext cx="3764160" cy="3733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IDRD"/>
          <p:cNvPicPr/>
          <p:nvPr/>
        </p:nvPicPr>
        <p:blipFill>
          <a:blip r:embed="rId2"/>
          <a:stretch/>
        </p:blipFill>
        <p:spPr>
          <a:xfrm>
            <a:off x="5638680" y="34290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начала месяцы не имели названий. Затем первый месяц года (год начинался с марта) стали называть «Мартиус», в честь бога войны Марса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704_Mars-god Астро Вежа"/>
          <p:cNvPicPr/>
          <p:nvPr/>
        </p:nvPicPr>
        <p:blipFill>
          <a:blip r:embed="rId2"/>
          <a:stretch/>
        </p:blipFill>
        <p:spPr>
          <a:xfrm>
            <a:off x="4648320" y="1752480"/>
            <a:ext cx="3733560" cy="42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eb80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торой месяц «априлиус», что означало раскрытие почек на деревьях.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Апрель особый месяц у Весны! - Литпричал - литературный портал"/>
          <p:cNvPicPr/>
          <p:nvPr/>
        </p:nvPicPr>
        <p:blipFill>
          <a:blip r:embed="rId1"/>
          <a:stretch/>
        </p:blipFill>
        <p:spPr>
          <a:xfrm>
            <a:off x="609480" y="3581280"/>
            <a:ext cx="3770280" cy="2511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Серия турниров. Апрель."/>
          <p:cNvPicPr/>
          <p:nvPr/>
        </p:nvPicPr>
        <p:blipFill>
          <a:blip r:embed="rId2"/>
          <a:stretch/>
        </p:blipFill>
        <p:spPr>
          <a:xfrm>
            <a:off x="4876920" y="3505320"/>
            <a:ext cx="373356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533160" y="1066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ретий месяц был посвящён богине «Майе» (май).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1640" y="1066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Четвёртый – богине Юноне (июнь)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Богиня Майя и ее месяц май"/>
          <p:cNvPicPr/>
          <p:nvPr/>
        </p:nvPicPr>
        <p:blipFill>
          <a:blip r:embed="rId1"/>
          <a:stretch/>
        </p:blipFill>
        <p:spPr>
          <a:xfrm>
            <a:off x="533520" y="3048120"/>
            <a:ext cx="3662280" cy="2743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Римский календарь"/>
          <p:cNvPicPr/>
          <p:nvPr/>
        </p:nvPicPr>
        <p:blipFill>
          <a:blip r:embed="rId2"/>
          <a:stretch/>
        </p:blipFill>
        <p:spPr>
          <a:xfrm>
            <a:off x="6400800" y="2286000"/>
            <a:ext cx="190512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-360" y="304920"/>
            <a:ext cx="4497480" cy="62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II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в до н.э. была проведена реформа римского календаря, в году стало 12 месяцев, первый из них был январь – в честь двуликого бога Януса, который мог одновременно созерцать прошедшее и предвидеть будущее. Число дней в месяцах колебалось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т 28 до 31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Janus - Illuminati God Of Chaos And Deception &quot; David Icke"/>
          <p:cNvPicPr/>
          <p:nvPr/>
        </p:nvPicPr>
        <p:blipFill>
          <a:blip r:embed="rId1"/>
          <a:stretch/>
        </p:blipFill>
        <p:spPr>
          <a:xfrm>
            <a:off x="4800600" y="1752480"/>
            <a:ext cx="392904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457200" y="7617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eb80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мена дня и ночи – вращение Земли вокруг своей оси.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0" descr="Дом и семья &quot; Страница 13"/>
          <p:cNvPicPr/>
          <p:nvPr/>
        </p:nvPicPr>
        <p:blipFill>
          <a:blip r:embed="rId1"/>
          <a:stretch/>
        </p:blipFill>
        <p:spPr>
          <a:xfrm>
            <a:off x="1523880" y="2400480"/>
            <a:ext cx="594360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685800" y="6858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eb80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мена времен года – вращение Земли вокруг Солнца.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eb80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Циклы времени в науке Divine Harmony"/>
          <p:cNvPicPr/>
          <p:nvPr/>
        </p:nvPicPr>
        <p:blipFill>
          <a:blip r:embed="rId1"/>
          <a:stretch/>
        </p:blipFill>
        <p:spPr>
          <a:xfrm>
            <a:off x="1600200" y="2057400"/>
            <a:ext cx="590544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eb80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од – это время полного оборота Земли вокруг Солнца, которое равно 365 суткам и 6 часам. Началом года принято считать 0 часов 0 минут 0 секунд 1 января. За четыре года составляются лишние сутки, их относят на 29 февраля в так называемые високосные годы.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Орбита Земли вокруг Солнца: ее характеристики"/>
          <p:cNvPicPr/>
          <p:nvPr/>
        </p:nvPicPr>
        <p:blipFill>
          <a:blip r:embed="rId1"/>
          <a:stretch/>
        </p:blipFill>
        <p:spPr>
          <a:xfrm>
            <a:off x="228600" y="1295280"/>
            <a:ext cx="8578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2"/>
          <p:cNvSpPr/>
          <p:nvPr/>
        </p:nvSpPr>
        <p:spPr>
          <a:xfrm>
            <a:off x="380880" y="1752480"/>
            <a:ext cx="792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году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365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суток (в високосном –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366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суток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3"/>
          <p:cNvSpPr/>
          <p:nvPr/>
        </p:nvSpPr>
        <p:spPr>
          <a:xfrm>
            <a:off x="380880" y="2743200"/>
            <a:ext cx="792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исокосные годы:…, 2000, 2004, 2008, 2012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304920" y="60199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сутках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24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ча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304920" y="3962520"/>
            <a:ext cx="8839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году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12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месяце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месяце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30 – 31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утки, в феврале - 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28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уток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 в високосный год в феврале –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29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суто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1"/>
          <p:cNvSpPr/>
          <p:nvPr/>
        </p:nvSpPr>
        <p:spPr>
          <a:xfrm>
            <a:off x="0" y="228600"/>
            <a:ext cx="899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Что означают эти выражени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2"/>
          <p:cNvSpPr/>
          <p:nvPr/>
        </p:nvSpPr>
        <p:spPr>
          <a:xfrm>
            <a:off x="228600" y="1219320"/>
            <a:ext cx="6477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ень и ночь – сутки проч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ез году нед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од на год не приходи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з года в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бещанного три года жд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ода – что 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6095880" y="1371600"/>
            <a:ext cx="2460600" cy="2743200"/>
          </a:xfrm>
          <a:prstGeom prst="rect">
            <a:avLst/>
          </a:prstGeom>
          <a:ln w="0">
            <a:noFill/>
          </a:ln>
        </p:spPr>
      </p:pic>
      <p:sp>
        <p:nvSpPr>
          <p:cNvPr id="168" name="TextBox 4"/>
          <p:cNvSpPr/>
          <p:nvPr/>
        </p:nvSpPr>
        <p:spPr>
          <a:xfrm>
            <a:off x="457200" y="472428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кие пословицы и поговорки об этих мерах времени вы знае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3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500"/>
                            </p:stCondLst>
                            <p:childTnLst>
                              <p:par>
                                <p:cTn id="34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4000"/>
                            </p:stCondLst>
                            <p:childTnLst>
                              <p:par>
                                <p:cTn id="35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4500"/>
                            </p:stCondLst>
                            <p:childTnLst>
                              <p:par>
                                <p:cTn id="35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0"/>
                            </p:stCondLst>
                            <p:childTnLst>
                              <p:par>
                                <p:cTn id="36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"/>
          <p:cNvSpPr/>
          <p:nvPr/>
        </p:nvSpPr>
        <p:spPr>
          <a:xfrm>
            <a:off x="1905120" y="304920"/>
            <a:ext cx="556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Календарь – это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914400" y="1523880"/>
            <a:ext cx="5943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пособ счисления дней в г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аблица или книжка с перечнем всех дней в году (с различными справочными сведениям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аспределение по времени (дням, месяцам) отдельных видов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3886200" y="55627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з словаря С.И.Ожего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http://i.livelib.ru/boocover/1000230451/l/2bde/S._I._Ozhegov__Slovar_russkogo_yazyka.jpg"/>
          <p:cNvPicPr/>
          <p:nvPr/>
        </p:nvPicPr>
        <p:blipFill>
          <a:blip r:embed="rId1"/>
          <a:stretch/>
        </p:blipFill>
        <p:spPr>
          <a:xfrm>
            <a:off x="6858000" y="2286000"/>
            <a:ext cx="190512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1"/>
          <p:cNvSpPr/>
          <p:nvPr/>
        </p:nvSpPr>
        <p:spPr>
          <a:xfrm>
            <a:off x="533520" y="228600"/>
            <a:ext cx="7696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Загадки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"/>
          <p:cNvSpPr/>
          <p:nvPr/>
        </p:nvSpPr>
        <p:spPr>
          <a:xfrm>
            <a:off x="152280" y="114300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ез ног и без крыльев о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ыстро лети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е догонишь 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3"/>
          <p:cNvSpPr/>
          <p:nvPr/>
        </p:nvSpPr>
        <p:spPr>
          <a:xfrm>
            <a:off x="1447920" y="2209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(врем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4"/>
          <p:cNvSpPr/>
          <p:nvPr/>
        </p:nvSpPr>
        <p:spPr>
          <a:xfrm>
            <a:off x="228600" y="2666880"/>
            <a:ext cx="4800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д новый год пришёл он в 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Таким румяным толстяк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о каждый день терял он вес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, наконец, совсем исче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5"/>
          <p:cNvSpPr/>
          <p:nvPr/>
        </p:nvSpPr>
        <p:spPr>
          <a:xfrm>
            <a:off x="1066680" y="41148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(календар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7"/>
          <p:cNvSpPr/>
          <p:nvPr/>
        </p:nvSpPr>
        <p:spPr>
          <a:xfrm>
            <a:off x="228600" y="4648320"/>
            <a:ext cx="5181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 первую ступень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стал парень молод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 двенадцатой ступень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ишёл старик сед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8"/>
          <p:cNvSpPr/>
          <p:nvPr/>
        </p:nvSpPr>
        <p:spPr>
          <a:xfrm>
            <a:off x="1295280" y="6172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(го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9"/>
          <p:cNvSpPr/>
          <p:nvPr/>
        </p:nvSpPr>
        <p:spPr>
          <a:xfrm>
            <a:off x="4648320" y="1143000"/>
            <a:ext cx="4495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Этот год живёт всех дольш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 часов и дней в нём больш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се мы ждём его прих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овно раз в четыре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0"/>
          <p:cNvSpPr/>
          <p:nvPr/>
        </p:nvSpPr>
        <p:spPr>
          <a:xfrm>
            <a:off x="5867280" y="26668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(високосный го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2"/>
          <p:cNvSpPr/>
          <p:nvPr/>
        </p:nvSpPr>
        <p:spPr>
          <a:xfrm>
            <a:off x="4572000" y="46483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руг за дружкой черед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ирно ходят брат с сестр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ратец будит весь народ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 сестра – наоборо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3"/>
          <p:cNvSpPr/>
          <p:nvPr/>
        </p:nvSpPr>
        <p:spPr>
          <a:xfrm>
            <a:off x="5867280" y="61722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(день и ноч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9" descr="http://yarfotomix.ru/uploads/posts/2014-05/1399273780_6.jpg"/>
          <p:cNvPicPr/>
          <p:nvPr/>
        </p:nvPicPr>
        <p:blipFill>
          <a:blip r:embed="rId1"/>
          <a:stretch/>
        </p:blipFill>
        <p:spPr>
          <a:xfrm>
            <a:off x="380880" y="2743200"/>
            <a:ext cx="1981440" cy="2871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http://i.adverdesign.ru/u/06/6c4b94695a11e385c71c1b206ca371/-/2e303a86f55be886363dd76fcc33a42e.jpg"/>
          <p:cNvPicPr/>
          <p:nvPr/>
        </p:nvPicPr>
        <p:blipFill>
          <a:blip r:embed="rId2"/>
          <a:stretch/>
        </p:blipFill>
        <p:spPr>
          <a:xfrm>
            <a:off x="3200400" y="2514600"/>
            <a:ext cx="2514600" cy="1433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http://www.oxp.ru/images/kvartal2014.jpg"/>
          <p:cNvPicPr/>
          <p:nvPr/>
        </p:nvPicPr>
        <p:blipFill>
          <a:blip r:embed="rId3"/>
          <a:stretch/>
        </p:blipFill>
        <p:spPr>
          <a:xfrm>
            <a:off x="6781680" y="228600"/>
            <a:ext cx="1544760" cy="3581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http://allgraf.net/uploads/posts/2014-10/1412846740_6ajhw1fx5lqtksm.jpg"/>
          <p:cNvPicPr/>
          <p:nvPr/>
        </p:nvPicPr>
        <p:blipFill>
          <a:blip r:embed="rId4"/>
          <a:stretch/>
        </p:blipFill>
        <p:spPr>
          <a:xfrm>
            <a:off x="3200400" y="4495680"/>
            <a:ext cx="2489040" cy="1762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http://nn.sutochno.ru/files/misc/images/marshruti/kalendar_sobytiy_dlya_turistov.jpg"/>
          <p:cNvPicPr/>
          <p:nvPr/>
        </p:nvPicPr>
        <p:blipFill>
          <a:blip r:embed="rId5"/>
          <a:stretch/>
        </p:blipFill>
        <p:spPr>
          <a:xfrm>
            <a:off x="6629400" y="4419720"/>
            <a:ext cx="2117880" cy="16430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"/>
          <p:cNvPicPr/>
          <p:nvPr/>
        </p:nvPicPr>
        <p:blipFill>
          <a:blip r:embed="rId6"/>
          <a:stretch/>
        </p:blipFill>
        <p:spPr>
          <a:xfrm>
            <a:off x="304920" y="380880"/>
            <a:ext cx="2438280" cy="166068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8" descr=""/>
          <p:cNvPicPr/>
          <p:nvPr/>
        </p:nvPicPr>
        <p:blipFill>
          <a:blip r:embed="rId7"/>
          <a:stretch/>
        </p:blipFill>
        <p:spPr>
          <a:xfrm>
            <a:off x="3522600" y="304920"/>
            <a:ext cx="2367000" cy="16761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9"/>
          <p:cNvSpPr/>
          <p:nvPr/>
        </p:nvSpPr>
        <p:spPr>
          <a:xfrm>
            <a:off x="380880" y="21337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столь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9"/>
          <p:cNvSpPr/>
          <p:nvPr/>
        </p:nvSpPr>
        <p:spPr>
          <a:xfrm>
            <a:off x="609480" y="57913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сте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0"/>
          <p:cNvSpPr/>
          <p:nvPr/>
        </p:nvSpPr>
        <p:spPr>
          <a:xfrm>
            <a:off x="7086600" y="62485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трыв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1"/>
          <p:cNvSpPr/>
          <p:nvPr/>
        </p:nvSpPr>
        <p:spPr>
          <a:xfrm>
            <a:off x="3505320" y="205740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ерекид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2"/>
          <p:cNvSpPr/>
          <p:nvPr/>
        </p:nvSpPr>
        <p:spPr>
          <a:xfrm>
            <a:off x="6781680" y="396252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варталь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3"/>
          <p:cNvSpPr/>
          <p:nvPr/>
        </p:nvSpPr>
        <p:spPr>
          <a:xfrm>
            <a:off x="3657600" y="40384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арма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4"/>
          <p:cNvSpPr/>
          <p:nvPr/>
        </p:nvSpPr>
        <p:spPr>
          <a:xfrm>
            <a:off x="3809880" y="632448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лакат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1"/>
          <p:cNvSpPr/>
          <p:nvPr/>
        </p:nvSpPr>
        <p:spPr>
          <a:xfrm>
            <a:off x="1066680" y="457200"/>
            <a:ext cx="7315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змерять время людям помогали наблюдения за природой, за Солнцем, Луной и звёзд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http://prazdnik-land.ru/media/uploads/10010/images/666666666666666666666666666666666666666666666666666666/sun.jpg"/>
          <p:cNvPicPr/>
          <p:nvPr/>
        </p:nvPicPr>
        <p:blipFill>
          <a:blip r:embed="rId1"/>
          <a:stretch/>
        </p:blipFill>
        <p:spPr>
          <a:xfrm>
            <a:off x="304920" y="1828800"/>
            <a:ext cx="3295440" cy="2386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http://planeta.moy.su/_bl/51/45523464.jpg"/>
          <p:cNvPicPr/>
          <p:nvPr/>
        </p:nvPicPr>
        <p:blipFill>
          <a:blip r:embed="rId2"/>
          <a:stretch/>
        </p:blipFill>
        <p:spPr>
          <a:xfrm>
            <a:off x="5029200" y="1828800"/>
            <a:ext cx="3448080" cy="230832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11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3" descr="http://abc-24.info/uploads/posts/2011-08/1312730221_12100_m.jpg"/>
          <p:cNvPicPr/>
          <p:nvPr/>
        </p:nvPicPr>
        <p:blipFill>
          <a:blip r:embed="rId3"/>
          <a:stretch/>
        </p:blipFill>
        <p:spPr>
          <a:xfrm>
            <a:off x="3048120" y="4343400"/>
            <a:ext cx="293832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914400" y="3045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eb80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емидневная неделя возникла в Древнем Вавилоне. Её возникновение было связано с почитанием числа «семь» - по числу видимых небесных тел (Меркурий, Венера, Марс, Юпитер, Сатурн, Луна, Солнце)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Вавилон. История города Древнего мира Интересное Журнал RETROBAZAR Портал коллекционеров и любителей старины"/>
          <p:cNvPicPr/>
          <p:nvPr/>
        </p:nvPicPr>
        <p:blipFill>
          <a:blip r:embed="rId1"/>
          <a:stretch/>
        </p:blipFill>
        <p:spPr>
          <a:xfrm>
            <a:off x="2666880" y="388620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52280" y="228600"/>
            <a:ext cx="38102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недельник – день Луны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0" y="152280"/>
            <a:ext cx="358128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торник – день Марса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одержимое 6"/>
          <p:cNvSpPr/>
          <p:nvPr/>
        </p:nvSpPr>
        <p:spPr>
          <a:xfrm>
            <a:off x="380880" y="3581280"/>
            <a:ext cx="3810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реда – день Мерку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одержимое 7"/>
          <p:cNvSpPr/>
          <p:nvPr/>
        </p:nvSpPr>
        <p:spPr>
          <a:xfrm>
            <a:off x="4876920" y="3429000"/>
            <a:ext cx="3581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Четверг – день Юпит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Blue Moon Photos"/>
          <p:cNvPicPr/>
          <p:nvPr/>
        </p:nvPicPr>
        <p:blipFill>
          <a:blip r:embed="rId1"/>
          <a:stretch/>
        </p:blipFill>
        <p:spPr>
          <a:xfrm>
            <a:off x="914400" y="137160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NASA разрабатывает новый план исследований Марса - новости космоса, астрономии и космонавтики на ASTRONEWS.ru"/>
          <p:cNvPicPr/>
          <p:nvPr/>
        </p:nvPicPr>
        <p:blipFill>
          <a:blip r:embed="rId2"/>
          <a:stretch/>
        </p:blipFill>
        <p:spPr>
          <a:xfrm>
            <a:off x="5410080" y="1371600"/>
            <a:ext cx="2635200" cy="1978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thenatureofmind: Astronomy"/>
          <p:cNvPicPr/>
          <p:nvPr/>
        </p:nvPicPr>
        <p:blipFill>
          <a:blip r:embed="rId3"/>
          <a:stretch/>
        </p:blipFill>
        <p:spPr>
          <a:xfrm>
            <a:off x="914400" y="4572000"/>
            <a:ext cx="2781360" cy="20858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3" descr="Jupiter pictures Advanced Images Search"/>
          <p:cNvPicPr/>
          <p:nvPr/>
        </p:nvPicPr>
        <p:blipFill>
          <a:blip r:embed="rId4"/>
          <a:stretch/>
        </p:blipFill>
        <p:spPr>
          <a:xfrm>
            <a:off x="5257800" y="4495680"/>
            <a:ext cx="2873520" cy="21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500"/>
                            </p:stCondLst>
                            <p:childTnLst>
                              <p:par>
                                <p:cTn id="19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52280" y="228600"/>
            <a:ext cx="38102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ятница– день Венеры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0" y="152280"/>
            <a:ext cx="358128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уббота – день Сатурна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одержимое 6"/>
          <p:cNvSpPr/>
          <p:nvPr/>
        </p:nvSpPr>
        <p:spPr>
          <a:xfrm>
            <a:off x="2286000" y="3352680"/>
            <a:ext cx="3809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оскресенье – день Солн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Venus Planet HQ Wallpapers for PC"/>
          <p:cNvPicPr/>
          <p:nvPr/>
        </p:nvPicPr>
        <p:blipFill>
          <a:blip r:embed="rId1"/>
          <a:stretch/>
        </p:blipFill>
        <p:spPr>
          <a:xfrm>
            <a:off x="914400" y="1295280"/>
            <a:ext cx="2616120" cy="1962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Saturn Images Planet"/>
          <p:cNvPicPr/>
          <p:nvPr/>
        </p:nvPicPr>
        <p:blipFill>
          <a:blip r:embed="rId2"/>
          <a:stretch/>
        </p:blipFill>
        <p:spPr>
          <a:xfrm>
            <a:off x="5638680" y="1143000"/>
            <a:ext cx="2603520" cy="1952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ExСhangeNews.ru - Обменная сеть"/>
          <p:cNvPicPr/>
          <p:nvPr/>
        </p:nvPicPr>
        <p:blipFill>
          <a:blip r:embed="rId3"/>
          <a:stretch/>
        </p:blipFill>
        <p:spPr>
          <a:xfrm>
            <a:off x="3276720" y="4267080"/>
            <a:ext cx="243828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500"/>
                            </p:stCondLst>
                            <p:childTnLst>
                              <p:par>
                                <p:cTn id="21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5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685800" y="10663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eb80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 Руси еженедельный свободный день назывался «неделей»- днём когда «не делают». </a:t>
            </a:r>
            <a:r>
              <a:rPr b="0" lang="ru-RU" sz="3200" spc="-1" strike="noStrike">
                <a:solidFill>
                  <a:srgbClr val="475a8d"/>
                </a:solidFill>
                <a:latin typeface="Comic Sans MS"/>
              </a:rPr>
              <a:t>Понедельник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– день следующий после «недели». </a:t>
            </a:r>
            <a:r>
              <a:rPr b="0" lang="ru-RU" sz="3200" spc="-1" strike="noStrike">
                <a:solidFill>
                  <a:srgbClr val="475a8d"/>
                </a:solidFill>
                <a:latin typeface="Comic Sans MS"/>
              </a:rPr>
              <a:t>Среда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– средний день. </a:t>
            </a:r>
            <a:r>
              <a:rPr b="0" lang="ru-RU" sz="3200" spc="-1" strike="noStrike">
                <a:solidFill>
                  <a:srgbClr val="475a8d"/>
                </a:solidFill>
                <a:latin typeface="Comic Sans MS"/>
              </a:rPr>
              <a:t>Вторник четверг,пятница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– порядковые номера этих дней. </a:t>
            </a:r>
            <a:r>
              <a:rPr b="0" lang="ru-RU" sz="3200" spc="-1" strike="noStrike">
                <a:solidFill>
                  <a:srgbClr val="475a8d"/>
                </a:solidFill>
                <a:latin typeface="Comic Sans MS"/>
              </a:rPr>
              <a:t>Суббота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– «сабат» – отдых этот день раньше у некоторых народов был выходным. В настоящее время – «неделя» – весь семидневный период.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eb80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межуток времени между полнолунием и новолунием в древние времена определялся в 30 дней. Отсюда и название – лунный месяц. 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7" descr="Лунный календарь"/>
          <p:cNvPicPr/>
          <p:nvPr/>
        </p:nvPicPr>
        <p:blipFill>
          <a:blip r:embed="rId1"/>
          <a:stretch/>
        </p:blipFill>
        <p:spPr>
          <a:xfrm>
            <a:off x="990720" y="3429000"/>
            <a:ext cx="72770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ама</dc:creator>
  <dc:description/>
  <dc:language>en-US</dc:language>
  <cp:lastModifiedBy>Александр</cp:lastModifiedBy>
  <dcterms:modified xsi:type="dcterms:W3CDTF">2015-02-27T07:28:11Z</dcterms:modified>
  <cp:revision>10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22e0000000000010250300207f7000400038000</vt:lpwstr>
  </property>
  <property fmtid="{D5CDD505-2E9C-101B-9397-08002B2CF9AE}" pid="3" name="Version">
    <vt:r8>1</vt:r8>
  </property>
</Properties>
</file>