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B8E4-5934-4C5C-A70D-6E3560A836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30D-3799-406D-82D2-3140806E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5F7-8C7D-4E47-8094-FD041434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3A0-1809-41AD-815E-A6E70BBD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F3E-2C86-4BC5-88C6-6F013AFD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4A87-683F-4B45-8D39-2A80D1BD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2EDE-F4CC-4B7D-87ED-F0C0FE3A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EE95-C3E5-4273-9BAB-47833CBA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011E-FA75-420F-A290-CC411159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2349-A986-427B-B6E3-69C4AC9C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A602-6DA6-4346-82CB-5B8F3664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9466-DE5B-4412-B4B7-3B0F4A76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237-4071-46F5-94B4-56C63AEE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3F6E-C87E-42F0-86C7-9FAE3097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4CF4-D293-48C6-9567-ACA27859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4901-39F0-4F78-9987-B13713F8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E9D7-3CF5-4767-A794-624D6515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6CFB-0B8E-4A81-86E6-722D6FAE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FA4-9CFC-480F-A9B1-D6D82F74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7AF-3AB5-4FC4-8818-2447AFA1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DB3-AE52-4CF5-9CD5-84D0301E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1D7-56F1-433A-B0C1-1AE33A05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27C-E69C-4A3B-9127-EAA79E2D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09C-894E-4326-ADE1-A8BDF6AE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122-91FC-4271-A891-3B91A4D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D947-8312-4419-BE69-66BCCD7695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B103-36F1-4B3A-8B97-479A487A90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4427640" cy="1873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ЗОНА ЛЕСОВ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ищевые связи в экосистеме  смешанных лес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5445000"/>
            <a:ext cx="2160720" cy="55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ышьполёв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4869000"/>
            <a:ext cx="1511280" cy="55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яц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8000" y="5661000"/>
            <a:ext cx="141948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о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4292640"/>
            <a:ext cx="107964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64000" y="4149720"/>
            <a:ext cx="9144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лен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005360"/>
            <a:ext cx="91440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и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59280" y="2997360"/>
            <a:ext cx="9144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3141720"/>
            <a:ext cx="15127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едвед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3068640"/>
            <a:ext cx="120312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бо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20000" y="2997360"/>
            <a:ext cx="914400" cy="50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л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932360" y="5444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92720" y="580500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419280" y="5661000"/>
            <a:ext cx="1223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340000" y="486900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92720" y="3428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651640" y="4508640"/>
            <a:ext cx="4330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5157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093080" y="349992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667640" y="3500280"/>
            <a:ext cx="0" cy="208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427280" y="3645000"/>
            <a:ext cx="64908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995640" y="4652640"/>
            <a:ext cx="720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547640" y="364500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16000" y="3933360"/>
            <a:ext cx="1655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916360" y="3644640"/>
            <a:ext cx="647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59500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459640" y="2565000"/>
            <a:ext cx="0" cy="33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50920" y="2708280"/>
            <a:ext cx="46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2708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2708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22000" y="62564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ДАЁТ НАМ ЛЕС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3068640"/>
            <a:ext cx="2484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РЕВЕС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умаг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бел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лулои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кан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з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ушистые веще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ино- и фотоплён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580000" y="3284640"/>
            <a:ext cx="356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ЛЕ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ушн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карственное сырьё и витами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ёд и вос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ъедобные растения и гриб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ясо зверей и птиц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рмовые угодь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о отдых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79640" y="3284280"/>
            <a:ext cx="4968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аргузинский заповедн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н находится около озера Байкал. Славится кедровыми лесами, горячими источниками, прекрасными озёрами и горными реками.В заповеднике водятся бурые медведи,кабарга (самый мелкий из оленей), росомахи, белки-летяги,рябчики,, нерпа (тюлень),омуль, собол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4643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ГОТОВЬ СООБЩЕНИЕ о заповеднике «БАСЕГИ» по плану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Располож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Растительный ми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Животный ми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Значение заповедника для Горнозаводского района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риродные и климатические 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словия зоны лес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479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льеф – холмистая равнина, местами заболоче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лимат –умеренно-континентальный. Зима длится 4-5 месяцев (-24 градуса), лето умеренно тёплое и влажное (+20 градусов). Много осад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лезные ископаемые: торф, бурый уголь, железная руда, горючие сланцы, фосфориты, кварцевые пески, гончарные и фарфоровые глины, калийные соли, нефть, янтар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ЖИВОТНЫЙ МИР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89240" y="2362320"/>
            <a:ext cx="2668320" cy="1785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56360" y="236232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382760" y="4300560"/>
            <a:ext cx="2679480" cy="1785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156360" y="430056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067280" y="2349360"/>
            <a:ext cx="208908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84720" y="4365720"/>
            <a:ext cx="1727280" cy="17780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ыс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едвед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л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ая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ел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500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28472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284720" y="3500280"/>
            <a:ext cx="4859280" cy="335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65080" y="292428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79600" y="299736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ЛЕН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6160" y="62373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ЁЖИ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520" y="623736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Л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187080" y="54640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ИС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95080" y="582444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756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3080" y="58975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Б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77280" y="28735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ОМАХ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42720" y="625644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ТАЯ ВОЛК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384360" cy="2637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2987640" cy="2708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211440" y="46735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УХАР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4360" y="5608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987640" cy="263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48000" cy="299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924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3348000" y="0"/>
            <a:ext cx="2809800" cy="2997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53280" y="21528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едров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89640" y="589752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ухар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0360" y="61135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88920" y="560880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ятнистый олен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2:23:59Z</dcterms:created>
  <dc:creator>Люба</dc:creator>
  <dc:description/>
  <dc:language>en-US</dc:language>
  <cp:lastModifiedBy>Люба</cp:lastModifiedBy>
  <dcterms:modified xsi:type="dcterms:W3CDTF">2007-01-27T22:14:54Z</dcterms:modified>
  <cp:revision>7</cp:revision>
  <dc:subject/>
  <dc:title>ЗОНА ЛЕСО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200000000000010243100207f6000400038000</vt:lpwstr>
  </property>
</Properties>
</file>