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1924-EA02-43AD-A3F0-00662304DF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872-ACEC-41B4-B979-D9F22128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6D0-D8B7-44B7-BC84-EA5AB10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7B8-D9BB-4C8D-B9B9-795F809F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C6A-F70C-462E-AB4E-8C2DDA0F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6C1D-4CFE-4C99-9DFA-E16DF893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F38A-BCE2-4D5D-8F83-77A07C0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6A2E-E5DF-42A4-A5DB-33086E10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C10A-3D4B-4461-AB03-8BF5042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4CAF-042E-47FD-BFA4-AA6840F3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159F-6B6C-4926-BBFC-D27912F9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94F8-DF68-499E-9B90-AC93D6E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78F-7C60-46D1-BE73-E03AF7C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8107-E5FD-471C-9A86-561FDFC6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B0BB-E03F-4EE3-92C1-C5374820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82BF-92A0-43A1-A06F-7F3AF7C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B9F3-3CFF-485D-9A5A-F5C2DE18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0C7C-9B63-4963-A4A4-8F69A3CB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896-1649-4B6A-AE1D-BFA5E0D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AC1-F349-45BD-9EE0-570A27A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8E2-50C3-4FF3-88F7-403739F9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44B-9D37-4099-90A7-4DF48C27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17E-B56F-44B2-9BDF-5F96E89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334-650E-4700-980D-97638A1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20B-2331-4646-A76F-4E9F894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AC1A-3CD3-4360-A65B-27DE05D260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A06C-17D9-4620-935B-44201FF1E4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4427640" cy="187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ЗОНА ЛЕСОВ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ищевые связи в экосистеме  смешанных л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5445000"/>
            <a:ext cx="2160720" cy="55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ышьполёв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4869000"/>
            <a:ext cx="1511280" cy="55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5661000"/>
            <a:ext cx="141948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о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4292640"/>
            <a:ext cx="107964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4149720"/>
            <a:ext cx="9144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05360"/>
            <a:ext cx="9144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2997360"/>
            <a:ext cx="9144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3141720"/>
            <a:ext cx="1512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едве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3068640"/>
            <a:ext cx="12031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бо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2997360"/>
            <a:ext cx="91440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32360" y="544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92720" y="580500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419280" y="5661000"/>
            <a:ext cx="1223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40000" y="4869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92720" y="342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1640" y="4508640"/>
            <a:ext cx="4330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157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49992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67640" y="350028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427280" y="3645000"/>
            <a:ext cx="649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995640" y="4652640"/>
            <a:ext cx="720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547640" y="3645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16000" y="3933360"/>
            <a:ext cx="1655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16360" y="3644640"/>
            <a:ext cx="647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59500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459640" y="2565000"/>
            <a:ext cx="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50920" y="2708280"/>
            <a:ext cx="46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2000" y="62564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ДАЁТ НАМ ЛЕС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3068640"/>
            <a:ext cx="2484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РЕВЕС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бел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лулои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шистые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но- и фотоплён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580000" y="3284640"/>
            <a:ext cx="356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Е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ушн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карственное сырьё и витам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ёд и вос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ъедобные растения и гриб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ясо зверей и птиц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мовые угодь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отдых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640" y="3284280"/>
            <a:ext cx="4968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аргузинский заповедн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н находится около озера Байкал. Славится кедровыми лесами, горячими источниками, прекрасными озёрами и горными реками.В заповеднике водятся бурые медведи,кабарга (самый мелкий из оленей), росомахи, белки-летяги,рябчики,, нерпа (тюлень),омуль, собол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643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ГОТОВЬ СООБЩЕНИЕ о заповеднике «БАСЕГИ» по плану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Располож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Растительный м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Животный ми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Значение заповедника для Горнозаводского район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иродные и климатические 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словия зоны л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47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льеф – холмистая равнина, местами заболоче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имат –умеренно-континентальный. Зима длится 4-5 месяцев (-24 градуса), лето умеренно тёплое и влажное (+20 градусов). Много осад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лезные ископаемые: торф, бурый уголь, железная руда, горючие сланцы, фосфориты, кварцевые пески, гончарные и фарфоровые глины, калийные соли, нефть, янтар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ЖИВОТНЫЙ МИР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89240" y="2362320"/>
            <a:ext cx="266832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56360" y="2362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382760" y="430056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56360" y="430056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4365720"/>
            <a:ext cx="1727280" cy="17780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5080" y="2924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9600" y="29973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Е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6160" y="62373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520" y="623736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87080" y="54640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5080" y="58244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3080" y="58975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Б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77280" y="28735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ОМАХ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42720" y="62564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АЯ ВОЛК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384360" cy="263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987640" cy="2708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211440" y="46735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УХАР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4360" y="5608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92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348000" y="0"/>
            <a:ext cx="2809800" cy="2997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53280" y="21528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9640" y="5897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хар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360" y="61135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88920" y="56088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нистый ол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2:23:59Z</dcterms:created>
  <dc:creator>Люба</dc:creator>
  <dc:description/>
  <dc:language>en-US</dc:language>
  <cp:lastModifiedBy>Люба</cp:lastModifiedBy>
  <dcterms:modified xsi:type="dcterms:W3CDTF">2007-01-27T22:14:54Z</dcterms:modified>
  <cp:revision>7</cp:revision>
  <dc:subject/>
  <dc:title>ЗОНА ЛЕС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200000000000010243100207f6000400038000</vt:lpwstr>
  </property>
</Properties>
</file>