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A66-3C02-4A34-8650-0BEC13020E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802-22A7-45B1-BD14-82A929C8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9BE-79A4-4CF5-B699-CEC5A78C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E54-A79E-4E48-9949-6FE0EE30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E39-F86A-4411-B959-945C1910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DBFC-039A-49BC-A79F-E274CEDF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ED5-2BFB-424C-AEC7-4F193B4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D462-B5CB-4FF4-A5D2-6E59BF38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CC2E-B907-42B7-915B-D2B217F2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D660-AED3-47A4-93F5-BCD92BF1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E8F-171E-4E8B-9684-64E65996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7495-1C5D-4E00-B135-0073B6D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6A7-9433-46B8-B26F-B90B5824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6188-7AF4-4F18-8B09-4F1465F1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AA6-121F-4DD2-BE03-84D9EA1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846E-C34C-48EC-B696-C93FC61D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3C86-C1B2-4EF4-AC7A-EEC81E9C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85D9-BF50-4990-BA28-1DA152DA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B2C-6908-4CD1-8FD3-C20DB660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D63-9616-49D5-B0A4-08E6FC05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F3A-7C3D-40F8-91E4-C191F2B4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B7F-DCD2-47FA-8227-D62F082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501-1E61-49D6-8839-546EDE69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261-46C5-4251-AC93-48C952E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3DB-A1D5-403E-904E-2971721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0C29-5E27-4BFD-9D8D-93D19084FE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78AB-331E-4956-968C-791E713E94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4427640" cy="1873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ЗОНА ЛЕСОВ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ищевые связи в экосистеме  смешанных ле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5445000"/>
            <a:ext cx="2160720" cy="55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ышьполёв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4869000"/>
            <a:ext cx="1511280" cy="55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5661000"/>
            <a:ext cx="141948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о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4292640"/>
            <a:ext cx="107964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4149720"/>
            <a:ext cx="9144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005360"/>
            <a:ext cx="9144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2997360"/>
            <a:ext cx="9144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3141720"/>
            <a:ext cx="1512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едве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3068640"/>
            <a:ext cx="12031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бо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2997360"/>
            <a:ext cx="914400" cy="50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л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32360" y="544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92720" y="580500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419280" y="5661000"/>
            <a:ext cx="1223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40000" y="4869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92720" y="342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51640" y="4508640"/>
            <a:ext cx="4330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157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49992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67640" y="350028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427280" y="3645000"/>
            <a:ext cx="649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995640" y="4652640"/>
            <a:ext cx="720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547640" y="364500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16000" y="3933360"/>
            <a:ext cx="1655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916360" y="3644640"/>
            <a:ext cx="647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59500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459640" y="2565000"/>
            <a:ext cx="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50920" y="2708280"/>
            <a:ext cx="46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2708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22000" y="62564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ДАЁТ НАМ ЛЕС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3068640"/>
            <a:ext cx="2484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РЕВЕС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бел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лулои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ка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з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шистые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но- и фотоплён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580000" y="3284640"/>
            <a:ext cx="356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ЛЕ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ушн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карственное сырьё и витами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ёд и вос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ъедобные растения и гриб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ясо зверей и птиц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мовые угодь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отдых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640" y="3284280"/>
            <a:ext cx="4968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аргузинский заповедн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н находится около озера Байкал. Славится кедровыми лесами, горячими источниками, прекрасными озёрами и горными реками.В заповеднике водятся бурые медведи,кабарга (самый мелкий из оленей), росомахи, белки-летяги,рябчики,, нерпа (тюлень),омуль, собол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643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ГОТОВЬ СООБЩЕНИЕ о заповеднике «БАСЕГИ» по плану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Располож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Растительный м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Животный ми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Значение заповедника для Горнозаводского район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иродные и климатические 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словия зоны ле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47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льеф – холмистая равнина, местами заболоче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имат –умеренно-континентальный. Зима длится 4-5 месяцев (-24 градуса), лето умеренно тёплое и влажное (+20 градусов). Много осад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лезные ископаемые: торф, бурый уголь, железная руда, горючие сланцы, фосфориты, кварцевые пески, гончарные и фарфоровые глины, калийные соли, нефть, янтар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ЖИВОТНЫЙ МИР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89240" y="2362320"/>
            <a:ext cx="266832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56360" y="2362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382760" y="4300560"/>
            <a:ext cx="26794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156360" y="430056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84720" y="4365720"/>
            <a:ext cx="1727280" cy="17780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я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5080" y="2924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9600" y="29973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Е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6160" y="62373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ЁЖИ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520" y="623736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87080" y="54640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5080" y="58244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3080" y="58975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Б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77280" y="28735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ОМАХ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42720" y="62564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ТАЯ ВОЛК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384360" cy="263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2987640" cy="2708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211440" y="46735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УХАР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4360" y="5608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48000" cy="299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92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348000" y="0"/>
            <a:ext cx="2809800" cy="2997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53280" y="21528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89640" y="5897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хар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0360" y="61135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88920" y="560880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нистый олен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2:23:59Z</dcterms:created>
  <dc:creator>Люба</dc:creator>
  <dc:description/>
  <dc:language>en-US</dc:language>
  <cp:lastModifiedBy>Люба</cp:lastModifiedBy>
  <dcterms:modified xsi:type="dcterms:W3CDTF">2007-01-27T22:14:54Z</dcterms:modified>
  <cp:revision>7</cp:revision>
  <dc:subject/>
  <dc:title>ЗОНА ЛЕС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200000000000010243100207f6000400038000</vt:lpwstr>
  </property>
</Properties>
</file>