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D3F-A904-4880-8BAF-8B833C5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2A4-53B3-486B-8B93-3E32044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8C9-1BDA-4B4D-8718-845479D6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E83-A73C-43D9-AE28-1E7B7043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67FB-05C2-40D6-921B-2209C432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8A71-0D06-49E8-9305-8CA0407D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0CB8-D957-4E00-A346-F5975A1C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A60A-2242-43F8-B2FB-CD2EA6F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119C-AA56-4B40-8F39-3EFE233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84BA-698A-40B6-B0CB-532135F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9D2-847D-47FE-A8F4-49ABF01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386-1E8D-491E-8C6B-38F461E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5FD-5A56-4B3D-8FE1-0CF03B1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681-2EF3-4BBF-9352-EED57DC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1FFD-960B-4B37-9D19-14DAEB2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BC91-2AC1-45A5-896F-8AA904A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829C-74B7-4D16-B10B-4CD6C2F5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06A-F2A4-495D-9AF1-79C7C10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3A2-B23E-4121-B2D1-30A6619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8DC-6A7B-436D-8D29-CC1E3F3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F07-DFD8-4DDB-9F77-4115B47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64B-67BE-4C6A-A171-24F7E0E3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76C-FFBB-4DF6-87AE-EF000F4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6BC-5644-4C6D-9FC3-810DB06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683-4EAC-427D-9444-9F4A332560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0406-DBBA-4F94-B86B-AA3ED98F96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вотный мир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img1.gif (3831 bytes)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5080" cy="3672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8120" y="2828880"/>
            <a:ext cx="6095880" cy="4029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435640" y="836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лина тела горностая составляет 17-38 см, масса от 70 до 26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4013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Масса тела росомахи 9—18 кг , длина 70—86 см, длина хвоста 18—23 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538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97400" y="3060720"/>
            <a:ext cx="4746600" cy="3797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148360" y="1125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60—90 см, хвоста — 40—60 с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асса — 6—10 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Смешанные и широколиственные ле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207040" cy="3538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4124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427640" y="3201840"/>
            <a:ext cx="4716360" cy="3656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0920" y="4005360"/>
            <a:ext cx="38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лина тела до 3 метров, высота – 2,3 м, масса – 360-6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5667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олоко лося в 3-4 раза жирнее коровь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За день лось проходит 10-15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1131480"/>
            <a:ext cx="266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лина тела бобра достигает 1—1,3 м, а масса — до 30—32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Степ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17600" cy="4498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86160" cy="4209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566856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лина тела 14—40 см, хвоста 4—25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621648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Дрофа имеет рост 75—80 см и весят 4—8 кг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Полупустыни и пусты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406680" cy="4498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619440" cy="4191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979640" y="5516280"/>
            <a:ext cx="57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Сайгаки могут бегать целый день и преодолевать огромные расстояния, но даже маленькая канава вызывает у него ужас, ведь он панически боится прыг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95280" y="2421000"/>
            <a:ext cx="831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вотный мир арктических пусты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270320" cy="4499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284720" y="3500280"/>
            <a:ext cx="4500360" cy="2948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067280" y="134604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Животные арктических пустынь – в основном, представители моря. Многочисленны моржи, тюлени, летом возникают птичьи базары. Наземная фауна бедна. Хозяином зоны по праву можно назвать белого медве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940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727520" y="3462480"/>
            <a:ext cx="4416480" cy="33955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362560" y="549720"/>
            <a:ext cx="37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 — самый крупный хищник. Его длина достигает 3 м, масса до 1 т. Обычно самцы весят 400—450 кг; длина тела 200—250 см. Самки заметно мельче, их вес всего 200—300 к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49532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Белый медведь занесен в Красную книгу России. Охота на него запрещена с 1956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148360" y="689040"/>
            <a:ext cx="36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лыки моржа имеют длину 60-80 см и предназначены для того, чтобы выкапывать со дна моллюсков, которыми питаются, а так же для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Тунд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977080" cy="462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300720" y="155772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0202"/>
                </a:solidFill>
                <a:latin typeface="Tahoma"/>
              </a:rPr>
              <a:t>Северный олень имеет густую шерсть между копыт, для того, чтобы не переохлаждаться и не скользить по ль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30240" y="213372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-4213080" y="347976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649760" y="62064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971640" y="371628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252360" y="306864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5640" y="342972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есит лемминг 20-70 г, а за сутки съедает в 2 раза больше, чем весит. Поэтому в год ему нужно около 50 кг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3708360" y="6093000"/>
            <a:ext cx="821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5373720"/>
            <a:ext cx="821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589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Песец – важнейшее промысловое живо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687840" cy="4131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-31644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ай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5076720" cy="3411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4079880" y="3054240"/>
            <a:ext cx="5064120" cy="380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148360" y="91584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Дятел - достаточно крикливая птица. Его голос можно услышать в любое время года и по самым разным п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43668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А вот особенностью глухаря является его пение в брачный период – ток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3160" cy="3848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-5005440" y="259236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статочно крикливая птица. Его голос можно услышать в любое время года и по самым разным повод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9840" y="1190160"/>
            <a:ext cx="34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бурый медведь ни разу не попробует мяса, он так и останется вегетарианц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47048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За сутки рысь способна проходить до 30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6:54:56Z</dcterms:created>
  <dc:creator>www.PHILka.RU</dc:creator>
  <dc:description/>
  <dc:language>en-US</dc:language>
  <cp:lastModifiedBy>www.PHILka.RU</cp:lastModifiedBy>
  <dcterms:modified xsi:type="dcterms:W3CDTF">2011-09-23T22:14:51Z</dcterms:modified>
  <cp:revision>3</cp:revision>
  <dc:subject/>
  <dc:title>Животный мир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10000000000010250300207f7000400038000</vt:lpwstr>
  </property>
</Properties>
</file>