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102-E086-4513-9B9F-8E84A772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93E-C7EA-429A-B29E-B7648963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D64-8F21-42B6-9B3B-04794ADC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1928-0798-4883-9747-FB996BA1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9A50-8131-44B9-BD97-9A9D1440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488C-A3B5-4670-AB87-D75873F5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E68B-21E9-48E1-8FA6-1F5AF8C6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1F69-9D38-494A-ABFE-CDDDAD4F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1267-CF1D-40D2-8AC3-E6663A59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3F3A-3C4C-44D1-8A6A-AB4D0331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25C9-E4CD-4509-BC50-B1F8F87C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CE7D-54BF-49D0-A4CF-02808B4A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CBDF-CA38-41D4-8480-D25491B3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921F-775C-4E37-A27D-6B780989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F0DD-D6B6-49D6-B2D2-07085104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EC92-3987-4C43-BF4F-FFB5EF3A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2821-3967-48DC-ABF6-FF86A046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823-EAF9-4CD8-8768-97A9AB47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E51D-BDC7-410D-AD0D-0B149365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DDD-D831-478E-8A6A-E03C76A0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F4F8-8D69-4E8C-ACED-C581782E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5E3-743A-4132-9284-6DB15F9F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F6D5-C7B1-442D-8490-E72A721C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16FD-9870-4D82-8813-D965BD16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152A-ED9C-4CA9-8A95-344B508B10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8329-3DD6-4076-BD92-5A7E78E34C2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Животный мир Росси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" descr="img1.gif (3831 bytes)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45080" cy="36720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3048120" y="2828880"/>
            <a:ext cx="6095880" cy="40291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5435640" y="83628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Длина тела горностая составляет 17-38 см, масса от 70 до 260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" y="401328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Масса тела росомахи 9—18 кг , длина 70—86 см, длина хвоста 18—23 с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353844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4397400" y="3060720"/>
            <a:ext cx="4746600" cy="37972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148360" y="11253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Длина тела 60—90 см, хвоста — 40—60 с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масса — 6—10 кг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Смешанные и широколиственные лес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5207040" cy="35384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5019840" y="2476440"/>
            <a:ext cx="41241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36450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4427640" y="3201840"/>
            <a:ext cx="4716360" cy="36561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50920" y="4005360"/>
            <a:ext cx="383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Длина тела до 3 метров, высота – 2,3 м, масса – 360-600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5667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Молоко лося в 3-4 раза жирнее коровь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За день лось проходит 10-15 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651640" y="1131480"/>
            <a:ext cx="266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Длина тела бобра достигает 1—1,3 м, а масса — до 30—32 кг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Степ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117600" cy="44989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286160" cy="42098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0" y="566856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лина тела 14—40 см, хвоста 4—25 с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80000" y="6216480"/>
            <a:ext cx="30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Дрофа имеет рост 75—80 см и весят 4—8 кг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Полупустыни и пустын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3406680" cy="44989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3619440" cy="41911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979640" y="5516280"/>
            <a:ext cx="575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Сайгаки могут бегать целый день и преодолевать огромные расстояния, но даже маленькая канава вызывает у него ужас, ведь он панически боится прыг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95280" y="2421000"/>
            <a:ext cx="8317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Животный мир арктических пустын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270320" cy="44992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284720" y="3500280"/>
            <a:ext cx="4500360" cy="29480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4067280" y="1346040"/>
            <a:ext cx="50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Животные арктических пустынь – в основном, представители моря. Многочисленны моржи, тюлени, летом возникают птичьи базары. Наземная фауна бедна. Хозяином зоны по праву можно назвать белого медвед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9402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727520" y="3462480"/>
            <a:ext cx="4416480" cy="33955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5362560" y="549720"/>
            <a:ext cx="378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Белый медведь — самый крупный хищник. Его длина достигает 3 м, масса до 1 т. Обычно самцы весят 400—450 кг; длина тела 200—250 см. Самки заметно мельче, их вес всего 200—300 к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9280" y="495324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Белый медведь занесен в Красную книгу России. Охота на него запрещена с 1956 г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39146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211640" y="3157560"/>
            <a:ext cx="4932360" cy="37004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148360" y="689040"/>
            <a:ext cx="36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Клыки моржа имеют длину 60-80 см и предназначены для того, чтобы выкапывать со дна моллюсков, которыми питаются, а так же для защи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Тунд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5977080" cy="4626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6300720" y="1557720"/>
            <a:ext cx="25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0202"/>
                </a:solidFill>
                <a:latin typeface="Tahoma"/>
              </a:rPr>
              <a:t>Северный олень имеет густую шерсть между копыт, для того, чтобы не переохлаждаться и не скользить по ль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30240" y="2133720"/>
            <a:ext cx="821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-4213080" y="3479760"/>
            <a:ext cx="821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71840" cy="3429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649760" y="620640"/>
            <a:ext cx="3984480" cy="59770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971640" y="371628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-252360" y="3068640"/>
            <a:ext cx="821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55640" y="3429720"/>
            <a:ext cx="30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есит лемминг 20-70 г, а за сутки съедает в 2 раза больше, чем весит. Поэтому в год ему нужно около 50 кг пи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-3708360" y="6093000"/>
            <a:ext cx="821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5373720"/>
            <a:ext cx="821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5280" y="558900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Песец – важнейшее промысловое животн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687840" cy="4131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-316440"/>
            <a:ext cx="85406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ай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5076720" cy="34113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4079880" y="3054240"/>
            <a:ext cx="5064120" cy="38037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5148360" y="915840"/>
            <a:ext cx="35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Дятел - достаточно крикливая птица. Его голос можно услышать в любое время года и по самым разным повод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436680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А вот особенностью глухаря является его пение в брачный период – токов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3160" cy="38480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-5005440" y="2592360"/>
            <a:ext cx="30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статочно крикливая птица. Его голос можно услышать в любое время года и по самым разным повода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9840" y="1190160"/>
            <a:ext cx="349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бурый медведь ни разу не попробует мяса, он так и останется вегетарианц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55640" y="470484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За сутки рысь способна проходить до 30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6:54:56Z</dcterms:created>
  <dc:creator>www.PHILka.RU</dc:creator>
  <dc:description/>
  <dc:language>en-US</dc:language>
  <cp:lastModifiedBy>www.PHILka.RU</cp:lastModifiedBy>
  <dcterms:modified xsi:type="dcterms:W3CDTF">2011-09-23T22:14:51Z</dcterms:modified>
  <cp:revision>3</cp:revision>
  <dc:subject/>
  <dc:title>Животный мир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110000000000010250300207f7000400038000</vt:lpwstr>
  </property>
</Properties>
</file>