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043-4401-4559-B0A2-1CC9F6FD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2EB-C105-4F68-98FF-8C33F0BD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72C-B6F0-408A-A707-476D6D5F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16B-C59D-49B4-9C47-1F4BB161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F7C7-D2BD-40CD-AFD4-08916462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E2CB-027A-46CF-AE67-219CD83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412-FB3B-45DF-A038-F9813363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2F1-0373-46C5-BD59-1C3C58BC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822B-0A8E-4177-AF33-A9D0C4D5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DEDF-484C-4CB0-ABBC-8E3FA5F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903B-1EFC-444F-8859-039E4B0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49E-3D2D-422B-A044-FF1B607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D82-4036-4228-8E37-6BACC86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86B-4BE1-4094-A279-802197E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3371-FA2B-4A0A-9B6C-FF868310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10B-3C3A-4144-9CF6-96CCB4E5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7E45-53B1-4833-A8A8-272DF3A7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8FE-A229-4623-A8D8-6FF942D9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F0E-9648-40A8-A4A7-FBA81162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E2F-2655-4D51-B4CB-18A32423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93C-437B-461C-A325-A4DE10B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98B-430F-47DB-A82E-C6B18D8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204-6966-46E9-B0E8-CD2D7DE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477-54B5-45D2-A023-A26C5967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1FAD-6B71-4C93-8C65-D818FDF8BC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9BBF-AA41-43EE-8599-4F37C12BDF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вотный мир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img1.gif (3831 bytes)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3672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8120" y="2828880"/>
            <a:ext cx="6095880" cy="4029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435640" y="836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лина тела горностая составляет 17-38 см, масса от 70 до 26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4013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Масса тела росомахи 9—18 кг , длина 70—86 см, длина хвоста 18—23 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538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97400" y="3060720"/>
            <a:ext cx="4746600" cy="3797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148360" y="1125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мешанные и широколиственные ле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207040" cy="3538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4124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427640" y="3201840"/>
            <a:ext cx="4716360" cy="3656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0920" y="4005360"/>
            <a:ext cx="38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5667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1131480"/>
            <a:ext cx="26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лина тела бобра достигает 1—1,3 м, а масса — до 30—32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Степ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17600" cy="4498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86160" cy="4209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566856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лина тела 14—40 см, хвоста 4—25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621648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рофа имеет рост 75—80 см и весят 4—8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Полупустыни и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406680" cy="4498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619440" cy="4191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979640" y="5516280"/>
            <a:ext cx="57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айгаки могут бегать целый день и преодолевать огромные расстояния, но даже маленькая канава вызывает у него ужас, ведь он панически боится прыг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95280" y="2421000"/>
            <a:ext cx="831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вотный мир арктических пусты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270320" cy="4499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500360" cy="2948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067280" y="134604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Животные арктических пустынь – в основном, представители моря. Многочисленны моржи, тюлени, летом возникают птичьи базары. Наземная фауна бедна. Хозяином зоны по праву можно назвать белого медве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940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27520" y="3462480"/>
            <a:ext cx="4416480" cy="33955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362560" y="549720"/>
            <a:ext cx="37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 — самый крупный хищник. Его длина достигает 3 м, масса до 1 т. Обычно самцы весят 400—450 кг; длина тела 200—250 см. Самки заметно мельче, их вес всего 200—300 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49532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 занесен в Красную книгу России. Охота на него запрещена с 1956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48360" y="68904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лыки моржа имеют длину 60-80 см и предназначены для того, чтобы выкапывать со дна моллюсков, которыми питаются, а так же для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Тунд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977080" cy="462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300720" y="155772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0202"/>
                </a:solidFill>
                <a:latin typeface="Tahoma"/>
              </a:rPr>
              <a:t>Северный олень имеет густую шерсть между копыт, для того, чтобы не переохлаждаться и не скользить по ль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30240" y="213372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4213080" y="347976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9760" y="62064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71640" y="371628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252360" y="306864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342972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есит лемминг 20-70 г, а за сутки съедает в 2 раза больше, чем весит. Поэтому в год ему нужно около 50 кг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3708360" y="609300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537372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589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есец – важнейшее промысловое живо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87840" cy="4131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-31644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ай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076720" cy="3411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079880" y="3054240"/>
            <a:ext cx="5064120" cy="380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148360" y="91584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ятел - достаточно крикливая птица. Его голос можно услышать в любое время года и по самым разным п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43668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 вот особенностью глухаря является его пение в брачный период – ток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3848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-5005440" y="259236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аточно крикливая птица. Его голос можно услышать в любое время года и по самым разным повод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9840" y="1190160"/>
            <a:ext cx="34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бурый медведь ни разу не попробует мяса, он так и останется вегетарианц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47048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 сутки рысь способна проходить до 3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6:54:56Z</dcterms:created>
  <dc:creator>www.PHILka.RU</dc:creator>
  <dc:description/>
  <dc:language>en-US</dc:language>
  <cp:lastModifiedBy>www.PHILka.RU</cp:lastModifiedBy>
  <dcterms:modified xsi:type="dcterms:W3CDTF">2011-09-23T22:14:51Z</dcterms:modified>
  <cp:revision>3</cp:revision>
  <dc:subject/>
  <dc:title>Животный мир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10000000000010250300207f7000400038000</vt:lpwstr>
  </property>
</Properties>
</file>