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4AB-B0F0-48DE-A221-C595C846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7A0-B825-4BCB-BBAD-8AF70612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DC8-D408-42F1-80B5-D16442C8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0CD-E1EB-493C-8D32-EE16E0BF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4C4-BB8B-4668-A47E-57CF31EC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785-6AD1-482B-AE09-5426756A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15B-77EF-4C4A-9346-8B15802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A7C-6F6B-4173-AE80-2FC057D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ED3-3B02-46D7-A856-E6080150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DF0-EE36-4B48-976A-9FC18418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3D7-DB15-4DC3-AA79-442BC48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68B-7690-49D5-B595-36C277E8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9D45-76DE-430A-AA9C-1E4681640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10110.userapi.com/u85253927/-14/x_8df87ad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cdn.topsy.com%2Fimgsrv%2Fr%3Fc%3D1%26s%3D1%26h%3D150%26w%3D150%26u%3Dhttps%3A%2F%2Flh6.googleusercontent.com%2F-RbG9WZK1sHk%2FULjR4XV0jNI%2FAAAAAAAAVAs%2F5_bWgavxAfI%2Flandfill-landscape.jpg&amp;pos=11&amp;rpt=simage&amp;lr=39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3776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d/d6/Water_pollution.jpg/180px-Water_pollutio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s/ekologija/Zagrjaznenie-reki-Don/0008-008-Zagrjaznenie-reki-Do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az/foto/arxiv/1344232172_ers1024x76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48/811/48811446_Soyuz_38_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vestnik.ru/mvfoto/2013/02/07/%F1%E0%E6%E0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jeopinie.pl/img/zoom4/ain_woods_czechy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09.radikal.ru/i308/1104/86/ba6c60305bdd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ubecad.com/2008/04/01/Earth%20on%20Fire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900igr.net/datai/obg/Lesnoj-pozhar/0008-010-Tema-Lesnye-pozhar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ZHivye-suschestva/0011-011-Nor-zverinykh-Ptichego-gnezda-Razorjat-ne-budem-nikogda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kss-aksai.kz/images/5_1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n/mokslas/zmogus_ir_medicina/S-14106/org854c890b5bb8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15.radikal.ru/0807/c0/cad6ef0b307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900igr.net/datai/ekologija/Ekologicheskie-problemy-Moskvy/0003-002-Ekologicheskie-problemy-territorii-Moskvy-suschestvovali-esche-v-drevnost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iroda.su/item/284" TargetMode="External"/><Relationship Id="rId2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prv1.lori-images.net%2Fsvalka-musora-0001909101-preview.jpg&amp;pos=4&amp;rpt=simage&amp;lr=39&amp;nojs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s60.radikal.ru%2Fi167%2F0908%2Fe5%2F821e43a74211.jpg&amp;pos=7&amp;rpt=simage&amp;lr=39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емля- наш общий дом!»</a:t>
            </a:r>
            <a:br>
              <a:rPr sz="2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географии Чумаченко Т.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Первомайская СОШ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x_8df87ad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юминий – от 80 до 200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урки сигарет – от 1 до 5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ызок яблока – 1-2 месяца, в некоторых случаях дол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i?id=446101973-47-72&amp;n=21"/>
          <p:cNvPicPr/>
          <p:nvPr/>
        </p:nvPicPr>
        <p:blipFill>
          <a:blip r:embed="rId1"/>
          <a:stretch/>
        </p:blipFill>
        <p:spPr>
          <a:xfrm>
            <a:off x="108000" y="1268280"/>
            <a:ext cx="8785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ета – 2-4 недели, некоторые издания дольше , без доступа воздуха до 15 лет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?id=443507420-0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197000"/>
            <a:ext cx="885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ходы целлюлозно- бумажного комб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3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8713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это все течет в наши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80px-Water_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765000"/>
            <a:ext cx="86407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0008-008-Zagrjaznenie-reki-D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ный взрыв в атмосфе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во, но как разрушительно и страш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гибли миллионы людей, а сколько погибнет еще от ради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344232172_ers1024x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пуске 1 ракеты образуется «окно» в космос диаметром 20 км.       Сжигается млн.м3 атмосфер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д  в мире запускается до 200 р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48811446_Soyuz_38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ический 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?id=245822331-03-7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образования кислотных дож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%F1%E0%E6%E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8964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шел кислотны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ain_woods_czec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a6c60305b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_9fa3_26e80bb0_XL"/>
          <p:cNvPicPr/>
          <p:nvPr/>
        </p:nvPicPr>
        <p:blipFill>
          <a:blip r:embed="rId1"/>
          <a:stretch/>
        </p:blipFill>
        <p:spPr>
          <a:xfrm>
            <a:off x="155520" y="46080"/>
            <a:ext cx="88092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жигании опавшей листвы в атмосферу выделяется до 70 опасных вещест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горит листва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 (340x454, 5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G012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игать мусор, листву очень вред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 подсчитали, что при сгорании одной тонны листвы в атмосферу попадает 9 кг различных микрочастиц. В их состав входят угарный газ, окиси азота, тяжелые металлы, пыль и прочие канцерогенные вещества. Горящая листва является источником наиболее отравляющих для людей веществ – диоксинов. Кроме этого, тлеющая листва выделяет бензопирен. Это вещество вызывает раковые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ят терриконы г.Зв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IMG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только в России  площадь пожаров лесов от 2  до 6 млн.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th%20on%20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пожары возникают по вин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08-010-Tema-Lesnye-pozha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ричин возникновения пожаров- сжигание сухой травы, сте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горит трава 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брики, заводы ежегодно выбрасывают в атмосферу 175 млн.т вредных веществ.  А всего при сжигании топлива 20 млрд.т вредных га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017-013-Zagrjaznenie-okruzhajuschej-sredy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здо птицы — это ее дом. А все домики нужно беречь и охранять, а не разру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09-009-Ne-razorjajte-ptichi-gnjozda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разоряйте птичьего гн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ездо разорённое возле крыльц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лупки раздробленного яиц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еют обломками в рваной трав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ёртвая птица лежит на земл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чив последний свой бой роков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зникшей из огненной бездны змеё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частная птица упала без сил -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жалостный зверь её свет поглотил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кают на солнце среди тиши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колки разбитой как чашка, вес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йские птицы - цветные огни -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осятся прочь от грехов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011-011-Nor-zverinykh-Ptichego-gnezda-Razorjat-ne-budem-nikog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28640"/>
            <a:ext cx="4038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astocka3_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75735054_large_18766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74120818__07092008_1456__dsc3215_2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и- санитары ле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5694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РЯЗНЕНИЕ ГИДР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5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жигании 1тонны бензина выделяется  в атмосферу 500-800 кг 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yixlop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org854c890b5b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oilydu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_6da8a_dc360459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тянное пятно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oil_1719818b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619d1273257260-896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f_7059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c95a3c35766d93d72d801a8d0d78b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1318089693__moore_5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beautiful-wallpapers-of-nature-for-desktop-free-download-i9"/>
          <p:cNvPicPr/>
          <p:nvPr/>
        </p:nvPicPr>
        <p:blipFill>
          <a:blip r:embed="rId1"/>
          <a:stretch/>
        </p:blipFill>
        <p:spPr>
          <a:xfrm>
            <a:off x="1692360" y="2205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74602691_large_10jpgPRIRODA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ota_ru_990202-c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только автомобили в атмосферу выбрасывается 5 млрд.т  углекислого г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ad6ef0b30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89677731_122b4bc9e0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1100183_vesn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podvodnyy_mir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за чистоту в нашем посел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IMG1068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IMG1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Изображение 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т мир спасете вы -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f591f928736bt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2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мира, на минуту встан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шайте, слушайте лес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ри просят помощи - не троньт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ы леса! Стройные л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их сберегите от поруб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ожаров с дымом до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мира, будьте зорче в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 лес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,берегите, берегите л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,берегите, берегит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времени мусор хран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сывая мусор мы думаем: «Ничего, дождиком, мол, размоет, сгниет, в общем куда-то денет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м не менее для полного разложения мусора требуется очень много лет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клянная бутылка – один миллион л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столько пролежит обычная стеклянная буты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03-002-Ekologicheskie-problemy-territorii-Moskvy-suschestvovali-esche-v-drevn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ковые бутылки – от 500 до 1000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а производство которых уходит огромное количество неф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жалению, микроорганизмы практически их не разлагаю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?id=351511711-01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84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овый пакет  – от 500 до 1000 л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1000 лет будет лежать в земле «не съёдобный» для микроорганизмов-деструкторов полиэтиленовый пак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?id=191528603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8748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6:44:55Z</dcterms:created>
  <dc:creator>Admin</dc:creator>
  <dc:description/>
  <dc:language>en-US</dc:language>
  <cp:lastModifiedBy>Admin</cp:lastModifiedBy>
  <dcterms:modified xsi:type="dcterms:W3CDTF">2014-09-06T04:30:37Z</dcterms:modified>
  <cp:revision>13</cp:revision>
  <dc:subject/>
  <dc:title>Земля наш общий д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330000000000010250300207f7000400038000</vt:lpwstr>
  </property>
</Properties>
</file>