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4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2.jpeg" ContentType="image/jpeg"/>
  <Override PartName="/ppt/media/image5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F11D-F77A-498C-81A2-891ADD28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E7F-0F24-4FC7-9D82-49A380BF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D0E-2A6A-4BBD-B01A-3600B51D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FDB1-2868-4F83-9441-47994C91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FFA-D3F9-46AB-8B5D-358C46AC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FA2-8E12-4784-8D16-EDE57260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861D-B908-4523-B04B-86AAC2AB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C9F-2EC6-4CE2-9662-020142AF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1AD-6FA5-40C5-AC4B-495B4842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B88-987C-4148-99F2-F792E401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5468-5CF7-4D0B-B456-32EEDF7C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A88-5C1B-4482-A64E-427D572C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6A46-1A7C-4733-84A6-431CF49452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s10110.userapi.com/u85253927/-14/x_8df87adc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74;&#1080;&#1076;&#1077;&#1086;&#1088;&#1086;&#1083;&#1080;&#1082;%20&#1086;%20&#1084;&#1091;&#1089;&#1086;&#1088;&#1085;&#1099;&#1093;%20&#1089;&#1074;&#1072;&#1083;&#1082;&#1072;&#1093;&amp;noreask=1&amp;img_url=http%3A%2F%2Fcdn.topsy.com%2Fimgsrv%2Fr%3Fc%3D1%26s%3D1%26h%3D150%26w%3D150%26u%3Dhttps%3A%2F%2Flh6.googleusercontent.com%2F-RbG9WZK1sHk%2FULjR4XV0jNI%2FAAAAAAAAVAs%2F5_bWgavxAfI%2Flandfill-landscape.jpg&amp;pos=11&amp;rpt=simage&amp;lr=39&amp;nojs=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azeta.a42.ru/images/lenta/23776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d/d6/Water_pollution.jpg/180px-Water_pollution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900igr.net/datas/ekologija/Zagrjaznenie-reki-Don/0008-008-Zagrjaznenie-reki-Don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az/foto/arxiv/1344232172_ers1024x768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1/48/811/48811446_Soyuz_38_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vestnik.ru/mvfoto/2013/02/07/%F1%E0%E6%E0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ojeopinie.pl/img/zoom4/ain_woods_czechy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009.radikal.ru/i308/1104/86/ba6c60305bdd.gif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ubecad.com/2008/04/01/Earth%20on%20Fire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900igr.net/datai/obg/Lesnoj-pozhar/0008-010-Tema-Lesnye-pozhary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900igr.net/datas/okruzhajuschij-mir/ZHivye-suschestva/0011-011-Nor-zverinykh-Ptichego-gnezda-Razorjat-ne-budem-nikogda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kss-aksai.kz/images/5_1.jpg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technologijos.lt/upload/image/n/mokslas/zmogus_ir_medicina/S-14106/org854c890b5bb8.jpg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015.radikal.ru/0807/c0/cad6ef0b3079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900igr.net/datai/ekologija/Ekologicheskie-problemy-Moskvy/0003-002-Ekologicheskie-problemy-territorii-Moskvy-suschestvovali-esche-v-drevnosti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riroda.su/item/284" TargetMode="External"/><Relationship Id="rId2" Type="http://schemas.openxmlformats.org/officeDocument/2006/relationships/hyperlink" Target="http://images.yandex.ru/yandsearch?source=psearch&amp;text=&#1074;&#1080;&#1076;&#1077;&#1086;&#1088;&#1086;&#1083;&#1080;&#1082;%20&#1086;%20&#1084;&#1091;&#1089;&#1086;&#1088;&#1085;&#1099;&#1093;%20&#1089;&#1074;&#1072;&#1083;&#1082;&#1072;&#1093;&amp;noreask=1&amp;img_url=http%3A%2F%2Fprv1.lori-images.net%2Fsvalka-musora-0001909101-preview.jpg&amp;pos=4&amp;rpt=simage&amp;lr=39&amp;nojs=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74;&#1080;&#1076;&#1077;&#1086;&#1088;&#1086;&#1083;&#1080;&#1082;%20&#1086;%20&#1084;&#1091;&#1089;&#1086;&#1088;&#1085;&#1099;&#1093;%20&#1089;&#1074;&#1072;&#1083;&#1082;&#1072;&#1093;&amp;noreask=1&amp;img_url=http%3A%2F%2Fs60.radikal.ru%2Fi167%2F0908%2Fe5%2F821e43a74211.jpg&amp;pos=7&amp;rpt=simage&amp;lr=39&amp;nojs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Земля- наш общий дом!»</a:t>
            </a:r>
            <a:br>
              <a:rPr sz="2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географии Чумаченко Т.П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БОУ Первомайская СОШ</a:t>
            </a: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x_8df87ad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91628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юминий – от 80 до 200 ле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урки сигарет – от 1 до 5 ле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ызок яблока – 1-2 месяца, в некоторых случаях дольш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i?id=446101973-47-72&amp;n=21"/>
          <p:cNvPicPr/>
          <p:nvPr/>
        </p:nvPicPr>
        <p:blipFill>
          <a:blip r:embed="rId1"/>
          <a:stretch/>
        </p:blipFill>
        <p:spPr>
          <a:xfrm>
            <a:off x="108000" y="1268280"/>
            <a:ext cx="87850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зета – 2-4 недели, некоторые издания дольше , без доступа воздуха до 15 лет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i?id=443507420-0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197000"/>
            <a:ext cx="8856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ходы целлюлозно- бумажного комби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37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125360"/>
            <a:ext cx="87138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это все течет в наши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180px-Water_pollu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765000"/>
            <a:ext cx="864072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0008-008-Zagrjaznenie-reki-D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674640"/>
            <a:ext cx="9144000" cy="71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омный взрыв в атмосфер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иво, но как разрушительно и страшно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гибли миллионы людей, а сколько погибнет еще от ради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1344232172_ers1024x7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запуске 1 ракеты образуется «окно» в космос диаметром 20 км.       Сжигается млн.м3 атмосфер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од  в мире запускается до 200 рак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48811446_Soyuz_38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мический му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i?id=245822331-03-72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ина образования кислотных дож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%F1%E0%E6%E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07920"/>
            <a:ext cx="896472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шел кислотный дож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4" descr="ain_woods_czech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3664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ba6c60305bd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0_9fa3_26e80bb0_XL"/>
          <p:cNvPicPr/>
          <p:nvPr/>
        </p:nvPicPr>
        <p:blipFill>
          <a:blip r:embed="rId1"/>
          <a:stretch/>
        </p:blipFill>
        <p:spPr>
          <a:xfrm>
            <a:off x="155520" y="46080"/>
            <a:ext cx="88092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жигании опавшей листвы в атмосферу выделяется до 70 опасных вещест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горит листва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 (340x454, 53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MG012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жигать мусор, листву очень вред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 подсчитали, что при сгорании одной тонны листвы в атмосферу попадает 9 кг различных микрочастиц. В их состав входят угарный газ, окиси азота, тяжелые металлы, пыль и прочие канцерогенные вещества. Горящая листва является источником наиболее отравляющих для людей веществ – диоксинов. Кроме этого, тлеющая листва выделяет бензопирен. Это вещество вызывает раковые заболе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ят терриконы г.Звер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IMG113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о только в России  площадь пожаров лесов от 2  до 6 млн. 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th%20on%20Fi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05264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ще всего пожары возникают по вине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0008-010-Tema-Lesnye-pozha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765000"/>
            <a:ext cx="8785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з причин возникновения пожаров- сжигание сухой травы, стер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горит трава 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Ласточки. Ф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брики, заводы ежегодно выбрасывают в атмосферу 175 млн.т вредных веществ.  А всего при сжигании топлива 20 млрд.т вредных га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0017-013-Zagrjaznenie-okruzhajuschej-sredy"/>
          <p:cNvPicPr/>
          <p:nvPr/>
        </p:nvPicPr>
        <p:blipFill>
          <a:blip r:embed="rId1"/>
          <a:stretch/>
        </p:blipFill>
        <p:spPr>
          <a:xfrm>
            <a:off x="395280" y="1268280"/>
            <a:ext cx="8353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Ласточки. Ф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нездо птицы — это ее дом. А все домики нужно беречь и охранять, а не разру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0009-009-Ne-razorjajte-ptichi-gnjozda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 разоряйте птичьего гнез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нездо разорённое возле крыльц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лупки раздробленного яиц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еют обломками в рваной траве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мёртвая птица лежит на земле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чив последний свой бой роково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возникшей из огненной бездны змеё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частная птица упала без сил -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жалостный зверь её свет поглотил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ркают на солнце среди тишин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колки разбитой как чашка, весн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айские птицы - цветные огни -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осятся прочь от греховной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0011-011-Nor-zverinykh-Ptichego-gnezda-Razorjat-ne-budem-nikog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628640"/>
            <a:ext cx="40384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lastocka3_3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Ласточки. Ф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Ласточки. Ф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75735054_large_18766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74120818__07092008_1456__dsc3215_2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равьи- санитары ле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5694"/>
          <p:cNvPicPr/>
          <p:nvPr/>
        </p:nvPicPr>
        <p:blipFill>
          <a:blip r:embed="rId1"/>
          <a:stretch/>
        </p:blipFill>
        <p:spPr>
          <a:xfrm>
            <a:off x="395280" y="1125360"/>
            <a:ext cx="8424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ГРЯЗНЕНИЕ ГИДР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5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жигании 1тонны бензина выделяется  в атмосферу 500-800 кг вред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vyixlop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org854c890b5bb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oilydu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0_6da8a_dc360459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фтянное пятно в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oil_1719818b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3619d1273257260-896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f_70597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0c95a3c35766d93d72d801a8d0d78bc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1318089693__moore_5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beautiful-wallpapers-of-nature-for-desktop-free-download-i9"/>
          <p:cNvPicPr/>
          <p:nvPr/>
        </p:nvPicPr>
        <p:blipFill>
          <a:blip r:embed="rId1"/>
          <a:stretch/>
        </p:blipFill>
        <p:spPr>
          <a:xfrm>
            <a:off x="1692360" y="2205000"/>
            <a:ext cx="5076720" cy="3800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74602691_large_10jpgPRIRODA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mota_ru_990202-c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о только автомобили в атмосферу выбрасывается 5 млрд.т  углекислого г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cad6ef0b30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341360"/>
            <a:ext cx="8496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89677731_122b4bc9e02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1100183_vesna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podvodnyy_mir_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за чистоту в нашем поселк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CIMG1068"/>
          <p:cNvPicPr/>
          <p:nvPr/>
        </p:nvPicPr>
        <p:blipFill>
          <a:blip r:embed="rId1"/>
          <a:stretch/>
        </p:blipFill>
        <p:spPr>
          <a:xfrm>
            <a:off x="395280" y="1052640"/>
            <a:ext cx="84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CIMG1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Изображение 0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т мир спасете вы -дет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f591f928736bt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22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 мира, на минуту встань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шайте, слушайте лес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ери просят помощи - не троньте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ны леса! Стройные л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их сберегите от поруб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пожаров с дымом до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 мира, будьте зорче втр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те лес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те,берегите, берегите л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те,берегите, берегите все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лько времени мусор храни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расывая мусор мы думаем: «Ничего, дождиком, мол, размоет, сгниет, в общем куда-то денется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ем не менее для полного разложения мусора требуется очень много лет…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клянная бутылка – один миллион л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нно столько пролежит обычная стеклянная буты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003-002-Ekologicheskie-problemy-territorii-Moskvy-suschestvovali-esche-v-drevnost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268280"/>
            <a:ext cx="842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стиковые бутылки – от 500 до 1000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а производство которых уходит огромное количество неф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сожалению, микроорганизмы практически их не разлагаю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i?id=351511711-01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48428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этиленовый пакет  – от 500 до 1000 л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1000 лет будет лежать в земле «не съёдобный» для микроорганизмов-деструкторов полиэтиленовый пак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i?id=191528603-3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84280"/>
            <a:ext cx="8748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16:44:55Z</dcterms:created>
  <dc:creator>Admin</dc:creator>
  <dc:description/>
  <dc:language>en-US</dc:language>
  <cp:lastModifiedBy>Admin</cp:lastModifiedBy>
  <dcterms:modified xsi:type="dcterms:W3CDTF">2014-09-06T04:30:37Z</dcterms:modified>
  <cp:revision>13</cp:revision>
  <dc:subject/>
  <dc:title>Земля наш общий д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330000000000010250300207f7000400038000</vt:lpwstr>
  </property>
</Properties>
</file>