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317-D784-429B-B591-ACF460FC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59C-4496-4AF4-A9B3-09C16956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625-2975-4334-875C-0706FDA6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BF1-1058-4AE7-958E-FAF0DFDD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028D-4715-4298-A1B9-E625D106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3936-1A52-42FC-B8A2-97CCD376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2E0B-6B0A-4362-94AE-B063B48F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20B6-5A15-4B3E-BC49-B12E5DBE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D552-B8CD-412B-BD33-0B338D5C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9172-553C-4B49-B91B-A5BF14B8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FB80-772A-4618-AEEB-18726010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4C5-0D50-41CA-A1D2-0918FF1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FDC4-01F4-4EE2-B1A2-0CF4A37F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7D3E-4498-4981-8193-D1FF1D0A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C70A-F217-4F18-83A0-FC593967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A1F5-5056-4AC0-8711-03FA07F5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4086-6ACC-4128-9BD5-E6AE09B1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DAB-BB9D-49FC-8AC3-5FDBA44B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9CB-92BC-496F-A10F-DEB5DC90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AB8-2130-4310-9278-3BD55AD1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7C3-DA93-431C-BFF7-758E0E76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5AA-61C0-4D7E-ADD8-247233FC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799-22AA-4BE9-A559-A17AA9FA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4F1-FC6B-4AF1-91A7-99421BBA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D134-6B9D-419A-8C8F-F9CC0DCF67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7B4D-6854-43DA-A989-B516FF3350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Земля – наш до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40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5256000" cy="2017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Лабораторная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работа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95280" y="306864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пределение экватора, полюсов, меридианов с использованием глобус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Дайте определения:глобус,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экватор, меридиан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632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Определение географических координа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2448000" cy="252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05320" y="2476440"/>
            <a:ext cx="2381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95400"/>
            <a:ext cx="5761080" cy="7078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51920"/>
            <a:ext cx="7696080" cy="5334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59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Comic Sans MS"/>
              </a:rPr>
              <a:t>Какой вывод вы можете сделать по лабораторной работе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4149360"/>
            <a:ext cx="748188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723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Comic Sans MS"/>
              </a:rPr>
              <a:t>Дайте определения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5690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1. Глобус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. Контурная кар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3. Экватор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4. Меридиан, 5. Параллел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6. Географические координат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7. Широ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8. Долгота, 9. Полюс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2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72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72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72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72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72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72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72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440"/>
                            </p:stCondLst>
                            <p:childTnLst>
                              <p:par>
                                <p:cTn id="1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7440"/>
                            </p:stCondLst>
                            <p:childTnLst>
                              <p:par>
                                <p:cTn id="1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440"/>
                            </p:stCondLst>
                            <p:childTnLst>
                              <p:par>
                                <p:cTn id="1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440"/>
                            </p:stCondLst>
                            <p:childTnLst>
                              <p:par>
                                <p:cTn id="1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3440"/>
                            </p:stCondLst>
                            <p:childTnLst>
                              <p:par>
                                <p:cTn id="1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440"/>
                            </p:stCondLst>
                            <p:childTnLst>
                              <p:par>
                                <p:cTn id="1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744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1:42:17Z</dcterms:created>
  <dc:creator>Wadimus</dc:creator>
  <dc:description/>
  <dc:language>en-US</dc:language>
  <cp:lastModifiedBy>Wadimus</cp:lastModifiedBy>
  <dcterms:modified xsi:type="dcterms:W3CDTF">2008-09-27T15:19:04Z</dcterms:modified>
  <cp:revision>6</cp:revision>
  <dc:subject/>
  <dc:title> Лабораторная раб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40000000000010243100207f6000400038000</vt:lpwstr>
  </property>
  <property fmtid="{D5CDD505-2E9C-101B-9397-08002B2CF9AE}" pid="3" name="Version">
    <vt:r8>6</vt:r8>
  </property>
</Properties>
</file>