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6AAF-529E-489E-B20D-BB15FAFC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B4A5-1D6B-41CF-8D45-6A1887A6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04FF-D9CD-4A47-9394-3A722AF8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7FB5-9002-40B7-B32D-673BC614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E7A3-63BB-4961-91D1-3629D01A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DE33-2A26-471E-8E04-9D080668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98DC-F65D-4BB7-AAF8-8F266D49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3F63-FF5A-4BD9-9128-A1BDC1E5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2827-79CE-4A6C-9FD9-44F4BF3B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C4CB-EEEF-4BC5-B57A-7D34EA27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D4D9-6E52-4000-96D2-A8613654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AB22-FCDD-42A7-934C-9DB38200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B8D3-84D1-4A88-BE53-7664017B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2A57-6E8E-4B52-82CB-C9EFABBD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3C20-FA4C-44E9-9DA6-6ECB97FD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CE95-6727-43C8-B934-74FAD108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4119-6C14-4210-B43A-BC5FB20F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7CDF-BCFA-44D5-9B25-6B11C3B6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905-9D02-48AF-87C3-E1945767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640-0141-4A2D-911D-D22A71E0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AE2E-F2E4-46B6-8B0D-C460870F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039F-6798-40D7-B758-14C76334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C274-C110-4673-B3AD-9E433B44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A337-291E-420D-AD1E-03B21307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35ED-9914-40E7-ABBA-5C669A15C19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CBCD-B1B6-44BC-AE49-36476F0A23F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Земля – наш дом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5404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5256000" cy="2017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Лабораторная 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работа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95280" y="3068640"/>
            <a:ext cx="8353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Определение экватора, полюсов, меридианов с использованием глобус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Дайте определения:глобус,</a:t>
            </a:r>
            <a:br>
              <a:rPr sz="4800"/>
            </a:b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экватор, меридиан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2808360" cy="2232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2592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632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Comic Sans MS"/>
              </a:rPr>
              <a:t>Определение географических координа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547640" y="2421000"/>
            <a:ext cx="2448000" cy="2520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305320" y="2476440"/>
            <a:ext cx="2381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19280" y="95400"/>
            <a:ext cx="5761080" cy="7078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5800" y="151920"/>
            <a:ext cx="7696080" cy="5334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597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3300"/>
                </a:solidFill>
                <a:latin typeface="Comic Sans MS"/>
              </a:rPr>
              <a:t>Какой вывод вы можете сделать по лабораторной работе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99640" y="4149360"/>
            <a:ext cx="748188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723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Comic Sans MS"/>
              </a:rPr>
              <a:t>Дайте определения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56908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1. Глобус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2. Контурная карт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3. Экватор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4. Меридиан, 5. Параллель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6. Географические координаты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7. Широт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8. Долгота, 9. Полюс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2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72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72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72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72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72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72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472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440"/>
                            </p:stCondLst>
                            <p:childTnLst>
                              <p:par>
                                <p:cTn id="13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7440"/>
                            </p:stCondLst>
                            <p:childTnLst>
                              <p:par>
                                <p:cTn id="1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9440"/>
                            </p:stCondLst>
                            <p:childTnLst>
                              <p:par>
                                <p:cTn id="1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1440"/>
                            </p:stCondLst>
                            <p:childTnLst>
                              <p:par>
                                <p:cTn id="1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3440"/>
                            </p:stCondLst>
                            <p:childTnLst>
                              <p:par>
                                <p:cTn id="1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440"/>
                            </p:stCondLst>
                            <p:childTnLst>
                              <p:par>
                                <p:cTn id="1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7440"/>
                            </p:stCondLst>
                            <p:childTnLst>
                              <p:par>
                                <p:cTn id="1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2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11:42:17Z</dcterms:created>
  <dc:creator>Wadimus</dc:creator>
  <dc:description/>
  <dc:language>en-US</dc:language>
  <cp:lastModifiedBy>Wadimus</cp:lastModifiedBy>
  <dcterms:modified xsi:type="dcterms:W3CDTF">2008-09-27T15:19:04Z</dcterms:modified>
  <cp:revision>6</cp:revision>
  <dc:subject/>
  <dc:title> Лабораторная рабо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40000000000010243100207f6000400038000</vt:lpwstr>
  </property>
  <property fmtid="{D5CDD505-2E9C-101B-9397-08002B2CF9AE}" pid="3" name="Version">
    <vt:r8>6</vt:r8>
  </property>
</Properties>
</file>