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D69-F7DB-4CB4-9273-5D934EDF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9F9-4009-49D3-83B3-885359C5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827-6EDF-4778-AA46-566C9633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8AF-9F9A-4313-A428-F4FAB2B7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6770-6F04-4E59-9F8B-9EF52912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297B-32F2-492C-B407-32A782C9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F165-9C9D-43CC-8C72-E4C1E73E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E842-D944-4699-9544-B020DCFE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37DB-1E34-4B26-B6FA-BF93CF08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E7E9-D8A8-4E6A-BC61-1898DDEF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02AF-DAFE-4261-A2F2-86DC1220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4F1-A675-45D6-ABAA-53700EAE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82BA-B9B9-48B0-91DF-F4E2DB84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CB7A-E412-4585-8AA2-88E7AFDD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4367-40BA-4395-93B6-4BDC3C06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4778-16BF-4F8E-B97F-F402F45F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B34F-B63E-4BE0-9E39-23A167B5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773E-E00B-41AF-BAA1-595E452F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FAE-EF9C-47CF-80FF-0D020680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485-0AC2-40C3-ACDF-C5F35606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225-F705-4C40-90A4-B514B128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603-F6F9-4215-BBB5-2851AF65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A52-DFC4-4685-86F6-A5A80EC1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312-5096-4341-962A-19D9DDBE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C118-611D-4F3A-99EB-EE8DF3B9169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0D69-EC22-4921-94E7-649E7B48F96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Земля – наш дом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40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5256000" cy="2017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Лабораторная 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работа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95280" y="3068640"/>
            <a:ext cx="8353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Определение экватора, полюсов, меридианов с использованием глобус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Дайте определения:глобус,</a:t>
            </a: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экватор, меридиан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2592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632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Определение географических координа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547640" y="2421000"/>
            <a:ext cx="2448000" cy="2520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05320" y="2476440"/>
            <a:ext cx="2381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19280" y="95400"/>
            <a:ext cx="5761080" cy="7078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800" y="151920"/>
            <a:ext cx="7696080" cy="5334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597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Comic Sans MS"/>
              </a:rPr>
              <a:t>Какой вывод вы можете сделать по лабораторной работе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4149360"/>
            <a:ext cx="748188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723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Comic Sans MS"/>
              </a:rPr>
              <a:t>Дайте определения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56908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1. Глобус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2. Контурная карт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3. Экватор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4. Меридиан, 5. Параллель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6. Географические координат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7. Широт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8. Долгота, 9. Полюс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2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72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72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72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72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72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72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472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440"/>
                            </p:stCondLst>
                            <p:childTnLst>
                              <p:par>
                                <p:cTn id="1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7440"/>
                            </p:stCondLst>
                            <p:childTnLst>
                              <p:par>
                                <p:cTn id="1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9440"/>
                            </p:stCondLst>
                            <p:childTnLst>
                              <p:par>
                                <p:cTn id="1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1440"/>
                            </p:stCondLst>
                            <p:childTnLst>
                              <p:par>
                                <p:cTn id="1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3440"/>
                            </p:stCondLst>
                            <p:childTnLst>
                              <p:par>
                                <p:cTn id="1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440"/>
                            </p:stCondLst>
                            <p:childTnLst>
                              <p:par>
                                <p:cTn id="1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7440"/>
                            </p:stCondLst>
                            <p:childTnLst>
                              <p:par>
                                <p:cTn id="1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1:42:17Z</dcterms:created>
  <dc:creator>Wadimus</dc:creator>
  <dc:description/>
  <dc:language>en-US</dc:language>
  <cp:lastModifiedBy>Wadimus</cp:lastModifiedBy>
  <dcterms:modified xsi:type="dcterms:W3CDTF">2008-09-27T15:19:04Z</dcterms:modified>
  <cp:revision>6</cp:revision>
  <dc:subject/>
  <dc:title> Лабораторная рабо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40000000000010243100207f6000400038000</vt:lpwstr>
  </property>
  <property fmtid="{D5CDD505-2E9C-101B-9397-08002B2CF9AE}" pid="3" name="Version">
    <vt:r8>6</vt:r8>
  </property>
</Properties>
</file>