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155-10CE-4E79-8101-3AB0B1DBA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BBD-B715-4EE2-9E4E-A4287C372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012-B005-498E-8B63-E72C69513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229-6EF2-419F-BB07-9FB878260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189-694A-4781-AB74-0EF05160D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2A6-E184-47D1-85E0-326E28AF1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3AB-B8F9-4C0F-9307-1D6BD53F4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14E-CD55-4A70-AD21-AB58C2005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3B4-9FEF-4FDB-811D-19F78CFA4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DD65-2FE4-445B-8A44-C418FF777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02D-119E-4748-AFA0-28F86A8C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104-C6ED-4301-975E-B52D5FFD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9F3-74B1-4A87-8CE6-20C2FA6F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483-F3C2-417C-905D-1DBE05ED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AD52-6040-48DB-AD9F-D0E78208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C10-D24C-4C4C-952B-FD814EC3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492-B799-40DD-B60D-64755C9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988-FAEB-488C-B696-7C09CB1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F8D-DF53-4AB6-9679-2CFA59D8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86BF-C573-4916-B5D5-1CF3F01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700-0A2F-41F8-9B5C-E210B0B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CB2-5D72-42F4-83C1-99FE3B4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22D-69A4-4E36-A975-0B20194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F069-362B-4FD9-B4A8-22D9A57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1CB-158A-4F07-A0D4-72D97DA7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703-9FDF-42D7-BD11-296846A7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F81-1A4B-4DF1-A4A4-40D79C50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56E-F129-4DE0-B9ED-016217F8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0CA-8F8A-4507-AC49-761B720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B72-2D6D-4C0D-ACB3-6DDA616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663-1235-44E9-B8A1-A2AE1075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D58-4239-4110-A849-946BE95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3B1-D732-4A67-B1D1-024F5BA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087-AB81-4E8C-89C2-847E321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1CE4-EA40-4575-93D5-FB168F8735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A87-E231-498E-8C52-1FC92EDDBE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3/37/Flag_of_NATO.sv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Europe.svg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Comecon.sv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128030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1066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075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32901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551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74070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3651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667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ice5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068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fin3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nor1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pol5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int8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nor4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rom1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dun5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int7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ger7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nor5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rus26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ger2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ita2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1108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вропейская моза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5"/>
          <p:cNvSpPr/>
          <p:nvPr/>
        </p:nvSpPr>
        <p:spPr>
          <a:xfrm>
            <a:off x="1403280" y="170028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рубежн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роп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используя материал учебника на странице 6 составьте сх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2556000" y="1413000"/>
            <a:ext cx="396072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государств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971640" y="2421000"/>
            <a:ext cx="230508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5651640" y="2421000"/>
            <a:ext cx="230508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788000" y="3573360"/>
            <a:ext cx="18716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7020000" y="3573360"/>
            <a:ext cx="180000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11"/>
          <p:cNvCxnSpPr/>
          <p:nvPr/>
        </p:nvCxnSpPr>
        <p:spPr>
          <a:xfrm>
            <a:off x="5795640" y="2276640"/>
            <a:ext cx="36108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Прямая со стрелкой 13"/>
          <p:cNvCxnSpPr/>
          <p:nvPr/>
        </p:nvCxnSpPr>
        <p:spPr>
          <a:xfrm flipH="1">
            <a:off x="2484000" y="2276640"/>
            <a:ext cx="43272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17"/>
          <p:cNvCxnSpPr/>
          <p:nvPr/>
        </p:nvCxnSpPr>
        <p:spPr>
          <a:xfrm flipH="1">
            <a:off x="6084000" y="3283560"/>
            <a:ext cx="2883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3" name="Прямая со стрелкой 19"/>
          <p:cNvCxnSpPr/>
          <p:nvPr/>
        </p:nvCxnSpPr>
        <p:spPr>
          <a:xfrm>
            <a:off x="7380360" y="3284280"/>
            <a:ext cx="28800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2247840" cy="15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Пользователь\Рабочий стол\и.gif"/>
          <p:cNvPicPr/>
          <p:nvPr/>
        </p:nvPicPr>
        <p:blipFill>
          <a:blip r:embed="rId2"/>
          <a:stretch/>
        </p:blipFill>
        <p:spPr>
          <a:xfrm>
            <a:off x="826920" y="4149720"/>
            <a:ext cx="282924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икрогосударства Евро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ксембур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дорра (468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та (316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хтенштейн (Княжество Лихтенштейн)(157км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-Марино (61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ако (1,95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тикан (0,44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веренный Мальтийский орден (сегодняшняя территория древнего государства - всего один особняк в Рим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24000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64000" y="12682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тощены, приво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1844640"/>
          <a:ext cx="8496360" cy="4597560"/>
        </p:xfrm>
        <a:graphic>
          <a:graphicData uri="http://schemas.openxmlformats.org/drawingml/2006/table">
            <a:tbl>
              <a:tblPr/>
              <a:tblGrid>
                <a:gridCol w="3311640"/>
                <a:gridCol w="518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, Великобритан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 и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, Норве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ная р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, Венгрия, Бель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евые ру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Гр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ая 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30"/>
          <p:cNvSpPr/>
          <p:nvPr/>
        </p:nvSpPr>
        <p:spPr>
          <a:xfrm>
            <a:off x="68436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инер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55840" cy="13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24000" y="1766880"/>
          <a:ext cx="8569080" cy="4830840"/>
        </p:xfrm>
        <a:graphic>
          <a:graphicData uri="http://schemas.openxmlformats.org/drawingml/2006/table">
            <a:tbl>
              <a:tblPr/>
              <a:tblGrid>
                <a:gridCol w="3728880"/>
                <a:gridCol w="484020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, Шв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нляндия без леса, что медведь без шер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и восточ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ая, восточ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юж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оклима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еверной Европы – культуры умеренного пояса и теплолюбивые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реацио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семе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5"/>
          <p:cNvSpPr/>
          <p:nvPr/>
        </p:nvSpPr>
        <p:spPr>
          <a:xfrm>
            <a:off x="1547640" y="333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ие природные условия и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9656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ологическая ситуация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храна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4654440" cy="612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38472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33600" cy="5000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067280" y="1890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3313080" cy="300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5175360" y="3860640"/>
            <a:ext cx="35845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66704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2800080" cy="386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6300720" y="4005360"/>
            <a:ext cx="2548080" cy="254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3564000" y="4365720"/>
            <a:ext cx="257328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текст учебника, с.6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ликовые государства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ы Всемирного наследия на территории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1164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7"/>
          <p:cNvSpPr/>
          <p:nvPr/>
        </p:nvSpPr>
        <p:spPr>
          <a:xfrm flipV="1">
            <a:off x="5724360" y="1773360"/>
            <a:ext cx="100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 flipV="1">
            <a:off x="2411280" y="184464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716360" y="3716280"/>
            <a:ext cx="208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476280"/>
            <a:ext cx="266544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4 млн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796000" y="476280"/>
            <a:ext cx="251928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0 млн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716360" y="4653000"/>
            <a:ext cx="4176720" cy="12970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 суверенн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280836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7" descr="C:\Documents and Settings\Пользователь\Рабочий стол\Europe.png"/>
          <p:cNvPicPr/>
          <p:nvPr/>
        </p:nvPicPr>
        <p:blipFill>
          <a:blip r:embed="rId2"/>
          <a:stretch/>
        </p:blipFill>
        <p:spPr>
          <a:xfrm>
            <a:off x="3564000" y="1916280"/>
            <a:ext cx="2360520" cy="23605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468360" y="263700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убеж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ин из очагов мировой цивил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промышленных переворо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городских агломер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международной экономической интег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300720" y="488952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7" descr="Физическая карта Европы"/>
          <p:cNvPicPr/>
          <p:nvPr/>
        </p:nvPicPr>
        <p:blipFill>
          <a:blip r:embed="rId1"/>
          <a:stretch/>
        </p:blipFill>
        <p:spPr>
          <a:xfrm>
            <a:off x="179280" y="692280"/>
            <a:ext cx="496440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844560" y="189000"/>
            <a:ext cx="753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кономико-географическое положен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5854680" y="836640"/>
            <a:ext cx="2462400" cy="627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ЭГ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209560" y="1844640"/>
            <a:ext cx="2721240" cy="368280"/>
          </a:xfrm>
          <a:prstGeom prst="rect">
            <a:avLst/>
          </a:prstGeom>
          <a:solidFill>
            <a:srgbClr val="ff9900">
              <a:alpha val="32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ор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09280" y="2421000"/>
            <a:ext cx="3285000" cy="368280"/>
          </a:xfrm>
          <a:prstGeom prst="rect">
            <a:avLst/>
          </a:prstGeom>
          <a:solidFill>
            <a:srgbClr val="66ffff">
              <a:alpha val="47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актность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714760" y="1143000"/>
            <a:ext cx="142920" cy="419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 rot="16200000">
            <a:off x="2119320" y="1823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1214280" y="3276720"/>
            <a:ext cx="285768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 rot="20005800">
            <a:off x="1244880" y="4176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14560" y="2997360"/>
            <a:ext cx="3391920" cy="1191240"/>
          </a:xfrm>
          <a:prstGeom prst="rect">
            <a:avLst/>
          </a:prstGeom>
          <a:solidFill>
            <a:srgbClr val="993300">
              <a:alpha val="23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сутствие круп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пятствий , изрез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р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 rot="5446200">
            <a:off x="7449120" y="4115160"/>
            <a:ext cx="223560" cy="1714680"/>
          </a:xfrm>
          <a:custGeom>
            <a:avLst/>
            <a:gdLst>
              <a:gd name="textAreaLeft" fmla="*/ 0 w 223560"/>
              <a:gd name="textAreaRight" fmla="*/ 80640 w 2235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431680" y="4718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219640" y="5229360"/>
            <a:ext cx="37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ГП благоприятствует торг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язям со всеми странами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ованию богатств мор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706896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7068960" y="1628640"/>
            <a:ext cx="9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801360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8013600" y="20606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85550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1611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о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гионы Зарубежной Евро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16000" y="981000"/>
            <a:ext cx="684072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В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84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А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78800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Т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948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332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348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5651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667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50920" y="2997360"/>
            <a:ext cx="1873080" cy="3240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кобр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ст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в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в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84360" y="2997360"/>
            <a:ext cx="1873440" cy="3240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с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ь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ксем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дерл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4788000" y="2997360"/>
            <a:ext cx="1873080" cy="3240000"/>
          </a:xfrm>
          <a:prstGeom prst="rect">
            <a:avLst/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г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нг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ь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мы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Че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6948360" y="2997360"/>
            <a:ext cx="1873440" cy="324000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б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с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Герцегов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рв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г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ед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ь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ортуг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06728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аксаковский В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410544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ТО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(Североатлантическая договорная организаци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67280" y="83628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енный союз членами которого являются в основном страны Европы, а также США и Кана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валась как организация для сплочения западноевропейских стран под командованием США против СССР и его союз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ой организации является договор о коллективной обороне в случае нападения на любое из государств-чл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Изображение:Flag of NATO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43280" y="1412640"/>
            <a:ext cx="630072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вропей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Экономиче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общество (Евросою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27 европейских государств, подписавш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говор о Европейском союз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Маастрихтский догово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кальное международное образование: сочетает признаки международной организации и государства, но формально не является ни тем, ни друг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убъектом международного публичного права, однако имеет полномочия на участие в международных отношениях и играет в них немалую ро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Флаг Евросою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2881080" cy="1920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вет Экономической Взаимопомощи (СЭ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правительственная экономическая организация, созданная по решению экономического совещания представителей Болгарии, Венгрии, Польши, Румынии, СССР и Чехословак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В cозд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, но по-настоящему активная его деятельность началась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, когда руководство СССР пыталось сделать СЭВ своего рода социалистической альтернативой ЕЭ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 СЭВ был распущен в 199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аб-квартира СЭВ находилась в Моск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210px-Flag_of_Come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Политическая карта Европы 1914 г"/>
          <p:cNvPicPr/>
          <p:nvPr/>
        </p:nvPicPr>
        <p:blipFill>
          <a:blip r:embed="rId1"/>
          <a:stretch/>
        </p:blipFill>
        <p:spPr>
          <a:xfrm>
            <a:off x="71280" y="304920"/>
            <a:ext cx="4572000" cy="580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Политическая карта Европы 1938 г"/>
          <p:cNvPicPr/>
          <p:nvPr/>
        </p:nvPicPr>
        <p:blipFill>
          <a:blip r:embed="rId2"/>
          <a:stretch/>
        </p:blipFill>
        <p:spPr>
          <a:xfrm>
            <a:off x="4572000" y="304920"/>
            <a:ext cx="44751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1280" y="76320"/>
            <a:ext cx="84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ЗМЕНЕНИЯ НА ПОЛИТИЧЕСКОЙ КАР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ВРОПЫ 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ХХ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В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2920" y="60310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уйте  карты.   Какие  видимые изменения произошли на политической карте Европы  с  1914  по 1938 гг.  Сравните карту Европы 1938 года с современной политической картой мира в атласе и найдите не менее 4-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60336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ИЗМЕНЕНИЯ НА ПОЛИТИЧЕСКОЙ КАРТЕ ЕВРОПЫ В ХХ ВЕКЕ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6:07:50Z</dcterms:created>
  <dc:creator>user</dc:creator>
  <dc:description/>
  <dc:language>en-US</dc:language>
  <cp:lastModifiedBy>user</cp:lastModifiedBy>
  <dcterms:modified xsi:type="dcterms:W3CDTF">2010-09-05T10:45:21Z</dcterms:modified>
  <cp:revision>21</cp:revision>
  <dc:subject/>
  <dc:title>Power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2000000000001024140</vt:lpwstr>
  </property>
</Properties>
</file>