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34.png" ContentType="image/png"/>
  <Override PartName="/ppt/media/image12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C7A9-3875-4D0A-868F-47B326C086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305B-1D88-41A2-B8C3-C11B7829D5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015D-740A-48B4-A165-1110B46387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F6CB-2D63-4E87-A222-B8CD4D202A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2189-7420-470D-8078-5B27876D2A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1DC4-5569-4A75-8BD3-4464151442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1487-F528-4FCB-9CC6-2C6A92B279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AC72-18C0-4641-AA86-A70C529A92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6916-CE9B-4615-83CB-140F02E4E0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B6B4-1C6C-45AE-9452-CDBAE58F5F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1F70-3C8D-4C21-867D-6D662DAF8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3363-8054-4529-B318-302BB19B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3748-4505-442E-A04F-7000A19F1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1AE5-3B17-4881-8BAB-B456374A9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52B4-9897-4192-A24F-AD81D2E25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F718-D1FD-4A31-8B7C-627A9457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1049-9977-49C1-9E6D-43F350E7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8EE6-278A-4A1C-94FC-0204A8D8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F807-1528-4128-8B03-F37BDC1A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C973-9D1B-4913-BE96-8E360240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0B43-6CF0-4B54-AA9F-562AB2BC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0103-C66B-4DD2-AEC3-FBD68DFC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29F6-833B-47FE-95E5-1C2863C7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3EA5-0B79-4727-B17A-81EEBD8E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A5BE-D0ED-493B-AF66-E6EEDCDD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7A32-DC1E-4205-BAF9-4B35A9561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F57C-6B22-4CD0-A410-101AFE217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2163-6B63-4B5D-AFBD-103F5701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200C-A33A-46F4-98EF-09718CA6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25FD-ECD7-49BD-B756-FA1C1280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B336-58CE-4745-83C5-16FDB180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8794-326E-4AD1-9CAB-5872CA46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279C-AD3C-46FF-916E-5DA9A647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FEEC-8149-4301-B297-27B8362E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Company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25F9-285B-4076-8A1B-5FD9CC45FB5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F9E2-9483-48F9-AA37-1ABDAD7F727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ru/3/37/Flag_of_NATO.svg" TargetMode="Externa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Flag_of_Europe.svg" TargetMode="External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Flag_of_Comecon.svg" TargetMode="External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128030"/>
          <p:cNvPicPr/>
          <p:nvPr/>
        </p:nvPicPr>
        <p:blipFill>
          <a:blip r:embed="rId1"/>
          <a:stretch/>
        </p:blipFill>
        <p:spPr>
          <a:xfrm>
            <a:off x="4572000" y="1143000"/>
            <a:ext cx="2971800" cy="1946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1066"/>
          <p:cNvPicPr/>
          <p:nvPr/>
        </p:nvPicPr>
        <p:blipFill>
          <a:blip r:embed="rId2"/>
          <a:stretch/>
        </p:blipFill>
        <p:spPr>
          <a:xfrm>
            <a:off x="5334120" y="4572000"/>
            <a:ext cx="3047760" cy="2048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1075"/>
          <p:cNvPicPr/>
          <p:nvPr/>
        </p:nvPicPr>
        <p:blipFill>
          <a:blip r:embed="rId3"/>
          <a:stretch/>
        </p:blipFill>
        <p:spPr>
          <a:xfrm>
            <a:off x="2666880" y="4508640"/>
            <a:ext cx="2667240" cy="2303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132901"/>
          <p:cNvPicPr/>
          <p:nvPr/>
        </p:nvPicPr>
        <p:blipFill>
          <a:blip r:embed="rId4"/>
          <a:stretch/>
        </p:blipFill>
        <p:spPr>
          <a:xfrm>
            <a:off x="6259680" y="189000"/>
            <a:ext cx="2590560" cy="2590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1551"/>
          <p:cNvPicPr/>
          <p:nvPr/>
        </p:nvPicPr>
        <p:blipFill>
          <a:blip r:embed="rId5"/>
          <a:stretch/>
        </p:blipFill>
        <p:spPr>
          <a:xfrm>
            <a:off x="82440" y="4724280"/>
            <a:ext cx="2667240" cy="2021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274070"/>
          <p:cNvPicPr/>
          <p:nvPr/>
        </p:nvPicPr>
        <p:blipFill>
          <a:blip r:embed="rId6"/>
          <a:stretch/>
        </p:blipFill>
        <p:spPr>
          <a:xfrm>
            <a:off x="6732720" y="2590920"/>
            <a:ext cx="2361960" cy="1638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3651"/>
          <p:cNvPicPr/>
          <p:nvPr/>
        </p:nvPicPr>
        <p:blipFill>
          <a:blip r:embed="rId7"/>
          <a:stretch/>
        </p:blipFill>
        <p:spPr>
          <a:xfrm>
            <a:off x="125280" y="3159000"/>
            <a:ext cx="2894040" cy="1946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667"/>
          <p:cNvPicPr/>
          <p:nvPr/>
        </p:nvPicPr>
        <p:blipFill>
          <a:blip r:embed="rId8"/>
          <a:stretch/>
        </p:blipFill>
        <p:spPr>
          <a:xfrm>
            <a:off x="1370160" y="2209680"/>
            <a:ext cx="1355400" cy="1600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ice5"/>
          <p:cNvPicPr/>
          <p:nvPr/>
        </p:nvPicPr>
        <p:blipFill>
          <a:blip r:embed="rId9"/>
          <a:stretch/>
        </p:blipFill>
        <p:spPr>
          <a:xfrm>
            <a:off x="534960" y="304920"/>
            <a:ext cx="2208240" cy="1657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1068"/>
          <p:cNvPicPr/>
          <p:nvPr/>
        </p:nvPicPr>
        <p:blipFill>
          <a:blip r:embed="rId10"/>
          <a:stretch/>
        </p:blipFill>
        <p:spPr>
          <a:xfrm>
            <a:off x="4952880" y="5589720"/>
            <a:ext cx="1751040" cy="121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fin3"/>
          <p:cNvPicPr/>
          <p:nvPr/>
        </p:nvPicPr>
        <p:blipFill>
          <a:blip r:embed="rId11"/>
          <a:stretch/>
        </p:blipFill>
        <p:spPr>
          <a:xfrm>
            <a:off x="2817720" y="26028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nor1"/>
          <p:cNvPicPr/>
          <p:nvPr/>
        </p:nvPicPr>
        <p:blipFill>
          <a:blip r:embed="rId12"/>
          <a:stretch/>
        </p:blipFill>
        <p:spPr>
          <a:xfrm>
            <a:off x="2743200" y="1066680"/>
            <a:ext cx="1905120" cy="1390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7" descr="pol5"/>
          <p:cNvPicPr/>
          <p:nvPr/>
        </p:nvPicPr>
        <p:blipFill>
          <a:blip r:embed="rId13"/>
          <a:stretch/>
        </p:blipFill>
        <p:spPr>
          <a:xfrm>
            <a:off x="5180040" y="3124080"/>
            <a:ext cx="1677960" cy="1371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9" descr="int8"/>
          <p:cNvPicPr/>
          <p:nvPr/>
        </p:nvPicPr>
        <p:blipFill>
          <a:blip r:embed="rId14"/>
          <a:stretch/>
        </p:blipFill>
        <p:spPr>
          <a:xfrm>
            <a:off x="108000" y="16765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1" descr="nor4"/>
          <p:cNvPicPr/>
          <p:nvPr/>
        </p:nvPicPr>
        <p:blipFill>
          <a:blip r:embed="rId15"/>
          <a:stretch/>
        </p:blipFill>
        <p:spPr>
          <a:xfrm>
            <a:off x="4233960" y="189000"/>
            <a:ext cx="2133360" cy="165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2" descr="rom1"/>
          <p:cNvPicPr/>
          <p:nvPr/>
        </p:nvPicPr>
        <p:blipFill>
          <a:blip r:embed="rId16"/>
          <a:stretch/>
        </p:blipFill>
        <p:spPr>
          <a:xfrm>
            <a:off x="4572000" y="3809880"/>
            <a:ext cx="2362320" cy="1771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3" descr="dun5"/>
          <p:cNvPicPr/>
          <p:nvPr/>
        </p:nvPicPr>
        <p:blipFill>
          <a:blip r:embed="rId17"/>
          <a:stretch/>
        </p:blipFill>
        <p:spPr>
          <a:xfrm>
            <a:off x="4191120" y="25146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5" descr="int7"/>
          <p:cNvPicPr/>
          <p:nvPr/>
        </p:nvPicPr>
        <p:blipFill>
          <a:blip r:embed="rId18"/>
          <a:stretch/>
        </p:blipFill>
        <p:spPr>
          <a:xfrm>
            <a:off x="5854680" y="3048120"/>
            <a:ext cx="3201840" cy="2438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6" descr="ger7"/>
          <p:cNvPicPr/>
          <p:nvPr/>
        </p:nvPicPr>
        <p:blipFill>
          <a:blip r:embed="rId19"/>
          <a:stretch/>
        </p:blipFill>
        <p:spPr>
          <a:xfrm>
            <a:off x="6124680" y="4653000"/>
            <a:ext cx="2971800" cy="2133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7" descr="nor5"/>
          <p:cNvPicPr/>
          <p:nvPr/>
        </p:nvPicPr>
        <p:blipFill>
          <a:blip r:embed="rId20"/>
          <a:stretch/>
        </p:blipFill>
        <p:spPr>
          <a:xfrm>
            <a:off x="1600200" y="4365720"/>
            <a:ext cx="3506760" cy="2361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8" descr="rus26"/>
          <p:cNvPicPr/>
          <p:nvPr/>
        </p:nvPicPr>
        <p:blipFill>
          <a:blip r:embed="rId21"/>
          <a:stretch/>
        </p:blipFill>
        <p:spPr>
          <a:xfrm>
            <a:off x="5450040" y="1890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4" descr="ger2"/>
          <p:cNvPicPr/>
          <p:nvPr/>
        </p:nvPicPr>
        <p:blipFill>
          <a:blip r:embed="rId22"/>
          <a:stretch/>
        </p:blipFill>
        <p:spPr>
          <a:xfrm>
            <a:off x="2894040" y="2971800"/>
            <a:ext cx="2363760" cy="1771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0" descr="ita2"/>
          <p:cNvPicPr/>
          <p:nvPr/>
        </p:nvPicPr>
        <p:blipFill>
          <a:blip r:embed="rId23"/>
          <a:stretch/>
        </p:blipFill>
        <p:spPr>
          <a:xfrm>
            <a:off x="2286000" y="2057400"/>
            <a:ext cx="2440080" cy="16621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11080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Европейская моза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25"/>
          <p:cNvSpPr/>
          <p:nvPr/>
        </p:nvSpPr>
        <p:spPr>
          <a:xfrm>
            <a:off x="1403280" y="1700280"/>
            <a:ext cx="6481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рубежна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вроп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0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7000"/>
                            </p:stCondLst>
                            <p:childTnLst>
                              <p:par>
                                <p:cTn id="6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9000"/>
                            </p:stCondLst>
                            <p:childTnLst>
                              <p:par>
                                <p:cTn id="7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1000"/>
                            </p:stCondLst>
                            <p:childTnLst>
                              <p:par>
                                <p:cTn id="8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3000"/>
                            </p:stCondLst>
                            <p:childTnLst>
                              <p:par>
                                <p:cTn id="8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0"/>
                            </p:stCondLst>
                            <p:childTnLst>
                              <p:par>
                                <p:cTn id="9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8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30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4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6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7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9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е: используя материал учебника на странице 6 составьте схем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ик 5"/>
          <p:cNvSpPr/>
          <p:nvPr/>
        </p:nvSpPr>
        <p:spPr>
          <a:xfrm>
            <a:off x="2556000" y="1413000"/>
            <a:ext cx="3960720" cy="792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го государств в Евро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6"/>
          <p:cNvSpPr/>
          <p:nvPr/>
        </p:nvSpPr>
        <p:spPr>
          <a:xfrm>
            <a:off x="971640" y="2421000"/>
            <a:ext cx="2305080" cy="1368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спубл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? (количеств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ме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5651640" y="2421000"/>
            <a:ext cx="2305080" cy="792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нарх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? (количеств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4788000" y="3573360"/>
            <a:ext cx="1871640" cy="1224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ид монарх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личество ст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9"/>
          <p:cNvSpPr/>
          <p:nvPr/>
        </p:nvSpPr>
        <p:spPr>
          <a:xfrm>
            <a:off x="7020000" y="3573360"/>
            <a:ext cx="1800000" cy="1224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ид монарх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личество ст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Прямая со стрелкой 11"/>
          <p:cNvCxnSpPr/>
          <p:nvPr/>
        </p:nvCxnSpPr>
        <p:spPr>
          <a:xfrm>
            <a:off x="5795640" y="2276640"/>
            <a:ext cx="361080" cy="73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1" name="Прямая со стрелкой 13"/>
          <p:cNvCxnSpPr/>
          <p:nvPr/>
        </p:nvCxnSpPr>
        <p:spPr>
          <a:xfrm flipH="1">
            <a:off x="2484000" y="2276640"/>
            <a:ext cx="432720" cy="73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2" name="Прямая со стрелкой 17"/>
          <p:cNvCxnSpPr/>
          <p:nvPr/>
        </p:nvCxnSpPr>
        <p:spPr>
          <a:xfrm flipH="1">
            <a:off x="6084000" y="3283560"/>
            <a:ext cx="288360" cy="21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3" name="Прямая со стрелкой 19"/>
          <p:cNvCxnSpPr/>
          <p:nvPr/>
        </p:nvCxnSpPr>
        <p:spPr>
          <a:xfrm>
            <a:off x="7380360" y="3284280"/>
            <a:ext cx="288000" cy="21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5796000" y="5013360"/>
            <a:ext cx="2247840" cy="1585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C:\Documents and Settings\Пользователь\Рабочий стол\и.gif"/>
          <p:cNvPicPr/>
          <p:nvPr/>
        </p:nvPicPr>
        <p:blipFill>
          <a:blip r:embed="rId2"/>
          <a:stretch/>
        </p:blipFill>
        <p:spPr>
          <a:xfrm>
            <a:off x="826920" y="4149720"/>
            <a:ext cx="2829240" cy="22716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Микрогосударства Европ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6560" y="1125000"/>
            <a:ext cx="7859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юксембург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дорра (468 км²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льта (316 км²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хтенштейн (Княжество Лихтенштейн)(157км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н-Марино (61 км²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ако (1,95 км²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тикан (0,44 км²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веренный Мальтийский орден (сегодняшняя территория древнего государства - всего один особняк в Риме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12" descr=""/>
          <p:cNvPicPr/>
          <p:nvPr/>
        </p:nvPicPr>
        <p:blipFill>
          <a:blip r:embed="rId1"/>
          <a:stretch/>
        </p:blipFill>
        <p:spPr>
          <a:xfrm>
            <a:off x="5292720" y="1125360"/>
            <a:ext cx="3240000" cy="36388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езные ископаем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564000" y="12682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истощены, привоз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95280" y="1844640"/>
          <a:ext cx="8496360" cy="4597560"/>
        </p:xfrm>
        <a:graphic>
          <a:graphicData uri="http://schemas.openxmlformats.org/drawingml/2006/table">
            <a:tbl>
              <a:tblPr/>
              <a:tblGrid>
                <a:gridCol w="3311640"/>
                <a:gridCol w="5184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мания, Великобритания, Поль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ть и г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кобритания, Норвег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езная ру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веция, Венгрия, Бельг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юминиевые ру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анция, Гре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менная со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анция, Поль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sp>
        <p:nvSpPr>
          <p:cNvPr id="192" name="Text Box 30"/>
          <p:cNvSpPr/>
          <p:nvPr/>
        </p:nvSpPr>
        <p:spPr>
          <a:xfrm>
            <a:off x="684360" y="1125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инер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455840" cy="1392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circl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324000" y="1766880"/>
          <a:ext cx="8569080" cy="4830840"/>
        </p:xfrm>
        <a:graphic>
          <a:graphicData uri="http://schemas.openxmlformats.org/drawingml/2006/table">
            <a:tbl>
              <a:tblPr/>
              <a:tblGrid>
                <a:gridCol w="3728880"/>
                <a:gridCol w="4840200"/>
              </a:tblGrid>
              <a:tr h="112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с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ляндия, Шве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Финляндия без леса, что медведь без шерст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верная и восточная Евро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мель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дная, восточ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южная Евро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роклиматическ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оме северной Европы – культуры умеренного пояса и теплолюбивые куль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реацион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семест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</a:tbl>
          </a:graphicData>
        </a:graphic>
      </p:graphicFrame>
      <p:sp>
        <p:nvSpPr>
          <p:cNvPr id="195" name="Text Box 25"/>
          <p:cNvSpPr/>
          <p:nvPr/>
        </p:nvSpPr>
        <p:spPr>
          <a:xfrm>
            <a:off x="1547640" y="33336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ругие природные условия и ресур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1965600" cy="14731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46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кологическая ситуация.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Охрана прир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4284720" y="404640"/>
            <a:ext cx="4654440" cy="6120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539640" y="2205000"/>
            <a:ext cx="3384720" cy="34941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3333600" cy="5000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4067280" y="189000"/>
            <a:ext cx="4805280" cy="36036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"/>
          <p:cNvPicPr/>
          <p:nvPr/>
        </p:nvPicPr>
        <p:blipFill>
          <a:blip r:embed="rId3"/>
          <a:stretch/>
        </p:blipFill>
        <p:spPr>
          <a:xfrm>
            <a:off x="1763640" y="3645000"/>
            <a:ext cx="3313080" cy="30081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"/>
          <p:cNvPicPr/>
          <p:nvPr/>
        </p:nvPicPr>
        <p:blipFill>
          <a:blip r:embed="rId4"/>
          <a:stretch/>
        </p:blipFill>
        <p:spPr>
          <a:xfrm>
            <a:off x="5175360" y="3860640"/>
            <a:ext cx="3584520" cy="27370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755640" y="4005360"/>
            <a:ext cx="2664000" cy="2663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"/>
          <p:cNvPicPr/>
          <p:nvPr/>
        </p:nvPicPr>
        <p:blipFill>
          <a:blip r:embed="rId2"/>
          <a:stretch/>
        </p:blipFill>
        <p:spPr>
          <a:xfrm>
            <a:off x="3780000" y="260280"/>
            <a:ext cx="4667040" cy="35053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3"/>
          <a:stretch/>
        </p:blipFill>
        <p:spPr>
          <a:xfrm>
            <a:off x="684360" y="189000"/>
            <a:ext cx="2800080" cy="38671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"/>
          <p:cNvPicPr/>
          <p:nvPr/>
        </p:nvPicPr>
        <p:blipFill>
          <a:blip r:embed="rId4"/>
          <a:stretch/>
        </p:blipFill>
        <p:spPr>
          <a:xfrm>
            <a:off x="6300720" y="4005360"/>
            <a:ext cx="2548080" cy="2547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5"/>
          <a:stretch/>
        </p:blipFill>
        <p:spPr>
          <a:xfrm>
            <a:off x="3564000" y="4365720"/>
            <a:ext cx="2573280" cy="19303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читать текст учебника, с.6-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общ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рликовые государства Европ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ъекты Всемирного наследия на территории Европ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6084720" y="4508640"/>
            <a:ext cx="2116440" cy="19796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7"/>
          <p:cNvSpPr/>
          <p:nvPr/>
        </p:nvSpPr>
        <p:spPr>
          <a:xfrm flipV="1">
            <a:off x="5724360" y="1773360"/>
            <a:ext cx="1008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 flipH="1" flipV="1">
            <a:off x="2411280" y="1844640"/>
            <a:ext cx="1224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"/>
          <p:cNvSpPr/>
          <p:nvPr/>
        </p:nvSpPr>
        <p:spPr>
          <a:xfrm>
            <a:off x="4716360" y="3716280"/>
            <a:ext cx="208764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826920" y="476280"/>
            <a:ext cx="2665440" cy="122400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,4 млн к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5796000" y="476280"/>
            <a:ext cx="2519280" cy="122400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00 млн ч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4716360" y="4653000"/>
            <a:ext cx="4176720" cy="129708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0 суверенных государ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" descr=""/>
          <p:cNvPicPr/>
          <p:nvPr/>
        </p:nvPicPr>
        <p:blipFill>
          <a:blip r:embed="rId1"/>
          <a:stretch/>
        </p:blipFill>
        <p:spPr>
          <a:xfrm>
            <a:off x="468360" y="4149720"/>
            <a:ext cx="2808360" cy="21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1" name="Picture 7" descr="C:\Documents and Settings\Пользователь\Рабочий стол\Europe.png"/>
          <p:cNvPicPr/>
          <p:nvPr/>
        </p:nvPicPr>
        <p:blipFill>
          <a:blip r:embed="rId2"/>
          <a:stretch/>
        </p:blipFill>
        <p:spPr>
          <a:xfrm>
            <a:off x="3564000" y="1916280"/>
            <a:ext cx="2360520" cy="2360520"/>
          </a:xfrm>
          <a:prstGeom prst="rect">
            <a:avLst/>
          </a:prstGeom>
          <a:ln w="0">
            <a:noFill/>
          </a:ln>
        </p:spPr>
      </p:pic>
      <p:sp>
        <p:nvSpPr>
          <p:cNvPr id="122" name="WordArt 6"/>
          <p:cNvSpPr txBox="1"/>
          <p:nvPr/>
        </p:nvSpPr>
        <p:spPr>
          <a:xfrm>
            <a:off x="468360" y="2637000"/>
            <a:ext cx="2879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рубежная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вроп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404640"/>
            <a:ext cx="822960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дин из очагов мировой цивилиз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на Великих географических открыт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дина промышленных переворо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на городских агломерац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на международной экономической интегр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6300720" y="4889520"/>
            <a:ext cx="2624040" cy="19684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7" descr="Физическая карта Европы"/>
          <p:cNvPicPr/>
          <p:nvPr/>
        </p:nvPicPr>
        <p:blipFill>
          <a:blip r:embed="rId1"/>
          <a:stretch/>
        </p:blipFill>
        <p:spPr>
          <a:xfrm>
            <a:off x="179280" y="692280"/>
            <a:ext cx="4964400" cy="56386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2"/>
          <p:cNvSpPr/>
          <p:nvPr/>
        </p:nvSpPr>
        <p:spPr>
          <a:xfrm>
            <a:off x="844560" y="189000"/>
            <a:ext cx="7538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Экономико-географическое положение Евро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5"/>
          <p:cNvSpPr/>
          <p:nvPr/>
        </p:nvSpPr>
        <p:spPr>
          <a:xfrm>
            <a:off x="5854680" y="836640"/>
            <a:ext cx="2462400" cy="62712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енности ЭГ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5209560" y="1844640"/>
            <a:ext cx="2721240" cy="368280"/>
          </a:xfrm>
          <a:prstGeom prst="rect">
            <a:avLst/>
          </a:prstGeom>
          <a:solidFill>
            <a:srgbClr val="ff9900">
              <a:alpha val="32000"/>
            </a:srgbClr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морское по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5309280" y="2421000"/>
            <a:ext cx="3285000" cy="368280"/>
          </a:xfrm>
          <a:prstGeom prst="rect">
            <a:avLst/>
          </a:prstGeom>
          <a:solidFill>
            <a:srgbClr val="66ffff">
              <a:alpha val="47000"/>
            </a:srgbClr>
          </a:solidFill>
          <a:ln w="158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мпактность терри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2714760" y="1143000"/>
            <a:ext cx="142920" cy="4191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 rot="16200000">
            <a:off x="2119320" y="18234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5000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 flipH="1">
            <a:off x="1214280" y="3276720"/>
            <a:ext cx="285768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 rot="20005800">
            <a:off x="1244880" y="41760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000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5614560" y="2997360"/>
            <a:ext cx="3391920" cy="1191240"/>
          </a:xfrm>
          <a:prstGeom prst="rect">
            <a:avLst/>
          </a:prstGeom>
          <a:solidFill>
            <a:srgbClr val="993300">
              <a:alpha val="23000"/>
            </a:srgbClr>
          </a:solidFill>
          <a:ln w="158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тсутствие круп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род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пятствий , изреза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ере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3"/>
          <p:cNvSpPr/>
          <p:nvPr/>
        </p:nvSpPr>
        <p:spPr>
          <a:xfrm rot="5446200">
            <a:off x="7449120" y="4115160"/>
            <a:ext cx="223560" cy="1714680"/>
          </a:xfrm>
          <a:custGeom>
            <a:avLst/>
            <a:gdLst>
              <a:gd name="textAreaLeft" fmla="*/ 0 w 223560"/>
              <a:gd name="textAreaRight" fmla="*/ 80640 w 223560"/>
              <a:gd name="textAreaTop" fmla="*/ 44640 h 1714680"/>
              <a:gd name="textAreaBottom" fmla="*/ 167004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431680" y="4718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ывод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5219640" y="5229360"/>
            <a:ext cx="3756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ГП благоприятствует торгов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вязям со всеми странами ми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спользованию богатств морей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7068960" y="148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0"/>
          <p:cNvSpPr/>
          <p:nvPr/>
        </p:nvSpPr>
        <p:spPr>
          <a:xfrm>
            <a:off x="7068960" y="1628640"/>
            <a:ext cx="94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>
            <a:off x="8013600" y="1628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2"/>
          <p:cNvSpPr/>
          <p:nvPr/>
        </p:nvSpPr>
        <p:spPr>
          <a:xfrm>
            <a:off x="8013600" y="2060640"/>
            <a:ext cx="54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3"/>
          <p:cNvSpPr/>
          <p:nvPr/>
        </p:nvSpPr>
        <p:spPr>
          <a:xfrm>
            <a:off x="8555040" y="2060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1611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еографическое положение Европ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ircl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Регионы Зарубежной Европ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116000" y="981000"/>
            <a:ext cx="6840720" cy="719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РУБЕЖНАЯ ЕВР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250920" y="1989000"/>
            <a:ext cx="1873080" cy="863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ЕВЕ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ВР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2484360" y="1989000"/>
            <a:ext cx="1873440" cy="863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ПАД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ВР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4788000" y="1989000"/>
            <a:ext cx="1873080" cy="863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СТО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ВР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6948360" y="1989000"/>
            <a:ext cx="1873440" cy="863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ЮЖ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ВР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2"/>
          <p:cNvSpPr/>
          <p:nvPr/>
        </p:nvSpPr>
        <p:spPr>
          <a:xfrm>
            <a:off x="1332000" y="1700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3"/>
          <p:cNvSpPr/>
          <p:nvPr/>
        </p:nvSpPr>
        <p:spPr>
          <a:xfrm>
            <a:off x="3348000" y="1700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4"/>
          <p:cNvSpPr/>
          <p:nvPr/>
        </p:nvSpPr>
        <p:spPr>
          <a:xfrm>
            <a:off x="5651640" y="1700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5"/>
          <p:cNvSpPr/>
          <p:nvPr/>
        </p:nvSpPr>
        <p:spPr>
          <a:xfrm>
            <a:off x="7667640" y="1700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250920" y="2997360"/>
            <a:ext cx="1873080" cy="3240000"/>
          </a:xfrm>
          <a:prstGeom prst="rect">
            <a:avLst/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ликобрит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рлан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п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а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сто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рве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нлян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ве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7"/>
          <p:cNvSpPr/>
          <p:nvPr/>
        </p:nvSpPr>
        <p:spPr>
          <a:xfrm>
            <a:off x="2484360" y="2997360"/>
            <a:ext cx="1873440" cy="324000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ст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ель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ерм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юксем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идерлан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ра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Швейц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8"/>
          <p:cNvSpPr/>
          <p:nvPr/>
        </p:nvSpPr>
        <p:spPr>
          <a:xfrm>
            <a:off x="4788000" y="2997360"/>
            <a:ext cx="1873080" cy="3240000"/>
          </a:xfrm>
          <a:prstGeom prst="rect">
            <a:avLst/>
          </a:prstGeom>
          <a:solidFill>
            <a:srgbClr val="ccc1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олга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нг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ьш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умы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овак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Чех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9"/>
          <p:cNvSpPr/>
          <p:nvPr/>
        </p:nvSpPr>
        <p:spPr>
          <a:xfrm>
            <a:off x="6948360" y="2997360"/>
            <a:ext cx="1873440" cy="3240000"/>
          </a:xfrm>
          <a:prstGeom prst="rect">
            <a:avLst/>
          </a:prstGeom>
          <a:solidFill>
            <a:srgbClr val="fcd5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лб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ос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Герцегов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овак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орва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Югосла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е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п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тал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кедо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ль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Португал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4067280" y="630864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Максаковский В.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3573000"/>
            <a:ext cx="4105440" cy="22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НАТО</a:t>
            </a:r>
            <a:br>
              <a:rPr sz="32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(Североатлантическая договорная организация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067280" y="836280"/>
            <a:ext cx="4619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енный союз членами которого являются в основном страны Европы, а также США и Канад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здавалась как организация для сплочения западноевропейских стран под командованием США против СССР и его союз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ой организации является договор о коллективной обороне в случае нападения на любое из государств-член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6" descr="Изображение:Flag of NATO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692280"/>
            <a:ext cx="3529080" cy="26478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843280" y="1412640"/>
            <a:ext cx="630072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Европейское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Экономическое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сообщество (Евросоюз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3068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ъединение 27 европейских государств, подписавших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оговор о Европейском союз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Маастрихтский договор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никальное международное образование: сочетает признаки международной организации и государства, но формально не является ни тем, ни други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является субъектом международного публичного права, однако имеет полномочия на участие в международных отношениях и играет в них немалую рол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5" descr="Флаг Евросоюз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907920"/>
            <a:ext cx="2881080" cy="19209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50560" y="62028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Совет Экономической Взаимопомощи (СЭВ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правительственная экономическая организация, созданная по решению экономического совещания представителей Болгарии, Венгрии, Польши, Румынии, СССР и Чехословак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ЭВ cоздан 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49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году, но по-настоящему активная его деятельность началась окол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6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г., когда руководство СССР пыталось сделать СЭВ своего рода социалистической альтернативой ЕЭ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льно СЭВ был распущен в 1991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таб-квартира СЭВ находилась в Москв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5" descr="210px-Flag_of_Comec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33360"/>
            <a:ext cx="3025800" cy="20178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" descr="Политическая карта Европы 1914 г"/>
          <p:cNvPicPr/>
          <p:nvPr/>
        </p:nvPicPr>
        <p:blipFill>
          <a:blip r:embed="rId1"/>
          <a:stretch/>
        </p:blipFill>
        <p:spPr>
          <a:xfrm>
            <a:off x="71280" y="304920"/>
            <a:ext cx="4572000" cy="5800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Политическая карта Европы 1938 г"/>
          <p:cNvPicPr/>
          <p:nvPr/>
        </p:nvPicPr>
        <p:blipFill>
          <a:blip r:embed="rId2"/>
          <a:stretch/>
        </p:blipFill>
        <p:spPr>
          <a:xfrm>
            <a:off x="4572000" y="304920"/>
            <a:ext cx="4475160" cy="57909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71280" y="76320"/>
            <a:ext cx="84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И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ЗМЕНЕНИЯ НА ПОЛИТИЧЕСКОЙ КАРТЕ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Е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ВРОПЫ В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ХХ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 ВЕ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142920" y="6031080"/>
            <a:ext cx="8858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анализируйте  карты.   Какие  видимые изменения произошли на политической карте Европы  с  1914  по 1938 гг.  Сравните карту Европы 1938 года с современной политической картой мира в атласе и найдите не менее 4-х измен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603360"/>
            <a:ext cx="777240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ИЗМЕНЕНИЯ НА ПОЛИТИЧЕСКОЙ КАРТЕ ЕВРОПЫ В ХХ ВЕКЕ.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6:07:50Z</dcterms:created>
  <dc:creator>user</dc:creator>
  <dc:description/>
  <dc:language>en-US</dc:language>
  <cp:lastModifiedBy>user</cp:lastModifiedBy>
  <dcterms:modified xsi:type="dcterms:W3CDTF">2010-09-05T10:45:21Z</dcterms:modified>
  <cp:revision>21</cp:revision>
  <dc:subject/>
  <dc:title>PowerPoint 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212000000000001024140</vt:lpwstr>
  </property>
</Properties>
</file>