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4328-F3AC-4A86-A5F1-A16F2459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E154-18CD-472E-AB13-43E73092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CD30-AA5E-4852-A1F7-72E00B53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2300-AEC3-43E6-B61D-C96E940A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7D4F-8FAC-458A-BE71-E3843E03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B063-B876-464B-B610-05C4FDA2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8015-DAC3-4646-B1F0-94C2CCFB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2BAE-3700-4F42-AA3D-C5384D55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320F-8A0B-4D55-ADB3-F5665DDB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DF98-2E17-4FEB-8E7F-17F1FFCF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0F30-E389-449C-9587-9E3287E3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EBA8-50A1-4BB4-91B8-0CB81A2D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4920-BBE8-4290-860F-1588E74D1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ru.wikipedia.org/wiki/&#1044;&#1077;&#1074;&#1080;&#1079;" TargetMode="External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ru.wikipedia.org/wiki/&#1054;&#1092;&#1080;&#1094;&#1080;&#1072;&#1083;&#1100;&#1085;&#1099;&#1081;_&#1103;&#1079;&#1099;&#1082;" TargetMode="External"/><Relationship Id="rId3" Type="http://schemas.openxmlformats.org/officeDocument/2006/relationships/hyperlink" Target="http://ru.wikipedia.org/wiki/&#1057;&#1090;&#1086;&#1083;&#1080;&#1094;&#1072;" TargetMode="External"/><Relationship Id="rId4" Type="http://schemas.openxmlformats.org/officeDocument/2006/relationships/hyperlink" Target="http://ru.wikipedia.org/wiki/&#1043;&#1086;&#1088;&#1086;&#1076;" TargetMode="External"/><Relationship Id="rId5" Type="http://schemas.openxmlformats.org/officeDocument/2006/relationships/hyperlink" Target="http://ru.wikipedia.org/wiki/&#1060;&#1086;&#1088;&#1084;&#1072;_&#1075;&#1086;&#1089;&#1091;&#1076;&#1072;&#1088;&#1089;&#1090;&#1074;&#1077;&#1085;&#1085;&#1086;&#1075;&#1086;_&#1087;&#1088;&#1072;&#1074;&#1083;&#1077;&#1085;&#1080;&#1103;" TargetMode="External"/><Relationship Id="rId6" Type="http://schemas.openxmlformats.org/officeDocument/2006/relationships/hyperlink" Target="http://ru.wikipedia.org/wiki/&#1058;&#1077;&#1088;&#1088;&#1080;&#1090;&#1086;&#1088;&#1080;&#1103;" TargetMode="External"/><Relationship Id="rId7" Type="http://schemas.openxmlformats.org/officeDocument/2006/relationships/hyperlink" Target="http://ru.wikipedia.org/wiki/&#1053;&#1072;&#1089;&#1077;&#1083;&#1077;&#1085;&#1080;&#1077;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ru.wikipedia.org/wiki/&#1052;&#1080;&#1085;&#1080;&#1089;&#1090;&#1077;&#1088;&#1089;&#1090;&#1074;&#1086;_&#1086;&#1073;&#1088;&#1072;&#1079;&#1086;&#1074;&#1072;&#1085;&#1080;&#1103;,_&#1085;&#1072;&#1091;&#1082;&#1080;_&#1080;_&#1090;&#1077;&#1093;&#1085;&#1080;&#1082;&#1080;_(&#1056;&#1077;&#1089;&#1087;&#1091;&#1073;&#1083;&#1080;&#1082;&#1072;_&#1050;&#1086;&#1088;&#1077;&#1103;)" TargetMode="External"/><Relationship Id="rId3" Type="http://schemas.openxmlformats.org/officeDocument/2006/relationships/hyperlink" Target="http://ru.wikipedia.org/wiki/2008_&#1075;&#1086;&#1076;" TargetMode="External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76360" y="2204640"/>
            <a:ext cx="2808360" cy="1871640"/>
          </a:xfrm>
          <a:prstGeom prst="rect">
            <a:avLst/>
          </a:prstGeom>
          <a:solidFill>
            <a:srgbClr val="993366">
              <a:alpha val="5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Герб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республики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Коре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204640"/>
            <a:ext cx="3348000" cy="1871640"/>
          </a:xfrm>
          <a:prstGeom prst="rect">
            <a:avLst/>
          </a:prstGeom>
          <a:solidFill>
            <a:srgbClr val="993366">
              <a:alpha val="62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Флаг Республики Коре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76720" cy="2185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435640" y="0"/>
            <a:ext cx="2197080" cy="2205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4360" y="4661280"/>
            <a:ext cx="7632720" cy="70380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Деви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널리 인간 세계를 이롭게 하라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Приносить пользу человечеству, 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弘益人間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497844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ейская кухня достаточно острая, пользуется пряностями и большим количеством красного перца. Широкое использование перца объясняется тем, что Южная Корея страна с тёплым, влажным климатом, а перец просто помогает дольше сохранить продукты. В Корее очень активно потребляется собачье мясо. Как и в кухнях соседних восточных народов, основная еда корейцев — ри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932360" y="404640"/>
            <a:ext cx="3913200" cy="2117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572000" y="4581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корейской кухни немало общего с двумя другими наиболее значимыми восточными кулинариями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итайской и япон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79280" y="3429000"/>
            <a:ext cx="4284720" cy="3213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2843280" y="2781360"/>
            <a:ext cx="3504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cc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рейская кухня</a:t>
            </a:r>
            <a:endParaRPr b="0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cc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084720" y="6381720"/>
            <a:ext cx="3068640" cy="3985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Подготовила  ученица 11 класс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Мулеева Еле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Официальный язык</a:t>
            </a:r>
            <a:r>
              <a:rPr b="0" lang="en-US" sz="2800" spc="-1" strike="noStrike" u="sng">
                <a:solidFill>
                  <a:srgbClr val="0b0080"/>
                </a:solidFill>
                <a:uFillTx/>
                <a:latin typeface="Arial"/>
                <a:ea typeface="Arial"/>
              </a:rPr>
              <a:t> –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корей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Столица</a:t>
            </a:r>
            <a:r>
              <a:rPr b="1" lang="en-US" sz="2800" spc="-1" strike="noStrike">
                <a:solidFill>
                  <a:srgbClr val="0b0080"/>
                </a:solidFill>
                <a:latin typeface="Arial"/>
                <a:ea typeface="Arial"/>
              </a:rPr>
              <a:t> – </a:t>
            </a:r>
            <a:r>
              <a:rPr b="0" lang="en-US" sz="2800" spc="-1" strike="noStrike" u="sng">
                <a:solidFill>
                  <a:srgbClr val="0b0080"/>
                </a:solidFill>
                <a:uFillTx/>
                <a:latin typeface="Arial"/>
                <a:ea typeface="Arial"/>
              </a:rPr>
              <a:t>Сеу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Крупнейший город</a:t>
            </a:r>
            <a:r>
              <a:rPr b="0" lang="en-US" sz="2800" spc="-1" strike="noStrike" u="sng">
                <a:solidFill>
                  <a:srgbClr val="0b0080"/>
                </a:solidFill>
                <a:uFillTx/>
                <a:latin typeface="Arial"/>
                <a:ea typeface="Arial"/>
              </a:rPr>
              <a:t> –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Сеу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/>
              </a:rPr>
              <a:t>Форма правления</a:t>
            </a:r>
            <a:r>
              <a:rPr b="0" lang="en-US" sz="2800" spc="-1" strike="noStrike" u="sng">
                <a:solidFill>
                  <a:srgbClr val="0b0080"/>
                </a:solidFill>
                <a:uFillTx/>
                <a:latin typeface="Arial"/>
                <a:ea typeface="Arial"/>
              </a:rPr>
              <a:t> - </a:t>
            </a:r>
            <a:r>
              <a:rPr b="0" lang="en-US" sz="2800" spc="-1" strike="noStrike" u="sng">
                <a:solidFill>
                  <a:srgbClr val="0b0080"/>
                </a:solidFill>
                <a:uFillTx/>
                <a:latin typeface="Arial"/>
                <a:ea typeface="Arial"/>
              </a:rPr>
              <a:t>Президентская республ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/>
              </a:rPr>
              <a:t>Территория</a:t>
            </a:r>
            <a:r>
              <a:rPr b="0" lang="en-US" sz="2800" spc="-1" strike="noStrike" u="sng">
                <a:solidFill>
                  <a:srgbClr val="0b0080"/>
                </a:solidFill>
                <a:uFillTx/>
                <a:latin typeface="Arial"/>
                <a:ea typeface="Arial"/>
              </a:rPr>
              <a:t> –</a:t>
            </a:r>
            <a:r>
              <a:rPr b="0" lang="en-US" sz="2800" spc="-1" strike="noStrike" u="sng">
                <a:solidFill>
                  <a:srgbClr val="0b0080"/>
                </a:solidFill>
                <a:uFillTx/>
                <a:latin typeface="Arial"/>
                <a:ea typeface="Arial"/>
              </a:rPr>
              <a:t>107-я в ми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</a:rPr>
              <a:t>Площад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99 392 км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7"/>
              </a:rPr>
              <a:t>Население</a:t>
            </a:r>
            <a:r>
              <a:rPr b="0" lang="en-US" sz="2800" spc="-1" strike="noStrike" u="sng">
                <a:solidFill>
                  <a:srgbClr val="491b65"/>
                </a:solidFill>
                <a:uFillTx/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b0080"/>
                </a:solidFill>
                <a:latin typeface="Arial"/>
                <a:ea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50,004,441 ч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3716280"/>
            <a:ext cx="6769080" cy="1313640"/>
          </a:xfrm>
          <a:prstGeom prst="rect">
            <a:avLst/>
          </a:prstGeom>
          <a:solidFill>
            <a:srgbClr val="ff99cc">
              <a:alpha val="42000"/>
            </a:srgbClr>
          </a:solidFill>
          <a:ln cap="rnd" w="3816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удоспособное население составляет более 55%, в сфере услуг занято 52%, в промышленности - 27% трудоспособного населения, в сельском хозяйстве - 21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63723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селение Республики Коре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рейцы составляют абсолютное большинство населения страны. Небольш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00 тысяч) китайское меньшинство — в основном приехавшие в страну не напрямую из Китая, Гонконга и Макао, а из Японии, Малайзии, Индии и Филипп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0920" y="3429000"/>
            <a:ext cx="4643280" cy="3008160"/>
          </a:xfrm>
          <a:prstGeom prst="rect">
            <a:avLst/>
          </a:prstGeom>
          <a:ln w="57240">
            <a:solidFill>
              <a:srgbClr val="99336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5005440" y="3284640"/>
            <a:ext cx="392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должительность жизни: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Средняя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77,04 лет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мужчины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73,61 лет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женщины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80,75 лет (2006, оценка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252360" y="692280"/>
            <a:ext cx="53640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лесах Южной Кореи обитают лисицы, кабаны, горалы, косули, пятнистые олени, изюбри, колонки, выдры, белки, иногда можно встретить тигров, леопардов, рысей и уссурийских и белогрудых медведей. В прибрежных районах отмечается наибольшее разнообразие птиц: воробьиные, цапли, журавли, аисты, гуси, утки, кулики, чайки, бакланы, гагарки, кайры и чистики. Кроме того, на территории Южной Кореи встречаются такие хищные птицы, как камчатский орлан, и крупные птицы отряда куриных - фазаны, тетерева и рябчики. В прибрежных и внутренних водах страны обитает несколько сотен видов рыб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00000" y="115920"/>
            <a:ext cx="180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рода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6920" y="4149720"/>
            <a:ext cx="480708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ные склоны Восточно-Корейских гор покрыты смешанными лесами с преобладанием сосны, ели, дуба, липы, тополя, клёна, ясеня, вяза, осины и граба. Также в этих лесах встречаются акация, маньчжурский орех, бархатное дерево, стволы деревьев оплетены лианами, а в подлеске растёт женьшень. Прибрежные равнины заняты зарослями бамбука, вечнозелёными дубами, лаврами и рисовыми полями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148360" y="0"/>
            <a:ext cx="3995640" cy="2757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4029120"/>
            <a:ext cx="4248000" cy="2828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2124000" y="1989000"/>
            <a:ext cx="4753080" cy="328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88000" y="404280"/>
            <a:ext cx="43560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ана с высокоразвитой экономикой, 12-ая место в мире по величине ВВП. Развито наукоемкое машиностроение, электро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789360"/>
            <a:ext cx="399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Южная Корея является мировым лидером в судостроении и полупроводниковой промышленности, удерживает второе место среди производителей мобильных телефонов, пятое – по количеству выпущенных автомобилей и шестое – в мировой сталелитейной промышл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37040" cy="3327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0" t="0" r="-47" b="0"/>
          <a:stretch/>
        </p:blipFill>
        <p:spPr>
          <a:xfrm>
            <a:off x="4140360" y="3328920"/>
            <a:ext cx="500364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15760" y="4232160"/>
            <a:ext cx="7427880" cy="262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ка и 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ысшем уровне образованием и наукой в стране занимается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Министерство образования, науки и техники Республики Коре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бразованное в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2008 год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при слиянии Министерства образования и Министерства науки и техники. Первой национальной астрономической обсерваторией стала —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строномическая обсерватория Кунг Х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375160" y="0"/>
            <a:ext cx="3768840" cy="2824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rcRect l="0" t="0" r="0" b="157"/>
          <a:stretch/>
        </p:blipFill>
        <p:spPr>
          <a:xfrm>
            <a:off x="5364000" y="2492280"/>
            <a:ext cx="378000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0"/>
            <a:ext cx="464328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 XX века основной продукцией сельского хозяйства страны был рис, однако сейчас номенклатура продукции существенно расширилась и включает многие виды фруктов, овощей, животноводческой продукции и продукции лесного хозяй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авный сельскохозяйственный продукт Южной Кореи — рис: около 80 % южнокорейских ферм культивируют этот зла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344840" y="0"/>
            <a:ext cx="4799160" cy="299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0" y="36450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ивотноводство — второй после риса сектор сельского хозяйства по величине дох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ыболовство является важной частью южнокорейской эконом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0" y="4059360"/>
            <a:ext cx="4356000" cy="279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605952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933720"/>
            <a:ext cx="4540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«корейская волн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«халлю»), благодар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орой в соседн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и не только) стран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ди больше узн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 культуре Коре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отрят корей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льмы и сериал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ушают корейск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зы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0" t="0" r="0" b="-61"/>
          <a:stretch/>
        </p:blipFill>
        <p:spPr>
          <a:xfrm>
            <a:off x="4211640" y="189000"/>
            <a:ext cx="4572000" cy="3311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404640"/>
            <a:ext cx="5165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рея обладает древн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гатой культур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рхитектура Кореи име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ноголетнюю истор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льтура Кореи настоль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гата и сильна, что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тяжение всей ист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ны оказывала влия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на соседние стран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пример, в последн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ремя все больш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ьше набирает сил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акое явле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500720" y="3645000"/>
            <a:ext cx="4054320" cy="3041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179280" y="115920"/>
            <a:ext cx="230508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9933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</a:t>
            </a: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9933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ультура </a:t>
            </a:r>
            <a:endParaRPr b="0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9933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-181080" y="764640"/>
            <a:ext cx="55548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Южной Корее существуют хорошие возможности для развития туризма. Красивая природа, историческое наследие, горы и море делают её привлекательной для туристов. По праву самый популярный вид туризма в стране — горный туризм. Около 70 % территории страны покрыты горами, в которых находится множество горнолыжных куро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332000" y="115920"/>
            <a:ext cx="1523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Туриз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rcRect l="0" t="0" r="33" b="-29"/>
          <a:stretch/>
        </p:blipFill>
        <p:spPr>
          <a:xfrm>
            <a:off x="3780000" y="3068640"/>
            <a:ext cx="5182920" cy="3533760"/>
          </a:xfrm>
          <a:prstGeom prst="rect">
            <a:avLst/>
          </a:prstGeom>
          <a:ln cap="rnd" w="38160">
            <a:solidFill>
              <a:srgbClr val="800080"/>
            </a:solidFill>
            <a:custDash>
              <a:ds d="100000" sp="1000"/>
            </a:custDash>
            <a:miter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15:01:58Z</dcterms:created>
  <dc:creator>Admin</dc:creator>
  <dc:description/>
  <dc:language>en-US</dc:language>
  <cp:lastModifiedBy>Admin</cp:lastModifiedBy>
  <dcterms:modified xsi:type="dcterms:W3CDTF">2012-12-22T11:20:14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8120000000000010250300207f7000400038000</vt:lpwstr>
  </property>
</Properties>
</file>