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E3E-810E-4BA2-98F4-22BF840D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B56-0ADE-41F4-89B6-5A263D9F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F25-DD53-43E0-9204-62B1145B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3F9-CCC0-4309-BC8A-286D757A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A9F-91E0-4D13-94F8-17D9F31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265-59DE-4D0C-8E12-79900E0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804-167F-4514-A884-A11CC246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197-8948-447D-921E-C31C0C95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F96-88D3-4D90-944B-9D9A361B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FFD-5ED2-4C60-81F1-7EAFC93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190-E0D9-455C-BA54-E658224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775-88D9-458C-A81D-FEA70344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3DAA-99BB-4518-953F-AC319651C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ru.wikipedia.org/wiki/&#1044;&#1077;&#1074;&#1080;&#1079;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4;&#1092;&#1080;&#1094;&#1080;&#1072;&#1083;&#1100;&#1085;&#1099;&#1081;_&#1103;&#1079;&#1099;&#1082;" TargetMode="External"/><Relationship Id="rId3" Type="http://schemas.openxmlformats.org/officeDocument/2006/relationships/hyperlink" Target="http://ru.wikipedia.org/wiki/&#1057;&#1090;&#1086;&#1083;&#1080;&#1094;&#1072;" TargetMode="External"/><Relationship Id="rId4" Type="http://schemas.openxmlformats.org/officeDocument/2006/relationships/hyperlink" Target="http://ru.wikipedia.org/wiki/&#1043;&#1086;&#1088;&#1086;&#1076;" TargetMode="External"/><Relationship Id="rId5" Type="http://schemas.openxmlformats.org/officeDocument/2006/relationships/hyperlink" Target="http://ru.wikipedia.org/wiki/&#1060;&#1086;&#1088;&#1084;&#1072;_&#1075;&#1086;&#1089;&#1091;&#1076;&#1072;&#1088;&#1089;&#1090;&#1074;&#1077;&#1085;&#1085;&#1086;&#1075;&#1086;_&#1087;&#1088;&#1072;&#1074;&#1083;&#1077;&#1085;&#1080;&#1103;" TargetMode="External"/><Relationship Id="rId6" Type="http://schemas.openxmlformats.org/officeDocument/2006/relationships/hyperlink" Target="http://ru.wikipedia.org/wiki/&#1058;&#1077;&#1088;&#1088;&#1080;&#1090;&#1086;&#1088;&#1080;&#1103;" TargetMode="External"/><Relationship Id="rId7" Type="http://schemas.openxmlformats.org/officeDocument/2006/relationships/hyperlink" Target="http://ru.wikipedia.org/wiki/&#1053;&#1072;&#1089;&#1077;&#1083;&#1077;&#1085;&#1080;&#1077;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52;&#1080;&#1085;&#1080;&#1089;&#1090;&#1077;&#1088;&#1089;&#1090;&#1074;&#1086;_&#1086;&#1073;&#1088;&#1072;&#1079;&#1086;&#1074;&#1072;&#1085;&#1080;&#1103;,_&#1085;&#1072;&#1091;&#1082;&#1080;_&#1080;_&#1090;&#1077;&#1093;&#1085;&#1080;&#1082;&#1080;_(&#1056;&#1077;&#1089;&#1087;&#1091;&#1073;&#1083;&#1080;&#1082;&#1072;_&#1050;&#1086;&#1088;&#1077;&#1103;)" TargetMode="External"/><Relationship Id="rId3" Type="http://schemas.openxmlformats.org/officeDocument/2006/relationships/hyperlink" Target="http://ru.wikipedia.org/wiki/2008_&#1075;&#1086;&#1076;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360" y="2204640"/>
            <a:ext cx="2808360" cy="1871640"/>
          </a:xfrm>
          <a:prstGeom prst="rect">
            <a:avLst/>
          </a:prstGeom>
          <a:solidFill>
            <a:srgbClr val="993366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Герб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республики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о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3348000" cy="1871640"/>
          </a:xfrm>
          <a:prstGeom prst="rect">
            <a:avLst/>
          </a:prstGeom>
          <a:solidFill>
            <a:srgbClr val="993366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Флаг Республики Кор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0"/>
            <a:ext cx="2197080" cy="220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4661280"/>
            <a:ext cx="7632720" cy="703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ев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널리 인간 세계를 이롭게 하라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носить пользу человечеству,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弘益人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97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йская кухня достаточно острая, пользуется пряностями и большим количеством красного перца. Широкое использование перца объясняется тем, что Южная Корея страна с тёплым, влажным климатом, а перец просто помогает дольше сохранить продукты. В Корее очень активно потребляется собачье мясо. Как и в кухнях соседних восточных народов, основная еда корейцев — р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913200" cy="211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0" y="45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рейской кухни немало общего с двумя другими наиболее значимыми восточными кулинариями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тайской и япо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843280" y="2781360"/>
            <a:ext cx="350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ейская кухня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84720" y="6381720"/>
            <a:ext cx="3068640" cy="398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Подготовила  ученица 11 кла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Мулеева Ел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Официальный язык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коре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Столица</a:t>
            </a:r>
            <a:r>
              <a:rPr b="1" lang="en-US" sz="2800" spc="-1" strike="noStrike">
                <a:solidFill>
                  <a:srgbClr val="0b0080"/>
                </a:solidFill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Се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Крупнейший город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Се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Форма правления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Президентская 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Территория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107-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Площад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99 392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Население</a:t>
            </a:r>
            <a:r>
              <a:rPr b="0" lang="en-US" sz="2800" spc="-1" strike="noStrike" u="sng">
                <a:solidFill>
                  <a:srgbClr val="491b65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b008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50,004,441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716280"/>
            <a:ext cx="6769080" cy="1313640"/>
          </a:xfrm>
          <a:prstGeom prst="rect">
            <a:avLst/>
          </a:prstGeom>
          <a:solidFill>
            <a:srgbClr val="ff99cc">
              <a:alpha val="42000"/>
            </a:srgbClr>
          </a:solidFill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оспособное население составляет более 55%, в сфере услуг занято 52%, в промышленности - 27% трудоспособного населения, в сельском хозяйстве - 2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селение Республики Ко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ейцы составляют абсолютное большинство населения страны. Не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тысяч) китайское меньшинство — в основном приехавшие в страну не напрямую из Китая, Гонконга и Макао, а из Японии, Малайзии, Индии и Филипп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643280" cy="300816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005440" y="3284640"/>
            <a:ext cx="392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редня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77,04 ле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ужчин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73,61 ле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енщин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80,75 лет (2006, оценк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252360" y="692280"/>
            <a:ext cx="536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лесах Южной Кореи обитают лисицы, кабаны, горалы, косули, пятнистые олени, изюбри, колонки, выдры, белки, иногда можно встретить тигров, леопардов, рысей и уссурийских и белогрудых медведей. В прибрежных районах отмечается наибольшее разнообразие птиц: воробьиные, цапли, журавли, аисты, гуси, утки, кулики, чайки, бакланы, гагарки, кайры и чистики. Кроме того, на территории Южной Кореи встречаются такие хищные птицы, как камчатский орлан, и крупные птицы отряда куриных - фазаны, тетерева и рябчики. В прибрежных и внутренних водах страны обитает несколько сотен видов ры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00000" y="11592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6920" y="4149720"/>
            <a:ext cx="480708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ые склоны Восточно-Корейских гор покрыты смешанными лесами с преобладанием сосны, ели, дуба, липы, тополя, клёна, ясеня, вяза, осины и граба. Также в этих лесах встречаются акация, маньчжурский орех, бархатное дерево, стволы деревьев оплетены лианами, а в подлеске растёт женьшень. Прибрежные равнины заняты зарослями бамбука, вечнозелёными дубами, лаврами и рисовыми полям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27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029120"/>
            <a:ext cx="4248000" cy="282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475308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8000" y="404280"/>
            <a:ext cx="4356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а с высокоразвитой экономикой, 12-ая место в мире по величине ВВП. Развито наукоемкое машиностроение, электро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8936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ая Корея является мировым лидером в судостроении и полупроводниковой промышленности, удерживает второе место среди производителей мобильных телефонов, пятое – по количеству выпущенных автомобилей и шестое – в мировой сталелитейной промыш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7040" cy="3327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-47" b="0"/>
          <a:stretch/>
        </p:blipFill>
        <p:spPr>
          <a:xfrm>
            <a:off x="4140360" y="3328920"/>
            <a:ext cx="5003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15760" y="4232160"/>
            <a:ext cx="742788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а и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шем уровне образованием и наукой в стране занимается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истерство образования, науки и техники Республики Коре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разованное 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008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 слиянии Министерства образования и Министерства науки и техники. Первой национальной астрономической обсерваторией стала —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строномическая обсерватория Кунг 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375160" y="0"/>
            <a:ext cx="3768840" cy="2824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0" b="157"/>
          <a:stretch/>
        </p:blipFill>
        <p:spPr>
          <a:xfrm>
            <a:off x="5364000" y="2492280"/>
            <a:ext cx="3780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46432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XX века основной продукцией сельского хозяйства страны был рис, однако сейчас номенклатура продукции существенно расширилась и включает многие виды фруктов, овощей, животноводческой продукции и продукции лесного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й сельскохозяйственный продукт Южной Кореи — рис: около 80 % южнокорейских ферм культивируют этот зл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4840" y="0"/>
            <a:ext cx="4799160" cy="299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64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отноводство — второй после риса сектор сельского хозяйства по величине д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оловство является важной частью южнокорейской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4059360"/>
            <a:ext cx="4356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933720"/>
            <a:ext cx="454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корейская вол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халлю»), благода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ой в сосед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 не только) стра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больше узн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культуре Коре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ят коре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ьмы и сериа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шают корей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0" b="-61"/>
          <a:stretch/>
        </p:blipFill>
        <p:spPr>
          <a:xfrm>
            <a:off x="4211640" y="189000"/>
            <a:ext cx="4572000" cy="331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04640"/>
            <a:ext cx="516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ея обладает древ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ой куль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хитектура Кореи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летнюю истор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а Кореи нас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а и сильна, чт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яжение всей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ны оказывала вли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а соседние стра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имер, в послед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все больш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е набирает си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ое яв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054320" cy="304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9280" y="115920"/>
            <a:ext cx="2305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а 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181080" y="764640"/>
            <a:ext cx="5554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Южной Корее существуют хорошие возможности для развития туризма. Красивая природа, историческое наследие, горы и море делают её привлекательной для туристов. По праву самый популярный вид туризма в стране — горный туризм. Около 70 % территории страны покрыты горами, в которых находится множество горнолыжных кур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32000" y="11592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Тур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33" b="-29"/>
          <a:stretch/>
        </p:blipFill>
        <p:spPr>
          <a:xfrm>
            <a:off x="3780000" y="3068640"/>
            <a:ext cx="5182920" cy="3533760"/>
          </a:xfrm>
          <a:prstGeom prst="rect">
            <a:avLst/>
          </a:prstGeom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15:01:58Z</dcterms:created>
  <dc:creator>Admin</dc:creator>
  <dc:description/>
  <dc:language>en-US</dc:language>
  <cp:lastModifiedBy>Admin</cp:lastModifiedBy>
  <dcterms:modified xsi:type="dcterms:W3CDTF">2012-12-22T11:20:1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20000000000010250300207f7000400038000</vt:lpwstr>
  </property>
</Properties>
</file>