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144-37EE-418F-9A4F-1F669325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389-88AB-48C6-8D92-1D54F005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045-13F9-42A2-A0A1-B7EB5DA8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F31-4E21-4917-9BFB-F3FC849A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585-A1CA-49E7-9732-F75A9DDC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CD3-214A-4B39-B80E-AAF008E5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E13C-FA97-425A-A7FC-072936F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A13-7701-4C19-9067-312F0262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0D1F-2B45-43FE-9823-50D17F4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4415-F0E7-4572-85E8-52F2FCC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4283-4FA3-4F36-B286-C9429AD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1FC-829F-4C08-924C-61098F6D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8BD8-A6A0-4AA2-ADFB-F8ECF8F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883B-A632-4567-8327-43E4B988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0FFF-D8A3-4E6D-AB76-2FA03228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493-3765-4BF1-9D81-9FB33D45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625-4AE4-419A-8573-E3C7C59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2E6-DFA1-45EB-AF34-81C52D02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2BE-6651-459D-B4C9-1BD3387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64B-8609-4FB0-93C0-F28F7740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99D-7A3E-4182-ABD6-A1D2487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E3F-7091-4CA7-BC80-650519A2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460-8E00-43CD-A820-13AF415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03A-DADC-4075-9E40-3CB9D284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FD59-1FF4-4189-BFD4-E47E5A832E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EF5-65EC-4211-B3CB-C56C2F4AB6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Южная Афри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392200" y="1557360"/>
            <a:ext cx="3897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со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041800" cy="2521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3430440" cy="3687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95280" y="4005360"/>
            <a:ext cx="43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есото – государство-анклав, терри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раны полностью окружена Южноафрикан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сер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6659640" cy="3087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ми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992480" cy="24973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148360" y="3228840"/>
            <a:ext cx="3809880" cy="3629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68360" y="441756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устыня Намиб, расположенная в стране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тарейшая пустыня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ндху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141960" cy="323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572000" y="480528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индхук – один из крупнейших в мире центров торговли каракулевыми шкур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азилен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897440" cy="2449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3076560" cy="331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flipV="1" rot="10677600">
            <a:off x="1258920" y="4168800"/>
            <a:ext cx="338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вазиленд имеет самый высокий уровень, среди стран мира, по зараженности ВИЧ среди взрослого нас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бабане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фициальная) и Лобамба (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королевская и парламентска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толиц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9356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Южно-Африканская республ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4846680" cy="44989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809880" cy="3353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 rot="10769400">
            <a:off x="5220720" y="12834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– страна, разработавшая ядерное оружие и отказавшаяся от н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Йоханнесбур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572000" cy="343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 flipV="1" rot="10769400">
            <a:off x="4857120" y="134964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ЮАР имеет три столицы – Кейптаун – законодательная, Претория – административная, Блумфонтейн – судеб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 rot="10769400">
            <a:off x="900000" y="50824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Йоханнесбург – крупнейший город Ю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Анг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597560" cy="459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4214880" cy="4113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787280" y="573984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гола занимает первое место в ми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уровню младенческой смерт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ан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214880" cy="3170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784760" y="3579840"/>
            <a:ext cx="4359240" cy="32781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03640" y="1196640"/>
            <a:ext cx="34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анда в 2008 г. была признана сам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рогим городом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мб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7619760" cy="3809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33240" y="32457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ya141@rambler.r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517176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мбия обладает крупнейш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ировыми запасами ме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уса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59240" cy="35229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208400" y="3789360"/>
            <a:ext cx="4935600" cy="2784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76720" y="18370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Лусака -  город молодой, построенный в 195 году на месте бывшей дереву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имбаб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949560" cy="3949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949560" cy="3251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427640" y="1110600"/>
            <a:ext cx="51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у Зимбабве отсут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ациональная валюта. Последней купю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ущенной в Зимбабве, является куп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стоинством в 100 триллионов зимбабвийских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ара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Ботсва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229200" cy="3471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4967280" y="12679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Основой экономики Ботсваны 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обыча алмаз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боро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5999040" cy="3994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08120" y="148356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Габороне выросла из небольшого поселения всего за три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07:09Z</dcterms:created>
  <dc:creator>www.PHILka.RU</dc:creator>
  <dc:description/>
  <dc:language>en-US</dc:language>
  <cp:lastModifiedBy>www.PHILka.RU</cp:lastModifiedBy>
  <dcterms:modified xsi:type="dcterms:W3CDTF">2011-09-23T20:13:17Z</dcterms:modified>
  <cp:revision>5</cp:revision>
  <dc:subject/>
  <dc:title>Южная Афр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90000000000010250300207f7000400038000</vt:lpwstr>
  </property>
</Properties>
</file>