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AD0-14B4-4B5B-90AA-612000E7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D77-60AC-4B5A-9AC0-1AD379C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DB8-247E-4397-BF26-2FF2651C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25D-DBBF-4879-99A0-FE2B3B7B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F408-AB09-4858-A076-E824BF2B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D220-7746-491E-9B54-2DCAFE6B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BC01-485E-42F7-8554-17AE870C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B83B-A0C6-4753-940F-7A025230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600B-7632-49BB-9D7A-F5893200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43B2-BBFD-4F92-8975-766EE281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6D95-6BEE-466B-9E5C-03FAF5BD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2E5-5934-4108-B160-24ED8DBA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B421-877D-4AD1-A05D-4AE6AD0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C7D5-39D4-4EE6-9782-EA2FBF6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89A0-CE0D-45CB-AFA0-309A2914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1F77-11D8-4C16-A376-76D0F682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F8E5-7B56-41FD-90D2-C009B033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244-B156-42E8-BE2E-83C87243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A67-4C50-4F03-83E8-68FC1E86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327-8F20-46D3-9BB6-89EFA3C7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8E5-AAE8-4065-B095-D75D2F0A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E34-E208-4129-8306-B4D4EAD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877-E32C-4E77-8FA3-8F421B44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8F2-BFA7-4046-B978-4147F1DF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9103-1E6F-4345-8340-02BC56FAF8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E8DF-14E7-4E4C-A96C-9FF6AD45DE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Южная Афри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392200" y="1557360"/>
            <a:ext cx="3897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сот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041800" cy="25210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5292720" y="2852640"/>
            <a:ext cx="3430440" cy="3687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95280" y="4005360"/>
            <a:ext cx="43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есото – государство-анклав, терри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траны полностью окружена Южноафрикан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Республи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асер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6659640" cy="30877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миб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992480" cy="24973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148360" y="3228840"/>
            <a:ext cx="3809880" cy="3629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68360" y="441756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устыня Намиб, расположенная в стране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тарейшая пустыня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ндху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141960" cy="323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572000" y="480528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индхук – один из крупнейших в мире центров торговли каракулевыми шкур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азилен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897440" cy="2449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3076560" cy="33145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 flipV="1" rot="10677600">
            <a:off x="1258920" y="4168800"/>
            <a:ext cx="338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вазиленд имеет самый высокий уровень, среди стран мира, по зараженности ВИЧ среди взрослого нас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бабане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фициальная) и Лобамба (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королевская и парламентска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толиц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9356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Южно-Африканская республ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4846680" cy="44989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3809880" cy="3353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 flipV="1" rot="10769400">
            <a:off x="5220720" y="12834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ЮАР – страна, разработавшая ядерное оружие и отказавшаяся от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Йоханнесбур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72000" y="3286080"/>
            <a:ext cx="4572000" cy="3436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 flipV="1" rot="10769400">
            <a:off x="4857120" y="134964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ЮАР имеет три столицы – Кейптаун – законодательная, Претория – административная, Блумфонтейн – судеб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 rot="10769400">
            <a:off x="900000" y="50824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Йоханнесбург – крупнейший город Ю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нго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597560" cy="45975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4214880" cy="4113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787280" y="5739840"/>
            <a:ext cx="45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гола занимает первое место в ми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уровню младенческой смерт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уан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214880" cy="3170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784760" y="3579840"/>
            <a:ext cx="4359240" cy="32781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03640" y="1196640"/>
            <a:ext cx="34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уанда в 2008 г. была признана сам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орогим городом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мб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761976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333240" y="32457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ya141@rambler.r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9280" y="51717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амбия обладает крупнейш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ировыми запасами ме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уса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359240" cy="3522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208400" y="3789360"/>
            <a:ext cx="4935600" cy="27846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076720" y="183708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усака -  город молодой, построенный в 195 году на месте бывшей деревуш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имбаб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949560" cy="3949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949560" cy="3251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427640" y="1110600"/>
            <a:ext cx="51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 настоящее время у Зимбабве отсутств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ациональная валюта. Последней купюр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ущенной в Зимбабве, является купю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остоинством в 100 триллионов зимбабвийских долл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ара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Ботсва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3229200" cy="3471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4967280" y="12679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Основой экономики Ботсваны 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обыча алма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аборо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5999040" cy="3994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708120" y="148356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Габороне выросла из небольшого поселения всего за три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07:09Z</dcterms:created>
  <dc:creator>www.PHILka.RU</dc:creator>
  <dc:description/>
  <dc:language>en-US</dc:language>
  <cp:lastModifiedBy>www.PHILka.RU</cp:lastModifiedBy>
  <dcterms:modified xsi:type="dcterms:W3CDTF">2011-09-23T20:13:17Z</dcterms:modified>
  <cp:revision>5</cp:revision>
  <dc:subject/>
  <dc:title>Южная Афр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090000000000010250300207f7000400038000</vt:lpwstr>
  </property>
</Properties>
</file>