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C08-F7A1-4E7B-8912-9A2A71A0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D85-05CE-4072-84C5-BE49A74D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822-B3AC-43B1-A6C2-5A286198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491-905C-4A6A-B4F4-98146708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C773-6CA4-467A-9E7E-A8408829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7C87-CD1D-4DD1-9E2E-54D78E9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EBC3-E35C-4FB0-B655-C3382C4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7D6D-7CAA-4F5C-B6D2-BFB193F3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27D1-2691-4497-BB17-E4386EF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F804-9426-4393-9CE1-8D185BD7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087B-A668-4518-8DB5-610B2064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891-5968-4F16-9BB5-68BBBD19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7568-A4AF-4EC7-8494-38EFDF6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E8E0-76C7-41B6-B970-F272A18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937E-2F6C-41E4-80CC-61496C4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688-2962-4E71-8E39-010DD855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3D2B-FFC8-4271-846E-BA2AD7B2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8D3-C59D-47FA-BE5F-61A6F52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EAE-0D03-4311-BE90-6860BFE5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D40-CE0D-45E8-96F6-1051E8D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E9E-BD26-41AF-8C8C-B28526F0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B01-3E89-4F59-B535-AF69995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820-FF84-4B36-B33B-7E99CC1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51A-B5AF-4C43-A354-759A93A4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8DD3-842F-44BF-8725-CFBADD9ED8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51A-07B1-4CAD-8358-D689EB74D0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t-creaz.org.ua/CreaBooks/Scherer/8.53.gif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hyperlink" Target="http://www.naomuseum.ru/pic/new_post/paleontol_2.jpg" TargetMode="External"/><Relationship Id="rId5" Type="http://schemas.openxmlformats.org/officeDocument/2006/relationships/image" Target="../media/image37.jpeg"/><Relationship Id="rId6" Type="http://schemas.openxmlformats.org/officeDocument/2006/relationships/hyperlink" Target="http://www.art.thelib.ru/arts/culture/archaeology/vladiki_morey_yurskogo_perioda_0.jpg" TargetMode="External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avacho.ucoz.ru/_si/0/4532975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darwin.museum.ru/expos/dino/img/d_10m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g.lenta.ru/news/2006/07/28/fossil/picture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42.radikal.ru/i098/0902/32/f71d49391fdf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056.radikal.ru/0902/08/2850d1577e1d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sciam.ru/2007/5/img/paleontology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lb-2008.ucoz.ru/_nw/0/90042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ybmuseum.ru/images2/00045726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harunyahya.ru/Books/images_books/atlas-images/518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.newsru.com/pict/id/large/72375_20010215143314.gif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aw.ru/a-dino/1430-2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kino.newnum.ru/i/608/31/31942.jpg" TargetMode="External"/><Relationship Id="rId4" Type="http://schemas.openxmlformats.org/officeDocument/2006/relationships/image" Target="../media/image51.jpeg"/><Relationship Id="rId5" Type="http://schemas.openxmlformats.org/officeDocument/2006/relationships/hyperlink" Target="http://www.mrkhit.info/main.php?g2_view=core.DownloadItem&amp;g2_itemId=46946&amp;g2_serialNumber=2" TargetMode="External"/><Relationship Id="rId6" Type="http://schemas.openxmlformats.org/officeDocument/2006/relationships/image" Target="../media/image52.jpeg"/><Relationship Id="rId7" Type="http://schemas.openxmlformats.org/officeDocument/2006/relationships/hyperlink" Target="http://www.inomir.ru/images/articles/object_73.1189398706.jpg" TargetMode="External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61.radikal.ru/i174/0808/45/f23153ab2afc.jpg" TargetMode="External"/><Relationship Id="rId2" Type="http://schemas.openxmlformats.org/officeDocument/2006/relationships/image" Target="../media/image54.jpeg"/><Relationship Id="rId3" Type="http://schemas.openxmlformats.org/officeDocument/2006/relationships/hyperlink" Target="http://s46.radikal.ru/i112/0902/94/f6f0055d28e8.jpg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foto.mail.ru/mail/fly_leo/dino/1103.html" TargetMode="External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foto.mail.ru/mail/fly_leo/dino/973.html" TargetMode="External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279/2426279/f_15219983.jpg" TargetMode="External"/><Relationship Id="rId2" Type="http://schemas.openxmlformats.org/officeDocument/2006/relationships/image" Target="../media/image60.jpeg"/><Relationship Id="rId3" Type="http://schemas.openxmlformats.org/officeDocument/2006/relationships/hyperlink" Target="http://s46.radikal.ru/i111/0902/b8/b2953841252a.jpg" TargetMode="External"/><Relationship Id="rId4" Type="http://schemas.openxmlformats.org/officeDocument/2006/relationships/image" Target="../media/image61.jpeg"/><Relationship Id="rId5" Type="http://schemas.openxmlformats.org/officeDocument/2006/relationships/hyperlink" Target="http://s43.radikal.ru/i100/0902/11/48c92c0776be.gif" TargetMode="External"/><Relationship Id="rId6" Type="http://schemas.openxmlformats.org/officeDocument/2006/relationships/image" Target="../media/image62.jpeg"/><Relationship Id="rId7" Type="http://schemas.openxmlformats.org/officeDocument/2006/relationships/hyperlink" Target="http://www.vokrugsveta.ru/img/cmn/2007/12/11/006.jpg" TargetMode="External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7;&#1091;&#1087;&#1077;&#1088;&#1082;&#1086;&#1085;&#1090;&#1080;&#1085;&#1077;&#1085;&#1090;" TargetMode="External"/><Relationship Id="rId3" Type="http://schemas.openxmlformats.org/officeDocument/2006/relationships/hyperlink" Target="http://ru.wikipedia.org/wiki/&#1055;&#1072;&#1085;&#1075;&#1077;&#1103;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eterna.ru/images/0804/img42209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iteclibrary.ru/istgeo/img/49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ortalciencia.net/images/Jurasico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runyahya.ru/Books/images_books/atlas-images/41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harunyahya.ru/Books/images_books/atlas-images/397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harunyahya.ru/Books/images_books/atlas-images/422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runyahya.org/evrim/yaratilis_atlasi/res/images_atlas_new/0154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harunyahya.ru/Books/images_books/atlas-images/417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faccetta.ru/images/image/Statiya/muzei/9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aleometro.ru/stat/karier2sm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harunyahya.ru/Books/images_books/atlas-images/486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arunyahya.ru/Books/images_books/atlas-images/416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98200" y="115920"/>
            <a:ext cx="2545920" cy="398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ЮРСКИЙ ПЕРИО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713800" cy="5519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76760" y="54864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90—195 ±5 млн. лет, конец— 135±5 млн. лет назад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433872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115920"/>
            <a:ext cx="2087640" cy="1828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975960" y="18900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45400" y="1989000"/>
            <a:ext cx="96408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коралл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3191040" cy="2225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2592360" cy="22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113400" y="2781360"/>
            <a:ext cx="6638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губ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3960" y="5084640"/>
            <a:ext cx="86940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мшан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284720" y="3860640"/>
            <a:ext cx="4633920" cy="26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590880" y="6381720"/>
            <a:ext cx="221976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статки ракообразны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Картинка 6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388764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427640" y="115920"/>
            <a:ext cx="3641760" cy="29941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88608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6880" y="2565360"/>
            <a:ext cx="243180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звонок костистых рыб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Картинка 4 из 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2900520"/>
            <a:ext cx="3816360" cy="351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0" name="" descr="Картинка 9 из 20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2924280"/>
            <a:ext cx="507672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" descr="Картинка 12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5182920" cy="444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3" name="" descr="Картинка 22 из 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199040"/>
            <a:ext cx="4287600" cy="241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235200" y="11592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Картинка 15 из 8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981000"/>
            <a:ext cx="3238560" cy="242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Картинка 9 из 1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89000"/>
            <a:ext cx="5076720" cy="3381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Картинка 4 из 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21300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387560" y="18900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" descr="Картинка 2 из 357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357720"/>
            <a:ext cx="238140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" descr="Картинка 89 из 357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35640" y="692280"/>
            <a:ext cx="3492360" cy="23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Картинка 12 из 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507672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4" name="" descr="Картинка 13 из 5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141720"/>
            <a:ext cx="4762440" cy="337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379560" y="0"/>
            <a:ext cx="110592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а суш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Картинка 1 из 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4221000"/>
            <a:ext cx="2952720" cy="221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-6840" y="6528240"/>
            <a:ext cx="59306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В Австралии нашли живых насекомых эпохи Юрского периода.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" descr="Картинка 18 из 54"/>
          <p:cNvPicPr/>
          <p:nvPr/>
        </p:nvPicPr>
        <p:blipFill>
          <a:blip r:embed="rId7"/>
          <a:stretch/>
        </p:blipFill>
        <p:spPr>
          <a:xfrm>
            <a:off x="5724360" y="765000"/>
            <a:ext cx="300672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650120" y="476280"/>
            <a:ext cx="13024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насеком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" descr="Картинка 12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33360"/>
            <a:ext cx="3857760" cy="410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2" name="" descr="Картинка 64 из 10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2560" y="549360"/>
            <a:ext cx="5221440" cy="285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234840" y="115920"/>
            <a:ext cx="132840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 воздух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Картинка 15 из 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573360"/>
            <a:ext cx="4319640" cy="28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5" name="" descr="Картинка 18 из 3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4292640"/>
            <a:ext cx="2190600" cy="235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2564280" y="6021360"/>
            <a:ext cx="198504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Летающие ящер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Картинка 12 из 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605040" cy="453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050480" y="4941720"/>
            <a:ext cx="167580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рвые птиц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78840" y="115920"/>
            <a:ext cx="132840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В воздух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" descr="Картинка 18 из 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89000"/>
            <a:ext cx="507708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3789360"/>
            <a:ext cx="3744720" cy="300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Картинка 1 из 36"/>
          <p:cNvPicPr/>
          <p:nvPr/>
        </p:nvPicPr>
        <p:blipFill>
          <a:blip r:embed="rId1"/>
          <a:stretch/>
        </p:blipFill>
        <p:spPr>
          <a:xfrm>
            <a:off x="3924360" y="1700280"/>
            <a:ext cx="4989600" cy="50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5920"/>
            <a:ext cx="3925800" cy="53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4651560" y="549360"/>
            <a:ext cx="182520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лекопитающе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" descr="Картинка 4 из 36"/>
          <p:cNvPicPr/>
          <p:nvPr/>
        </p:nvPicPr>
        <p:blipFill>
          <a:blip r:embed="rId4"/>
          <a:stretch/>
        </p:blipFill>
        <p:spPr>
          <a:xfrm>
            <a:off x="6551640" y="125280"/>
            <a:ext cx="2484360" cy="186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" descr="Картинка 2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824360" cy="362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0" name="" descr="Картинка 10 из 1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3357720"/>
            <a:ext cx="4837320" cy="334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514840" y="0"/>
            <a:ext cx="321336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Природа юрского период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2" name="" descr="Картинка 10 из 1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598320"/>
            <a:ext cx="3240000" cy="25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3" name="" descr="Картинка 89 из 16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1280" y="4005360"/>
            <a:ext cx="2857320" cy="274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689040"/>
            <a:ext cx="8893440" cy="561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200" y="115920"/>
            <a:ext cx="2545920" cy="398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ЮРСКИЙ ПЕРИОД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40" y="6381360"/>
            <a:ext cx="84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суперконтинент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Пангея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 начал распадаться на отдельные континентальные блоки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1" name="" descr="Картинка 6 из 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125360"/>
            <a:ext cx="2994120" cy="227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2 из 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89000"/>
            <a:ext cx="5616360" cy="2960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" descr="Картинка 15 из 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429000"/>
            <a:ext cx="6913800" cy="318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945040" y="357120"/>
            <a:ext cx="28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ейзажи юрского перио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5616720" cy="370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5040" y="33336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357720"/>
            <a:ext cx="4762440" cy="324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5120" y="429264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Морские звезды и офиур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" descr="Картинка 3 из 20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692280"/>
            <a:ext cx="3095640" cy="207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56360" y="278136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криноиде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3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292640"/>
            <a:ext cx="3311640" cy="219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6016320" y="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5120" y="3789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Головоноги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6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66680"/>
            <a:ext cx="5329080" cy="3452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16 из 20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282600"/>
            <a:ext cx="3311280" cy="271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140360" y="3645000"/>
            <a:ext cx="4897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6021360" cy="45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289320" cy="293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3600360" cy="286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140360" y="189000"/>
            <a:ext cx="3311280" cy="266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7014600" y="40464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7960" y="2565360"/>
            <a:ext cx="1614960" cy="733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БРАХИОПОД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теребратулиды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ринхонеллид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71280" y="2565000"/>
            <a:ext cx="50508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43280" y="2421000"/>
            <a:ext cx="57636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71640" y="3284640"/>
            <a:ext cx="64800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213000"/>
            <a:ext cx="50508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92320" y="404640"/>
            <a:ext cx="21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32040" y="35733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Морские ежи и их иглы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Картинка 2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836640"/>
            <a:ext cx="3721320" cy="27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3 из 20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5256360" cy="357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580000" y="4338720"/>
            <a:ext cx="3306960" cy="219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042920" y="4149720"/>
            <a:ext cx="3888000" cy="23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638520" y="4292640"/>
            <a:ext cx="2244240" cy="307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рюхоноги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" descr="Картинка 3 из 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76280"/>
            <a:ext cx="476244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82560" y="1890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264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743640" cy="30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620640"/>
            <a:ext cx="3728880" cy="30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340000" y="3933720"/>
            <a:ext cx="2536920" cy="201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4292640"/>
            <a:ext cx="2222640" cy="21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32000" y="333360"/>
            <a:ext cx="5832720" cy="6408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1890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двустворчатые моллюс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2640" y="115920"/>
            <a:ext cx="21297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Морские животные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672000" cy="338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71640" cy="284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788000" y="549360"/>
            <a:ext cx="4132080" cy="278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476360" y="3933720"/>
            <a:ext cx="3095640" cy="279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20:24Z</dcterms:created>
  <dc:creator>Soroka</dc:creator>
  <dc:description/>
  <dc:language>en-US</dc:language>
  <cp:lastModifiedBy>Леонова</cp:lastModifiedBy>
  <dcterms:modified xsi:type="dcterms:W3CDTF">2009-11-05T22:29:56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a000000000001024140</vt:lpwstr>
  </property>
</Properties>
</file>