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041-7082-4A41-B8AC-292F723F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BD5-1BCB-40D4-A39D-ED96F2E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BCC-AE62-4E18-B0D4-A280C755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321-E3D2-436E-AAFA-946E84D9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92F7-D85E-484C-ABC0-D5946CCB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ABE-BADA-434C-B43E-BE6AC86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264D-0FB0-4E15-8A3F-EEFC1FA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541F-1ADA-495E-BB62-FC89ACE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B052-3E14-4125-A48C-95AF33EC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6F66-5462-4625-B95F-F8E6903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143-B6EB-4237-94DD-53D73D9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5B3-1041-4B81-A637-7C18B65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391B-2C51-4E19-B518-91DE590B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6E4-A6F0-44F2-96A2-C43298E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0AB-2816-4402-A53D-DF85978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485A-A820-4664-8BA5-2D7D1838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9DA-3417-4FC3-89C2-DD2CB0DE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881-38CD-4505-80FE-B9ECB55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FED-48C1-46C5-924A-AC08AB0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5E7-67B1-44BE-AC0B-D13E91D3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826-D307-4CA6-8A7D-55DC0867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B04-4FBD-4A4B-9B5C-8F84529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78F-8BE6-4811-A973-4A8BB1C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4D6-6DE6-4764-9062-E46FED3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045-6FE3-4051-BC9C-AAF8284EB7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20A6-F679-4183-92E4-4592A01CC3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t-creaz.org.ua/CreaBooks/Scherer/8.53.gif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hyperlink" Target="http://www.naomuseum.ru/pic/new_post/paleontol_2.jpg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www.art.thelib.ru/arts/culture/archaeology/vladiki_morey_yurskogo_perioda_0.jpg" TargetMode="External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acho.ucoz.ru/_si/0/4532975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darwin.museum.ru/expos/dino/img/d_10m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g.lenta.ru/news/2006/07/28/fossil/picture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42.radikal.ru/i098/0902/32/f71d49391fdf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056.radikal.ru/0902/08/2850d1577e1d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sciam.ru/2007/5/img/paleontology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lb-2008.ucoz.ru/_nw/0/90042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ybmuseum.ru/images2/00045726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harunyahya.ru/Books/images_books/atlas-images/518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.newsru.com/pict/id/large/72375_20010215143314.gif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aw.ru/a-dino/1430-2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kino.newnum.ru/i/608/31/31942.jpg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www.mrkhit.info/main.php?g2_view=core.DownloadItem&amp;g2_itemId=46946&amp;g2_serialNumber=2" TargetMode="External"/><Relationship Id="rId6" Type="http://schemas.openxmlformats.org/officeDocument/2006/relationships/image" Target="../media/image52.jpeg"/><Relationship Id="rId7" Type="http://schemas.openxmlformats.org/officeDocument/2006/relationships/hyperlink" Target="http://www.inomir.ru/images/articles/object_73.1189398706.jpg" TargetMode="External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1.radikal.ru/i174/0808/45/f23153ab2afc.jpg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s46.radikal.ru/i112/0902/94/f6f0055d28e8.jpg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foto.mail.ru/mail/fly_leo/dino/1103.html" TargetMode="External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foto.mail.ru/mail/fly_leo/dino/973.html" TargetMode="External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279/2426279/f_15219983.jpg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s46.radikal.ru/i111/0902/b8/b2953841252a.jpg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s43.radikal.ru/i100/0902/11/48c92c0776be.gif" TargetMode="External"/><Relationship Id="rId6" Type="http://schemas.openxmlformats.org/officeDocument/2006/relationships/image" Target="../media/image62.jpeg"/><Relationship Id="rId7" Type="http://schemas.openxmlformats.org/officeDocument/2006/relationships/hyperlink" Target="http://www.vokrugsveta.ru/img/cmn/2007/12/11/006.jpg" TargetMode="External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7;&#1091;&#1087;&#1077;&#1088;&#1082;&#1086;&#1085;&#1090;&#1080;&#1085;&#1077;&#1085;&#1090;" TargetMode="External"/><Relationship Id="rId3" Type="http://schemas.openxmlformats.org/officeDocument/2006/relationships/hyperlink" Target="http://ru.wikipedia.org/wiki/&#1055;&#1072;&#1085;&#1075;&#1077;&#1103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eterna.ru/images/0804/img42209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iteclibrary.ru/istgeo/img/49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ortalciencia.net/images/Jurasico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harunyahya.ru/Books/images_books/atlas-images/397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harunyahya.ru/Books/images_books/atlas-images/422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/res/images_atlas_new/0154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harunyahya.ru/Books/images_books/atlas-images/417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faccetta.ru/images/image/Statiya/muzei/9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aleometro.ru/stat/karier2sm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harunyahya.ru/Books/images_books/atlas-images/486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6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713800" cy="551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6760" y="54864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0—195 ±5 млн. лет, конец— 135±5 млн. лет назад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33872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115920"/>
            <a:ext cx="2087640" cy="18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975960" y="18900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45400" y="1989000"/>
            <a:ext cx="96408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корал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3191040" cy="222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2592360" cy="22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13400" y="2781360"/>
            <a:ext cx="6638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уб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3960" y="5084640"/>
            <a:ext cx="8694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шан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284720" y="3860640"/>
            <a:ext cx="4633920" cy="26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590880" y="6381720"/>
            <a:ext cx="221976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статки ракообразны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Картинка 6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88764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427640" y="115920"/>
            <a:ext cx="3641760" cy="29941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88608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6880" y="2565360"/>
            <a:ext cx="24318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звонок костистых ры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Картинка 4 из 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900520"/>
            <a:ext cx="3816360" cy="351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0" name="" descr="Картинка 9 из 20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2924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Картинка 12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5182920" cy="444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Картинка 22 из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199040"/>
            <a:ext cx="4287600" cy="241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235200" y="11592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Картинка 15 из 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981000"/>
            <a:ext cx="3238560" cy="242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Картинка 9 из 1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5076720" cy="338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Картинка 4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21300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7560" y="18900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Картинка 2 из 35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357720"/>
            <a:ext cx="238140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Картинка 89 из 35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692280"/>
            <a:ext cx="349236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Картинка 12 из 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" descr="Картинка 13 из 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141720"/>
            <a:ext cx="4762440" cy="337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379560" y="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Картинка 1 из 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4221000"/>
            <a:ext cx="2952720" cy="221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-6840" y="6528240"/>
            <a:ext cx="59306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 Австралии нашли живых насекомых эпохи Юрского периода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" descr="Картинка 18 из 54"/>
          <p:cNvPicPr/>
          <p:nvPr/>
        </p:nvPicPr>
        <p:blipFill>
          <a:blip r:embed="rId7"/>
          <a:stretch/>
        </p:blipFill>
        <p:spPr>
          <a:xfrm>
            <a:off x="5724360" y="765000"/>
            <a:ext cx="300672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650120" y="476280"/>
            <a:ext cx="13024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Картинка 12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3857760" cy="41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Картинка 64 из 10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2560" y="549360"/>
            <a:ext cx="5221440" cy="285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234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Картинка 15 из 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573360"/>
            <a:ext cx="4319640" cy="28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5" name="" descr="Картинка 18 из 3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292640"/>
            <a:ext cx="2190600" cy="23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64280" y="6021360"/>
            <a:ext cx="198504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Летающие ящер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Картинка 12 из 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605040" cy="453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050480" y="4941720"/>
            <a:ext cx="16758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е птиц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78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Картинка 18 из 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89000"/>
            <a:ext cx="507708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89360"/>
            <a:ext cx="3744720" cy="300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Картинка 1 из 36"/>
          <p:cNvPicPr/>
          <p:nvPr/>
        </p:nvPicPr>
        <p:blipFill>
          <a:blip r:embed="rId1"/>
          <a:stretch/>
        </p:blipFill>
        <p:spPr>
          <a:xfrm>
            <a:off x="3924360" y="1700280"/>
            <a:ext cx="4989600" cy="50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5920"/>
            <a:ext cx="3925800" cy="53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651560" y="549360"/>
            <a:ext cx="18252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лекопитающе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Картинка 4 из 36"/>
          <p:cNvPicPr/>
          <p:nvPr/>
        </p:nvPicPr>
        <p:blipFill>
          <a:blip r:embed="rId4"/>
          <a:stretch/>
        </p:blipFill>
        <p:spPr>
          <a:xfrm>
            <a:off x="6551640" y="125280"/>
            <a:ext cx="248436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" descr="Картинка 2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824360" cy="362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0" name="" descr="Картинка 10 из 1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3357720"/>
            <a:ext cx="4837320" cy="334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514840" y="0"/>
            <a:ext cx="3213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Природа юрского перио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Картинка 10 из 1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598320"/>
            <a:ext cx="3240000" cy="25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Картинка 89 из 1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1280" y="4005360"/>
            <a:ext cx="2857320" cy="27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89040"/>
            <a:ext cx="8893440" cy="561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40" y="6381360"/>
            <a:ext cx="84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суперконтинент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Пангея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начал распадаться на отдельные континентальные блоки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" descr="Картинка 6 из 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125360"/>
            <a:ext cx="299412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2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5616360" cy="296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Картинка 15 из 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429000"/>
            <a:ext cx="6913800" cy="31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945040" y="357120"/>
            <a:ext cx="28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йзажи юрского перио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616720" cy="370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5040" y="33336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762440" cy="324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5120" y="429264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Морские звезды и офиур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" descr="Картинка 3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692280"/>
            <a:ext cx="3095640" cy="207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56360" y="27813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криноиде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292640"/>
            <a:ext cx="3311640" cy="219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6016320" y="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5120" y="3789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олов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66680"/>
            <a:ext cx="5329080" cy="345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6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282600"/>
            <a:ext cx="3311280" cy="27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140360" y="3645000"/>
            <a:ext cx="4897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6021360" cy="45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28932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3600360" cy="286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140360" y="189000"/>
            <a:ext cx="3311280" cy="266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7014600" y="40464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7960" y="2565360"/>
            <a:ext cx="1614960" cy="733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БРАХИОПО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теребратулиды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инхонелли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71280" y="2565000"/>
            <a:ext cx="50508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3280" y="242100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3284640"/>
            <a:ext cx="648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213000"/>
            <a:ext cx="5050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92320" y="40464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32040" y="35733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орские ежи и их иг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Картинка 2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836640"/>
            <a:ext cx="3721320" cy="27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5256360" cy="357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580000" y="4338720"/>
            <a:ext cx="3306960" cy="219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042920" y="4149720"/>
            <a:ext cx="388800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638520" y="4292640"/>
            <a:ext cx="22442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рюх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6244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743640" cy="30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3728880" cy="30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340000" y="3933720"/>
            <a:ext cx="2536920" cy="201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4292640"/>
            <a:ext cx="222264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72000" cy="33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71640" cy="284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4132080" cy="278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309564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1-05T22:29:56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a000000000001024140</vt:lpwstr>
  </property>
</Properties>
</file>