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7.jpeg" ContentType="image/jpeg"/>
  <Override PartName="/ppt/media/image38.jpeg" ContentType="image/jpeg"/>
  <Override PartName="/ppt/media/image51.jpeg" ContentType="image/jpeg"/>
  <Override PartName="/ppt/media/image6.jpeg" ContentType="image/jpeg"/>
  <Override PartName="/ppt/media/image63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D8AC-2C3D-4594-AB7F-53606E5BD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CFDA-7700-486B-AA38-11B7F9CB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F353-10C7-43BD-83FF-5C6255C96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B929-1A41-4998-968E-342674D02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3FB24-9D5C-4079-8EFE-703855C5E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6B1E-2AA9-4E2B-B4E3-A0761556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9BD2B-CDEF-4D0A-95BE-85CC1488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72FF-F00F-46B2-BB11-D779E451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6DF9-CF14-4CC5-AF72-651ADF1F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FB89-1B29-4053-9B4A-181B666B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C136-CF78-4C91-BD80-0874F2CE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7270-CA1F-48DD-8EDE-B52077CA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47042-295F-4055-9C28-3E727AC6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BE31-AFC5-4C1D-A9E1-C79C2906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C981-165D-4BE8-9546-60BB2578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9FA11-6432-47F1-B8E7-4D23F965F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5F5A-79DD-4214-9F95-99B4B5550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56A4-1BEC-4DC2-9D6A-AD869F59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DC1D-3F36-4EA3-8AB6-A8C4EBBF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55E1-AB43-4FD0-A2BD-46DFF15D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05C6-6BB4-45FF-A9DA-5DCE1C3A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5D03-D900-4B7C-B74F-CDC5AA46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D367-EE89-4153-A944-DD410682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5C78-5119-46DA-855B-58B4CF07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A7BC-B0BD-4BEF-A25D-D52FC0FDD07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F018-5B0C-4190-96A0-8930CD36981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nt-creaz.org.ua/CreaBooks/Scherer/8.53.gif" TargetMode="External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hyperlink" Target="http://www.naomuseum.ru/pic/new_post/paleontol_2.jpg" TargetMode="External"/><Relationship Id="rId5" Type="http://schemas.openxmlformats.org/officeDocument/2006/relationships/image" Target="../media/image37.jpeg"/><Relationship Id="rId6" Type="http://schemas.openxmlformats.org/officeDocument/2006/relationships/hyperlink" Target="http://www.art.thelib.ru/arts/culture/archaeology/vladiki_morey_yurskogo_perioda_0.jpg" TargetMode="External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navacho.ucoz.ru/_si/0/4532975.jpg" TargetMode="External"/><Relationship Id="rId2" Type="http://schemas.openxmlformats.org/officeDocument/2006/relationships/image" Target="../media/image39.jpeg"/><Relationship Id="rId3" Type="http://schemas.openxmlformats.org/officeDocument/2006/relationships/hyperlink" Target="http://www.darwin.museum.ru/expos/dino/img/d_10m.jpg" TargetMode="External"/><Relationship Id="rId4" Type="http://schemas.openxmlformats.org/officeDocument/2006/relationships/image" Target="../media/image40.jpeg"/><Relationship Id="rId5" Type="http://schemas.openxmlformats.org/officeDocument/2006/relationships/hyperlink" Target="http://img.lenta.ru/news/2006/07/28/fossil/picture.jpg" TargetMode="External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42.radikal.ru/i098/0902/32/f71d49391fdf.jpg" TargetMode="External"/><Relationship Id="rId2" Type="http://schemas.openxmlformats.org/officeDocument/2006/relationships/image" Target="../media/image42.jpeg"/><Relationship Id="rId3" Type="http://schemas.openxmlformats.org/officeDocument/2006/relationships/hyperlink" Target="http://i056.radikal.ru/0902/08/2850d1577e1d.jpg" TargetMode="External"/><Relationship Id="rId4" Type="http://schemas.openxmlformats.org/officeDocument/2006/relationships/image" Target="../media/image43.jpeg"/><Relationship Id="rId5" Type="http://schemas.openxmlformats.org/officeDocument/2006/relationships/hyperlink" Target="http://www.sciam.ru/2007/5/img/paleontology.jpg" TargetMode="External"/><Relationship Id="rId6" Type="http://schemas.openxmlformats.org/officeDocument/2006/relationships/image" Target="../media/image44.jpeg"/><Relationship Id="rId7" Type="http://schemas.openxmlformats.org/officeDocument/2006/relationships/hyperlink" Target="http://lb-2008.ucoz.ru/_nw/0/90042.jpg" TargetMode="External"/><Relationship Id="rId8" Type="http://schemas.openxmlformats.org/officeDocument/2006/relationships/image" Target="../media/image45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rybmuseum.ru/images2/00045726.jpg" TargetMode="External"/><Relationship Id="rId2" Type="http://schemas.openxmlformats.org/officeDocument/2006/relationships/image" Target="../media/image46.jpeg"/><Relationship Id="rId3" Type="http://schemas.openxmlformats.org/officeDocument/2006/relationships/hyperlink" Target="http://www.harunyahya.ru/Books/images_books/atlas-images/518.jpg" TargetMode="External"/><Relationship Id="rId4" Type="http://schemas.openxmlformats.org/officeDocument/2006/relationships/image" Target="../media/image47.jpeg"/><Relationship Id="rId5" Type="http://schemas.openxmlformats.org/officeDocument/2006/relationships/hyperlink" Target="http://image.newsru.com/pict/id/large/72375_20010215143314.gif" TargetMode="External"/><Relationship Id="rId6" Type="http://schemas.openxmlformats.org/officeDocument/2006/relationships/image" Target="../media/image48.jpeg"/><Relationship Id="rId7" Type="http://schemas.openxmlformats.org/officeDocument/2006/relationships/image" Target="../media/image49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claw.ru/a-dino/1430-2.jpg" TargetMode="External"/><Relationship Id="rId2" Type="http://schemas.openxmlformats.org/officeDocument/2006/relationships/image" Target="../media/image50.jpeg"/><Relationship Id="rId3" Type="http://schemas.openxmlformats.org/officeDocument/2006/relationships/hyperlink" Target="http://kino.newnum.ru/i/608/31/31942.jpg" TargetMode="External"/><Relationship Id="rId4" Type="http://schemas.openxmlformats.org/officeDocument/2006/relationships/image" Target="../media/image51.jpeg"/><Relationship Id="rId5" Type="http://schemas.openxmlformats.org/officeDocument/2006/relationships/hyperlink" Target="http://www.mrkhit.info/main.php?g2_view=core.DownloadItem&amp;g2_itemId=46946&amp;g2_serialNumber=2" TargetMode="External"/><Relationship Id="rId6" Type="http://schemas.openxmlformats.org/officeDocument/2006/relationships/image" Target="../media/image52.jpeg"/><Relationship Id="rId7" Type="http://schemas.openxmlformats.org/officeDocument/2006/relationships/hyperlink" Target="http://www.inomir.ru/images/articles/object_73.1189398706.jpg" TargetMode="External"/><Relationship Id="rId8" Type="http://schemas.openxmlformats.org/officeDocument/2006/relationships/image" Target="../media/image53.jpe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61.radikal.ru/i174/0808/45/f23153ab2afc.jpg" TargetMode="External"/><Relationship Id="rId2" Type="http://schemas.openxmlformats.org/officeDocument/2006/relationships/image" Target="../media/image54.jpeg"/><Relationship Id="rId3" Type="http://schemas.openxmlformats.org/officeDocument/2006/relationships/hyperlink" Target="http://s46.radikal.ru/i112/0902/94/f6f0055d28e8.jpg" TargetMode="External"/><Relationship Id="rId4" Type="http://schemas.openxmlformats.org/officeDocument/2006/relationships/image" Target="../media/image55.jpeg"/><Relationship Id="rId5" Type="http://schemas.openxmlformats.org/officeDocument/2006/relationships/hyperlink" Target="http://foto.mail.ru/mail/fly_leo/dino/1103.html" TargetMode="External"/><Relationship Id="rId6" Type="http://schemas.openxmlformats.org/officeDocument/2006/relationships/image" Target="../media/image56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hyperlink" Target="http://foto.mail.ru/mail/fly_leo/dino/973.html" TargetMode="External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3/279/2426279/f_15219983.jpg" TargetMode="External"/><Relationship Id="rId2" Type="http://schemas.openxmlformats.org/officeDocument/2006/relationships/image" Target="../media/image60.jpeg"/><Relationship Id="rId3" Type="http://schemas.openxmlformats.org/officeDocument/2006/relationships/hyperlink" Target="http://s46.radikal.ru/i111/0902/b8/b2953841252a.jpg" TargetMode="External"/><Relationship Id="rId4" Type="http://schemas.openxmlformats.org/officeDocument/2006/relationships/image" Target="../media/image61.jpeg"/><Relationship Id="rId5" Type="http://schemas.openxmlformats.org/officeDocument/2006/relationships/hyperlink" Target="http://s43.radikal.ru/i100/0902/11/48c92c0776be.gif" TargetMode="External"/><Relationship Id="rId6" Type="http://schemas.openxmlformats.org/officeDocument/2006/relationships/image" Target="../media/image62.jpeg"/><Relationship Id="rId7" Type="http://schemas.openxmlformats.org/officeDocument/2006/relationships/hyperlink" Target="http://www.vokrugsveta.ru/img/cmn/2007/12/11/006.jpg" TargetMode="External"/><Relationship Id="rId8" Type="http://schemas.openxmlformats.org/officeDocument/2006/relationships/image" Target="../media/image63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ru.wikipedia.org/wiki/&#1057;&#1091;&#1087;&#1077;&#1088;&#1082;&#1086;&#1085;&#1090;&#1080;&#1085;&#1077;&#1085;&#1090;" TargetMode="External"/><Relationship Id="rId3" Type="http://schemas.openxmlformats.org/officeDocument/2006/relationships/hyperlink" Target="http://ru.wikipedia.org/wiki/&#1055;&#1072;&#1085;&#1075;&#1077;&#1103;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aeterna.ru/images/0804/img42209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sciteclibrary.ru/istgeo/img/49.jp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www.portalciencia.net/images/Jurasico.jpg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harunyahya.ru/Books/images_books/atlas-images/414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harunyahya.ru/Books/images_books/atlas-images/397.jpg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www.harunyahya.ru/Books/images_books/atlas-images/422.jpg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harunyahya.org/evrim/yaratilis_atlasi/res/images_atlas_new/0154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harunyahya.ru/Books/images_books/atlas-images/417.jpg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www.faccetta.ru/images/image/Statiya/muzei/9.jpg" TargetMode="External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aleometro.ru/stat/karier2sm.jpg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harunyahya.ru/Books/images_books/atlas-images/486.jpg" TargetMode="External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harunyahya.ru/Books/images_books/atlas-images/416.jpg" TargetMode="External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498200" y="115920"/>
            <a:ext cx="2545920" cy="39888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ЮРСКИЙ ПЕРИОД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713800" cy="55198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876760" y="548640"/>
            <a:ext cx="60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190—195 ±5 млн. лет, конец— 135±5 млн. лет назад,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132000" y="333360"/>
            <a:ext cx="5832720" cy="6408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572000" y="189000"/>
            <a:ext cx="4338720" cy="3254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348000" y="115920"/>
            <a:ext cx="2087640" cy="1828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975960" y="189000"/>
            <a:ext cx="212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Морские животные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45400" y="1989000"/>
            <a:ext cx="964080" cy="30708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кораллы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187280" y="2781360"/>
            <a:ext cx="3191040" cy="2225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179280" y="549360"/>
            <a:ext cx="2592360" cy="2208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113400" y="2781360"/>
            <a:ext cx="663840" cy="30708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губки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3960" y="5084640"/>
            <a:ext cx="869400" cy="30708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мшанки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4284720" y="3860640"/>
            <a:ext cx="4633920" cy="2621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6590880" y="6381720"/>
            <a:ext cx="2219760" cy="30708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Остатки ракообразных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132000" y="333360"/>
            <a:ext cx="5832720" cy="6408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5" name="" descr="Картинка 6 из 2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89000"/>
            <a:ext cx="3887640" cy="2503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4427640" y="115920"/>
            <a:ext cx="3641760" cy="299412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67" name=""/>
          <p:cNvSpPr/>
          <p:nvPr/>
        </p:nvSpPr>
        <p:spPr>
          <a:xfrm>
            <a:off x="6886080" y="115920"/>
            <a:ext cx="2129760" cy="3373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Морские животные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46880" y="2565360"/>
            <a:ext cx="2431800" cy="30708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Позвонок костистых рыб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9" name="" descr="Картинка 4 из 6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79280" y="2900520"/>
            <a:ext cx="3816360" cy="3512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70" name="" descr="Картинка 9 из 20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851280" y="2924280"/>
            <a:ext cx="5076720" cy="3762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132000" y="333360"/>
            <a:ext cx="5832720" cy="6408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2" name="" descr="Картинка 12 из 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89000"/>
            <a:ext cx="5182920" cy="4449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73" name="" descr="Картинка 22 из 2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4199040"/>
            <a:ext cx="4287600" cy="24112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6235200" y="115920"/>
            <a:ext cx="1105920" cy="36828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На суше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5" name="" descr="Картинка 15 из 8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24360" y="981000"/>
            <a:ext cx="3238560" cy="2428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132000" y="333360"/>
            <a:ext cx="5832720" cy="6408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7" name="" descr="Картинка 9 из 107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189000"/>
            <a:ext cx="5076720" cy="33811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Картинка 4 из 3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80000" y="3213000"/>
            <a:ext cx="5076720" cy="33814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7387560" y="189000"/>
            <a:ext cx="1105920" cy="36828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На суше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0" name="" descr="Картинка 2 из 357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3357720"/>
            <a:ext cx="2381400" cy="3305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81" name="" descr="Картинка 89 из 357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435640" y="692280"/>
            <a:ext cx="3492360" cy="2325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132000" y="333360"/>
            <a:ext cx="5832720" cy="6408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3" name="" descr="Картинка 12 из 5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60280"/>
            <a:ext cx="5076720" cy="3762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84" name="" descr="Картинка 13 из 5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3141720"/>
            <a:ext cx="4762440" cy="3371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85" name=""/>
          <p:cNvSpPr/>
          <p:nvPr/>
        </p:nvSpPr>
        <p:spPr>
          <a:xfrm>
            <a:off x="6379560" y="0"/>
            <a:ext cx="1105920" cy="36828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На суше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6" name="" descr="Картинка 1 из 5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1280" y="4221000"/>
            <a:ext cx="2952720" cy="2214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87" name=""/>
          <p:cNvSpPr/>
          <p:nvPr/>
        </p:nvSpPr>
        <p:spPr>
          <a:xfrm>
            <a:off x="-6840" y="6528240"/>
            <a:ext cx="5930640" cy="30708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В Австралии нашли живых насекомых эпохи Юрского периода.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8" name="" descr="Картинка 18 из 54"/>
          <p:cNvPicPr/>
          <p:nvPr/>
        </p:nvPicPr>
        <p:blipFill>
          <a:blip r:embed="rId7"/>
          <a:stretch/>
        </p:blipFill>
        <p:spPr>
          <a:xfrm>
            <a:off x="5724360" y="765000"/>
            <a:ext cx="3006720" cy="2057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89" name=""/>
          <p:cNvSpPr/>
          <p:nvPr/>
        </p:nvSpPr>
        <p:spPr>
          <a:xfrm>
            <a:off x="4650120" y="476280"/>
            <a:ext cx="1302480" cy="3373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насекомые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132000" y="333360"/>
            <a:ext cx="5832720" cy="6408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1" name="" descr="Картинка 12 из 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333360"/>
            <a:ext cx="3857760" cy="4103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92" name="" descr="Картинка 64 из 107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22560" y="549360"/>
            <a:ext cx="5221440" cy="2851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6234840" y="115920"/>
            <a:ext cx="1328400" cy="36828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В воздухе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4" name="" descr="Картинка 15 из 3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27640" y="3573360"/>
            <a:ext cx="4319640" cy="2868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95" name="" descr="Картинка 18 из 3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95280" y="4292640"/>
            <a:ext cx="2190600" cy="2352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96" name=""/>
          <p:cNvSpPr/>
          <p:nvPr/>
        </p:nvSpPr>
        <p:spPr>
          <a:xfrm>
            <a:off x="2564280" y="6021360"/>
            <a:ext cx="1985040" cy="3373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Летающие ящеры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132000" y="333360"/>
            <a:ext cx="5832720" cy="6408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8" name="" descr="Картинка 12 из 9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33360"/>
            <a:ext cx="3605040" cy="4535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99" name=""/>
          <p:cNvSpPr/>
          <p:nvPr/>
        </p:nvSpPr>
        <p:spPr>
          <a:xfrm>
            <a:off x="1050480" y="4941720"/>
            <a:ext cx="1675800" cy="3373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Первые птицы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778840" y="115920"/>
            <a:ext cx="1328400" cy="36828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В воздухе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1" name="" descr="Картинка 18 из 9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95640" y="189000"/>
            <a:ext cx="5077080" cy="3476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0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27640" y="3789360"/>
            <a:ext cx="3744720" cy="3002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132000" y="333360"/>
            <a:ext cx="5832720" cy="6408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4" name="" descr="Картинка 1 из 36"/>
          <p:cNvPicPr/>
          <p:nvPr/>
        </p:nvPicPr>
        <p:blipFill>
          <a:blip r:embed="rId1"/>
          <a:stretch/>
        </p:blipFill>
        <p:spPr>
          <a:xfrm>
            <a:off x="3924360" y="1700280"/>
            <a:ext cx="4989600" cy="5040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0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15920"/>
            <a:ext cx="3925800" cy="5329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06" name=""/>
          <p:cNvSpPr/>
          <p:nvPr/>
        </p:nvSpPr>
        <p:spPr>
          <a:xfrm>
            <a:off x="4651560" y="549360"/>
            <a:ext cx="1825200" cy="3373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млекопитающее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7" name="" descr="Картинка 4 из 36"/>
          <p:cNvPicPr/>
          <p:nvPr/>
        </p:nvPicPr>
        <p:blipFill>
          <a:blip r:embed="rId4"/>
          <a:stretch/>
        </p:blipFill>
        <p:spPr>
          <a:xfrm>
            <a:off x="6551640" y="125280"/>
            <a:ext cx="2484360" cy="1863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132000" y="333360"/>
            <a:ext cx="5832720" cy="6408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9" name="" descr="Картинка 2 из 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260280"/>
            <a:ext cx="4824360" cy="3621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10" name="" descr="Картинка 10 из 16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95640" y="3357720"/>
            <a:ext cx="4837320" cy="3344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11" name=""/>
          <p:cNvSpPr/>
          <p:nvPr/>
        </p:nvSpPr>
        <p:spPr>
          <a:xfrm>
            <a:off x="5514840" y="0"/>
            <a:ext cx="3213360" cy="36828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Природа юрского периода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2" name="" descr="Картинка 10 из 16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96000" y="598320"/>
            <a:ext cx="3240000" cy="2543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13" name="" descr="Картинка 89 из 169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11280" y="4005360"/>
            <a:ext cx="2857320" cy="2743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9280" y="689040"/>
            <a:ext cx="8893440" cy="5619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498200" y="115920"/>
            <a:ext cx="2545920" cy="39888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ЮРСКИЙ ПЕРИОД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9840" y="6381360"/>
            <a:ext cx="842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суперконтинент</a:t>
            </a: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Пангея</a:t>
            </a: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 начал распадаться на отдельные континентальные блоки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32000" y="333360"/>
            <a:ext cx="5832720" cy="6408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1" name="" descr="Картинка 6 из 4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1125360"/>
            <a:ext cx="2994120" cy="2276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Картинка 2 из 4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189000"/>
            <a:ext cx="5616360" cy="2960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3" name="" descr="Картинка 15 из 4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9280" y="3429000"/>
            <a:ext cx="6913800" cy="3189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945040" y="357120"/>
            <a:ext cx="284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Пейзажи юрского периода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32000" y="333360"/>
            <a:ext cx="5832720" cy="6408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6" name="" descr="Картинка 3 из 20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260280"/>
            <a:ext cx="5616720" cy="3706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305040" y="333360"/>
            <a:ext cx="212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Морские животные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8" name="" descr="Картинка 3 из 20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3357720"/>
            <a:ext cx="4762440" cy="3247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825120" y="429264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Морские звезды и офиуры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0" name="" descr="Картинка 3 из 20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40360" y="692280"/>
            <a:ext cx="3095640" cy="2073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156360" y="2781360"/>
            <a:ext cx="11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криноидеи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132000" y="333360"/>
            <a:ext cx="5832720" cy="6408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3" name="" descr="Картинка 3 из 20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292640"/>
            <a:ext cx="3311640" cy="2198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6016320" y="0"/>
            <a:ext cx="212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Морские животные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5120" y="3789360"/>
            <a:ext cx="22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Головоногие моллюски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6" name="" descr="Картинка 3 из 20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166680"/>
            <a:ext cx="5329080" cy="34527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Картинка 16 из 20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651640" y="282600"/>
            <a:ext cx="3311280" cy="2716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4140360" y="3645000"/>
            <a:ext cx="489744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32000" y="333360"/>
            <a:ext cx="5832720" cy="6408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916360" y="2133720"/>
            <a:ext cx="6021360" cy="4516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24000" y="3141720"/>
            <a:ext cx="3289320" cy="2933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50920" y="115920"/>
            <a:ext cx="3600360" cy="2868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4140360" y="189000"/>
            <a:ext cx="3311280" cy="2662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7014600" y="404640"/>
            <a:ext cx="2129760" cy="3373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Морские животные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07960" y="2565360"/>
            <a:ext cx="1614960" cy="7333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БРАХИОПОДЫ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теребратулиды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ринхонеллиды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2771280" y="2565000"/>
            <a:ext cx="505080" cy="358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643280" y="2421000"/>
            <a:ext cx="57636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771640" y="3284640"/>
            <a:ext cx="64800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3280" y="3213000"/>
            <a:ext cx="505080" cy="936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132000" y="333360"/>
            <a:ext cx="5832720" cy="6408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592320" y="404640"/>
            <a:ext cx="212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Морские животные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32040" y="3573360"/>
            <a:ext cx="224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Морские ежи и их иглы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3" name="" descr="Картинка 2 из 2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4000" y="836640"/>
            <a:ext cx="3721320" cy="2790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Картинка 3 из 20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9280" y="189000"/>
            <a:ext cx="5256360" cy="357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5580000" y="4338720"/>
            <a:ext cx="3306960" cy="2193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1042920" y="4149720"/>
            <a:ext cx="3888000" cy="2378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3638520" y="4292640"/>
            <a:ext cx="2244240" cy="30708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Брюхоногие моллюски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132000" y="333360"/>
            <a:ext cx="5832720" cy="6408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9" name="" descr="Картинка 3 из 20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476280"/>
            <a:ext cx="4762440" cy="3200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682560" y="189000"/>
            <a:ext cx="252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двустворчатые моллюски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52640" y="115920"/>
            <a:ext cx="2129760" cy="3373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Морские животные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003640" y="3716280"/>
            <a:ext cx="3743640" cy="3011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5292720" y="620640"/>
            <a:ext cx="3728880" cy="3000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2340000" y="3933720"/>
            <a:ext cx="2536920" cy="2011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179280" y="4292640"/>
            <a:ext cx="2222640" cy="2197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132000" y="333360"/>
            <a:ext cx="5832720" cy="6408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2560" y="189000"/>
            <a:ext cx="252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двустворчатые моллюски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52640" y="115920"/>
            <a:ext cx="2129760" cy="3373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Морские животные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3672000" cy="3382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148360" y="3789360"/>
            <a:ext cx="3671640" cy="2846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788000" y="549360"/>
            <a:ext cx="4132080" cy="2782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1476360" y="3933720"/>
            <a:ext cx="3095640" cy="2797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3T14:20:24Z</dcterms:created>
  <dc:creator>Soroka</dc:creator>
  <dc:description/>
  <dc:language>en-US</dc:language>
  <cp:lastModifiedBy>Леонова</cp:lastModifiedBy>
  <dcterms:modified xsi:type="dcterms:W3CDTF">2009-11-05T22:29:56Z</dcterms:modified>
  <cp:revision>33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01a000000000001024140</vt:lpwstr>
  </property>
</Properties>
</file>